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663-26AB-43DF-BB39-A57CDBDC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71916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32D-BC52-4AD5-BF17-037B1B13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25F-47DE-4DBA-8D06-310B5143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7191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7191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7191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2D0-D6F2-4EEC-9762-572CCD8B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8756-AF42-4D69-8AE7-A809CEF3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8742-C33F-46EC-8A77-05DCC782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ECDA-0EB8-40B2-B834-3565FC55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2425-9010-44E1-85A1-9B81733F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B58D-9549-477F-A81C-3ACFEF8B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74FA-70B7-49F4-BA8A-DEAFBCD8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DF04-810C-4FFB-9C6C-6317A0EE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126-440D-4C79-BAB2-3B3BB80F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3982-E7E9-4F0D-8AED-AF997785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1916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7782-984F-4BD0-B654-7A7EDE5B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71916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DD48-F71B-4DD8-AB26-99B1D615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99FF-97A3-494A-A7A1-2157080C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7191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7191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71916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54B2-7AEC-4CE3-99B1-580C88DA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495-53EA-4F43-B3A0-9EC05EE9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960-2E64-441E-942D-EC117F9B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E92-EBDD-458A-8F0E-A1AC54DE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829-B497-4CCC-93E1-13CF1529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9E5-D891-464D-B445-AD2D15A3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7191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A38-93A2-40B1-A785-2702E10C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1916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909-0A2C-4EC2-B14A-DAD3A51A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7701cc93d56fd32be09e69e"/>
          <p:cNvPicPr/>
          <p:nvPr/>
        </p:nvPicPr>
        <p:blipFill>
          <a:blip r:embed="rId2"/>
          <a:srcRect l="64967" t="29957" r="1346" b="13306"/>
          <a:stretch/>
        </p:blipFill>
        <p:spPr>
          <a:xfrm>
            <a:off x="6443640" y="249228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 rot="5400000">
            <a:off x="5517000" y="3239280"/>
            <a:ext cx="685800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 flipH="1" rot="16200000">
            <a:off x="-3230280" y="3238560"/>
            <a:ext cx="6856560" cy="3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0" y="6676920"/>
            <a:ext cx="914400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2"/>
          <p:cNvSpPr/>
          <p:nvPr/>
        </p:nvSpPr>
        <p:spPr>
          <a:xfrm>
            <a:off x="-31680" y="-22320"/>
            <a:ext cx="895320" cy="701208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3"/>
          <p:cNvSpPr/>
          <p:nvPr/>
        </p:nvSpPr>
        <p:spPr>
          <a:xfrm>
            <a:off x="395280" y="3933720"/>
            <a:ext cx="216000" cy="2484720"/>
          </a:xfrm>
          <a:prstGeom prst="pi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4"/>
          <p:cNvSpPr/>
          <p:nvPr/>
        </p:nvSpPr>
        <p:spPr>
          <a:xfrm>
            <a:off x="142920" y="3753000"/>
            <a:ext cx="179280" cy="2303280"/>
          </a:xfrm>
          <a:prstGeom prst="pi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15"/>
          <p:cNvSpPr/>
          <p:nvPr/>
        </p:nvSpPr>
        <p:spPr>
          <a:xfrm>
            <a:off x="-31680" y="-58680"/>
            <a:ext cx="571320" cy="56833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6"/>
          <p:cNvSpPr/>
          <p:nvPr/>
        </p:nvSpPr>
        <p:spPr>
          <a:xfrm>
            <a:off x="108000" y="-22320"/>
            <a:ext cx="576360" cy="29829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17"/>
          <p:cNvGrpSpPr/>
          <p:nvPr/>
        </p:nvGrpSpPr>
        <p:grpSpPr>
          <a:xfrm>
            <a:off x="8136360" y="-58680"/>
            <a:ext cx="1078920" cy="7048440"/>
            <a:chOff x="8136360" y="-58680"/>
            <a:chExt cx="1078920" cy="7048440"/>
          </a:xfrm>
        </p:grpSpPr>
        <p:sp>
          <p:nvSpPr>
            <p:cNvPr id="10" name="Freeform 18"/>
            <p:cNvSpPr/>
            <p:nvPr/>
          </p:nvSpPr>
          <p:spPr>
            <a:xfrm flipH="1">
              <a:off x="8136000" y="-22320"/>
              <a:ext cx="1078920" cy="701208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 flipH="1">
              <a:off x="8438760" y="3935880"/>
              <a:ext cx="258840" cy="2482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 flipH="1">
              <a:off x="8785080" y="3754800"/>
              <a:ext cx="215280" cy="23014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 flipH="1">
              <a:off x="8524080" y="-58680"/>
              <a:ext cx="690840" cy="56840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 flipH="1">
              <a:off x="8351280" y="-22320"/>
              <a:ext cx="690840" cy="29858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Freeform 23"/>
          <p:cNvSpPr/>
          <p:nvPr/>
        </p:nvSpPr>
        <p:spPr>
          <a:xfrm>
            <a:off x="-176040" y="-58680"/>
            <a:ext cx="571320" cy="56833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24"/>
          <p:cNvSpPr/>
          <p:nvPr/>
        </p:nvSpPr>
        <p:spPr>
          <a:xfrm>
            <a:off x="8785080" y="-58680"/>
            <a:ext cx="576360" cy="51433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F80E-01E6-4F2B-90D7-4280D125E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77701cc93d56fd32be09e69e"/>
          <p:cNvPicPr/>
          <p:nvPr/>
        </p:nvPicPr>
        <p:blipFill>
          <a:blip r:embed="rId2"/>
          <a:srcRect l="1672" t="0" r="50344" b="5005"/>
          <a:stretch/>
        </p:blipFill>
        <p:spPr>
          <a:xfrm>
            <a:off x="19080" y="44280"/>
            <a:ext cx="4373640" cy="59407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5"/>
          <p:cNvGrpSpPr/>
          <p:nvPr/>
        </p:nvGrpSpPr>
        <p:grpSpPr>
          <a:xfrm>
            <a:off x="-176040" y="-58680"/>
            <a:ext cx="9537120" cy="7048440"/>
            <a:chOff x="-176040" y="-58680"/>
            <a:chExt cx="9537120" cy="7048440"/>
          </a:xfrm>
        </p:grpSpPr>
        <p:sp>
          <p:nvSpPr>
            <p:cNvPr id="60" name="Rectangle 9"/>
            <p:cNvSpPr/>
            <p:nvPr/>
          </p:nvSpPr>
          <p:spPr>
            <a:xfrm rot="5400000">
              <a:off x="5495040" y="3232080"/>
              <a:ext cx="6853320" cy="39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 flipH="1" rot="16200000">
              <a:off x="-3225240" y="3232080"/>
              <a:ext cx="6853320" cy="39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4680" y="6677280"/>
              <a:ext cx="9138960" cy="188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"/>
            <p:cNvSpPr/>
            <p:nvPr/>
          </p:nvSpPr>
          <p:spPr>
            <a:xfrm>
              <a:off x="-31680" y="-22320"/>
              <a:ext cx="899640" cy="701208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399960" y="3935880"/>
              <a:ext cx="215280" cy="2482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147600" y="3754800"/>
              <a:ext cx="178920" cy="23014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5"/>
            <p:cNvSpPr/>
            <p:nvPr/>
          </p:nvSpPr>
          <p:spPr>
            <a:xfrm>
              <a:off x="-31680" y="-58680"/>
              <a:ext cx="576000" cy="56840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6"/>
            <p:cNvSpPr/>
            <p:nvPr/>
          </p:nvSpPr>
          <p:spPr>
            <a:xfrm>
              <a:off x="112680" y="-22320"/>
              <a:ext cx="575640" cy="29858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17"/>
            <p:cNvGrpSpPr/>
            <p:nvPr/>
          </p:nvGrpSpPr>
          <p:grpSpPr>
            <a:xfrm>
              <a:off x="8136720" y="-58680"/>
              <a:ext cx="1078200" cy="7048440"/>
              <a:chOff x="8136720" y="-58680"/>
              <a:chExt cx="1078200" cy="7048440"/>
            </a:xfrm>
          </p:grpSpPr>
          <p:sp>
            <p:nvSpPr>
              <p:cNvPr id="69" name="Freeform 18"/>
              <p:cNvSpPr/>
              <p:nvPr/>
            </p:nvSpPr>
            <p:spPr>
              <a:xfrm flipH="1">
                <a:off x="8136360" y="-22320"/>
                <a:ext cx="1078200" cy="701208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9"/>
              <p:cNvSpPr/>
              <p:nvPr/>
            </p:nvSpPr>
            <p:spPr>
              <a:xfrm flipH="1">
                <a:off x="8439480" y="3935880"/>
                <a:ext cx="258480" cy="24825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7058"/>
                    </a:srgbClr>
                  </a:gs>
                  <a:gs pos="100000">
                    <a:srgbClr val="eaeaea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0"/>
              <p:cNvSpPr/>
              <p:nvPr/>
            </p:nvSpPr>
            <p:spPr>
              <a:xfrm flipH="1">
                <a:off x="8785080" y="3754800"/>
                <a:ext cx="214920" cy="230148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7058"/>
                    </a:srgbClr>
                  </a:gs>
                  <a:gs pos="100000">
                    <a:srgbClr val="eaeaea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1"/>
              <p:cNvSpPr/>
              <p:nvPr/>
            </p:nvSpPr>
            <p:spPr>
              <a:xfrm flipH="1">
                <a:off x="8524440" y="-58680"/>
                <a:ext cx="690480" cy="56840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2"/>
              <p:cNvSpPr/>
              <p:nvPr/>
            </p:nvSpPr>
            <p:spPr>
              <a:xfrm flipH="1">
                <a:off x="8351640" y="-22320"/>
                <a:ext cx="690480" cy="2985840"/>
              </a:xfrm>
              <a:prstGeom prst="pi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Freeform 23"/>
            <p:cNvSpPr/>
            <p:nvPr/>
          </p:nvSpPr>
          <p:spPr>
            <a:xfrm>
              <a:off x="-176040" y="-22320"/>
              <a:ext cx="576000" cy="56840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4"/>
            <p:cNvSpPr/>
            <p:nvPr/>
          </p:nvSpPr>
          <p:spPr>
            <a:xfrm>
              <a:off x="8785080" y="-58680"/>
              <a:ext cx="576000" cy="514476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5894-4EE2-43CA-B5DD-608564AB9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235240" y="2462040"/>
            <a:ext cx="6616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隶书"/>
                <a:ea typeface="隶书"/>
              </a:rPr>
              <a:t>二年级上册教材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2563920" y="4268880"/>
            <a:ext cx="56163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常州市白云小学  曹月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年段课标特征，明晰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584360" y="19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969480" y="701280"/>
            <a:ext cx="7240680" cy="5610240"/>
            <a:chOff x="969480" y="701280"/>
            <a:chExt cx="7240680" cy="5610240"/>
          </a:xfrm>
        </p:grpSpPr>
        <p:sp>
          <p:nvSpPr>
            <p:cNvPr id="238" name="AutoShape 7"/>
            <p:cNvSpPr/>
            <p:nvPr/>
          </p:nvSpPr>
          <p:spPr>
            <a:xfrm>
              <a:off x="971640" y="1530360"/>
              <a:ext cx="7238520" cy="478116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6"/>
            <p:cNvSpPr/>
            <p:nvPr/>
          </p:nvSpPr>
          <p:spPr>
            <a:xfrm>
              <a:off x="1771200" y="1257120"/>
              <a:ext cx="31698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"/>
            <p:cNvSpPr/>
            <p:nvPr/>
          </p:nvSpPr>
          <p:spPr>
            <a:xfrm>
              <a:off x="1281960" y="1120680"/>
              <a:ext cx="1323000" cy="100152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0"/>
            <p:cNvSpPr/>
            <p:nvPr/>
          </p:nvSpPr>
          <p:spPr>
            <a:xfrm>
              <a:off x="3734640" y="1030680"/>
              <a:ext cx="1323000" cy="100116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Picture 13" descr="未标题-1"/>
            <p:cNvPicPr/>
            <p:nvPr/>
          </p:nvPicPr>
          <p:blipFill>
            <a:blip r:embed="rId1"/>
            <a:stretch/>
          </p:blipFill>
          <p:spPr>
            <a:xfrm rot="2865600">
              <a:off x="1056960" y="987120"/>
              <a:ext cx="109188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Rectangle 16"/>
          <p:cNvSpPr/>
          <p:nvPr/>
        </p:nvSpPr>
        <p:spPr>
          <a:xfrm>
            <a:off x="1549440" y="2279520"/>
            <a:ext cx="594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对写话有兴趣，写自己想说的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1514520" y="2994120"/>
            <a:ext cx="680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在写话中乐于运用阅读和生活中学到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1552680" y="3533760"/>
            <a:ext cx="65116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习使用逗号、句号、问号、感叹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年段课标特征，明晰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1584360" y="19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969120" y="664560"/>
            <a:ext cx="7239600" cy="5608440"/>
            <a:chOff x="969120" y="664560"/>
            <a:chExt cx="7239600" cy="5608440"/>
          </a:xfrm>
        </p:grpSpPr>
        <p:sp>
          <p:nvSpPr>
            <p:cNvPr id="249" name="AutoShape 7"/>
            <p:cNvSpPr/>
            <p:nvPr/>
          </p:nvSpPr>
          <p:spPr>
            <a:xfrm>
              <a:off x="971640" y="1493280"/>
              <a:ext cx="7237080" cy="477972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"/>
            <p:cNvSpPr/>
            <p:nvPr/>
          </p:nvSpPr>
          <p:spPr>
            <a:xfrm>
              <a:off x="1771200" y="1220400"/>
              <a:ext cx="31690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四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口语交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4"/>
            <p:cNvSpPr/>
            <p:nvPr/>
          </p:nvSpPr>
          <p:spPr>
            <a:xfrm>
              <a:off x="1281960" y="1083960"/>
              <a:ext cx="1322640" cy="100152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0"/>
            <p:cNvSpPr/>
            <p:nvPr/>
          </p:nvSpPr>
          <p:spPr>
            <a:xfrm>
              <a:off x="3734280" y="993600"/>
              <a:ext cx="1322640" cy="100080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13" descr="未标题-1"/>
            <p:cNvPicPr/>
            <p:nvPr/>
          </p:nvPicPr>
          <p:blipFill>
            <a:blip r:embed="rId1"/>
            <a:stretch/>
          </p:blipFill>
          <p:spPr>
            <a:xfrm rot="2865600">
              <a:off x="1056600" y="950400"/>
              <a:ext cx="1091520" cy="72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Rectangle 16"/>
          <p:cNvSpPr/>
          <p:nvPr/>
        </p:nvSpPr>
        <p:spPr>
          <a:xfrm>
            <a:off x="1301760" y="1817640"/>
            <a:ext cx="594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讲普通话，逐步养成讲普通话的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1336680" y="2460600"/>
            <a:ext cx="633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能认真听别人讲话，努力了解讲话的主要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1339920" y="2930400"/>
            <a:ext cx="72486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听故事、看音像作品，能复述大意和自己感兴趣的情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1341360" y="3649680"/>
            <a:ext cx="7101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能较完整地讲述小故事，能简要讲述自己感兴趣的见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1339920" y="4257720"/>
            <a:ext cx="6583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与别人交谈，态度自然大方，有礼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1353960" y="4927680"/>
            <a:ext cx="70516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有表达的自信心。积极参加讨论，敢于发表自己的意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年段课标特征，明晰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1584360" y="19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5"/>
          <p:cNvGrpSpPr/>
          <p:nvPr/>
        </p:nvGrpSpPr>
        <p:grpSpPr>
          <a:xfrm>
            <a:off x="969120" y="699840"/>
            <a:ext cx="7239600" cy="5610240"/>
            <a:chOff x="969120" y="699840"/>
            <a:chExt cx="7239600" cy="5610240"/>
          </a:xfrm>
        </p:grpSpPr>
        <p:sp>
          <p:nvSpPr>
            <p:cNvPr id="263" name="AutoShape 7"/>
            <p:cNvSpPr/>
            <p:nvPr/>
          </p:nvSpPr>
          <p:spPr>
            <a:xfrm>
              <a:off x="971640" y="1528920"/>
              <a:ext cx="7237080" cy="478116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6"/>
            <p:cNvSpPr/>
            <p:nvPr/>
          </p:nvSpPr>
          <p:spPr>
            <a:xfrm>
              <a:off x="1771200" y="1255680"/>
              <a:ext cx="31690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五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综合性学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4"/>
            <p:cNvSpPr/>
            <p:nvPr/>
          </p:nvSpPr>
          <p:spPr>
            <a:xfrm>
              <a:off x="1281960" y="1119240"/>
              <a:ext cx="1322640" cy="100152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"/>
            <p:cNvSpPr/>
            <p:nvPr/>
          </p:nvSpPr>
          <p:spPr>
            <a:xfrm>
              <a:off x="3734280" y="1029240"/>
              <a:ext cx="1322640" cy="100116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13" descr="未标题-1"/>
            <p:cNvPicPr/>
            <p:nvPr/>
          </p:nvPicPr>
          <p:blipFill>
            <a:blip r:embed="rId1"/>
            <a:stretch/>
          </p:blipFill>
          <p:spPr>
            <a:xfrm rot="2865600">
              <a:off x="1056600" y="985680"/>
              <a:ext cx="1091880" cy="72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Rectangle 16"/>
          <p:cNvSpPr/>
          <p:nvPr/>
        </p:nvSpPr>
        <p:spPr>
          <a:xfrm>
            <a:off x="1338120" y="2066760"/>
            <a:ext cx="65120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对周围事物有好奇心，能就感兴趣的内容提出问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课内外阅读，共同讨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1371600" y="3135240"/>
            <a:ext cx="6551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结合语文学习，观察大自然，用口头或图文等方式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达自己的观察所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1374840" y="4138560"/>
            <a:ext cx="65120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热心参加校园、社区活动。结合活动，用口头或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方式表达自己的见闻和想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教材特点，扎实教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8"/>
          <p:cNvGrpSpPr/>
          <p:nvPr/>
        </p:nvGrpSpPr>
        <p:grpSpPr>
          <a:xfrm>
            <a:off x="1220760" y="1306440"/>
            <a:ext cx="1701720" cy="1111320"/>
            <a:chOff x="1220760" y="1306440"/>
            <a:chExt cx="1701720" cy="1111320"/>
          </a:xfrm>
        </p:grpSpPr>
        <p:sp>
          <p:nvSpPr>
            <p:cNvPr id="273" name="Oval 6"/>
            <p:cNvSpPr/>
            <p:nvPr/>
          </p:nvSpPr>
          <p:spPr>
            <a:xfrm>
              <a:off x="1220760" y="1306440"/>
              <a:ext cx="1199520" cy="111132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"/>
            <p:cNvSpPr/>
            <p:nvPr/>
          </p:nvSpPr>
          <p:spPr>
            <a:xfrm>
              <a:off x="1332360" y="1414800"/>
              <a:ext cx="977040" cy="8938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2420280" y="1848960"/>
              <a:ext cx="502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11"/>
          <p:cNvSpPr/>
          <p:nvPr/>
        </p:nvSpPr>
        <p:spPr>
          <a:xfrm>
            <a:off x="3019320" y="1376280"/>
            <a:ext cx="450684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9"/>
          <p:cNvGrpSpPr/>
          <p:nvPr/>
        </p:nvGrpSpPr>
        <p:grpSpPr>
          <a:xfrm>
            <a:off x="1255680" y="2714760"/>
            <a:ext cx="1703160" cy="1110960"/>
            <a:chOff x="1255680" y="2714760"/>
            <a:chExt cx="1703160" cy="1110960"/>
          </a:xfrm>
        </p:grpSpPr>
        <p:sp>
          <p:nvSpPr>
            <p:cNvPr id="278" name="Oval 20"/>
            <p:cNvSpPr/>
            <p:nvPr/>
          </p:nvSpPr>
          <p:spPr>
            <a:xfrm>
              <a:off x="1255680" y="2714760"/>
              <a:ext cx="1200600" cy="11109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1367640" y="2823120"/>
              <a:ext cx="978120" cy="8935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2"/>
            <p:cNvSpPr/>
            <p:nvPr/>
          </p:nvSpPr>
          <p:spPr>
            <a:xfrm>
              <a:off x="2456280" y="3256920"/>
              <a:ext cx="50256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23"/>
          <p:cNvSpPr/>
          <p:nvPr/>
        </p:nvSpPr>
        <p:spPr>
          <a:xfrm>
            <a:off x="3027240" y="2778120"/>
            <a:ext cx="4507200" cy="84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5"/>
          <p:cNvGrpSpPr/>
          <p:nvPr/>
        </p:nvGrpSpPr>
        <p:grpSpPr>
          <a:xfrm>
            <a:off x="1292400" y="4226040"/>
            <a:ext cx="1701720" cy="1110960"/>
            <a:chOff x="1292400" y="4226040"/>
            <a:chExt cx="1701720" cy="1110960"/>
          </a:xfrm>
        </p:grpSpPr>
        <p:sp>
          <p:nvSpPr>
            <p:cNvPr id="283" name="Oval 26"/>
            <p:cNvSpPr/>
            <p:nvPr/>
          </p:nvSpPr>
          <p:spPr>
            <a:xfrm>
              <a:off x="1292400" y="4226040"/>
              <a:ext cx="1199520" cy="111096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1404000" y="4334400"/>
              <a:ext cx="977040" cy="893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2491920" y="4768200"/>
              <a:ext cx="502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AutoShape 29"/>
          <p:cNvSpPr/>
          <p:nvPr/>
        </p:nvSpPr>
        <p:spPr>
          <a:xfrm>
            <a:off x="3090960" y="4260960"/>
            <a:ext cx="4506840" cy="850680"/>
          </a:xfrm>
          <a:prstGeom prst="roundRect">
            <a:avLst>
              <a:gd name="adj" fmla="val 16667"/>
            </a:avLst>
          </a:prstGeom>
          <a:solidFill>
            <a:srgbClr val="ffffff">
              <a:alpha val="45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3214800" y="1378080"/>
            <a:ext cx="4351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始终重视习惯的培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7"/>
          <p:cNvSpPr/>
          <p:nvPr/>
        </p:nvSpPr>
        <p:spPr>
          <a:xfrm>
            <a:off x="3359160" y="2778120"/>
            <a:ext cx="42451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有机渗透方法的掌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3403440" y="4232160"/>
            <a:ext cx="4216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扎实进行实践的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4" descr="未标题-3"/>
          <p:cNvPicPr/>
          <p:nvPr/>
        </p:nvPicPr>
        <p:blipFill>
          <a:blip r:embed="rId1"/>
          <a:stretch/>
        </p:blipFill>
        <p:spPr>
          <a:xfrm>
            <a:off x="900000" y="1054080"/>
            <a:ext cx="2770200" cy="16272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6"/>
          <p:cNvSpPr/>
          <p:nvPr/>
        </p:nvSpPr>
        <p:spPr>
          <a:xfrm>
            <a:off x="1405080" y="2136600"/>
            <a:ext cx="6948360" cy="3889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8"/>
          <p:cNvSpPr/>
          <p:nvPr/>
        </p:nvSpPr>
        <p:spPr>
          <a:xfrm>
            <a:off x="2771640" y="514440"/>
            <a:ext cx="45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始终重视习惯的培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2724120" y="2741760"/>
            <a:ext cx="4356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心指导，教给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2759040" y="3490920"/>
            <a:ext cx="4641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遵循原则，积极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2762280" y="4140360"/>
            <a:ext cx="47736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融于生活，不断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782800" y="4941720"/>
            <a:ext cx="47736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重培养，享受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95720" y="274680"/>
            <a:ext cx="57211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教材特点，扎实教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5"/>
          <p:cNvSpPr/>
          <p:nvPr/>
        </p:nvSpPr>
        <p:spPr>
          <a:xfrm>
            <a:off x="1405080" y="1457280"/>
            <a:ext cx="6948360" cy="3241800"/>
          </a:xfrm>
          <a:prstGeom prst="roundRect">
            <a:avLst>
              <a:gd name="adj" fmla="val 36616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4" descr="未标题-3"/>
          <p:cNvPicPr/>
          <p:nvPr/>
        </p:nvPicPr>
        <p:blipFill>
          <a:blip r:embed="rId1"/>
          <a:stretch/>
        </p:blipFill>
        <p:spPr>
          <a:xfrm>
            <a:off x="826920" y="981000"/>
            <a:ext cx="2770200" cy="1627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6"/>
          <p:cNvSpPr/>
          <p:nvPr/>
        </p:nvSpPr>
        <p:spPr>
          <a:xfrm>
            <a:off x="1405080" y="2457360"/>
            <a:ext cx="6948360" cy="3889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3059280" y="1631880"/>
            <a:ext cx="46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有机渗透方法的掌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649680" y="2741760"/>
            <a:ext cx="339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中授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3683160" y="3633840"/>
            <a:ext cx="361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中明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3687840" y="4282920"/>
            <a:ext cx="37209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中悟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95720" y="274680"/>
            <a:ext cx="57211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教材特点，扎实教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/>
          <p:cNvSpPr/>
          <p:nvPr/>
        </p:nvSpPr>
        <p:spPr>
          <a:xfrm>
            <a:off x="1405080" y="1457280"/>
            <a:ext cx="6948360" cy="3241800"/>
          </a:xfrm>
          <a:prstGeom prst="roundRect">
            <a:avLst>
              <a:gd name="adj" fmla="val 36616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4" descr="未标题-3"/>
          <p:cNvPicPr/>
          <p:nvPr/>
        </p:nvPicPr>
        <p:blipFill>
          <a:blip r:embed="rId1"/>
          <a:stretch/>
        </p:blipFill>
        <p:spPr>
          <a:xfrm>
            <a:off x="826920" y="981000"/>
            <a:ext cx="2770200" cy="16272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6"/>
          <p:cNvSpPr/>
          <p:nvPr/>
        </p:nvSpPr>
        <p:spPr>
          <a:xfrm>
            <a:off x="1405080" y="2457360"/>
            <a:ext cx="6948360" cy="3889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8"/>
          <p:cNvSpPr/>
          <p:nvPr/>
        </p:nvSpPr>
        <p:spPr>
          <a:xfrm>
            <a:off x="3059280" y="1631880"/>
            <a:ext cx="46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扎实进行实践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3649680" y="2741760"/>
            <a:ext cx="339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  抄一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3683160" y="3633840"/>
            <a:ext cx="361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找  诵一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3687840" y="4282920"/>
            <a:ext cx="37209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  画一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3662280" y="5108400"/>
            <a:ext cx="37213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搜一搜  说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6120"/>
            <a:ext cx="82551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8"/>
          <p:cNvGrpSpPr/>
          <p:nvPr/>
        </p:nvGrpSpPr>
        <p:grpSpPr>
          <a:xfrm>
            <a:off x="1290600" y="1343160"/>
            <a:ext cx="1530000" cy="996840"/>
            <a:chOff x="1290600" y="1343160"/>
            <a:chExt cx="1530000" cy="996840"/>
          </a:xfrm>
        </p:grpSpPr>
        <p:sp>
          <p:nvSpPr>
            <p:cNvPr id="316" name="Oval 6"/>
            <p:cNvSpPr/>
            <p:nvPr/>
          </p:nvSpPr>
          <p:spPr>
            <a:xfrm>
              <a:off x="1290600" y="1343160"/>
              <a:ext cx="1078560" cy="9968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"/>
            <p:cNvSpPr/>
            <p:nvPr/>
          </p:nvSpPr>
          <p:spPr>
            <a:xfrm>
              <a:off x="1391040" y="1440360"/>
              <a:ext cx="878760" cy="801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0"/>
            <p:cNvSpPr/>
            <p:nvPr/>
          </p:nvSpPr>
          <p:spPr>
            <a:xfrm>
              <a:off x="2369160" y="1829520"/>
              <a:ext cx="45144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1"/>
          <p:cNvSpPr/>
          <p:nvPr/>
        </p:nvSpPr>
        <p:spPr>
          <a:xfrm>
            <a:off x="3125880" y="1411200"/>
            <a:ext cx="360180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9"/>
          <p:cNvGrpSpPr/>
          <p:nvPr/>
        </p:nvGrpSpPr>
        <p:grpSpPr>
          <a:xfrm>
            <a:off x="1290600" y="2571840"/>
            <a:ext cx="1530000" cy="998280"/>
            <a:chOff x="1290600" y="2571840"/>
            <a:chExt cx="1530000" cy="998280"/>
          </a:xfrm>
        </p:grpSpPr>
        <p:sp>
          <p:nvSpPr>
            <p:cNvPr id="321" name="Oval 20"/>
            <p:cNvSpPr/>
            <p:nvPr/>
          </p:nvSpPr>
          <p:spPr>
            <a:xfrm>
              <a:off x="1290600" y="2571840"/>
              <a:ext cx="1078560" cy="998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1"/>
            <p:cNvSpPr/>
            <p:nvPr/>
          </p:nvSpPr>
          <p:spPr>
            <a:xfrm>
              <a:off x="1391040" y="2669400"/>
              <a:ext cx="878760" cy="802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2"/>
            <p:cNvSpPr/>
            <p:nvPr/>
          </p:nvSpPr>
          <p:spPr>
            <a:xfrm>
              <a:off x="2369160" y="305892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AutoShape 23"/>
          <p:cNvSpPr/>
          <p:nvPr/>
        </p:nvSpPr>
        <p:spPr>
          <a:xfrm>
            <a:off x="3133800" y="2598840"/>
            <a:ext cx="3601800" cy="850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25"/>
          <p:cNvGrpSpPr/>
          <p:nvPr/>
        </p:nvGrpSpPr>
        <p:grpSpPr>
          <a:xfrm>
            <a:off x="1292400" y="3835440"/>
            <a:ext cx="1528560" cy="998640"/>
            <a:chOff x="1292400" y="3835440"/>
            <a:chExt cx="1528560" cy="998640"/>
          </a:xfrm>
        </p:grpSpPr>
        <p:sp>
          <p:nvSpPr>
            <p:cNvPr id="326" name="Oval 26"/>
            <p:cNvSpPr/>
            <p:nvPr/>
          </p:nvSpPr>
          <p:spPr>
            <a:xfrm>
              <a:off x="1292400" y="3835440"/>
              <a:ext cx="1077480" cy="9986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7"/>
            <p:cNvSpPr/>
            <p:nvPr/>
          </p:nvSpPr>
          <p:spPr>
            <a:xfrm>
              <a:off x="1392840" y="3933000"/>
              <a:ext cx="877680" cy="803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8"/>
            <p:cNvSpPr/>
            <p:nvPr/>
          </p:nvSpPr>
          <p:spPr>
            <a:xfrm>
              <a:off x="2369880" y="4322880"/>
              <a:ext cx="45108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29"/>
          <p:cNvSpPr/>
          <p:nvPr/>
        </p:nvSpPr>
        <p:spPr>
          <a:xfrm>
            <a:off x="3090960" y="3868560"/>
            <a:ext cx="3601800" cy="8510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9"/>
          <p:cNvGrpSpPr/>
          <p:nvPr/>
        </p:nvGrpSpPr>
        <p:grpSpPr>
          <a:xfrm>
            <a:off x="1327320" y="5022720"/>
            <a:ext cx="1530000" cy="998640"/>
            <a:chOff x="1327320" y="5022720"/>
            <a:chExt cx="1530000" cy="998640"/>
          </a:xfrm>
        </p:grpSpPr>
        <p:sp>
          <p:nvSpPr>
            <p:cNvPr id="331" name="Oval 20"/>
            <p:cNvSpPr/>
            <p:nvPr/>
          </p:nvSpPr>
          <p:spPr>
            <a:xfrm>
              <a:off x="1327320" y="5022720"/>
              <a:ext cx="1078560" cy="9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21"/>
            <p:cNvSpPr/>
            <p:nvPr/>
          </p:nvSpPr>
          <p:spPr>
            <a:xfrm>
              <a:off x="1427760" y="5120280"/>
              <a:ext cx="878760" cy="8031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2"/>
            <p:cNvSpPr/>
            <p:nvPr/>
          </p:nvSpPr>
          <p:spPr>
            <a:xfrm>
              <a:off x="2405880" y="551016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AutoShape 23"/>
          <p:cNvSpPr/>
          <p:nvPr/>
        </p:nvSpPr>
        <p:spPr>
          <a:xfrm>
            <a:off x="3162240" y="5056200"/>
            <a:ext cx="360036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4103640" y="1413000"/>
            <a:ext cx="2843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识字教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4105440" y="2598840"/>
            <a:ext cx="284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阅读教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4137120" y="3860640"/>
            <a:ext cx="284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口语交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4175280" y="5083200"/>
            <a:ext cx="284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写话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1044720" y="2241720"/>
            <a:ext cx="6648120" cy="3958560"/>
            <a:chOff x="1044720" y="2241720"/>
            <a:chExt cx="6648120" cy="3958560"/>
          </a:xfrm>
        </p:grpSpPr>
        <p:sp>
          <p:nvSpPr>
            <p:cNvPr id="341" name="Rectangle 13"/>
            <p:cNvSpPr/>
            <p:nvPr/>
          </p:nvSpPr>
          <p:spPr>
            <a:xfrm>
              <a:off x="1044720" y="2277000"/>
              <a:ext cx="6586920" cy="392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de5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4" descr="未标题-2"/>
            <p:cNvPicPr/>
            <p:nvPr/>
          </p:nvPicPr>
          <p:blipFill>
            <a:blip r:embed="rId1"/>
            <a:stretch/>
          </p:blipFill>
          <p:spPr>
            <a:xfrm>
              <a:off x="7236000" y="2241720"/>
              <a:ext cx="456840" cy="394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3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8"/>
          <p:cNvSpPr/>
          <p:nvPr/>
        </p:nvSpPr>
        <p:spPr>
          <a:xfrm>
            <a:off x="3625560" y="1376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识字教学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940040" y="4257720"/>
            <a:ext cx="4833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联系生活，拓宽识字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1978200" y="2565360"/>
            <a:ext cx="5003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丰富形式，增强识字兴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1941480" y="3359160"/>
            <a:ext cx="4944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习得方法，培养识字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1081080" y="1306440"/>
            <a:ext cx="719928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92" descr="未标题-8"/>
          <p:cNvPicPr/>
          <p:nvPr/>
        </p:nvPicPr>
        <p:blipFill>
          <a:blip r:embed="rId1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3908880" y="1376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集中识字教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792000" y="2203560"/>
          <a:ext cx="7738920" cy="3782880"/>
        </p:xfrm>
        <a:graphic>
          <a:graphicData uri="http://schemas.openxmlformats.org/drawingml/2006/table">
            <a:tbl>
              <a:tblPr/>
              <a:tblGrid>
                <a:gridCol w="1035000"/>
                <a:gridCol w="4321080"/>
                <a:gridCol w="2382840"/>
              </a:tblGrid>
              <a:tr h="4604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金秋水乡美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rowSpan="4"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词串识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618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天安门广场节日盛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寒冬事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祖国大地特色风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会意字“笔 灶 尖 歪 尾 看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rowSpan="2"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看图会意识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600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会意字“停 闻 鸣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基本字“苗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rowSpan="2"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形声字归类识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618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识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基本字“包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54" name="Picture 192" descr="未标题-8"/>
          <p:cNvPicPr/>
          <p:nvPr/>
        </p:nvPicPr>
        <p:blipFill>
          <a:blip r:embed="rId10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9"/>
          <p:cNvSpPr/>
          <p:nvPr/>
        </p:nvSpPr>
        <p:spPr>
          <a:xfrm>
            <a:off x="2228760" y="1955880"/>
            <a:ext cx="643896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隶书"/>
                <a:ea typeface="隶书"/>
              </a:rPr>
              <a:t>做一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隶书"/>
                <a:ea typeface="隶书"/>
              </a:rPr>
              <a:t>有心的思考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044720" y="2241720"/>
            <a:ext cx="6648120" cy="3958560"/>
            <a:chOff x="1044720" y="2241720"/>
            <a:chExt cx="6648120" cy="3958560"/>
          </a:xfrm>
        </p:grpSpPr>
        <p:sp>
          <p:nvSpPr>
            <p:cNvPr id="357" name="Rectangle 13"/>
            <p:cNvSpPr/>
            <p:nvPr/>
          </p:nvSpPr>
          <p:spPr>
            <a:xfrm>
              <a:off x="1044720" y="2277000"/>
              <a:ext cx="6586920" cy="392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de5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4" descr="未标题-2"/>
            <p:cNvPicPr/>
            <p:nvPr/>
          </p:nvPicPr>
          <p:blipFill>
            <a:blip r:embed="rId1"/>
            <a:stretch/>
          </p:blipFill>
          <p:spPr>
            <a:xfrm>
              <a:off x="7236000" y="2241720"/>
              <a:ext cx="456840" cy="394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9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8"/>
          <p:cNvSpPr/>
          <p:nvPr/>
        </p:nvSpPr>
        <p:spPr>
          <a:xfrm>
            <a:off x="2999880" y="1376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扎实有效推进识字课教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1947960" y="4257720"/>
            <a:ext cx="309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字理识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1947960" y="5145120"/>
            <a:ext cx="309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优化写字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2058840" y="2563920"/>
            <a:ext cx="3206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好情境图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2022480" y="3357720"/>
            <a:ext cx="3170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教给识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88720" y="-3240"/>
            <a:ext cx="82551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9"/>
          <p:cNvGrpSpPr/>
          <p:nvPr/>
        </p:nvGrpSpPr>
        <p:grpSpPr>
          <a:xfrm>
            <a:off x="1290600" y="2571840"/>
            <a:ext cx="1530000" cy="998280"/>
            <a:chOff x="1290600" y="2571840"/>
            <a:chExt cx="1530000" cy="998280"/>
          </a:xfrm>
        </p:grpSpPr>
        <p:sp>
          <p:nvSpPr>
            <p:cNvPr id="369" name="Oval 20"/>
            <p:cNvSpPr/>
            <p:nvPr/>
          </p:nvSpPr>
          <p:spPr>
            <a:xfrm>
              <a:off x="1290600" y="2571840"/>
              <a:ext cx="1078560" cy="998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21"/>
            <p:cNvSpPr/>
            <p:nvPr/>
          </p:nvSpPr>
          <p:spPr>
            <a:xfrm>
              <a:off x="1391040" y="2669400"/>
              <a:ext cx="878760" cy="802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2"/>
            <p:cNvSpPr/>
            <p:nvPr/>
          </p:nvSpPr>
          <p:spPr>
            <a:xfrm>
              <a:off x="2369160" y="305892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AutoShape 23"/>
          <p:cNvSpPr/>
          <p:nvPr/>
        </p:nvSpPr>
        <p:spPr>
          <a:xfrm>
            <a:off x="3133800" y="2598840"/>
            <a:ext cx="3601800" cy="850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25"/>
          <p:cNvGrpSpPr/>
          <p:nvPr/>
        </p:nvGrpSpPr>
        <p:grpSpPr>
          <a:xfrm>
            <a:off x="1292400" y="3835440"/>
            <a:ext cx="1528560" cy="998640"/>
            <a:chOff x="1292400" y="3835440"/>
            <a:chExt cx="1528560" cy="998640"/>
          </a:xfrm>
        </p:grpSpPr>
        <p:sp>
          <p:nvSpPr>
            <p:cNvPr id="374" name="Oval 26"/>
            <p:cNvSpPr/>
            <p:nvPr/>
          </p:nvSpPr>
          <p:spPr>
            <a:xfrm>
              <a:off x="1292400" y="3835440"/>
              <a:ext cx="1077480" cy="9986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7"/>
            <p:cNvSpPr/>
            <p:nvPr/>
          </p:nvSpPr>
          <p:spPr>
            <a:xfrm>
              <a:off x="1392840" y="3933000"/>
              <a:ext cx="877680" cy="803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8"/>
            <p:cNvSpPr/>
            <p:nvPr/>
          </p:nvSpPr>
          <p:spPr>
            <a:xfrm>
              <a:off x="2369880" y="4322880"/>
              <a:ext cx="45108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AutoShape 29"/>
          <p:cNvSpPr/>
          <p:nvPr/>
        </p:nvSpPr>
        <p:spPr>
          <a:xfrm>
            <a:off x="3090960" y="3868560"/>
            <a:ext cx="3601800" cy="8510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9"/>
          <p:cNvGrpSpPr/>
          <p:nvPr/>
        </p:nvGrpSpPr>
        <p:grpSpPr>
          <a:xfrm>
            <a:off x="1327320" y="5022720"/>
            <a:ext cx="1530000" cy="998640"/>
            <a:chOff x="1327320" y="5022720"/>
            <a:chExt cx="1530000" cy="998640"/>
          </a:xfrm>
        </p:grpSpPr>
        <p:sp>
          <p:nvSpPr>
            <p:cNvPr id="379" name="Oval 20"/>
            <p:cNvSpPr/>
            <p:nvPr/>
          </p:nvSpPr>
          <p:spPr>
            <a:xfrm>
              <a:off x="1327320" y="5022720"/>
              <a:ext cx="1078560" cy="9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1"/>
            <p:cNvSpPr/>
            <p:nvPr/>
          </p:nvSpPr>
          <p:spPr>
            <a:xfrm>
              <a:off x="1427760" y="5120280"/>
              <a:ext cx="878760" cy="803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2"/>
            <p:cNvSpPr/>
            <p:nvPr/>
          </p:nvSpPr>
          <p:spPr>
            <a:xfrm>
              <a:off x="2405880" y="551016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23"/>
          <p:cNvSpPr/>
          <p:nvPr/>
        </p:nvSpPr>
        <p:spPr>
          <a:xfrm>
            <a:off x="3162240" y="5056200"/>
            <a:ext cx="360036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4105440" y="2598840"/>
            <a:ext cx="284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落实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4137120" y="3860640"/>
            <a:ext cx="284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落实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7"/>
          <p:cNvSpPr/>
          <p:nvPr/>
        </p:nvSpPr>
        <p:spPr>
          <a:xfrm>
            <a:off x="4175280" y="5083200"/>
            <a:ext cx="284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落实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92" descr="未标题-8"/>
          <p:cNvPicPr/>
          <p:nvPr/>
        </p:nvPicPr>
        <p:blipFill>
          <a:blip r:embed="rId4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8"/>
          <p:cNvSpPr/>
          <p:nvPr/>
        </p:nvSpPr>
        <p:spPr>
          <a:xfrm>
            <a:off x="3727440" y="1376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写字教学注意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1079640" y="1093680"/>
            <a:ext cx="6588000" cy="78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1079640" y="2025720"/>
            <a:ext cx="6588000" cy="414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4" descr="未标题-2"/>
          <p:cNvPicPr/>
          <p:nvPr/>
        </p:nvPicPr>
        <p:blipFill>
          <a:blip r:embed="rId1"/>
          <a:stretch/>
        </p:blipFill>
        <p:spPr>
          <a:xfrm>
            <a:off x="7236000" y="2062080"/>
            <a:ext cx="457200" cy="41245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8"/>
          <p:cNvSpPr/>
          <p:nvPr/>
        </p:nvSpPr>
        <p:spPr>
          <a:xfrm>
            <a:off x="3881160" y="1163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词串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2689200" y="365292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诵读词串，想象入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2687760" y="534672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现情境，积累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2724120" y="448308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类识字，识写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2619360" y="1994040"/>
            <a:ext cx="3956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题积累，自主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2689200" y="275256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情境，初读韵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未标题-2"/>
          <p:cNvPicPr/>
          <p:nvPr/>
        </p:nvPicPr>
        <p:blipFill>
          <a:blip r:embed="rId2"/>
          <a:stretch/>
        </p:blipFill>
        <p:spPr>
          <a:xfrm>
            <a:off x="7378560" y="1092240"/>
            <a:ext cx="289080" cy="792000"/>
          </a:xfrm>
          <a:prstGeom prst="rect">
            <a:avLst/>
          </a:prstGeom>
          <a:ln w="0">
            <a:noFill/>
          </a:ln>
        </p:spPr>
      </p:pic>
      <p:sp>
        <p:nvSpPr>
          <p:cNvPr id="399" name="箭头 941"/>
          <p:cNvSpPr/>
          <p:nvPr/>
        </p:nvSpPr>
        <p:spPr>
          <a:xfrm>
            <a:off x="4354560" y="26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箭头 941"/>
          <p:cNvSpPr/>
          <p:nvPr/>
        </p:nvSpPr>
        <p:spPr>
          <a:xfrm>
            <a:off x="4359240" y="3424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箭头 941"/>
          <p:cNvSpPr/>
          <p:nvPr/>
        </p:nvSpPr>
        <p:spPr>
          <a:xfrm>
            <a:off x="4379760" y="42973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箭头 941"/>
          <p:cNvSpPr/>
          <p:nvPr/>
        </p:nvSpPr>
        <p:spPr>
          <a:xfrm>
            <a:off x="4363920" y="5172120"/>
            <a:ext cx="18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2" descr="未标题-12"/>
          <p:cNvPicPr/>
          <p:nvPr/>
        </p:nvPicPr>
        <p:blipFill>
          <a:blip r:embed="rId3"/>
          <a:stretch/>
        </p:blipFill>
        <p:spPr>
          <a:xfrm>
            <a:off x="104472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1079640" y="1093680"/>
            <a:ext cx="6588000" cy="78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1079640" y="2133720"/>
            <a:ext cx="6588000" cy="399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4" descr="未标题-2"/>
          <p:cNvPicPr/>
          <p:nvPr/>
        </p:nvPicPr>
        <p:blipFill>
          <a:blip r:embed="rId1"/>
          <a:stretch/>
        </p:blipFill>
        <p:spPr>
          <a:xfrm>
            <a:off x="7201080" y="2060640"/>
            <a:ext cx="457200" cy="41241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18"/>
          <p:cNvSpPr/>
          <p:nvPr/>
        </p:nvSpPr>
        <p:spPr>
          <a:xfrm>
            <a:off x="3553920" y="1163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看图会意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2689200" y="410364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握特点，引导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2724120" y="501660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举一反三，强化兴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6"/>
          <p:cNvSpPr/>
          <p:nvPr/>
        </p:nvSpPr>
        <p:spPr>
          <a:xfrm>
            <a:off x="2619360" y="2205000"/>
            <a:ext cx="3956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看图猜字，以图激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7"/>
          <p:cNvSpPr/>
          <p:nvPr/>
        </p:nvSpPr>
        <p:spPr>
          <a:xfrm>
            <a:off x="2689200" y="315432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字图对照，寻找关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未标题-2"/>
          <p:cNvPicPr/>
          <p:nvPr/>
        </p:nvPicPr>
        <p:blipFill>
          <a:blip r:embed="rId2"/>
          <a:stretch/>
        </p:blipFill>
        <p:spPr>
          <a:xfrm>
            <a:off x="7378560" y="1092240"/>
            <a:ext cx="289080" cy="792000"/>
          </a:xfrm>
          <a:prstGeom prst="rect">
            <a:avLst/>
          </a:prstGeom>
          <a:ln w="0">
            <a:noFill/>
          </a:ln>
        </p:spPr>
      </p:pic>
      <p:sp>
        <p:nvSpPr>
          <p:cNvPr id="414" name="箭头 941"/>
          <p:cNvSpPr/>
          <p:nvPr/>
        </p:nvSpPr>
        <p:spPr>
          <a:xfrm>
            <a:off x="4354560" y="28494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箭头 941"/>
          <p:cNvSpPr/>
          <p:nvPr/>
        </p:nvSpPr>
        <p:spPr>
          <a:xfrm>
            <a:off x="4359240" y="38368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箭头 941"/>
          <p:cNvSpPr/>
          <p:nvPr/>
        </p:nvSpPr>
        <p:spPr>
          <a:xfrm>
            <a:off x="4379760" y="47847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2" descr="未标题-12"/>
          <p:cNvPicPr/>
          <p:nvPr/>
        </p:nvPicPr>
        <p:blipFill>
          <a:blip r:embed="rId3"/>
          <a:stretch/>
        </p:blipFill>
        <p:spPr>
          <a:xfrm>
            <a:off x="111600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>
            <a:off x="1079640" y="1093680"/>
            <a:ext cx="6588000" cy="78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1079640" y="2060640"/>
            <a:ext cx="6588000" cy="414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4" descr="未标题-2"/>
          <p:cNvPicPr/>
          <p:nvPr/>
        </p:nvPicPr>
        <p:blipFill>
          <a:blip r:embed="rId1"/>
          <a:stretch/>
        </p:blipFill>
        <p:spPr>
          <a:xfrm>
            <a:off x="7236000" y="2062080"/>
            <a:ext cx="457200" cy="412452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8"/>
          <p:cNvSpPr/>
          <p:nvPr/>
        </p:nvSpPr>
        <p:spPr>
          <a:xfrm>
            <a:off x="3386160" y="1163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形声字归类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2689200" y="365292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辨析字义，再记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7"/>
          <p:cNvSpPr/>
          <p:nvPr/>
        </p:nvSpPr>
        <p:spPr>
          <a:xfrm>
            <a:off x="2687760" y="534672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书写生字，正确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2724120" y="448308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复习反馈，拓展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2619360" y="1994040"/>
            <a:ext cx="3956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熟悉部首，认基本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689200" y="275256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认读新字，感知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未标题-2"/>
          <p:cNvPicPr/>
          <p:nvPr/>
        </p:nvPicPr>
        <p:blipFill>
          <a:blip r:embed="rId2"/>
          <a:stretch/>
        </p:blipFill>
        <p:spPr>
          <a:xfrm>
            <a:off x="7378560" y="1092240"/>
            <a:ext cx="289080" cy="792000"/>
          </a:xfrm>
          <a:prstGeom prst="rect">
            <a:avLst/>
          </a:prstGeom>
          <a:ln w="0">
            <a:noFill/>
          </a:ln>
        </p:spPr>
      </p:pic>
      <p:sp>
        <p:nvSpPr>
          <p:cNvPr id="429" name="箭头 941"/>
          <p:cNvSpPr/>
          <p:nvPr/>
        </p:nvSpPr>
        <p:spPr>
          <a:xfrm>
            <a:off x="4354560" y="26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箭头 941"/>
          <p:cNvSpPr/>
          <p:nvPr/>
        </p:nvSpPr>
        <p:spPr>
          <a:xfrm>
            <a:off x="4359240" y="3424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箭头 941"/>
          <p:cNvSpPr/>
          <p:nvPr/>
        </p:nvSpPr>
        <p:spPr>
          <a:xfrm>
            <a:off x="4379760" y="42973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箭头 941"/>
          <p:cNvSpPr/>
          <p:nvPr/>
        </p:nvSpPr>
        <p:spPr>
          <a:xfrm>
            <a:off x="4363920" y="5172120"/>
            <a:ext cx="18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2" descr="未标题-12"/>
          <p:cNvPicPr/>
          <p:nvPr/>
        </p:nvPicPr>
        <p:blipFill>
          <a:blip r:embed="rId3"/>
          <a:stretch/>
        </p:blipFill>
        <p:spPr>
          <a:xfrm>
            <a:off x="104472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4"/>
          <p:cNvSpPr/>
          <p:nvPr/>
        </p:nvSpPr>
        <p:spPr>
          <a:xfrm>
            <a:off x="1079640" y="1093680"/>
            <a:ext cx="6588000" cy="78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079640" y="1990800"/>
            <a:ext cx="6588000" cy="413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4" descr="未标题-2"/>
          <p:cNvPicPr/>
          <p:nvPr/>
        </p:nvPicPr>
        <p:blipFill>
          <a:blip r:embed="rId1"/>
          <a:stretch/>
        </p:blipFill>
        <p:spPr>
          <a:xfrm>
            <a:off x="7236000" y="2062080"/>
            <a:ext cx="457200" cy="4124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94608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8"/>
          <p:cNvSpPr/>
          <p:nvPr/>
        </p:nvSpPr>
        <p:spPr>
          <a:xfrm>
            <a:off x="3888360" y="1163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随文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2617920" y="450684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自主识记，规范书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2548080" y="2349360"/>
            <a:ext cx="3957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初读课文，适时正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7"/>
          <p:cNvSpPr/>
          <p:nvPr/>
        </p:nvSpPr>
        <p:spPr>
          <a:xfrm>
            <a:off x="2617920" y="339408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随文感悟，理解词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未标题-2"/>
          <p:cNvPicPr/>
          <p:nvPr/>
        </p:nvPicPr>
        <p:blipFill>
          <a:blip r:embed="rId3"/>
          <a:stretch/>
        </p:blipFill>
        <p:spPr>
          <a:xfrm>
            <a:off x="7378560" y="1092240"/>
            <a:ext cx="289080" cy="792000"/>
          </a:xfrm>
          <a:prstGeom prst="rect">
            <a:avLst/>
          </a:prstGeom>
          <a:ln w="0">
            <a:noFill/>
          </a:ln>
        </p:spPr>
      </p:pic>
      <p:sp>
        <p:nvSpPr>
          <p:cNvPr id="444" name="箭头 941"/>
          <p:cNvSpPr/>
          <p:nvPr/>
        </p:nvSpPr>
        <p:spPr>
          <a:xfrm>
            <a:off x="4282920" y="30639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箭头 941"/>
          <p:cNvSpPr/>
          <p:nvPr/>
        </p:nvSpPr>
        <p:spPr>
          <a:xfrm>
            <a:off x="4287960" y="4276800"/>
            <a:ext cx="1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1044720" y="2276640"/>
            <a:ext cx="6588000" cy="392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4" descr="未标题-2"/>
          <p:cNvPicPr/>
          <p:nvPr/>
        </p:nvPicPr>
        <p:blipFill>
          <a:blip r:embed="rId1"/>
          <a:stretch/>
        </p:blipFill>
        <p:spPr>
          <a:xfrm>
            <a:off x="7236000" y="2241720"/>
            <a:ext cx="457200" cy="3943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18"/>
          <p:cNvSpPr/>
          <p:nvPr/>
        </p:nvSpPr>
        <p:spPr>
          <a:xfrm>
            <a:off x="2589120" y="1376280"/>
            <a:ext cx="42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二年级阅读教学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1407960" y="4129200"/>
            <a:ext cx="5543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培养课外阅读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7"/>
          <p:cNvSpPr/>
          <p:nvPr/>
        </p:nvSpPr>
        <p:spPr>
          <a:xfrm>
            <a:off x="1371600" y="3247920"/>
            <a:ext cx="5943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扎实进行语言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听懂故事、理解词语、词语积累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1374840" y="2325600"/>
            <a:ext cx="5543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运用多种方式读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1044720" y="2276640"/>
            <a:ext cx="6588000" cy="392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4" descr="未标题-2"/>
          <p:cNvPicPr/>
          <p:nvPr/>
        </p:nvPicPr>
        <p:blipFill>
          <a:blip r:embed="rId1"/>
          <a:stretch/>
        </p:blipFill>
        <p:spPr>
          <a:xfrm>
            <a:off x="7236000" y="2241720"/>
            <a:ext cx="457200" cy="3943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8"/>
          <p:cNvSpPr/>
          <p:nvPr/>
        </p:nvSpPr>
        <p:spPr>
          <a:xfrm>
            <a:off x="3746520" y="13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阅读教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组合 14"/>
          <p:cNvGrpSpPr/>
          <p:nvPr/>
        </p:nvGrpSpPr>
        <p:grpSpPr>
          <a:xfrm>
            <a:off x="1687680" y="2881440"/>
            <a:ext cx="5614920" cy="2435040"/>
            <a:chOff x="1687680" y="2881440"/>
            <a:chExt cx="5614920" cy="2435040"/>
          </a:xfrm>
        </p:grpSpPr>
        <p:sp>
          <p:nvSpPr>
            <p:cNvPr id="463" name="Rectangle 17"/>
            <p:cNvSpPr/>
            <p:nvPr/>
          </p:nvSpPr>
          <p:spPr>
            <a:xfrm>
              <a:off x="4459320" y="3589200"/>
              <a:ext cx="28432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物故事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7"/>
            <p:cNvSpPr/>
            <p:nvPr/>
          </p:nvSpPr>
          <p:spPr>
            <a:xfrm>
              <a:off x="4426200" y="2906640"/>
              <a:ext cx="28447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古诗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7"/>
            <p:cNvSpPr/>
            <p:nvPr/>
          </p:nvSpPr>
          <p:spPr>
            <a:xfrm>
              <a:off x="4357800" y="4434120"/>
              <a:ext cx="28447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写景状物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687680" y="3625920"/>
              <a:ext cx="28432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童话寓言故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7"/>
            <p:cNvSpPr/>
            <p:nvPr/>
          </p:nvSpPr>
          <p:spPr>
            <a:xfrm>
              <a:off x="1727280" y="4494240"/>
              <a:ext cx="28447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儿童诗歌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7"/>
            <p:cNvSpPr/>
            <p:nvPr/>
          </p:nvSpPr>
          <p:spPr>
            <a:xfrm>
              <a:off x="1725480" y="2881440"/>
              <a:ext cx="28447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叙事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8"/>
          <p:cNvSpPr/>
          <p:nvPr/>
        </p:nvSpPr>
        <p:spPr>
          <a:xfrm>
            <a:off x="1659240" y="11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叙事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3" name=""/>
          <p:cNvGraphicFramePr/>
          <p:nvPr/>
        </p:nvGraphicFramePr>
        <p:xfrm>
          <a:off x="1182600" y="2027160"/>
          <a:ext cx="6767640" cy="2416320"/>
        </p:xfrm>
        <a:graphic>
          <a:graphicData uri="http://schemas.openxmlformats.org/drawingml/2006/table">
            <a:tbl>
              <a:tblPr/>
              <a:tblGrid>
                <a:gridCol w="1015920"/>
                <a:gridCol w="2536920"/>
                <a:gridCol w="3214800"/>
              </a:tblGrid>
              <a:tr h="7034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秋游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比喻、排比的修辞手法，并列复合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7030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再见了，北京！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场景描写，用词精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10098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有趣的发现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按照事情发展顺序详细介绍有趣的发现，了解因果复合句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pic>
        <p:nvPicPr>
          <p:cNvPr id="474" name="Picture 12" descr="未标题-12"/>
          <p:cNvPicPr/>
          <p:nvPr/>
        </p:nvPicPr>
        <p:blipFill>
          <a:blip r:embed="rId2"/>
          <a:stretch/>
        </p:blipFill>
        <p:spPr>
          <a:xfrm>
            <a:off x="51912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8"/>
          <p:cNvSpPr/>
          <p:nvPr/>
        </p:nvSpPr>
        <p:spPr>
          <a:xfrm>
            <a:off x="1721160" y="123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叙事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5"/>
          <p:cNvSpPr/>
          <p:nvPr/>
        </p:nvSpPr>
        <p:spPr>
          <a:xfrm>
            <a:off x="1582560" y="1882800"/>
            <a:ext cx="561528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7"/>
          <p:cNvSpPr/>
          <p:nvPr/>
        </p:nvSpPr>
        <p:spPr>
          <a:xfrm>
            <a:off x="2617920" y="400860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入情入境，说人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7"/>
          <p:cNvSpPr/>
          <p:nvPr/>
        </p:nvSpPr>
        <p:spPr>
          <a:xfrm>
            <a:off x="2654280" y="4838760"/>
            <a:ext cx="3956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，丰厚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6"/>
          <p:cNvSpPr/>
          <p:nvPr/>
        </p:nvSpPr>
        <p:spPr>
          <a:xfrm>
            <a:off x="2548080" y="2349360"/>
            <a:ext cx="3957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话题交流，产生期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7"/>
          <p:cNvSpPr/>
          <p:nvPr/>
        </p:nvSpPr>
        <p:spPr>
          <a:xfrm>
            <a:off x="2617920" y="310824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理清文脉，感知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箭头 941"/>
          <p:cNvSpPr/>
          <p:nvPr/>
        </p:nvSpPr>
        <p:spPr>
          <a:xfrm>
            <a:off x="4282920" y="29559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箭头 941"/>
          <p:cNvSpPr/>
          <p:nvPr/>
        </p:nvSpPr>
        <p:spPr>
          <a:xfrm>
            <a:off x="4287960" y="378000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箭头 941"/>
          <p:cNvSpPr/>
          <p:nvPr/>
        </p:nvSpPr>
        <p:spPr>
          <a:xfrm>
            <a:off x="4308480" y="465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7"/>
          <p:cNvSpPr/>
          <p:nvPr/>
        </p:nvSpPr>
        <p:spPr>
          <a:xfrm>
            <a:off x="2771640" y="3321000"/>
            <a:ext cx="5616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二年级上册教材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552760" y="2133360"/>
            <a:ext cx="629928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隶书"/>
                <a:ea typeface="隶书"/>
              </a:rPr>
              <a:t>把握特点 学出情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3168720" y="5086440"/>
            <a:ext cx="56163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常州市白云小学  曹月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8"/>
          <p:cNvSpPr/>
          <p:nvPr/>
        </p:nvSpPr>
        <p:spPr>
          <a:xfrm>
            <a:off x="1623600" y="11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古诗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"/>
          <p:cNvGraphicFramePr/>
          <p:nvPr/>
        </p:nvGraphicFramePr>
        <p:xfrm>
          <a:off x="1181160" y="2244600"/>
          <a:ext cx="6950160" cy="2266920"/>
        </p:xfrm>
        <a:graphic>
          <a:graphicData uri="http://schemas.openxmlformats.org/drawingml/2006/table">
            <a:tbl>
              <a:tblPr/>
              <a:tblGrid>
                <a:gridCol w="1581120"/>
                <a:gridCol w="2067120"/>
                <a:gridCol w="3301920"/>
              </a:tblGrid>
              <a:tr h="755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英英学古诗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问一答的对话形式呈现古诗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755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登鹳雀楼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登楼观景，明白登高望远的道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755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青松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画面感强，借物喻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sp>
        <p:nvSpPr>
          <p:cNvPr id="492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8"/>
          <p:cNvSpPr/>
          <p:nvPr/>
        </p:nvSpPr>
        <p:spPr>
          <a:xfrm>
            <a:off x="1578960" y="11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古诗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5"/>
          <p:cNvSpPr/>
          <p:nvPr/>
        </p:nvSpPr>
        <p:spPr>
          <a:xfrm>
            <a:off x="1582560" y="1882800"/>
            <a:ext cx="561528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7"/>
          <p:cNvSpPr/>
          <p:nvPr/>
        </p:nvSpPr>
        <p:spPr>
          <a:xfrm>
            <a:off x="2476440" y="4186080"/>
            <a:ext cx="3956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吟诵想象，感悟诗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6"/>
          <p:cNvSpPr/>
          <p:nvPr/>
        </p:nvSpPr>
        <p:spPr>
          <a:xfrm>
            <a:off x="2441520" y="2171880"/>
            <a:ext cx="3956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课前积淀，了解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7"/>
          <p:cNvSpPr/>
          <p:nvPr/>
        </p:nvSpPr>
        <p:spPr>
          <a:xfrm>
            <a:off x="2440080" y="310824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巧借图景，导入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箭头 941"/>
          <p:cNvSpPr/>
          <p:nvPr/>
        </p:nvSpPr>
        <p:spPr>
          <a:xfrm>
            <a:off x="4070520" y="28144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箭头 941"/>
          <p:cNvSpPr/>
          <p:nvPr/>
        </p:nvSpPr>
        <p:spPr>
          <a:xfrm>
            <a:off x="4038480" y="3921120"/>
            <a:ext cx="18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7"/>
          <p:cNvSpPr/>
          <p:nvPr/>
        </p:nvSpPr>
        <p:spPr>
          <a:xfrm>
            <a:off x="2532240" y="509580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，丰厚积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箭头 941"/>
          <p:cNvSpPr/>
          <p:nvPr/>
        </p:nvSpPr>
        <p:spPr>
          <a:xfrm>
            <a:off x="4024440" y="48672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8"/>
          <p:cNvSpPr/>
          <p:nvPr/>
        </p:nvSpPr>
        <p:spPr>
          <a:xfrm>
            <a:off x="1867320" y="1160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童话寓言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7" name=""/>
          <p:cNvGraphicFramePr/>
          <p:nvPr/>
        </p:nvGraphicFramePr>
        <p:xfrm>
          <a:off x="1114560" y="2060640"/>
          <a:ext cx="7016760" cy="3152880"/>
        </p:xfrm>
        <a:graphic>
          <a:graphicData uri="http://schemas.openxmlformats.org/drawingml/2006/table">
            <a:tbl>
              <a:tblPr/>
              <a:tblGrid>
                <a:gridCol w="1087560"/>
                <a:gridCol w="2089080"/>
                <a:gridCol w="3840120"/>
              </a:tblGrid>
              <a:tr h="61272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小鹰学飞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注提示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61272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青蛙看海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抓语言、神态、动作的词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6112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狼和小羊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借助“找碴”读懂对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7034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狐狸和乌鸦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抓心理变化，展开合理想象，续编故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61272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《小动物过冬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结合故事内容了解词语意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pic>
        <p:nvPicPr>
          <p:cNvPr id="508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"/>
          <p:cNvSpPr/>
          <p:nvPr/>
        </p:nvSpPr>
        <p:spPr>
          <a:xfrm>
            <a:off x="2111400" y="-144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8"/>
          <p:cNvSpPr/>
          <p:nvPr/>
        </p:nvSpPr>
        <p:spPr>
          <a:xfrm>
            <a:off x="1796760" y="1160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童话寓言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5"/>
          <p:cNvSpPr/>
          <p:nvPr/>
        </p:nvSpPr>
        <p:spPr>
          <a:xfrm>
            <a:off x="1582560" y="1882800"/>
            <a:ext cx="561528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2724120" y="436392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追求故事与成长的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2689200" y="234936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设故事完整的情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7"/>
          <p:cNvSpPr/>
          <p:nvPr/>
        </p:nvSpPr>
        <p:spPr>
          <a:xfrm>
            <a:off x="2689200" y="328608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激发故事生动的情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箭头 941"/>
          <p:cNvSpPr/>
          <p:nvPr/>
        </p:nvSpPr>
        <p:spPr>
          <a:xfrm>
            <a:off x="4282920" y="29559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箭头 941"/>
          <p:cNvSpPr/>
          <p:nvPr/>
        </p:nvSpPr>
        <p:spPr>
          <a:xfrm>
            <a:off x="4287960" y="4098960"/>
            <a:ext cx="1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2"/>
          <p:cNvSpPr/>
          <p:nvPr/>
        </p:nvSpPr>
        <p:spPr>
          <a:xfrm>
            <a:off x="2111400" y="3348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088720" y="-3240"/>
            <a:ext cx="82551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9"/>
          <p:cNvGrpSpPr/>
          <p:nvPr/>
        </p:nvGrpSpPr>
        <p:grpSpPr>
          <a:xfrm>
            <a:off x="1290600" y="2571840"/>
            <a:ext cx="1530000" cy="998280"/>
            <a:chOff x="1290600" y="2571840"/>
            <a:chExt cx="1530000" cy="998280"/>
          </a:xfrm>
        </p:grpSpPr>
        <p:sp>
          <p:nvSpPr>
            <p:cNvPr id="522" name="Oval 20"/>
            <p:cNvSpPr/>
            <p:nvPr/>
          </p:nvSpPr>
          <p:spPr>
            <a:xfrm>
              <a:off x="1290600" y="2571840"/>
              <a:ext cx="1078560" cy="998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1"/>
            <p:cNvSpPr/>
            <p:nvPr/>
          </p:nvSpPr>
          <p:spPr>
            <a:xfrm>
              <a:off x="1391040" y="2669400"/>
              <a:ext cx="878760" cy="802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2"/>
            <p:cNvSpPr/>
            <p:nvPr/>
          </p:nvSpPr>
          <p:spPr>
            <a:xfrm>
              <a:off x="2369160" y="305892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AutoShape 23"/>
          <p:cNvSpPr/>
          <p:nvPr/>
        </p:nvSpPr>
        <p:spPr>
          <a:xfrm>
            <a:off x="2892600" y="2598840"/>
            <a:ext cx="5235480" cy="850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25"/>
          <p:cNvGrpSpPr/>
          <p:nvPr/>
        </p:nvGrpSpPr>
        <p:grpSpPr>
          <a:xfrm>
            <a:off x="1292400" y="3835440"/>
            <a:ext cx="1528560" cy="998640"/>
            <a:chOff x="1292400" y="3835440"/>
            <a:chExt cx="1528560" cy="998640"/>
          </a:xfrm>
        </p:grpSpPr>
        <p:sp>
          <p:nvSpPr>
            <p:cNvPr id="527" name="Oval 26"/>
            <p:cNvSpPr/>
            <p:nvPr/>
          </p:nvSpPr>
          <p:spPr>
            <a:xfrm>
              <a:off x="1292400" y="3835440"/>
              <a:ext cx="1077480" cy="9986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27"/>
            <p:cNvSpPr/>
            <p:nvPr/>
          </p:nvSpPr>
          <p:spPr>
            <a:xfrm>
              <a:off x="1392840" y="3933000"/>
              <a:ext cx="877680" cy="803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8"/>
            <p:cNvSpPr/>
            <p:nvPr/>
          </p:nvSpPr>
          <p:spPr>
            <a:xfrm>
              <a:off x="2369880" y="4322880"/>
              <a:ext cx="45108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AutoShape 29"/>
          <p:cNvSpPr/>
          <p:nvPr/>
        </p:nvSpPr>
        <p:spPr>
          <a:xfrm>
            <a:off x="2892600" y="3868560"/>
            <a:ext cx="5221080" cy="8510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9"/>
          <p:cNvGrpSpPr/>
          <p:nvPr/>
        </p:nvGrpSpPr>
        <p:grpSpPr>
          <a:xfrm>
            <a:off x="1327320" y="5022720"/>
            <a:ext cx="1530000" cy="998640"/>
            <a:chOff x="1327320" y="5022720"/>
            <a:chExt cx="1530000" cy="998640"/>
          </a:xfrm>
        </p:grpSpPr>
        <p:sp>
          <p:nvSpPr>
            <p:cNvPr id="532" name="Oval 20"/>
            <p:cNvSpPr/>
            <p:nvPr/>
          </p:nvSpPr>
          <p:spPr>
            <a:xfrm>
              <a:off x="1327320" y="5022720"/>
              <a:ext cx="1078560" cy="9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1427760" y="5120280"/>
              <a:ext cx="878760" cy="803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2405880" y="551016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AutoShape 23"/>
          <p:cNvSpPr/>
          <p:nvPr/>
        </p:nvSpPr>
        <p:spPr>
          <a:xfrm>
            <a:off x="2928960" y="5056200"/>
            <a:ext cx="514836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3075120" y="2643120"/>
            <a:ext cx="5403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阅读始，感知故事，了解情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7"/>
          <p:cNvSpPr/>
          <p:nvPr/>
        </p:nvSpPr>
        <p:spPr>
          <a:xfrm>
            <a:off x="3038400" y="3860640"/>
            <a:ext cx="5257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阅读中，丰富想象，体验情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2965320" y="5083200"/>
            <a:ext cx="5148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阅读后，故事讲演，把握角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488960" y="1306440"/>
            <a:ext cx="658836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92" descr="未标题-8"/>
          <p:cNvPicPr/>
          <p:nvPr/>
        </p:nvPicPr>
        <p:blipFill>
          <a:blip r:embed="rId4"/>
          <a:stretch/>
        </p:blipFill>
        <p:spPr>
          <a:xfrm rot="9556200">
            <a:off x="1399680" y="115848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8"/>
          <p:cNvSpPr/>
          <p:nvPr/>
        </p:nvSpPr>
        <p:spPr>
          <a:xfrm>
            <a:off x="4031640" y="1376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如何激发故事的生动情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8"/>
          <p:cNvSpPr/>
          <p:nvPr/>
        </p:nvSpPr>
        <p:spPr>
          <a:xfrm>
            <a:off x="1796760" y="1160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童话寓言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5"/>
          <p:cNvSpPr/>
          <p:nvPr/>
        </p:nvSpPr>
        <p:spPr>
          <a:xfrm>
            <a:off x="1582560" y="1882800"/>
            <a:ext cx="561528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7"/>
          <p:cNvSpPr/>
          <p:nvPr/>
        </p:nvSpPr>
        <p:spPr>
          <a:xfrm>
            <a:off x="2724120" y="436392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追求故事与成长的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6"/>
          <p:cNvSpPr/>
          <p:nvPr/>
        </p:nvSpPr>
        <p:spPr>
          <a:xfrm>
            <a:off x="2689200" y="234936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设故事完整的情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7"/>
          <p:cNvSpPr/>
          <p:nvPr/>
        </p:nvSpPr>
        <p:spPr>
          <a:xfrm>
            <a:off x="2689200" y="328608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激发故事生动的情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箭头 941"/>
          <p:cNvSpPr/>
          <p:nvPr/>
        </p:nvSpPr>
        <p:spPr>
          <a:xfrm>
            <a:off x="4282920" y="29559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箭头 941"/>
          <p:cNvSpPr/>
          <p:nvPr/>
        </p:nvSpPr>
        <p:spPr>
          <a:xfrm>
            <a:off x="4287960" y="4098960"/>
            <a:ext cx="14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2"/>
          <p:cNvSpPr/>
          <p:nvPr/>
        </p:nvSpPr>
        <p:spPr>
          <a:xfrm>
            <a:off x="2111400" y="3348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8"/>
          <p:cNvSpPr/>
          <p:nvPr/>
        </p:nvSpPr>
        <p:spPr>
          <a:xfrm>
            <a:off x="2319120" y="1936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主题单元教学的方式来推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pSp>
        <p:nvGrpSpPr>
          <p:cNvPr id="554" name="Group 15"/>
          <p:cNvGrpSpPr/>
          <p:nvPr/>
        </p:nvGrpSpPr>
        <p:grpSpPr>
          <a:xfrm>
            <a:off x="-96120" y="816480"/>
            <a:ext cx="3048840" cy="5706360"/>
            <a:chOff x="-96120" y="816480"/>
            <a:chExt cx="3048840" cy="5706360"/>
          </a:xfrm>
        </p:grpSpPr>
        <p:sp>
          <p:nvSpPr>
            <p:cNvPr id="555" name="AutoShape 7"/>
            <p:cNvSpPr/>
            <p:nvPr/>
          </p:nvSpPr>
          <p:spPr>
            <a:xfrm>
              <a:off x="146160" y="1523880"/>
              <a:ext cx="2806560" cy="4998960"/>
            </a:xfrm>
            <a:custGeom>
              <a:avLst/>
              <a:gdLst>
                <a:gd name="textAreaLeft" fmla="*/ 45360 w 2806560"/>
                <a:gd name="textAreaRight" fmla="*/ 2761200 w 2806560"/>
                <a:gd name="textAreaTop" fmla="*/ 45360 h 4998960"/>
                <a:gd name="textAreaBottom" fmla="*/ 4953600 h 4998960"/>
              </a:gdLst>
              <a:ahLst/>
              <a:rect l="textAreaLeft" t="textAreaTop" r="textAreaRight" b="textAreaBottom"/>
              <a:pathLst>
                <a:path w="21600" h="38471">
                  <a:moveTo>
                    <a:pt x="1197" y="0"/>
                  </a:moveTo>
                  <a:arcTo wR="1197" hR="1197" stAng="16200000" swAng="-5400000"/>
                  <a:lnTo>
                    <a:pt x="0" y="37274"/>
                  </a:lnTo>
                  <a:arcTo wR="1197" hR="1197" stAng="10800000" swAng="-5400000"/>
                  <a:lnTo>
                    <a:pt x="20403" y="38471"/>
                  </a:lnTo>
                  <a:arcTo wR="1197" hR="1197" stAng="5400000" swAng="-5400000"/>
                  <a:lnTo>
                    <a:pt x="21600" y="1197"/>
                  </a:lnTo>
                  <a:arcTo wR="1197" hR="1197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6"/>
            <p:cNvSpPr/>
            <p:nvPr/>
          </p:nvSpPr>
          <p:spPr>
            <a:xfrm>
              <a:off x="456120" y="1238400"/>
              <a:ext cx="1229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导读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4"/>
            <p:cNvSpPr/>
            <p:nvPr/>
          </p:nvSpPr>
          <p:spPr>
            <a:xfrm>
              <a:off x="266400" y="1095480"/>
              <a:ext cx="513000" cy="104724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0"/>
            <p:cNvSpPr/>
            <p:nvPr/>
          </p:nvSpPr>
          <p:spPr>
            <a:xfrm>
              <a:off x="1217520" y="1001160"/>
              <a:ext cx="513000" cy="104688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13" descr="未标题-1"/>
            <p:cNvPicPr/>
            <p:nvPr/>
          </p:nvPicPr>
          <p:blipFill>
            <a:blip r:embed="rId2"/>
            <a:stretch/>
          </p:blipFill>
          <p:spPr>
            <a:xfrm rot="2865600">
              <a:off x="-179280" y="1193040"/>
              <a:ext cx="1141560" cy="2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10"/>
          <p:cNvGrpSpPr/>
          <p:nvPr/>
        </p:nvGrpSpPr>
        <p:grpSpPr>
          <a:xfrm>
            <a:off x="233280" y="1720800"/>
            <a:ext cx="2755800" cy="4624560"/>
            <a:chOff x="233280" y="1720800"/>
            <a:chExt cx="2755800" cy="4624560"/>
          </a:xfrm>
        </p:grpSpPr>
        <p:sp>
          <p:nvSpPr>
            <p:cNvPr id="561" name="Rectangle 16"/>
            <p:cNvSpPr/>
            <p:nvPr/>
          </p:nvSpPr>
          <p:spPr>
            <a:xfrm>
              <a:off x="271080" y="1720800"/>
              <a:ext cx="2718000" cy="14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认真阅读课文，引导学生关注课题，快速感知该单元的主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6"/>
            <p:cNvSpPr/>
            <p:nvPr/>
          </p:nvSpPr>
          <p:spPr>
            <a:xfrm>
              <a:off x="233280" y="3215520"/>
              <a:ext cx="264636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探究四篇童话的相同之处，对整个单元的内容有整体把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07440" y="4646160"/>
              <a:ext cx="2535840" cy="16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依托故事中的主人公，用“谁干什么，结果怎样”的方式来尝试概述故事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5"/>
          <p:cNvGrpSpPr/>
          <p:nvPr/>
        </p:nvGrpSpPr>
        <p:grpSpPr>
          <a:xfrm>
            <a:off x="2822040" y="463320"/>
            <a:ext cx="3045240" cy="5668920"/>
            <a:chOff x="2822040" y="463320"/>
            <a:chExt cx="3045240" cy="5668920"/>
          </a:xfrm>
        </p:grpSpPr>
        <p:sp>
          <p:nvSpPr>
            <p:cNvPr id="565" name="AutoShape 7"/>
            <p:cNvSpPr/>
            <p:nvPr/>
          </p:nvSpPr>
          <p:spPr>
            <a:xfrm>
              <a:off x="3062160" y="1166400"/>
              <a:ext cx="2805120" cy="4965840"/>
            </a:xfrm>
            <a:custGeom>
              <a:avLst/>
              <a:gdLst>
                <a:gd name="textAreaLeft" fmla="*/ 45360 w 2805120"/>
                <a:gd name="textAreaRight" fmla="*/ 2759760 w 2805120"/>
                <a:gd name="textAreaTop" fmla="*/ 45360 h 4965840"/>
                <a:gd name="textAreaBottom" fmla="*/ 4920480 h 4965840"/>
              </a:gdLst>
              <a:ahLst/>
              <a:rect l="textAreaLeft" t="textAreaTop" r="textAreaRight" b="textAreaBottom"/>
              <a:pathLst>
                <a:path w="21600" h="38236">
                  <a:moveTo>
                    <a:pt x="1197" y="0"/>
                  </a:moveTo>
                  <a:arcTo wR="1197" hR="1197" stAng="16200000" swAng="-5400000"/>
                  <a:lnTo>
                    <a:pt x="0" y="37039"/>
                  </a:lnTo>
                  <a:arcTo wR="1197" hR="1197" stAng="10800000" swAng="-5400000"/>
                  <a:lnTo>
                    <a:pt x="20403" y="38236"/>
                  </a:lnTo>
                  <a:arcTo wR="1197" hR="1197" stAng="5400000" swAng="-5400000"/>
                  <a:lnTo>
                    <a:pt x="21600" y="1197"/>
                  </a:lnTo>
                  <a:arcTo wR="1197" hR="1197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3371760" y="882720"/>
              <a:ext cx="122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推进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>
              <a:off x="3182400" y="740880"/>
              <a:ext cx="512640" cy="104040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0"/>
            <p:cNvSpPr/>
            <p:nvPr/>
          </p:nvSpPr>
          <p:spPr>
            <a:xfrm>
              <a:off x="4132800" y="647280"/>
              <a:ext cx="512640" cy="104004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3" descr="未标题-1"/>
            <p:cNvPicPr/>
            <p:nvPr/>
          </p:nvPicPr>
          <p:blipFill>
            <a:blip r:embed="rId3"/>
            <a:stretch/>
          </p:blipFill>
          <p:spPr>
            <a:xfrm rot="2865600">
              <a:off x="2739240" y="837360"/>
              <a:ext cx="1134000" cy="27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15"/>
          <p:cNvGrpSpPr/>
          <p:nvPr/>
        </p:nvGrpSpPr>
        <p:grpSpPr>
          <a:xfrm>
            <a:off x="5735880" y="852840"/>
            <a:ext cx="3047760" cy="5706360"/>
            <a:chOff x="5735880" y="852840"/>
            <a:chExt cx="3047760" cy="5706360"/>
          </a:xfrm>
        </p:grpSpPr>
        <p:sp>
          <p:nvSpPr>
            <p:cNvPr id="571" name="AutoShape 7"/>
            <p:cNvSpPr/>
            <p:nvPr/>
          </p:nvSpPr>
          <p:spPr>
            <a:xfrm>
              <a:off x="5978520" y="1560240"/>
              <a:ext cx="2805120" cy="4998960"/>
            </a:xfrm>
            <a:custGeom>
              <a:avLst/>
              <a:gdLst>
                <a:gd name="textAreaLeft" fmla="*/ 45360 w 2805120"/>
                <a:gd name="textAreaRight" fmla="*/ 2759760 w 2805120"/>
                <a:gd name="textAreaTop" fmla="*/ 45360 h 4998960"/>
                <a:gd name="textAreaBottom" fmla="*/ 4953600 h 4998960"/>
              </a:gdLst>
              <a:ahLst/>
              <a:rect l="textAreaLeft" t="textAreaTop" r="textAreaRight" b="textAreaBottom"/>
              <a:pathLst>
                <a:path w="21600" h="38491">
                  <a:moveTo>
                    <a:pt x="1197" y="0"/>
                  </a:moveTo>
                  <a:arcTo wR="1197" hR="1197" stAng="16200000" swAng="-5400000"/>
                  <a:lnTo>
                    <a:pt x="0" y="37294"/>
                  </a:lnTo>
                  <a:arcTo wR="1197" hR="1197" stAng="10800000" swAng="-5400000"/>
                  <a:lnTo>
                    <a:pt x="20403" y="38491"/>
                  </a:lnTo>
                  <a:arcTo wR="1197" hR="1197" stAng="5400000" swAng="-5400000"/>
                  <a:lnTo>
                    <a:pt x="21600" y="1197"/>
                  </a:lnTo>
                  <a:arcTo wR="1197" hR="1197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6288120" y="1274760"/>
              <a:ext cx="122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总结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4"/>
            <p:cNvSpPr/>
            <p:nvPr/>
          </p:nvSpPr>
          <p:spPr>
            <a:xfrm>
              <a:off x="6098760" y="1131840"/>
              <a:ext cx="512640" cy="104724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0"/>
            <p:cNvSpPr/>
            <p:nvPr/>
          </p:nvSpPr>
          <p:spPr>
            <a:xfrm>
              <a:off x="7049160" y="1037520"/>
              <a:ext cx="512640" cy="104688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5" name="Picture 13" descr="未标题-1"/>
            <p:cNvPicPr/>
            <p:nvPr/>
          </p:nvPicPr>
          <p:blipFill>
            <a:blip r:embed="rId4"/>
            <a:stretch/>
          </p:blipFill>
          <p:spPr>
            <a:xfrm rot="2865600">
              <a:off x="5652000" y="1229400"/>
              <a:ext cx="1141560" cy="27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6" name="Group 26"/>
          <p:cNvGrpSpPr/>
          <p:nvPr/>
        </p:nvGrpSpPr>
        <p:grpSpPr>
          <a:xfrm>
            <a:off x="2994120" y="1454040"/>
            <a:ext cx="3017880" cy="4164120"/>
            <a:chOff x="2994120" y="1454040"/>
            <a:chExt cx="3017880" cy="4164120"/>
          </a:xfrm>
        </p:grpSpPr>
        <p:sp>
          <p:nvSpPr>
            <p:cNvPr id="577" name="Rectangle 16"/>
            <p:cNvSpPr/>
            <p:nvPr/>
          </p:nvSpPr>
          <p:spPr>
            <a:xfrm>
              <a:off x="3098880" y="1454040"/>
              <a:ext cx="2805840" cy="14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抓住关键词、课文插图，关注提示语，体会角色的不同心情，初步了解人物特点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6"/>
            <p:cNvSpPr/>
            <p:nvPr/>
          </p:nvSpPr>
          <p:spPr>
            <a:xfrm>
              <a:off x="2994120" y="2773080"/>
              <a:ext cx="301788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抓住文本的空白处，进行想象或语言表达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6"/>
            <p:cNvSpPr/>
            <p:nvPr/>
          </p:nvSpPr>
          <p:spPr>
            <a:xfrm>
              <a:off x="3031920" y="3919320"/>
              <a:ext cx="2766600" cy="16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引导总结一定的学习方法：找出对话——抓提示语——感情朗读，尝试自主学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30"/>
          <p:cNvGrpSpPr/>
          <p:nvPr/>
        </p:nvGrpSpPr>
        <p:grpSpPr>
          <a:xfrm>
            <a:off x="5929200" y="1974960"/>
            <a:ext cx="3214800" cy="4053960"/>
            <a:chOff x="5929200" y="1974960"/>
            <a:chExt cx="3214800" cy="4053960"/>
          </a:xfrm>
        </p:grpSpPr>
        <p:sp>
          <p:nvSpPr>
            <p:cNvPr id="581" name="Rectangle 16"/>
            <p:cNvSpPr/>
            <p:nvPr/>
          </p:nvSpPr>
          <p:spPr>
            <a:xfrm>
              <a:off x="5976720" y="1974960"/>
              <a:ext cx="2628000" cy="14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回顾学习内容，提炼学习收获，重点引导学生在学习方法、认知水平等方面进行总结和提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6"/>
            <p:cNvSpPr/>
            <p:nvPr/>
          </p:nvSpPr>
          <p:spPr>
            <a:xfrm>
              <a:off x="5929200" y="3611160"/>
              <a:ext cx="321480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选择感兴趣的故事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情节变成课本剧进行表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6"/>
            <p:cNvSpPr/>
            <p:nvPr/>
          </p:nvSpPr>
          <p:spPr>
            <a:xfrm>
              <a:off x="5932080" y="4330440"/>
              <a:ext cx="2768400" cy="16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推荐童话故事，进行学习迁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Picture 12" descr="未标题-12"/>
          <p:cNvPicPr/>
          <p:nvPr/>
        </p:nvPicPr>
        <p:blipFill>
          <a:blip r:embed="rId5"/>
          <a:stretch/>
        </p:blipFill>
        <p:spPr>
          <a:xfrm>
            <a:off x="584280" y="9360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111400" y="334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8"/>
          <p:cNvSpPr/>
          <p:nvPr/>
        </p:nvSpPr>
        <p:spPr>
          <a:xfrm>
            <a:off x="1761480" y="116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名人故事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8" name=""/>
          <p:cNvGraphicFramePr/>
          <p:nvPr/>
        </p:nvGraphicFramePr>
        <p:xfrm>
          <a:off x="665280" y="2187720"/>
          <a:ext cx="7813440" cy="4016160"/>
        </p:xfrm>
        <a:graphic>
          <a:graphicData uri="http://schemas.openxmlformats.org/drawingml/2006/table">
            <a:tbl>
              <a:tblPr/>
              <a:tblGrid>
                <a:gridCol w="1168200"/>
                <a:gridCol w="1563480"/>
                <a:gridCol w="2979720"/>
                <a:gridCol w="2102040"/>
              </a:tblGrid>
              <a:tr h="485280">
                <a:tc gridSpan="4"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七单元——名人故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456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要好好学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人物的语言、动作描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rowSpan="5"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听懂故事内容（依据人物的关系、关键的事件、事件的发展）学会用“谁干什么”这个支架简要概括课文内容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75096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朱德的扁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环境描写，人物外貌描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梅兰芳学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事情发展顺序刻画，眼神的变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大禹治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插叙的写作手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孔繁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典型片段的刻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89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4720" y="-32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8"/>
          <p:cNvSpPr/>
          <p:nvPr/>
        </p:nvSpPr>
        <p:spPr>
          <a:xfrm>
            <a:off x="1946160" y="116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名人故事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5"/>
          <p:cNvSpPr/>
          <p:nvPr/>
        </p:nvSpPr>
        <p:spPr>
          <a:xfrm>
            <a:off x="1582560" y="1882800"/>
            <a:ext cx="561528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7"/>
          <p:cNvSpPr/>
          <p:nvPr/>
        </p:nvSpPr>
        <p:spPr>
          <a:xfrm>
            <a:off x="2938320" y="4114800"/>
            <a:ext cx="395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交流人物的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6"/>
          <p:cNvSpPr/>
          <p:nvPr/>
        </p:nvSpPr>
        <p:spPr>
          <a:xfrm>
            <a:off x="2832120" y="2101680"/>
            <a:ext cx="3957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了解人物的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2901960" y="303840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说说人物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箭头 941"/>
          <p:cNvSpPr/>
          <p:nvPr/>
        </p:nvSpPr>
        <p:spPr>
          <a:xfrm>
            <a:off x="4282920" y="2708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箭头 941"/>
          <p:cNvSpPr/>
          <p:nvPr/>
        </p:nvSpPr>
        <p:spPr>
          <a:xfrm>
            <a:off x="4287960" y="385128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7"/>
          <p:cNvSpPr/>
          <p:nvPr/>
        </p:nvSpPr>
        <p:spPr>
          <a:xfrm>
            <a:off x="2994120" y="506088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丰厚人物的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箭头 941"/>
          <p:cNvSpPr/>
          <p:nvPr/>
        </p:nvSpPr>
        <p:spPr>
          <a:xfrm>
            <a:off x="4267080" y="4791240"/>
            <a:ext cx="18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0880" y="-111240"/>
            <a:ext cx="82296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1771920" y="11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诗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5" name=""/>
          <p:cNvGraphicFramePr/>
          <p:nvPr/>
        </p:nvGraphicFramePr>
        <p:xfrm>
          <a:off x="1266840" y="1955880"/>
          <a:ext cx="6956280" cy="3213000"/>
        </p:xfrm>
        <a:graphic>
          <a:graphicData uri="http://schemas.openxmlformats.org/drawingml/2006/table">
            <a:tbl>
              <a:tblPr/>
              <a:tblGrid>
                <a:gridCol w="1114560"/>
                <a:gridCol w="2271600"/>
                <a:gridCol w="3570120"/>
              </a:tblGrid>
              <a:tr h="80316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乡下孩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句式工整，比喻手法的运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80352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送给盲婆婆的蝈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叙事方式写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80316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株紫丁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儿童口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80316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水乡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问答形式，反复句式，节奏感鲜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pic>
        <p:nvPicPr>
          <p:cNvPr id="606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1797120" y="1341360"/>
            <a:ext cx="57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年龄特点，了解儿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868400" y="2314440"/>
            <a:ext cx="55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课标特征，明晰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660680" y="33210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教材特点，扎实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40040" y="4344840"/>
            <a:ext cx="52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课型特点，方法迁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7"/>
          <p:cNvGrpSpPr/>
          <p:nvPr/>
        </p:nvGrpSpPr>
        <p:grpSpPr>
          <a:xfrm>
            <a:off x="1360800" y="1126800"/>
            <a:ext cx="6934680" cy="1135440"/>
            <a:chOff x="1360800" y="1126800"/>
            <a:chExt cx="6934680" cy="1135440"/>
          </a:xfrm>
        </p:grpSpPr>
        <p:sp>
          <p:nvSpPr>
            <p:cNvPr id="128" name="Line 6"/>
            <p:cNvSpPr/>
            <p:nvPr/>
          </p:nvSpPr>
          <p:spPr>
            <a:xfrm>
              <a:off x="2266560" y="1844640"/>
              <a:ext cx="602892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22" descr="未标题-1"/>
            <p:cNvPicPr/>
            <p:nvPr/>
          </p:nvPicPr>
          <p:blipFill>
            <a:blip r:embed="rId1"/>
            <a:stretch/>
          </p:blipFill>
          <p:spPr>
            <a:xfrm rot="3476400">
              <a:off x="1600200" y="1209240"/>
              <a:ext cx="731880" cy="97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28"/>
          <p:cNvGrpSpPr/>
          <p:nvPr/>
        </p:nvGrpSpPr>
        <p:grpSpPr>
          <a:xfrm>
            <a:off x="1359720" y="2472840"/>
            <a:ext cx="6826680" cy="1067400"/>
            <a:chOff x="1359720" y="2472840"/>
            <a:chExt cx="6826680" cy="1067400"/>
          </a:xfrm>
        </p:grpSpPr>
        <p:sp>
          <p:nvSpPr>
            <p:cNvPr id="131" name="Line 9"/>
            <p:cNvSpPr/>
            <p:nvPr/>
          </p:nvSpPr>
          <p:spPr>
            <a:xfrm>
              <a:off x="2215800" y="2806560"/>
              <a:ext cx="597060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23" descr="未标题-1"/>
            <p:cNvPicPr/>
            <p:nvPr/>
          </p:nvPicPr>
          <p:blipFill>
            <a:blip r:embed="rId2"/>
            <a:stretch/>
          </p:blipFill>
          <p:spPr>
            <a:xfrm rot="20134800">
              <a:off x="1447560" y="2673000"/>
              <a:ext cx="111348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24" descr="未标题-1"/>
          <p:cNvPicPr/>
          <p:nvPr/>
        </p:nvPicPr>
        <p:blipFill>
          <a:blip r:embed="rId3"/>
          <a:stretch/>
        </p:blipFill>
        <p:spPr>
          <a:xfrm rot="3476400">
            <a:off x="1788120" y="2351880"/>
            <a:ext cx="623880" cy="6667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9"/>
          <p:cNvGrpSpPr/>
          <p:nvPr/>
        </p:nvGrpSpPr>
        <p:grpSpPr>
          <a:xfrm>
            <a:off x="1629720" y="3596400"/>
            <a:ext cx="6483240" cy="836280"/>
            <a:chOff x="1629720" y="3596400"/>
            <a:chExt cx="6483240" cy="836280"/>
          </a:xfrm>
        </p:grpSpPr>
        <p:sp>
          <p:nvSpPr>
            <p:cNvPr id="135" name="Line 13"/>
            <p:cNvSpPr/>
            <p:nvPr/>
          </p:nvSpPr>
          <p:spPr>
            <a:xfrm>
              <a:off x="2269440" y="3840120"/>
              <a:ext cx="584352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25" descr="未标题-1"/>
            <p:cNvPicPr/>
            <p:nvPr/>
          </p:nvPicPr>
          <p:blipFill>
            <a:blip r:embed="rId4"/>
            <a:stretch/>
          </p:blipFill>
          <p:spPr>
            <a:xfrm rot="20721600">
              <a:off x="1701360" y="3681000"/>
              <a:ext cx="75564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30"/>
          <p:cNvGrpSpPr/>
          <p:nvPr/>
        </p:nvGrpSpPr>
        <p:grpSpPr>
          <a:xfrm>
            <a:off x="1516680" y="4228560"/>
            <a:ext cx="6669720" cy="788760"/>
            <a:chOff x="1516680" y="4228560"/>
            <a:chExt cx="6669720" cy="788760"/>
          </a:xfrm>
        </p:grpSpPr>
        <p:sp>
          <p:nvSpPr>
            <p:cNvPr id="138" name="Line 16"/>
            <p:cNvSpPr/>
            <p:nvPr/>
          </p:nvSpPr>
          <p:spPr>
            <a:xfrm>
              <a:off x="2222280" y="4857480"/>
              <a:ext cx="596412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26" descr="未标题-1"/>
            <p:cNvPicPr/>
            <p:nvPr/>
          </p:nvPicPr>
          <p:blipFill>
            <a:blip r:embed="rId5"/>
            <a:stretch/>
          </p:blipFill>
          <p:spPr>
            <a:xfrm rot="4855800">
              <a:off x="1666440" y="4189320"/>
              <a:ext cx="660240" cy="86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623600" y="11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诗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610" name="AutoShape 5"/>
          <p:cNvSpPr/>
          <p:nvPr/>
        </p:nvSpPr>
        <p:spPr>
          <a:xfrm>
            <a:off x="1582560" y="1882800"/>
            <a:ext cx="518004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7"/>
          <p:cNvSpPr/>
          <p:nvPr/>
        </p:nvSpPr>
        <p:spPr>
          <a:xfrm>
            <a:off x="2617920" y="372420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情境品读，揣摩意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6"/>
          <p:cNvSpPr/>
          <p:nvPr/>
        </p:nvSpPr>
        <p:spPr>
          <a:xfrm>
            <a:off x="2511360" y="210168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导入诗歌，初读感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7"/>
          <p:cNvSpPr/>
          <p:nvPr/>
        </p:nvSpPr>
        <p:spPr>
          <a:xfrm>
            <a:off x="2583000" y="282420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促发感知，积淀表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箭头 941"/>
          <p:cNvSpPr/>
          <p:nvPr/>
        </p:nvSpPr>
        <p:spPr>
          <a:xfrm>
            <a:off x="4176720" y="2708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箭头 941"/>
          <p:cNvSpPr/>
          <p:nvPr/>
        </p:nvSpPr>
        <p:spPr>
          <a:xfrm>
            <a:off x="4181400" y="34956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7"/>
          <p:cNvSpPr/>
          <p:nvPr/>
        </p:nvSpPr>
        <p:spPr>
          <a:xfrm>
            <a:off x="2673360" y="4527720"/>
            <a:ext cx="3957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导诵读，体味诗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箭头 941"/>
          <p:cNvSpPr/>
          <p:nvPr/>
        </p:nvSpPr>
        <p:spPr>
          <a:xfrm>
            <a:off x="4197240" y="43639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7"/>
          <p:cNvSpPr/>
          <p:nvPr/>
        </p:nvSpPr>
        <p:spPr>
          <a:xfrm>
            <a:off x="2658960" y="5294160"/>
            <a:ext cx="3957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指导仿写，学会表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箭头 941"/>
          <p:cNvSpPr/>
          <p:nvPr/>
        </p:nvSpPr>
        <p:spPr>
          <a:xfrm>
            <a:off x="4216320" y="5165640"/>
            <a:ext cx="18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12" descr="未标题-12"/>
          <p:cNvPicPr/>
          <p:nvPr/>
        </p:nvPicPr>
        <p:blipFill>
          <a:blip r:embed="rId2"/>
          <a:stretch/>
        </p:blipFill>
        <p:spPr>
          <a:xfrm>
            <a:off x="584280" y="1054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614680" y="-3240"/>
            <a:ext cx="7215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8"/>
          <p:cNvSpPr/>
          <p:nvPr/>
        </p:nvSpPr>
        <p:spPr>
          <a:xfrm>
            <a:off x="1715400" y="116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写景状物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4" name=""/>
          <p:cNvGraphicFramePr/>
          <p:nvPr/>
        </p:nvGraphicFramePr>
        <p:xfrm>
          <a:off x="1230480" y="1967040"/>
          <a:ext cx="7175160" cy="2155680"/>
        </p:xfrm>
        <a:graphic>
          <a:graphicData uri="http://schemas.openxmlformats.org/drawingml/2006/table">
            <a:tbl>
              <a:tblPr/>
              <a:tblGrid>
                <a:gridCol w="1329840"/>
                <a:gridCol w="2117880"/>
                <a:gridCol w="3727440"/>
              </a:tblGrid>
              <a:tr h="58752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美丽的丹顶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总分总的构段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58716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云房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句子对仗美，云房子的姿态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98100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夕阳真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按“西斜——下沉——落山”顺序，感受夕阳的变化美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pic>
        <p:nvPicPr>
          <p:cNvPr id="625" name="Picture 12" descr="未标题-12"/>
          <p:cNvPicPr/>
          <p:nvPr/>
        </p:nvPicPr>
        <p:blipFill>
          <a:blip r:embed="rId2"/>
          <a:stretch/>
        </p:blipFill>
        <p:spPr>
          <a:xfrm>
            <a:off x="519120" y="946080"/>
            <a:ext cx="84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8"/>
          <p:cNvSpPr/>
          <p:nvPr/>
        </p:nvSpPr>
        <p:spPr>
          <a:xfrm>
            <a:off x="1715400" y="116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写景状物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92" descr="未标题-8"/>
          <p:cNvPicPr/>
          <p:nvPr/>
        </p:nvPicPr>
        <p:blipFill>
          <a:blip r:embed="rId1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sp>
        <p:nvSpPr>
          <p:cNvPr id="628" name="AutoShape 5"/>
          <p:cNvSpPr/>
          <p:nvPr/>
        </p:nvSpPr>
        <p:spPr>
          <a:xfrm>
            <a:off x="1582560" y="1882800"/>
            <a:ext cx="5615280" cy="43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2227320" y="3724200"/>
            <a:ext cx="4438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握顺序，理清结构层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6"/>
          <p:cNvSpPr/>
          <p:nvPr/>
        </p:nvSpPr>
        <p:spPr>
          <a:xfrm>
            <a:off x="2157480" y="2101680"/>
            <a:ext cx="4437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设情境，激发阅读兴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2227320" y="2825640"/>
            <a:ext cx="4438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初读课文，整体感知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箭头 941"/>
          <p:cNvSpPr/>
          <p:nvPr/>
        </p:nvSpPr>
        <p:spPr>
          <a:xfrm>
            <a:off x="4176720" y="277812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箭头 941"/>
          <p:cNvSpPr/>
          <p:nvPr/>
        </p:nvSpPr>
        <p:spPr>
          <a:xfrm flipH="1">
            <a:off x="4176360" y="3602160"/>
            <a:ext cx="4680" cy="29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7"/>
          <p:cNvSpPr/>
          <p:nvPr/>
        </p:nvSpPr>
        <p:spPr>
          <a:xfrm>
            <a:off x="2247840" y="4527720"/>
            <a:ext cx="4438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赏析语言，感知景物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箭头 941"/>
          <p:cNvSpPr/>
          <p:nvPr/>
        </p:nvSpPr>
        <p:spPr>
          <a:xfrm>
            <a:off x="4197240" y="4363920"/>
            <a:ext cx="1440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7"/>
          <p:cNvSpPr/>
          <p:nvPr/>
        </p:nvSpPr>
        <p:spPr>
          <a:xfrm>
            <a:off x="2303640" y="5294160"/>
            <a:ext cx="4438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体悟情感，领略独特韵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箭头 941"/>
          <p:cNvSpPr/>
          <p:nvPr/>
        </p:nvSpPr>
        <p:spPr>
          <a:xfrm flipH="1">
            <a:off x="4213080" y="5165640"/>
            <a:ext cx="504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12" descr="未标题-12"/>
          <p:cNvPicPr/>
          <p:nvPr/>
        </p:nvPicPr>
        <p:blipFill>
          <a:blip r:embed="rId2"/>
          <a:stretch/>
        </p:blipFill>
        <p:spPr>
          <a:xfrm>
            <a:off x="519120" y="1054080"/>
            <a:ext cx="841320" cy="8254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9"/>
          <p:cNvSpPr/>
          <p:nvPr/>
        </p:nvSpPr>
        <p:spPr>
          <a:xfrm>
            <a:off x="2855880" y="25560"/>
            <a:ext cx="6707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1079640" y="3920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4" descr="未标题-2"/>
          <p:cNvPicPr/>
          <p:nvPr/>
        </p:nvPicPr>
        <p:blipFill>
          <a:blip r:embed="rId1"/>
          <a:stretch/>
        </p:blipFill>
        <p:spPr>
          <a:xfrm>
            <a:off x="7236000" y="2241720"/>
            <a:ext cx="457200" cy="3943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2444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18"/>
          <p:cNvSpPr/>
          <p:nvPr/>
        </p:nvSpPr>
        <p:spPr>
          <a:xfrm>
            <a:off x="3746520" y="461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勤查字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" descr="未标题-2"/>
          <p:cNvPicPr/>
          <p:nvPr/>
        </p:nvPicPr>
        <p:blipFill>
          <a:blip r:embed="rId3"/>
          <a:stretch/>
        </p:blipFill>
        <p:spPr>
          <a:xfrm>
            <a:off x="7378560" y="392040"/>
            <a:ext cx="289080" cy="792360"/>
          </a:xfrm>
          <a:prstGeom prst="rect">
            <a:avLst/>
          </a:prstGeom>
          <a:ln w="0">
            <a:noFill/>
          </a:ln>
        </p:spPr>
      </p:pic>
      <p:grpSp>
        <p:nvGrpSpPr>
          <p:cNvPr id="645" name="组合 10"/>
          <p:cNvGrpSpPr/>
          <p:nvPr/>
        </p:nvGrpSpPr>
        <p:grpSpPr>
          <a:xfrm>
            <a:off x="498600" y="1420920"/>
            <a:ext cx="7797600" cy="4967280"/>
            <a:chOff x="498600" y="1420920"/>
            <a:chExt cx="7797600" cy="4967280"/>
          </a:xfrm>
        </p:grpSpPr>
        <p:pic>
          <p:nvPicPr>
            <p:cNvPr id="646" name="Picture 8" descr="018_jpg"/>
            <p:cNvPicPr/>
            <p:nvPr/>
          </p:nvPicPr>
          <p:blipFill>
            <a:blip r:embed="rId4"/>
            <a:stretch/>
          </p:blipFill>
          <p:spPr>
            <a:xfrm>
              <a:off x="498600" y="1708200"/>
              <a:ext cx="3197160" cy="46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9" descr="035_jpg"/>
            <p:cNvPicPr/>
            <p:nvPr/>
          </p:nvPicPr>
          <p:blipFill>
            <a:blip r:embed="rId5"/>
            <a:stretch/>
          </p:blipFill>
          <p:spPr>
            <a:xfrm>
              <a:off x="2736720" y="1420920"/>
              <a:ext cx="3195360" cy="46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10" descr="050_jpg"/>
            <p:cNvPicPr/>
            <p:nvPr/>
          </p:nvPicPr>
          <p:blipFill>
            <a:blip r:embed="rId6"/>
            <a:stretch/>
          </p:blipFill>
          <p:spPr>
            <a:xfrm>
              <a:off x="5083200" y="1709640"/>
              <a:ext cx="3213000" cy="46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4"/>
          <p:cNvSpPr/>
          <p:nvPr/>
        </p:nvSpPr>
        <p:spPr>
          <a:xfrm>
            <a:off x="1081080" y="1306440"/>
            <a:ext cx="719928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192" descr="未标题-8"/>
          <p:cNvPicPr/>
          <p:nvPr/>
        </p:nvPicPr>
        <p:blipFill>
          <a:blip r:embed="rId1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18"/>
          <p:cNvSpPr/>
          <p:nvPr/>
        </p:nvSpPr>
        <p:spPr>
          <a:xfrm>
            <a:off x="3746520" y="13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口语交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92" descr="未标题-8"/>
          <p:cNvPicPr/>
          <p:nvPr/>
        </p:nvPicPr>
        <p:blipFill>
          <a:blip r:embed="rId2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3" name=""/>
          <p:cNvGraphicFramePr/>
          <p:nvPr/>
        </p:nvGraphicFramePr>
        <p:xfrm>
          <a:off x="546120" y="2241720"/>
          <a:ext cx="8134200" cy="3342960"/>
        </p:xfrm>
        <a:graphic>
          <a:graphicData uri="http://schemas.openxmlformats.org/drawingml/2006/table">
            <a:tbl>
              <a:tblPr/>
              <a:tblGrid>
                <a:gridCol w="849240"/>
                <a:gridCol w="2227320"/>
                <a:gridCol w="5057640"/>
              </a:tblGrid>
              <a:tr h="47448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学会祝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做贺卡  写祝贺语   当面送祝福时的交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014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学会请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婉转地提出自己的要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032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问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怎样问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032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买文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学会买东西时与人的对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032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我长大了做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谈长大后做什么工作，说说理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0176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看望生病的同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当面送问候，代人传达祝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5252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学会待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看懂图意，分角色表演，练习把话补充完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4032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我打算这样过寒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小组讨论，有序介绍如何过寒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sp>
        <p:nvSpPr>
          <p:cNvPr id="654" name="Rectangle 9"/>
          <p:cNvSpPr/>
          <p:nvPr/>
        </p:nvSpPr>
        <p:spPr>
          <a:xfrm>
            <a:off x="2855880" y="25560"/>
            <a:ext cx="6707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4"/>
          <p:cNvGrpSpPr/>
          <p:nvPr/>
        </p:nvGrpSpPr>
        <p:grpSpPr>
          <a:xfrm>
            <a:off x="1044720" y="2241720"/>
            <a:ext cx="6648120" cy="3958560"/>
            <a:chOff x="1044720" y="2241720"/>
            <a:chExt cx="6648120" cy="3958560"/>
          </a:xfrm>
        </p:grpSpPr>
        <p:sp>
          <p:nvSpPr>
            <p:cNvPr id="657" name="Rectangle 13"/>
            <p:cNvSpPr/>
            <p:nvPr/>
          </p:nvSpPr>
          <p:spPr>
            <a:xfrm>
              <a:off x="1044720" y="2277000"/>
              <a:ext cx="6586920" cy="392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de5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Picture 14" descr="未标题-2"/>
            <p:cNvPicPr/>
            <p:nvPr/>
          </p:nvPicPr>
          <p:blipFill>
            <a:blip r:embed="rId1"/>
            <a:stretch/>
          </p:blipFill>
          <p:spPr>
            <a:xfrm>
              <a:off x="7236000" y="2241720"/>
              <a:ext cx="456840" cy="394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9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18"/>
          <p:cNvSpPr/>
          <p:nvPr/>
        </p:nvSpPr>
        <p:spPr>
          <a:xfrm>
            <a:off x="381852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口语交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7"/>
          <p:cNvSpPr/>
          <p:nvPr/>
        </p:nvSpPr>
        <p:spPr>
          <a:xfrm>
            <a:off x="3438360" y="4260960"/>
            <a:ext cx="2033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向互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6"/>
          <p:cNvSpPr/>
          <p:nvPr/>
        </p:nvSpPr>
        <p:spPr>
          <a:xfrm>
            <a:off x="3438360" y="2565360"/>
            <a:ext cx="2106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话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7"/>
          <p:cNvSpPr/>
          <p:nvPr/>
        </p:nvSpPr>
        <p:spPr>
          <a:xfrm>
            <a:off x="3436920" y="3360600"/>
            <a:ext cx="2081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设情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17"/>
          <p:cNvSpPr/>
          <p:nvPr/>
        </p:nvSpPr>
        <p:spPr>
          <a:xfrm>
            <a:off x="3422520" y="5062680"/>
            <a:ext cx="2035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与实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箭头 941"/>
          <p:cNvSpPr/>
          <p:nvPr/>
        </p:nvSpPr>
        <p:spPr>
          <a:xfrm>
            <a:off x="4216320" y="3139920"/>
            <a:ext cx="18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箭头 941"/>
          <p:cNvSpPr/>
          <p:nvPr/>
        </p:nvSpPr>
        <p:spPr>
          <a:xfrm>
            <a:off x="4202280" y="4013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箭头 941"/>
          <p:cNvSpPr/>
          <p:nvPr/>
        </p:nvSpPr>
        <p:spPr>
          <a:xfrm>
            <a:off x="4222800" y="485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2855880" y="25560"/>
            <a:ext cx="6707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4"/>
          <p:cNvGrpSpPr/>
          <p:nvPr/>
        </p:nvGrpSpPr>
        <p:grpSpPr>
          <a:xfrm>
            <a:off x="1044720" y="2241720"/>
            <a:ext cx="6648120" cy="3958560"/>
            <a:chOff x="1044720" y="2241720"/>
            <a:chExt cx="6648120" cy="3958560"/>
          </a:xfrm>
        </p:grpSpPr>
        <p:sp>
          <p:nvSpPr>
            <p:cNvPr id="672" name="Rectangle 13"/>
            <p:cNvSpPr/>
            <p:nvPr/>
          </p:nvSpPr>
          <p:spPr>
            <a:xfrm>
              <a:off x="1044720" y="2277000"/>
              <a:ext cx="6586920" cy="392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de5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Picture 14" descr="未标题-2"/>
            <p:cNvPicPr/>
            <p:nvPr/>
          </p:nvPicPr>
          <p:blipFill>
            <a:blip r:embed="rId1"/>
            <a:stretch/>
          </p:blipFill>
          <p:spPr>
            <a:xfrm>
              <a:off x="7236000" y="2241720"/>
              <a:ext cx="456840" cy="394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4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18"/>
          <p:cNvSpPr/>
          <p:nvPr/>
        </p:nvSpPr>
        <p:spPr>
          <a:xfrm>
            <a:off x="381852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口语交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7"/>
          <p:cNvSpPr/>
          <p:nvPr/>
        </p:nvSpPr>
        <p:spPr>
          <a:xfrm>
            <a:off x="1374840" y="4259160"/>
            <a:ext cx="5976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增加口语交际的实践机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6"/>
          <p:cNvSpPr/>
          <p:nvPr/>
        </p:nvSpPr>
        <p:spPr>
          <a:xfrm>
            <a:off x="1374840" y="2565360"/>
            <a:ext cx="6186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创设与生活实际相似的交际情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7"/>
          <p:cNvSpPr/>
          <p:nvPr/>
        </p:nvSpPr>
        <p:spPr>
          <a:xfrm>
            <a:off x="1374840" y="3359160"/>
            <a:ext cx="6114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教学中实现口语交际的双向互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9"/>
          <p:cNvSpPr/>
          <p:nvPr/>
        </p:nvSpPr>
        <p:spPr>
          <a:xfrm>
            <a:off x="2855880" y="25560"/>
            <a:ext cx="6707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4"/>
          <p:cNvSpPr/>
          <p:nvPr/>
        </p:nvSpPr>
        <p:spPr>
          <a:xfrm>
            <a:off x="1081080" y="909720"/>
            <a:ext cx="719928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92" descr="未标题-8"/>
          <p:cNvPicPr/>
          <p:nvPr/>
        </p:nvPicPr>
        <p:blipFill>
          <a:blip r:embed="rId1"/>
          <a:stretch/>
        </p:blipFill>
        <p:spPr>
          <a:xfrm rot="9556200">
            <a:off x="966240" y="90972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8"/>
          <p:cNvSpPr/>
          <p:nvPr/>
        </p:nvSpPr>
        <p:spPr>
          <a:xfrm>
            <a:off x="3746520" y="982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写话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92" descr="未标题-8"/>
          <p:cNvPicPr/>
          <p:nvPr/>
        </p:nvPicPr>
        <p:blipFill>
          <a:blip r:embed="rId2"/>
          <a:stretch/>
        </p:blipFill>
        <p:spPr>
          <a:xfrm rot="20416200">
            <a:off x="7664040" y="5517720"/>
            <a:ext cx="115272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5" name=""/>
          <p:cNvGraphicFramePr/>
          <p:nvPr/>
        </p:nvGraphicFramePr>
        <p:xfrm>
          <a:off x="506520" y="1822320"/>
          <a:ext cx="8043840" cy="4587840"/>
        </p:xfrm>
        <a:graphic>
          <a:graphicData uri="http://schemas.openxmlformats.org/drawingml/2006/table">
            <a:tbl>
              <a:tblPr/>
              <a:tblGrid>
                <a:gridCol w="2860560"/>
                <a:gridCol w="2994120"/>
                <a:gridCol w="2189160"/>
              </a:tblGrid>
              <a:tr h="3996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《秋游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用“有的……有的……”说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rowSpan="5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能用学过的部分词语写通顺的句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3996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《小鹰学飞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用“已经”说话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《狼和小羊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初步感知反问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课《梅兰芳学艺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用“终于”造句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76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说说写写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任选动词，照样子写句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做做说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秋天到了，观察大自然有哪些变化。将自己找到的秋天画下来或写下来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观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3996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做做说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买菜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实践体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f6f5"/>
                    </a:solidFill>
                  </a:tcPr>
                </a:tc>
              </a:tr>
              <a:tr h="70452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练习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学用字词句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看足球比赛图，想想同学们在干什么，再写几句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看图写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e8f6f5"/>
                    </a:solidFill>
                  </a:tcPr>
                </a:tc>
              </a:tr>
            </a:tbl>
          </a:graphicData>
        </a:graphic>
      </p:graphicFrame>
      <p:sp>
        <p:nvSpPr>
          <p:cNvPr id="686" name="Rectangle 9"/>
          <p:cNvSpPr/>
          <p:nvPr/>
        </p:nvSpPr>
        <p:spPr>
          <a:xfrm>
            <a:off x="2855880" y="25560"/>
            <a:ext cx="6707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1079640" y="1306440"/>
            <a:ext cx="6588000" cy="7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720720" y="2205000"/>
            <a:ext cx="7597800" cy="3957480"/>
            <a:chOff x="720720" y="2205000"/>
            <a:chExt cx="7597800" cy="3957480"/>
          </a:xfrm>
        </p:grpSpPr>
        <p:sp>
          <p:nvSpPr>
            <p:cNvPr id="689" name="Rectangle 13"/>
            <p:cNvSpPr/>
            <p:nvPr/>
          </p:nvSpPr>
          <p:spPr>
            <a:xfrm>
              <a:off x="720720" y="2240280"/>
              <a:ext cx="7527240" cy="3922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de5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0" name="Picture 14" descr="未标题-2"/>
            <p:cNvPicPr/>
            <p:nvPr/>
          </p:nvPicPr>
          <p:blipFill>
            <a:blip r:embed="rId1"/>
            <a:stretch/>
          </p:blipFill>
          <p:spPr>
            <a:xfrm>
              <a:off x="7796160" y="2205000"/>
              <a:ext cx="522360" cy="394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1" name="Picture 192" descr="未标题-8"/>
          <p:cNvPicPr/>
          <p:nvPr/>
        </p:nvPicPr>
        <p:blipFill>
          <a:blip r:embed="rId2"/>
          <a:stretch/>
        </p:blipFill>
        <p:spPr>
          <a:xfrm rot="9556200">
            <a:off x="966240" y="1158840"/>
            <a:ext cx="1152360" cy="89064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18"/>
          <p:cNvSpPr/>
          <p:nvPr/>
        </p:nvSpPr>
        <p:spPr>
          <a:xfrm>
            <a:off x="381852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写话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7"/>
          <p:cNvSpPr/>
          <p:nvPr/>
        </p:nvSpPr>
        <p:spPr>
          <a:xfrm>
            <a:off x="797040" y="3179880"/>
            <a:ext cx="3724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口语交际内容写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6"/>
          <p:cNvSpPr/>
          <p:nvPr/>
        </p:nvSpPr>
        <p:spPr>
          <a:xfrm>
            <a:off x="806400" y="2567160"/>
            <a:ext cx="2511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落实造句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7"/>
          <p:cNvSpPr/>
          <p:nvPr/>
        </p:nvSpPr>
        <p:spPr>
          <a:xfrm>
            <a:off x="4749840" y="2602080"/>
            <a:ext cx="3421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用词串词练习写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5" descr="未标题-2"/>
          <p:cNvPicPr/>
          <p:nvPr/>
        </p:nvPicPr>
        <p:blipFill>
          <a:blip r:embed="rId3"/>
          <a:stretch/>
        </p:blipFill>
        <p:spPr>
          <a:xfrm>
            <a:off x="7378560" y="1306440"/>
            <a:ext cx="289080" cy="79236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7"/>
          <p:cNvSpPr/>
          <p:nvPr/>
        </p:nvSpPr>
        <p:spPr>
          <a:xfrm>
            <a:off x="4734000" y="3156120"/>
            <a:ext cx="3421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续编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817560" y="4444920"/>
            <a:ext cx="3724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观察情境图写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6"/>
          <p:cNvSpPr/>
          <p:nvPr/>
        </p:nvSpPr>
        <p:spPr>
          <a:xfrm>
            <a:off x="826920" y="3832200"/>
            <a:ext cx="2509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仿写儿童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7"/>
          <p:cNvSpPr/>
          <p:nvPr/>
        </p:nvSpPr>
        <p:spPr>
          <a:xfrm>
            <a:off x="4770360" y="3724200"/>
            <a:ext cx="3421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补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7"/>
          <p:cNvSpPr/>
          <p:nvPr/>
        </p:nvSpPr>
        <p:spPr>
          <a:xfrm>
            <a:off x="4754520" y="4419720"/>
            <a:ext cx="3421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生活中写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7"/>
          <p:cNvSpPr/>
          <p:nvPr/>
        </p:nvSpPr>
        <p:spPr>
          <a:xfrm>
            <a:off x="838080" y="4998960"/>
            <a:ext cx="37245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画画作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2855880" y="25560"/>
            <a:ext cx="6707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55520" y="25560"/>
            <a:ext cx="6707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把握课型特点，方法迁移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8"/>
          <p:cNvSpPr/>
          <p:nvPr/>
        </p:nvSpPr>
        <p:spPr>
          <a:xfrm>
            <a:off x="2291760" y="1055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写话训练注意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2637000" y="3117960"/>
            <a:ext cx="3213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时进行改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6"/>
          <p:cNvSpPr/>
          <p:nvPr/>
        </p:nvSpPr>
        <p:spPr>
          <a:xfrm>
            <a:off x="1577880" y="2151000"/>
            <a:ext cx="4564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倡导“多说少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2" descr="未标题-12"/>
          <p:cNvPicPr/>
          <p:nvPr/>
        </p:nvPicPr>
        <p:blipFill>
          <a:blip r:embed="rId1"/>
          <a:stretch/>
        </p:blipFill>
        <p:spPr>
          <a:xfrm>
            <a:off x="555480" y="909720"/>
            <a:ext cx="843120" cy="8254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17"/>
          <p:cNvSpPr/>
          <p:nvPr/>
        </p:nvSpPr>
        <p:spPr>
          <a:xfrm>
            <a:off x="3987720" y="4030560"/>
            <a:ext cx="317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重写话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年龄特点，了解儿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8"/>
          <p:cNvGrpSpPr/>
          <p:nvPr/>
        </p:nvGrpSpPr>
        <p:grpSpPr>
          <a:xfrm>
            <a:off x="1290600" y="1343160"/>
            <a:ext cx="1530000" cy="996840"/>
            <a:chOff x="1290600" y="1343160"/>
            <a:chExt cx="1530000" cy="996840"/>
          </a:xfrm>
        </p:grpSpPr>
        <p:sp>
          <p:nvSpPr>
            <p:cNvPr id="142" name="Oval 6"/>
            <p:cNvSpPr/>
            <p:nvPr/>
          </p:nvSpPr>
          <p:spPr>
            <a:xfrm>
              <a:off x="1290600" y="1343160"/>
              <a:ext cx="1078560" cy="9968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1391040" y="1440360"/>
              <a:ext cx="878760" cy="801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0"/>
            <p:cNvSpPr/>
            <p:nvPr/>
          </p:nvSpPr>
          <p:spPr>
            <a:xfrm>
              <a:off x="2369160" y="1829520"/>
              <a:ext cx="45144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11"/>
          <p:cNvSpPr/>
          <p:nvPr/>
        </p:nvSpPr>
        <p:spPr>
          <a:xfrm>
            <a:off x="3125880" y="1411200"/>
            <a:ext cx="360180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9"/>
          <p:cNvGrpSpPr/>
          <p:nvPr/>
        </p:nvGrpSpPr>
        <p:grpSpPr>
          <a:xfrm>
            <a:off x="1290600" y="2571840"/>
            <a:ext cx="1530000" cy="998280"/>
            <a:chOff x="1290600" y="2571840"/>
            <a:chExt cx="1530000" cy="998280"/>
          </a:xfrm>
        </p:grpSpPr>
        <p:sp>
          <p:nvSpPr>
            <p:cNvPr id="147" name="Oval 20"/>
            <p:cNvSpPr/>
            <p:nvPr/>
          </p:nvSpPr>
          <p:spPr>
            <a:xfrm>
              <a:off x="1290600" y="2571840"/>
              <a:ext cx="1078560" cy="998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1"/>
            <p:cNvSpPr/>
            <p:nvPr/>
          </p:nvSpPr>
          <p:spPr>
            <a:xfrm>
              <a:off x="1391040" y="2669400"/>
              <a:ext cx="878760" cy="802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>
              <a:off x="2369160" y="305892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23"/>
          <p:cNvSpPr/>
          <p:nvPr/>
        </p:nvSpPr>
        <p:spPr>
          <a:xfrm>
            <a:off x="3133800" y="2598840"/>
            <a:ext cx="3601800" cy="850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5"/>
          <p:cNvGrpSpPr/>
          <p:nvPr/>
        </p:nvGrpSpPr>
        <p:grpSpPr>
          <a:xfrm>
            <a:off x="1255680" y="3835440"/>
            <a:ext cx="1530000" cy="998640"/>
            <a:chOff x="1255680" y="3835440"/>
            <a:chExt cx="1530000" cy="998640"/>
          </a:xfrm>
        </p:grpSpPr>
        <p:sp>
          <p:nvSpPr>
            <p:cNvPr id="152" name="Oval 26"/>
            <p:cNvSpPr/>
            <p:nvPr/>
          </p:nvSpPr>
          <p:spPr>
            <a:xfrm>
              <a:off x="1255680" y="3835440"/>
              <a:ext cx="1078560" cy="9986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7"/>
            <p:cNvSpPr/>
            <p:nvPr/>
          </p:nvSpPr>
          <p:spPr>
            <a:xfrm>
              <a:off x="1356120" y="3933000"/>
              <a:ext cx="878760" cy="803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2334240" y="4322880"/>
              <a:ext cx="45144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AutoShape 29"/>
          <p:cNvSpPr/>
          <p:nvPr/>
        </p:nvSpPr>
        <p:spPr>
          <a:xfrm>
            <a:off x="3090960" y="3868560"/>
            <a:ext cx="3601800" cy="8510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9"/>
          <p:cNvGrpSpPr/>
          <p:nvPr/>
        </p:nvGrpSpPr>
        <p:grpSpPr>
          <a:xfrm>
            <a:off x="1327320" y="5022720"/>
            <a:ext cx="1530000" cy="998640"/>
            <a:chOff x="1327320" y="5022720"/>
            <a:chExt cx="1530000" cy="998640"/>
          </a:xfrm>
        </p:grpSpPr>
        <p:sp>
          <p:nvSpPr>
            <p:cNvPr id="157" name="Oval 20"/>
            <p:cNvSpPr/>
            <p:nvPr/>
          </p:nvSpPr>
          <p:spPr>
            <a:xfrm>
              <a:off x="1327320" y="5022720"/>
              <a:ext cx="1078560" cy="9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1427760" y="5120280"/>
              <a:ext cx="878760" cy="8031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>
              <a:off x="2405880" y="5510160"/>
              <a:ext cx="45144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23"/>
          <p:cNvSpPr/>
          <p:nvPr/>
        </p:nvSpPr>
        <p:spPr>
          <a:xfrm>
            <a:off x="3162240" y="5056200"/>
            <a:ext cx="3600360" cy="85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3605040" y="1413000"/>
            <a:ext cx="2845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乎他人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3732120" y="5108400"/>
            <a:ext cx="284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自我调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589200" y="2589120"/>
            <a:ext cx="2845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较强的独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3659040" y="3867120"/>
            <a:ext cx="2843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出现竞争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2965320" y="2301840"/>
            <a:ext cx="5112000" cy="28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Arial"/>
                <a:ea typeface="隶书"/>
              </a:rPr>
              <a:t>感谢聆听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Arial"/>
                <a:ea typeface="隶书"/>
              </a:rPr>
              <a:t>敬请指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2088720" y="1639800"/>
            <a:ext cx="7265880" cy="28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  <a:ea typeface="楷体"/>
              </a:rPr>
              <a:t>曹月红：</a:t>
            </a:r>
            <a:r>
              <a:rPr b="1" lang="en-US" sz="6000" spc="-1" strike="noStrike">
                <a:solidFill>
                  <a:srgbClr val="ff9900"/>
                </a:solidFill>
                <a:latin typeface="Arial"/>
                <a:ea typeface="楷体"/>
              </a:rPr>
              <a:t>13616103306</a:t>
            </a:r>
            <a:br>
              <a:rPr sz="6000"/>
            </a:br>
            <a:r>
              <a:rPr b="1" lang="en-US" sz="6000" spc="-1" strike="noStrike">
                <a:solidFill>
                  <a:srgbClr val="ff9900"/>
                </a:solidFill>
                <a:latin typeface="Arial"/>
                <a:ea typeface="楷体"/>
              </a:rPr>
              <a:t>cyhcz@126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  <a:ea typeface="楷体"/>
              </a:rPr>
              <a:t>飞信微信均用</a:t>
            </a:r>
            <a:br>
              <a:rPr sz="72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年龄特点，了解儿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8"/>
          <p:cNvGrpSpPr/>
          <p:nvPr/>
        </p:nvGrpSpPr>
        <p:grpSpPr>
          <a:xfrm>
            <a:off x="398520" y="1085760"/>
            <a:ext cx="7560720" cy="5044680"/>
            <a:chOff x="398520" y="1085760"/>
            <a:chExt cx="7560720" cy="5044680"/>
          </a:xfrm>
        </p:grpSpPr>
        <p:sp>
          <p:nvSpPr>
            <p:cNvPr id="167" name="Rectangle 15"/>
            <p:cNvSpPr/>
            <p:nvPr/>
          </p:nvSpPr>
          <p:spPr>
            <a:xfrm>
              <a:off x="1334880" y="1968840"/>
              <a:ext cx="6624360" cy="416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e5d8">
                    <a:alpha val="8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5" descr="未标题-8"/>
            <p:cNvPicPr/>
            <p:nvPr/>
          </p:nvPicPr>
          <p:blipFill>
            <a:blip r:embed="rId1"/>
            <a:stretch/>
          </p:blipFill>
          <p:spPr>
            <a:xfrm>
              <a:off x="398520" y="1085760"/>
              <a:ext cx="1152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8" descr="未标题-8"/>
            <p:cNvPicPr/>
            <p:nvPr/>
          </p:nvPicPr>
          <p:blipFill>
            <a:blip r:embed="rId2"/>
            <a:stretch/>
          </p:blipFill>
          <p:spPr>
            <a:xfrm rot="15844800">
              <a:off x="243720" y="2136960"/>
              <a:ext cx="1341720" cy="8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未标题-8"/>
            <p:cNvPicPr/>
            <p:nvPr/>
          </p:nvPicPr>
          <p:blipFill>
            <a:blip r:embed="rId3"/>
            <a:stretch/>
          </p:blipFill>
          <p:spPr>
            <a:xfrm rot="8221200">
              <a:off x="1405800" y="1964880"/>
              <a:ext cx="1007640" cy="103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Rectangle 32"/>
          <p:cNvSpPr/>
          <p:nvPr/>
        </p:nvSpPr>
        <p:spPr>
          <a:xfrm>
            <a:off x="1582560" y="1374840"/>
            <a:ext cx="2556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学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797120" y="2585880"/>
            <a:ext cx="60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学习主动性缺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2089080" y="3575160"/>
            <a:ext cx="54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学习态度最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2071800" y="4597560"/>
            <a:ext cx="54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愿合作缺少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课标特征，明晰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1469880" y="1271520"/>
            <a:ext cx="1387440" cy="906480"/>
            <a:chOff x="1469880" y="1271520"/>
            <a:chExt cx="1387440" cy="906480"/>
          </a:xfrm>
        </p:grpSpPr>
        <p:sp>
          <p:nvSpPr>
            <p:cNvPr id="177" name="Oval 6"/>
            <p:cNvSpPr/>
            <p:nvPr/>
          </p:nvSpPr>
          <p:spPr>
            <a:xfrm>
              <a:off x="1469880" y="1271520"/>
              <a:ext cx="978120" cy="90648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560960" y="1360080"/>
              <a:ext cx="796680" cy="7290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0"/>
            <p:cNvSpPr/>
            <p:nvPr/>
          </p:nvSpPr>
          <p:spPr>
            <a:xfrm>
              <a:off x="2448000" y="1713960"/>
              <a:ext cx="40932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AutoShape 11"/>
          <p:cNvSpPr/>
          <p:nvPr/>
        </p:nvSpPr>
        <p:spPr>
          <a:xfrm>
            <a:off x="2948040" y="1341360"/>
            <a:ext cx="3562200" cy="65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9"/>
          <p:cNvGrpSpPr/>
          <p:nvPr/>
        </p:nvGrpSpPr>
        <p:grpSpPr>
          <a:xfrm>
            <a:off x="1469880" y="2252520"/>
            <a:ext cx="1387440" cy="906480"/>
            <a:chOff x="1469880" y="2252520"/>
            <a:chExt cx="1387440" cy="906480"/>
          </a:xfrm>
        </p:grpSpPr>
        <p:sp>
          <p:nvSpPr>
            <p:cNvPr id="182" name="Oval 20"/>
            <p:cNvSpPr/>
            <p:nvPr/>
          </p:nvSpPr>
          <p:spPr>
            <a:xfrm>
              <a:off x="1469880" y="2252520"/>
              <a:ext cx="978120" cy="906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1560960" y="2341080"/>
              <a:ext cx="796680" cy="729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2"/>
            <p:cNvSpPr/>
            <p:nvPr/>
          </p:nvSpPr>
          <p:spPr>
            <a:xfrm>
              <a:off x="2448000" y="2694960"/>
              <a:ext cx="40932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AutoShape 23"/>
          <p:cNvSpPr/>
          <p:nvPr/>
        </p:nvSpPr>
        <p:spPr>
          <a:xfrm>
            <a:off x="2955960" y="2387520"/>
            <a:ext cx="3562200" cy="65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5"/>
          <p:cNvGrpSpPr/>
          <p:nvPr/>
        </p:nvGrpSpPr>
        <p:grpSpPr>
          <a:xfrm>
            <a:off x="1469880" y="3232080"/>
            <a:ext cx="1387440" cy="905040"/>
            <a:chOff x="1469880" y="3232080"/>
            <a:chExt cx="1387440" cy="905040"/>
          </a:xfrm>
        </p:grpSpPr>
        <p:sp>
          <p:nvSpPr>
            <p:cNvPr id="187" name="Oval 26"/>
            <p:cNvSpPr/>
            <p:nvPr/>
          </p:nvSpPr>
          <p:spPr>
            <a:xfrm>
              <a:off x="1469880" y="3232080"/>
              <a:ext cx="978120" cy="90504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1560960" y="3320280"/>
              <a:ext cx="796680" cy="727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8"/>
            <p:cNvSpPr/>
            <p:nvPr/>
          </p:nvSpPr>
          <p:spPr>
            <a:xfrm>
              <a:off x="2448000" y="3673800"/>
              <a:ext cx="40932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29"/>
          <p:cNvSpPr/>
          <p:nvPr/>
        </p:nvSpPr>
        <p:spPr>
          <a:xfrm>
            <a:off x="2948040" y="3408480"/>
            <a:ext cx="3562200" cy="6508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9"/>
          <p:cNvGrpSpPr/>
          <p:nvPr/>
        </p:nvGrpSpPr>
        <p:grpSpPr>
          <a:xfrm>
            <a:off x="1541520" y="4241880"/>
            <a:ext cx="1387080" cy="904680"/>
            <a:chOff x="1541520" y="4241880"/>
            <a:chExt cx="1387080" cy="904680"/>
          </a:xfrm>
        </p:grpSpPr>
        <p:sp>
          <p:nvSpPr>
            <p:cNvPr id="192" name="Oval 20"/>
            <p:cNvSpPr/>
            <p:nvPr/>
          </p:nvSpPr>
          <p:spPr>
            <a:xfrm>
              <a:off x="1541520" y="4241880"/>
              <a:ext cx="977760" cy="9046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1"/>
            <p:cNvSpPr/>
            <p:nvPr/>
          </p:nvSpPr>
          <p:spPr>
            <a:xfrm>
              <a:off x="1632600" y="4330080"/>
              <a:ext cx="796680" cy="7275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>
              <a:off x="2519280" y="4683240"/>
              <a:ext cx="40932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23"/>
          <p:cNvSpPr/>
          <p:nvPr/>
        </p:nvSpPr>
        <p:spPr>
          <a:xfrm>
            <a:off x="3019320" y="4381560"/>
            <a:ext cx="3562560" cy="65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8"/>
          <p:cNvGrpSpPr/>
          <p:nvPr/>
        </p:nvGrpSpPr>
        <p:grpSpPr>
          <a:xfrm>
            <a:off x="1525680" y="5238720"/>
            <a:ext cx="1387080" cy="906480"/>
            <a:chOff x="1525680" y="5238720"/>
            <a:chExt cx="1387080" cy="906480"/>
          </a:xfrm>
        </p:grpSpPr>
        <p:sp>
          <p:nvSpPr>
            <p:cNvPr id="197" name="Oval 6"/>
            <p:cNvSpPr/>
            <p:nvPr/>
          </p:nvSpPr>
          <p:spPr>
            <a:xfrm>
              <a:off x="1525680" y="5238720"/>
              <a:ext cx="977760" cy="90648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5"/>
            <p:cNvSpPr/>
            <p:nvPr/>
          </p:nvSpPr>
          <p:spPr>
            <a:xfrm>
              <a:off x="1616760" y="5327280"/>
              <a:ext cx="796680" cy="729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0"/>
            <p:cNvSpPr/>
            <p:nvPr/>
          </p:nvSpPr>
          <p:spPr>
            <a:xfrm>
              <a:off x="2503440" y="5681160"/>
              <a:ext cx="40932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11"/>
          <p:cNvSpPr/>
          <p:nvPr/>
        </p:nvSpPr>
        <p:spPr>
          <a:xfrm>
            <a:off x="3003480" y="5380200"/>
            <a:ext cx="3562560" cy="65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3166920" y="1235160"/>
            <a:ext cx="347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字写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3230640" y="2317680"/>
            <a:ext cx="3468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3262320" y="3294000"/>
            <a:ext cx="347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3263760" y="5264280"/>
            <a:ext cx="347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综合性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3249720" y="4289400"/>
            <a:ext cx="3468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语交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课标特征，明晰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1584360" y="19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5"/>
          <p:cNvGrpSpPr/>
          <p:nvPr/>
        </p:nvGrpSpPr>
        <p:grpSpPr>
          <a:xfrm>
            <a:off x="969120" y="664560"/>
            <a:ext cx="7239600" cy="5608440"/>
            <a:chOff x="969120" y="664560"/>
            <a:chExt cx="7239600" cy="5608440"/>
          </a:xfrm>
        </p:grpSpPr>
        <p:sp>
          <p:nvSpPr>
            <p:cNvPr id="209" name="AutoShape 7"/>
            <p:cNvSpPr/>
            <p:nvPr/>
          </p:nvSpPr>
          <p:spPr>
            <a:xfrm>
              <a:off x="971640" y="1493280"/>
              <a:ext cx="7237080" cy="477972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6"/>
            <p:cNvSpPr/>
            <p:nvPr/>
          </p:nvSpPr>
          <p:spPr>
            <a:xfrm>
              <a:off x="1771200" y="1220400"/>
              <a:ext cx="31690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识字与写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"/>
            <p:cNvSpPr/>
            <p:nvPr/>
          </p:nvSpPr>
          <p:spPr>
            <a:xfrm>
              <a:off x="1281960" y="1083960"/>
              <a:ext cx="1322640" cy="100152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0"/>
            <p:cNvSpPr/>
            <p:nvPr/>
          </p:nvSpPr>
          <p:spPr>
            <a:xfrm>
              <a:off x="3734280" y="993600"/>
              <a:ext cx="1322640" cy="100080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13" descr="未标题-1"/>
            <p:cNvPicPr/>
            <p:nvPr/>
          </p:nvPicPr>
          <p:blipFill>
            <a:blip r:embed="rId1"/>
            <a:stretch/>
          </p:blipFill>
          <p:spPr>
            <a:xfrm rot="2865600">
              <a:off x="1056600" y="950400"/>
              <a:ext cx="1091520" cy="72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Rectangle 16"/>
          <p:cNvSpPr/>
          <p:nvPr/>
        </p:nvSpPr>
        <p:spPr>
          <a:xfrm>
            <a:off x="1407960" y="1711440"/>
            <a:ext cx="594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喜欢学习汉字，有主动识字、写字的愿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1442880" y="2174760"/>
            <a:ext cx="633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认识常用汉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左右，其中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左右会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1446120" y="2716200"/>
            <a:ext cx="65106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掌握汉字的基本笔画和常用的偏旁部首，能按笔顺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用硬笔写字，注意间架结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1447920" y="3649680"/>
            <a:ext cx="65451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写字姿势要正确，字要写得规范、端正、整洁，努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成良好的写字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1446120" y="4578480"/>
            <a:ext cx="6583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会汉语拼音。能读准声母、韵母、声调和整体认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1460520" y="5389560"/>
            <a:ext cx="64962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习独立识字。能借助汉语拼音认读汉字，用音序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法查字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把握年段课标特征，明晰方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584360" y="19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5"/>
          <p:cNvGrpSpPr/>
          <p:nvPr/>
        </p:nvGrpSpPr>
        <p:grpSpPr>
          <a:xfrm>
            <a:off x="613080" y="398880"/>
            <a:ext cx="7994160" cy="6198480"/>
            <a:chOff x="613080" y="398880"/>
            <a:chExt cx="7994160" cy="6198480"/>
          </a:xfrm>
        </p:grpSpPr>
        <p:sp>
          <p:nvSpPr>
            <p:cNvPr id="223" name="AutoShape 7"/>
            <p:cNvSpPr/>
            <p:nvPr/>
          </p:nvSpPr>
          <p:spPr>
            <a:xfrm>
              <a:off x="615960" y="1314720"/>
              <a:ext cx="7991280" cy="528264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6"/>
            <p:cNvSpPr/>
            <p:nvPr/>
          </p:nvSpPr>
          <p:spPr>
            <a:xfrm>
              <a:off x="1498680" y="1013040"/>
              <a:ext cx="34992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阅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"/>
            <p:cNvSpPr/>
            <p:nvPr/>
          </p:nvSpPr>
          <p:spPr>
            <a:xfrm>
              <a:off x="958680" y="862200"/>
              <a:ext cx="1460520" cy="110664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3666240" y="762480"/>
              <a:ext cx="1460520" cy="110628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203d2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13" descr="未标题-1"/>
            <p:cNvPicPr/>
            <p:nvPr/>
          </p:nvPicPr>
          <p:blipFill>
            <a:blip r:embed="rId1"/>
            <a:stretch/>
          </p:blipFill>
          <p:spPr>
            <a:xfrm rot="2865600">
              <a:off x="709560" y="714960"/>
              <a:ext cx="1206360" cy="79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Rectangle 16"/>
          <p:cNvSpPr/>
          <p:nvPr/>
        </p:nvSpPr>
        <p:spPr>
          <a:xfrm>
            <a:off x="901800" y="1461960"/>
            <a:ext cx="75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喜欢阅读，感受阅读的乐趣。初步养成爱护图书的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906480" y="1890720"/>
            <a:ext cx="7878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习用普通话正确、流利、有感情地朗读课文。学习默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938160" y="2363760"/>
            <a:ext cx="7775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结合上下文和生活实际了解课文中词句的意思，在阅读中积累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。借助读物中的图画阅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917640" y="3222720"/>
            <a:ext cx="82263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阅读浅近的童话、寓言、故事，向往美好情</a:t>
            </a:r>
            <a:r>
              <a:rPr b="1" lang="en-US" sz="2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境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心自然和生命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感兴趣的人物和事件有自己的感受和想法，并乐于与人交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952560" y="4044960"/>
            <a:ext cx="77598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诵读儿歌、童谣和浅近的古诗，展开想象，获得初步的情感体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受语言的优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974880" y="4890960"/>
            <a:ext cx="77738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认识课文中出现的常用标点符号。在阅读中，体会句号、问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叹号所表达的不同语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923760" y="5729400"/>
            <a:ext cx="7883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积累自己喜欢的成语和格言警句。背诵优秀诗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课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总量不少于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0:27:15Z</dcterms:created>
  <dc:creator>user</dc:creator>
  <dc:description/>
  <dc:language>en-US</dc:language>
  <cp:lastModifiedBy>a</cp:lastModifiedBy>
  <dcterms:modified xsi:type="dcterms:W3CDTF">2015-08-27T09:40:11Z</dcterms:modified>
  <cp:revision>1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