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3D5-128D-4BF7-959F-262DB534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567-0504-43DE-B07D-14FD2657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FA4-A4CF-4107-98DF-3ADC23F0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CE7-3CA6-4BAA-8742-8B57E719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CE5-671B-44F5-A554-5275617D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E95-DB9D-46D7-99BD-662FD5AF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109-EEFF-4847-9262-31BB1E7B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4E6-3C9E-4B84-9F29-8881D1A1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EC6-FFD6-4C02-8522-57D5B58C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89E-7CB4-44B1-B9AD-12C8CAC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14C-B9F2-4DA5-9D37-15740C1D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E93-32CD-40CF-8FAE-0DBF347D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1EB0-7EEE-4F15-BDC4-0E509B0ED4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755640" y="404640"/>
            <a:ext cx="7632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71640" y="765000"/>
            <a:ext cx="5796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Unit1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Hel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124000" y="4510080"/>
            <a:ext cx="7993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三年级（上）开学第一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博爱小学英语教研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2" descr="yangling.jpg"/>
          <p:cNvPicPr/>
          <p:nvPr/>
        </p:nvPicPr>
        <p:blipFill>
          <a:blip r:embed="rId2"/>
          <a:stretch/>
        </p:blipFill>
        <p:spPr>
          <a:xfrm>
            <a:off x="826920" y="1989000"/>
            <a:ext cx="1873440" cy="19130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3" descr="helen.jpg"/>
          <p:cNvPicPr/>
          <p:nvPr/>
        </p:nvPicPr>
        <p:blipFill>
          <a:blip r:embed="rId3"/>
          <a:stretch/>
        </p:blipFill>
        <p:spPr>
          <a:xfrm>
            <a:off x="6588000" y="3789360"/>
            <a:ext cx="182088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4" descr="liutao.jpg"/>
          <p:cNvPicPr/>
          <p:nvPr/>
        </p:nvPicPr>
        <p:blipFill>
          <a:blip r:embed="rId4"/>
          <a:stretch/>
        </p:blipFill>
        <p:spPr>
          <a:xfrm>
            <a:off x="4572000" y="191628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1"/>
          <p:cNvSpPr/>
          <p:nvPr/>
        </p:nvSpPr>
        <p:spPr>
          <a:xfrm>
            <a:off x="4262400" y="189000"/>
            <a:ext cx="441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朋友俱乐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Friends Clu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D:\Documents and Settings\zxc\Application Data\Tencent\Users\13622834\QQ\WinTemp\RichOle\7TYH[CQ%B[6FUM]MX_7B8I0.jpg"/>
          <p:cNvPicPr/>
          <p:nvPr/>
        </p:nvPicPr>
        <p:blipFill>
          <a:blip r:embed="rId5"/>
          <a:stretch/>
        </p:blipFill>
        <p:spPr>
          <a:xfrm>
            <a:off x="2627280" y="3933720"/>
            <a:ext cx="19908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8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D:\Documents and Settings\zxc\Application Data\Tencent\Users\13622834\QQ\WinTemp\RichOle\CWGRCNLNLQFHC8I%}GKJN}W.jpg"/>
          <p:cNvPicPr/>
          <p:nvPr/>
        </p:nvPicPr>
        <p:blipFill>
          <a:blip r:embed="rId2"/>
          <a:stretch/>
        </p:blipFill>
        <p:spPr>
          <a:xfrm>
            <a:off x="971640" y="2276640"/>
            <a:ext cx="7956360" cy="3024000"/>
          </a:xfrm>
          <a:prstGeom prst="rect">
            <a:avLst/>
          </a:prstGeom>
          <a:ln w="0">
            <a:noFill/>
          </a:ln>
        </p:spPr>
      </p:pic>
      <p:sp>
        <p:nvSpPr>
          <p:cNvPr id="120" name="圆角矩形 8"/>
          <p:cNvSpPr/>
          <p:nvPr/>
        </p:nvSpPr>
        <p:spPr>
          <a:xfrm>
            <a:off x="1042920" y="2492280"/>
            <a:ext cx="56167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2" descr="yangling.jpg"/>
          <p:cNvPicPr/>
          <p:nvPr/>
        </p:nvPicPr>
        <p:blipFill>
          <a:blip r:embed="rId2"/>
          <a:stretch/>
        </p:blipFill>
        <p:spPr>
          <a:xfrm>
            <a:off x="826920" y="1989000"/>
            <a:ext cx="1873440" cy="19130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3" descr="helen.jpg"/>
          <p:cNvPicPr/>
          <p:nvPr/>
        </p:nvPicPr>
        <p:blipFill>
          <a:blip r:embed="rId3"/>
          <a:stretch/>
        </p:blipFill>
        <p:spPr>
          <a:xfrm>
            <a:off x="6588000" y="3789360"/>
            <a:ext cx="1820880" cy="19432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4" descr="liutao.jpg"/>
          <p:cNvPicPr/>
          <p:nvPr/>
        </p:nvPicPr>
        <p:blipFill>
          <a:blip r:embed="rId4"/>
          <a:stretch/>
        </p:blipFill>
        <p:spPr>
          <a:xfrm>
            <a:off x="4572000" y="191628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1"/>
          <p:cNvSpPr/>
          <p:nvPr/>
        </p:nvSpPr>
        <p:spPr>
          <a:xfrm>
            <a:off x="4262400" y="189000"/>
            <a:ext cx="441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朋友俱乐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Friends Clu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D:\Documents and Settings\zxc\Application Data\Tencent\Users\13622834\QQ\WinTemp\RichOle\7TYH[CQ%B[6FUM]MX_7B8I0.jpg"/>
          <p:cNvPicPr/>
          <p:nvPr/>
        </p:nvPicPr>
        <p:blipFill>
          <a:blip r:embed="rId5"/>
          <a:stretch/>
        </p:blipFill>
        <p:spPr>
          <a:xfrm>
            <a:off x="2627280" y="3933720"/>
            <a:ext cx="19908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9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sp>
        <p:nvSpPr>
          <p:cNvPr id="130" name="圆角矩形 6"/>
          <p:cNvSpPr/>
          <p:nvPr/>
        </p:nvSpPr>
        <p:spPr>
          <a:xfrm>
            <a:off x="4211640" y="2421000"/>
            <a:ext cx="244800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9"/>
          <p:cNvGrpSpPr/>
          <p:nvPr/>
        </p:nvGrpSpPr>
        <p:grpSpPr>
          <a:xfrm>
            <a:off x="2700360" y="1557360"/>
            <a:ext cx="5292720" cy="3527280"/>
            <a:chOff x="2700360" y="1557360"/>
            <a:chExt cx="5292720" cy="3527280"/>
          </a:xfrm>
        </p:grpSpPr>
        <p:pic>
          <p:nvPicPr>
            <p:cNvPr id="132" name="图片 7" descr="game over.gif"/>
            <p:cNvPicPr/>
            <p:nvPr/>
          </p:nvPicPr>
          <p:blipFill>
            <a:blip r:embed="rId2"/>
            <a:stretch/>
          </p:blipFill>
          <p:spPr>
            <a:xfrm>
              <a:off x="2700360" y="1557360"/>
              <a:ext cx="529272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3421080" y="2709720"/>
              <a:ext cx="3600360" cy="1295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矩形 11" descr=""/>
          <p:cNvPicPr/>
          <p:nvPr/>
        </p:nvPicPr>
        <p:blipFill>
          <a:blip r:embed="rId3"/>
          <a:stretch/>
        </p:blipFill>
        <p:spPr>
          <a:xfrm>
            <a:off x="3529080" y="2651040"/>
            <a:ext cx="361476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2" descr="yangling.jpg"/>
          <p:cNvPicPr/>
          <p:nvPr/>
        </p:nvPicPr>
        <p:blipFill>
          <a:blip r:embed="rId2"/>
          <a:stretch/>
        </p:blipFill>
        <p:spPr>
          <a:xfrm>
            <a:off x="826920" y="1989000"/>
            <a:ext cx="1873440" cy="19130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3" descr="helen.jpg"/>
          <p:cNvPicPr/>
          <p:nvPr/>
        </p:nvPicPr>
        <p:blipFill>
          <a:blip r:embed="rId3"/>
          <a:stretch/>
        </p:blipFill>
        <p:spPr>
          <a:xfrm>
            <a:off x="6588000" y="3789360"/>
            <a:ext cx="182088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4" descr="liutao.jpg"/>
          <p:cNvPicPr/>
          <p:nvPr/>
        </p:nvPicPr>
        <p:blipFill>
          <a:blip r:embed="rId4"/>
          <a:stretch/>
        </p:blipFill>
        <p:spPr>
          <a:xfrm>
            <a:off x="4572000" y="191628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1"/>
          <p:cNvSpPr/>
          <p:nvPr/>
        </p:nvSpPr>
        <p:spPr>
          <a:xfrm>
            <a:off x="4262400" y="189000"/>
            <a:ext cx="441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朋友俱乐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Friends Clu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D:\Documents and Settings\zxc\Application Data\Tencent\Users\13622834\QQ\WinTemp\RichOle\7TYH[CQ%B[6FUM]MX_7B8I0.jpg"/>
          <p:cNvPicPr/>
          <p:nvPr/>
        </p:nvPicPr>
        <p:blipFill>
          <a:blip r:embed="rId5"/>
          <a:stretch/>
        </p:blipFill>
        <p:spPr>
          <a:xfrm>
            <a:off x="2627280" y="3933720"/>
            <a:ext cx="19908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OOOPIC_jiangping_2009021834b771ec60011973"/>
          <p:cNvPicPr/>
          <p:nvPr/>
        </p:nvPicPr>
        <p:blipFill>
          <a:blip r:embed="rId2"/>
          <a:stretch/>
        </p:blipFill>
        <p:spPr>
          <a:xfrm>
            <a:off x="2124000" y="1125360"/>
            <a:ext cx="590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280" y="2332080"/>
            <a:ext cx="51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A. Listen more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B. Read more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多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C. Speak more.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43120" y="1374840"/>
            <a:ext cx="671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earning  tip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贴士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0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611280" y="1700280"/>
            <a:ext cx="83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试着用英语跟你的家人打招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一些生活中的英语，下次英语课和小伙伴们分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4" descr="28"/>
          <p:cNvPicPr/>
          <p:nvPr/>
        </p:nvPicPr>
        <p:blipFill>
          <a:blip r:embed="rId1"/>
          <a:stretch/>
        </p:blipFill>
        <p:spPr>
          <a:xfrm>
            <a:off x="-324000" y="-27000"/>
            <a:ext cx="9468000" cy="702936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2"/>
          <a:stretch/>
        </p:blipFill>
        <p:spPr>
          <a:xfrm>
            <a:off x="109440" y="1809720"/>
            <a:ext cx="8790120" cy="1231920"/>
          </a:xfrm>
          <a:prstGeom prst="rect">
            <a:avLst/>
          </a:prstGeom>
          <a:ln w="0">
            <a:noFill/>
          </a:ln>
        </p:spPr>
      </p:pic>
      <p:pic>
        <p:nvPicPr>
          <p:cNvPr id="51" name="矩形 7" descr=""/>
          <p:cNvPicPr/>
          <p:nvPr/>
        </p:nvPicPr>
        <p:blipFill>
          <a:blip r:embed="rId3"/>
          <a:stretch/>
        </p:blipFill>
        <p:spPr>
          <a:xfrm>
            <a:off x="609480" y="2712960"/>
            <a:ext cx="7905960" cy="1273320"/>
          </a:xfrm>
          <a:prstGeom prst="rect">
            <a:avLst/>
          </a:prstGeom>
          <a:ln w="0">
            <a:noFill/>
          </a:ln>
        </p:spPr>
      </p:pic>
      <p:pic>
        <p:nvPicPr>
          <p:cNvPr id="52" name="Good morning.mp3" descr=""/>
          <p:cNvPicPr/>
          <p:nvPr/>
        </p:nvPicPr>
        <p:blipFill>
          <a:blip r:embed="rId4"/>
          <a:stretch/>
        </p:blipFill>
        <p:spPr>
          <a:xfrm>
            <a:off x="324000" y="580536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28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11"/>
          <p:cNvGrpSpPr/>
          <p:nvPr/>
        </p:nvGrpSpPr>
        <p:grpSpPr>
          <a:xfrm>
            <a:off x="250920" y="2492640"/>
            <a:ext cx="3217320" cy="3557160"/>
            <a:chOff x="250920" y="2492640"/>
            <a:chExt cx="3217320" cy="3557160"/>
          </a:xfrm>
        </p:grpSpPr>
        <p:pic>
          <p:nvPicPr>
            <p:cNvPr id="57" name="Picture 1" descr="D:\Documents and Settings\zxc\Application Data\Tencent\Users\13622834\QQ\WinTemp\RichOle\(V8I6K{0BYYH1~[49DF_83S.jpg"/>
            <p:cNvPicPr/>
            <p:nvPr/>
          </p:nvPicPr>
          <p:blipFill>
            <a:blip r:embed="rId2"/>
            <a:stretch/>
          </p:blipFill>
          <p:spPr>
            <a:xfrm rot="21097800">
              <a:off x="453600" y="2681280"/>
              <a:ext cx="281160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7"/>
            <p:cNvSpPr/>
            <p:nvPr/>
          </p:nvSpPr>
          <p:spPr>
            <a:xfrm>
              <a:off x="1899360" y="559008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丁小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2"/>
          <p:cNvGrpSpPr/>
          <p:nvPr/>
        </p:nvGrpSpPr>
        <p:grpSpPr>
          <a:xfrm>
            <a:off x="3203640" y="2852640"/>
            <a:ext cx="2879640" cy="3473640"/>
            <a:chOff x="3203640" y="2852640"/>
            <a:chExt cx="2879640" cy="3473640"/>
          </a:xfrm>
        </p:grpSpPr>
        <p:pic>
          <p:nvPicPr>
            <p:cNvPr id="60" name="Picture 2" descr="D:\Documents and Settings\zxc\Application Data\Tencent\Users\13622834\QQ\WinTemp\RichOle\XLQKNSQ{957FI)2[D7J4BPL.jpg"/>
            <p:cNvPicPr/>
            <p:nvPr/>
          </p:nvPicPr>
          <p:blipFill>
            <a:blip r:embed="rId3"/>
            <a:stretch/>
          </p:blipFill>
          <p:spPr>
            <a:xfrm>
              <a:off x="3203640" y="2852640"/>
              <a:ext cx="287964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8"/>
            <p:cNvSpPr/>
            <p:nvPr/>
          </p:nvSpPr>
          <p:spPr>
            <a:xfrm>
              <a:off x="4298040" y="5866560"/>
              <a:ext cx="10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王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9"/>
          <p:cNvSpPr/>
          <p:nvPr/>
        </p:nvSpPr>
        <p:spPr>
          <a:xfrm>
            <a:off x="6570720" y="59943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李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标注 10"/>
          <p:cNvSpPr/>
          <p:nvPr/>
        </p:nvSpPr>
        <p:spPr>
          <a:xfrm>
            <a:off x="144360" y="620640"/>
            <a:ext cx="8748720" cy="1008000"/>
          </a:xfrm>
          <a:prstGeom prst="wedgeRoundRectCallout">
            <a:avLst>
              <a:gd name="adj1" fmla="val 41050"/>
              <a:gd name="adj2" fmla="val -33962"/>
              <a:gd name="adj3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ss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对女老师的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称呼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也可以用来称呼未婚的女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16"/>
          <p:cNvGrpSpPr/>
          <p:nvPr/>
        </p:nvGrpSpPr>
        <p:grpSpPr>
          <a:xfrm>
            <a:off x="5076720" y="115920"/>
            <a:ext cx="3895920" cy="2606760"/>
            <a:chOff x="5076720" y="115920"/>
            <a:chExt cx="3895920" cy="2606760"/>
          </a:xfrm>
        </p:grpSpPr>
        <p:pic>
          <p:nvPicPr>
            <p:cNvPr id="65" name="图片 14" descr="miss gao.jpg"/>
            <p:cNvPicPr/>
            <p:nvPr/>
          </p:nvPicPr>
          <p:blipFill>
            <a:blip r:embed="rId4"/>
            <a:stretch/>
          </p:blipFill>
          <p:spPr>
            <a:xfrm>
              <a:off x="5076720" y="115920"/>
              <a:ext cx="237564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7"/>
            <p:cNvSpPr/>
            <p:nvPr/>
          </p:nvSpPr>
          <p:spPr>
            <a:xfrm>
              <a:off x="7524360" y="1844640"/>
              <a:ext cx="144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Miss Gao (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高老师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图片 17" descr="mis.jpg"/>
          <p:cNvPicPr/>
          <p:nvPr/>
        </p:nvPicPr>
        <p:blipFill>
          <a:blip r:embed="rId5"/>
          <a:stretch/>
        </p:blipFill>
        <p:spPr>
          <a:xfrm rot="1079400">
            <a:off x="5944680" y="3075120"/>
            <a:ext cx="28260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492360" y="620640"/>
            <a:ext cx="511344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Game Ti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游戏时间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218400" y="1413000"/>
            <a:ext cx="54262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iss Gao say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Documents and Settings\zxc\Application Data\Tencent\Users\13622834\QQ\WinTemp\RichOle\Y3JI0[W11_FPMW77DQ1N9[7.jpg"/>
          <p:cNvPicPr/>
          <p:nvPr/>
        </p:nvPicPr>
        <p:blipFill>
          <a:blip r:embed="rId2"/>
          <a:stretch/>
        </p:blipFill>
        <p:spPr>
          <a:xfrm>
            <a:off x="1692360" y="2781360"/>
            <a:ext cx="3843360" cy="316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D:\Documents and Settings\zxc\Application Data\Tencent\Users\13622834\QQ\WinTemp\RichOle\V[@6$%WDPAK[`YND2~W}`S1.jpg"/>
          <p:cNvPicPr/>
          <p:nvPr/>
        </p:nvPicPr>
        <p:blipFill>
          <a:blip r:embed="rId3"/>
          <a:stretch/>
        </p:blipFill>
        <p:spPr>
          <a:xfrm>
            <a:off x="-396720" y="1268280"/>
            <a:ext cx="3414600" cy="272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D:\Documents and Settings\zxc\Application Data\Tencent\Users\13622834\QQ\WinTemp\RichOle\FL4P]0[W~T`P~VBN5L3JG(L.jpg"/>
          <p:cNvPicPr/>
          <p:nvPr/>
        </p:nvPicPr>
        <p:blipFill>
          <a:blip r:embed="rId4"/>
          <a:stretch/>
        </p:blipFill>
        <p:spPr>
          <a:xfrm>
            <a:off x="5200560" y="3141720"/>
            <a:ext cx="39434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4"/>
          <p:cNvSpPr/>
          <p:nvPr/>
        </p:nvSpPr>
        <p:spPr>
          <a:xfrm>
            <a:off x="2557080" y="3225960"/>
            <a:ext cx="346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rning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早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462760" y="4665600"/>
            <a:ext cx="371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fternoon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下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-27360" y="3914640"/>
            <a:ext cx="168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G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V="1">
            <a:off x="1908000" y="3716280"/>
            <a:ext cx="432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1835280" y="465300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标注 11"/>
          <p:cNvSpPr/>
          <p:nvPr/>
        </p:nvSpPr>
        <p:spPr>
          <a:xfrm>
            <a:off x="826920" y="333360"/>
            <a:ext cx="4537080" cy="1008000"/>
          </a:xfrm>
          <a:prstGeom prst="wedgeRoundRectCallout">
            <a:avLst>
              <a:gd name="adj1" fmla="val 41050"/>
              <a:gd name="adj2" fmla="val -33962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跟人打招呼，我们可以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5922720" y="3213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6059160" y="4653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4" descr="上午.jpg"/>
          <p:cNvPicPr/>
          <p:nvPr/>
        </p:nvPicPr>
        <p:blipFill>
          <a:blip r:embed="rId2"/>
          <a:srcRect l="0" t="0" r="14972" b="14923"/>
          <a:stretch/>
        </p:blipFill>
        <p:spPr>
          <a:xfrm>
            <a:off x="6875640" y="2133720"/>
            <a:ext cx="2098440" cy="19317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5" descr="afternoon.jpg"/>
          <p:cNvPicPr/>
          <p:nvPr/>
        </p:nvPicPr>
        <p:blipFill>
          <a:blip r:embed="rId3"/>
          <a:srcRect l="17548" t="0" r="21378" b="19076"/>
          <a:stretch/>
        </p:blipFill>
        <p:spPr>
          <a:xfrm>
            <a:off x="6912000" y="4292640"/>
            <a:ext cx="2232000" cy="1971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8"/>
          <p:cNvSpPr/>
          <p:nvPr/>
        </p:nvSpPr>
        <p:spPr>
          <a:xfrm>
            <a:off x="-28080" y="1628640"/>
            <a:ext cx="11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i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-25200" y="2525760"/>
            <a:ext cx="19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ello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D:\Documents and Settings\zxc\Application Data\Tencent\Users\13622834\QQ\WinTemp\RichOle\RG]]R_}{X@XPL0JEMN5T_~F.jpg"/>
          <p:cNvPicPr/>
          <p:nvPr/>
        </p:nvPicPr>
        <p:blipFill>
          <a:blip r:embed="rId2"/>
          <a:stretch/>
        </p:blipFill>
        <p:spPr>
          <a:xfrm>
            <a:off x="1908000" y="1197000"/>
            <a:ext cx="4876920" cy="489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D:\Documents and Settings\zxc\Application Data\Tencent\Users\13622834\QQ\WinTemp\RichOle\[Z_J0KZ1RC8`)@(9TU1E@)6.jpg"/>
          <p:cNvPicPr/>
          <p:nvPr/>
        </p:nvPicPr>
        <p:blipFill>
          <a:blip r:embed="rId3"/>
          <a:stretch/>
        </p:blipFill>
        <p:spPr>
          <a:xfrm>
            <a:off x="-131760" y="2997360"/>
            <a:ext cx="2039760" cy="302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D:\Documents and Settings\zxc\Application Data\Tencent\Users\13622834\QQ\WinTemp\RichOle\YT}FZ{]JK`GNAB%UOZWLXK7.jpg"/>
          <p:cNvPicPr/>
          <p:nvPr/>
        </p:nvPicPr>
        <p:blipFill>
          <a:blip r:embed="rId4"/>
          <a:stretch/>
        </p:blipFill>
        <p:spPr>
          <a:xfrm>
            <a:off x="6732720" y="2276640"/>
            <a:ext cx="20476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3492360" y="620640"/>
            <a:ext cx="511344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Game Ti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游戏时间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792240" y="1413000"/>
            <a:ext cx="413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Magic ey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2" descr="yangling.jpg"/>
          <p:cNvPicPr/>
          <p:nvPr/>
        </p:nvPicPr>
        <p:blipFill>
          <a:blip r:embed="rId2"/>
          <a:stretch/>
        </p:blipFill>
        <p:spPr>
          <a:xfrm>
            <a:off x="1093680" y="2637000"/>
            <a:ext cx="1873440" cy="19126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3" descr="helen.jpg"/>
          <p:cNvPicPr/>
          <p:nvPr/>
        </p:nvPicPr>
        <p:blipFill>
          <a:blip r:embed="rId3"/>
          <a:stretch/>
        </p:blipFill>
        <p:spPr>
          <a:xfrm>
            <a:off x="6854760" y="4437000"/>
            <a:ext cx="1820880" cy="19447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4" descr="liutao.jpg"/>
          <p:cNvPicPr/>
          <p:nvPr/>
        </p:nvPicPr>
        <p:blipFill>
          <a:blip r:embed="rId4"/>
          <a:stretch/>
        </p:blipFill>
        <p:spPr>
          <a:xfrm>
            <a:off x="4838760" y="2565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D:\Documents and Settings\zxc\Application Data\Tencent\Users\13622834\QQ\WinTemp\RichOle\7TYH[CQ%B[6FUM]MX_7B8I0.jpg"/>
          <p:cNvPicPr/>
          <p:nvPr/>
        </p:nvPicPr>
        <p:blipFill>
          <a:blip r:embed="rId5"/>
          <a:stretch/>
        </p:blipFill>
        <p:spPr>
          <a:xfrm>
            <a:off x="2895480" y="4581360"/>
            <a:ext cx="1989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2" descr="yangling.jpg"/>
          <p:cNvPicPr/>
          <p:nvPr/>
        </p:nvPicPr>
        <p:blipFill>
          <a:blip r:embed="rId2"/>
          <a:stretch/>
        </p:blipFill>
        <p:spPr>
          <a:xfrm>
            <a:off x="826920" y="1989000"/>
            <a:ext cx="1873440" cy="1913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3" descr="helen.jpg"/>
          <p:cNvPicPr/>
          <p:nvPr/>
        </p:nvPicPr>
        <p:blipFill>
          <a:blip r:embed="rId3"/>
          <a:stretch/>
        </p:blipFill>
        <p:spPr>
          <a:xfrm>
            <a:off x="6588000" y="3789360"/>
            <a:ext cx="1820880" cy="19432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4" descr="liutao.jpg"/>
          <p:cNvPicPr/>
          <p:nvPr/>
        </p:nvPicPr>
        <p:blipFill>
          <a:blip r:embed="rId4"/>
          <a:stretch/>
        </p:blipFill>
        <p:spPr>
          <a:xfrm>
            <a:off x="4572000" y="191628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1"/>
          <p:cNvSpPr/>
          <p:nvPr/>
        </p:nvSpPr>
        <p:spPr>
          <a:xfrm>
            <a:off x="4262400" y="189000"/>
            <a:ext cx="441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朋友俱乐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Friends Clu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D:\Documents and Settings\zxc\Application Data\Tencent\Users\13622834\QQ\WinTemp\RichOle\7TYH[CQ%B[6FUM]MX_7B8I0.jpg"/>
          <p:cNvPicPr/>
          <p:nvPr/>
        </p:nvPicPr>
        <p:blipFill>
          <a:blip r:embed="rId5"/>
          <a:stretch/>
        </p:blipFill>
        <p:spPr>
          <a:xfrm>
            <a:off x="2627280" y="3933720"/>
            <a:ext cx="19908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2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029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1" descr="20071121181836350_2"/>
          <p:cNvPicPr/>
          <p:nvPr/>
        </p:nvPicPr>
        <p:blipFill>
          <a:blip r:embed="rId2"/>
          <a:stretch/>
        </p:blipFill>
        <p:spPr>
          <a:xfrm>
            <a:off x="2484360" y="1052640"/>
            <a:ext cx="590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09:39:30Z</dcterms:created>
  <dc:creator>SEC</dc:creator>
  <dc:description/>
  <dc:language>en-US</dc:language>
  <cp:lastModifiedBy>微软用户</cp:lastModifiedBy>
  <dcterms:modified xsi:type="dcterms:W3CDTF">2012-09-01T04:04:40Z</dcterms:modified>
  <cp:revision>35</cp:revision>
  <dc:subject/>
  <dc:title>幻灯片 1</dc:title>
</cp:coreProperties>
</file>