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FEF-49C9-47B1-BE7D-5EB0AA3C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5B5-B457-43EF-AEC5-0F49AD37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3B5-635C-4B07-984B-952848C4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267-1312-47C7-90E6-F30C6FAD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733-D356-46AF-81FE-9D321BB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7B0-B330-49FD-BF82-28B46E65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7CE-2722-4940-B81B-7ED93935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673-D71D-4FAD-ADCD-5386C3C0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0E7-6E42-462E-BDD3-FAA79A04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AF0-E26D-4688-B252-1A539C6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139-F485-4089-BFE9-DA6BC4E8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041-DD03-4D32-A971-FF4CECAA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415F-0674-44C1-B3DF-D5859E070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" Target="slide16.xml"/><Relationship Id="rId6" Type="http://schemas.openxmlformats.org/officeDocument/2006/relationships/slide" Target="slide3.xml"/><Relationship Id="rId7" Type="http://schemas.openxmlformats.org/officeDocument/2006/relationships/image" Target="../media/image4.jpeg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image" Target="../media/image5.jpeg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4.xml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Unit 2 Grammar(I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un Qingq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Zhengheng Secondary Schoo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8101080" y="6093000"/>
            <a:ext cx="718920" cy="76500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84">
                <a:moveTo>
                  <a:pt x="0" y="0"/>
                </a:moveTo>
                <a:lnTo>
                  <a:pt x="21600" y="0"/>
                </a:lnTo>
                <a:lnTo>
                  <a:pt x="21600" y="22984"/>
                </a:lnTo>
                <a:lnTo>
                  <a:pt x="0" y="22984"/>
                </a:lnTo>
                <a:close/>
              </a:path>
              <a:path fill="lightenLess" w="21600" h="22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84">
                <a:moveTo>
                  <a:pt x="21600" y="0"/>
                </a:moveTo>
                <a:lnTo>
                  <a:pt x="21600" y="22984"/>
                </a:lnTo>
                <a:lnTo>
                  <a:pt x="20200" y="21584"/>
                </a:lnTo>
                <a:lnTo>
                  <a:pt x="20200" y="1400"/>
                </a:lnTo>
                <a:close/>
              </a:path>
              <a:path fill="darkenLess" w="21600" h="22984">
                <a:moveTo>
                  <a:pt x="21600" y="22984"/>
                </a:moveTo>
                <a:lnTo>
                  <a:pt x="0" y="22984"/>
                </a:lnTo>
                <a:lnTo>
                  <a:pt x="1400" y="21584"/>
                </a:lnTo>
                <a:lnTo>
                  <a:pt x="20200" y="21584"/>
                </a:lnTo>
                <a:close/>
              </a:path>
              <a:path fill="lighten" w="21600" h="22984">
                <a:moveTo>
                  <a:pt x="0" y="22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84"/>
                </a:lnTo>
                <a:close/>
              </a:path>
              <a:path fill="darken" w="21600" h="22984">
                <a:moveTo>
                  <a:pt x="10800" y="4529"/>
                </a:moveTo>
                <a:lnTo>
                  <a:pt x="13376" y="7140"/>
                </a:lnTo>
                <a:lnTo>
                  <a:pt x="13376" y="5399"/>
                </a:lnTo>
                <a:lnTo>
                  <a:pt x="15152" y="5399"/>
                </a:lnTo>
                <a:lnTo>
                  <a:pt x="15152" y="8916"/>
                </a:lnTo>
                <a:lnTo>
                  <a:pt x="17763" y="11492"/>
                </a:lnTo>
                <a:lnTo>
                  <a:pt x="16109" y="11492"/>
                </a:lnTo>
                <a:lnTo>
                  <a:pt x="16109" y="18681"/>
                </a:lnTo>
                <a:lnTo>
                  <a:pt x="5491" y="18681"/>
                </a:lnTo>
                <a:lnTo>
                  <a:pt x="5491" y="11492"/>
                </a:lnTo>
                <a:lnTo>
                  <a:pt x="3837" y="11492"/>
                </a:lnTo>
                <a:close/>
              </a:path>
              <a:path fill="darkenLess" w="21600" h="22984">
                <a:moveTo>
                  <a:pt x="13376" y="7140"/>
                </a:moveTo>
                <a:lnTo>
                  <a:pt x="13376" y="5399"/>
                </a:lnTo>
                <a:lnTo>
                  <a:pt x="15152" y="5399"/>
                </a:lnTo>
                <a:lnTo>
                  <a:pt x="15152" y="8916"/>
                </a:lnTo>
                <a:close/>
              </a:path>
              <a:path fill="darkenLess" w="21600" h="22984">
                <a:moveTo>
                  <a:pt x="9877" y="14991"/>
                </a:moveTo>
                <a:lnTo>
                  <a:pt x="11723" y="14991"/>
                </a:lnTo>
                <a:lnTo>
                  <a:pt x="11723" y="18681"/>
                </a:lnTo>
                <a:lnTo>
                  <a:pt x="16109" y="18681"/>
                </a:lnTo>
                <a:lnTo>
                  <a:pt x="16109" y="11492"/>
                </a:lnTo>
                <a:lnTo>
                  <a:pt x="5491" y="11492"/>
                </a:lnTo>
                <a:lnTo>
                  <a:pt x="5491" y="18681"/>
                </a:lnTo>
                <a:lnTo>
                  <a:pt x="9877" y="186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8560" y="1197000"/>
            <a:ext cx="2673360" cy="345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56400" y="1197000"/>
            <a:ext cx="2665440" cy="344628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9320 w 1332000"/>
              <a:gd name="textAreaRight" fmla="*/ 1282680 w 133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02" y="1400"/>
                </a:lnTo>
                <a:lnTo>
                  <a:pt x="1400" y="140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02" y="20200"/>
                </a:lnTo>
                <a:lnTo>
                  <a:pt x="36202" y="140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2" y="2020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2" h="21600">
                <a:moveTo>
                  <a:pt x="18801" y="3837"/>
                </a:moveTo>
                <a:lnTo>
                  <a:pt x="21377" y="6448"/>
                </a:lnTo>
                <a:lnTo>
                  <a:pt x="21377" y="4707"/>
                </a:lnTo>
                <a:lnTo>
                  <a:pt x="23153" y="4707"/>
                </a:lnTo>
                <a:lnTo>
                  <a:pt x="23153" y="8224"/>
                </a:lnTo>
                <a:lnTo>
                  <a:pt x="25764" y="10800"/>
                </a:lnTo>
                <a:lnTo>
                  <a:pt x="24110" y="10800"/>
                </a:lnTo>
                <a:lnTo>
                  <a:pt x="24110" y="17989"/>
                </a:lnTo>
                <a:lnTo>
                  <a:pt x="13492" y="17989"/>
                </a:lnTo>
                <a:lnTo>
                  <a:pt x="13492" y="10800"/>
                </a:lnTo>
                <a:lnTo>
                  <a:pt x="11838" y="10800"/>
                </a:lnTo>
                <a:close/>
              </a:path>
              <a:path fill="darkenLess" w="37602" h="21600">
                <a:moveTo>
                  <a:pt x="21377" y="6448"/>
                </a:moveTo>
                <a:lnTo>
                  <a:pt x="21377" y="4707"/>
                </a:lnTo>
                <a:lnTo>
                  <a:pt x="23153" y="4707"/>
                </a:lnTo>
                <a:lnTo>
                  <a:pt x="23153" y="8224"/>
                </a:lnTo>
                <a:close/>
              </a:path>
              <a:path fill="darkenLess" w="37602" h="21600">
                <a:moveTo>
                  <a:pt x="17878" y="14299"/>
                </a:moveTo>
                <a:lnTo>
                  <a:pt x="19724" y="14299"/>
                </a:lnTo>
                <a:lnTo>
                  <a:pt x="19724" y="17989"/>
                </a:lnTo>
                <a:lnTo>
                  <a:pt x="24110" y="17989"/>
                </a:lnTo>
                <a:lnTo>
                  <a:pt x="24110" y="10800"/>
                </a:lnTo>
                <a:lnTo>
                  <a:pt x="13492" y="10800"/>
                </a:lnTo>
                <a:lnTo>
                  <a:pt x="13492" y="17989"/>
                </a:lnTo>
                <a:lnTo>
                  <a:pt x="1787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60036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68360" y="2637000"/>
            <a:ext cx="400068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643280" y="549360"/>
            <a:ext cx="4000680" cy="180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4076640"/>
            <a:ext cx="400068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067280" y="4292640"/>
            <a:ext cx="352908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8172360" y="5589720"/>
            <a:ext cx="971640" cy="1268280"/>
          </a:xfrm>
          <a:custGeom>
            <a:avLst/>
            <a:gdLst>
              <a:gd name="textAreaLeft" fmla="*/ 63000 w 971640"/>
              <a:gd name="textAreaRight" fmla="*/ 909000 w 971640"/>
              <a:gd name="textAreaTop" fmla="*/ 63000 h 1268280"/>
              <a:gd name="textAreaBottom" fmla="*/ 1205640 h 1268280"/>
            </a:gdLst>
            <a:ahLst/>
            <a:rect l="textAreaLeft" t="textAreaTop" r="textAreaRight" b="textAreaBottom"/>
            <a:pathLst>
              <a:path w="21600" h="28192">
                <a:moveTo>
                  <a:pt x="0" y="0"/>
                </a:moveTo>
                <a:lnTo>
                  <a:pt x="21600" y="0"/>
                </a:lnTo>
                <a:lnTo>
                  <a:pt x="21600" y="28192"/>
                </a:lnTo>
                <a:lnTo>
                  <a:pt x="0" y="28192"/>
                </a:lnTo>
                <a:close/>
              </a:path>
              <a:path fill="lightenLess" w="21600" h="281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92">
                <a:moveTo>
                  <a:pt x="21600" y="0"/>
                </a:moveTo>
                <a:lnTo>
                  <a:pt x="21600" y="28192"/>
                </a:lnTo>
                <a:lnTo>
                  <a:pt x="20200" y="26792"/>
                </a:lnTo>
                <a:lnTo>
                  <a:pt x="20200" y="1400"/>
                </a:lnTo>
                <a:close/>
              </a:path>
              <a:path fill="darkenLess" w="21600" h="28192">
                <a:moveTo>
                  <a:pt x="21600" y="28192"/>
                </a:moveTo>
                <a:lnTo>
                  <a:pt x="0" y="28192"/>
                </a:lnTo>
                <a:lnTo>
                  <a:pt x="1400" y="26792"/>
                </a:lnTo>
                <a:lnTo>
                  <a:pt x="20200" y="26792"/>
                </a:lnTo>
                <a:close/>
              </a:path>
              <a:path fill="lighten" w="21600" h="28192">
                <a:moveTo>
                  <a:pt x="0" y="281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92"/>
                </a:lnTo>
                <a:close/>
              </a:path>
              <a:path fill="darken" w="21600" h="28192">
                <a:moveTo>
                  <a:pt x="10800" y="7133"/>
                </a:moveTo>
                <a:lnTo>
                  <a:pt x="13376" y="9744"/>
                </a:lnTo>
                <a:lnTo>
                  <a:pt x="13376" y="8003"/>
                </a:lnTo>
                <a:lnTo>
                  <a:pt x="15152" y="8003"/>
                </a:lnTo>
                <a:lnTo>
                  <a:pt x="15152" y="11520"/>
                </a:lnTo>
                <a:lnTo>
                  <a:pt x="17763" y="14096"/>
                </a:lnTo>
                <a:lnTo>
                  <a:pt x="16109" y="14096"/>
                </a:lnTo>
                <a:lnTo>
                  <a:pt x="16109" y="21285"/>
                </a:lnTo>
                <a:lnTo>
                  <a:pt x="5491" y="21285"/>
                </a:lnTo>
                <a:lnTo>
                  <a:pt x="5491" y="14096"/>
                </a:lnTo>
                <a:lnTo>
                  <a:pt x="3837" y="14096"/>
                </a:lnTo>
                <a:close/>
              </a:path>
              <a:path fill="darkenLess" w="21600" h="28192">
                <a:moveTo>
                  <a:pt x="13376" y="9744"/>
                </a:moveTo>
                <a:lnTo>
                  <a:pt x="13376" y="8003"/>
                </a:lnTo>
                <a:lnTo>
                  <a:pt x="15152" y="8003"/>
                </a:lnTo>
                <a:lnTo>
                  <a:pt x="15152" y="11520"/>
                </a:lnTo>
                <a:close/>
              </a:path>
              <a:path fill="darkenLess" w="21600" h="28192">
                <a:moveTo>
                  <a:pt x="9877" y="17595"/>
                </a:moveTo>
                <a:lnTo>
                  <a:pt x="11723" y="17595"/>
                </a:lnTo>
                <a:lnTo>
                  <a:pt x="11723" y="21285"/>
                </a:lnTo>
                <a:lnTo>
                  <a:pt x="16109" y="21285"/>
                </a:lnTo>
                <a:lnTo>
                  <a:pt x="16109" y="14096"/>
                </a:lnTo>
                <a:lnTo>
                  <a:pt x="5491" y="14096"/>
                </a:lnTo>
                <a:lnTo>
                  <a:pt x="5491" y="21285"/>
                </a:lnTo>
                <a:lnTo>
                  <a:pt x="9877" y="212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175200" cy="194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3174840" cy="208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316692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508720" y="3284640"/>
            <a:ext cx="3174840" cy="23749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7956720" y="5877000"/>
            <a:ext cx="1187280" cy="981000"/>
          </a:xfrm>
          <a:custGeom>
            <a:avLst/>
            <a:gdLst>
              <a:gd name="textAreaLeft" fmla="*/ 63360 w 1187280"/>
              <a:gd name="textAreaRight" fmla="*/ 1123920 w 118728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6140" h="21600">
                <a:moveTo>
                  <a:pt x="0" y="0"/>
                </a:moveTo>
                <a:lnTo>
                  <a:pt x="26140" y="0"/>
                </a:lnTo>
                <a:lnTo>
                  <a:pt x="26140" y="21600"/>
                </a:lnTo>
                <a:lnTo>
                  <a:pt x="0" y="21600"/>
                </a:lnTo>
                <a:close/>
              </a:path>
              <a:path fill="lightenLess" w="26140" h="21600">
                <a:moveTo>
                  <a:pt x="0" y="0"/>
                </a:moveTo>
                <a:lnTo>
                  <a:pt x="26140" y="0"/>
                </a:lnTo>
                <a:lnTo>
                  <a:pt x="24740" y="1400"/>
                </a:lnTo>
                <a:lnTo>
                  <a:pt x="1400" y="1400"/>
                </a:lnTo>
                <a:close/>
              </a:path>
              <a:path fill="darken" w="26140" h="21600">
                <a:moveTo>
                  <a:pt x="26140" y="0"/>
                </a:moveTo>
                <a:lnTo>
                  <a:pt x="26140" y="21600"/>
                </a:lnTo>
                <a:lnTo>
                  <a:pt x="24740" y="20200"/>
                </a:lnTo>
                <a:lnTo>
                  <a:pt x="24740" y="1400"/>
                </a:lnTo>
                <a:close/>
              </a:path>
              <a:path fill="darkenLess" w="26140" h="21600">
                <a:moveTo>
                  <a:pt x="26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0" y="20200"/>
                </a:lnTo>
                <a:close/>
              </a:path>
              <a:path fill="lighten" w="26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0" h="21600">
                <a:moveTo>
                  <a:pt x="13070" y="3837"/>
                </a:moveTo>
                <a:lnTo>
                  <a:pt x="15646" y="6448"/>
                </a:lnTo>
                <a:lnTo>
                  <a:pt x="15646" y="4707"/>
                </a:lnTo>
                <a:lnTo>
                  <a:pt x="17422" y="4707"/>
                </a:lnTo>
                <a:lnTo>
                  <a:pt x="17422" y="8224"/>
                </a:lnTo>
                <a:lnTo>
                  <a:pt x="20033" y="10800"/>
                </a:lnTo>
                <a:lnTo>
                  <a:pt x="18379" y="10800"/>
                </a:lnTo>
                <a:lnTo>
                  <a:pt x="18379" y="17989"/>
                </a:lnTo>
                <a:lnTo>
                  <a:pt x="7761" y="17989"/>
                </a:lnTo>
                <a:lnTo>
                  <a:pt x="7761" y="10800"/>
                </a:lnTo>
                <a:lnTo>
                  <a:pt x="6107" y="10800"/>
                </a:lnTo>
                <a:close/>
              </a:path>
              <a:path fill="darkenLess" w="26140" h="21600">
                <a:moveTo>
                  <a:pt x="15646" y="6448"/>
                </a:moveTo>
                <a:lnTo>
                  <a:pt x="15646" y="4707"/>
                </a:lnTo>
                <a:lnTo>
                  <a:pt x="17422" y="4707"/>
                </a:lnTo>
                <a:lnTo>
                  <a:pt x="17422" y="8224"/>
                </a:lnTo>
                <a:close/>
              </a:path>
              <a:path fill="darkenLess" w="26140" h="21600">
                <a:moveTo>
                  <a:pt x="12148" y="14299"/>
                </a:moveTo>
                <a:lnTo>
                  <a:pt x="13993" y="14299"/>
                </a:lnTo>
                <a:lnTo>
                  <a:pt x="13993" y="17989"/>
                </a:lnTo>
                <a:lnTo>
                  <a:pt x="18379" y="17989"/>
                </a:lnTo>
                <a:lnTo>
                  <a:pt x="18379" y="10800"/>
                </a:lnTo>
                <a:lnTo>
                  <a:pt x="7761" y="10800"/>
                </a:lnTo>
                <a:lnTo>
                  <a:pt x="7761" y="17989"/>
                </a:lnTo>
                <a:lnTo>
                  <a:pt x="1214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54016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2539800" cy="1752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508720" y="549360"/>
            <a:ext cx="2539800" cy="17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651640" y="4149720"/>
            <a:ext cx="2539800" cy="17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2987640" y="2492280"/>
            <a:ext cx="2540160" cy="1752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7" action="ppaction://hlinksldjump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13274" y="3837"/>
                </a:moveTo>
                <a:lnTo>
                  <a:pt x="15850" y="6448"/>
                </a:ln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lnTo>
                  <a:pt x="20237" y="10800"/>
                </a:lnTo>
                <a:lnTo>
                  <a:pt x="18583" y="10800"/>
                </a:lnTo>
                <a:lnTo>
                  <a:pt x="18583" y="17989"/>
                </a:lnTo>
                <a:lnTo>
                  <a:pt x="7965" y="17989"/>
                </a:lnTo>
                <a:lnTo>
                  <a:pt x="7965" y="10800"/>
                </a:lnTo>
                <a:lnTo>
                  <a:pt x="6311" y="10800"/>
                </a:lnTo>
                <a:close/>
              </a:path>
              <a:path fill="darkenLess" w="26548" h="21600">
                <a:moveTo>
                  <a:pt x="15850" y="6448"/>
                </a:move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close/>
              </a:path>
              <a:path fill="darkenLess" w="26548" h="21600">
                <a:moveTo>
                  <a:pt x="12352" y="14299"/>
                </a:moveTo>
                <a:lnTo>
                  <a:pt x="14197" y="14299"/>
                </a:lnTo>
                <a:lnTo>
                  <a:pt x="14197" y="17989"/>
                </a:lnTo>
                <a:lnTo>
                  <a:pt x="18583" y="17989"/>
                </a:lnTo>
                <a:lnTo>
                  <a:pt x="18583" y="10800"/>
                </a:lnTo>
                <a:lnTo>
                  <a:pt x="7965" y="10800"/>
                </a:lnTo>
                <a:lnTo>
                  <a:pt x="7965" y="17989"/>
                </a:lnTo>
                <a:lnTo>
                  <a:pt x="1235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1384200" cy="2539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77080" y="692280"/>
            <a:ext cx="1308240" cy="2309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780000" y="620640"/>
            <a:ext cx="1307880" cy="2309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156360" y="2565360"/>
            <a:ext cx="1308240" cy="2309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492360" y="2565360"/>
            <a:ext cx="1308240" cy="2309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50920" y="2708280"/>
            <a:ext cx="1307880" cy="2309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28000" y="5805360"/>
            <a:ext cx="1116000" cy="1052640"/>
          </a:xfrm>
          <a:custGeom>
            <a:avLst/>
            <a:gdLst>
              <a:gd name="textAreaLeft" fmla="*/ 68040 w 1116000"/>
              <a:gd name="textAreaRight" fmla="*/ 1047960 w 111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2900" h="21600">
                <a:moveTo>
                  <a:pt x="0" y="0"/>
                </a:moveTo>
                <a:lnTo>
                  <a:pt x="22900" y="0"/>
                </a:lnTo>
                <a:lnTo>
                  <a:pt x="22900" y="21600"/>
                </a:lnTo>
                <a:lnTo>
                  <a:pt x="0" y="21600"/>
                </a:lnTo>
                <a:close/>
              </a:path>
              <a:path fill="lightenLess" w="22900" h="21600">
                <a:moveTo>
                  <a:pt x="0" y="0"/>
                </a:moveTo>
                <a:lnTo>
                  <a:pt x="22900" y="0"/>
                </a:lnTo>
                <a:lnTo>
                  <a:pt x="21500" y="1400"/>
                </a:lnTo>
                <a:lnTo>
                  <a:pt x="1400" y="1400"/>
                </a:lnTo>
                <a:close/>
              </a:path>
              <a:path fill="darken" w="22900" h="21600">
                <a:moveTo>
                  <a:pt x="22900" y="0"/>
                </a:moveTo>
                <a:lnTo>
                  <a:pt x="22900" y="21600"/>
                </a:lnTo>
                <a:lnTo>
                  <a:pt x="21500" y="20200"/>
                </a:lnTo>
                <a:lnTo>
                  <a:pt x="21500" y="1400"/>
                </a:lnTo>
                <a:close/>
              </a:path>
              <a:path fill="darkenLess" w="22900" h="21600">
                <a:moveTo>
                  <a:pt x="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0" y="20200"/>
                </a:lnTo>
                <a:close/>
              </a:path>
              <a:path fill="lighten" w="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0" h="21600">
                <a:moveTo>
                  <a:pt x="11450" y="3837"/>
                </a:moveTo>
                <a:lnTo>
                  <a:pt x="14026" y="6448"/>
                </a:lnTo>
                <a:lnTo>
                  <a:pt x="14026" y="4707"/>
                </a:lnTo>
                <a:lnTo>
                  <a:pt x="15802" y="4707"/>
                </a:lnTo>
                <a:lnTo>
                  <a:pt x="15802" y="8224"/>
                </a:lnTo>
                <a:lnTo>
                  <a:pt x="18413" y="10800"/>
                </a:lnTo>
                <a:lnTo>
                  <a:pt x="16759" y="10800"/>
                </a:lnTo>
                <a:lnTo>
                  <a:pt x="16759" y="17989"/>
                </a:lnTo>
                <a:lnTo>
                  <a:pt x="6141" y="17989"/>
                </a:lnTo>
                <a:lnTo>
                  <a:pt x="6141" y="10800"/>
                </a:lnTo>
                <a:lnTo>
                  <a:pt x="4487" y="10800"/>
                </a:lnTo>
                <a:close/>
              </a:path>
              <a:path fill="darkenLess" w="22900" h="21600">
                <a:moveTo>
                  <a:pt x="14026" y="6448"/>
                </a:moveTo>
                <a:lnTo>
                  <a:pt x="14026" y="4707"/>
                </a:lnTo>
                <a:lnTo>
                  <a:pt x="15802" y="4707"/>
                </a:lnTo>
                <a:lnTo>
                  <a:pt x="15802" y="8224"/>
                </a:lnTo>
                <a:close/>
              </a:path>
              <a:path fill="darkenLess" w="22900" h="21600">
                <a:moveTo>
                  <a:pt x="10527" y="14299"/>
                </a:moveTo>
                <a:lnTo>
                  <a:pt x="12372" y="14299"/>
                </a:lnTo>
                <a:lnTo>
                  <a:pt x="12372" y="17989"/>
                </a:lnTo>
                <a:lnTo>
                  <a:pt x="16759" y="17989"/>
                </a:lnTo>
                <a:lnTo>
                  <a:pt x="16759" y="10800"/>
                </a:lnTo>
                <a:lnTo>
                  <a:pt x="6141" y="10800"/>
                </a:lnTo>
                <a:lnTo>
                  <a:pt x="6141" y="17989"/>
                </a:lnTo>
                <a:lnTo>
                  <a:pt x="1052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1700280"/>
            <a:ext cx="360360" cy="20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1635120"/>
            <a:ext cx="25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ow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314784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How 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98900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50028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1341360"/>
            <a:ext cx="550872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Comic Sans MS"/>
              </a:rPr>
              <a:t>egg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Comic Sans MS"/>
              </a:rPr>
              <a:t>,tomato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es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Comic Sans MS"/>
              </a:rPr>
              <a:t>,lemon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Comic Sans MS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可数名词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复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3141720"/>
            <a:ext cx="4753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6600"/>
                </a:solidFill>
                <a:uFillTx/>
                <a:latin typeface="Comic Sans MS"/>
              </a:rPr>
              <a:t>ham, milk, Cok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不可数名词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7240" cy="1125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0"/>
            <a:ext cx="62658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Sum up(</a:t>
            </a:r>
            <a:r>
              <a:rPr b="1" lang="zh-CN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总结</a:t>
            </a:r>
            <a:r>
              <a:rPr b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)</a:t>
            </a:r>
            <a:endParaRPr b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9640" y="1533600"/>
            <a:ext cx="8064720" cy="477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3320" y="639720"/>
            <a:ext cx="85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lete  the conversation on page 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1)_________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forks, plates and cu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do we n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M: I think (2)___ of each will be en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D: Do we need lots of food then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(3)_________ bread shall we bu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M: I think we need about (4)___loa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of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D: (5)______ beef and ham shall we g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M: About (6)___ kilos of 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D: What else do you want to bu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M: We need some eggs and tomat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How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141300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242100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How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3068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4149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How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797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6756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D:(7)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How many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do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:I think we need (8)____ egg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9)____tomat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D:I think we need some chips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________packets shall we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:We need about____ p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D:What else do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:We need ____ big cartons of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nd some C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3213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4292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2637000"/>
            <a:ext cx="21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How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0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1557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99800">
            <a:off x="4572000" y="4869000"/>
            <a:ext cx="2324160" cy="2184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210360" y="0"/>
            <a:ext cx="2933640" cy="576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00720" y="40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iss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7812000" y="6165720"/>
            <a:ext cx="1332000" cy="692280"/>
          </a:xfrm>
          <a:custGeom>
            <a:avLst/>
            <a:gdLst>
              <a:gd name="textAreaLeft" fmla="*/ 44640 w 1332000"/>
              <a:gd name="textAreaRight" fmla="*/ 1287360 w 1332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1550" h="21600">
                <a:moveTo>
                  <a:pt x="0" y="0"/>
                </a:moveTo>
                <a:lnTo>
                  <a:pt x="41550" y="0"/>
                </a:lnTo>
                <a:lnTo>
                  <a:pt x="41550" y="21600"/>
                </a:lnTo>
                <a:lnTo>
                  <a:pt x="0" y="21600"/>
                </a:lnTo>
                <a:close/>
              </a:path>
              <a:path fill="lightenLess" w="41550" h="21600">
                <a:moveTo>
                  <a:pt x="0" y="0"/>
                </a:moveTo>
                <a:lnTo>
                  <a:pt x="41550" y="0"/>
                </a:lnTo>
                <a:lnTo>
                  <a:pt x="40150" y="1400"/>
                </a:lnTo>
                <a:lnTo>
                  <a:pt x="1400" y="1400"/>
                </a:lnTo>
                <a:close/>
              </a:path>
              <a:path fill="darken" w="41550" h="21600">
                <a:moveTo>
                  <a:pt x="41550" y="0"/>
                </a:moveTo>
                <a:lnTo>
                  <a:pt x="41550" y="21600"/>
                </a:lnTo>
                <a:lnTo>
                  <a:pt x="40150" y="20200"/>
                </a:lnTo>
                <a:lnTo>
                  <a:pt x="40150" y="1400"/>
                </a:lnTo>
                <a:close/>
              </a:path>
              <a:path fill="darkenLess" w="41550" h="21600">
                <a:moveTo>
                  <a:pt x="41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50" y="20200"/>
                </a:lnTo>
                <a:close/>
              </a:path>
              <a:path fill="lighten" w="41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50" h="21600">
                <a:moveTo>
                  <a:pt x="24274" y="10800"/>
                </a:moveTo>
                <a:lnTo>
                  <a:pt x="13768" y="17806"/>
                </a:lnTo>
                <a:lnTo>
                  <a:pt x="13768" y="3794"/>
                </a:lnTo>
                <a:close/>
              </a:path>
              <a:path fill="darken" w="41550" h="21600">
                <a:moveTo>
                  <a:pt x="26119" y="3794"/>
                </a:moveTo>
                <a:lnTo>
                  <a:pt x="26119" y="17806"/>
                </a:lnTo>
                <a:lnTo>
                  <a:pt x="27781" y="17806"/>
                </a:lnTo>
                <a:lnTo>
                  <a:pt x="2778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4653000"/>
            <a:ext cx="2050920" cy="22050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75564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81080" y="189000"/>
            <a:ext cx="6408720" cy="936360"/>
          </a:xfrm>
          <a:prstGeom prst="cloudCallout">
            <a:avLst>
              <a:gd name="adj1" fmla="val -25402"/>
              <a:gd name="adj2" fmla="val 56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My d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40000" y="479736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435600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4427640" y="2276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4643280" y="1700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900000" y="134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684360" y="256536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tom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4356000" y="10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4356000" y="350028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be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539640" y="321300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hambu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4221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04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No.1:ea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1413000"/>
            <a:ext cx="287280" cy="936360"/>
          </a:xfrm>
          <a:prstGeom prst="down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349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No.2:collec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56360" y="1268280"/>
            <a:ext cx="2987640" cy="5589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588000" y="4365720"/>
            <a:ext cx="208764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 rot="1182600">
            <a:off x="0" y="0"/>
            <a:ext cx="2665440" cy="2305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2735280" cy="2519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2879640" cy="25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20664000">
            <a:off x="2124000" y="476280"/>
            <a:ext cx="20113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3792240" y="-149040"/>
            <a:ext cx="3072600" cy="2818800"/>
            <a:chOff x="3792240" y="-149040"/>
            <a:chExt cx="3072600" cy="281880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 rot="385200">
              <a:off x="3927960" y="-64080"/>
              <a:ext cx="1656000" cy="25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 rot="385200">
              <a:off x="5073480" y="64440"/>
              <a:ext cx="1655640" cy="25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5364000" y="1773360"/>
            <a:ext cx="2627280" cy="3770280"/>
            <a:chOff x="5364000" y="1773360"/>
            <a:chExt cx="2627280" cy="3770280"/>
          </a:xfrm>
        </p:grpSpPr>
        <p:pic>
          <p:nvPicPr>
            <p:cNvPr id="181" name="" descr=""/>
            <p:cNvPicPr/>
            <p:nvPr/>
          </p:nvPicPr>
          <p:blipFill>
            <a:blip r:embed="rId8"/>
            <a:stretch/>
          </p:blipFill>
          <p:spPr>
            <a:xfrm>
              <a:off x="5364000" y="2781360"/>
              <a:ext cx="1584360" cy="27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9"/>
            <a:stretch/>
          </p:blipFill>
          <p:spPr>
            <a:xfrm>
              <a:off x="6406920" y="1773360"/>
              <a:ext cx="1584360" cy="276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6443640" y="549360"/>
            <a:ext cx="2428920" cy="201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4427640" y="520236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 rot="596400">
            <a:off x="6732360" y="4437000"/>
            <a:ext cx="2663640" cy="2881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 rot="21045000">
            <a:off x="2484000" y="4626000"/>
            <a:ext cx="1905120" cy="223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 rot="20571000">
            <a:off x="0" y="45810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9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3745080" cy="1944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80000" y="119700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 _____ (girl) hair c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112536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girl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3635280" cy="3240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780000" y="386064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_____ (girl) hair c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378936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girls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1655640" cy="2520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780000" y="119700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 ______ mode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105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boy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4336920"/>
            <a:ext cx="4140360" cy="2521080"/>
            <a:chOff x="0" y="4336920"/>
            <a:chExt cx="4140360" cy="2521080"/>
          </a:xfrm>
        </p:grpSpPr>
        <p:grpSp>
          <p:nvGrpSpPr>
            <p:cNvPr id="202" name=""/>
            <p:cNvGrpSpPr/>
            <p:nvPr/>
          </p:nvGrpSpPr>
          <p:grpSpPr>
            <a:xfrm>
              <a:off x="0" y="4336920"/>
              <a:ext cx="2808360" cy="2520720"/>
              <a:chOff x="0" y="4336920"/>
              <a:chExt cx="2808360" cy="2520720"/>
            </a:xfrm>
          </p:grpSpPr>
          <p:pic>
            <p:nvPicPr>
              <p:cNvPr id="2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336920"/>
                <a:ext cx="1656000" cy="25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2720" y="4336920"/>
                <a:ext cx="1655640" cy="252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2484360" y="4336920"/>
              <a:ext cx="1656000" cy="252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4140360" y="378936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______ model pl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3573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boys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00720" y="112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 _______ flower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1052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woman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3112920"/>
            <a:ext cx="5328720" cy="3745080"/>
            <a:chOff x="0" y="3112920"/>
            <a:chExt cx="5328720" cy="3745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1800000" y="4338360"/>
              <a:ext cx="3528720" cy="25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>
              <a:off x="0" y="3112920"/>
              <a:ext cx="3024000" cy="22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7280" y="3141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_________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3068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women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8360" y="260280"/>
            <a:ext cx="25398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809880" cy="2762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859280" y="1341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 _______ 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34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man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4653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________ 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3068640"/>
            <a:ext cx="4716360" cy="4103640"/>
            <a:chOff x="0" y="3068640"/>
            <a:chExt cx="4716360" cy="4103640"/>
          </a:xfrm>
        </p:grpSpPr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0" y="4076640"/>
              <a:ext cx="212076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1042920" y="3068640"/>
              <a:ext cx="21211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2987640" y="4410000"/>
              <a:ext cx="1728720" cy="276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5148360" y="4653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men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97080" y="531360"/>
            <a:ext cx="10009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 ____(girl) hair clip      _____(girl)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c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 ___  (boy) model plane  ____(boy) model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pl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 ____(moman) flower  _____(wo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 ____(man) car           _____(man) 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 ____(child) card        ____(child)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单数名词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单数名词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后加</a:t>
            </a:r>
            <a:r>
              <a:rPr b="1" lang="zh-CN" sz="4400" spc="-1" strike="noStrike">
                <a:solidFill>
                  <a:srgbClr val="660066"/>
                </a:solidFill>
                <a:latin typeface="Comic Sans MS"/>
              </a:rPr>
              <a:t>‘</a:t>
            </a:r>
            <a:r>
              <a:rPr b="1" lang="zh-CN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若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以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结尾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在复数名词后加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复数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若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不以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s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结尾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在复数名词后加</a:t>
            </a:r>
            <a:r>
              <a:rPr b="1" lang="zh-CN" sz="4400" spc="-1" strike="noStrike">
                <a:solidFill>
                  <a:srgbClr val="000099"/>
                </a:solidFill>
                <a:latin typeface="Comic Sans MS"/>
              </a:rPr>
              <a:t>‘</a:t>
            </a:r>
            <a:r>
              <a:rPr b="1" lang="zh-CN" sz="4400" spc="-1" strike="noStrike">
                <a:solidFill>
                  <a:srgbClr val="000099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Noun+’s(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名词所有格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79640" y="2852640"/>
            <a:ext cx="431640" cy="1873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429000"/>
            <a:ext cx="84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y are ________(Miss Sun) teddy b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y are ___ (I) teddy b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teddy bears are ____(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teddy bears </a:t>
            </a:r>
            <a:r>
              <a:rPr b="0" lang="zh-CN" sz="3200" spc="-1" strike="noStrike">
                <a:solidFill>
                  <a:srgbClr val="000099"/>
                </a:solidFill>
                <a:latin typeface="Comic Sans MS"/>
              </a:rPr>
              <a:t>belong 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zh-CN" sz="3200" spc="-1" strike="noStrike">
                <a:solidFill>
                  <a:srgbClr val="000099"/>
                </a:solidFill>
                <a:latin typeface="Comic Sans MS"/>
              </a:rPr>
              <a:t>D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the teddy bears </a:t>
            </a:r>
            <a:r>
              <a:rPr b="0" lang="zh-CN" sz="3200" spc="-1" strike="noStrike">
                <a:solidFill>
                  <a:srgbClr val="000099"/>
                </a:solidFill>
                <a:latin typeface="Comic Sans MS"/>
              </a:rPr>
              <a:t>belong 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No, ___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386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36572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78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55640" y="476280"/>
            <a:ext cx="38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my teddy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=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79640" y="321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Miss Su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It is ____(she) p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=The pen is _____(she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112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581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It is ____(he)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=The book is ____(h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443700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7640" y="537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333360"/>
            <a:ext cx="5867280" cy="1152720"/>
          </a:xfrm>
          <a:prstGeom prst="cloudCallout">
            <a:avLst>
              <a:gd name="adj1" fmla="val -2949"/>
              <a:gd name="adj2" fmla="val 57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her pen=hers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84640"/>
            <a:ext cx="5616720" cy="1439640"/>
          </a:xfrm>
          <a:prstGeom prst="cloudCallout">
            <a:avLst>
              <a:gd name="adj1" fmla="val -38328"/>
              <a:gd name="adj2" fmla="val 28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his book=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2914560"/>
            <a:ext cx="3024000" cy="283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1465600">
            <a:off x="2268360" y="2565000"/>
            <a:ext cx="284328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11280" y="1484280"/>
            <a:ext cx="2843280" cy="26622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5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69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00000" y="1916280"/>
          <a:ext cx="7772400" cy="4478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(toy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r(toy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(toy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s(toy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r(toy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(toy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i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s(toy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68360" y="1125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形容词性物主代词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词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词性物主代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2565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321300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32360" y="386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450864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5084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the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84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y are ________ teddy b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y are ___ (I) teddy b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teddy bears are ____(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teddy bears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belong 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zh-CN" sz="3200" spc="-1" strike="noStrike">
                <a:solidFill>
                  <a:srgbClr val="000099"/>
                </a:solidFill>
                <a:latin typeface="Comic Sans MS"/>
              </a:rPr>
              <a:t>D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the teddy bears </a:t>
            </a:r>
            <a:r>
              <a:rPr b="0" lang="zh-CN" sz="3200" spc="-1" strike="noStrike">
                <a:solidFill>
                  <a:srgbClr val="000099"/>
                </a:solidFill>
                <a:latin typeface="Comic Sans MS"/>
              </a:rPr>
              <a:t>belong 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No, ___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404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98100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1484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Miss Sun/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42920" y="2349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24000" y="242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Miss Su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lo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3645000"/>
            <a:ext cx="287640" cy="86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43280" y="342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Miss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87640" y="422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76720" y="342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人名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人称代词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宾格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4724280"/>
            <a:ext cx="1223640" cy="75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45" y="3281"/>
                </a:moveTo>
                <a:lnTo>
                  <a:pt x="25858" y="3281"/>
                </a:lnTo>
                <a:lnTo>
                  <a:pt x="25858" y="-4147"/>
                </a:lnTo>
                <a:lnTo>
                  <a:pt x="22777" y="-1162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介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21300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动词词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8" dur="2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pen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=The pen is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hers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=The pen _____ ___ ____(sh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--___ the pen _____ ___ h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--No, it does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84360" y="134136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bel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34136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141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198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64000" y="206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be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64000" y="21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645000"/>
            <a:ext cx="8497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his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book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=The book is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his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=The book _____ ___ ____(h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--___ the pen _____ ___ h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--Yes, it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4653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bel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4653000"/>
            <a:ext cx="6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64000" y="4797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5300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530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be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76720" y="5300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95640" y="5877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333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40464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566100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2421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omic Sans MS"/>
              </a:rPr>
              <a:t>Ha~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77080" y="494172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80360" y="6165720"/>
            <a:ext cx="1763640" cy="692280"/>
          </a:xfrm>
          <a:custGeom>
            <a:avLst/>
            <a:gdLst>
              <a:gd name="textAreaLeft" fmla="*/ 44640 w 1763640"/>
              <a:gd name="textAreaRight" fmla="*/ 1719000 w 1763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5010" h="21600">
                <a:moveTo>
                  <a:pt x="0" y="0"/>
                </a:moveTo>
                <a:lnTo>
                  <a:pt x="55010" y="0"/>
                </a:lnTo>
                <a:lnTo>
                  <a:pt x="55010" y="21600"/>
                </a:lnTo>
                <a:lnTo>
                  <a:pt x="0" y="21600"/>
                </a:lnTo>
                <a:close/>
              </a:path>
              <a:path fill="lightenLess" w="55010" h="21600">
                <a:moveTo>
                  <a:pt x="0" y="0"/>
                </a:moveTo>
                <a:lnTo>
                  <a:pt x="55010" y="0"/>
                </a:lnTo>
                <a:lnTo>
                  <a:pt x="53610" y="1400"/>
                </a:lnTo>
                <a:lnTo>
                  <a:pt x="1400" y="1400"/>
                </a:lnTo>
                <a:close/>
              </a:path>
              <a:path fill="darken" w="55010" h="21600">
                <a:moveTo>
                  <a:pt x="55010" y="0"/>
                </a:moveTo>
                <a:lnTo>
                  <a:pt x="55010" y="21600"/>
                </a:lnTo>
                <a:lnTo>
                  <a:pt x="53610" y="20200"/>
                </a:lnTo>
                <a:lnTo>
                  <a:pt x="53610" y="1400"/>
                </a:lnTo>
                <a:close/>
              </a:path>
              <a:path fill="darkenLess" w="55010" h="21600">
                <a:moveTo>
                  <a:pt x="55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0" y="20200"/>
                </a:lnTo>
                <a:close/>
              </a:path>
              <a:path fill="lighten" w="55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010" h="21600">
                <a:moveTo>
                  <a:pt x="27505" y="3837"/>
                </a:moveTo>
                <a:lnTo>
                  <a:pt x="30081" y="6448"/>
                </a:lnTo>
                <a:lnTo>
                  <a:pt x="30081" y="4707"/>
                </a:lnTo>
                <a:lnTo>
                  <a:pt x="31857" y="4707"/>
                </a:lnTo>
                <a:lnTo>
                  <a:pt x="31857" y="8224"/>
                </a:lnTo>
                <a:lnTo>
                  <a:pt x="34468" y="10800"/>
                </a:lnTo>
                <a:lnTo>
                  <a:pt x="32814" y="10800"/>
                </a:lnTo>
                <a:lnTo>
                  <a:pt x="32814" y="17989"/>
                </a:lnTo>
                <a:lnTo>
                  <a:pt x="22196" y="17989"/>
                </a:lnTo>
                <a:lnTo>
                  <a:pt x="22196" y="10800"/>
                </a:lnTo>
                <a:lnTo>
                  <a:pt x="20542" y="10800"/>
                </a:lnTo>
                <a:close/>
              </a:path>
              <a:path fill="darkenLess" w="55010" h="21600">
                <a:moveTo>
                  <a:pt x="30081" y="6448"/>
                </a:moveTo>
                <a:lnTo>
                  <a:pt x="30081" y="4707"/>
                </a:lnTo>
                <a:lnTo>
                  <a:pt x="31857" y="4707"/>
                </a:lnTo>
                <a:lnTo>
                  <a:pt x="31857" y="8224"/>
                </a:lnTo>
                <a:close/>
              </a:path>
              <a:path fill="darkenLess" w="55010" h="21600">
                <a:moveTo>
                  <a:pt x="26583" y="14299"/>
                </a:moveTo>
                <a:lnTo>
                  <a:pt x="28428" y="14299"/>
                </a:lnTo>
                <a:lnTo>
                  <a:pt x="28428" y="17989"/>
                </a:lnTo>
                <a:lnTo>
                  <a:pt x="32814" y="17989"/>
                </a:lnTo>
                <a:lnTo>
                  <a:pt x="32814" y="10800"/>
                </a:lnTo>
                <a:lnTo>
                  <a:pt x="22196" y="10800"/>
                </a:lnTo>
                <a:lnTo>
                  <a:pt x="22196" y="17989"/>
                </a:lnTo>
                <a:lnTo>
                  <a:pt x="265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4000" y="328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t is _____ (you) iph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iphone is ______(yo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iphone _____ ___ ____(yo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Does the iphone </a:t>
            </a:r>
            <a:r>
              <a:rPr b="0" lang="zh-CN" sz="3200" spc="-1" strike="noStrike">
                <a:solidFill>
                  <a:srgbClr val="000099"/>
                </a:solidFill>
                <a:latin typeface="Comic Sans MS"/>
              </a:rPr>
              <a:t>belong 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No, ____ 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3645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835280" y="31417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789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87640" y="4437000"/>
            <a:ext cx="17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be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450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08720" y="443700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589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71640" y="5589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80360" y="5661000"/>
            <a:ext cx="1763640" cy="1197000"/>
          </a:xfrm>
          <a:custGeom>
            <a:avLst/>
            <a:gdLst>
              <a:gd name="textAreaLeft" fmla="*/ 77400 w 1763640"/>
              <a:gd name="textAreaRight" fmla="*/ 1686240 w 176364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31822" h="21600">
                <a:moveTo>
                  <a:pt x="0" y="0"/>
                </a:moveTo>
                <a:lnTo>
                  <a:pt x="31822" y="0"/>
                </a:lnTo>
                <a:lnTo>
                  <a:pt x="31822" y="21600"/>
                </a:lnTo>
                <a:lnTo>
                  <a:pt x="0" y="21600"/>
                </a:lnTo>
                <a:close/>
              </a:path>
              <a:path fill="lightenLess" w="31822" h="21600">
                <a:moveTo>
                  <a:pt x="0" y="0"/>
                </a:moveTo>
                <a:lnTo>
                  <a:pt x="31822" y="0"/>
                </a:lnTo>
                <a:lnTo>
                  <a:pt x="30422" y="1400"/>
                </a:lnTo>
                <a:lnTo>
                  <a:pt x="1400" y="1400"/>
                </a:lnTo>
                <a:close/>
              </a:path>
              <a:path fill="darken" w="31822" h="21600">
                <a:moveTo>
                  <a:pt x="31822" y="0"/>
                </a:moveTo>
                <a:lnTo>
                  <a:pt x="31822" y="21600"/>
                </a:lnTo>
                <a:lnTo>
                  <a:pt x="30422" y="20200"/>
                </a:lnTo>
                <a:lnTo>
                  <a:pt x="30422" y="1400"/>
                </a:lnTo>
                <a:close/>
              </a:path>
              <a:path fill="darkenLess" w="31822" h="21600">
                <a:moveTo>
                  <a:pt x="31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22" y="20200"/>
                </a:lnTo>
                <a:close/>
              </a:path>
              <a:path fill="lighten" w="31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22" h="21600">
                <a:moveTo>
                  <a:pt x="15911" y="3837"/>
                </a:moveTo>
                <a:lnTo>
                  <a:pt x="18487" y="6448"/>
                </a:lnTo>
                <a:lnTo>
                  <a:pt x="18487" y="4707"/>
                </a:lnTo>
                <a:lnTo>
                  <a:pt x="20263" y="4707"/>
                </a:lnTo>
                <a:lnTo>
                  <a:pt x="20263" y="8224"/>
                </a:lnTo>
                <a:lnTo>
                  <a:pt x="22874" y="10800"/>
                </a:lnTo>
                <a:lnTo>
                  <a:pt x="21220" y="10800"/>
                </a:lnTo>
                <a:lnTo>
                  <a:pt x="21220" y="17989"/>
                </a:lnTo>
                <a:lnTo>
                  <a:pt x="10602" y="17989"/>
                </a:lnTo>
                <a:lnTo>
                  <a:pt x="10602" y="10800"/>
                </a:lnTo>
                <a:lnTo>
                  <a:pt x="8948" y="10800"/>
                </a:lnTo>
                <a:close/>
              </a:path>
              <a:path fill="darkenLess" w="31822" h="21600">
                <a:moveTo>
                  <a:pt x="18487" y="6448"/>
                </a:moveTo>
                <a:lnTo>
                  <a:pt x="18487" y="4707"/>
                </a:lnTo>
                <a:lnTo>
                  <a:pt x="20263" y="4707"/>
                </a:lnTo>
                <a:lnTo>
                  <a:pt x="20263" y="8224"/>
                </a:lnTo>
                <a:close/>
              </a:path>
              <a:path fill="darkenLess" w="31822" h="21600">
                <a:moveTo>
                  <a:pt x="14988" y="14299"/>
                </a:moveTo>
                <a:lnTo>
                  <a:pt x="16834" y="14299"/>
                </a:lnTo>
                <a:lnTo>
                  <a:pt x="16834" y="17989"/>
                </a:lnTo>
                <a:lnTo>
                  <a:pt x="21220" y="17989"/>
                </a:lnTo>
                <a:lnTo>
                  <a:pt x="21220" y="10800"/>
                </a:lnTo>
                <a:lnTo>
                  <a:pt x="10602" y="10800"/>
                </a:lnTo>
                <a:lnTo>
                  <a:pt x="10602" y="17989"/>
                </a:lnTo>
                <a:lnTo>
                  <a:pt x="1498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t is _____ calend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calendar is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calendar belongs to 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 Does the calendar belong to Mill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 No, ___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284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740720" y="5950080"/>
            <a:ext cx="1403280" cy="907920"/>
          </a:xfrm>
          <a:custGeom>
            <a:avLst/>
            <a:gdLst>
              <a:gd name="textAreaLeft" fmla="*/ 58680 w 1403280"/>
              <a:gd name="textAreaRight" fmla="*/ 1344600 w 140328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3380" h="21600">
                <a:moveTo>
                  <a:pt x="0" y="0"/>
                </a:moveTo>
                <a:lnTo>
                  <a:pt x="33380" y="0"/>
                </a:lnTo>
                <a:lnTo>
                  <a:pt x="33380" y="21600"/>
                </a:lnTo>
                <a:lnTo>
                  <a:pt x="0" y="21600"/>
                </a:lnTo>
                <a:close/>
              </a:path>
              <a:path fill="lightenLess" w="33380" h="21600">
                <a:moveTo>
                  <a:pt x="0" y="0"/>
                </a:moveTo>
                <a:lnTo>
                  <a:pt x="33380" y="0"/>
                </a:lnTo>
                <a:lnTo>
                  <a:pt x="31980" y="1400"/>
                </a:lnTo>
                <a:lnTo>
                  <a:pt x="1400" y="1400"/>
                </a:lnTo>
                <a:close/>
              </a:path>
              <a:path fill="darken" w="33380" h="21600">
                <a:moveTo>
                  <a:pt x="33380" y="0"/>
                </a:moveTo>
                <a:lnTo>
                  <a:pt x="33380" y="21600"/>
                </a:lnTo>
                <a:lnTo>
                  <a:pt x="31980" y="20200"/>
                </a:lnTo>
                <a:lnTo>
                  <a:pt x="31980" y="1400"/>
                </a:lnTo>
                <a:close/>
              </a:path>
              <a:path fill="darkenLess" w="33380" h="21600">
                <a:moveTo>
                  <a:pt x="3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0" y="20200"/>
                </a:lnTo>
                <a:close/>
              </a:path>
              <a:path fill="lighten" w="3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0" h="21600">
                <a:moveTo>
                  <a:pt x="16690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2" y="4707"/>
                </a:lnTo>
                <a:lnTo>
                  <a:pt x="21042" y="8224"/>
                </a:lnTo>
                <a:lnTo>
                  <a:pt x="23653" y="10800"/>
                </a:lnTo>
                <a:lnTo>
                  <a:pt x="21999" y="10800"/>
                </a:lnTo>
                <a:lnTo>
                  <a:pt x="21999" y="17989"/>
                </a:lnTo>
                <a:lnTo>
                  <a:pt x="11381" y="17989"/>
                </a:lnTo>
                <a:lnTo>
                  <a:pt x="11381" y="10800"/>
                </a:lnTo>
                <a:lnTo>
                  <a:pt x="9727" y="10800"/>
                </a:lnTo>
                <a:close/>
              </a:path>
              <a:path fill="darkenLess" w="33380" h="21600">
                <a:moveTo>
                  <a:pt x="19266" y="6448"/>
                </a:moveTo>
                <a:lnTo>
                  <a:pt x="19266" y="4707"/>
                </a:lnTo>
                <a:lnTo>
                  <a:pt x="21042" y="4707"/>
                </a:lnTo>
                <a:lnTo>
                  <a:pt x="21042" y="8224"/>
                </a:lnTo>
                <a:close/>
              </a:path>
              <a:path fill="darkenLess" w="33380" h="21600">
                <a:moveTo>
                  <a:pt x="15768" y="14299"/>
                </a:moveTo>
                <a:lnTo>
                  <a:pt x="17613" y="14299"/>
                </a:lnTo>
                <a:lnTo>
                  <a:pt x="17613" y="17989"/>
                </a:lnTo>
                <a:lnTo>
                  <a:pt x="21999" y="17989"/>
                </a:lnTo>
                <a:lnTo>
                  <a:pt x="21999" y="10800"/>
                </a:lnTo>
                <a:lnTo>
                  <a:pt x="11381" y="10800"/>
                </a:lnTo>
                <a:lnTo>
                  <a:pt x="11381" y="17989"/>
                </a:lnTo>
                <a:lnTo>
                  <a:pt x="1576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y are _____ post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postcards are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postcards belong to 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 ____ the postcards belong to Si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 No, ___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2924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775640" y="5805360"/>
            <a:ext cx="1368360" cy="1052640"/>
          </a:xfrm>
          <a:custGeom>
            <a:avLst/>
            <a:gdLst>
              <a:gd name="textAreaLeft" fmla="*/ 68040 w 1368360"/>
              <a:gd name="textAreaRight" fmla="*/ 1300320 w 136836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14038" y="3837"/>
                </a:moveTo>
                <a:lnTo>
                  <a:pt x="16614" y="6448"/>
                </a:lnTo>
                <a:lnTo>
                  <a:pt x="16614" y="4707"/>
                </a:lnTo>
                <a:lnTo>
                  <a:pt x="18390" y="4707"/>
                </a:lnTo>
                <a:lnTo>
                  <a:pt x="18390" y="8224"/>
                </a:lnTo>
                <a:lnTo>
                  <a:pt x="21001" y="10800"/>
                </a:lnTo>
                <a:lnTo>
                  <a:pt x="19347" y="10800"/>
                </a:lnTo>
                <a:lnTo>
                  <a:pt x="19347" y="17989"/>
                </a:lnTo>
                <a:lnTo>
                  <a:pt x="8729" y="17989"/>
                </a:lnTo>
                <a:lnTo>
                  <a:pt x="8729" y="10800"/>
                </a:lnTo>
                <a:lnTo>
                  <a:pt x="7075" y="10800"/>
                </a:lnTo>
                <a:close/>
              </a:path>
              <a:path fill="darkenLess" w="28076" h="21600">
                <a:moveTo>
                  <a:pt x="16614" y="6448"/>
                </a:moveTo>
                <a:lnTo>
                  <a:pt x="16614" y="4707"/>
                </a:lnTo>
                <a:lnTo>
                  <a:pt x="18390" y="4707"/>
                </a:lnTo>
                <a:lnTo>
                  <a:pt x="18390" y="8224"/>
                </a:lnTo>
                <a:close/>
              </a:path>
              <a:path fill="darkenLess" w="28076" h="21600">
                <a:moveTo>
                  <a:pt x="13116" y="14299"/>
                </a:moveTo>
                <a:lnTo>
                  <a:pt x="14961" y="14299"/>
                </a:lnTo>
                <a:lnTo>
                  <a:pt x="14961" y="17989"/>
                </a:lnTo>
                <a:lnTo>
                  <a:pt x="19347" y="17989"/>
                </a:lnTo>
                <a:lnTo>
                  <a:pt x="19347" y="10800"/>
                </a:lnTo>
                <a:lnTo>
                  <a:pt x="8729" y="10800"/>
                </a:lnTo>
                <a:lnTo>
                  <a:pt x="8729" y="17989"/>
                </a:lnTo>
                <a:lnTo>
                  <a:pt x="1311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1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t is _____ key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key ring is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key ring belongs to 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 Does the key ring belong to 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 Yes, ___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924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848720" y="5734080"/>
            <a:ext cx="1295280" cy="1123920"/>
          </a:xfrm>
          <a:custGeom>
            <a:avLst/>
            <a:gdLst>
              <a:gd name="textAreaLeft" fmla="*/ 72720 w 1295280"/>
              <a:gd name="textAreaRight" fmla="*/ 1222560 w 1295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4892" h="21600">
                <a:moveTo>
                  <a:pt x="0" y="0"/>
                </a:moveTo>
                <a:lnTo>
                  <a:pt x="24892" y="0"/>
                </a:lnTo>
                <a:lnTo>
                  <a:pt x="24892" y="21600"/>
                </a:lnTo>
                <a:lnTo>
                  <a:pt x="0" y="21600"/>
                </a:lnTo>
                <a:close/>
              </a:path>
              <a:path fill="lightenLess" w="24892" h="21600">
                <a:moveTo>
                  <a:pt x="0" y="0"/>
                </a:moveTo>
                <a:lnTo>
                  <a:pt x="24892" y="0"/>
                </a:lnTo>
                <a:lnTo>
                  <a:pt x="23492" y="1400"/>
                </a:lnTo>
                <a:lnTo>
                  <a:pt x="1400" y="1400"/>
                </a:lnTo>
                <a:close/>
              </a:path>
              <a:path fill="darken" w="24892" h="21600">
                <a:moveTo>
                  <a:pt x="24892" y="0"/>
                </a:moveTo>
                <a:lnTo>
                  <a:pt x="24892" y="21600"/>
                </a:lnTo>
                <a:lnTo>
                  <a:pt x="23492" y="20200"/>
                </a:lnTo>
                <a:lnTo>
                  <a:pt x="23492" y="1400"/>
                </a:lnTo>
                <a:close/>
              </a:path>
              <a:path fill="darkenLess" w="24892" h="21600">
                <a:moveTo>
                  <a:pt x="24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92" y="20200"/>
                </a:lnTo>
                <a:close/>
              </a:path>
              <a:path fill="lighten" w="24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92" h="21600">
                <a:moveTo>
                  <a:pt x="12446" y="3837"/>
                </a:moveTo>
                <a:lnTo>
                  <a:pt x="15022" y="6448"/>
                </a:lnTo>
                <a:lnTo>
                  <a:pt x="15022" y="4707"/>
                </a:lnTo>
                <a:lnTo>
                  <a:pt x="16798" y="4707"/>
                </a:lnTo>
                <a:lnTo>
                  <a:pt x="16798" y="8224"/>
                </a:lnTo>
                <a:lnTo>
                  <a:pt x="19409" y="10800"/>
                </a:lnTo>
                <a:lnTo>
                  <a:pt x="17755" y="10800"/>
                </a:lnTo>
                <a:lnTo>
                  <a:pt x="17755" y="17989"/>
                </a:lnTo>
                <a:lnTo>
                  <a:pt x="7137" y="17989"/>
                </a:lnTo>
                <a:lnTo>
                  <a:pt x="7137" y="10800"/>
                </a:lnTo>
                <a:lnTo>
                  <a:pt x="5483" y="10800"/>
                </a:lnTo>
                <a:close/>
              </a:path>
              <a:path fill="darkenLess" w="24892" h="21600">
                <a:moveTo>
                  <a:pt x="15022" y="6448"/>
                </a:moveTo>
                <a:lnTo>
                  <a:pt x="15022" y="4707"/>
                </a:lnTo>
                <a:lnTo>
                  <a:pt x="16798" y="4707"/>
                </a:lnTo>
                <a:lnTo>
                  <a:pt x="16798" y="8224"/>
                </a:lnTo>
                <a:close/>
              </a:path>
              <a:path fill="darkenLess" w="24892" h="21600">
                <a:moveTo>
                  <a:pt x="11524" y="14299"/>
                </a:moveTo>
                <a:lnTo>
                  <a:pt x="13369" y="14299"/>
                </a:lnTo>
                <a:lnTo>
                  <a:pt x="13369" y="17989"/>
                </a:lnTo>
                <a:lnTo>
                  <a:pt x="17755" y="17989"/>
                </a:lnTo>
                <a:lnTo>
                  <a:pt x="17755" y="10800"/>
                </a:lnTo>
                <a:lnTo>
                  <a:pt x="7137" y="10800"/>
                </a:lnTo>
                <a:lnTo>
                  <a:pt x="7137" y="17989"/>
                </a:lnTo>
                <a:lnTo>
                  <a:pt x="1152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79280" y="263700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t is _____(they) hair cl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hair clip is _____(th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The hair clip belongs to ____(th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 ____ the hair clip belong to ____(the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- Yes, ___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040360" y="0"/>
            <a:ext cx="4103640" cy="2511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547640" y="2565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80000" y="3141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the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3789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436572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4292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4941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00360" y="4941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956720" y="5805360"/>
            <a:ext cx="1187280" cy="1052640"/>
          </a:xfrm>
          <a:custGeom>
            <a:avLst/>
            <a:gdLst>
              <a:gd name="textAreaLeft" fmla="*/ 68040 w 1187280"/>
              <a:gd name="textAreaRight" fmla="*/ 1119240 w 1187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4362" h="21600">
                <a:moveTo>
                  <a:pt x="0" y="0"/>
                </a:moveTo>
                <a:lnTo>
                  <a:pt x="24362" y="0"/>
                </a:lnTo>
                <a:lnTo>
                  <a:pt x="24362" y="21600"/>
                </a:lnTo>
                <a:lnTo>
                  <a:pt x="0" y="21600"/>
                </a:lnTo>
                <a:close/>
              </a:path>
              <a:path fill="lightenLess" w="24362" h="21600">
                <a:moveTo>
                  <a:pt x="0" y="0"/>
                </a:moveTo>
                <a:lnTo>
                  <a:pt x="24362" y="0"/>
                </a:lnTo>
                <a:lnTo>
                  <a:pt x="22962" y="1400"/>
                </a:lnTo>
                <a:lnTo>
                  <a:pt x="1400" y="1400"/>
                </a:lnTo>
                <a:close/>
              </a:path>
              <a:path fill="darken" w="24362" h="21600">
                <a:moveTo>
                  <a:pt x="24362" y="0"/>
                </a:moveTo>
                <a:lnTo>
                  <a:pt x="24362" y="21600"/>
                </a:lnTo>
                <a:lnTo>
                  <a:pt x="22962" y="20200"/>
                </a:lnTo>
                <a:lnTo>
                  <a:pt x="22962" y="1400"/>
                </a:lnTo>
                <a:close/>
              </a:path>
              <a:path fill="darkenLess" w="24362" h="21600">
                <a:moveTo>
                  <a:pt x="24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62" y="20200"/>
                </a:lnTo>
                <a:close/>
              </a:path>
              <a:path fill="lighten" w="24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62" h="21600">
                <a:moveTo>
                  <a:pt x="12181" y="3837"/>
                </a:moveTo>
                <a:lnTo>
                  <a:pt x="14757" y="6448"/>
                </a:lnTo>
                <a:lnTo>
                  <a:pt x="14757" y="4707"/>
                </a:lnTo>
                <a:lnTo>
                  <a:pt x="16533" y="4707"/>
                </a:lnTo>
                <a:lnTo>
                  <a:pt x="16533" y="8224"/>
                </a:lnTo>
                <a:lnTo>
                  <a:pt x="19144" y="10800"/>
                </a:lnTo>
                <a:lnTo>
                  <a:pt x="17490" y="10800"/>
                </a:lnTo>
                <a:lnTo>
                  <a:pt x="17490" y="17989"/>
                </a:lnTo>
                <a:lnTo>
                  <a:pt x="6872" y="17989"/>
                </a:lnTo>
                <a:lnTo>
                  <a:pt x="6872" y="10800"/>
                </a:lnTo>
                <a:lnTo>
                  <a:pt x="5218" y="10800"/>
                </a:lnTo>
                <a:close/>
              </a:path>
              <a:path fill="darkenLess" w="24362" h="21600">
                <a:moveTo>
                  <a:pt x="14757" y="6448"/>
                </a:moveTo>
                <a:lnTo>
                  <a:pt x="14757" y="4707"/>
                </a:lnTo>
                <a:lnTo>
                  <a:pt x="16533" y="4707"/>
                </a:lnTo>
                <a:lnTo>
                  <a:pt x="16533" y="8224"/>
                </a:lnTo>
                <a:close/>
              </a:path>
              <a:path fill="darkenLess" w="24362" h="21600">
                <a:moveTo>
                  <a:pt x="11258" y="14299"/>
                </a:moveTo>
                <a:lnTo>
                  <a:pt x="13104" y="14299"/>
                </a:lnTo>
                <a:lnTo>
                  <a:pt x="13104" y="17989"/>
                </a:lnTo>
                <a:lnTo>
                  <a:pt x="17490" y="17989"/>
                </a:lnTo>
                <a:lnTo>
                  <a:pt x="17490" y="10800"/>
                </a:lnTo>
                <a:lnTo>
                  <a:pt x="6872" y="10800"/>
                </a:lnTo>
                <a:lnTo>
                  <a:pt x="6872" y="17989"/>
                </a:lnTo>
                <a:lnTo>
                  <a:pt x="11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A letter to Ms W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Dear Ms Wu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 am writing to tell you about ___(we) new English teac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he likes eating and she eats a lot. Can you guess ____ ____  ____of bread she eats for dinner? 5 loaves! ____ ____ ham can she have for dinner? 2 plates! And she can also drink 5 ____ ___ Co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72360" y="227664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08000" y="3860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43280" y="3860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67280" y="3933720"/>
            <a:ext cx="18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o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88000" y="443700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4365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530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30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15156" y="3837"/>
                </a:moveTo>
                <a:lnTo>
                  <a:pt x="17732" y="6448"/>
                </a:lnTo>
                <a:lnTo>
                  <a:pt x="17732" y="4707"/>
                </a:lnTo>
                <a:lnTo>
                  <a:pt x="19508" y="4707"/>
                </a:lnTo>
                <a:lnTo>
                  <a:pt x="19508" y="8224"/>
                </a:lnTo>
                <a:lnTo>
                  <a:pt x="22119" y="10800"/>
                </a:lnTo>
                <a:lnTo>
                  <a:pt x="20465" y="10800"/>
                </a:lnTo>
                <a:lnTo>
                  <a:pt x="20465" y="17989"/>
                </a:lnTo>
                <a:lnTo>
                  <a:pt x="9847" y="17989"/>
                </a:lnTo>
                <a:lnTo>
                  <a:pt x="9847" y="10800"/>
                </a:lnTo>
                <a:lnTo>
                  <a:pt x="8193" y="10800"/>
                </a:lnTo>
                <a:close/>
              </a:path>
              <a:path fill="darkenLess" w="30312" h="21600">
                <a:moveTo>
                  <a:pt x="17732" y="6448"/>
                </a:moveTo>
                <a:lnTo>
                  <a:pt x="17732" y="4707"/>
                </a:lnTo>
                <a:lnTo>
                  <a:pt x="19508" y="4707"/>
                </a:lnTo>
                <a:lnTo>
                  <a:pt x="19508" y="8224"/>
                </a:lnTo>
                <a:close/>
              </a:path>
              <a:path fill="darkenLess" w="30312" h="21600">
                <a:moveTo>
                  <a:pt x="14233" y="14299"/>
                </a:moveTo>
                <a:lnTo>
                  <a:pt x="16079" y="14299"/>
                </a:lnTo>
                <a:lnTo>
                  <a:pt x="16079" y="17989"/>
                </a:lnTo>
                <a:lnTo>
                  <a:pt x="20465" y="17989"/>
                </a:lnTo>
                <a:lnTo>
                  <a:pt x="20465" y="10800"/>
                </a:lnTo>
                <a:lnTo>
                  <a:pt x="9847" y="10800"/>
                </a:lnTo>
                <a:lnTo>
                  <a:pt x="9847" y="17989"/>
                </a:lnTo>
                <a:lnTo>
                  <a:pt x="1423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he also likes collecting beautiful things. She often collects_____(girl) hair clips, ____(boy) model planes, and _______(woman) flowers.  Look at the teddy bears! They are ___(she). The key ring also _____ ___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he is friendly. She shared beautiful things with us. For example, she gave ___ (she) calendar to____. So the calendar _____ ___ ___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We like  our new English teacher very m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Write so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59280" y="692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girl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59640" y="692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boy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80000" y="10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wom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155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35280" y="1989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l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03640" y="1916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2924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72360" y="335772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bel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12000" y="3357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Enjoy nice foo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Enjoy beautiful thing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Enjoy a wonderful lif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429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908000" y="2924280"/>
            <a:ext cx="5038920" cy="142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ank you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5079960" cy="358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003640" y="2781360"/>
            <a:ext cx="3924360" cy="331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19640" y="1557360"/>
            <a:ext cx="3168720" cy="719280"/>
          </a:xfrm>
          <a:prstGeom prst="wedgeEllipseCallout">
            <a:avLst>
              <a:gd name="adj1" fmla="val -44337"/>
              <a:gd name="adj2" fmla="val -14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l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7960" y="4284720"/>
            <a:ext cx="1292400" cy="799920"/>
          </a:xfrm>
          <a:prstGeom prst="borderCallout1">
            <a:avLst>
              <a:gd name="adj1" fmla="val -1274"/>
              <a:gd name="adj2" fmla="val -21171"/>
              <a:gd name="adj3" fmla="val -1274"/>
              <a:gd name="adj4" fmla="val 185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796000" y="3429000"/>
            <a:ext cx="3348000" cy="253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759280" y="333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24000" y="335772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7885080" y="6165720"/>
            <a:ext cx="1258920" cy="692280"/>
          </a:xfrm>
          <a:custGeom>
            <a:avLst/>
            <a:gdLst>
              <a:gd name="textAreaLeft" fmla="*/ 44640 w 1258920"/>
              <a:gd name="textAreaRight" fmla="*/ 1214280 w 1258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9271" h="21600">
                <a:moveTo>
                  <a:pt x="0" y="0"/>
                </a:moveTo>
                <a:lnTo>
                  <a:pt x="39271" y="0"/>
                </a:lnTo>
                <a:lnTo>
                  <a:pt x="39271" y="21600"/>
                </a:lnTo>
                <a:lnTo>
                  <a:pt x="0" y="21600"/>
                </a:lnTo>
                <a:close/>
              </a:path>
              <a:path fill="lightenLess" w="39271" h="21600">
                <a:moveTo>
                  <a:pt x="0" y="0"/>
                </a:moveTo>
                <a:lnTo>
                  <a:pt x="39271" y="0"/>
                </a:lnTo>
                <a:lnTo>
                  <a:pt x="37871" y="1400"/>
                </a:lnTo>
                <a:lnTo>
                  <a:pt x="1400" y="1400"/>
                </a:lnTo>
                <a:close/>
              </a:path>
              <a:path fill="darken" w="39271" h="21600">
                <a:moveTo>
                  <a:pt x="39271" y="0"/>
                </a:moveTo>
                <a:lnTo>
                  <a:pt x="39271" y="21600"/>
                </a:lnTo>
                <a:lnTo>
                  <a:pt x="37871" y="20200"/>
                </a:lnTo>
                <a:lnTo>
                  <a:pt x="37871" y="1400"/>
                </a:lnTo>
                <a:close/>
              </a:path>
              <a:path fill="darkenLess" w="39271" h="21600">
                <a:moveTo>
                  <a:pt x="39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1" y="20200"/>
                </a:lnTo>
                <a:close/>
              </a:path>
              <a:path fill="lighten" w="39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71" h="21600">
                <a:moveTo>
                  <a:pt x="19635" y="3837"/>
                </a:moveTo>
                <a:lnTo>
                  <a:pt x="22212" y="6448"/>
                </a:lnTo>
                <a:lnTo>
                  <a:pt x="22212" y="4707"/>
                </a:lnTo>
                <a:lnTo>
                  <a:pt x="23987" y="4707"/>
                </a:lnTo>
                <a:lnTo>
                  <a:pt x="23987" y="8224"/>
                </a:lnTo>
                <a:lnTo>
                  <a:pt x="26598" y="10800"/>
                </a:lnTo>
                <a:lnTo>
                  <a:pt x="24945" y="10800"/>
                </a:lnTo>
                <a:lnTo>
                  <a:pt x="24945" y="17989"/>
                </a:lnTo>
                <a:lnTo>
                  <a:pt x="14326" y="17989"/>
                </a:lnTo>
                <a:lnTo>
                  <a:pt x="14326" y="10800"/>
                </a:lnTo>
                <a:lnTo>
                  <a:pt x="12672" y="10800"/>
                </a:lnTo>
                <a:close/>
              </a:path>
              <a:path fill="darkenLess" w="39271" h="21600">
                <a:moveTo>
                  <a:pt x="22212" y="6448"/>
                </a:moveTo>
                <a:lnTo>
                  <a:pt x="22212" y="4707"/>
                </a:lnTo>
                <a:lnTo>
                  <a:pt x="23987" y="4707"/>
                </a:lnTo>
                <a:lnTo>
                  <a:pt x="23987" y="8224"/>
                </a:lnTo>
                <a:close/>
              </a:path>
              <a:path fill="darkenLess" w="39271" h="21600">
                <a:moveTo>
                  <a:pt x="18713" y="14299"/>
                </a:moveTo>
                <a:lnTo>
                  <a:pt x="20558" y="14299"/>
                </a:lnTo>
                <a:lnTo>
                  <a:pt x="20558" y="17989"/>
                </a:lnTo>
                <a:lnTo>
                  <a:pt x="24945" y="17989"/>
                </a:lnTo>
                <a:lnTo>
                  <a:pt x="24945" y="10800"/>
                </a:lnTo>
                <a:lnTo>
                  <a:pt x="14326" y="10800"/>
                </a:lnTo>
                <a:lnTo>
                  <a:pt x="14326" y="17989"/>
                </a:lnTo>
                <a:lnTo>
                  <a:pt x="1871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25840" cy="262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302520" y="3284640"/>
            <a:ext cx="2841480" cy="2841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4232160"/>
            <a:ext cx="2625840" cy="2625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518160" y="0"/>
            <a:ext cx="2625840" cy="2625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7" action="ppaction://hlinksldjump"/>
          </p:cNvPr>
          <p:cNvSpPr/>
          <p:nvPr/>
        </p:nvSpPr>
        <p:spPr>
          <a:xfrm>
            <a:off x="7956720" y="6093000"/>
            <a:ext cx="1187280" cy="765000"/>
          </a:xfrm>
          <a:custGeom>
            <a:avLst/>
            <a:gdLst>
              <a:gd name="textAreaLeft" fmla="*/ 49320 w 1187280"/>
              <a:gd name="textAreaRight" fmla="*/ 1137960 w 1187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3518" h="21600">
                <a:moveTo>
                  <a:pt x="0" y="0"/>
                </a:moveTo>
                <a:lnTo>
                  <a:pt x="33518" y="0"/>
                </a:lnTo>
                <a:lnTo>
                  <a:pt x="33518" y="21600"/>
                </a:lnTo>
                <a:lnTo>
                  <a:pt x="0" y="21600"/>
                </a:lnTo>
                <a:close/>
              </a:path>
              <a:path fill="lightenLess" w="33518" h="21600">
                <a:moveTo>
                  <a:pt x="0" y="0"/>
                </a:moveTo>
                <a:lnTo>
                  <a:pt x="33518" y="0"/>
                </a:lnTo>
                <a:lnTo>
                  <a:pt x="32118" y="1400"/>
                </a:lnTo>
                <a:lnTo>
                  <a:pt x="1400" y="1400"/>
                </a:lnTo>
                <a:close/>
              </a:path>
              <a:path fill="darken" w="33518" h="21600">
                <a:moveTo>
                  <a:pt x="33518" y="0"/>
                </a:moveTo>
                <a:lnTo>
                  <a:pt x="33518" y="21600"/>
                </a:lnTo>
                <a:lnTo>
                  <a:pt x="32118" y="20200"/>
                </a:lnTo>
                <a:lnTo>
                  <a:pt x="32118" y="1400"/>
                </a:lnTo>
                <a:close/>
              </a:path>
              <a:path fill="darkenLess" w="33518" h="21600">
                <a:moveTo>
                  <a:pt x="33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8" y="20200"/>
                </a:lnTo>
                <a:close/>
              </a:path>
              <a:path fill="lighten" w="33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18" h="21600">
                <a:moveTo>
                  <a:pt x="16759" y="3837"/>
                </a:moveTo>
                <a:lnTo>
                  <a:pt x="19335" y="6448"/>
                </a:lnTo>
                <a:lnTo>
                  <a:pt x="19335" y="4707"/>
                </a:lnTo>
                <a:lnTo>
                  <a:pt x="21111" y="4707"/>
                </a:lnTo>
                <a:lnTo>
                  <a:pt x="21111" y="8224"/>
                </a:lnTo>
                <a:lnTo>
                  <a:pt x="23722" y="10800"/>
                </a:lnTo>
                <a:lnTo>
                  <a:pt x="22068" y="10800"/>
                </a:lnTo>
                <a:lnTo>
                  <a:pt x="22068" y="17989"/>
                </a:lnTo>
                <a:lnTo>
                  <a:pt x="11450" y="17989"/>
                </a:lnTo>
                <a:lnTo>
                  <a:pt x="11450" y="10800"/>
                </a:lnTo>
                <a:lnTo>
                  <a:pt x="9796" y="10800"/>
                </a:lnTo>
                <a:close/>
              </a:path>
              <a:path fill="darkenLess" w="33518" h="21600">
                <a:moveTo>
                  <a:pt x="19335" y="6448"/>
                </a:moveTo>
                <a:lnTo>
                  <a:pt x="19335" y="4707"/>
                </a:lnTo>
                <a:lnTo>
                  <a:pt x="21111" y="4707"/>
                </a:lnTo>
                <a:lnTo>
                  <a:pt x="21111" y="8224"/>
                </a:lnTo>
                <a:close/>
              </a:path>
              <a:path fill="darkenLess" w="33518" h="21600">
                <a:moveTo>
                  <a:pt x="15836" y="14299"/>
                </a:moveTo>
                <a:lnTo>
                  <a:pt x="17681" y="14299"/>
                </a:lnTo>
                <a:lnTo>
                  <a:pt x="17681" y="17989"/>
                </a:lnTo>
                <a:lnTo>
                  <a:pt x="22068" y="17989"/>
                </a:lnTo>
                <a:lnTo>
                  <a:pt x="22068" y="10800"/>
                </a:lnTo>
                <a:lnTo>
                  <a:pt x="11450" y="10800"/>
                </a:lnTo>
                <a:lnTo>
                  <a:pt x="11450" y="17989"/>
                </a:lnTo>
                <a:lnTo>
                  <a:pt x="1583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859280" y="2421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7812000" y="6165720"/>
            <a:ext cx="1332000" cy="692280"/>
          </a:xfrm>
          <a:custGeom>
            <a:avLst/>
            <a:gdLst>
              <a:gd name="textAreaLeft" fmla="*/ 44640 w 1332000"/>
              <a:gd name="textAreaRight" fmla="*/ 1287360 w 1332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1550" h="21600">
                <a:moveTo>
                  <a:pt x="0" y="0"/>
                </a:moveTo>
                <a:lnTo>
                  <a:pt x="41550" y="0"/>
                </a:lnTo>
                <a:lnTo>
                  <a:pt x="41550" y="21600"/>
                </a:lnTo>
                <a:lnTo>
                  <a:pt x="0" y="21600"/>
                </a:lnTo>
                <a:close/>
              </a:path>
              <a:path fill="lightenLess" w="41550" h="21600">
                <a:moveTo>
                  <a:pt x="0" y="0"/>
                </a:moveTo>
                <a:lnTo>
                  <a:pt x="41550" y="0"/>
                </a:lnTo>
                <a:lnTo>
                  <a:pt x="40150" y="1400"/>
                </a:lnTo>
                <a:lnTo>
                  <a:pt x="1400" y="1400"/>
                </a:lnTo>
                <a:close/>
              </a:path>
              <a:path fill="darken" w="41550" h="21600">
                <a:moveTo>
                  <a:pt x="41550" y="0"/>
                </a:moveTo>
                <a:lnTo>
                  <a:pt x="41550" y="21600"/>
                </a:lnTo>
                <a:lnTo>
                  <a:pt x="40150" y="20200"/>
                </a:lnTo>
                <a:lnTo>
                  <a:pt x="40150" y="1400"/>
                </a:lnTo>
                <a:close/>
              </a:path>
              <a:path fill="darkenLess" w="41550" h="21600">
                <a:moveTo>
                  <a:pt x="41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50" y="20200"/>
                </a:lnTo>
                <a:close/>
              </a:path>
              <a:path fill="lighten" w="41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50" h="21600">
                <a:moveTo>
                  <a:pt x="20775" y="3837"/>
                </a:moveTo>
                <a:lnTo>
                  <a:pt x="23351" y="6448"/>
                </a:lnTo>
                <a:lnTo>
                  <a:pt x="23351" y="4707"/>
                </a:lnTo>
                <a:lnTo>
                  <a:pt x="25127" y="4707"/>
                </a:lnTo>
                <a:lnTo>
                  <a:pt x="25127" y="8224"/>
                </a:lnTo>
                <a:lnTo>
                  <a:pt x="27738" y="10800"/>
                </a:lnTo>
                <a:lnTo>
                  <a:pt x="26084" y="10800"/>
                </a:lnTo>
                <a:lnTo>
                  <a:pt x="26084" y="17989"/>
                </a:lnTo>
                <a:lnTo>
                  <a:pt x="15466" y="17989"/>
                </a:lnTo>
                <a:lnTo>
                  <a:pt x="15466" y="10800"/>
                </a:lnTo>
                <a:lnTo>
                  <a:pt x="13812" y="10800"/>
                </a:lnTo>
                <a:close/>
              </a:path>
              <a:path fill="darkenLess" w="41550" h="21600">
                <a:moveTo>
                  <a:pt x="23351" y="6448"/>
                </a:moveTo>
                <a:lnTo>
                  <a:pt x="23351" y="4707"/>
                </a:lnTo>
                <a:lnTo>
                  <a:pt x="25127" y="4707"/>
                </a:lnTo>
                <a:lnTo>
                  <a:pt x="25127" y="8224"/>
                </a:lnTo>
                <a:close/>
              </a:path>
              <a:path fill="darkenLess" w="41550" h="21600">
                <a:moveTo>
                  <a:pt x="19852" y="14299"/>
                </a:moveTo>
                <a:lnTo>
                  <a:pt x="21697" y="14299"/>
                </a:lnTo>
                <a:lnTo>
                  <a:pt x="21697" y="17989"/>
                </a:lnTo>
                <a:lnTo>
                  <a:pt x="26084" y="17989"/>
                </a:lnTo>
                <a:lnTo>
                  <a:pt x="26084" y="10800"/>
                </a:lnTo>
                <a:lnTo>
                  <a:pt x="15466" y="10800"/>
                </a:lnTo>
                <a:lnTo>
                  <a:pt x="15466" y="17989"/>
                </a:lnTo>
                <a:lnTo>
                  <a:pt x="1985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2771640" cy="156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411280" y="2421000"/>
            <a:ext cx="2772000" cy="156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0" y="1473120"/>
            <a:ext cx="2664000" cy="150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732720" y="57240"/>
            <a:ext cx="2411280" cy="164304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rId6" action="ppaction://hlinksldjump"/>
          </p:cNvPr>
          <p:cNvSpPr/>
          <p:nvPr/>
        </p:nvSpPr>
        <p:spPr>
          <a:xfrm>
            <a:off x="7740720" y="5877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10:08Z</dcterms:created>
  <dc:creator>微软中国</dc:creator>
  <dc:description/>
  <dc:language>en-US</dc:language>
  <cp:lastModifiedBy>微软中国</cp:lastModifiedBy>
  <dcterms:modified xsi:type="dcterms:W3CDTF">2012-02-24T03:17:47Z</dcterms:modified>
  <cp:revision>320</cp:revision>
  <dc:subject/>
  <dc:title>Unit 2 Grammar</dc:title>
</cp:coreProperties>
</file>