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31.png" ContentType="image/png"/>
  <Override PartName="/ppt/media/image2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46.png" ContentType="image/png"/>
  <Override PartName="/ppt/media/image19.jpeg" ContentType="image/jpeg"/>
  <Override PartName="/ppt/media/image22.jpeg" ContentType="image/jpeg"/>
  <Override PartName="/ppt/media/image7.png" ContentType="image/png"/>
  <Override PartName="/ppt/media/image32.jpeg" ContentType="image/jpeg"/>
  <Override PartName="/ppt/media/image40.png" ContentType="image/png"/>
  <Override PartName="/ppt/media/image11.png" ContentType="image/png"/>
  <Override PartName="/ppt/media/image9.jpeg" ContentType="image/jpeg"/>
  <Override PartName="/ppt/media/image37.jpeg" ContentType="image/jpeg"/>
  <Override PartName="/ppt/media/image42.png" ContentType="image/png"/>
  <Override PartName="/ppt/media/image45.png" ContentType="image/png"/>
  <Override PartName="/ppt/media/image30.jpeg" ContentType="image/jpeg"/>
  <Override PartName="/ppt/media/image43.png" ContentType="image/png"/>
  <Override PartName="/ppt/media/image47.jpeg" ContentType="image/jpeg"/>
  <Override PartName="/ppt/media/image36.png" ContentType="image/png"/>
  <Override PartName="/ppt/media/image6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38.png" ContentType="image/png"/>
  <Override PartName="/ppt/media/image8.jpeg" ContentType="image/jpeg"/>
  <Override PartName="/ppt/media/image39.jpeg" ContentType="image/jpeg"/>
  <Override PartName="/ppt/media/image44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12.jpeg" ContentType="image/jpeg"/>
  <Override PartName="/ppt/media/image34.png" ContentType="image/png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  <p:sldId id="278" r:id="rId45"/>
    <p:sldId id="279" r:id="rId46"/>
    <p:sldId id="28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slide" Target="slides/slide23.xml"/><Relationship Id="rId46" Type="http://schemas.openxmlformats.org/officeDocument/2006/relationships/slide" Target="slides/slide24.xml"/><Relationship Id="rId47" Type="http://schemas.openxmlformats.org/officeDocument/2006/relationships/slide" Target="slides/slide2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523E1-52AA-4A59-8B7A-4BF41467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10BB8-F089-45D3-B165-60E5CE31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838080" y="533520"/>
            <a:ext cx="77724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FA81D-DE2F-4147-881E-AB76E566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44CA7-3E25-4125-BD1F-DCC36D7F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82076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D4365-54B6-40C3-8BE6-A8A716A0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1E98C-6136-4E7A-8A79-57CF1A2E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9462B-7413-46BC-A840-C0139E38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82076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8F345-A3DC-41D1-8EEC-A49C7481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46608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46608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2B93F-0779-4CE3-A274-6C01A5E4C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E3895-B666-4061-A6AD-7DAD9A7E4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2076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248FF-6B7E-47EE-BFAE-D9CAD35E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0B49E-A872-463B-8773-6C87417E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DC034-0F06-40C2-8D2D-92F356C0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FDCC8-C77D-4C2E-AC94-DB25FEF7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38080" y="533520"/>
            <a:ext cx="77724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6442E-988C-4BB3-932D-906E2821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4018A-732A-4191-A680-52E705F3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82076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868C5-B702-42B3-A80D-9757D30D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8D16F-C7E8-4DC2-8938-982EDFCA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7C061-8379-4C10-81AB-03922103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82076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9FB20-4A27-4883-A2A4-99FC04CFB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608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608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46608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46608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A5B38-FC6F-4B77-A915-D5836B7DC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C3077-F905-4BE9-886A-5B76898D1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231E5-B3F8-48BA-88A0-EBE41A63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CF218-616C-45D2-9ED7-50260866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BDA6E-4DF0-4417-A9C5-54EB0EBF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22758-D39D-461D-95D2-A7E0746B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838080" y="533520"/>
            <a:ext cx="77724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44828-8C6B-4CAA-B484-D7056AF5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53732-93DF-4E34-908F-973FCEDD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82076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1A613-01FC-4A03-8C33-28C05F3F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E6BF2-F1C7-4AD1-AC53-FB83468B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FE88-990D-4EF8-BB5F-659238852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C5A6C-1072-4924-A2BA-F4F47BC4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82076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94C99-D9D6-4EDD-BE1E-2D3F32E11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46608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46608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30E6F-EFA5-4505-88CD-9B7A21DE6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D4486-AEAC-43A8-ACA5-C8B1EB565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D62A15-3CD8-4980-A688-39051D6B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4A52F-3C3B-45E3-8D27-6903B660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71B1A-D5BB-4DCB-B8D6-2A64E4AB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B78E0-A0C4-4996-9FE3-6F7BFA3A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838080" y="533520"/>
            <a:ext cx="77724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DD2F8-7822-4D60-90D4-D2D69431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0F831-5752-4E66-BAEA-1B679489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B7C0-924A-469A-92AD-B6A76ADA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82076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A35C6F-5FD8-47B4-9494-8A3994B8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9F25F-4C40-4BE2-8195-A9ADA3F2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3F3F4-7154-455A-BC4B-8B106EE0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82076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2D5F6D-08CC-4726-A05F-02B80F803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46608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46608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DE454C-1150-4A31-B868-30187F69C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D2EB2-1D1E-4680-BDFF-1DC9F147B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C4F5E5-17CC-4F8B-B869-FDB8EBAD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5E5A63-5645-4732-A869-C17CA0BC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5610B-D246-48E0-8539-CD9E5C46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995B4-5E38-4A0D-8CAB-56459CAE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7007-D5D0-45B2-B2D2-8AE5CFA2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838080" y="533520"/>
            <a:ext cx="77724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4C5F2-C189-4054-AB49-903F90F2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20408-090C-408C-9320-5057FE54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82076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EAD2F-2806-4D84-B987-336DE5AE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F2345-3390-4F6F-ACB1-8F17ACCF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2C1790-A23B-4290-9136-218D10DA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82076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23FFB-3E4A-40BE-9F1B-C96634397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46608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46608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E68C37-8410-438B-B8A2-6DFF1090B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2377E-6645-4FFE-8DD1-3685055F1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D7C74-405F-49B1-91D1-D2960B90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79F48-88FD-459E-AAB2-C3D27671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4B4F-F804-45D2-ABF4-A0366967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8B61D-7B48-46BA-AABF-8A4AF81C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824C2-447A-4C12-B269-72D1DBB3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838080" y="533520"/>
            <a:ext cx="77724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6149D-60CC-4B92-8655-E4F4D51B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9A68D-E5C6-4A03-BC58-FAECF602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82076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2A9D1-307C-4848-A7AA-694B79F2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53E75-B166-4F88-909D-D9F8F4F6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9B247-B736-4335-B9B5-73B2CC16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82076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91D7A-23E6-4168-AF9E-6B60B5EA3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46608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46608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5472A-F2BE-4F03-8929-7A44AEE23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897F8F-68F4-4442-AA61-4E0FC7F2D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184C-E55D-4652-A0C0-52DB1541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0E0440-1919-4C5C-88AB-10646066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1D0E0B-7931-43A2-8FFD-E0743FDD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45AD6-37F2-461A-AF53-947F946E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84156-3D63-4FE0-B1B9-901C918B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838080" y="533520"/>
            <a:ext cx="77724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6C50E4-F61A-44C3-81D1-A4CFDA48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5A1144-9D36-4E8D-9D2B-0D3B2C95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82076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2C73F3-403B-471B-93B0-88DDFB20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AAA115-80FA-4ABE-A728-303AC67B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1DE71B-F72D-4EEE-B62D-3884D468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82076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C8EE10-8B91-45C5-AEB6-718779B1E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8080" y="533520"/>
            <a:ext cx="77724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5AF0-9CF0-4769-841A-AF81B729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46608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46608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0BC4BF-BDCA-4CA0-B20C-5FF1D5ED2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03D053-5FCF-4365-9D27-6C6E4C7A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7E8AFD-E3BF-4865-A844-6817C48B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4AB9A9-A197-4180-8138-95217A6E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3608C4-0F53-428F-ACAD-923245FD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B3D08A-6BA8-42CA-B814-98FAA111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838080" y="533520"/>
            <a:ext cx="77724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CB03B8-5280-4A13-9183-18604CAA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BF3BBF-D8C3-4F43-8FA3-120E78DA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82076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D9953A-6963-4CE1-98E2-7DCC64D0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219141-0AAE-4BA6-BF82-388F3872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0B5C-39BC-41DC-8028-1B6173E7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DE0D40-C69E-42DD-ACB8-E0C4BD98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82076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D0D509-52A9-413A-858B-69F9F4D63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46608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46608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79EBA6-45C4-423A-BF50-51B5800B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EC815C4-EE0C-4B13-81FC-9D08331BF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FF8F913-4DE5-4FA4-BBAA-56C4400C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5F6776E-535F-4EF8-9A0C-63E2E584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F8EEF5D-A7F7-4880-B14B-DA0F11A3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1DB425D-6183-4D1A-84FD-D6EA59E4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838080" y="533520"/>
            <a:ext cx="77724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B44F078-F4EF-4B70-8215-A4F0DDA8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DDDDEC2-092A-4DFB-B420-0718C964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2076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D5E6-6D4C-4320-BC49-C87495E4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82076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57BA552-FC1E-42BA-8F4B-03A00EF5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7519F35-73AB-4710-9BAA-5B294110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0E6193E-8FEF-40B1-A18D-D0C32F8A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82076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6585EDE-8D77-413F-AF4E-3C46359C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46608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46608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3D850D9-BA56-4404-8BB5-2F8AA0F29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C386307-C820-40AA-AF43-BA1BB962E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6880CAF-F215-47DD-ACE2-09C034F7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A0B4593-B70B-48CA-8E63-E0EE5E19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6EB5039-CDA7-4D49-869C-F875753A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1C18DC7-1834-4750-B5B5-DCD8BA27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DCF3-30C9-4F3D-AC17-03DC8A27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838080" y="533520"/>
            <a:ext cx="77724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F95B735-9908-4C3C-A221-F57CFE3C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020C160-101E-495B-95D7-4A28C947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82076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067E2FB-DA74-44FF-90EB-7913116E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E4DB4B6-76FA-485C-8D4D-54B18FC3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AD69496-1820-4C7F-A3C2-DE1198C5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82076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07A67CB-4AE1-4841-B9E0-C3843E7D7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46608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346608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15ED041-00F1-44F1-B9AB-F44A116C6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DA5918A-0F79-4525-BE9E-4FE86D890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CC59533-E65E-4A59-86F5-BEF8D04E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8CA7EB7-DC0F-4119-B802-30EB28F9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3726-F7D1-4E29-91D6-58E19342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8927B1E-0D76-4DA1-B063-4B72D278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6012882-1260-4C6B-9716-6EBB0B4E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838080" y="533520"/>
            <a:ext cx="77724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A527AB5-83B2-4F81-A5BF-D8586CC5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E92CA93-A816-4EBA-AF4C-0003B153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82076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8149386-B158-40A8-973F-FD20CE07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296EB4E-BFE6-488F-BB9B-4C68049B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B71BE6D-1208-4EAC-9AB8-A8F41127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82076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5CB59A0-95EC-467E-9A16-F0A47C7B4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46608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46608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4932998-6822-41C3-A765-A09DCF21C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2BC80DE-965C-469D-90C9-3FC491F3E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2076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EB5F-7DF1-4E87-B2E9-3790AEE0E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627F425-8C47-4C2F-90A4-E411C900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BC003D9-3390-4A17-AB6F-5CE1075B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98EA142-DD69-4400-A233-74708874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3B9EFE6-52A0-43D9-A020-C54EB337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ubTitle"/>
          </p:nvPr>
        </p:nvSpPr>
        <p:spPr>
          <a:xfrm>
            <a:off x="838080" y="533520"/>
            <a:ext cx="77724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C7E7840-F6B9-4B45-A5FB-65BFD811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481D884-DFDB-4B4F-9CC3-1310A4FD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82076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49BDF77-2A25-4763-BAE9-8B1E2065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67A726E-8F82-440A-8221-D14CB23E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D12C123-93EF-4085-A8E6-843F3317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82076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D25109B-C1A7-445C-A5B8-AC257A12D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6608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6608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3801-B413-473F-B8C1-BF4212301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46608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6"/>
          <p:cNvSpPr>
            <a:spLocks noGrp="1"/>
          </p:cNvSpPr>
          <p:nvPr>
            <p:ph/>
          </p:nvPr>
        </p:nvSpPr>
        <p:spPr>
          <a:xfrm>
            <a:off x="346608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707FA94-B12D-4EC7-8761-A37CFEC91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7E668C4-D1F2-4F1B-AA23-3157B9E12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8419E98-6652-4B8D-A395-090B1830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89DDA93-FA5F-499A-BE41-B468EAEF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E5C4556-021A-486F-BBAA-1F4561A6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45BCFDD-71CE-4B02-B3E6-181D1363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838080" y="533520"/>
            <a:ext cx="77724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7133F95-2D11-4651-AABB-CDC0E9C5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FFC56EC-5097-4B77-B2FE-7EE133A2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82076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89AB2AC-0412-43DA-8FD4-2D275B20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9ED3255-A633-400C-966D-E2A18F26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9BFC-B402-4981-BF14-48B0E6227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962C4BE-8382-4284-B0EF-7C2E4D12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82076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0945D8D-19FA-4C84-A6D5-ED225C5FF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46608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46608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235ECEB-C857-4231-AA33-540F44958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1C78-5787-44A5-AA86-F06F46F7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4FC3-2AFC-4A25-A9E3-3CD887D6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AABB-723B-4BCC-8262-696CEA98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314E-F05E-46C5-9948-2C58F3B1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533520"/>
            <a:ext cx="77724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EEAF-2491-4783-B263-F5E0FDE8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C0DF-25D9-44F2-A4A9-79DDFC1F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2076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0692-1F2D-4532-9F26-33A3A187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4F4CA-EB04-4553-9E4F-6A299A84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A182-6F25-414C-AB81-D38D5E13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2076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B56C-61A7-4E33-8FDD-81D12CDE5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6608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6608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1F37-A4D4-4458-8762-EC548DCF9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838080" y="533520"/>
            <a:ext cx="77724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82076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82076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46608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46608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838080" y="533520"/>
            <a:ext cx="77724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82076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82076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38080" y="533520"/>
            <a:ext cx="77724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46608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46608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FBE62-C433-4FBE-B42A-D0F2F44C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28178-8BB5-4D47-97EC-DCB816C1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C7C83-15E6-4E53-8E3B-01E08277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2825A-9F72-4063-8C03-210A3F1F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A0877-4CD2-4DCA-8C4D-863173DB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838080" y="533520"/>
            <a:ext cx="77724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DD07A-DA8E-443E-B567-5C365092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4461C-1E93-4377-B2D8-E3E1E26B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82076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167CD-08F0-42E6-8E11-0D2FF1F3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7F1C4-C037-4C6B-A682-A8ECDF25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74F0F-5053-4B69-A21C-F20E73FA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82076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609EF-FE11-4B98-A98D-1826F813B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46608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46608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BB791-8898-40B8-BF66-912CA2E77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F8E17-EE7D-45AB-8388-7CDB6E881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E16D3-5206-475C-809B-C2FA8931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DABEA-9A65-487D-ABB0-3A6A7EA0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B51B6-04F9-4983-96FD-35F83604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97993-7EFD-492B-85F5-2EC8D474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838080" y="533520"/>
            <a:ext cx="77724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3B4C2-9883-4692-814F-4C63331A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CBA0A-FBD3-41FB-A969-68DADC65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2076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82076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F9C42-9855-4657-B8FE-145578CE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C50CC-3E4E-4019-ACF3-3906FB9F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EE7FE-7AD8-4929-8D53-A9DE8B8B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82076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58C6F-3EA8-46B1-8236-32A5F6157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46608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46608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B64C6-857A-436F-9D5A-CB0684F9C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C8CC8-817F-4A06-8A14-0D5629D8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4974D-6F71-46E4-A9D7-D011D098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27A9C-F0B5-4475-83E0-D74D4BBD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B041B-A75A-4D58-A101-76A2D3A7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FC98F-DD0E-4197-B4E2-B3987C52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533520"/>
            <a:ext cx="77724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0AF98-FD12-4F15-9E46-44A76907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3422B-4A4D-41F9-B7E0-5BCF739E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82076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2CEB6-ECBE-4302-8B18-7FD939A4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D339E-42B4-4851-894B-903275BB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07EBD-DE12-4BC4-81C4-E5059146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82076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82076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E5F2E-9825-48C7-8FAE-BAE1BF4AE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46608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46608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CACDC-2C49-4C55-AAFB-014C93772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F92D2-95D0-4229-AC2B-2CCC60A0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E4B2E-400C-435C-A4E1-76AB1AB5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20E1F-2192-48AF-8F4E-920DB50D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5"/>
          <p:cNvSpPr/>
          <p:nvPr/>
        </p:nvSpPr>
        <p:spPr>
          <a:xfrm>
            <a:off x="7086600" y="0"/>
            <a:ext cx="203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幼儿安全》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护牙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图片 1" descr="平台logo1"/>
          <p:cNvPicPr/>
          <p:nvPr/>
        </p:nvPicPr>
        <p:blipFill>
          <a:blip r:embed="rId2"/>
          <a:stretch/>
        </p:blipFill>
        <p:spPr>
          <a:xfrm>
            <a:off x="3622680" y="6373800"/>
            <a:ext cx="189864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5"/>
          <p:cNvSpPr/>
          <p:nvPr/>
        </p:nvSpPr>
        <p:spPr>
          <a:xfrm>
            <a:off x="7086600" y="0"/>
            <a:ext cx="203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幼儿安全》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护牙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图片 1" descr="平台logo1"/>
          <p:cNvPicPr/>
          <p:nvPr/>
        </p:nvPicPr>
        <p:blipFill>
          <a:blip r:embed="rId2"/>
          <a:stretch/>
        </p:blipFill>
        <p:spPr>
          <a:xfrm>
            <a:off x="3622680" y="6373800"/>
            <a:ext cx="1898640" cy="42696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dt" idx="19"/>
          </p:nvPr>
        </p:nvSpPr>
        <p:spPr>
          <a:xfrm>
            <a:off x="4568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ftr" idx="20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D043-C298-4077-94C2-6BEC3CE02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5"/>
          <p:cNvSpPr/>
          <p:nvPr/>
        </p:nvSpPr>
        <p:spPr>
          <a:xfrm>
            <a:off x="7086600" y="0"/>
            <a:ext cx="203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幼儿安全》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护牙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图片 1" descr="平台logo1"/>
          <p:cNvPicPr/>
          <p:nvPr/>
        </p:nvPicPr>
        <p:blipFill>
          <a:blip r:embed="rId2"/>
          <a:stretch/>
        </p:blipFill>
        <p:spPr>
          <a:xfrm>
            <a:off x="3622680" y="6373800"/>
            <a:ext cx="1898640" cy="42696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dt" idx="22"/>
          </p:nvPr>
        </p:nvSpPr>
        <p:spPr>
          <a:xfrm>
            <a:off x="4568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ftr" idx="23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sldNum" idx="24"/>
          </p:nvPr>
        </p:nvSpPr>
        <p:spPr>
          <a:xfrm>
            <a:off x="65527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AB9F-ED0D-4FC4-A6F6-2DF83279F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5"/>
          <p:cNvSpPr/>
          <p:nvPr/>
        </p:nvSpPr>
        <p:spPr>
          <a:xfrm>
            <a:off x="7086600" y="0"/>
            <a:ext cx="203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幼儿安全》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护牙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图片 1" descr="平台logo1"/>
          <p:cNvPicPr/>
          <p:nvPr/>
        </p:nvPicPr>
        <p:blipFill>
          <a:blip r:embed="rId2"/>
          <a:stretch/>
        </p:blipFill>
        <p:spPr>
          <a:xfrm>
            <a:off x="3622680" y="6373800"/>
            <a:ext cx="1898640" cy="4269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dt" idx="25"/>
          </p:nvPr>
        </p:nvSpPr>
        <p:spPr>
          <a:xfrm>
            <a:off x="4568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ftr" idx="26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27"/>
          </p:nvPr>
        </p:nvSpPr>
        <p:spPr>
          <a:xfrm>
            <a:off x="65527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8F58-F7D5-401C-8F9F-F9A190116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5"/>
          <p:cNvSpPr/>
          <p:nvPr/>
        </p:nvSpPr>
        <p:spPr>
          <a:xfrm>
            <a:off x="7086600" y="0"/>
            <a:ext cx="203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幼儿安全》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护牙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图片 1" descr="平台logo1"/>
          <p:cNvPicPr/>
          <p:nvPr/>
        </p:nvPicPr>
        <p:blipFill>
          <a:blip r:embed="rId2"/>
          <a:stretch/>
        </p:blipFill>
        <p:spPr>
          <a:xfrm>
            <a:off x="3622680" y="6373800"/>
            <a:ext cx="1898640" cy="42696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dt" idx="28"/>
          </p:nvPr>
        </p:nvSpPr>
        <p:spPr>
          <a:xfrm>
            <a:off x="4568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ftr" idx="29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sldNum" idx="30"/>
          </p:nvPr>
        </p:nvSpPr>
        <p:spPr>
          <a:xfrm>
            <a:off x="65527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F675-7E7D-454B-A273-191D43B0E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5"/>
          <p:cNvSpPr/>
          <p:nvPr/>
        </p:nvSpPr>
        <p:spPr>
          <a:xfrm>
            <a:off x="7086600" y="0"/>
            <a:ext cx="203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幼儿安全》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护牙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图片 1" descr="平台logo1"/>
          <p:cNvPicPr/>
          <p:nvPr/>
        </p:nvPicPr>
        <p:blipFill>
          <a:blip r:embed="rId2"/>
          <a:stretch/>
        </p:blipFill>
        <p:spPr>
          <a:xfrm>
            <a:off x="3622680" y="6373800"/>
            <a:ext cx="1898640" cy="42696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dt" idx="31"/>
          </p:nvPr>
        </p:nvSpPr>
        <p:spPr>
          <a:xfrm>
            <a:off x="4568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ftr" idx="32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EEB5-41CF-43E0-9C60-445AFEED7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5"/>
          <p:cNvSpPr/>
          <p:nvPr/>
        </p:nvSpPr>
        <p:spPr>
          <a:xfrm>
            <a:off x="7086600" y="0"/>
            <a:ext cx="203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幼儿安全》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护牙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图片 1" descr="平台logo1"/>
          <p:cNvPicPr/>
          <p:nvPr/>
        </p:nvPicPr>
        <p:blipFill>
          <a:blip r:embed="rId2"/>
          <a:stretch/>
        </p:blipFill>
        <p:spPr>
          <a:xfrm>
            <a:off x="3622680" y="6373800"/>
            <a:ext cx="1898640" cy="426960"/>
          </a:xfrm>
          <a:prstGeom prst="rect">
            <a:avLst/>
          </a:prstGeom>
          <a:ln w="0">
            <a:noFill/>
          </a:ln>
        </p:spPr>
      </p:pic>
      <p:sp>
        <p:nvSpPr>
          <p:cNvPr id="571" name="PlaceHolder 1"/>
          <p:cNvSpPr>
            <a:spLocks noGrp="1"/>
          </p:cNvSpPr>
          <p:nvPr>
            <p:ph type="dt" idx="34"/>
          </p:nvPr>
        </p:nvSpPr>
        <p:spPr>
          <a:xfrm>
            <a:off x="4568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ftr" idx="35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sldNum" idx="36"/>
          </p:nvPr>
        </p:nvSpPr>
        <p:spPr>
          <a:xfrm>
            <a:off x="65527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6AD0-8631-4BCA-A7E1-126EF4BBB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5"/>
          <p:cNvSpPr/>
          <p:nvPr/>
        </p:nvSpPr>
        <p:spPr>
          <a:xfrm>
            <a:off x="7086600" y="0"/>
            <a:ext cx="203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幼儿安全》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护牙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图片 1" descr="平台logo1"/>
          <p:cNvPicPr/>
          <p:nvPr/>
        </p:nvPicPr>
        <p:blipFill>
          <a:blip r:embed="rId2"/>
          <a:stretch/>
        </p:blipFill>
        <p:spPr>
          <a:xfrm>
            <a:off x="3622680" y="6373800"/>
            <a:ext cx="1898640" cy="426960"/>
          </a:xfrm>
          <a:prstGeom prst="rect">
            <a:avLst/>
          </a:prstGeom>
          <a:ln w="0">
            <a:noFill/>
          </a:ln>
        </p:spPr>
      </p:pic>
      <p:sp>
        <p:nvSpPr>
          <p:cNvPr id="612" name="PlaceHolder 1"/>
          <p:cNvSpPr>
            <a:spLocks noGrp="1"/>
          </p:cNvSpPr>
          <p:nvPr>
            <p:ph type="dt" idx="37"/>
          </p:nvPr>
        </p:nvSpPr>
        <p:spPr>
          <a:xfrm>
            <a:off x="4568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ftr" idx="38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sldNum" idx="39"/>
          </p:nvPr>
        </p:nvSpPr>
        <p:spPr>
          <a:xfrm>
            <a:off x="65527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E58B-7D5F-41FA-AE28-BFF1E83A2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图片 1" descr="平台logo1"/>
          <p:cNvPicPr/>
          <p:nvPr/>
        </p:nvPicPr>
        <p:blipFill>
          <a:blip r:embed="rId2"/>
          <a:stretch/>
        </p:blipFill>
        <p:spPr>
          <a:xfrm>
            <a:off x="3522600" y="6373800"/>
            <a:ext cx="1898640" cy="42696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5"/>
          <p:cNvSpPr/>
          <p:nvPr/>
        </p:nvSpPr>
        <p:spPr>
          <a:xfrm>
            <a:off x="7086600" y="0"/>
            <a:ext cx="203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幼儿安全》</a:t>
            </a:r>
            <a:r>
              <a:rPr b="0" lang="zh-CN" sz="1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·</a:t>
            </a:r>
            <a:r>
              <a:rPr b="0" lang="zh-CN" sz="1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保护牙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40"/>
          </p:nvPr>
        </p:nvSpPr>
        <p:spPr>
          <a:xfrm>
            <a:off x="4568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sldNum" idx="41"/>
          </p:nvPr>
        </p:nvSpPr>
        <p:spPr>
          <a:xfrm>
            <a:off x="65527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Microsoft Jheng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C2CE-F772-4AF4-B997-9F0A1BE77AA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icrosoft Jheng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42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图片 1" descr="平台logo1"/>
          <p:cNvPicPr/>
          <p:nvPr/>
        </p:nvPicPr>
        <p:blipFill>
          <a:blip r:embed="rId2"/>
          <a:stretch/>
        </p:blipFill>
        <p:spPr>
          <a:xfrm>
            <a:off x="3522600" y="6373800"/>
            <a:ext cx="1898640" cy="426960"/>
          </a:xfrm>
          <a:prstGeom prst="rect">
            <a:avLst/>
          </a:prstGeom>
          <a:ln w="0">
            <a:noFill/>
          </a:ln>
        </p:spPr>
      </p:pic>
      <p:sp>
        <p:nvSpPr>
          <p:cNvPr id="695" name="Text Box 5"/>
          <p:cNvSpPr/>
          <p:nvPr/>
        </p:nvSpPr>
        <p:spPr>
          <a:xfrm>
            <a:off x="7086600" y="0"/>
            <a:ext cx="203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幼儿安全》</a:t>
            </a:r>
            <a:r>
              <a:rPr b="0" lang="zh-CN" sz="1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·</a:t>
            </a:r>
            <a:r>
              <a:rPr b="0" lang="zh-CN" sz="1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保护牙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dt" idx="43"/>
          </p:nvPr>
        </p:nvSpPr>
        <p:spPr>
          <a:xfrm>
            <a:off x="4568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sldNum" idx="44"/>
          </p:nvPr>
        </p:nvSpPr>
        <p:spPr>
          <a:xfrm>
            <a:off x="65527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Microsoft Jheng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1D2A-FD55-4F20-A99E-BCC6B2ACD1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icrosoft Jheng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 type="ftr" idx="45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图片 1" descr="平台logo1"/>
          <p:cNvPicPr/>
          <p:nvPr/>
        </p:nvPicPr>
        <p:blipFill>
          <a:blip r:embed="rId2"/>
          <a:stretch/>
        </p:blipFill>
        <p:spPr>
          <a:xfrm>
            <a:off x="3522600" y="6373800"/>
            <a:ext cx="1898640" cy="426960"/>
          </a:xfrm>
          <a:prstGeom prst="rect">
            <a:avLst/>
          </a:prstGeom>
          <a:ln w="0">
            <a:noFill/>
          </a:ln>
        </p:spPr>
      </p:pic>
      <p:sp>
        <p:nvSpPr>
          <p:cNvPr id="738" name="Text Box 5"/>
          <p:cNvSpPr/>
          <p:nvPr/>
        </p:nvSpPr>
        <p:spPr>
          <a:xfrm>
            <a:off x="7086600" y="0"/>
            <a:ext cx="203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幼儿安全》</a:t>
            </a:r>
            <a:r>
              <a:rPr b="0" lang="zh-CN" sz="1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·</a:t>
            </a:r>
            <a:r>
              <a:rPr b="0" lang="zh-CN" sz="1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保护牙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dt" idx="46"/>
          </p:nvPr>
        </p:nvSpPr>
        <p:spPr>
          <a:xfrm>
            <a:off x="4568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sldNum" idx="47"/>
          </p:nvPr>
        </p:nvSpPr>
        <p:spPr>
          <a:xfrm>
            <a:off x="65527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Microsoft Jheng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A063-8D61-4073-8E09-35B57D0B14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icrosoft Jheng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 type="ftr" idx="48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Microsoft Jheng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B53A-AC66-4BBD-8DED-1A42A5BCF3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icrosoft Jheng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图片 1" descr="平台logo1"/>
          <p:cNvPicPr/>
          <p:nvPr/>
        </p:nvPicPr>
        <p:blipFill>
          <a:blip r:embed="rId2"/>
          <a:stretch/>
        </p:blipFill>
        <p:spPr>
          <a:xfrm>
            <a:off x="3522600" y="6373800"/>
            <a:ext cx="189864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图片 1" descr="平台logo1"/>
          <p:cNvPicPr/>
          <p:nvPr/>
        </p:nvPicPr>
        <p:blipFill>
          <a:blip r:embed="rId2"/>
          <a:stretch/>
        </p:blipFill>
        <p:spPr>
          <a:xfrm>
            <a:off x="3522600" y="6373800"/>
            <a:ext cx="1898640" cy="426960"/>
          </a:xfrm>
          <a:prstGeom prst="rect">
            <a:avLst/>
          </a:prstGeom>
          <a:ln w="0">
            <a:noFill/>
          </a:ln>
        </p:spPr>
      </p:pic>
      <p:sp>
        <p:nvSpPr>
          <p:cNvPr id="781" name="Text Box 5"/>
          <p:cNvSpPr/>
          <p:nvPr/>
        </p:nvSpPr>
        <p:spPr>
          <a:xfrm>
            <a:off x="7086600" y="0"/>
            <a:ext cx="203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幼儿安全》</a:t>
            </a:r>
            <a:r>
              <a:rPr b="0" lang="zh-CN" sz="1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·</a:t>
            </a:r>
            <a:r>
              <a:rPr b="0" lang="zh-CN" sz="1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保护牙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 type="dt" idx="49"/>
          </p:nvPr>
        </p:nvSpPr>
        <p:spPr>
          <a:xfrm>
            <a:off x="4568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 type="sldNum" idx="50"/>
          </p:nvPr>
        </p:nvSpPr>
        <p:spPr>
          <a:xfrm>
            <a:off x="65527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Microsoft Jheng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2A71-1BC6-4D90-AFEB-2FA6F0CCB1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icrosoft Jheng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 type="ftr" idx="51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5"/>
          <p:cNvSpPr/>
          <p:nvPr/>
        </p:nvSpPr>
        <p:spPr>
          <a:xfrm>
            <a:off x="7086600" y="0"/>
            <a:ext cx="203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幼儿安全》</a:t>
            </a:r>
            <a:r>
              <a:rPr b="0" lang="zh-CN" sz="1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·</a:t>
            </a:r>
            <a:r>
              <a:rPr b="0" lang="zh-CN" sz="1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保护牙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图片 1" descr="平台logo1"/>
          <p:cNvPicPr/>
          <p:nvPr/>
        </p:nvPicPr>
        <p:blipFill>
          <a:blip r:embed="rId2"/>
          <a:stretch/>
        </p:blipFill>
        <p:spPr>
          <a:xfrm>
            <a:off x="3522600" y="6373800"/>
            <a:ext cx="1898640" cy="426960"/>
          </a:xfrm>
          <a:prstGeom prst="rect">
            <a:avLst/>
          </a:prstGeom>
          <a:ln w="0">
            <a:noFill/>
          </a:ln>
        </p:spPr>
      </p:pic>
      <p:sp>
        <p:nvSpPr>
          <p:cNvPr id="825" name="Text Box 5"/>
          <p:cNvSpPr/>
          <p:nvPr/>
        </p:nvSpPr>
        <p:spPr>
          <a:xfrm>
            <a:off x="7086600" y="0"/>
            <a:ext cx="203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幼儿安全》</a:t>
            </a:r>
            <a:r>
              <a:rPr b="0" lang="zh-CN" sz="1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·</a:t>
            </a:r>
            <a:r>
              <a:rPr b="0" lang="zh-CN" sz="1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保护牙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52"/>
          </p:nvPr>
        </p:nvSpPr>
        <p:spPr>
          <a:xfrm>
            <a:off x="4568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sldNum" idx="53"/>
          </p:nvPr>
        </p:nvSpPr>
        <p:spPr>
          <a:xfrm>
            <a:off x="65527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Microsoft Jheng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ED64-58C6-4D27-B11D-C9F27D69EF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icrosoft Jheng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ftr" idx="54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Microsoft Jheng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8F84-0BEF-4789-9797-5F5F7F6BE8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icrosoft Jheng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7086600" y="0"/>
            <a:ext cx="203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幼儿安全》</a:t>
            </a:r>
            <a:r>
              <a:rPr b="0" lang="zh-CN" sz="1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·</a:t>
            </a:r>
            <a:r>
              <a:rPr b="0" lang="zh-CN" sz="1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保护牙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1" descr="平台logo1"/>
          <p:cNvPicPr/>
          <p:nvPr/>
        </p:nvPicPr>
        <p:blipFill>
          <a:blip r:embed="rId2"/>
          <a:stretch/>
        </p:blipFill>
        <p:spPr>
          <a:xfrm>
            <a:off x="3522600" y="6373800"/>
            <a:ext cx="189864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6840" y="1523520"/>
            <a:ext cx="7924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1" descr="平台logo1"/>
          <p:cNvPicPr/>
          <p:nvPr/>
        </p:nvPicPr>
        <p:blipFill>
          <a:blip r:embed="rId2"/>
          <a:stretch/>
        </p:blipFill>
        <p:spPr>
          <a:xfrm>
            <a:off x="3522600" y="6373800"/>
            <a:ext cx="189864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5"/>
          <p:cNvSpPr/>
          <p:nvPr/>
        </p:nvSpPr>
        <p:spPr>
          <a:xfrm>
            <a:off x="7086600" y="0"/>
            <a:ext cx="203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幼儿安全》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护牙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图片 1" descr="平台logo1"/>
          <p:cNvPicPr/>
          <p:nvPr/>
        </p:nvPicPr>
        <p:blipFill>
          <a:blip r:embed="rId2"/>
          <a:stretch/>
        </p:blipFill>
        <p:spPr>
          <a:xfrm>
            <a:off x="3622680" y="6373800"/>
            <a:ext cx="1898640" cy="4269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dt" idx="7"/>
          </p:nvPr>
        </p:nvSpPr>
        <p:spPr>
          <a:xfrm>
            <a:off x="4568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ftr" idx="8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9"/>
          </p:nvPr>
        </p:nvSpPr>
        <p:spPr>
          <a:xfrm>
            <a:off x="65527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26AB-2749-48C9-B06D-18BB0764C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5"/>
          <p:cNvSpPr/>
          <p:nvPr/>
        </p:nvSpPr>
        <p:spPr>
          <a:xfrm>
            <a:off x="7086600" y="0"/>
            <a:ext cx="203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幼儿安全》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护牙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片 1" descr="平台logo1"/>
          <p:cNvPicPr/>
          <p:nvPr/>
        </p:nvPicPr>
        <p:blipFill>
          <a:blip r:embed="rId2"/>
          <a:stretch/>
        </p:blipFill>
        <p:spPr>
          <a:xfrm>
            <a:off x="3622680" y="6373800"/>
            <a:ext cx="1898640" cy="42696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dt" idx="10"/>
          </p:nvPr>
        </p:nvSpPr>
        <p:spPr>
          <a:xfrm>
            <a:off x="4568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ftr" idx="11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12"/>
          </p:nvPr>
        </p:nvSpPr>
        <p:spPr>
          <a:xfrm>
            <a:off x="65527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0FDE-F30E-45E2-8E5D-D07841BC7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5"/>
          <p:cNvSpPr/>
          <p:nvPr/>
        </p:nvSpPr>
        <p:spPr>
          <a:xfrm>
            <a:off x="7086600" y="0"/>
            <a:ext cx="203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幼儿安全》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护牙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片 1" descr="平台logo1"/>
          <p:cNvPicPr/>
          <p:nvPr/>
        </p:nvPicPr>
        <p:blipFill>
          <a:blip r:embed="rId2"/>
          <a:stretch/>
        </p:blipFill>
        <p:spPr>
          <a:xfrm>
            <a:off x="3622680" y="6373800"/>
            <a:ext cx="189864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dt" idx="13"/>
          </p:nvPr>
        </p:nvSpPr>
        <p:spPr>
          <a:xfrm>
            <a:off x="4568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ftr" idx="14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447E-A7EB-471A-86AF-F595DC17E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5"/>
          <p:cNvSpPr/>
          <p:nvPr/>
        </p:nvSpPr>
        <p:spPr>
          <a:xfrm>
            <a:off x="7086600" y="0"/>
            <a:ext cx="203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幼儿安全》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护牙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图片 1" descr="平台logo1"/>
          <p:cNvPicPr/>
          <p:nvPr/>
        </p:nvPicPr>
        <p:blipFill>
          <a:blip r:embed="rId2"/>
          <a:stretch/>
        </p:blipFill>
        <p:spPr>
          <a:xfrm>
            <a:off x="3622680" y="6373800"/>
            <a:ext cx="1898640" cy="4269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dt" idx="16"/>
          </p:nvPr>
        </p:nvSpPr>
        <p:spPr>
          <a:xfrm>
            <a:off x="4568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ftr" idx="17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Num" idx="18"/>
          </p:nvPr>
        </p:nvSpPr>
        <p:spPr>
          <a:xfrm>
            <a:off x="65527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0B33-2BC2-46A3-B195-064C0175B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hyperlink" Target="http://v.youku.com/v_show/id_XMTc0MTQ2NDExNg==.html?spm=a2h0k.8191407.0.0&amp;from=s1.8-1-1.2" TargetMode="External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9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3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椭圆 2"/>
          <p:cNvSpPr/>
          <p:nvPr/>
        </p:nvSpPr>
        <p:spPr>
          <a:xfrm>
            <a:off x="3276720" y="458640"/>
            <a:ext cx="5371920" cy="90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Arial"/>
                <a:ea typeface="微软雅黑"/>
              </a:rPr>
              <a:t>妈妈带跳跳兔去医院检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1" descr="bhyc3"/>
          <p:cNvPicPr/>
          <p:nvPr/>
        </p:nvPicPr>
        <p:blipFill>
          <a:blip r:embed="rId1"/>
          <a:stretch/>
        </p:blipFill>
        <p:spPr>
          <a:xfrm>
            <a:off x="-3240" y="430200"/>
            <a:ext cx="913464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6" name="图片 1" descr="bhyc4"/>
          <p:cNvPicPr/>
          <p:nvPr/>
        </p:nvPicPr>
        <p:blipFill>
          <a:blip r:embed="rId1"/>
          <a:stretch/>
        </p:blipFill>
        <p:spPr>
          <a:xfrm>
            <a:off x="-31680" y="398520"/>
            <a:ext cx="9178920" cy="6440400"/>
          </a:xfrm>
          <a:prstGeom prst="rect">
            <a:avLst/>
          </a:prstGeom>
          <a:ln w="0">
            <a:noFill/>
          </a:ln>
        </p:spPr>
      </p:pic>
      <p:sp>
        <p:nvSpPr>
          <p:cNvPr id="907" name="椭圆 2"/>
          <p:cNvSpPr/>
          <p:nvPr/>
        </p:nvSpPr>
        <p:spPr>
          <a:xfrm rot="21418200">
            <a:off x="260280" y="288720"/>
            <a:ext cx="7621560" cy="1392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Arial"/>
                <a:ea typeface="微软雅黑"/>
              </a:rPr>
              <a:t>河马医生教育跳跳兔吃了甜食要漱口，睡觉前不要吃零食，要学会刷牙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图片 1" descr="保护牙齿-色5"/>
          <p:cNvPicPr/>
          <p:nvPr/>
        </p:nvPicPr>
        <p:blipFill>
          <a:blip r:embed="rId1"/>
          <a:stretch/>
        </p:blipFill>
        <p:spPr>
          <a:xfrm>
            <a:off x="-23760" y="587520"/>
            <a:ext cx="9161280" cy="6476760"/>
          </a:xfrm>
          <a:prstGeom prst="rect">
            <a:avLst/>
          </a:prstGeom>
          <a:ln w="0">
            <a:noFill/>
          </a:ln>
        </p:spPr>
      </p:pic>
      <p:sp>
        <p:nvSpPr>
          <p:cNvPr id="909" name="椭圆 2"/>
          <p:cNvSpPr/>
          <p:nvPr/>
        </p:nvSpPr>
        <p:spPr>
          <a:xfrm>
            <a:off x="303120" y="93600"/>
            <a:ext cx="7304040" cy="900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Arial"/>
                <a:ea typeface="微软雅黑"/>
              </a:rPr>
              <a:t>跳跳兔爱刷牙了，有一口健康的好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图片 2" descr=""/>
          <p:cNvPicPr/>
          <p:nvPr/>
        </p:nvPicPr>
        <p:blipFill>
          <a:blip r:embed="rId1"/>
          <a:stretch/>
        </p:blipFill>
        <p:spPr>
          <a:xfrm>
            <a:off x="6651720" y="2522520"/>
            <a:ext cx="2195280" cy="2197080"/>
          </a:xfrm>
          <a:prstGeom prst="rect">
            <a:avLst/>
          </a:prstGeom>
          <a:ln w="0">
            <a:noFill/>
          </a:ln>
        </p:spPr>
      </p:pic>
      <p:sp>
        <p:nvSpPr>
          <p:cNvPr id="911" name="AutoShape 5"/>
          <p:cNvSpPr/>
          <p:nvPr/>
        </p:nvSpPr>
        <p:spPr>
          <a:xfrm>
            <a:off x="304920" y="3043080"/>
            <a:ext cx="5486400" cy="609840"/>
          </a:xfrm>
          <a:custGeom>
            <a:avLst/>
            <a:gdLst>
              <a:gd name="textAreaLeft" fmla="*/ 0 w 5486400"/>
              <a:gd name="textAreaRight" fmla="*/ 5486760 w 54864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AutoShape 6"/>
          <p:cNvSpPr/>
          <p:nvPr/>
        </p:nvSpPr>
        <p:spPr>
          <a:xfrm>
            <a:off x="304920" y="4110120"/>
            <a:ext cx="4038480" cy="609480"/>
          </a:xfrm>
          <a:custGeom>
            <a:avLst/>
            <a:gdLst>
              <a:gd name="textAreaLeft" fmla="*/ 0 w 4038480"/>
              <a:gd name="textAreaRight" fmla="*/ 4038840 w 4038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cd46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AutoShape 7"/>
          <p:cNvSpPr/>
          <p:nvPr/>
        </p:nvSpPr>
        <p:spPr>
          <a:xfrm>
            <a:off x="304920" y="5100480"/>
            <a:ext cx="8076960" cy="609840"/>
          </a:xfrm>
          <a:custGeom>
            <a:avLst/>
            <a:gdLst>
              <a:gd name="textAreaLeft" fmla="*/ 0 w 8076960"/>
              <a:gd name="textAreaRight" fmla="*/ 8077320 w 807696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/>
          </p:nvPr>
        </p:nvSpPr>
        <p:spPr>
          <a:xfrm>
            <a:off x="303120" y="18241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看完这个小故事，让我们来思考一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跳跳兔的牙齿为什么生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牙齿坏了会怎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后来跳跳兔怎样做，它的牙齿就好起来了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5" name="Picture 7" descr="C:\Users\dell\Desktop\ppt用到的各种小标签\议一议.png"/>
          <p:cNvPicPr/>
          <p:nvPr/>
        </p:nvPicPr>
        <p:blipFill>
          <a:blip r:embed="rId2"/>
          <a:stretch/>
        </p:blipFill>
        <p:spPr>
          <a:xfrm>
            <a:off x="152280" y="152280"/>
            <a:ext cx="1667160" cy="80028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Picture 8" descr="0330020505"/>
          <p:cNvPicPr/>
          <p:nvPr/>
        </p:nvPicPr>
        <p:blipFill>
          <a:blip r:embed="rId1"/>
          <a:stretch/>
        </p:blipFill>
        <p:spPr>
          <a:xfrm>
            <a:off x="5962680" y="1965240"/>
            <a:ext cx="2798640" cy="4738680"/>
          </a:xfrm>
          <a:prstGeom prst="rect">
            <a:avLst/>
          </a:prstGeom>
          <a:ln w="0">
            <a:noFill/>
          </a:ln>
        </p:spPr>
      </p:pic>
      <p:sp>
        <p:nvSpPr>
          <p:cNvPr id="917" name=""/>
          <p:cNvSpPr txBox="1"/>
          <p:nvPr/>
        </p:nvSpPr>
        <p:spPr>
          <a:xfrm>
            <a:off x="1576080" y="1401480"/>
            <a:ext cx="53910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我们到底应该怎么去做才能保护牙齿的健康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图片 2" descr="64678"/>
          <p:cNvPicPr/>
          <p:nvPr/>
        </p:nvPicPr>
        <p:blipFill>
          <a:blip r:embed="rId2"/>
          <a:stretch/>
        </p:blipFill>
        <p:spPr>
          <a:xfrm>
            <a:off x="914400" y="2862360"/>
            <a:ext cx="3362400" cy="346212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5" descr="C:\Users\dell\Desktop\ppt用到的各种小标签\思考.png"/>
          <p:cNvPicPr/>
          <p:nvPr/>
        </p:nvPicPr>
        <p:blipFill>
          <a:blip r:embed="rId3"/>
          <a:stretch/>
        </p:blipFill>
        <p:spPr>
          <a:xfrm>
            <a:off x="142920" y="142920"/>
            <a:ext cx="20667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2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3" dur="2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4" dur="2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7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7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2" descr=""/>
          <p:cNvPicPr/>
          <p:nvPr/>
        </p:nvPicPr>
        <p:blipFill>
          <a:blip r:embed="rId1"/>
          <a:stretch/>
        </p:blipFill>
        <p:spPr>
          <a:xfrm>
            <a:off x="1219320" y="1095480"/>
            <a:ext cx="6229080" cy="4286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141560" y="151920"/>
            <a:ext cx="649584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跟巧虎学刷牙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1255320" y="5410080"/>
            <a:ext cx="6240600" cy="9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2"/>
              </a:rPr>
              <a:t>http://v.youku.com/v_show/id_XMTc0MTQ2NDExNg==.html?spm=a2h0k.8191407.0.0&amp;from=s1.8-1-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文本框 1"/>
          <p:cNvSpPr/>
          <p:nvPr/>
        </p:nvSpPr>
        <p:spPr>
          <a:xfrm>
            <a:off x="5842440" y="6353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注：视频需联网播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4" name="Picture 8" descr="C:\Users\dell\Desktop\ppt用到的各种小标签\视频.png"/>
          <p:cNvPicPr/>
          <p:nvPr/>
        </p:nvPicPr>
        <p:blipFill>
          <a:blip r:embed="rId3"/>
          <a:stretch/>
        </p:blipFill>
        <p:spPr>
          <a:xfrm>
            <a:off x="152280" y="152280"/>
            <a:ext cx="13906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Picture 5" descr="2531170_145712327000_2"/>
          <p:cNvPicPr/>
          <p:nvPr/>
        </p:nvPicPr>
        <p:blipFill>
          <a:blip r:embed="rId1"/>
          <a:stretch/>
        </p:blipFill>
        <p:spPr>
          <a:xfrm>
            <a:off x="457200" y="5051520"/>
            <a:ext cx="1569960" cy="13716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7" descr="2531170_145712327000_2"/>
          <p:cNvPicPr/>
          <p:nvPr/>
        </p:nvPicPr>
        <p:blipFill>
          <a:blip r:embed="rId2"/>
          <a:stretch/>
        </p:blipFill>
        <p:spPr>
          <a:xfrm>
            <a:off x="1243080" y="2133720"/>
            <a:ext cx="1795320" cy="1600200"/>
          </a:xfrm>
          <a:prstGeom prst="rect">
            <a:avLst/>
          </a:prstGeom>
          <a:ln w="0">
            <a:noFill/>
          </a:ln>
        </p:spPr>
      </p:pic>
      <p:sp>
        <p:nvSpPr>
          <p:cNvPr id="927" name="PlaceHolder 1"/>
          <p:cNvSpPr>
            <a:spLocks noGrp="1"/>
          </p:cNvSpPr>
          <p:nvPr>
            <p:ph/>
          </p:nvPr>
        </p:nvSpPr>
        <p:spPr>
          <a:xfrm>
            <a:off x="3414600" y="2057040"/>
            <a:ext cx="5370480" cy="38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牙齿可以嚼烂食物，帮助消化，所以我们一定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每天刷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，改掉不良的用牙习惯，爱护好我们的牙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图片 1" descr="安全小结"/>
          <p:cNvPicPr/>
          <p:nvPr/>
        </p:nvPicPr>
        <p:blipFill>
          <a:blip r:embed="rId3"/>
          <a:stretch/>
        </p:blipFill>
        <p:spPr>
          <a:xfrm>
            <a:off x="152280" y="257040"/>
            <a:ext cx="2386080" cy="8859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1000" autoRev="1" fill="hold"/>
                                        <p:tgtEl>
                                          <p:spTgt spid="9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2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1000" autoRev="1" fill="hold"/>
                                        <p:tgtEl>
                                          <p:spTgt spid="9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矩形 29"/>
          <p:cNvSpPr/>
          <p:nvPr/>
        </p:nvSpPr>
        <p:spPr>
          <a:xfrm>
            <a:off x="330120" y="4168800"/>
            <a:ext cx="222876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" descr=""/>
          <p:cNvPicPr/>
          <p:nvPr/>
        </p:nvPicPr>
        <p:blipFill>
          <a:blip r:embed="rId1"/>
          <a:stretch/>
        </p:blipFill>
        <p:spPr>
          <a:xfrm>
            <a:off x="330120" y="1828800"/>
            <a:ext cx="2211480" cy="2152800"/>
          </a:xfrm>
          <a:prstGeom prst="rect">
            <a:avLst/>
          </a:prstGeom>
          <a:ln w="0">
            <a:noFill/>
          </a:ln>
        </p:spPr>
      </p:pic>
      <p:sp>
        <p:nvSpPr>
          <p:cNvPr id="931" name="矩形 1"/>
          <p:cNvSpPr/>
          <p:nvPr/>
        </p:nvSpPr>
        <p:spPr>
          <a:xfrm>
            <a:off x="3908880" y="569880"/>
            <a:ext cx="365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  <a:ea typeface="微软雅黑"/>
              </a:rPr>
              <a:t>正确刷牙方法你知道吗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  <a:ea typeface="微软雅黑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4"/>
          <p:cNvSpPr/>
          <p:nvPr/>
        </p:nvSpPr>
        <p:spPr>
          <a:xfrm>
            <a:off x="330120" y="4267080"/>
            <a:ext cx="222732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先邀请小朋友自愿上台演示自己的刷牙方法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3" name="Picture 6" descr="20120924222125652"/>
          <p:cNvPicPr/>
          <p:nvPr/>
        </p:nvPicPr>
        <p:blipFill>
          <a:blip r:embed="rId2"/>
          <a:stretch/>
        </p:blipFill>
        <p:spPr>
          <a:xfrm>
            <a:off x="2925720" y="1981080"/>
            <a:ext cx="2844720" cy="2000520"/>
          </a:xfrm>
          <a:prstGeom prst="rect">
            <a:avLst/>
          </a:prstGeom>
          <a:ln w="0">
            <a:noFill/>
          </a:ln>
        </p:spPr>
      </p:pic>
      <p:pic>
        <p:nvPicPr>
          <p:cNvPr id="934" name="图片 28" descr=""/>
          <p:cNvPicPr/>
          <p:nvPr/>
        </p:nvPicPr>
        <p:blipFill>
          <a:blip r:embed="rId3"/>
          <a:stretch/>
        </p:blipFill>
        <p:spPr>
          <a:xfrm>
            <a:off x="5910120" y="1986120"/>
            <a:ext cx="3000600" cy="1995480"/>
          </a:xfrm>
          <a:prstGeom prst="rect">
            <a:avLst/>
          </a:prstGeom>
          <a:ln w="0">
            <a:noFill/>
          </a:ln>
        </p:spPr>
      </p:pic>
      <p:sp>
        <p:nvSpPr>
          <p:cNvPr id="935" name="矩形 42"/>
          <p:cNvSpPr/>
          <p:nvPr/>
        </p:nvSpPr>
        <p:spPr>
          <a:xfrm>
            <a:off x="2925720" y="4211640"/>
            <a:ext cx="2844720" cy="14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4"/>
          <p:cNvSpPr/>
          <p:nvPr/>
        </p:nvSpPr>
        <p:spPr>
          <a:xfrm>
            <a:off x="2936880" y="4191120"/>
            <a:ext cx="280188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老师点评并示范正确的刷牙方法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矩形 43"/>
          <p:cNvSpPr/>
          <p:nvPr/>
        </p:nvSpPr>
        <p:spPr>
          <a:xfrm>
            <a:off x="5910120" y="4211640"/>
            <a:ext cx="300204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4"/>
          <p:cNvSpPr/>
          <p:nvPr/>
        </p:nvSpPr>
        <p:spPr>
          <a:xfrm>
            <a:off x="5908680" y="4194000"/>
            <a:ext cx="300204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全班小朋友一起练习正确的刷牙方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9" name="图片 2" descr="演练"/>
          <p:cNvPicPr/>
          <p:nvPr/>
        </p:nvPicPr>
        <p:blipFill>
          <a:blip r:embed="rId4"/>
          <a:stretch/>
        </p:blipFill>
        <p:spPr>
          <a:xfrm>
            <a:off x="152280" y="76320"/>
            <a:ext cx="221940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Picture 3" descr="E:\山东省\文本框\4656574.jpg"/>
          <p:cNvPicPr/>
          <p:nvPr/>
        </p:nvPicPr>
        <p:blipFill>
          <a:blip r:embed="rId1"/>
          <a:stretch/>
        </p:blipFill>
        <p:spPr>
          <a:xfrm>
            <a:off x="4500720" y="47520"/>
            <a:ext cx="4643280" cy="36007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26" descr=""/>
          <p:cNvPicPr/>
          <p:nvPr/>
        </p:nvPicPr>
        <p:blipFill>
          <a:blip r:embed="rId2"/>
          <a:stretch/>
        </p:blipFill>
        <p:spPr>
          <a:xfrm>
            <a:off x="0" y="4829040"/>
            <a:ext cx="9159840" cy="1768680"/>
          </a:xfrm>
          <a:prstGeom prst="rect">
            <a:avLst/>
          </a:prstGeom>
          <a:ln w="0">
            <a:noFill/>
          </a:ln>
        </p:spPr>
      </p:pic>
      <p:sp>
        <p:nvSpPr>
          <p:cNvPr id="942" name="Rectangle 4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8ac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矩形 6"/>
          <p:cNvSpPr/>
          <p:nvPr/>
        </p:nvSpPr>
        <p:spPr>
          <a:xfrm>
            <a:off x="0" y="3924360"/>
            <a:ext cx="915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你觉得下面这些行为对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图片 1" descr="安全对错"/>
          <p:cNvPicPr/>
          <p:nvPr/>
        </p:nvPicPr>
        <p:blipFill>
          <a:blip r:embed="rId3"/>
          <a:stretch/>
        </p:blipFill>
        <p:spPr>
          <a:xfrm>
            <a:off x="103320" y="115920"/>
            <a:ext cx="2381040" cy="8748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1" descr="bhyc6"/>
          <p:cNvPicPr/>
          <p:nvPr/>
        </p:nvPicPr>
        <p:blipFill>
          <a:blip r:embed="rId1"/>
          <a:stretch/>
        </p:blipFill>
        <p:spPr>
          <a:xfrm>
            <a:off x="-7920" y="490680"/>
            <a:ext cx="9121680" cy="640080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 txBox="1"/>
          <p:nvPr/>
        </p:nvSpPr>
        <p:spPr>
          <a:xfrm>
            <a:off x="6609960" y="482760"/>
            <a:ext cx="4054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1" lang="en-US" sz="25000" spc="-1" strike="noStrike">
                <a:solidFill>
                  <a:srgbClr val="a50021"/>
                </a:solidFill>
                <a:latin typeface="Arial"/>
                <a:ea typeface="微软雅黑"/>
              </a:rPr>
              <a:t>×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7" name="剪去对角的矩形 7" descr=""/>
          <p:cNvPicPr/>
          <p:nvPr/>
        </p:nvPicPr>
        <p:blipFill>
          <a:blip r:embed="rId2"/>
          <a:stretch/>
        </p:blipFill>
        <p:spPr>
          <a:xfrm>
            <a:off x="3481560" y="4478400"/>
            <a:ext cx="3141360" cy="698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6" dur="500"/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图片 5" descr=""/>
          <p:cNvPicPr/>
          <p:nvPr/>
        </p:nvPicPr>
        <p:blipFill>
          <a:blip r:embed="rId1"/>
          <a:stretch/>
        </p:blipFill>
        <p:spPr>
          <a:xfrm>
            <a:off x="-22320" y="681120"/>
            <a:ext cx="9188640" cy="5700600"/>
          </a:xfrm>
          <a:prstGeom prst="rect">
            <a:avLst/>
          </a:prstGeom>
          <a:ln w="0">
            <a:noFill/>
          </a:ln>
        </p:spPr>
      </p:pic>
      <p:sp>
        <p:nvSpPr>
          <p:cNvPr id="868" name="矩形 3"/>
          <p:cNvSpPr/>
          <p:nvPr/>
        </p:nvSpPr>
        <p:spPr>
          <a:xfrm>
            <a:off x="2973240" y="1263600"/>
            <a:ext cx="592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ffff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了解保护牙齿的基本常识，学会正确的刷牙方法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ffff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养成早晚刷牙、餐后漱口的卫生习惯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9" name="Picture 4" descr="C:\Users\dell\Desktop\ppt用到的各种小标签\学习目标.png"/>
          <p:cNvPicPr/>
          <p:nvPr/>
        </p:nvPicPr>
        <p:blipFill>
          <a:blip r:embed="rId2"/>
          <a:stretch/>
        </p:blipFill>
        <p:spPr>
          <a:xfrm>
            <a:off x="152280" y="76320"/>
            <a:ext cx="218124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1" descr="bhyc7"/>
          <p:cNvPicPr/>
          <p:nvPr/>
        </p:nvPicPr>
        <p:blipFill>
          <a:blip r:embed="rId1"/>
          <a:stretch/>
        </p:blipFill>
        <p:spPr>
          <a:xfrm>
            <a:off x="12600" y="415800"/>
            <a:ext cx="9149040" cy="6419880"/>
          </a:xfrm>
          <a:prstGeom prst="rect">
            <a:avLst/>
          </a:prstGeom>
          <a:ln w="0">
            <a:noFill/>
          </a:ln>
        </p:spPr>
      </p:pic>
      <p:sp>
        <p:nvSpPr>
          <p:cNvPr id="949" name=""/>
          <p:cNvSpPr txBox="1"/>
          <p:nvPr/>
        </p:nvSpPr>
        <p:spPr>
          <a:xfrm>
            <a:off x="1546200" y="647640"/>
            <a:ext cx="31240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a50021"/>
                </a:solidFill>
                <a:latin typeface="Arial"/>
                <a:ea typeface="微软雅黑"/>
              </a:rPr>
              <a:t>√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微软雅黑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微软雅黑"/>
              </a:rPr>
              <a:t>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0" name="剪去对角的矩形 7" descr=""/>
          <p:cNvPicPr/>
          <p:nvPr/>
        </p:nvPicPr>
        <p:blipFill>
          <a:blip r:embed="rId2"/>
          <a:stretch/>
        </p:blipFill>
        <p:spPr>
          <a:xfrm>
            <a:off x="4757760" y="282600"/>
            <a:ext cx="4282920" cy="904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1" descr="bhyc8"/>
          <p:cNvPicPr/>
          <p:nvPr/>
        </p:nvPicPr>
        <p:blipFill>
          <a:blip r:embed="rId1"/>
          <a:stretch/>
        </p:blipFill>
        <p:spPr>
          <a:xfrm>
            <a:off x="-34920" y="409680"/>
            <a:ext cx="9166320" cy="6430680"/>
          </a:xfrm>
          <a:prstGeom prst="rect">
            <a:avLst/>
          </a:prstGeom>
          <a:ln w="0">
            <a:noFill/>
          </a:ln>
        </p:spPr>
      </p:pic>
      <p:pic>
        <p:nvPicPr>
          <p:cNvPr id="952" name="剪去对角的矩形 4" descr=""/>
          <p:cNvPicPr/>
          <p:nvPr/>
        </p:nvPicPr>
        <p:blipFill>
          <a:blip r:embed="rId2"/>
          <a:stretch/>
        </p:blipFill>
        <p:spPr>
          <a:xfrm>
            <a:off x="2278080" y="272880"/>
            <a:ext cx="4586400" cy="754200"/>
          </a:xfrm>
          <a:prstGeom prst="rect">
            <a:avLst/>
          </a:prstGeom>
          <a:ln w="0">
            <a:noFill/>
          </a:ln>
        </p:spPr>
      </p:pic>
      <p:sp>
        <p:nvSpPr>
          <p:cNvPr id="953" name="Rectangle 5"/>
          <p:cNvSpPr/>
          <p:nvPr/>
        </p:nvSpPr>
        <p:spPr>
          <a:xfrm>
            <a:off x="6095880" y="3467160"/>
            <a:ext cx="312444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a50021"/>
                </a:solidFill>
                <a:latin typeface="Arial"/>
                <a:ea typeface="微软雅黑"/>
              </a:rPr>
              <a:t>√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微软雅黑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微软雅黑"/>
              </a:rPr>
              <a:t>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1" descr="bhyc9"/>
          <p:cNvPicPr/>
          <p:nvPr/>
        </p:nvPicPr>
        <p:blipFill>
          <a:blip r:embed="rId1"/>
          <a:stretch/>
        </p:blipFill>
        <p:spPr>
          <a:xfrm>
            <a:off x="0" y="420840"/>
            <a:ext cx="9148680" cy="6419520"/>
          </a:xfrm>
          <a:prstGeom prst="rect">
            <a:avLst/>
          </a:prstGeom>
          <a:ln w="0">
            <a:noFill/>
          </a:ln>
        </p:spPr>
      </p:pic>
      <p:pic>
        <p:nvPicPr>
          <p:cNvPr id="955" name="剪去对角的矩形 6" descr=""/>
          <p:cNvPicPr/>
          <p:nvPr/>
        </p:nvPicPr>
        <p:blipFill>
          <a:blip r:embed="rId2"/>
          <a:stretch/>
        </p:blipFill>
        <p:spPr>
          <a:xfrm>
            <a:off x="1365120" y="355680"/>
            <a:ext cx="6864480" cy="923760"/>
          </a:xfrm>
          <a:prstGeom prst="rect">
            <a:avLst/>
          </a:prstGeom>
          <a:ln w="0">
            <a:noFill/>
          </a:ln>
        </p:spPr>
      </p:pic>
      <p:sp>
        <p:nvSpPr>
          <p:cNvPr id="956" name="Rectangle 5"/>
          <p:cNvSpPr/>
          <p:nvPr/>
        </p:nvSpPr>
        <p:spPr>
          <a:xfrm>
            <a:off x="23760" y="606600"/>
            <a:ext cx="3581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1" lang="en-US" sz="25000" spc="-1" strike="noStrike">
                <a:solidFill>
                  <a:srgbClr val="a50021"/>
                </a:solidFill>
                <a:latin typeface="Arial"/>
                <a:ea typeface="微软雅黑"/>
              </a:rPr>
              <a:t>×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3" dur="500"/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3" descr=""/>
          <p:cNvPicPr/>
          <p:nvPr/>
        </p:nvPicPr>
        <p:blipFill>
          <a:blip r:embed="rId1"/>
          <a:stretch/>
        </p:blipFill>
        <p:spPr>
          <a:xfrm>
            <a:off x="9360" y="909720"/>
            <a:ext cx="9134640" cy="5959440"/>
          </a:xfrm>
          <a:prstGeom prst="rect">
            <a:avLst/>
          </a:prstGeom>
          <a:ln w="0">
            <a:noFill/>
          </a:ln>
        </p:spPr>
      </p:pic>
      <p:sp>
        <p:nvSpPr>
          <p:cNvPr id="958" name="矩形 3"/>
          <p:cNvSpPr/>
          <p:nvPr/>
        </p:nvSpPr>
        <p:spPr>
          <a:xfrm>
            <a:off x="3656160" y="1449360"/>
            <a:ext cx="33336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牙刷，手中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呀张开小嘴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刷左边，刷右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下里外都呀都刷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早晨刷，晚上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刷得干净没蛀牙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漱漱口，笑一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的牙齿白呀白花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矩形 4"/>
          <p:cNvSpPr/>
          <p:nvPr/>
        </p:nvSpPr>
        <p:spPr>
          <a:xfrm>
            <a:off x="1879560" y="2319480"/>
            <a:ext cx="8175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刷牙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0" name="图片 1" descr="安全儿歌"/>
          <p:cNvPicPr/>
          <p:nvPr/>
        </p:nvPicPr>
        <p:blipFill>
          <a:blip r:embed="rId2"/>
          <a:stretch/>
        </p:blipFill>
        <p:spPr>
          <a:xfrm>
            <a:off x="114480" y="103320"/>
            <a:ext cx="2247840" cy="82368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矩形 5"/>
          <p:cNvSpPr/>
          <p:nvPr/>
        </p:nvSpPr>
        <p:spPr>
          <a:xfrm>
            <a:off x="933480" y="1727280"/>
            <a:ext cx="563868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要多吃蔬菜水果，少喝碳酸饮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      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晚上，丁丁吃完糖果不刷牙就上床睡觉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      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刷牙时先刷牙外面，后刷牙里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      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早上，丁丁起床后不刷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      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要做到早晚刷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      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1" descr=""/>
          <p:cNvPicPr/>
          <p:nvPr/>
        </p:nvPicPr>
        <p:blipFill>
          <a:blip r:embed="rId1"/>
          <a:stretch/>
        </p:blipFill>
        <p:spPr>
          <a:xfrm>
            <a:off x="5351400" y="2438280"/>
            <a:ext cx="3411720" cy="3189240"/>
          </a:xfrm>
          <a:prstGeom prst="rect">
            <a:avLst/>
          </a:prstGeom>
          <a:ln w="0">
            <a:noFill/>
          </a:ln>
        </p:spPr>
      </p:pic>
      <p:sp>
        <p:nvSpPr>
          <p:cNvPr id="963" name="文本框 1"/>
          <p:cNvSpPr/>
          <p:nvPr/>
        </p:nvSpPr>
        <p:spPr>
          <a:xfrm>
            <a:off x="5867280" y="6211800"/>
            <a:ext cx="256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考答案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4" name="Picture 5" descr="C:\Users\dell\Desktop\ppt用到的各种小标签\随堂测评2.png"/>
          <p:cNvPicPr/>
          <p:nvPr/>
        </p:nvPicPr>
        <p:blipFill>
          <a:blip r:embed="rId2"/>
          <a:stretch/>
        </p:blipFill>
        <p:spPr>
          <a:xfrm>
            <a:off x="152280" y="76320"/>
            <a:ext cx="231480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图片 4" descr=""/>
          <p:cNvPicPr/>
          <p:nvPr/>
        </p:nvPicPr>
        <p:blipFill>
          <a:blip r:embed="rId1"/>
          <a:stretch/>
        </p:blipFill>
        <p:spPr>
          <a:xfrm>
            <a:off x="4464000" y="2595600"/>
            <a:ext cx="4502160" cy="3537000"/>
          </a:xfrm>
          <a:prstGeom prst="rect">
            <a:avLst/>
          </a:prstGeom>
          <a:ln w="0">
            <a:noFill/>
          </a:ln>
        </p:spPr>
      </p:pic>
      <p:pic>
        <p:nvPicPr>
          <p:cNvPr id="871" name="图片 5" descr=""/>
          <p:cNvPicPr/>
          <p:nvPr/>
        </p:nvPicPr>
        <p:blipFill>
          <a:blip r:embed="rId2"/>
          <a:stretch/>
        </p:blipFill>
        <p:spPr>
          <a:xfrm>
            <a:off x="128520" y="1687680"/>
            <a:ext cx="4205520" cy="3073320"/>
          </a:xfrm>
          <a:prstGeom prst="rect">
            <a:avLst/>
          </a:prstGeom>
          <a:ln w="0">
            <a:noFill/>
          </a:ln>
        </p:spPr>
      </p:pic>
      <p:sp>
        <p:nvSpPr>
          <p:cNvPr id="872" name="圆角矩形 7"/>
          <p:cNvSpPr/>
          <p:nvPr/>
        </p:nvSpPr>
        <p:spPr>
          <a:xfrm>
            <a:off x="2916360" y="380880"/>
            <a:ext cx="6033960" cy="2057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10"/>
          <p:cNvSpPr/>
          <p:nvPr/>
        </p:nvSpPr>
        <p:spPr>
          <a:xfrm>
            <a:off x="3006720" y="3808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幼儿园里每天都会吃水果和餐点，请大家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说说你们在吃苹果的时候是怎样吃的呢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?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你们是怎样把苹果吃下去的呢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矩形 13"/>
          <p:cNvSpPr/>
          <p:nvPr/>
        </p:nvSpPr>
        <p:spPr>
          <a:xfrm>
            <a:off x="1384200" y="4981680"/>
            <a:ext cx="364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教师小结：我们是用牙齿来帮助咬断嚼碎苹果，然后再吃下去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Picture 9" descr="C:\Users\dell\Desktop\ppt用到的各种小标签\想一想.png"/>
          <p:cNvPicPr/>
          <p:nvPr/>
        </p:nvPicPr>
        <p:blipFill>
          <a:blip r:embed="rId3"/>
          <a:stretch/>
        </p:blipFill>
        <p:spPr>
          <a:xfrm>
            <a:off x="128520" y="152280"/>
            <a:ext cx="165744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/>
          </p:nvPr>
        </p:nvSpPr>
        <p:spPr>
          <a:xfrm>
            <a:off x="456840" y="2255760"/>
            <a:ext cx="792468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3"/>
          <p:cNvSpPr/>
          <p:nvPr/>
        </p:nvSpPr>
        <p:spPr>
          <a:xfrm>
            <a:off x="533520" y="2484360"/>
            <a:ext cx="3886200" cy="38102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4" descr="20091149599210"/>
          <p:cNvPicPr/>
          <p:nvPr/>
        </p:nvPicPr>
        <p:blipFill>
          <a:blip r:embed="rId1"/>
          <a:stretch/>
        </p:blipFill>
        <p:spPr>
          <a:xfrm>
            <a:off x="817560" y="2819520"/>
            <a:ext cx="3330720" cy="3106440"/>
          </a:xfrm>
          <a:prstGeom prst="rect">
            <a:avLst/>
          </a:prstGeom>
          <a:ln w="0">
            <a:noFill/>
          </a:ln>
        </p:spPr>
      </p:pic>
      <p:sp>
        <p:nvSpPr>
          <p:cNvPr id="879" name="AutoShape 5"/>
          <p:cNvSpPr/>
          <p:nvPr/>
        </p:nvSpPr>
        <p:spPr>
          <a:xfrm>
            <a:off x="4648320" y="2467080"/>
            <a:ext cx="3903480" cy="3827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Picture 7" descr="u=2569677779,4116294288&amp;fm=21&amp;gp=0"/>
          <p:cNvPicPr/>
          <p:nvPr/>
        </p:nvPicPr>
        <p:blipFill>
          <a:blip r:embed="rId2"/>
          <a:stretch/>
        </p:blipFill>
        <p:spPr>
          <a:xfrm>
            <a:off x="5052960" y="2819520"/>
            <a:ext cx="3121200" cy="317160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2"/>
          <p:cNvSpPr>
            <a:spLocks noGrp="1"/>
          </p:cNvSpPr>
          <p:nvPr>
            <p:ph type="title"/>
          </p:nvPr>
        </p:nvSpPr>
        <p:spPr>
          <a:xfrm>
            <a:off x="914040" y="1506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健康的牙齿在我们生活中有什么作用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图片 2" descr="想一想"/>
          <p:cNvPicPr/>
          <p:nvPr/>
        </p:nvPicPr>
        <p:blipFill>
          <a:blip r:embed="rId3"/>
          <a:stretch/>
        </p:blipFill>
        <p:spPr>
          <a:xfrm>
            <a:off x="228600" y="192240"/>
            <a:ext cx="1771560" cy="8553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AutoShape 5"/>
          <p:cNvSpPr/>
          <p:nvPr/>
        </p:nvSpPr>
        <p:spPr>
          <a:xfrm>
            <a:off x="4105440" y="1828800"/>
            <a:ext cx="4572000" cy="1676520"/>
          </a:xfrm>
          <a:custGeom>
            <a:avLst/>
            <a:gdLst>
              <a:gd name="textAreaLeft" fmla="*/ 570240 w 4572000"/>
              <a:gd name="textAreaRight" fmla="*/ 4001760 w 4572000"/>
              <a:gd name="textAreaTop" fmla="*/ 419040 h 1676520"/>
              <a:gd name="textAreaBottom" fmla="*/ 12574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10" y="5400"/>
                </a:lnTo>
                <a:lnTo>
                  <a:pt x="16210" y="0"/>
                </a:lnTo>
                <a:lnTo>
                  <a:pt x="21600" y="10800"/>
                </a:lnTo>
                <a:lnTo>
                  <a:pt x="16210" y="21600"/>
                </a:lnTo>
                <a:lnTo>
                  <a:pt x="16210" y="16200"/>
                </a:lnTo>
                <a:lnTo>
                  <a:pt x="0" y="16200"/>
                </a:lnTo>
                <a:lnTo>
                  <a:pt x="269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3e464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Picture 6" descr="u=1328375409,2196026032&amp;fm=90&amp;gp=0"/>
          <p:cNvPicPr/>
          <p:nvPr/>
        </p:nvPicPr>
        <p:blipFill>
          <a:blip r:embed="rId1"/>
          <a:stretch/>
        </p:blipFill>
        <p:spPr>
          <a:xfrm>
            <a:off x="228600" y="1006560"/>
            <a:ext cx="3701880" cy="5481720"/>
          </a:xfrm>
          <a:prstGeom prst="rect">
            <a:avLst/>
          </a:prstGeom>
          <a:ln w="0">
            <a:noFill/>
          </a:ln>
        </p:spPr>
      </p:pic>
      <p:sp>
        <p:nvSpPr>
          <p:cNvPr id="885" name="AutoShape 7"/>
          <p:cNvSpPr/>
          <p:nvPr/>
        </p:nvSpPr>
        <p:spPr>
          <a:xfrm>
            <a:off x="3886200" y="4038480"/>
            <a:ext cx="4800600" cy="2286000"/>
          </a:xfrm>
          <a:prstGeom prst="flowChartDecision">
            <a:avLst/>
          </a:prstGeom>
          <a:solidFill>
            <a:srgbClr val="e3e464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5086080" y="4433400"/>
            <a:ext cx="260964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微软雅黑"/>
              </a:rPr>
              <a:t>1.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微软雅黑"/>
              </a:rPr>
              <a:t>牙齿能帮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微软雅黑"/>
              </a:rPr>
              <a:t>我们咀嚼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矩形 1"/>
          <p:cNvSpPr/>
          <p:nvPr/>
        </p:nvSpPr>
        <p:spPr>
          <a:xfrm>
            <a:off x="5246640" y="2313000"/>
            <a:ext cx="180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微软雅黑"/>
              </a:rPr>
              <a:t>牙齿的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8" name="图片 2" descr="安全小结"/>
          <p:cNvPicPr/>
          <p:nvPr/>
        </p:nvPicPr>
        <p:blipFill>
          <a:blip r:embed="rId2"/>
          <a:stretch/>
        </p:blipFill>
        <p:spPr>
          <a:xfrm>
            <a:off x="228600" y="196920"/>
            <a:ext cx="2181240" cy="8096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9" name="Picture 10" descr="2531170_145712327000_2"/>
          <p:cNvPicPr/>
          <p:nvPr/>
        </p:nvPicPr>
        <p:blipFill>
          <a:blip r:embed="rId1"/>
          <a:stretch/>
        </p:blipFill>
        <p:spPr>
          <a:xfrm>
            <a:off x="3371760" y="3544920"/>
            <a:ext cx="1795680" cy="1600200"/>
          </a:xfrm>
          <a:prstGeom prst="rect">
            <a:avLst/>
          </a:prstGeom>
          <a:ln w="0">
            <a:noFill/>
          </a:ln>
        </p:spPr>
      </p:pic>
      <p:sp>
        <p:nvSpPr>
          <p:cNvPr id="890" name="AutoShape 5"/>
          <p:cNvSpPr/>
          <p:nvPr/>
        </p:nvSpPr>
        <p:spPr>
          <a:xfrm>
            <a:off x="4203720" y="4344840"/>
            <a:ext cx="4691160" cy="2210040"/>
          </a:xfrm>
          <a:prstGeom prst="flowChartDecision">
            <a:avLst/>
          </a:prstGeom>
          <a:solidFill>
            <a:srgbClr val="e3e464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ubTitle"/>
          </p:nvPr>
        </p:nvSpPr>
        <p:spPr>
          <a:xfrm>
            <a:off x="4527360" y="4552560"/>
            <a:ext cx="38098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50021"/>
                </a:solidFill>
                <a:latin typeface="Arial"/>
                <a:ea typeface="微软雅黑"/>
              </a:rPr>
              <a:t>  </a:t>
            </a:r>
            <a:r>
              <a:rPr b="1" lang="zh-CN" sz="1800" spc="-1" strike="noStrike">
                <a:solidFill>
                  <a:srgbClr val="a50021"/>
                </a:solidFill>
                <a:latin typeface="Arial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微软雅黑"/>
              </a:rPr>
              <a:t>3.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微软雅黑"/>
              </a:rPr>
              <a:t>牙齿能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微软雅黑"/>
              </a:rPr>
              <a:t>助我们发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Picture 7" descr="2531170_145712327000_2"/>
          <p:cNvPicPr/>
          <p:nvPr/>
        </p:nvPicPr>
        <p:blipFill>
          <a:blip r:embed="rId2"/>
          <a:stretch/>
        </p:blipFill>
        <p:spPr>
          <a:xfrm>
            <a:off x="196920" y="3544920"/>
            <a:ext cx="3033720" cy="264780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8" descr="2531170_145712327000_2"/>
          <p:cNvPicPr/>
          <p:nvPr/>
        </p:nvPicPr>
        <p:blipFill>
          <a:blip r:embed="rId3"/>
          <a:stretch/>
        </p:blipFill>
        <p:spPr>
          <a:xfrm>
            <a:off x="196920" y="438120"/>
            <a:ext cx="3047760" cy="2649600"/>
          </a:xfrm>
          <a:prstGeom prst="rect">
            <a:avLst/>
          </a:prstGeom>
          <a:ln w="0">
            <a:noFill/>
          </a:ln>
        </p:spPr>
      </p:pic>
      <p:sp>
        <p:nvSpPr>
          <p:cNvPr id="894" name="AutoShape 9"/>
          <p:cNvSpPr/>
          <p:nvPr/>
        </p:nvSpPr>
        <p:spPr>
          <a:xfrm>
            <a:off x="4106880" y="1778040"/>
            <a:ext cx="4884840" cy="2568600"/>
          </a:xfrm>
          <a:prstGeom prst="flowChartDecision">
            <a:avLst/>
          </a:prstGeom>
          <a:solidFill>
            <a:srgbClr val="e3e464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title"/>
          </p:nvPr>
        </p:nvSpPr>
        <p:spPr>
          <a:xfrm>
            <a:off x="5029200" y="2314080"/>
            <a:ext cx="3247920" cy="14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微软雅黑"/>
              </a:rPr>
              <a:t>2.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微软雅黑"/>
              </a:rPr>
              <a:t>健康的牙齿能使</a:t>
            </a:r>
            <a:br>
              <a:rPr sz="2800"/>
            </a:b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微软雅黑"/>
              </a:rPr>
              <a:t>我们看上去更精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000" autoRev="1" fill="hold"/>
                                        <p:tgtEl>
                                          <p:spTgt spid="8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1000" autoRev="1" fill="hold"/>
                                        <p:tgtEl>
                                          <p:spTgt spid="8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1000" autoRev="1" fill="hold"/>
                                        <p:tgtEl>
                                          <p:spTgt spid="8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图片 1" descr="图片12"/>
          <p:cNvPicPr/>
          <p:nvPr/>
        </p:nvPicPr>
        <p:blipFill>
          <a:blip r:embed="rId1"/>
          <a:stretch/>
        </p:blipFill>
        <p:spPr>
          <a:xfrm>
            <a:off x="-41400" y="746280"/>
            <a:ext cx="9185400" cy="5081400"/>
          </a:xfrm>
          <a:prstGeom prst="rect">
            <a:avLst/>
          </a:prstGeom>
          <a:ln w="0">
            <a:noFill/>
          </a:ln>
        </p:spPr>
      </p:pic>
      <p:sp>
        <p:nvSpPr>
          <p:cNvPr id="897" name="AutoShape 2"/>
          <p:cNvSpPr/>
          <p:nvPr/>
        </p:nvSpPr>
        <p:spPr>
          <a:xfrm>
            <a:off x="1447920" y="2760840"/>
            <a:ext cx="1295280" cy="1295280"/>
          </a:xfrm>
          <a:prstGeom prst="smileyFace">
            <a:avLst>
              <a:gd name="adj" fmla="val 4653"/>
            </a:avLst>
          </a:prstGeom>
          <a:solidFill>
            <a:srgbClr val="ccccff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WordArt 3"/>
          <p:cNvSpPr txBox="1"/>
          <p:nvPr/>
        </p:nvSpPr>
        <p:spPr>
          <a:xfrm>
            <a:off x="3124080" y="2990880"/>
            <a:ext cx="4572000" cy="83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ff0000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微软雅黑"/>
              </a:rPr>
              <a:t>听一听 想一想</a:t>
            </a:r>
            <a:endParaRPr b="0" lang="en-US" sz="4400" spc="1" strike="noStrike">
              <a:ln w="12600">
                <a:solidFill>
                  <a:srgbClr val="3333cc"/>
                </a:solidFill>
                <a:round/>
              </a:ln>
              <a:solidFill>
                <a:srgbClr val="ff0000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微软雅黑"/>
              <a:ea typeface="微软雅黑"/>
            </a:endParaRPr>
          </a:p>
        </p:txBody>
      </p:sp>
      <p:pic>
        <p:nvPicPr>
          <p:cNvPr id="899" name="图片 1" descr="安全故事"/>
          <p:cNvPicPr/>
          <p:nvPr/>
        </p:nvPicPr>
        <p:blipFill>
          <a:blip r:embed="rId2"/>
          <a:stretch/>
        </p:blipFill>
        <p:spPr>
          <a:xfrm>
            <a:off x="344520" y="152280"/>
            <a:ext cx="2779560" cy="1020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图片 1" descr="保护牙齿-色1"/>
          <p:cNvPicPr/>
          <p:nvPr/>
        </p:nvPicPr>
        <p:blipFill>
          <a:blip r:embed="rId1"/>
          <a:stretch/>
        </p:blipFill>
        <p:spPr>
          <a:xfrm>
            <a:off x="0" y="420840"/>
            <a:ext cx="9117000" cy="6446520"/>
          </a:xfrm>
          <a:prstGeom prst="rect">
            <a:avLst/>
          </a:prstGeom>
          <a:ln w="0">
            <a:noFill/>
          </a:ln>
        </p:spPr>
      </p:pic>
      <p:sp>
        <p:nvSpPr>
          <p:cNvPr id="901" name="椭圆 2"/>
          <p:cNvSpPr/>
          <p:nvPr/>
        </p:nvSpPr>
        <p:spPr>
          <a:xfrm>
            <a:off x="162000" y="123840"/>
            <a:ext cx="5486400" cy="900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Arial"/>
                <a:ea typeface="微软雅黑"/>
              </a:rPr>
              <a:t>跳跳兔上床睡觉前爱吃零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2" name="图片 1" descr="bhyc2"/>
          <p:cNvPicPr/>
          <p:nvPr/>
        </p:nvPicPr>
        <p:blipFill>
          <a:blip r:embed="rId1"/>
          <a:stretch/>
        </p:blipFill>
        <p:spPr>
          <a:xfrm>
            <a:off x="12600" y="420840"/>
            <a:ext cx="9149040" cy="6419520"/>
          </a:xfrm>
          <a:prstGeom prst="rect">
            <a:avLst/>
          </a:prstGeom>
          <a:ln w="0">
            <a:noFill/>
          </a:ln>
        </p:spPr>
      </p:pic>
      <p:sp>
        <p:nvSpPr>
          <p:cNvPr id="903" name="椭圆 2"/>
          <p:cNvSpPr/>
          <p:nvPr/>
        </p:nvSpPr>
        <p:spPr>
          <a:xfrm>
            <a:off x="152280" y="152280"/>
            <a:ext cx="4602240" cy="938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Arial"/>
                <a:ea typeface="微软雅黑"/>
              </a:rPr>
              <a:t>跳跳兔牙痛，吃不下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6T16:24:51Z</dcterms:created>
  <dc:creator>Rhea</dc:creator>
  <dc:description>www.nordridesign.cn</dc:description>
  <cp:keywords>教育 英语 Powerbar Rhea</cp:keywords>
  <dc:language>en-US</dc:language>
  <cp:lastModifiedBy>Administrator</cp:lastModifiedBy>
  <dcterms:modified xsi:type="dcterms:W3CDTF">2019-09-05T07:07:29Z</dcterms:modified>
  <cp:revision>138</cp:revision>
  <dc:subject>教育 英语</dc:subject>
  <dc:title>儿童教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  <property fmtid="{D5CDD505-2E9C-101B-9397-08002B2CF9AE}" pid="3" name="Version">
    <vt:r8>1</vt:r8>
  </property>
</Properties>
</file>