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962-9478-45F6-869E-7B9DF7C4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67-91B7-4900-9E07-860C6E46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CA1-640C-4D8F-AEC2-114AE885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33C-283D-4190-9BCF-8B6AC82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F8D-868B-496B-9BD7-83C3E51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50E-865A-44DC-878D-BBE768C5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675-5278-49AF-B42C-E2CFE9B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5BC-ECF5-486D-85FB-8B7F349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E0-A674-4B1E-A728-DDEECC6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C22-7FD2-4D68-8E50-B1C46F9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998-AEB7-45B0-BA80-D9E979E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291-BED4-4D42-8A2C-63408E5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B00-2590-4BD6-B0BD-07F997E3E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QQ截图20221012145711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3" descr="C:\Users\c'c'c'c\Desktop\QQ截图20221012150002.jpgQQ截图20221012150002"/>
          <p:cNvPicPr/>
          <p:nvPr/>
        </p:nvPicPr>
        <p:blipFill>
          <a:blip r:embed="rId1"/>
          <a:stretch/>
        </p:blipFill>
        <p:spPr>
          <a:xfrm>
            <a:off x="-98280" y="411120"/>
            <a:ext cx="869616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2T08:50:06Z</dcterms:created>
  <dc:creator>c'c'c'c</dc:creator>
  <dc:description/>
  <dc:language>en-US</dc:language>
  <cp:lastModifiedBy>刘鱿鱿鱿鱼</cp:lastModifiedBy>
  <dcterms:modified xsi:type="dcterms:W3CDTF">2022-10-12T08:50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2FEE1C6FF2A4AED8E85901D7FA5626F</vt:lpwstr>
  </property>
  <property fmtid="{D5CDD505-2E9C-101B-9397-08002B2CF9AE}" pid="3" name="KSOProductBuildVer">
    <vt:lpwstr>2052-11.1.0.12358</vt:lpwstr>
  </property>
</Properties>
</file>