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EB4-7441-4A3B-A58E-75E99885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C23-B48F-45F4-9803-61DFEE8B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410-C9BF-4AB8-A0C9-9C5C9318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0C3-C569-44C0-A39C-6E59AACC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899-45F3-4D19-B266-58F01CD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6C2-7D47-41B7-B662-BA51BFC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E40-A11B-4C5D-89F7-9B2A2E95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CBA-C6B1-4BCD-BB25-61D457AC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466-3A45-4EEA-98D0-504AA75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7E0-213D-4DC9-B341-254F967C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8F4-218A-4788-AF5A-4505A29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880-E125-49C1-8DF1-6F30FEF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E7FE-ADB0-414A-92BD-4808436ED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15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228600"/>
            <a:ext cx="944892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90920" y="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90920" y="38862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593040" y="3249720"/>
            <a:ext cx="2550960" cy="360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0" y="56484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0" y="186696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09:18:33Z</dcterms:created>
  <dc:creator>gengjia</dc:creator>
  <dc:description/>
  <dc:language>en-US</dc:language>
  <cp:lastModifiedBy>gengjia</cp:lastModifiedBy>
  <dcterms:modified xsi:type="dcterms:W3CDTF">2014-05-11T09:26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