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6CB-8C5B-4600-B3C3-C50778F9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EC6-D6A8-4FA1-94F8-7240F5F0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FD02-3106-47FD-84A5-76E0DE05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EFA8-D2FA-4FEC-94F8-4717877E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46E3-05D9-402F-A941-5DCAE472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5471-6856-46FE-A117-89FCEDE4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5600-DDD3-41AB-BEC0-EE5ED1A0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7F5E-A813-4E57-9278-21FBE823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EBD0-8FF0-425B-BC3B-29BFFA3E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9483-6BE7-40D0-83FD-F01F8141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3837-75D6-4A72-8A14-63381C20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3091-AEAF-407D-B18B-7FDF06F1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6F33-B1B1-419D-AE94-52D08D3A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DEAA-B569-4678-8B9E-CE73B50F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6EF4-4C38-4079-849B-CAD8504F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CA6A-84C5-4B8B-8093-6447518E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AFE4-C473-4FC2-BE56-6447F7F2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2A9-B76E-4A39-B84C-89777ABC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D2E-2242-405C-88B2-2E976554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537-8593-4844-AF80-89049942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534-52DF-42CD-BE6F-358F8981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2778-641D-4564-A707-4CA3060C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B7BD-71D7-47DB-8F97-2026FD38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D18-E339-4D83-8AC1-5815BD62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425B-399B-4FDA-85FE-585DDC1FA1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DB10-7947-4349-BADA-89BB5AA3317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" descr="_Z93]3ZB)$}8]F7B@~ZP(5H"/>
          <p:cNvPicPr/>
          <p:nvPr/>
        </p:nvPicPr>
        <p:blipFill>
          <a:blip r:embed="rId1"/>
          <a:stretch/>
        </p:blipFill>
        <p:spPr>
          <a:xfrm>
            <a:off x="-36360" y="620640"/>
            <a:ext cx="92772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2" descr="_(W39U20K7M1GW6ZR`S1`BF"/>
          <p:cNvPicPr/>
          <p:nvPr/>
        </p:nvPicPr>
        <p:blipFill>
          <a:blip r:embed="rId1"/>
          <a:stretch/>
        </p:blipFill>
        <p:spPr>
          <a:xfrm>
            <a:off x="0" y="404640"/>
            <a:ext cx="9474120" cy="48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2" descr="0%ZIII%WYOEIPNHQ3YIPD61"/>
          <p:cNvPicPr/>
          <p:nvPr/>
        </p:nvPicPr>
        <p:blipFill>
          <a:blip r:embed="rId1"/>
          <a:stretch/>
        </p:blipFill>
        <p:spPr>
          <a:xfrm>
            <a:off x="34920" y="404640"/>
            <a:ext cx="91947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" descr="HJAF5MQWOP@8)JMV$%T3(2Y"/>
          <p:cNvPicPr/>
          <p:nvPr/>
        </p:nvPicPr>
        <p:blipFill>
          <a:blip r:embed="rId1"/>
          <a:stretch/>
        </p:blipFill>
        <p:spPr>
          <a:xfrm>
            <a:off x="0" y="189000"/>
            <a:ext cx="4905360" cy="28638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" descr="PG1V}CHPX[LUZP$XP8X`[LQ"/>
          <p:cNvPicPr/>
          <p:nvPr/>
        </p:nvPicPr>
        <p:blipFill>
          <a:blip r:embed="rId2"/>
          <a:stretch/>
        </p:blipFill>
        <p:spPr>
          <a:xfrm>
            <a:off x="0" y="3284640"/>
            <a:ext cx="4915080" cy="35179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)X`7ATJHMDOQATB%G@D9D~8"/>
          <p:cNvPicPr/>
          <p:nvPr/>
        </p:nvPicPr>
        <p:blipFill>
          <a:blip r:embed="rId3"/>
          <a:stretch/>
        </p:blipFill>
        <p:spPr>
          <a:xfrm>
            <a:off x="4905360" y="189000"/>
            <a:ext cx="4257720" cy="28764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4$V0(}[%2Z4AZTHGCJ%XDI7"/>
          <p:cNvPicPr/>
          <p:nvPr/>
        </p:nvPicPr>
        <p:blipFill>
          <a:blip r:embed="rId4"/>
          <a:stretch/>
        </p:blipFill>
        <p:spPr>
          <a:xfrm>
            <a:off x="4915080" y="3284640"/>
            <a:ext cx="420840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5T08:11:56Z</dcterms:created>
  <dc:creator>asus</dc:creator>
  <dc:description/>
  <dc:language>en-US</dc:language>
  <cp:lastModifiedBy>阁楼上的风阿姨</cp:lastModifiedBy>
  <dcterms:modified xsi:type="dcterms:W3CDTF">2022-09-05T08:11:5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762C5D7261343E187C2F5F8035B4696</vt:lpwstr>
  </property>
  <property fmtid="{D5CDD505-2E9C-101B-9397-08002B2CF9AE}" pid="3" name="KSOProductBuildVer">
    <vt:lpwstr>2052-11.1.0.12313</vt:lpwstr>
  </property>
</Properties>
</file>