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C5B-73DB-4D80-A755-5BCC043B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FA6-0248-458C-9887-E8BDC37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E8C-E94A-45EA-8C22-3EB155C2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445-5052-439F-BC15-BD659B81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C35-979C-41BE-AD92-9D5425E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051-CED5-41E8-93CA-D516395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63-44A4-4F96-AC0F-E15D44A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472-1379-4F33-8DE8-B0F32D7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9D5-988F-40F2-A68D-BC56F6B4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9E8-8E78-4C6C-9C91-5B8DE2D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6EA-4BB9-447A-AC3A-B17485D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21E-E4DA-47C9-8EF7-AE2BC30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F45-F746-4BC6-BFEA-CF9058F66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9113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320040" cy="4792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44800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tretch/>
        </p:blipFill>
        <p:spPr>
          <a:xfrm>
            <a:off x="3276720" y="311040"/>
            <a:ext cx="2886120" cy="885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4"/>
          <a:stretch/>
        </p:blipFill>
        <p:spPr>
          <a:xfrm>
            <a:off x="457200" y="2708280"/>
            <a:ext cx="2562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"/>
          <p:cNvPicPr/>
          <p:nvPr/>
        </p:nvPicPr>
        <p:blipFill>
          <a:blip r:embed="rId1"/>
          <a:stretch/>
        </p:blipFill>
        <p:spPr>
          <a:xfrm>
            <a:off x="252360" y="836640"/>
            <a:ext cx="8793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2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9207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3" descr=""/>
          <p:cNvPicPr/>
          <p:nvPr/>
        </p:nvPicPr>
        <p:blipFill>
          <a:blip r:embed="rId1"/>
          <a:stretch/>
        </p:blipFill>
        <p:spPr>
          <a:xfrm>
            <a:off x="755640" y="117360"/>
            <a:ext cx="8221680" cy="65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0900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164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>
            <a:off x="457200" y="44280"/>
            <a:ext cx="851868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933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396720" y="117360"/>
            <a:ext cx="83505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612720" y="257040"/>
            <a:ext cx="8290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92646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0" y="1197000"/>
            <a:ext cx="889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1:50:35Z</dcterms:created>
  <dc:creator>Zongmingxia</dc:creator>
  <dc:description/>
  <dc:language>en-US</dc:language>
  <cp:lastModifiedBy>寒雪</cp:lastModifiedBy>
  <dcterms:modified xsi:type="dcterms:W3CDTF">2022-09-05T01:50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F1B2EA17E848DC9889FA89BBCFF118</vt:lpwstr>
  </property>
  <property fmtid="{D5CDD505-2E9C-101B-9397-08002B2CF9AE}" pid="3" name="KSOProductBuildVer">
    <vt:lpwstr>2052-11.1.0.12313</vt:lpwstr>
  </property>
</Properties>
</file>