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A42-F2B9-4BC8-9099-3CD1894E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3D0-7809-42E1-9159-B9B71EF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F86-5115-4162-A5F2-AFDBA1A6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816-7B7F-4076-8E4F-B5711247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0B6-72F0-4C09-95EF-4C54AC2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AC4-5DC6-49FF-BE9B-4A1FEE11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681-4792-41E5-8BD1-A282E0E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080-A3EF-42D2-8443-DDDCF0B6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000-6C32-4E00-8034-ADFF911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3A9-E998-450D-8F27-A248669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05C-E75E-4151-8ABF-957E1BE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D18-D7CC-4C85-B7BE-A95CBCC2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indent="7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93B-ABFB-4379-8197-646B87D40532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DE5-FC71-4D4E-ACD0-1CEA47BFCA2C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480" y="1665360"/>
            <a:ext cx="12177720" cy="3797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2220840" y="2376360"/>
            <a:ext cx="926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alibri Light"/>
                <a:ea typeface="宋体"/>
              </a:rPr>
              <a:t>预防网络的沉迷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图片 5" descr="timg (1)"/>
          <p:cNvPicPr/>
          <p:nvPr/>
        </p:nvPicPr>
        <p:blipFill>
          <a:blip r:embed="rId1"/>
          <a:stretch/>
        </p:blipFill>
        <p:spPr>
          <a:xfrm>
            <a:off x="8013600" y="-11160"/>
            <a:ext cx="3183120" cy="23875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8"/>
          <p:cNvSpPr/>
          <p:nvPr/>
        </p:nvSpPr>
        <p:spPr>
          <a:xfrm>
            <a:off x="3902040" y="3897360"/>
            <a:ext cx="700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 Light"/>
                <a:ea typeface="宋体"/>
              </a:rPr>
              <a:t>Prevent Internet Addic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6480" y="4968720"/>
            <a:ext cx="121856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480" y="5295960"/>
            <a:ext cx="12185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图片 6" descr="timg (10)"/>
          <p:cNvPicPr/>
          <p:nvPr/>
        </p:nvPicPr>
        <p:blipFill>
          <a:blip r:embed="rId2"/>
          <a:stretch/>
        </p:blipFill>
        <p:spPr>
          <a:xfrm>
            <a:off x="9442440" y="3541680"/>
            <a:ext cx="23716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8" presetSubtype="6"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base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4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base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DE67-0C41-4176-A3E8-37413288DEA1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图片 7" descr="u=4078691805,2892574890&amp;fm=27&amp;gp=0"/>
          <p:cNvPicPr/>
          <p:nvPr/>
        </p:nvPicPr>
        <p:blipFill>
          <a:blip r:embed="rId1"/>
          <a:stretch/>
        </p:blipFill>
        <p:spPr>
          <a:xfrm>
            <a:off x="8217000" y="828720"/>
            <a:ext cx="3971880" cy="2876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沉迷网络对身体的影响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263520" y="1353960"/>
            <a:ext cx="1056312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对眼睛的危害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脸上长暗疮、会黑眼圈、人容易老、皮肤不好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光辐射，电磁辐射，频闪辐射对人体的害处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空气干燥导致皮肤失水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时间保持同一坐姿带来腰积劳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作息时间颠倒给自己和周围的人带来不便，甚至导致交际问题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体力透支影响工作和学习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夜宵带来的肥胖或者消化不良，导致体型问题，肠胃问题等…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6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AD26-DE87-44DF-B15F-EA327C7DEF86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1440" y="104760"/>
            <a:ext cx="12188880" cy="681516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成瘾的预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组合 2120"/>
          <p:cNvGrpSpPr/>
          <p:nvPr/>
        </p:nvGrpSpPr>
        <p:grpSpPr>
          <a:xfrm>
            <a:off x="0" y="1330200"/>
            <a:ext cx="1192320" cy="887040"/>
            <a:chOff x="0" y="1330200"/>
            <a:chExt cx="1192320" cy="887040"/>
          </a:xfrm>
        </p:grpSpPr>
        <p:sp>
          <p:nvSpPr>
            <p:cNvPr id="115" name="矩形 5"/>
            <p:cNvSpPr/>
            <p:nvPr/>
          </p:nvSpPr>
          <p:spPr>
            <a:xfrm>
              <a:off x="0" y="133020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6" name="直角三角形 7"/>
            <p:cNvSpPr/>
            <p:nvPr/>
          </p:nvSpPr>
          <p:spPr>
            <a:xfrm flipV="1">
              <a:off x="0" y="18320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17" name="组合 2123"/>
          <p:cNvGrpSpPr/>
          <p:nvPr/>
        </p:nvGrpSpPr>
        <p:grpSpPr>
          <a:xfrm>
            <a:off x="0" y="2629080"/>
            <a:ext cx="1192320" cy="887040"/>
            <a:chOff x="0" y="2629080"/>
            <a:chExt cx="1192320" cy="887040"/>
          </a:xfrm>
        </p:grpSpPr>
        <p:sp>
          <p:nvSpPr>
            <p:cNvPr id="118" name="矩形 19"/>
            <p:cNvSpPr/>
            <p:nvPr/>
          </p:nvSpPr>
          <p:spPr>
            <a:xfrm>
              <a:off x="0" y="26290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9" name="直角三角形 20"/>
            <p:cNvSpPr/>
            <p:nvPr/>
          </p:nvSpPr>
          <p:spPr>
            <a:xfrm flipV="1">
              <a:off x="0" y="31309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0" name="组合 2126"/>
          <p:cNvGrpSpPr/>
          <p:nvPr/>
        </p:nvGrpSpPr>
        <p:grpSpPr>
          <a:xfrm>
            <a:off x="0" y="4073400"/>
            <a:ext cx="1192320" cy="887040"/>
            <a:chOff x="0" y="4073400"/>
            <a:chExt cx="1192320" cy="887040"/>
          </a:xfrm>
        </p:grpSpPr>
        <p:sp>
          <p:nvSpPr>
            <p:cNvPr id="121" name="矩形 22"/>
            <p:cNvSpPr/>
            <p:nvPr/>
          </p:nvSpPr>
          <p:spPr>
            <a:xfrm>
              <a:off x="0" y="4073400"/>
              <a:ext cx="1192320" cy="50256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2" name="直角三角形 23"/>
            <p:cNvSpPr/>
            <p:nvPr/>
          </p:nvSpPr>
          <p:spPr>
            <a:xfrm flipV="1">
              <a:off x="0" y="45752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3" name="组合 2129"/>
          <p:cNvGrpSpPr/>
          <p:nvPr/>
        </p:nvGrpSpPr>
        <p:grpSpPr>
          <a:xfrm>
            <a:off x="0" y="5519880"/>
            <a:ext cx="1192320" cy="887040"/>
            <a:chOff x="0" y="5519880"/>
            <a:chExt cx="1192320" cy="887040"/>
          </a:xfrm>
        </p:grpSpPr>
        <p:sp>
          <p:nvSpPr>
            <p:cNvPr id="124" name="矩形 25"/>
            <p:cNvSpPr/>
            <p:nvPr/>
          </p:nvSpPr>
          <p:spPr>
            <a:xfrm>
              <a:off x="0" y="55198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5" name="直角三角形 26"/>
            <p:cNvSpPr/>
            <p:nvPr/>
          </p:nvSpPr>
          <p:spPr>
            <a:xfrm flipV="1">
              <a:off x="0" y="60217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126" name="文本框 28"/>
          <p:cNvSpPr/>
          <p:nvPr/>
        </p:nvSpPr>
        <p:spPr>
          <a:xfrm>
            <a:off x="1584360" y="113040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心理品质很关键：青少年发生网络成瘾还与个人的心理品质有关，一些在现实中应付困难的能力差、自我认同度低的人容易上网成瘾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文本框 29"/>
          <p:cNvSpPr/>
          <p:nvPr/>
        </p:nvSpPr>
        <p:spPr>
          <a:xfrm>
            <a:off x="1584360" y="2479680"/>
            <a:ext cx="1026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地点：未成年人不去网吧上网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文本框 30"/>
          <p:cNvSpPr/>
          <p:nvPr/>
        </p:nvSpPr>
        <p:spPr>
          <a:xfrm>
            <a:off x="1584360" y="385128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网络的使用内容：学习网络的使用技巧，学习网上获取资料的技能，保护自己的电脑不会受到病毒或“不良网站”的进攻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文本框 31"/>
          <p:cNvSpPr/>
          <p:nvPr/>
        </p:nvSpPr>
        <p:spPr>
          <a:xfrm>
            <a:off x="1584360" y="528156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时间：控制好每周每天上网的时间。给自己一个限定“我每周上网的时间不能超过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小时”，自行调节避免过于死板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0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0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80"/>
                            </p:stCondLst>
                            <p:childTnLst>
                              <p:par>
                                <p:cTn id="309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80"/>
                            </p:stCondLst>
                            <p:childTnLst>
                              <p:par>
                                <p:cTn id="315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1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1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60"/>
                            </p:stCondLst>
                            <p:childTnLst>
                              <p:par>
                                <p:cTn id="321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60"/>
                            </p:stCondLst>
                            <p:childTnLst>
                              <p:par>
                                <p:cTn id="3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3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40"/>
                            </p:stCondLst>
                            <p:childTnLst>
                              <p:par>
                                <p:cTn id="333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240"/>
                            </p:stCondLst>
                            <p:childTnLst>
                              <p:par>
                                <p:cTn id="339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3340-73FA-4152-A513-48D2B739976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295200"/>
            <a:ext cx="3917880" cy="854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宋体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660240" y="1495440"/>
            <a:ext cx="10881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  <a:ea typeface="宋体"/>
              </a:rPr>
              <a:t>网络犹如一把双刃剑，能做到健康上网适时适度的利用网络学习，网络就对我们有益，这把双刃剑不扎不到我们自己，能为我们打开知识的大门。如果沉迷于网络游戏，深陷其中不能自拔，达到竟然为了玩网游去犯罪，网络就对我们有害，这把剑就会扎向我们自己，使我我们受到伤害。关键靠我们自己控制自己，努力规范自己，做到健康上网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2"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5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872-C5C7-438D-9225-76BF26FCFD56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252360" y="230040"/>
            <a:ext cx="11685600" cy="6397920"/>
          </a:xfrm>
          <a:prstGeom prst="rect">
            <a:avLst/>
          </a:prstGeom>
          <a:noFill/>
          <a:ln w="28440">
            <a:solidFill>
              <a:srgbClr val="18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46160" y="352440"/>
            <a:ext cx="5368680" cy="107784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930240" y="568440"/>
            <a:ext cx="504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现象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图片 6" descr="timg (3)"/>
          <p:cNvPicPr/>
          <p:nvPr/>
        </p:nvPicPr>
        <p:blipFill>
          <a:blip r:embed="rId1"/>
          <a:stretch/>
        </p:blipFill>
        <p:spPr>
          <a:xfrm>
            <a:off x="816120" y="2174760"/>
            <a:ext cx="4740120" cy="2930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timg"/>
          <p:cNvPicPr/>
          <p:nvPr/>
        </p:nvPicPr>
        <p:blipFill>
          <a:blip r:embed="rId2"/>
          <a:srcRect l="0" t="0" r="1560" b="11380"/>
          <a:stretch/>
        </p:blipFill>
        <p:spPr>
          <a:xfrm>
            <a:off x="6545160" y="568440"/>
            <a:ext cx="4486320" cy="2695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0" descr="timg (4)"/>
          <p:cNvPicPr/>
          <p:nvPr/>
        </p:nvPicPr>
        <p:blipFill>
          <a:blip r:embed="rId3"/>
          <a:stretch/>
        </p:blipFill>
        <p:spPr>
          <a:xfrm>
            <a:off x="6456240" y="3714840"/>
            <a:ext cx="45770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9DF4-1AEA-472E-A0E5-94A2E5ABBF86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组合 2066"/>
          <p:cNvGrpSpPr/>
          <p:nvPr/>
        </p:nvGrpSpPr>
        <p:grpSpPr>
          <a:xfrm>
            <a:off x="285840" y="160200"/>
            <a:ext cx="6675480" cy="547920"/>
            <a:chOff x="285840" y="160200"/>
            <a:chExt cx="6675480" cy="547920"/>
          </a:xfrm>
        </p:grpSpPr>
        <p:sp>
          <p:nvSpPr>
            <p:cNvPr id="61" name="矩形 8"/>
            <p:cNvSpPr/>
            <p:nvPr/>
          </p:nvSpPr>
          <p:spPr>
            <a:xfrm>
              <a:off x="285840" y="160200"/>
              <a:ext cx="6671160" cy="52668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62" name="文本框 7"/>
            <p:cNvSpPr/>
            <p:nvPr/>
          </p:nvSpPr>
          <p:spPr>
            <a:xfrm>
              <a:off x="2553120" y="185400"/>
              <a:ext cx="4408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精力不足导致上课睡觉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pic>
        <p:nvPicPr>
          <p:cNvPr id="63" name="图片 9" descr="timg (6)"/>
          <p:cNvPicPr/>
          <p:nvPr/>
        </p:nvPicPr>
        <p:blipFill>
          <a:blip r:embed="rId1"/>
          <a:stretch/>
        </p:blipFill>
        <p:spPr>
          <a:xfrm>
            <a:off x="2800440" y="1108080"/>
            <a:ext cx="4844880" cy="3267000"/>
          </a:xfrm>
          <a:prstGeom prst="rect">
            <a:avLst/>
          </a:prstGeom>
          <a:ln w="0">
            <a:noFill/>
          </a:ln>
        </p:spPr>
      </p:pic>
      <p:sp>
        <p:nvSpPr>
          <p:cNvPr id="64" name="矩形 4"/>
          <p:cNvSpPr/>
          <p:nvPr/>
        </p:nvSpPr>
        <p:spPr>
          <a:xfrm>
            <a:off x="658800" y="-7920"/>
            <a:ext cx="1279440" cy="6805440"/>
          </a:xfrm>
          <a:prstGeom prst="rect">
            <a:avLst/>
          </a:prstGeom>
          <a:solidFill>
            <a:srgbClr val="181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993600" y="14400"/>
            <a:ext cx="8985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结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10" descr="timg (7)"/>
          <p:cNvPicPr/>
          <p:nvPr/>
        </p:nvPicPr>
        <p:blipFill>
          <a:blip r:embed="rId2"/>
          <a:stretch/>
        </p:blipFill>
        <p:spPr>
          <a:xfrm>
            <a:off x="4943520" y="3119400"/>
            <a:ext cx="4273560" cy="294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3" descr="timg (8)"/>
          <p:cNvPicPr/>
          <p:nvPr/>
        </p:nvPicPr>
        <p:blipFill>
          <a:blip r:embed="rId3"/>
          <a:stretch/>
        </p:blipFill>
        <p:spPr>
          <a:xfrm>
            <a:off x="8250120" y="4805280"/>
            <a:ext cx="3372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0E98-BB4D-479D-97BE-65D0196C5362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组合 2076"/>
          <p:cNvGrpSpPr/>
          <p:nvPr/>
        </p:nvGrpSpPr>
        <p:grpSpPr>
          <a:xfrm>
            <a:off x="5265720" y="1450800"/>
            <a:ext cx="6675480" cy="663840"/>
            <a:chOff x="5265720" y="1450800"/>
            <a:chExt cx="6675480" cy="663840"/>
          </a:xfrm>
        </p:grpSpPr>
        <p:sp>
          <p:nvSpPr>
            <p:cNvPr id="71" name="矩形 12"/>
            <p:cNvSpPr/>
            <p:nvPr/>
          </p:nvSpPr>
          <p:spPr>
            <a:xfrm>
              <a:off x="5265720" y="1450800"/>
              <a:ext cx="6671160" cy="66384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72" name="文本框 13"/>
            <p:cNvSpPr/>
            <p:nvPr/>
          </p:nvSpPr>
          <p:spPr>
            <a:xfrm>
              <a:off x="7533000" y="1482480"/>
              <a:ext cx="4408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沉迷网络游戏的危害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7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1320840" y="295200"/>
            <a:ext cx="428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于网络游戏的危害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图片 7" descr="timg (9)"/>
          <p:cNvPicPr/>
          <p:nvPr/>
        </p:nvPicPr>
        <p:blipFill>
          <a:blip r:embed="rId1"/>
          <a:stretch/>
        </p:blipFill>
        <p:spPr>
          <a:xfrm>
            <a:off x="592200" y="1204920"/>
            <a:ext cx="573228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timg (5)"/>
          <p:cNvPicPr/>
          <p:nvPr/>
        </p:nvPicPr>
        <p:blipFill>
          <a:blip r:embed="rId2"/>
          <a:stretch/>
        </p:blipFill>
        <p:spPr>
          <a:xfrm>
            <a:off x="8707320" y="25560"/>
            <a:ext cx="2063880" cy="14572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6"/>
          <p:cNvSpPr/>
          <p:nvPr/>
        </p:nvSpPr>
        <p:spPr>
          <a:xfrm>
            <a:off x="6324480" y="2298600"/>
            <a:ext cx="57596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游戏严重影响着人际交往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期沉迷游戏严重影响着身体健康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游戏瘾患者心理问题严重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过分沉迷将无法自拔，破坏正常的生活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3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4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5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5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30"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6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17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17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78A-68C1-4442-B894-DBCEC824C434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3" descr="捕获"/>
          <p:cNvPicPr/>
          <p:nvPr/>
        </p:nvPicPr>
        <p:blipFill>
          <a:blip r:embed="rId1"/>
          <a:stretch/>
        </p:blipFill>
        <p:spPr>
          <a:xfrm>
            <a:off x="1200240" y="428760"/>
            <a:ext cx="92883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89B-9C11-4CF4-A5C9-E85262ECEAD1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图片 4" descr="d"/>
          <p:cNvPicPr/>
          <p:nvPr/>
        </p:nvPicPr>
        <p:blipFill>
          <a:blip r:embed="rId1"/>
          <a:stretch/>
        </p:blipFill>
        <p:spPr>
          <a:xfrm>
            <a:off x="1000080" y="187200"/>
            <a:ext cx="10191960" cy="624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893-91C3-4913-ABF5-6DB781B32AF1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3" descr="ds"/>
          <p:cNvPicPr/>
          <p:nvPr/>
        </p:nvPicPr>
        <p:blipFill>
          <a:blip r:embed="rId1"/>
          <a:stretch/>
        </p:blipFill>
        <p:spPr>
          <a:xfrm>
            <a:off x="1193760" y="284040"/>
            <a:ext cx="9802800" cy="629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49F-F065-4938-8F0C-F1422066A6C7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图片 3" descr="捕获aa"/>
          <p:cNvPicPr/>
          <p:nvPr/>
        </p:nvPicPr>
        <p:blipFill>
          <a:blip r:embed="rId1"/>
          <a:stretch/>
        </p:blipFill>
        <p:spPr>
          <a:xfrm>
            <a:off x="1292400" y="271440"/>
            <a:ext cx="9358200" cy="631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551F-ED82-4A12-BD83-4FD666D1E64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1479600" y="295200"/>
            <a:ext cx="44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所带来的危害？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图片 7" descr="timg (2)"/>
          <p:cNvPicPr/>
          <p:nvPr/>
        </p:nvPicPr>
        <p:blipFill>
          <a:blip r:embed="rId1"/>
          <a:stretch/>
        </p:blipFill>
        <p:spPr>
          <a:xfrm>
            <a:off x="2863800" y="295200"/>
            <a:ext cx="8491680" cy="291456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963720" y="3040200"/>
            <a:ext cx="10071000" cy="357480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文本框 9"/>
          <p:cNvSpPr/>
          <p:nvPr/>
        </p:nvSpPr>
        <p:spPr>
          <a:xfrm>
            <a:off x="1378080" y="3584520"/>
            <a:ext cx="913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上网占用了青少年学习、休息的部分时间，造成青少年用户学习压力大、时间分配紧张等情况；另一方面，部分青少年用户由于深陷网络的虚拟世界，以至于在日常生活中，如上课、睡眠等，也常常想着网上空间，造成了精神不集中等情况。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除在精力方面，在身体健康上也受到了很大的影响，集中表现在视力大幅下降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10777680" y="3780000"/>
            <a:ext cx="101520" cy="243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矩形 12"/>
          <p:cNvSpPr/>
          <p:nvPr/>
        </p:nvSpPr>
        <p:spPr>
          <a:xfrm flipH="1" rot="16200000">
            <a:off x="6026760" y="1701720"/>
            <a:ext cx="75960" cy="9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8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9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0"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0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3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高娅婷</cp:lastModifiedBy>
  <dcterms:modified xsi:type="dcterms:W3CDTF">2022-09-05T05:55:2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17493154D3242768BD72AA8D922F902</vt:lpwstr>
  </property>
  <property fmtid="{D5CDD505-2E9C-101B-9397-08002B2CF9AE}" pid="3" name="KSOProductBuildVer">
    <vt:lpwstr>2052-11.1.0.12313</vt:lpwstr>
  </property>
</Properties>
</file>