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A02-311E-44E1-B188-D8C06291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C1F-A4C3-48A2-86BE-077BF056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F8A-22F8-4012-BF87-736402B2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A66-E209-4270-8A2D-2F4166D7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69E-6D0E-42E9-9E6D-1467464E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F93-84D4-4F1E-A96E-60D66E25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E9E-4073-4C6C-B87F-E6A0D54A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47C-266B-42C0-8E64-83F69177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96C-610B-40CA-B383-43E1F191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8DA-AAE4-4236-8C2C-7A877B4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910-4C94-4C6C-BAF4-691E8A07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F4F-9E70-4DFA-B299-7CE7C4FB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3375-DEA6-4983-B692-46BDEAAD9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36360" y="-100080"/>
            <a:ext cx="917892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5T02:40:59Z</dcterms:created>
  <dc:creator>c'c'c'c</dc:creator>
  <dc:description/>
  <dc:language>en-US</dc:language>
  <cp:lastModifiedBy>刘鱿鱿鱿鱼</cp:lastModifiedBy>
  <dcterms:modified xsi:type="dcterms:W3CDTF">2022-09-05T02:40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54DE04D579D49F9BDBA3BF8C5BF1F7F</vt:lpwstr>
  </property>
  <property fmtid="{D5CDD505-2E9C-101B-9397-08002B2CF9AE}" pid="3" name="KSOProductBuildVer">
    <vt:lpwstr>2052-11.1.0.12313</vt:lpwstr>
  </property>
</Properties>
</file>