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1D9-F306-4AE8-A663-B1B11B08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C98-BA23-494A-990C-0C2B62A1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6A7-63D8-4C07-92DE-ACE47E0B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BFB-4443-4E3D-9E3B-ABF6CA5F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893C-6E2B-4AD4-99A5-6318C4AC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BB6-1F3C-4B10-89F6-5E17A04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568F-5FB3-469E-AC35-A6ACCD53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1EA6-4247-4A7B-ACB2-C5BDFBA8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523A-F4F2-46A6-A810-02908D32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DA30-D5E6-4888-8127-D4511D0B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AF51-069B-4A35-B41D-B456009D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F35-0CE6-4C8A-8072-45BF39DF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53A3-7C07-48D0-B7B4-B090CCF4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FE73-2A1D-4185-86D8-2155AEF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F014-29F2-4C4C-B0CF-C0F688B2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6C1F-1172-43FE-B606-ED4E9606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674F-6ACC-4400-9FB0-772F1A8A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56D-392E-432C-8E40-4DB43780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518-9EC9-429E-A8E0-96ECFB53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50B-287C-43AD-A014-6B84032C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EE2-17F3-4B01-B4C5-F151C91F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FB7-A9F3-4681-A0BB-2C3BB5CB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D5C-EDAC-492F-8839-8DE2C5D1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69C-D310-4DA7-8522-4281C434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1364-9B20-4A62-83E7-6DAAF14B23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A561-9A15-4A56-9C3B-7C48E0CA58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_Z93]3ZB)$}8]F7B@~ZP(5H"/>
          <p:cNvPicPr/>
          <p:nvPr/>
        </p:nvPicPr>
        <p:blipFill>
          <a:blip r:embed="rId1"/>
          <a:stretch/>
        </p:blipFill>
        <p:spPr>
          <a:xfrm>
            <a:off x="-36360" y="620640"/>
            <a:ext cx="92772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" descr="_(W39U20K7M1GW6ZR`S1`BF"/>
          <p:cNvPicPr/>
          <p:nvPr/>
        </p:nvPicPr>
        <p:blipFill>
          <a:blip r:embed="rId1"/>
          <a:stretch/>
        </p:blipFill>
        <p:spPr>
          <a:xfrm>
            <a:off x="0" y="404640"/>
            <a:ext cx="9474120" cy="48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" descr="0%ZIII%WYOEIPNHQ3YIPD61"/>
          <p:cNvPicPr/>
          <p:nvPr/>
        </p:nvPicPr>
        <p:blipFill>
          <a:blip r:embed="rId1"/>
          <a:stretch/>
        </p:blipFill>
        <p:spPr>
          <a:xfrm>
            <a:off x="34920" y="404640"/>
            <a:ext cx="91947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" descr="HJAF5MQWOP@8)JMV$%T3(2Y"/>
          <p:cNvPicPr/>
          <p:nvPr/>
        </p:nvPicPr>
        <p:blipFill>
          <a:blip r:embed="rId1"/>
          <a:stretch/>
        </p:blipFill>
        <p:spPr>
          <a:xfrm>
            <a:off x="0" y="189000"/>
            <a:ext cx="4905360" cy="28638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PG1V}CHPX[LUZP$XP8X`[LQ"/>
          <p:cNvPicPr/>
          <p:nvPr/>
        </p:nvPicPr>
        <p:blipFill>
          <a:blip r:embed="rId2"/>
          <a:stretch/>
        </p:blipFill>
        <p:spPr>
          <a:xfrm>
            <a:off x="0" y="3284640"/>
            <a:ext cx="4915080" cy="35179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)X`7ATJHMDOQATB%G@D9D~8"/>
          <p:cNvPicPr/>
          <p:nvPr/>
        </p:nvPicPr>
        <p:blipFill>
          <a:blip r:embed="rId3"/>
          <a:stretch/>
        </p:blipFill>
        <p:spPr>
          <a:xfrm>
            <a:off x="4905360" y="189000"/>
            <a:ext cx="4257720" cy="2876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4$V0(}[%2Z4AZTHGCJ%XDI7"/>
          <p:cNvPicPr/>
          <p:nvPr/>
        </p:nvPicPr>
        <p:blipFill>
          <a:blip r:embed="rId4"/>
          <a:stretch/>
        </p:blipFill>
        <p:spPr>
          <a:xfrm>
            <a:off x="4915080" y="3284640"/>
            <a:ext cx="42084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5T08:11:56Z</dcterms:created>
  <dc:creator>asus</dc:creator>
  <dc:description/>
  <dc:language>en-US</dc:language>
  <cp:lastModifiedBy>阁楼上的风阿姨</cp:lastModifiedBy>
  <dcterms:modified xsi:type="dcterms:W3CDTF">2022-09-05T08:11:5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762C5D7261343E187C2F5F8035B4696</vt:lpwstr>
  </property>
  <property fmtid="{D5CDD505-2E9C-101B-9397-08002B2CF9AE}" pid="3" name="KSOProductBuildVer">
    <vt:lpwstr>2052-11.1.0.12313</vt:lpwstr>
  </property>
</Properties>
</file>