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571-30E5-4372-8EDA-7B758807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767-975B-4A76-89AB-C95DD7B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A2C-CEFF-457C-9B21-80E1595D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AB9-2C10-41AB-B8E1-43B0201D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211-B77D-48D8-89E2-AB843A0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9B9-937B-420D-8677-12E1510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02E-E05C-41F1-B11F-D4D02A4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F10-43BE-435E-977A-77ED1AFD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22F-F1AA-4288-AF3C-1457A2A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B0B-F18E-45FB-A6CB-F4348DD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53C-E9A4-483F-82DC-249637C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331-54AF-4529-BE54-B99F9F76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459-309E-403A-868D-2C872F0BB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9113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320040" cy="4792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44800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tretch/>
        </p:blipFill>
        <p:spPr>
          <a:xfrm>
            <a:off x="2139840" y="311040"/>
            <a:ext cx="4754520" cy="885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4"/>
          <a:stretch/>
        </p:blipFill>
        <p:spPr>
          <a:xfrm>
            <a:off x="457200" y="2708280"/>
            <a:ext cx="2562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"/>
          <p:cNvPicPr/>
          <p:nvPr/>
        </p:nvPicPr>
        <p:blipFill>
          <a:blip r:embed="rId1"/>
          <a:stretch/>
        </p:blipFill>
        <p:spPr>
          <a:xfrm>
            <a:off x="252360" y="836640"/>
            <a:ext cx="8793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2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9207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3" descr=""/>
          <p:cNvPicPr/>
          <p:nvPr/>
        </p:nvPicPr>
        <p:blipFill>
          <a:blip r:embed="rId1"/>
          <a:stretch/>
        </p:blipFill>
        <p:spPr>
          <a:xfrm>
            <a:off x="755640" y="117360"/>
            <a:ext cx="8221680" cy="65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0900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164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>
            <a:off x="457200" y="44280"/>
            <a:ext cx="851868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933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396720" y="117360"/>
            <a:ext cx="83505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612720" y="257040"/>
            <a:ext cx="8290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0" y="-27000"/>
            <a:ext cx="92646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0" y="1197000"/>
            <a:ext cx="889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1:50:35Z</dcterms:created>
  <dc:creator>Zongmingxia</dc:creator>
  <dc:description/>
  <dc:language>en-US</dc:language>
  <cp:lastModifiedBy>噜噜雯</cp:lastModifiedBy>
  <dcterms:modified xsi:type="dcterms:W3CDTF">2022-09-05T10:09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F1B2EA17E848DC9889FA89BBCFF118</vt:lpwstr>
  </property>
  <property fmtid="{D5CDD505-2E9C-101B-9397-08002B2CF9AE}" pid="3" name="KSOProductBuildVer">
    <vt:lpwstr>2052-11.1.0.12313</vt:lpwstr>
  </property>
</Properties>
</file>