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67D-BEF2-45B7-90E6-24252A77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AC2-A9AF-4C1E-A587-8698AE9F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60F-477A-4E9D-8382-076C14AE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9592-77F1-4439-9BEE-2B8969A8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33A-61E1-410E-924B-3B05F041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5B2-681A-42E1-B8C8-3727356B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20A-7AEB-42AE-9B55-0F4677BF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3B25-2A1A-4E59-8BB1-453207DC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DD2F-3114-49B0-8129-0FB9E207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7620-52EC-4D21-9B86-304BD35A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C852-68CB-4FFE-8BED-83760F59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5A9-5065-4564-AFDE-1FF79A9E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6314-697E-4866-A11A-D278FB912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5b0988e595225.cdn.sohucs.com/images/20200408/353a44e079cf48eaabaff9a1bf705321.jpeg"/>
          <p:cNvPicPr/>
          <p:nvPr/>
        </p:nvPicPr>
        <p:blipFill>
          <a:blip r:embed="rId1"/>
          <a:stretch/>
        </p:blipFill>
        <p:spPr>
          <a:xfrm>
            <a:off x="1600200" y="17640"/>
            <a:ext cx="605952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5b0988e595225.cdn.sohucs.com/images/20200408/2a08e76fc2d94560900bdbbea491fb95.jpeg"/>
          <p:cNvPicPr/>
          <p:nvPr/>
        </p:nvPicPr>
        <p:blipFill>
          <a:blip r:embed="rId1"/>
          <a:stretch/>
        </p:blipFill>
        <p:spPr>
          <a:xfrm>
            <a:off x="76320" y="533520"/>
            <a:ext cx="899928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5b0988e595225.cdn.sohucs.com/images/20200408/5f6f0bc9bb824f4caa276895a7b4e380.jpeg"/>
          <p:cNvPicPr/>
          <p:nvPr/>
        </p:nvPicPr>
        <p:blipFill>
          <a:blip r:embed="rId1"/>
          <a:stretch/>
        </p:blipFill>
        <p:spPr>
          <a:xfrm>
            <a:off x="76320" y="685800"/>
            <a:ext cx="8999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5b0988e595225.cdn.sohucs.com/images/20200408/db8685cf1c1c4da0bb32b36ad0915873.jpeg"/>
          <p:cNvPicPr/>
          <p:nvPr/>
        </p:nvPicPr>
        <p:blipFill>
          <a:blip r:embed="rId1"/>
          <a:stretch/>
        </p:blipFill>
        <p:spPr>
          <a:xfrm>
            <a:off x="68400" y="838080"/>
            <a:ext cx="899928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5b0988e595225.cdn.sohucs.com/images/20200408/233cb4dc4b0a4c28b2f4af0f85ac05d1.jpeg"/>
          <p:cNvPicPr/>
          <p:nvPr/>
        </p:nvPicPr>
        <p:blipFill>
          <a:blip r:embed="rId1"/>
          <a:stretch/>
        </p:blipFill>
        <p:spPr>
          <a:xfrm>
            <a:off x="76320" y="838080"/>
            <a:ext cx="8999280" cy="48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5b0988e595225.cdn.sohucs.com/images/20200408/03ccfdcd845643a38500fd97a9806ceb.jpeg"/>
          <p:cNvPicPr/>
          <p:nvPr/>
        </p:nvPicPr>
        <p:blipFill>
          <a:blip r:embed="rId1"/>
          <a:stretch/>
        </p:blipFill>
        <p:spPr>
          <a:xfrm>
            <a:off x="76320" y="-46080"/>
            <a:ext cx="8999280" cy="71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ttp://5b0988e595225.cdn.sohucs.com/images/20200408/0b3cb8f603894443b066745a2687792e.jpeg"/>
          <p:cNvPicPr/>
          <p:nvPr/>
        </p:nvPicPr>
        <p:blipFill>
          <a:blip r:embed="rId1"/>
          <a:stretch/>
        </p:blipFill>
        <p:spPr>
          <a:xfrm>
            <a:off x="-990720" y="0"/>
            <a:ext cx="115938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5b0988e595225.cdn.sohucs.com/images/20200408/ff8612c4770643ed8b81f74b06dba186.jpeg"/>
          <p:cNvPicPr/>
          <p:nvPr/>
        </p:nvPicPr>
        <p:blipFill>
          <a:blip r:embed="rId1"/>
          <a:stretch/>
        </p:blipFill>
        <p:spPr>
          <a:xfrm>
            <a:off x="68400" y="1219320"/>
            <a:ext cx="899928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http://5b0988e595225.cdn.sohucs.com/images/20200408/6ffff111246d4a57969eb92b0b39fd99.jpeg"/>
          <p:cNvPicPr/>
          <p:nvPr/>
        </p:nvPicPr>
        <p:blipFill>
          <a:blip r:embed="rId1"/>
          <a:stretch/>
        </p:blipFill>
        <p:spPr>
          <a:xfrm>
            <a:off x="76320" y="838080"/>
            <a:ext cx="899928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http://5b0988e595225.cdn.sohucs.com/images/20200408/bfe0dffa1beb49858f635b54f6bd02c5.jpeg"/>
          <p:cNvPicPr/>
          <p:nvPr/>
        </p:nvPicPr>
        <p:blipFill>
          <a:blip r:embed="rId1"/>
          <a:stretch/>
        </p:blipFill>
        <p:spPr>
          <a:xfrm>
            <a:off x="68400" y="762120"/>
            <a:ext cx="89992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http://5b0988e595225.cdn.sohucs.com/images/20200408/41459f80bece493e93a116dccb972c8f.jpeg"/>
          <p:cNvPicPr/>
          <p:nvPr/>
        </p:nvPicPr>
        <p:blipFill>
          <a:blip r:embed="rId1"/>
          <a:stretch/>
        </p:blipFill>
        <p:spPr>
          <a:xfrm>
            <a:off x="76320" y="1066680"/>
            <a:ext cx="89992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http://5b0988e595225.cdn.sohucs.com/images/20200408/a0f25f6694254bb58bcc583b66be740a.jpeg"/>
          <p:cNvPicPr/>
          <p:nvPr/>
        </p:nvPicPr>
        <p:blipFill>
          <a:blip r:embed="rId1"/>
          <a:stretch/>
        </p:blipFill>
        <p:spPr>
          <a:xfrm>
            <a:off x="76320" y="533520"/>
            <a:ext cx="8999280" cy="58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5b0988e595225.cdn.sohucs.com/images/20200408/63913ec580a44a789bcc3c7c2b7ceba5.jpeg"/>
          <p:cNvPicPr/>
          <p:nvPr/>
        </p:nvPicPr>
        <p:blipFill>
          <a:blip r:embed="rId1"/>
          <a:stretch/>
        </p:blipFill>
        <p:spPr>
          <a:xfrm>
            <a:off x="68400" y="533520"/>
            <a:ext cx="899928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5b0988e595225.cdn.sohucs.com/images/20200408/ab16bd7927194495aaed5af32fac553f.jpeg"/>
          <p:cNvPicPr/>
          <p:nvPr/>
        </p:nvPicPr>
        <p:blipFill>
          <a:blip r:embed="rId1"/>
          <a:stretch/>
        </p:blipFill>
        <p:spPr>
          <a:xfrm>
            <a:off x="76320" y="457200"/>
            <a:ext cx="89992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</cp:lastModifiedBy>
  <dcterms:modified xsi:type="dcterms:W3CDTF">2022-09-05T09:06:3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