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F42-6D15-4EAE-BC57-1EBB619A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E98-0780-4612-B550-A8FD1252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A8B-65AD-4000-AC99-92FFD493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8E0-8AA7-4F2B-B239-12AD4868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6C8-950D-4D73-A60C-F1B2B809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B5A-68F4-438D-9937-9372903D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22A-7BC4-4D02-B687-25171E0A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966-4F12-4513-ADCD-B081E622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F1C-4F19-44BF-9646-9711CD17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729-259E-45A4-840B-44FBCB46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103-98F0-489C-95C4-BB8D5622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0DE-8050-44C2-92E5-64E3A575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53CF-DE9E-4197-9D97-648AD501D8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IMG_20220905_1629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IMG_20220905_162956"/>
          <p:cNvPicPr/>
          <p:nvPr/>
        </p:nvPicPr>
        <p:blipFill>
          <a:blip r:embed="rId1"/>
          <a:stretch/>
        </p:blipFill>
        <p:spPr>
          <a:xfrm>
            <a:off x="2311560" y="0"/>
            <a:ext cx="452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3" descr="IMG_20220905_163011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IMG_20220905_163022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3" descr="IMG_20220905_163031"/>
          <p:cNvPicPr/>
          <p:nvPr/>
        </p:nvPicPr>
        <p:blipFill>
          <a:blip r:embed="rId1"/>
          <a:stretch/>
        </p:blipFill>
        <p:spPr>
          <a:xfrm>
            <a:off x="733320" y="0"/>
            <a:ext cx="767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IMG_20220905_163040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3" descr="IMG_20220905_163049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" descr="IMG_20220905_163058"/>
          <p:cNvPicPr/>
          <p:nvPr/>
        </p:nvPicPr>
        <p:blipFill>
          <a:blip r:embed="rId1"/>
          <a:stretch/>
        </p:blipFill>
        <p:spPr>
          <a:xfrm>
            <a:off x="0" y="60480"/>
            <a:ext cx="9144000" cy="67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6:58:26Z</dcterms:created>
  <dc:creator>Administrator</dc:creator>
  <dc:description/>
  <dc:language>en-US</dc:language>
  <cp:lastModifiedBy>倪颖智</cp:lastModifiedBy>
  <dcterms:modified xsi:type="dcterms:W3CDTF">2022-09-05T08:35:3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0F68CEEC19149238B827778B3399DA5</vt:lpwstr>
  </property>
  <property fmtid="{D5CDD505-2E9C-101B-9397-08002B2CF9AE}" pid="3" name="KSOProductBuildVer">
    <vt:lpwstr>2052-11.1.0.12313</vt:lpwstr>
  </property>
  <property fmtid="{D5CDD505-2E9C-101B-9397-08002B2CF9AE}" pid="4" name="Version">
    <vt:r8>1</vt:r8>
  </property>
</Properties>
</file>