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1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9.jpeg" ContentType="image/jpeg"/>
  <Override PartName="/ppt/media/image4.gif" ContentType="image/gif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DC03-28FF-4280-98B7-3B5017650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D63A-F8E6-4E4E-9D7A-CAFCD4FF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4CC9-A57D-42D7-982F-33824E33F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9EFF-8E1B-489E-9DB3-4E6D1DD48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EC67-228A-439E-B565-02178147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E15D-D373-4010-8257-0E25919F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74E2-70FE-424D-B268-E29A59D4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7678-28BA-45D5-AEE1-0260A282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8279-1345-4CF3-B510-A6380F23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6C05-0BE9-42F5-8638-7AC596DE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A3DB-B9C4-41D9-ADB0-91C5870B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CD50-2139-440B-8A67-9458D4A9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40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457200" indent="4572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2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indent="79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2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indent="7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indent="7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 Light"/>
              </a:rPr>
              <a:t>编辑课件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5E3A-D1AD-47FA-960D-C27580965E13}" type="slidenum">
              <a:rPr b="0" lang="zh-CN" sz="1200" spc="-1" strike="noStrike">
                <a:solidFill>
                  <a:srgbClr val="000000"/>
                </a:solidFill>
                <a:latin typeface="Calibri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 Light"/>
              </a:rPr>
              <a:t>编辑课件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灯片编号占位符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1C0A-684D-4867-8F48-60AA0D6246A4}" type="slidenum">
              <a:rPr b="0" lang="zh-CN" sz="1200" spc="-1" strike="noStrike">
                <a:solidFill>
                  <a:srgbClr val="000000"/>
                </a:solidFill>
                <a:latin typeface="Calibri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矩形 3"/>
          <p:cNvSpPr/>
          <p:nvPr/>
        </p:nvSpPr>
        <p:spPr>
          <a:xfrm>
            <a:off x="6480" y="1665360"/>
            <a:ext cx="12177720" cy="379728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文本框 4"/>
          <p:cNvSpPr/>
          <p:nvPr/>
        </p:nvSpPr>
        <p:spPr>
          <a:xfrm>
            <a:off x="2220840" y="2376360"/>
            <a:ext cx="92631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Calibri Light"/>
                <a:ea typeface="宋体"/>
              </a:rPr>
              <a:t>预防网络的沉迷</a:t>
            </a:r>
            <a:endParaRPr b="0" lang="en-US" sz="8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5" name="图片 5" descr="timg (1)"/>
          <p:cNvPicPr/>
          <p:nvPr/>
        </p:nvPicPr>
        <p:blipFill>
          <a:blip r:embed="rId1"/>
          <a:stretch/>
        </p:blipFill>
        <p:spPr>
          <a:xfrm>
            <a:off x="8013600" y="-11160"/>
            <a:ext cx="3183120" cy="2387520"/>
          </a:xfrm>
          <a:prstGeom prst="rect">
            <a:avLst/>
          </a:prstGeom>
          <a:ln w="0">
            <a:noFill/>
          </a:ln>
        </p:spPr>
      </p:pic>
      <p:sp>
        <p:nvSpPr>
          <p:cNvPr id="46" name="文本框 8"/>
          <p:cNvSpPr/>
          <p:nvPr/>
        </p:nvSpPr>
        <p:spPr>
          <a:xfrm>
            <a:off x="3902040" y="3897360"/>
            <a:ext cx="7008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 Light"/>
                <a:ea typeface="宋体"/>
              </a:rPr>
              <a:t>Prevent Internet Addiction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矩形 1"/>
          <p:cNvSpPr/>
          <p:nvPr/>
        </p:nvSpPr>
        <p:spPr>
          <a:xfrm>
            <a:off x="6480" y="4968720"/>
            <a:ext cx="1218564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矩形 2"/>
          <p:cNvSpPr/>
          <p:nvPr/>
        </p:nvSpPr>
        <p:spPr>
          <a:xfrm>
            <a:off x="6480" y="5295960"/>
            <a:ext cx="1218564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9" name="图片 6" descr="timg (10)"/>
          <p:cNvPicPr/>
          <p:nvPr/>
        </p:nvPicPr>
        <p:blipFill>
          <a:blip r:embed="rId2"/>
          <a:stretch/>
        </p:blipFill>
        <p:spPr>
          <a:xfrm>
            <a:off x="9442440" y="3541680"/>
            <a:ext cx="237168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4"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2" presetSubtype="4"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dur="indefinite" nodeType="afterEffect" fill="hold" presetClass="entr" presetID="2" presetSubtype="4"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dur="indefinite" nodeType="afterEffect" fill="hold" presetClass="entr" presetID="2" presetSubtype="4"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dur="indefinite" nodeType="afterEffect" fill="hold" presetClass="entr" presetID="2" presetSubtype="4"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8" presetSubtype="6"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base">
                                        <p:cTn id="3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12" presetSubtype="4"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base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页脚占位符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 Light"/>
              </a:rPr>
              <a:t>编辑课件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灯片编号占位符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A9C9-CA47-4019-B041-0D156E5D6CFA}" type="slidenum">
              <a:rPr b="0" lang="zh-CN" sz="1200" spc="-1" strike="noStrike">
                <a:solidFill>
                  <a:srgbClr val="000000"/>
                </a:solidFill>
                <a:latin typeface="Calibri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3" name="图片 7" descr="u=4078691805,2892574890&amp;fm=27&amp;gp=0"/>
          <p:cNvPicPr/>
          <p:nvPr/>
        </p:nvPicPr>
        <p:blipFill>
          <a:blip r:embed="rId1"/>
          <a:stretch/>
        </p:blipFill>
        <p:spPr>
          <a:xfrm>
            <a:off x="8217000" y="828720"/>
            <a:ext cx="3971880" cy="2876400"/>
          </a:xfrm>
          <a:prstGeom prst="rect">
            <a:avLst/>
          </a:prstGeom>
          <a:ln w="0">
            <a:noFill/>
          </a:ln>
        </p:spPr>
      </p:pic>
      <p:sp>
        <p:nvSpPr>
          <p:cNvPr id="104" name="矩形 3"/>
          <p:cNvSpPr/>
          <p:nvPr/>
        </p:nvSpPr>
        <p:spPr>
          <a:xfrm>
            <a:off x="0" y="295200"/>
            <a:ext cx="1044720" cy="346320"/>
          </a:xfrm>
          <a:prstGeom prst="rect">
            <a:avLst/>
          </a:prstGeom>
          <a:solidFill>
            <a:srgbClr val="222a3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矩形 6"/>
          <p:cNvSpPr/>
          <p:nvPr/>
        </p:nvSpPr>
        <p:spPr>
          <a:xfrm>
            <a:off x="11598120" y="295200"/>
            <a:ext cx="588960" cy="346320"/>
          </a:xfrm>
          <a:prstGeom prst="rect">
            <a:avLst/>
          </a:prstGeom>
          <a:solidFill>
            <a:srgbClr val="222a3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文本框 4"/>
          <p:cNvSpPr/>
          <p:nvPr/>
        </p:nvSpPr>
        <p:spPr>
          <a:xfrm>
            <a:off x="1192320" y="270000"/>
            <a:ext cx="3576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 Light"/>
                <a:ea typeface="宋体"/>
              </a:rPr>
              <a:t>沉迷网络对身体的影响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文本框 5"/>
          <p:cNvSpPr/>
          <p:nvPr/>
        </p:nvSpPr>
        <p:spPr>
          <a:xfrm>
            <a:off x="263520" y="1353960"/>
            <a:ext cx="1056312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50000"/>
              </a:lnSpc>
              <a:buClr>
                <a:srgbClr val="000000"/>
              </a:buClr>
              <a:buFont typeface="Calibri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 Light"/>
                <a:ea typeface="宋体"/>
              </a:rPr>
              <a:t>对眼睛的危害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marL="571680" indent="-571680">
              <a:lnSpc>
                <a:spcPct val="150000"/>
              </a:lnSpc>
              <a:buClr>
                <a:srgbClr val="000000"/>
              </a:buClr>
              <a:buFont typeface="Calibri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 Light"/>
                <a:ea typeface="宋体"/>
              </a:rPr>
              <a:t>脸上长暗疮、会黑眼圈、人容易老、皮肤不好。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marL="571680" indent="-571680">
              <a:lnSpc>
                <a:spcPct val="150000"/>
              </a:lnSpc>
              <a:buClr>
                <a:srgbClr val="000000"/>
              </a:buClr>
              <a:buFont typeface="Calibri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 Light"/>
                <a:ea typeface="宋体"/>
              </a:rPr>
              <a:t>光辐射，电磁辐射，频闪辐射对人体的害处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marL="571680" indent="-571680">
              <a:lnSpc>
                <a:spcPct val="150000"/>
              </a:lnSpc>
              <a:buClr>
                <a:srgbClr val="000000"/>
              </a:buClr>
              <a:buFont typeface="Calibri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 Light"/>
                <a:ea typeface="宋体"/>
              </a:rPr>
              <a:t>空气干燥导致皮肤失水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marL="571680" indent="-571680">
              <a:lnSpc>
                <a:spcPct val="150000"/>
              </a:lnSpc>
              <a:buClr>
                <a:srgbClr val="000000"/>
              </a:buClr>
              <a:buFont typeface="Calibri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 Light"/>
                <a:ea typeface="宋体"/>
              </a:rPr>
              <a:t>长时间保持同一坐姿带来腰积劳损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marL="571680" indent="-571680">
              <a:lnSpc>
                <a:spcPct val="150000"/>
              </a:lnSpc>
              <a:buClr>
                <a:srgbClr val="000000"/>
              </a:buClr>
              <a:buFont typeface="Calibri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 Light"/>
                <a:ea typeface="宋体"/>
              </a:rPr>
              <a:t>作息时间颠倒给自己和周围的人带来不便，甚至导致交际问题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marL="571680" indent="-571680">
              <a:lnSpc>
                <a:spcPct val="150000"/>
              </a:lnSpc>
              <a:buClr>
                <a:srgbClr val="000000"/>
              </a:buClr>
              <a:buFont typeface="Calibri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 Light"/>
                <a:ea typeface="宋体"/>
              </a:rPr>
              <a:t>体力透支影响工作和学习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marL="571680" indent="-571680">
              <a:lnSpc>
                <a:spcPct val="150000"/>
              </a:lnSpc>
              <a:buClr>
                <a:srgbClr val="000000"/>
              </a:buClr>
              <a:buFont typeface="Calibri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 Light"/>
                <a:ea typeface="宋体"/>
              </a:rPr>
              <a:t>夜宵带来的肥胖或者消化不良，导致体型问题，肠胃问题等…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53" presetSubtype="16"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base">
                                        <p:cTn id="2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53" presetSubtype="16"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base">
                                        <p:cTn id="2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53" presetSubtype="16"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base">
                                        <p:cTn id="2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dur="indefinite" nodeType="afterEffect" fill="hold" presetClass="entr" presetID="27"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base">
                                        <p:cTn id="254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</p:anim>
                                    <p:anim calcmode="discrete" valueType="clr">
                                      <p:cBhvr additive="base">
                                        <p:cTn id="255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26"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base">
                                        <p:cTn id="2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2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页脚占位符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 Light"/>
              </a:rPr>
              <a:t>编辑课件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灯片编号占位符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4882-5AE8-430F-AE32-7BD85429C3B0}" type="slidenum">
              <a:rPr b="0" lang="zh-CN" sz="1200" spc="-1" strike="noStrike">
                <a:solidFill>
                  <a:srgbClr val="000000"/>
                </a:solidFill>
                <a:latin typeface="Calibri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矩形 27"/>
          <p:cNvSpPr/>
          <p:nvPr/>
        </p:nvSpPr>
        <p:spPr>
          <a:xfrm>
            <a:off x="1440" y="104760"/>
            <a:ext cx="12188880" cy="6815160"/>
          </a:xfrm>
          <a:prstGeom prst="rect">
            <a:avLst/>
          </a:prstGeom>
          <a:gradFill rotWithShape="0">
            <a:gsLst>
              <a:gs pos="0">
                <a:srgbClr val="f7fa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矩形 3"/>
          <p:cNvSpPr/>
          <p:nvPr/>
        </p:nvSpPr>
        <p:spPr>
          <a:xfrm>
            <a:off x="0" y="295200"/>
            <a:ext cx="1044720" cy="346320"/>
          </a:xfrm>
          <a:prstGeom prst="rect">
            <a:avLst/>
          </a:prstGeom>
          <a:solidFill>
            <a:srgbClr val="222a3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矩形 6"/>
          <p:cNvSpPr/>
          <p:nvPr/>
        </p:nvSpPr>
        <p:spPr>
          <a:xfrm>
            <a:off x="11598120" y="295200"/>
            <a:ext cx="588960" cy="346320"/>
          </a:xfrm>
          <a:prstGeom prst="rect">
            <a:avLst/>
          </a:prstGeom>
          <a:solidFill>
            <a:srgbClr val="222a3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文本框 4"/>
          <p:cNvSpPr/>
          <p:nvPr/>
        </p:nvSpPr>
        <p:spPr>
          <a:xfrm>
            <a:off x="1192320" y="270000"/>
            <a:ext cx="3576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 Light"/>
                <a:ea typeface="宋体"/>
              </a:rPr>
              <a:t>网络成瘾的预防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14" name="组合 2120"/>
          <p:cNvGrpSpPr/>
          <p:nvPr/>
        </p:nvGrpSpPr>
        <p:grpSpPr>
          <a:xfrm>
            <a:off x="0" y="1330200"/>
            <a:ext cx="1192320" cy="887040"/>
            <a:chOff x="0" y="1330200"/>
            <a:chExt cx="1192320" cy="887040"/>
          </a:xfrm>
        </p:grpSpPr>
        <p:sp>
          <p:nvSpPr>
            <p:cNvPr id="115" name="矩形 5"/>
            <p:cNvSpPr/>
            <p:nvPr/>
          </p:nvSpPr>
          <p:spPr>
            <a:xfrm>
              <a:off x="0" y="1330200"/>
              <a:ext cx="1192320" cy="502560"/>
            </a:xfrm>
            <a:prstGeom prst="rect">
              <a:avLst/>
            </a:prstGeom>
            <a:solidFill>
              <a:srgbClr val="333f50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 Light"/>
                  <a:ea typeface="宋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 Light"/>
              </a:endParaRPr>
            </a:p>
          </p:txBody>
        </p:sp>
        <p:sp>
          <p:nvSpPr>
            <p:cNvPr id="116" name="直角三角形 7"/>
            <p:cNvSpPr/>
            <p:nvPr/>
          </p:nvSpPr>
          <p:spPr>
            <a:xfrm flipV="1">
              <a:off x="0" y="1832040"/>
              <a:ext cx="1192320" cy="384840"/>
            </a:xfrm>
            <a:prstGeom prst="rtTriangle">
              <a:avLst/>
            </a:prstGeom>
            <a:solidFill>
              <a:srgbClr val="849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 Light"/>
              </a:endParaRPr>
            </a:p>
          </p:txBody>
        </p:sp>
      </p:grpSp>
      <p:grpSp>
        <p:nvGrpSpPr>
          <p:cNvPr id="117" name="组合 2123"/>
          <p:cNvGrpSpPr/>
          <p:nvPr/>
        </p:nvGrpSpPr>
        <p:grpSpPr>
          <a:xfrm>
            <a:off x="0" y="2629080"/>
            <a:ext cx="1192320" cy="887040"/>
            <a:chOff x="0" y="2629080"/>
            <a:chExt cx="1192320" cy="887040"/>
          </a:xfrm>
        </p:grpSpPr>
        <p:sp>
          <p:nvSpPr>
            <p:cNvPr id="118" name="矩形 19"/>
            <p:cNvSpPr/>
            <p:nvPr/>
          </p:nvSpPr>
          <p:spPr>
            <a:xfrm>
              <a:off x="0" y="2629080"/>
              <a:ext cx="1192320" cy="502560"/>
            </a:xfrm>
            <a:prstGeom prst="rect">
              <a:avLst/>
            </a:prstGeom>
            <a:solidFill>
              <a:srgbClr val="333f50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 Light"/>
                  <a:ea typeface="宋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 Light"/>
              </a:endParaRPr>
            </a:p>
          </p:txBody>
        </p:sp>
        <p:sp>
          <p:nvSpPr>
            <p:cNvPr id="119" name="直角三角形 20"/>
            <p:cNvSpPr/>
            <p:nvPr/>
          </p:nvSpPr>
          <p:spPr>
            <a:xfrm flipV="1">
              <a:off x="0" y="3130920"/>
              <a:ext cx="1192320" cy="384840"/>
            </a:xfrm>
            <a:prstGeom prst="rtTriangle">
              <a:avLst/>
            </a:prstGeom>
            <a:solidFill>
              <a:srgbClr val="849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 Light"/>
              </a:endParaRPr>
            </a:p>
          </p:txBody>
        </p:sp>
      </p:grpSp>
      <p:grpSp>
        <p:nvGrpSpPr>
          <p:cNvPr id="120" name="组合 2126"/>
          <p:cNvGrpSpPr/>
          <p:nvPr/>
        </p:nvGrpSpPr>
        <p:grpSpPr>
          <a:xfrm>
            <a:off x="0" y="4073400"/>
            <a:ext cx="1192320" cy="887040"/>
            <a:chOff x="0" y="4073400"/>
            <a:chExt cx="1192320" cy="887040"/>
          </a:xfrm>
        </p:grpSpPr>
        <p:sp>
          <p:nvSpPr>
            <p:cNvPr id="121" name="矩形 22"/>
            <p:cNvSpPr/>
            <p:nvPr/>
          </p:nvSpPr>
          <p:spPr>
            <a:xfrm>
              <a:off x="0" y="4073400"/>
              <a:ext cx="1192320" cy="502560"/>
            </a:xfrm>
            <a:prstGeom prst="rect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 Light"/>
                  <a:ea typeface="宋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 Light"/>
              </a:endParaRPr>
            </a:p>
          </p:txBody>
        </p:sp>
        <p:sp>
          <p:nvSpPr>
            <p:cNvPr id="122" name="直角三角形 23"/>
            <p:cNvSpPr/>
            <p:nvPr/>
          </p:nvSpPr>
          <p:spPr>
            <a:xfrm flipV="1">
              <a:off x="0" y="4575240"/>
              <a:ext cx="1192320" cy="384840"/>
            </a:xfrm>
            <a:prstGeom prst="rtTriangle">
              <a:avLst/>
            </a:prstGeom>
            <a:solidFill>
              <a:srgbClr val="849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 Light"/>
              </a:endParaRPr>
            </a:p>
          </p:txBody>
        </p:sp>
      </p:grpSp>
      <p:grpSp>
        <p:nvGrpSpPr>
          <p:cNvPr id="123" name="组合 2129"/>
          <p:cNvGrpSpPr/>
          <p:nvPr/>
        </p:nvGrpSpPr>
        <p:grpSpPr>
          <a:xfrm>
            <a:off x="0" y="5519880"/>
            <a:ext cx="1192320" cy="887040"/>
            <a:chOff x="0" y="5519880"/>
            <a:chExt cx="1192320" cy="887040"/>
          </a:xfrm>
        </p:grpSpPr>
        <p:sp>
          <p:nvSpPr>
            <p:cNvPr id="124" name="矩形 25"/>
            <p:cNvSpPr/>
            <p:nvPr/>
          </p:nvSpPr>
          <p:spPr>
            <a:xfrm>
              <a:off x="0" y="5519880"/>
              <a:ext cx="1192320" cy="502560"/>
            </a:xfrm>
            <a:prstGeom prst="rect">
              <a:avLst/>
            </a:prstGeom>
            <a:solidFill>
              <a:srgbClr val="333f50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 Light"/>
                  <a:ea typeface="宋体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 Light"/>
              </a:endParaRPr>
            </a:p>
          </p:txBody>
        </p:sp>
        <p:sp>
          <p:nvSpPr>
            <p:cNvPr id="125" name="直角三角形 26"/>
            <p:cNvSpPr/>
            <p:nvPr/>
          </p:nvSpPr>
          <p:spPr>
            <a:xfrm flipV="1">
              <a:off x="0" y="6021720"/>
              <a:ext cx="1192320" cy="384840"/>
            </a:xfrm>
            <a:prstGeom prst="rtTriangle">
              <a:avLst/>
            </a:prstGeom>
            <a:solidFill>
              <a:srgbClr val="849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 Light"/>
              </a:endParaRPr>
            </a:p>
          </p:txBody>
        </p:sp>
      </p:grpSp>
      <p:sp>
        <p:nvSpPr>
          <p:cNvPr id="126" name="文本框 28"/>
          <p:cNvSpPr/>
          <p:nvPr/>
        </p:nvSpPr>
        <p:spPr>
          <a:xfrm>
            <a:off x="1584360" y="1130400"/>
            <a:ext cx="10260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 Light"/>
                <a:ea typeface="宋体"/>
              </a:rPr>
              <a:t>心理品质很关键：青少年发生网络成瘾还与个人的心理品质有关，一些在现实中应付困难的能力差、自我认同度低的人容易上网成瘾。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文本框 29"/>
          <p:cNvSpPr/>
          <p:nvPr/>
        </p:nvSpPr>
        <p:spPr>
          <a:xfrm>
            <a:off x="1584360" y="2479680"/>
            <a:ext cx="10260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 Light"/>
                <a:ea typeface="宋体"/>
              </a:rPr>
              <a:t>控制上网地点：未成年人不去网吧上网。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文本框 30"/>
          <p:cNvSpPr/>
          <p:nvPr/>
        </p:nvSpPr>
        <p:spPr>
          <a:xfrm>
            <a:off x="1584360" y="3851280"/>
            <a:ext cx="10260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 Light"/>
                <a:ea typeface="宋体"/>
              </a:rPr>
              <a:t>控制网络的使用内容：学习网络的使用技巧，学习网上获取资料的技能，保护自己的电脑不会受到病毒或“不良网站”的进攻。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文本框 31"/>
          <p:cNvSpPr/>
          <p:nvPr/>
        </p:nvSpPr>
        <p:spPr>
          <a:xfrm>
            <a:off x="1584360" y="5281560"/>
            <a:ext cx="10260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 Light"/>
                <a:ea typeface="宋体"/>
              </a:rPr>
              <a:t>控制上网时间：控制好每周每天上网的时间。给自己一个限定“我每周上网的时间不能超过</a:t>
            </a:r>
            <a:r>
              <a:rPr b="1" lang="zh-CN" sz="2400" spc="-1" strike="noStrike">
                <a:solidFill>
                  <a:srgbClr val="000000"/>
                </a:solidFill>
                <a:latin typeface="Calibri Light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Calibri Light"/>
                <a:ea typeface="宋体"/>
              </a:rPr>
              <a:t>小时”，自行调节避免过于死板。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53" presetSubtype="16"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base">
                                        <p:cTn id="28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53" presetSubtype="16"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base">
                                        <p:cTn id="28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53" presetSubtype="16"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base">
                                        <p:cTn id="29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dur="indefinite" nodeType="afterEffect" fill="hold" presetClass="entr" presetID="10"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29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dur="indefinite" nodeType="afterEffect" fill="hold" presetClass="entr" presetID="29"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base">
                                        <p:cTn id="30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dur="indefinite" nodeType="afterEffect" fill="hold" presetClass="entr" presetID="27"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base">
                                        <p:cTn id="305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</p:anim>
                                    <p:anim calcmode="discrete" valueType="clr">
                                      <p:cBhvr additive="base">
                                        <p:cTn id="306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80"/>
                            </p:stCondLst>
                            <p:childTnLst>
                              <p:par>
                                <p:cTn id="309" dur="indefinite" nodeType="afterEffect" fill="hold" presetClass="entr" presetID="29"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base">
                                        <p:cTn id="3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080"/>
                            </p:stCondLst>
                            <p:childTnLst>
                              <p:par>
                                <p:cTn id="315" dur="indefinite" nodeType="afterEffect" fill="hold" presetClass="entr" presetID="27"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base">
                                        <p:cTn id="317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</p:anim>
                                    <p:anim calcmode="discrete" valueType="clr">
                                      <p:cBhvr additive="base">
                                        <p:cTn id="318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160"/>
                            </p:stCondLst>
                            <p:childTnLst>
                              <p:par>
                                <p:cTn id="321" dur="indefinite" nodeType="afterEffect" fill="hold" presetClass="entr" presetID="29"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base">
                                        <p:cTn id="3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660"/>
                            </p:stCondLst>
                            <p:childTnLst>
                              <p:par>
                                <p:cTn id="327" dur="indefinite" nodeType="afterEffect" fill="hold" presetClass="entr" presetID="27"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base">
                                        <p:cTn id="329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</p:anim>
                                    <p:anim calcmode="discrete" valueType="clr">
                                      <p:cBhvr additive="base">
                                        <p:cTn id="330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740"/>
                            </p:stCondLst>
                            <p:childTnLst>
                              <p:par>
                                <p:cTn id="333" dur="indefinite" nodeType="afterEffect" fill="hold" presetClass="entr" presetID="29"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base">
                                        <p:cTn id="3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240"/>
                            </p:stCondLst>
                            <p:childTnLst>
                              <p:par>
                                <p:cTn id="339" dur="indefinite" nodeType="afterEffect" fill="hold" presetClass="entr" presetID="27"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base">
                                        <p:cTn id="341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</p:anim>
                                    <p:anim calcmode="discrete" valueType="clr">
                                      <p:cBhvr additive="base">
                                        <p:cTn id="342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页脚占位符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 Light"/>
              </a:rPr>
              <a:t>编辑课件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灯片编号占位符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889E-EFD9-4ADD-9EAC-88C3BA2DA89B}" type="slidenum">
              <a:rPr b="0" lang="zh-CN" sz="1200" spc="-1" strike="noStrike">
                <a:solidFill>
                  <a:srgbClr val="000000"/>
                </a:solidFill>
                <a:latin typeface="Calibri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矩形 4"/>
          <p:cNvSpPr/>
          <p:nvPr/>
        </p:nvSpPr>
        <p:spPr>
          <a:xfrm>
            <a:off x="0" y="295200"/>
            <a:ext cx="3917880" cy="85428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 Light"/>
                <a:ea typeface="宋体"/>
              </a:rPr>
              <a:t>小结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文本框 7"/>
          <p:cNvSpPr/>
          <p:nvPr/>
        </p:nvSpPr>
        <p:spPr>
          <a:xfrm>
            <a:off x="660240" y="1495440"/>
            <a:ext cx="10881000" cy="45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  <a:ea typeface="宋体"/>
              </a:rPr>
              <a:t>      </a:t>
            </a:r>
            <a:r>
              <a:rPr b="1" lang="en-US" sz="3600" spc="-1" strike="noStrike">
                <a:solidFill>
                  <a:srgbClr val="ff0000"/>
                </a:solidFill>
                <a:latin typeface="Calibri Light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Calibri Light"/>
                <a:ea typeface="宋体"/>
              </a:rPr>
              <a:t>网络犹如一把双刃剑，能做到健康上网适时适度的利用网络学习，网络就对我们有益，这把双刃剑不扎不到我们自己，能为我们打开知识的大门。如果沉迷于网络游戏，深陷其中不能自拔，达到竟然为了玩网游去犯罪，网络就对我们有害，这把剑就会扎向我们自己，使我我们受到伤害。关键靠我们自己控制自己，努力规范自己，做到健康上网。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42"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35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dur="indefinite" nodeType="afterEffect" fill="hold" presetClass="entr" presetID="27"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base">
                                        <p:cTn id="356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</p:anim>
                                    <p:anim calcmode="discrete" valueType="clr">
                                      <p:cBhvr additive="base">
                                        <p:cTn id="357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页脚占位符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 Light"/>
              </a:rPr>
              <a:t>编辑课件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灯片编号占位符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2193-742C-4D92-9031-5578627BE213}" type="slidenum">
              <a:rPr b="0" lang="zh-CN" sz="1200" spc="-1" strike="noStrike">
                <a:solidFill>
                  <a:srgbClr val="000000"/>
                </a:solidFill>
                <a:latin typeface="Calibri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矩形 3"/>
          <p:cNvSpPr/>
          <p:nvPr/>
        </p:nvSpPr>
        <p:spPr>
          <a:xfrm>
            <a:off x="252360" y="230040"/>
            <a:ext cx="11685600" cy="6397920"/>
          </a:xfrm>
          <a:prstGeom prst="rect">
            <a:avLst/>
          </a:prstGeom>
          <a:noFill/>
          <a:ln w="28440">
            <a:solidFill>
              <a:srgbClr val="1817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矩形 4"/>
          <p:cNvSpPr/>
          <p:nvPr/>
        </p:nvSpPr>
        <p:spPr>
          <a:xfrm>
            <a:off x="146160" y="352440"/>
            <a:ext cx="5368680" cy="1077840"/>
          </a:xfrm>
          <a:prstGeom prst="rect">
            <a:avLst/>
          </a:prstGeom>
          <a:solidFill>
            <a:srgbClr val="181717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文本框 5"/>
          <p:cNvSpPr/>
          <p:nvPr/>
        </p:nvSpPr>
        <p:spPr>
          <a:xfrm>
            <a:off x="930240" y="568440"/>
            <a:ext cx="5048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 Light"/>
                <a:ea typeface="宋体"/>
              </a:rPr>
              <a:t>沉迷网络的现象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5" name="图片 6" descr="timg (3)"/>
          <p:cNvPicPr/>
          <p:nvPr/>
        </p:nvPicPr>
        <p:blipFill>
          <a:blip r:embed="rId1"/>
          <a:stretch/>
        </p:blipFill>
        <p:spPr>
          <a:xfrm>
            <a:off x="816120" y="2174760"/>
            <a:ext cx="4740120" cy="2930760"/>
          </a:xfrm>
          <a:prstGeom prst="rect">
            <a:avLst/>
          </a:prstGeom>
          <a:ln w="0">
            <a:noFill/>
          </a:ln>
        </p:spPr>
      </p:pic>
      <p:pic>
        <p:nvPicPr>
          <p:cNvPr id="56" name="图片 9" descr="timg"/>
          <p:cNvPicPr/>
          <p:nvPr/>
        </p:nvPicPr>
        <p:blipFill>
          <a:blip r:embed="rId2"/>
          <a:srcRect l="0" t="0" r="1560" b="11380"/>
          <a:stretch/>
        </p:blipFill>
        <p:spPr>
          <a:xfrm>
            <a:off x="6545160" y="568440"/>
            <a:ext cx="4486320" cy="269532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0" descr="timg (4)"/>
          <p:cNvPicPr/>
          <p:nvPr/>
        </p:nvPicPr>
        <p:blipFill>
          <a:blip r:embed="rId3"/>
          <a:stretch/>
        </p:blipFill>
        <p:spPr>
          <a:xfrm>
            <a:off x="6456240" y="3714840"/>
            <a:ext cx="4577040" cy="24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4"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base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dur="indefinite" nodeType="afterEffect" fill="hold" presetClass="entr" presetID="22" presetSubtype="4"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base">
                                        <p:cTn id="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22" presetSubtype="4"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base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dur="indefinite" nodeType="afterEffect" fill="hold" presetClass="entr" presetID="53" presetSubtype="16"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base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dur="indefinite" nodeType="afterEffect" fill="hold" presetClass="entr" presetID="53" presetSubtype="16"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base">
                                        <p:cTn id="6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dur="indefinite" nodeType="afterEffect" fill="hold" presetClass="entr" presetID="53" presetSubtype="16"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base">
                                        <p:cTn id="6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页脚占位符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 Light"/>
              </a:rPr>
              <a:t>编辑课件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灯片编号占位符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5D43-BA3D-4282-A79F-6CFBA86D8415}" type="slidenum">
              <a:rPr b="0" lang="zh-CN" sz="1200" spc="-1" strike="noStrike">
                <a:solidFill>
                  <a:srgbClr val="000000"/>
                </a:solidFill>
                <a:latin typeface="Calibri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0" name="组合 2066"/>
          <p:cNvGrpSpPr/>
          <p:nvPr/>
        </p:nvGrpSpPr>
        <p:grpSpPr>
          <a:xfrm>
            <a:off x="285840" y="160200"/>
            <a:ext cx="6675480" cy="547920"/>
            <a:chOff x="285840" y="160200"/>
            <a:chExt cx="6675480" cy="547920"/>
          </a:xfrm>
        </p:grpSpPr>
        <p:sp>
          <p:nvSpPr>
            <p:cNvPr id="61" name="矩形 8"/>
            <p:cNvSpPr/>
            <p:nvPr/>
          </p:nvSpPr>
          <p:spPr>
            <a:xfrm>
              <a:off x="285840" y="160200"/>
              <a:ext cx="6671160" cy="526680"/>
            </a:xfrm>
            <a:prstGeom prst="rect">
              <a:avLst/>
            </a:prstGeom>
            <a:solidFill>
              <a:srgbClr val="181717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 Light"/>
              </a:endParaRPr>
            </a:p>
          </p:txBody>
        </p:sp>
        <p:sp>
          <p:nvSpPr>
            <p:cNvPr id="62" name="文本框 7"/>
            <p:cNvSpPr/>
            <p:nvPr/>
          </p:nvSpPr>
          <p:spPr>
            <a:xfrm>
              <a:off x="2553120" y="185400"/>
              <a:ext cx="440820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Calibri Light"/>
                  <a:ea typeface="宋体"/>
                </a:rPr>
                <a:t>精力不足导致上课睡觉</a:t>
              </a:r>
              <a:endParaRPr b="0" lang="en-US" sz="2800" spc="-1" strike="noStrike">
                <a:solidFill>
                  <a:srgbClr val="000000"/>
                </a:solidFill>
                <a:latin typeface="Calibri Light"/>
              </a:endParaRPr>
            </a:p>
          </p:txBody>
        </p:sp>
      </p:grpSp>
      <p:pic>
        <p:nvPicPr>
          <p:cNvPr id="63" name="图片 9" descr="timg (6)"/>
          <p:cNvPicPr/>
          <p:nvPr/>
        </p:nvPicPr>
        <p:blipFill>
          <a:blip r:embed="rId1"/>
          <a:stretch/>
        </p:blipFill>
        <p:spPr>
          <a:xfrm>
            <a:off x="2800440" y="1108080"/>
            <a:ext cx="4844880" cy="3267000"/>
          </a:xfrm>
          <a:prstGeom prst="rect">
            <a:avLst/>
          </a:prstGeom>
          <a:ln w="0">
            <a:noFill/>
          </a:ln>
        </p:spPr>
      </p:pic>
      <p:sp>
        <p:nvSpPr>
          <p:cNvPr id="64" name="矩形 4"/>
          <p:cNvSpPr/>
          <p:nvPr/>
        </p:nvSpPr>
        <p:spPr>
          <a:xfrm>
            <a:off x="658800" y="-7920"/>
            <a:ext cx="1279440" cy="6805440"/>
          </a:xfrm>
          <a:prstGeom prst="rect">
            <a:avLst/>
          </a:prstGeom>
          <a:solidFill>
            <a:srgbClr val="1817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文本框 6"/>
          <p:cNvSpPr/>
          <p:nvPr/>
        </p:nvSpPr>
        <p:spPr>
          <a:xfrm>
            <a:off x="993600" y="14400"/>
            <a:ext cx="898560" cy="68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 Light"/>
                <a:ea typeface="宋体"/>
              </a:rPr>
              <a:t>沉迷网络的结果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 Light"/>
                <a:ea typeface="宋体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6" name="图片 10" descr="timg (7)"/>
          <p:cNvPicPr/>
          <p:nvPr/>
        </p:nvPicPr>
        <p:blipFill>
          <a:blip r:embed="rId2"/>
          <a:stretch/>
        </p:blipFill>
        <p:spPr>
          <a:xfrm>
            <a:off x="4943520" y="3119400"/>
            <a:ext cx="4273560" cy="2949480"/>
          </a:xfrm>
          <a:prstGeom prst="rect">
            <a:avLst/>
          </a:prstGeom>
          <a:ln w="0">
            <a:noFill/>
          </a:ln>
        </p:spPr>
      </p:pic>
      <p:pic>
        <p:nvPicPr>
          <p:cNvPr id="67" name="图片 13" descr="timg (8)"/>
          <p:cNvPicPr/>
          <p:nvPr/>
        </p:nvPicPr>
        <p:blipFill>
          <a:blip r:embed="rId3"/>
          <a:stretch/>
        </p:blipFill>
        <p:spPr>
          <a:xfrm>
            <a:off x="8250120" y="4805280"/>
            <a:ext cx="337212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9"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base">
                                        <p:cTn id="7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5" presetSubtype="10"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base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dur="indefinite" nodeType="afterEffect" fill="hold" presetClass="entr" presetID="26"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base">
                                        <p:cTn id="8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8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"/>
                            </p:stCondLst>
                            <p:childTnLst>
                              <p:par>
                                <p:cTn id="96" dur="indefinite" nodeType="afterEffect" fill="hold" presetClass="entr" presetID="26"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base">
                                        <p:cTn id="9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9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dur="indefinite" nodeType="afterEffect" fill="hold" presetClass="entr" presetID="26"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base">
                                        <p:cTn id="11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11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页脚占位符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 Light"/>
              </a:rPr>
              <a:t>编辑课件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灯片编号占位符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2202-827B-4F29-B82E-8B525A6C0845}" type="slidenum">
              <a:rPr b="0" lang="zh-CN" sz="1200" spc="-1" strike="noStrike">
                <a:solidFill>
                  <a:srgbClr val="000000"/>
                </a:solidFill>
                <a:latin typeface="Calibri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70" name="组合 2076"/>
          <p:cNvGrpSpPr/>
          <p:nvPr/>
        </p:nvGrpSpPr>
        <p:grpSpPr>
          <a:xfrm>
            <a:off x="5265720" y="1450800"/>
            <a:ext cx="6675480" cy="663840"/>
            <a:chOff x="5265720" y="1450800"/>
            <a:chExt cx="6675480" cy="663840"/>
          </a:xfrm>
        </p:grpSpPr>
        <p:sp>
          <p:nvSpPr>
            <p:cNvPr id="71" name="矩形 12"/>
            <p:cNvSpPr/>
            <p:nvPr/>
          </p:nvSpPr>
          <p:spPr>
            <a:xfrm>
              <a:off x="5265720" y="1450800"/>
              <a:ext cx="6671160" cy="663840"/>
            </a:xfrm>
            <a:prstGeom prst="rect">
              <a:avLst/>
            </a:prstGeom>
            <a:solidFill>
              <a:srgbClr val="181717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 Light"/>
              </a:endParaRPr>
            </a:p>
          </p:txBody>
        </p:sp>
        <p:sp>
          <p:nvSpPr>
            <p:cNvPr id="72" name="文本框 13"/>
            <p:cNvSpPr/>
            <p:nvPr/>
          </p:nvSpPr>
          <p:spPr>
            <a:xfrm>
              <a:off x="7533000" y="1482480"/>
              <a:ext cx="440820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Calibri Light"/>
                  <a:ea typeface="宋体"/>
                </a:rPr>
                <a:t>沉迷网络游戏的危害</a:t>
              </a:r>
              <a:endParaRPr b="0" lang="en-US" sz="2800" spc="-1" strike="noStrike">
                <a:solidFill>
                  <a:srgbClr val="000000"/>
                </a:solidFill>
                <a:latin typeface="Calibri Light"/>
              </a:endParaRPr>
            </a:p>
          </p:txBody>
        </p:sp>
      </p:grpSp>
      <p:sp>
        <p:nvSpPr>
          <p:cNvPr id="73" name="矩形 3"/>
          <p:cNvSpPr/>
          <p:nvPr/>
        </p:nvSpPr>
        <p:spPr>
          <a:xfrm>
            <a:off x="0" y="295200"/>
            <a:ext cx="1044720" cy="346320"/>
          </a:xfrm>
          <a:prstGeom prst="rect">
            <a:avLst/>
          </a:prstGeom>
          <a:solidFill>
            <a:srgbClr val="222a3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11598120" y="295200"/>
            <a:ext cx="588960" cy="346320"/>
          </a:xfrm>
          <a:prstGeom prst="rect">
            <a:avLst/>
          </a:prstGeom>
          <a:solidFill>
            <a:srgbClr val="222a3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文本框 5"/>
          <p:cNvSpPr/>
          <p:nvPr/>
        </p:nvSpPr>
        <p:spPr>
          <a:xfrm>
            <a:off x="1320840" y="295200"/>
            <a:ext cx="428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 Light"/>
                <a:ea typeface="宋体"/>
              </a:rPr>
              <a:t>沉迷于网络游戏的危害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6" name="图片 7" descr="timg (9)"/>
          <p:cNvPicPr/>
          <p:nvPr/>
        </p:nvPicPr>
        <p:blipFill>
          <a:blip r:embed="rId1"/>
          <a:stretch/>
        </p:blipFill>
        <p:spPr>
          <a:xfrm>
            <a:off x="592200" y="1204920"/>
            <a:ext cx="5732280" cy="3429000"/>
          </a:xfrm>
          <a:prstGeom prst="rect">
            <a:avLst/>
          </a:prstGeom>
          <a:ln w="0">
            <a:noFill/>
          </a:ln>
        </p:spPr>
      </p:pic>
      <p:pic>
        <p:nvPicPr>
          <p:cNvPr id="77" name="图片 8" descr="timg (5)"/>
          <p:cNvPicPr/>
          <p:nvPr/>
        </p:nvPicPr>
        <p:blipFill>
          <a:blip r:embed="rId2"/>
          <a:stretch/>
        </p:blipFill>
        <p:spPr>
          <a:xfrm>
            <a:off x="8707320" y="25560"/>
            <a:ext cx="2063880" cy="1457280"/>
          </a:xfrm>
          <a:prstGeom prst="rect">
            <a:avLst/>
          </a:prstGeom>
          <a:ln w="0">
            <a:noFill/>
          </a:ln>
        </p:spPr>
      </p:pic>
      <p:sp>
        <p:nvSpPr>
          <p:cNvPr id="78" name="文本框 16"/>
          <p:cNvSpPr/>
          <p:nvPr/>
        </p:nvSpPr>
        <p:spPr>
          <a:xfrm>
            <a:off x="6324480" y="2298600"/>
            <a:ext cx="575964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Calibri Light"/>
                <a:ea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Calibri Light"/>
                <a:ea typeface="宋体"/>
              </a:rPr>
              <a:t>沉迷游戏严重影响着人际交往。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 Light"/>
                <a:ea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Calibri Light"/>
                <a:ea typeface="宋体"/>
              </a:rPr>
              <a:t>长期沉迷游戏严重影响着身体健康。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Calibri Light"/>
                <a:ea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Calibri Light"/>
                <a:ea typeface="宋体"/>
              </a:rPr>
              <a:t>游戏瘾患者心理问题严重。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  <a:ea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Calibri Light"/>
                <a:ea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Calibri Light"/>
                <a:ea typeface="宋体"/>
              </a:rPr>
              <a:t>过分沉迷将无法自拔，破坏正常的生活。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0"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135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136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30"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143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144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30"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151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152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dur="indefinite" nodeType="afterEffect" fill="hold" presetClass="entr" presetID="30"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160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161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dur="indefinite" nodeType="afterEffect" fill="hold" presetClass="entr" presetID="53" presetSubtype="16"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base">
                                        <p:cTn id="17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dur="indefinite" nodeType="afterEffect" fill="hold" presetClass="entr" presetID="27"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base">
                                        <p:cTn id="175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</p:anim>
                                    <p:anim calcmode="discrete" valueType="clr">
                                      <p:cBhvr additive="base">
                                        <p:cTn id="176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53" presetSubtype="16"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base">
                                        <p:cTn id="18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页脚占位符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 Light"/>
              </a:rPr>
              <a:t>编辑课件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灯片编号占位符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85DD-1846-4FBF-8DCA-34A51FB31A4B}" type="slidenum">
              <a:rPr b="0" lang="zh-CN" sz="1200" spc="-1" strike="noStrike">
                <a:solidFill>
                  <a:srgbClr val="000000"/>
                </a:solidFill>
                <a:latin typeface="Calibri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1" name="图片 3" descr="捕获"/>
          <p:cNvPicPr/>
          <p:nvPr/>
        </p:nvPicPr>
        <p:blipFill>
          <a:blip r:embed="rId1"/>
          <a:stretch/>
        </p:blipFill>
        <p:spPr>
          <a:xfrm>
            <a:off x="1200240" y="428760"/>
            <a:ext cx="9288360" cy="6000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 Light"/>
              </a:rPr>
              <a:t>编辑课件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灯片编号占位符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AD5A-B35A-4303-8576-9EB287F0D700}" type="slidenum">
              <a:rPr b="0" lang="zh-CN" sz="1200" spc="-1" strike="noStrike">
                <a:solidFill>
                  <a:srgbClr val="000000"/>
                </a:solidFill>
                <a:latin typeface="Calibri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4" name="图片 4" descr="d"/>
          <p:cNvPicPr/>
          <p:nvPr/>
        </p:nvPicPr>
        <p:blipFill>
          <a:blip r:embed="rId1"/>
          <a:stretch/>
        </p:blipFill>
        <p:spPr>
          <a:xfrm>
            <a:off x="1000080" y="187200"/>
            <a:ext cx="10191960" cy="6247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页脚占位符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 Light"/>
              </a:rPr>
              <a:t>编辑课件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灯片编号占位符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A09B-DD5F-48E4-8DF0-9F0A40207820}" type="slidenum">
              <a:rPr b="0" lang="zh-CN" sz="1200" spc="-1" strike="noStrike">
                <a:solidFill>
                  <a:srgbClr val="000000"/>
                </a:solidFill>
                <a:latin typeface="Calibri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7" name="图片 3" descr="ds"/>
          <p:cNvPicPr/>
          <p:nvPr/>
        </p:nvPicPr>
        <p:blipFill>
          <a:blip r:embed="rId1"/>
          <a:stretch/>
        </p:blipFill>
        <p:spPr>
          <a:xfrm>
            <a:off x="1193760" y="284040"/>
            <a:ext cx="9802800" cy="6291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页脚占位符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 Light"/>
              </a:rPr>
              <a:t>编辑课件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灯片编号占位符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C727-0937-4080-8730-9CBBB45F3B68}" type="slidenum">
              <a:rPr b="0" lang="zh-CN" sz="1200" spc="-1" strike="noStrike">
                <a:solidFill>
                  <a:srgbClr val="000000"/>
                </a:solidFill>
                <a:latin typeface="Calibri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0" name="图片 3" descr="捕获aa"/>
          <p:cNvPicPr/>
          <p:nvPr/>
        </p:nvPicPr>
        <p:blipFill>
          <a:blip r:embed="rId1"/>
          <a:stretch/>
        </p:blipFill>
        <p:spPr>
          <a:xfrm>
            <a:off x="1292400" y="271440"/>
            <a:ext cx="9358200" cy="6315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 Light"/>
              </a:rPr>
              <a:t>编辑课件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灯片编号占位符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C30B-4C35-456E-B685-210C5D3CF4F4}" type="slidenum">
              <a:rPr b="0" lang="zh-CN" sz="1200" spc="-1" strike="noStrike">
                <a:solidFill>
                  <a:srgbClr val="000000"/>
                </a:solidFill>
                <a:latin typeface="Calibri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矩形 3"/>
          <p:cNvSpPr/>
          <p:nvPr/>
        </p:nvSpPr>
        <p:spPr>
          <a:xfrm>
            <a:off x="0" y="295200"/>
            <a:ext cx="1044720" cy="346320"/>
          </a:xfrm>
          <a:prstGeom prst="rect">
            <a:avLst/>
          </a:prstGeom>
          <a:solidFill>
            <a:srgbClr val="222a3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文本框 4"/>
          <p:cNvSpPr/>
          <p:nvPr/>
        </p:nvSpPr>
        <p:spPr>
          <a:xfrm>
            <a:off x="1479600" y="295200"/>
            <a:ext cx="441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 Light"/>
                <a:ea typeface="宋体"/>
              </a:rPr>
              <a:t>网络所带来的危害？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矩形 6"/>
          <p:cNvSpPr/>
          <p:nvPr/>
        </p:nvSpPr>
        <p:spPr>
          <a:xfrm>
            <a:off x="11598120" y="295200"/>
            <a:ext cx="588960" cy="346320"/>
          </a:xfrm>
          <a:prstGeom prst="rect">
            <a:avLst/>
          </a:prstGeom>
          <a:solidFill>
            <a:srgbClr val="222a3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6" name="图片 7" descr="timg (2)"/>
          <p:cNvPicPr/>
          <p:nvPr/>
        </p:nvPicPr>
        <p:blipFill>
          <a:blip r:embed="rId1"/>
          <a:stretch/>
        </p:blipFill>
        <p:spPr>
          <a:xfrm>
            <a:off x="2863800" y="295200"/>
            <a:ext cx="8491680" cy="2914560"/>
          </a:xfrm>
          <a:prstGeom prst="rect">
            <a:avLst/>
          </a:prstGeom>
          <a:ln w="0">
            <a:noFill/>
          </a:ln>
        </p:spPr>
      </p:pic>
      <p:sp>
        <p:nvSpPr>
          <p:cNvPr id="97" name="矩形 8"/>
          <p:cNvSpPr/>
          <p:nvPr/>
        </p:nvSpPr>
        <p:spPr>
          <a:xfrm>
            <a:off x="963720" y="3040200"/>
            <a:ext cx="10071000" cy="3574800"/>
          </a:xfrm>
          <a:prstGeom prst="rect">
            <a:avLst/>
          </a:prstGeom>
          <a:solidFill>
            <a:srgbClr val="181717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文本框 9"/>
          <p:cNvSpPr/>
          <p:nvPr/>
        </p:nvSpPr>
        <p:spPr>
          <a:xfrm>
            <a:off x="1378080" y="3584520"/>
            <a:ext cx="9137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 Light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Calibri Light"/>
                <a:ea typeface="宋体"/>
              </a:rPr>
              <a:t>上网占用了青少年学习、休息的部分时间，造成青少年用户学习压力大、时间分配紧张等情况；另一方面，部分青少年用户由于深陷网络的虚拟世界，以至于在日常生活中，如上课、睡眠等，也常常想着网上空间，造成了精神不集中等情况。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 Light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Calibri Light"/>
                <a:ea typeface="宋体"/>
              </a:rPr>
              <a:t>除在精力方面，在身体健康上也受到了很大的影响，集中表现在视力大幅下降。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矩形 11"/>
          <p:cNvSpPr/>
          <p:nvPr/>
        </p:nvSpPr>
        <p:spPr>
          <a:xfrm>
            <a:off x="10777680" y="3780000"/>
            <a:ext cx="101520" cy="243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矩形 12"/>
          <p:cNvSpPr/>
          <p:nvPr/>
        </p:nvSpPr>
        <p:spPr>
          <a:xfrm flipH="1" rot="16200000">
            <a:off x="6026760" y="1701720"/>
            <a:ext cx="75960" cy="938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0"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189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190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30"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197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198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30"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205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206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dur="indefinite" nodeType="afterEffect" fill="hold" presetClass="entr" presetID="10"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21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53" presetSubtype="16"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base">
                                        <p:cTn id="21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10"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22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10"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2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dur="indefinite" nodeType="afterEffect" fill="hold" presetClass="entr" presetID="27"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base">
                                        <p:cTn id="229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</p:anim>
                                    <p:anim calcmode="discrete" valueType="clr">
                                      <p:cBhvr additive="base">
                                        <p:cTn id="230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5T08:02:00Z</dcterms:created>
  <dc:creator/>
  <dc:description/>
  <dc:language>en-US</dc:language>
  <cp:lastModifiedBy>高娅婷</cp:lastModifiedBy>
  <dcterms:modified xsi:type="dcterms:W3CDTF">2022-09-05T05:55:22Z</dcterms:modified>
  <cp:revision>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C17493154D3242768BD72AA8D922F902</vt:lpwstr>
  </property>
  <property fmtid="{D5CDD505-2E9C-101B-9397-08002B2CF9AE}" pid="3" name="KSOProductBuildVer">
    <vt:lpwstr>2052-11.1.0.12313</vt:lpwstr>
  </property>
</Properties>
</file>