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73A-CE11-4B15-8CA3-BF2DAD89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AFC-D714-4BCB-B882-59409644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6AC-D5BD-4FE6-A8D4-A1D0A25E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321B-C10D-4EB2-B92A-F3EF40C6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4343-2881-499D-B2C0-D8FAA3C8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FCF-FE6B-42AE-BE66-126D1260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84C-A38D-4F91-8100-B47C3A11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91B-D5CB-4329-AA77-0F916D06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789-C07B-4B81-A765-3168A759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25B-5053-43B3-A36F-A3327BAA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B465-CF00-4F34-BB4C-969ABBB0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B89-C01E-46B8-AAB9-047CFE00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A6AD-AAAF-461E-9DF4-F5AE7165E1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3"/>
          <p:cNvPicPr/>
          <p:nvPr/>
        </p:nvPicPr>
        <p:blipFill>
          <a:blip r:embed="rId1"/>
          <a:stretch/>
        </p:blipFill>
        <p:spPr>
          <a:xfrm>
            <a:off x="0" y="0"/>
            <a:ext cx="9261360" cy="6781680"/>
          </a:xfrm>
          <a:prstGeom prst="rect">
            <a:avLst/>
          </a:prstGeom>
          <a:ln w="0">
            <a:noFill/>
          </a:ln>
        </p:spPr>
      </p:pic>
      <p:pic>
        <p:nvPicPr>
          <p:cNvPr id="42" name="标题 3073" descr=""/>
          <p:cNvPicPr/>
          <p:nvPr/>
        </p:nvPicPr>
        <p:blipFill>
          <a:blip r:embed="rId2"/>
          <a:stretch/>
        </p:blipFill>
        <p:spPr>
          <a:xfrm>
            <a:off x="744480" y="2427120"/>
            <a:ext cx="77724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内容占位符 3" descr="timg"/>
          <p:cNvPicPr/>
          <p:nvPr/>
        </p:nvPicPr>
        <p:blipFill>
          <a:blip r:embed="rId1"/>
          <a:stretch/>
        </p:blipFill>
        <p:spPr>
          <a:xfrm>
            <a:off x="-81000" y="0"/>
            <a:ext cx="930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内容占位符 7" descr="1"/>
          <p:cNvPicPr/>
          <p:nvPr/>
        </p:nvPicPr>
        <p:blipFill>
          <a:blip r:embed="rId1"/>
          <a:stretch/>
        </p:blipFill>
        <p:spPr>
          <a:xfrm>
            <a:off x="0" y="0"/>
            <a:ext cx="924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内容占位符 3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内容占位符 3" descr="u=2929124676,406535673&amp;fm=26&amp;gp=0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4T04:44:19Z</dcterms:created>
  <dc:creator>Administrator</dc:creator>
  <dc:description/>
  <dc:language>en-US</dc:language>
  <cp:lastModifiedBy>祺道</cp:lastModifiedBy>
  <dcterms:modified xsi:type="dcterms:W3CDTF">2020-06-04T04:46:40Z</dcterms:modified>
  <cp:revision>2</cp:revision>
  <dc:subject/>
  <dc:title>认识火灾，学会逃生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662</vt:lpwstr>
  </property>
</Properties>
</file>