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528-C6AA-4014-A998-140908BE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A51-92B2-4758-B92B-F0EEFD3D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78C-56D9-4244-A92D-7B375981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EB4-EFD0-40B5-9786-E5BDD0B2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770-6E42-48DF-93E4-7B05AC4F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DA5-E52A-42B7-ABA2-D84E4532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EC1-DA3C-405D-B62E-F108560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6A5-93B1-4869-9E6C-C4F5B8A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A13-AAD2-4E8F-B3ED-1B74CCE3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84A-FE9B-43BC-BCB4-DDF2F527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429-E1D8-49FB-BFC8-F2D9A997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319-6E3A-45C7-A422-E9BBFCDD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1D3D-1483-4F4C-80FE-23495916F7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C:\Users\Administrator\Desktop\1000.jpg1000"/>
          <p:cNvPicPr/>
          <p:nvPr/>
        </p:nvPicPr>
        <p:blipFill>
          <a:blip r:embed="rId1"/>
          <a:stretch/>
        </p:blipFill>
        <p:spPr>
          <a:xfrm>
            <a:off x="1044720" y="701640"/>
            <a:ext cx="72738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C:\Users\Administrator\Desktop\3923.jpg_wh860.jpg3923.jpg_wh860"/>
          <p:cNvPicPr/>
          <p:nvPr/>
        </p:nvPicPr>
        <p:blipFill>
          <a:blip r:embed="rId1"/>
          <a:stretch/>
        </p:blipFill>
        <p:spPr>
          <a:xfrm>
            <a:off x="1044720" y="701640"/>
            <a:ext cx="72738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C:\Users\Administrator\Desktop\1811cc71-2aec-400b-b5bd-f0fa528af4b5.jpg1811cc71-2aec-400b-b5bd-f0fa528af4b5"/>
          <p:cNvPicPr/>
          <p:nvPr/>
        </p:nvPicPr>
        <p:blipFill>
          <a:blip r:embed="rId1"/>
          <a:stretch/>
        </p:blipFill>
        <p:spPr>
          <a:xfrm>
            <a:off x="1044720" y="701640"/>
            <a:ext cx="72738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" descr="C:\Users\Administrator\Desktop\90.jpg90"/>
          <p:cNvPicPr/>
          <p:nvPr/>
        </p:nvPicPr>
        <p:blipFill>
          <a:blip r:embed="rId1"/>
          <a:stretch/>
        </p:blipFill>
        <p:spPr>
          <a:xfrm>
            <a:off x="1057320" y="1012680"/>
            <a:ext cx="724680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3" descr="C:\Users\Administrator\Desktop\450439_20210612144817592050_0.jpg450439_20210612144817592050_0"/>
          <p:cNvPicPr/>
          <p:nvPr/>
        </p:nvPicPr>
        <p:blipFill>
          <a:blip r:embed="rId1"/>
          <a:stretch/>
        </p:blipFill>
        <p:spPr>
          <a:xfrm>
            <a:off x="1054080" y="1009800"/>
            <a:ext cx="72547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C:\Users\Administrator\Desktop\t014903eaa60e833fa1.jpgt014903eaa60e833fa1"/>
          <p:cNvPicPr/>
          <p:nvPr/>
        </p:nvPicPr>
        <p:blipFill>
          <a:blip r:embed="rId1"/>
          <a:stretch/>
        </p:blipFill>
        <p:spPr>
          <a:xfrm>
            <a:off x="1057320" y="1009800"/>
            <a:ext cx="724680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15T01:51:13Z</dcterms:created>
  <dc:creator>Administrator</dc:creator>
  <dc:description/>
  <dc:language>en-US</dc:language>
  <cp:lastModifiedBy>Administrator</cp:lastModifiedBy>
  <dcterms:modified xsi:type="dcterms:W3CDTF">2022-06-15T01:51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59C17FE68ABF4580B3E523827ED1E1E6</vt:lpwstr>
  </property>
  <property fmtid="{D5CDD505-2E9C-101B-9397-08002B2CF9AE}" pid="3" name="KSOProductBuildVer">
    <vt:lpwstr>2052-11.1.0.11744</vt:lpwstr>
  </property>
</Properties>
</file>