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BE9-5228-47A9-ADF5-3D186D42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F74-3742-45DC-ADC4-2E8FFC80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302-3D8C-4B78-A8DE-57D29B7C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5FA-6176-404C-AA47-E8F30DB5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2EA-F600-46E2-877A-12B422A8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E79-43B0-4708-92DE-46279EF3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97E-08FC-4C02-885B-662B3A1E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CFA-DAA0-407F-BDB1-F06D567D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647-FF9A-4402-B083-2337B08E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8B0-F462-4CA3-A4E3-2FA2BCBD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9F8-5973-4EDE-AB98-FEC523F9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407-FE0D-462A-A3DE-34E3EFF7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3FDA-3523-47BB-9AFB-AEB433ABA6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7321.jpg_wh860[1]"/>
          <p:cNvPicPr/>
          <p:nvPr/>
        </p:nvPicPr>
        <p:blipFill>
          <a:blip r:embed="rId1"/>
          <a:stretch/>
        </p:blipFill>
        <p:spPr>
          <a:xfrm>
            <a:off x="979560" y="1035000"/>
            <a:ext cx="71625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" descr="tc130201_b[1]"/>
          <p:cNvPicPr/>
          <p:nvPr/>
        </p:nvPicPr>
        <p:blipFill>
          <a:blip r:embed="rId1"/>
          <a:stretch/>
        </p:blipFill>
        <p:spPr>
          <a:xfrm>
            <a:off x="1668600" y="888840"/>
            <a:ext cx="58053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t017059c0e2868f0813[1]"/>
          <p:cNvPicPr/>
          <p:nvPr/>
        </p:nvPicPr>
        <p:blipFill>
          <a:blip r:embed="rId1"/>
          <a:stretch/>
        </p:blipFill>
        <p:spPr>
          <a:xfrm>
            <a:off x="682560" y="1122480"/>
            <a:ext cx="77788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20160709003159_10cbc7f985939b5cf8c9510c5a9110d1_1[1]"/>
          <p:cNvPicPr/>
          <p:nvPr/>
        </p:nvPicPr>
        <p:blipFill>
          <a:blip r:embed="rId1"/>
          <a:stretch/>
        </p:blipFill>
        <p:spPr>
          <a:xfrm>
            <a:off x="855720" y="638280"/>
            <a:ext cx="75326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925-1612300R129-50[1]"/>
          <p:cNvPicPr/>
          <p:nvPr/>
        </p:nvPicPr>
        <p:blipFill>
          <a:blip r:embed="rId1"/>
          <a:stretch/>
        </p:blipFill>
        <p:spPr>
          <a:xfrm>
            <a:off x="776160" y="814320"/>
            <a:ext cx="72248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3" descr="t01be9d62479d421a08[1]"/>
          <p:cNvPicPr/>
          <p:nvPr/>
        </p:nvPicPr>
        <p:blipFill>
          <a:blip r:embed="rId1"/>
          <a:stretch/>
        </p:blipFill>
        <p:spPr>
          <a:xfrm>
            <a:off x="1143000" y="498600"/>
            <a:ext cx="6858000" cy="58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W020120619633072034873[1]"/>
          <p:cNvPicPr/>
          <p:nvPr/>
        </p:nvPicPr>
        <p:blipFill>
          <a:blip r:embed="rId1"/>
          <a:stretch/>
        </p:blipFill>
        <p:spPr>
          <a:xfrm>
            <a:off x="1017720" y="1123920"/>
            <a:ext cx="74498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3" descr="4296813080171229938[1]"/>
          <p:cNvPicPr/>
          <p:nvPr/>
        </p:nvPicPr>
        <p:blipFill>
          <a:blip r:embed="rId1"/>
          <a:stretch/>
        </p:blipFill>
        <p:spPr>
          <a:xfrm>
            <a:off x="851040" y="1123920"/>
            <a:ext cx="708156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" descr="t01347698265dae601f[1]"/>
          <p:cNvPicPr/>
          <p:nvPr/>
        </p:nvPicPr>
        <p:blipFill>
          <a:blip r:embed="rId1"/>
          <a:stretch/>
        </p:blipFill>
        <p:spPr>
          <a:xfrm>
            <a:off x="614520" y="963720"/>
            <a:ext cx="79149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t01d83b75555b3d03a8[1]"/>
          <p:cNvPicPr/>
          <p:nvPr/>
        </p:nvPicPr>
        <p:blipFill>
          <a:blip r:embed="rId1"/>
          <a:stretch/>
        </p:blipFill>
        <p:spPr>
          <a:xfrm>
            <a:off x="-457200" y="-23760"/>
            <a:ext cx="100584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3T12:03:49Z</dcterms:created>
  <dc:creator>i'home</dc:creator>
  <dc:description/>
  <dc:language>en-US</dc:language>
  <cp:lastModifiedBy>CAT</cp:lastModifiedBy>
  <dcterms:modified xsi:type="dcterms:W3CDTF">2019-03-14T01:04:5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