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6F6D-FCC7-4890-A11D-97FCEA2C4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5E44-C181-4C23-B8B0-A087EE60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68C0-192C-42E3-992D-4DF235C28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31DA-5ACC-4E21-9AEC-8055DC442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70AC-E334-4DB6-9F9D-6A8D5671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B0E6-F422-4C57-8CDB-C79703D4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5EF8-5987-4983-8B09-8C831A21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FC81-4BD9-45D2-8EE8-FC655343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FE34-3552-43AD-A2D9-B0853178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77DF-2E07-49C2-B3E6-82C00121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C0FC-A988-4318-94A3-5C96BC11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D422-5B2C-40CC-9566-6CB85662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4E9D-EC15-46DD-81A1-741F6A73F7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126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矩形 11268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11269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2291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矩形 12292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294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076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矩形 3077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51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矩形 5124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125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5126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614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矩形 6148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6149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717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矩形 7172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7173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174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175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819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矩形 8197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198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8199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92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矩形 9220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9221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024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矩形 10245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10246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yu</cp:lastModifiedBy>
  <dcterms:modified xsi:type="dcterms:W3CDTF">2022-06-07T02:38:12Z</dcterms:modified>
  <cp:revision>3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9228</vt:lpwstr>
  </property>
</Properties>
</file>