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703-C1CA-4AB0-B9F7-81A59C1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2A3-D6DF-4314-A943-228698F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82B-BB65-48BA-B04F-B95A62C8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6F3-8FBC-4EC4-B27F-5631AFC1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1B9-2D9A-4072-8F9A-DF97A93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8C7-F2D6-4133-85E7-A2A39030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E5F-B1DD-4FD9-A237-172F5293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E17-DE28-450C-AE10-CC900452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795-5DCE-4A24-B1AF-AE9DCED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105-AD92-447E-B18E-66FD51E2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88B-2D1B-4A66-95A7-7FF27B4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1D0-46B0-4C25-9F50-85084A9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875A-AD42-4CE1-8FF1-B3A1962E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100714214633-0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u=755464649,3991152704&amp;fm=26&amp;gp=0.jpg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下载.jpg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szb.northnews.cn/bfxb/res/1/20100719/82041279506018668.jpg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81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szb.ch365.com.cn/dsck/res/1/20090701/57151246406059687.jpg"/>
          <p:cNvPicPr/>
          <p:nvPr/>
        </p:nvPicPr>
        <p:blipFill>
          <a:blip r:embed="rId2"/>
          <a:stretch/>
        </p:blipFill>
        <p:spPr>
          <a:xfrm>
            <a:off x="0" y="0"/>
            <a:ext cx="4876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xwbm2013070811"/>
          <p:cNvPicPr/>
          <p:nvPr/>
        </p:nvPicPr>
        <p:blipFill>
          <a:blip r:embed="rId1"/>
          <a:stretch/>
        </p:blipFill>
        <p:spPr>
          <a:xfrm>
            <a:off x="0" y="763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xwbm2013070217"/>
          <p:cNvPicPr/>
          <p:nvPr/>
        </p:nvPicPr>
        <p:blipFill>
          <a:blip r:embed="rId2"/>
          <a:stretch/>
        </p:blipFill>
        <p:spPr>
          <a:xfrm>
            <a:off x="3124080" y="15228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xwbm2013070218"/>
          <p:cNvPicPr/>
          <p:nvPr/>
        </p:nvPicPr>
        <p:blipFill>
          <a:blip r:embed="rId3"/>
          <a:stretch/>
        </p:blipFill>
        <p:spPr>
          <a:xfrm>
            <a:off x="6172200" y="76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xwbm2013070220"/>
          <p:cNvPicPr/>
          <p:nvPr/>
        </p:nvPicPr>
        <p:blipFill>
          <a:blip r:embed="rId4"/>
          <a:stretch/>
        </p:blipFill>
        <p:spPr>
          <a:xfrm>
            <a:off x="2362320" y="3581280"/>
            <a:ext cx="5105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17-06-18T01:46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