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3B11-9B5A-42B9-860A-8617272F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D769-8739-489D-8583-6F3FC807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0B48-2C85-4375-AB9B-9B9D731B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6560-DDA1-47F8-BA7C-5072B809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D495-A7B3-49D2-8086-C264D864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48A0-306D-42D6-A94B-A9FFE67C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C0FA-1D25-45FD-9C81-469C6A06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278B-4E68-46CD-81F2-145116EF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0D6C-14BF-4C19-9F9D-0433F072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A1AD-2BE5-4F18-ADC8-B00AF9C7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097-76FF-45EF-BDCF-DE3BBB80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023-F000-4590-9CC7-E159037F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4B1D-5DE8-4300-9D41-B092C24D5A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3"/>
          <p:cNvPicPr/>
          <p:nvPr/>
        </p:nvPicPr>
        <p:blipFill>
          <a:blip r:embed="rId1"/>
          <a:stretch/>
        </p:blipFill>
        <p:spPr>
          <a:xfrm>
            <a:off x="0" y="0"/>
            <a:ext cx="9261360" cy="6781680"/>
          </a:xfrm>
          <a:prstGeom prst="rect">
            <a:avLst/>
          </a:prstGeom>
          <a:ln w="0">
            <a:noFill/>
          </a:ln>
        </p:spPr>
      </p:pic>
      <p:pic>
        <p:nvPicPr>
          <p:cNvPr id="42" name="标题 3073" descr=""/>
          <p:cNvPicPr/>
          <p:nvPr/>
        </p:nvPicPr>
        <p:blipFill>
          <a:blip r:embed="rId2"/>
          <a:stretch/>
        </p:blipFill>
        <p:spPr>
          <a:xfrm>
            <a:off x="744480" y="2427120"/>
            <a:ext cx="77724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内容占位符 3" descr="timg"/>
          <p:cNvPicPr/>
          <p:nvPr/>
        </p:nvPicPr>
        <p:blipFill>
          <a:blip r:embed="rId1"/>
          <a:stretch/>
        </p:blipFill>
        <p:spPr>
          <a:xfrm>
            <a:off x="-81000" y="0"/>
            <a:ext cx="930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内容占位符 7" descr="1"/>
          <p:cNvPicPr/>
          <p:nvPr/>
        </p:nvPicPr>
        <p:blipFill>
          <a:blip r:embed="rId1"/>
          <a:stretch/>
        </p:blipFill>
        <p:spPr>
          <a:xfrm>
            <a:off x="0" y="0"/>
            <a:ext cx="924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内容占位符 3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内容占位符 3" descr="u=2929124676,406535673&amp;fm=26&amp;gp=0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4T04:44:19Z</dcterms:created>
  <dc:creator>Administrator</dc:creator>
  <dc:description/>
  <dc:language>en-US</dc:language>
  <cp:lastModifiedBy>祺道</cp:lastModifiedBy>
  <dcterms:modified xsi:type="dcterms:W3CDTF">2020-06-04T04:46:40Z</dcterms:modified>
  <cp:revision>2</cp:revision>
  <dc:subject/>
  <dc:title>认识火灾，学会逃生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662</vt:lpwstr>
  </property>
</Properties>
</file>