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E09F-C413-4DB0-8FD4-B0FC5592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EBB0-CD57-4966-B9A5-481A49E9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46BF-C2CC-4EB4-A1A0-145F2EB8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3771-8BBE-4667-8040-F293D8FE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11FF-54FA-4AF7-BB3A-111BCCFC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A546-23C8-4C2F-93F0-978D150B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204C-ECCA-4A84-ADA2-4DEF2A7D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6D33-F0AC-40A7-A240-577D7A11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D80C-0F77-4A27-894D-3E5FEED7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C056-747A-4482-975B-6AFDEEC5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E9E1-C3FF-4E93-B719-843C2ABF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AB60-D31E-4F84-8C3B-0E6DB78E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F3C5-C215-4EE7-829F-F32ABCB433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12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矩形 11268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1269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2291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矩形 12292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294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076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矩形 3077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1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5124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125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5126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14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6148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6149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717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7172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7173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174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175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819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8197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198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8199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92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9220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221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02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10245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0246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yu</cp:lastModifiedBy>
  <dcterms:modified xsi:type="dcterms:W3CDTF">2022-06-07T02:38:12Z</dcterms:modified>
  <cp:revision>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