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CA9E-260A-4494-8D9C-0EC4DAD8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463F-0E47-485C-A58F-30C29A8C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F70-0DDC-4362-ADAC-08465907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DE8-BE9F-4E1B-92B8-B2C1C0D6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2885-F28E-4593-97EE-E973003A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3ED-E938-4240-BAC4-E7219A20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178D-0CA2-4602-A04F-E8AA664A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B5B1-5552-4CE7-A28E-CAE1B988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7F2-4D4C-4B90-86E4-5D644B68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D524-4B71-4E8C-85A1-394CBA04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6FB-A84E-42A4-B67B-09B07E9E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336-12AF-4490-9F6A-385E962D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8BE8-314B-4645-A52D-2604A2C892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4360" y="1844640"/>
            <a:ext cx="7272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“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禁烟小卫士”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427640" y="4294080"/>
            <a:ext cx="3960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Administrator\Documents\Tencent Files\24480414\FileRecv\mmexport1653902033682.jpg"/>
          <p:cNvPicPr/>
          <p:nvPr/>
        </p:nvPicPr>
        <p:blipFill>
          <a:blip r:embed="rId1"/>
          <a:stretch/>
        </p:blipFill>
        <p:spPr>
          <a:xfrm>
            <a:off x="-309600" y="0"/>
            <a:ext cx="9453600" cy="70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Administrator\Documents\Tencent Files\24480414\FileRecv\mmexport1653902031197.jpg"/>
          <p:cNvPicPr/>
          <p:nvPr/>
        </p:nvPicPr>
        <p:blipFill>
          <a:blip r:embed="rId1"/>
          <a:stretch/>
        </p:blipFill>
        <p:spPr>
          <a:xfrm>
            <a:off x="357120" y="285840"/>
            <a:ext cx="878688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Administrator\Documents\Tencent Files\24480414\FileRecv\mmexport165390202599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Administrator\Documents\Tencent Files\24480414\FileRecv\mmexport165390202825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Administrator\Documents\Tencent Files\24480414\FileRecv\IMG_20220530_1607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Administrator\Documents\Tencent Files\24480414\FileRecv\mmexport165390201765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Administrator\Documents\Tencent Files\24480414\FileRecv\mmexport165390202148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Administrator\Documents\Tencent Files\24480414\FileRecv\mmexport165390202353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钱娜静</cp:lastModifiedBy>
  <dcterms:modified xsi:type="dcterms:W3CDTF">2022-05-30T09:45:4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