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63A-80DD-4E18-8EAA-7D10FB7A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E49-888E-452F-8E09-59720887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A9F-E7A1-4FC2-ABC0-80840931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E3E-DE21-473B-A33F-1B91A43C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F40-04CF-431E-85F8-97CFCC84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97D-0536-447F-A346-0956F3DB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C2CE-136A-495D-9974-EAC39F1A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B46-F436-49CA-A383-BD03C4B3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7FF-57F3-48E5-935A-E5A56378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E07A-797C-4D1A-A743-1A015DA4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06D-3145-4A4A-919F-4A7CE64F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D05-6786-4AA7-9AC7-401A9B81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6E35-AD84-4DAC-9E85-C2EF3169B5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811" t="32293" r="42969" b="239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4844" t="22917" r="50784" b="14584"/>
          <a:stretch/>
        </p:blipFill>
        <p:spPr>
          <a:xfrm>
            <a:off x="0" y="0"/>
            <a:ext cx="45975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16405" t="23960" r="51563" b="14584"/>
          <a:stretch/>
        </p:blipFill>
        <p:spPr>
          <a:xfrm>
            <a:off x="4686480" y="0"/>
            <a:ext cx="445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562" t="23960" r="37502" b="14584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4-07T08:03:2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