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2A2-8D96-4A61-A0FD-5B3F6340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A29-ABC2-42C7-AB59-A72FDD22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C62-6E80-4C11-896A-3EA271DC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4B9-D63D-45B7-A400-B0DFE9F1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FAF-910F-4731-9533-8DC3AE27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F4D-4AF6-43FF-B004-1C887BCC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0F7-8A40-4060-B38F-C9BDAE8C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81F-8292-479D-A392-11314812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3D1-5210-474F-AA37-222E9E1C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385-42B7-40DE-94E9-AB46F179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678-D8A6-4BE8-ACD2-078290FD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66F-32CA-4E23-B324-6FE7DB04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FDF2-B17C-41D7-9CC9-5EBBDDC487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7321.jpg_wh860[1]"/>
          <p:cNvPicPr/>
          <p:nvPr/>
        </p:nvPicPr>
        <p:blipFill>
          <a:blip r:embed="rId1"/>
          <a:stretch/>
        </p:blipFill>
        <p:spPr>
          <a:xfrm>
            <a:off x="979560" y="1035000"/>
            <a:ext cx="71625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t017059c0e2868f0813[1]"/>
          <p:cNvPicPr/>
          <p:nvPr/>
        </p:nvPicPr>
        <p:blipFill>
          <a:blip r:embed="rId1"/>
          <a:stretch/>
        </p:blipFill>
        <p:spPr>
          <a:xfrm>
            <a:off x="682560" y="1122480"/>
            <a:ext cx="77788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20160709003159_10cbc7f985939b5cf8c9510c5a9110d1_1[1]"/>
          <p:cNvPicPr/>
          <p:nvPr/>
        </p:nvPicPr>
        <p:blipFill>
          <a:blip r:embed="rId1"/>
          <a:stretch/>
        </p:blipFill>
        <p:spPr>
          <a:xfrm>
            <a:off x="855720" y="638280"/>
            <a:ext cx="75326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" descr="925-1612300R129-50[1]"/>
          <p:cNvPicPr/>
          <p:nvPr/>
        </p:nvPicPr>
        <p:blipFill>
          <a:blip r:embed="rId1"/>
          <a:stretch/>
        </p:blipFill>
        <p:spPr>
          <a:xfrm>
            <a:off x="776160" y="814320"/>
            <a:ext cx="72248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3T12:03:49Z</dcterms:created>
  <dc:creator>i'home</dc:creator>
  <dc:description/>
  <dc:language>en-US</dc:language>
  <cp:lastModifiedBy>CAT</cp:lastModifiedBy>
  <dcterms:modified xsi:type="dcterms:W3CDTF">2019-03-13T12:03:4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