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9688-3E66-4051-88F5-02AD4AAF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619B-DF31-4EE6-A832-6FC57CE2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AE51-4033-436A-8EC1-5D0EE55A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E681-4957-400D-BA65-38DE0021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FE90-CE6A-4C49-A47C-4FEABE86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E3E2-7357-4AC4-B260-CDDD47EF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8BD0-BE41-4DCA-A913-ABA8FAD3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9011-CB0A-42F7-86A3-B66FF40B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84D6-213A-487A-9E1A-7A53114D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343-CF12-41F2-9E6E-3F8CFBCB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A2D0-41E4-4D3A-88E4-04B7A4C9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2334-81B5-4D88-AE78-0CEBC69F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AD01-4FBA-4B2C-ABF6-97DB9BF1D2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7098" r="0" b="14638"/>
          <a:stretch/>
        </p:blipFill>
        <p:spPr>
          <a:xfrm>
            <a:off x="395280" y="0"/>
            <a:ext cx="5829480" cy="6453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192720" y="260280"/>
            <a:ext cx="29512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2987640" y="0"/>
            <a:ext cx="2697120" cy="2997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16360" cy="291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364000" y="0"/>
            <a:ext cx="2953080" cy="2557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http://news.shangdu.com/category/1000004/2007/04/25/images/10002_20070425_1104.jpg"/>
          <p:cNvPicPr/>
          <p:nvPr/>
        </p:nvPicPr>
        <p:blipFill>
          <a:blip r:embed="rId4"/>
          <a:stretch/>
        </p:blipFill>
        <p:spPr>
          <a:xfrm>
            <a:off x="395280" y="3141720"/>
            <a:ext cx="3708360" cy="286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38876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56120" cy="3789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495288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rcRect l="0" t="14962" r="0" b="0"/>
          <a:stretch/>
        </p:blipFill>
        <p:spPr>
          <a:xfrm>
            <a:off x="3419640" y="2492280"/>
            <a:ext cx="475272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211640" y="692280"/>
            <a:ext cx="4932360" cy="3863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323856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4643280" cy="328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851280" y="3284640"/>
            <a:ext cx="45720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6T02:14:54Z</dcterms:created>
  <dc:creator>Tclsevers</dc:creator>
  <dc:description/>
  <dc:language>en-US</dc:language>
  <cp:lastModifiedBy>Tclsevers</cp:lastModifiedBy>
  <dcterms:modified xsi:type="dcterms:W3CDTF">2016-06-17T04:28:55Z</dcterms:modified>
  <cp:revision>5</cp:revision>
  <dc:subject/>
  <dc:title>幻灯片 1</dc:title>
</cp:coreProperties>
</file>