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jpeg" ContentType="image/jpeg"/>
  <Override PartName="/ppt/media/image22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32.jpeg" ContentType="image/jpeg"/>
  <Override PartName="/ppt/media/image20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35.png" ContentType="image/png"/>
  <Override PartName="/ppt/media/image5.png" ContentType="image/png"/>
  <Override PartName="/ppt/media/image33.png" ContentType="image/png"/>
  <Override PartName="/ppt/media/image34.png" ContentType="image/png"/>
  <Override PartName="/ppt/media/image37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5"/>
          <p:cNvSpPr/>
          <p:nvPr/>
        </p:nvSpPr>
        <p:spPr>
          <a:xfrm>
            <a:off x="7072200" y="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幼儿安全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逃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图片 1" descr="最新教育学会logo"/>
          <p:cNvPicPr/>
          <p:nvPr/>
        </p:nvPicPr>
        <p:blipFill>
          <a:blip r:embed="rId2"/>
          <a:stretch/>
        </p:blipFill>
        <p:spPr>
          <a:xfrm>
            <a:off x="3225960" y="6114960"/>
            <a:ext cx="25398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1" descr="地震逃生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Text Box 5"/>
          <p:cNvSpPr/>
          <p:nvPr/>
        </p:nvSpPr>
        <p:spPr>
          <a:xfrm>
            <a:off x="7072200" y="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《幼儿安全》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地震逃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2" descr=""/>
          <p:cNvPicPr/>
          <p:nvPr/>
        </p:nvPicPr>
        <p:blipFill>
          <a:blip r:embed="rId1"/>
          <a:stretch/>
        </p:blipFill>
        <p:spPr>
          <a:xfrm>
            <a:off x="38160" y="-36360"/>
            <a:ext cx="9102600" cy="69627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3220920" y="855720"/>
            <a:ext cx="35607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地震来了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"/>
          <p:cNvSpPr/>
          <p:nvPr/>
        </p:nvSpPr>
        <p:spPr>
          <a:xfrm>
            <a:off x="982800" y="1606680"/>
            <a:ext cx="7026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假如我们在幼儿园教室时发生了地震，小朋友们应该怎么办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982800" y="2244600"/>
            <a:ext cx="702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练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讲老师和助教老师指导小朋友练习在室内应急避震的技能：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可先寻找身边的物品或利用自身手臂保护头部，然后躲在桌子下面或桌旁，躲在教室的角落里，躲在柱子旁等相对较安全的地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1" descr="演练"/>
          <p:cNvPicPr/>
          <p:nvPr/>
        </p:nvPicPr>
        <p:blipFill>
          <a:blip r:embed="rId2"/>
          <a:stretch/>
        </p:blipFill>
        <p:spPr>
          <a:xfrm>
            <a:off x="38160" y="3240"/>
            <a:ext cx="202392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kuanpingkeaiertongkatongbizhi_364326_10"/>
          <p:cNvPicPr/>
          <p:nvPr/>
        </p:nvPicPr>
        <p:blipFill>
          <a:blip r:embed="rId1"/>
          <a:stretch/>
        </p:blipFill>
        <p:spPr>
          <a:xfrm>
            <a:off x="-12600" y="878040"/>
            <a:ext cx="9165960" cy="6140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2647800" y="878040"/>
            <a:ext cx="63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我们一起来听一个小故事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1" descr="安全故事"/>
          <p:cNvPicPr/>
          <p:nvPr/>
        </p:nvPicPr>
        <p:blipFill>
          <a:blip r:embed="rId2"/>
          <a:stretch/>
        </p:blipFill>
        <p:spPr>
          <a:xfrm>
            <a:off x="-12600" y="77760"/>
            <a:ext cx="2181240" cy="8002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643280" y="981000"/>
            <a:ext cx="316872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151"/>
          <p:cNvPicPr/>
          <p:nvPr/>
        </p:nvPicPr>
        <p:blipFill>
          <a:blip r:embed="rId1"/>
          <a:stretch/>
        </p:blipFill>
        <p:spPr>
          <a:xfrm>
            <a:off x="755640" y="765000"/>
            <a:ext cx="7993080" cy="3268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2556000" y="1557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一天小黄鸭和皮皮猴去旅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1692360" y="242100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突然轰隆隆，房子开始颤抖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地震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1" descr="地震逃生1.jpg"/>
          <p:cNvPicPr/>
          <p:nvPr/>
        </p:nvPicPr>
        <p:blipFill>
          <a:blip r:embed="rId2"/>
          <a:stretch/>
        </p:blipFill>
        <p:spPr>
          <a:xfrm>
            <a:off x="187200" y="434880"/>
            <a:ext cx="8802720" cy="644688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11"/>
          <p:cNvGrpSpPr/>
          <p:nvPr/>
        </p:nvGrpSpPr>
        <p:grpSpPr>
          <a:xfrm>
            <a:off x="3470400" y="5376960"/>
            <a:ext cx="5592240" cy="1251000"/>
            <a:chOff x="3470400" y="5376960"/>
            <a:chExt cx="5592240" cy="1251000"/>
          </a:xfrm>
        </p:grpSpPr>
        <p:sp>
          <p:nvSpPr>
            <p:cNvPr id="83" name="AutoShape 12"/>
            <p:cNvSpPr/>
            <p:nvPr/>
          </p:nvSpPr>
          <p:spPr>
            <a:xfrm>
              <a:off x="3470400" y="5376960"/>
              <a:ext cx="5520600" cy="1251000"/>
            </a:xfrm>
            <a:prstGeom prst="wedgeRectCallout">
              <a:avLst>
                <a:gd name="adj1" fmla="val -70032"/>
                <a:gd name="adj2" fmla="val -65388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3"/>
            <p:cNvSpPr/>
            <p:nvPr/>
          </p:nvSpPr>
          <p:spPr>
            <a:xfrm>
              <a:off x="3542040" y="5393880"/>
              <a:ext cx="552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小黄鸭说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不能乘坐电梯，一旦停电我们就困在里面了，万一电梯掉下去我们就死定了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。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文本框 1"/>
          <p:cNvSpPr/>
          <p:nvPr/>
        </p:nvSpPr>
        <p:spPr>
          <a:xfrm>
            <a:off x="3240" y="31680"/>
            <a:ext cx="9151920" cy="61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黄鸭和皮皮猴出去旅行，住在一栋小楼里，突然发生了地震。这时，皮皮猴着急地说：“快快，我们赶快坐电梯逃吧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u=1999731777,1944826891&amp;fm=23&amp;gp=0"/>
          <p:cNvPicPr/>
          <p:nvPr/>
        </p:nvPicPr>
        <p:blipFill>
          <a:blip r:embed="rId1"/>
          <a:stretch/>
        </p:blipFill>
        <p:spPr>
          <a:xfrm>
            <a:off x="1403280" y="1123920"/>
            <a:ext cx="6913800" cy="2857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2195640" y="2133720"/>
            <a:ext cx="55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皮皮猴非常着急，他跑到了窗户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-34920" y="4581360"/>
            <a:ext cx="6462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1" descr="地震逃生2.jpg"/>
          <p:cNvPicPr/>
          <p:nvPr/>
        </p:nvPicPr>
        <p:blipFill>
          <a:blip r:embed="rId2"/>
          <a:stretch/>
        </p:blipFill>
        <p:spPr>
          <a:xfrm>
            <a:off x="325440" y="14400"/>
            <a:ext cx="8532720" cy="68292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5"/>
          <p:cNvSpPr/>
          <p:nvPr/>
        </p:nvSpPr>
        <p:spPr>
          <a:xfrm>
            <a:off x="182520" y="117360"/>
            <a:ext cx="4703760" cy="1944720"/>
          </a:xfrm>
          <a:prstGeom prst="cloudCallout">
            <a:avLst>
              <a:gd name="adj1" fmla="val 71249"/>
              <a:gd name="adj2" fmla="val 52268"/>
            </a:avLst>
          </a:prstGeom>
          <a:solidFill>
            <a:srgbClr val="ffcc99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74640" y="419040"/>
            <a:ext cx="40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皮皮猴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能乘坐电梯，那我们从窗户跳下去吧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3425760" y="5267160"/>
            <a:ext cx="4891320" cy="1387800"/>
          </a:xfrm>
          <a:prstGeom prst="wedgeRoundRectCallout">
            <a:avLst>
              <a:gd name="adj1" fmla="val -39902"/>
              <a:gd name="adj2" fmla="val -89662"/>
              <a:gd name="adj3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646440" y="5321160"/>
            <a:ext cx="45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黄鸭说：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冷静一点，你要是跳窗了，不摔成泥才怪呢。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2484360" y="378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而小黄鸭一直在安慰皮皮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2763720" y="114300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2513"/>
              <a:gd name="adj4" fmla="val -25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12" descr="地震逃生3.jpg"/>
          <p:cNvPicPr/>
          <p:nvPr/>
        </p:nvPicPr>
        <p:blipFill>
          <a:blip r:embed="rId1"/>
          <a:stretch/>
        </p:blipFill>
        <p:spPr>
          <a:xfrm>
            <a:off x="31680" y="927000"/>
            <a:ext cx="9113760" cy="58914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"/>
          <p:cNvSpPr/>
          <p:nvPr/>
        </p:nvSpPr>
        <p:spPr>
          <a:xfrm>
            <a:off x="90360" y="162000"/>
            <a:ext cx="90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小黄鸭拉着皮皮猴躲进了卫生间，并安慰皮皮猴，这里相对安全一些，不要绝望，一定会有人来救我们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2482920" y="4005360"/>
            <a:ext cx="44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袋鼠伯伯开来了消防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8" descr="地震逃生4.jpg"/>
          <p:cNvPicPr/>
          <p:nvPr/>
        </p:nvPicPr>
        <p:blipFill>
          <a:blip r:embed="rId1"/>
          <a:stretch/>
        </p:blipFill>
        <p:spPr>
          <a:xfrm>
            <a:off x="-3240" y="966960"/>
            <a:ext cx="9150480" cy="5813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-3240" y="71280"/>
            <a:ext cx="9150480" cy="61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地震终于停了。袋鼠伯伯开着消防车赶了过来，小黄鸭听到外面有声音，大声喊：“我们在这里，快来救我们！”皮皮猴和小黄鸭终于得救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6"/>
          <p:cNvSpPr/>
          <p:nvPr/>
        </p:nvSpPr>
        <p:spPr>
          <a:xfrm>
            <a:off x="2903400" y="658800"/>
            <a:ext cx="5300640" cy="3449520"/>
          </a:xfrm>
          <a:prstGeom prst="cloudCallout">
            <a:avLst>
              <a:gd name="adj1" fmla="val -59236"/>
              <a:gd name="adj2" fmla="val 33722"/>
            </a:avLst>
          </a:prstGeom>
          <a:solidFill>
            <a:srgbClr val="f8f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3562200" y="2386080"/>
            <a:ext cx="5300640" cy="2520720"/>
          </a:xfrm>
          <a:prstGeom prst="cloudCallout">
            <a:avLst>
              <a:gd name="adj1" fmla="val 34773"/>
              <a:gd name="adj2" fmla="val 76907"/>
            </a:avLst>
          </a:prstGeom>
          <a:solidFill>
            <a:srgbClr val="f8f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475080" y="1643040"/>
            <a:ext cx="47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小朋友们，你们可千万不要像皮皮猴一样盲目地逃跑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1" descr="41674"/>
          <p:cNvPicPr/>
          <p:nvPr/>
        </p:nvPicPr>
        <p:blipFill>
          <a:blip r:embed="rId1"/>
          <a:stretch/>
        </p:blipFill>
        <p:spPr>
          <a:xfrm>
            <a:off x="9360" y="2301840"/>
            <a:ext cx="2783160" cy="355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230040" y="992160"/>
            <a:ext cx="8682120" cy="5853240"/>
          </a:xfrm>
          <a:prstGeom prst="rect">
            <a:avLst/>
          </a:prstGeom>
          <a:ln w="0">
            <a:noFill/>
          </a:ln>
        </p:spPr>
      </p:pic>
      <p:sp>
        <p:nvSpPr>
          <p:cNvPr id="106" name="泪滴形 3"/>
          <p:cNvSpPr/>
          <p:nvPr/>
        </p:nvSpPr>
        <p:spPr>
          <a:xfrm rot="10800000">
            <a:off x="2949480" y="487080"/>
            <a:ext cx="4440240" cy="3281400"/>
          </a:xfrm>
          <a:custGeom>
            <a:avLst/>
            <a:gdLst/>
            <a:ahLst/>
            <a:rect l="l" t="t" r="r" b="b"/>
            <a:pathLst>
              <a:path w="4306570" h="3148965">
                <a:moveTo>
                  <a:pt x="0" y="1574482"/>
                </a:moveTo>
                <a:cubicBezTo>
                  <a:pt x="0" y="704920"/>
                  <a:pt x="964059" y="0"/>
                  <a:pt x="2153285" y="0"/>
                </a:cubicBezTo>
                <a:cubicBezTo>
                  <a:pt x="2776294" y="0"/>
                  <a:pt x="3399304" y="69282"/>
                  <a:pt x="4022314" y="207847"/>
                </a:cubicBezTo>
                <a:cubicBezTo>
                  <a:pt x="4211818" y="663391"/>
                  <a:pt x="4306570" y="1118936"/>
                  <a:pt x="4306570" y="1574482"/>
                </a:cubicBezTo>
                <a:cubicBezTo>
                  <a:pt x="4306570" y="2444044"/>
                  <a:pt x="3342511" y="3148964"/>
                  <a:pt x="2153285" y="3148964"/>
                </a:cubicBezTo>
                <a:cubicBezTo>
                  <a:pt x="964059" y="3148964"/>
                  <a:pt x="0" y="2444044"/>
                  <a:pt x="0" y="1574482"/>
                </a:cubicBezTo>
                <a:close/>
              </a:path>
            </a:pathLst>
          </a:custGeom>
          <a:solidFill>
            <a:srgbClr val="ffeeb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3506760" y="1165320"/>
            <a:ext cx="332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今天学的内容，我们来判断下图中的小朋友做的对不对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4" descr="安全对错"/>
          <p:cNvPicPr/>
          <p:nvPr/>
        </p:nvPicPr>
        <p:blipFill>
          <a:blip r:embed="rId2"/>
          <a:stretch/>
        </p:blipFill>
        <p:spPr>
          <a:xfrm>
            <a:off x="12600" y="15840"/>
            <a:ext cx="2181240" cy="800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"/>
          <p:cNvPicPr/>
          <p:nvPr/>
        </p:nvPicPr>
        <p:blipFill>
          <a:blip r:embed="rId1"/>
          <a:stretch/>
        </p:blipFill>
        <p:spPr>
          <a:xfrm>
            <a:off x="12600" y="415800"/>
            <a:ext cx="9118800" cy="63979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395280" y="44280"/>
            <a:ext cx="8650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6914520" y="3413160"/>
            <a:ext cx="1665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Arial"/>
                <a:ea typeface="微软雅黑"/>
              </a:rPr>
              <a:t>×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3"/>
          <p:cNvSpPr/>
          <p:nvPr/>
        </p:nvSpPr>
        <p:spPr>
          <a:xfrm>
            <a:off x="4992840" y="3633840"/>
            <a:ext cx="442800" cy="900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 flipH="1">
            <a:off x="5253120" y="1962000"/>
            <a:ext cx="528480" cy="167184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181480" y="1270080"/>
            <a:ext cx="3702240" cy="582120"/>
          </a:xfrm>
          <a:prstGeom prst="rect">
            <a:avLst/>
          </a:prstGeom>
          <a:noFill/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发生地震时乘坐电梯逃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"/>
          <p:cNvPicPr/>
          <p:nvPr/>
        </p:nvPicPr>
        <p:blipFill>
          <a:blip r:embed="rId1"/>
          <a:stretch/>
        </p:blipFill>
        <p:spPr>
          <a:xfrm>
            <a:off x="-7920" y="450720"/>
            <a:ext cx="9148680" cy="64216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395280" y="44280"/>
            <a:ext cx="8650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335640" y="873000"/>
            <a:ext cx="180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00"/>
                </a:solidFill>
                <a:latin typeface="Arial"/>
                <a:ea typeface="微软雅黑"/>
              </a:rPr>
              <a:t>√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1"/>
          <p:cNvSpPr/>
          <p:nvPr/>
        </p:nvSpPr>
        <p:spPr>
          <a:xfrm>
            <a:off x="5319720" y="1447920"/>
            <a:ext cx="504720" cy="1726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2"/>
          <p:cNvSpPr/>
          <p:nvPr/>
        </p:nvSpPr>
        <p:spPr>
          <a:xfrm flipH="1">
            <a:off x="3844080" y="1857960"/>
            <a:ext cx="1475640" cy="743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8400" y="2662200"/>
            <a:ext cx="5180040" cy="582120"/>
          </a:xfrm>
          <a:prstGeom prst="rect">
            <a:avLst/>
          </a:prstGeom>
          <a:noFill/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躲在卫生间等空间小的地方等待救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3" descr="34011211159845578"/>
          <p:cNvPicPr/>
          <p:nvPr/>
        </p:nvPicPr>
        <p:blipFill>
          <a:blip r:embed="rId1"/>
          <a:stretch/>
        </p:blipFill>
        <p:spPr>
          <a:xfrm>
            <a:off x="-52560" y="2933640"/>
            <a:ext cx="4583160" cy="32194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4" descr="20461211159845562"/>
          <p:cNvPicPr/>
          <p:nvPr/>
        </p:nvPicPr>
        <p:blipFill>
          <a:blip r:embed="rId2"/>
          <a:stretch/>
        </p:blipFill>
        <p:spPr>
          <a:xfrm>
            <a:off x="4581360" y="2933640"/>
            <a:ext cx="4561200" cy="32194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900080" y="1474920"/>
            <a:ext cx="5631120" cy="1291680"/>
          </a:xfrm>
          <a:prstGeom prst="rect">
            <a:avLst/>
          </a:prstGeom>
          <a:noFill/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小朋友们，他们为什么要躲起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还用东西挡住自己的头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" descr="思考"/>
          <p:cNvPicPr/>
          <p:nvPr/>
        </p:nvPicPr>
        <p:blipFill>
          <a:blip r:embed="rId3"/>
          <a:stretch/>
        </p:blipFill>
        <p:spPr>
          <a:xfrm>
            <a:off x="63360" y="15840"/>
            <a:ext cx="2073240" cy="1540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" descr=""/>
          <p:cNvPicPr/>
          <p:nvPr/>
        </p:nvPicPr>
        <p:blipFill>
          <a:blip r:embed="rId1"/>
          <a:stretch/>
        </p:blipFill>
        <p:spPr>
          <a:xfrm>
            <a:off x="-9360" y="422280"/>
            <a:ext cx="9144000" cy="6416640"/>
          </a:xfrm>
          <a:prstGeom prst="rect">
            <a:avLst/>
          </a:prstGeom>
          <a:ln w="0">
            <a:noFill/>
          </a:ln>
        </p:spPr>
      </p:pic>
      <p:sp>
        <p:nvSpPr>
          <p:cNvPr id="122" name="Oval 4"/>
          <p:cNvSpPr/>
          <p:nvPr/>
        </p:nvSpPr>
        <p:spPr>
          <a:xfrm>
            <a:off x="3855960" y="2290680"/>
            <a:ext cx="1150920" cy="831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 flipH="1" flipV="1">
            <a:off x="3886920" y="1006560"/>
            <a:ext cx="249120" cy="132300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95440" y="422280"/>
            <a:ext cx="4087800" cy="582120"/>
          </a:xfrm>
          <a:prstGeom prst="rect">
            <a:avLst/>
          </a:prstGeom>
          <a:noFill/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处在高楼层时选择跳楼逃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14520" y="2997360"/>
            <a:ext cx="2662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Arial"/>
                <a:ea typeface="微软雅黑"/>
              </a:rPr>
              <a:t>×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1-10(地震)"/>
          <p:cNvPicPr/>
          <p:nvPr/>
        </p:nvPicPr>
        <p:blipFill>
          <a:blip r:embed="rId1"/>
          <a:stretch/>
        </p:blipFill>
        <p:spPr>
          <a:xfrm>
            <a:off x="-69840" y="374760"/>
            <a:ext cx="9228240" cy="6514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6878520" y="3597120"/>
            <a:ext cx="180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00"/>
                </a:solidFill>
                <a:latin typeface="Arial"/>
                <a:ea typeface="微软雅黑"/>
              </a:rPr>
              <a:t>√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12840" y="484200"/>
            <a:ext cx="5922720" cy="582120"/>
          </a:xfrm>
          <a:prstGeom prst="rect">
            <a:avLst/>
          </a:prstGeom>
          <a:noFill/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在室外时迅速跑到空旷的地方躲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4"/>
          <p:cNvSpPr/>
          <p:nvPr/>
        </p:nvSpPr>
        <p:spPr>
          <a:xfrm>
            <a:off x="163440" y="1604880"/>
            <a:ext cx="887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小朋友选择的疏散路径分组，助教老师带领小朋友去体验不同的疏散路径，注意疏散过程中保护头部的动作技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讲教师在操场安全集合点统计每一小组到达安全地点所用时间，选出最优的紧急疏散路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5" descr=""/>
          <p:cNvPicPr/>
          <p:nvPr/>
        </p:nvPicPr>
        <p:blipFill>
          <a:blip r:embed="rId1"/>
          <a:stretch/>
        </p:blipFill>
        <p:spPr>
          <a:xfrm>
            <a:off x="-23760" y="3308400"/>
            <a:ext cx="9177120" cy="357192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" descr="情景模拟2"/>
          <p:cNvPicPr/>
          <p:nvPr/>
        </p:nvPicPr>
        <p:blipFill>
          <a:blip r:embed="rId2"/>
          <a:stretch/>
        </p:blipFill>
        <p:spPr>
          <a:xfrm>
            <a:off x="9360" y="4680"/>
            <a:ext cx="230040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" descr=""/>
          <p:cNvPicPr/>
          <p:nvPr/>
        </p:nvPicPr>
        <p:blipFill>
          <a:blip r:embed="rId1"/>
          <a:stretch/>
        </p:blipFill>
        <p:spPr>
          <a:xfrm>
            <a:off x="1403280" y="-171360"/>
            <a:ext cx="6337440" cy="6892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2452680" y="1341360"/>
            <a:ext cx="468324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你拍一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我拍一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地震自救要学习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你拍二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拍二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镇定自若不要怕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你拍三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我拍三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安全有序往外散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你拍四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拍四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疏散不及钻桌子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你拍五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我拍五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被困废墟把嘴捂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你拍六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拍六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相信自已会得救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你拍七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我拍七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救助未到不要急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你拍八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拍八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如有可能往外爬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你拍九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我拍九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听到声音要求救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你拍十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拍十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战胜困难贵坚持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1" descr="安全儿歌"/>
          <p:cNvPicPr/>
          <p:nvPr/>
        </p:nvPicPr>
        <p:blipFill>
          <a:blip r:embed="rId2"/>
          <a:stretch/>
        </p:blipFill>
        <p:spPr>
          <a:xfrm>
            <a:off x="23760" y="33480"/>
            <a:ext cx="2181240" cy="79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" descr="地震逃生di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矩形 2" descr=""/>
          <p:cNvPicPr/>
          <p:nvPr/>
        </p:nvPicPr>
        <p:blipFill>
          <a:blip r:embed="rId2"/>
          <a:stretch/>
        </p:blipFill>
        <p:spPr>
          <a:xfrm>
            <a:off x="219240" y="311040"/>
            <a:ext cx="4187520" cy="9208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7072200" y="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《幼儿安全》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地震逃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82851211159845593"/>
          <p:cNvPicPr/>
          <p:nvPr/>
        </p:nvPicPr>
        <p:blipFill>
          <a:blip r:embed="rId1"/>
          <a:stretch/>
        </p:blipFill>
        <p:spPr>
          <a:xfrm>
            <a:off x="4680000" y="1990800"/>
            <a:ext cx="4359240" cy="3249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2260440" y="384120"/>
            <a:ext cx="4094280" cy="1445400"/>
          </a:xfrm>
          <a:prstGeom prst="rect">
            <a:avLst/>
          </a:prstGeom>
          <a:noFill/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他们怎么这么害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发生了什么事情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56851211159845562"/>
          <p:cNvPicPr/>
          <p:nvPr/>
        </p:nvPicPr>
        <p:blipFill>
          <a:blip r:embed="rId2"/>
          <a:stretch/>
        </p:blipFill>
        <p:spPr>
          <a:xfrm>
            <a:off x="52560" y="2043000"/>
            <a:ext cx="4587840" cy="3176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1601640" y="5435640"/>
            <a:ext cx="5478480" cy="765000"/>
          </a:xfrm>
          <a:prstGeom prst="rect">
            <a:avLst/>
          </a:prstGeom>
          <a:noFill/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原来是发生了可怕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地震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116146_7"/>
          <p:cNvPicPr/>
          <p:nvPr/>
        </p:nvPicPr>
        <p:blipFill>
          <a:blip r:embed="rId1"/>
          <a:stretch/>
        </p:blipFill>
        <p:spPr>
          <a:xfrm>
            <a:off x="4965840" y="3506760"/>
            <a:ext cx="4171680" cy="3371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Img263915646"/>
          <p:cNvPicPr/>
          <p:nvPr/>
        </p:nvPicPr>
        <p:blipFill>
          <a:blip r:embed="rId2"/>
          <a:stretch/>
        </p:blipFill>
        <p:spPr>
          <a:xfrm>
            <a:off x="-31680" y="-19080"/>
            <a:ext cx="4997520" cy="6897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5067360" y="623880"/>
            <a:ext cx="3967200" cy="765000"/>
          </a:xfrm>
          <a:prstGeom prst="rect">
            <a:avLst/>
          </a:prstGeom>
          <a:noFill/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地震是非常危险的！它会毁坏房屋、大地和农田等，甚至还会夺去人的生命！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地震是无情的，同学们一定要学会保护好自己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531170_104615035000_2"/>
          <p:cNvPicPr/>
          <p:nvPr/>
        </p:nvPicPr>
        <p:blipFill>
          <a:blip r:embed="rId1"/>
          <a:srcRect l="0" t="0" r="0" b="3228"/>
          <a:stretch/>
        </p:blipFill>
        <p:spPr>
          <a:xfrm>
            <a:off x="-9360" y="-25560"/>
            <a:ext cx="9159840" cy="68868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2266920" y="2374920"/>
            <a:ext cx="499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微软雅黑"/>
              </a:rPr>
              <a:t>地震这么危险！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830240" y="3430440"/>
            <a:ext cx="609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我们如何在地震中逃生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9" descr=""/>
          <p:cNvPicPr/>
          <p:nvPr/>
        </p:nvPicPr>
        <p:blipFill>
          <a:blip r:embed="rId1"/>
          <a:stretch/>
        </p:blipFill>
        <p:spPr>
          <a:xfrm>
            <a:off x="9360" y="801720"/>
            <a:ext cx="9112320" cy="6075360"/>
          </a:xfrm>
          <a:prstGeom prst="rect">
            <a:avLst/>
          </a:prstGeom>
          <a:ln w="0">
            <a:noFill/>
          </a:ln>
        </p:spPr>
      </p:pic>
      <p:sp>
        <p:nvSpPr>
          <p:cNvPr id="55" name="圆角矩形标注 10"/>
          <p:cNvSpPr/>
          <p:nvPr/>
        </p:nvSpPr>
        <p:spPr>
          <a:xfrm>
            <a:off x="-28440" y="25560"/>
            <a:ext cx="9150120" cy="1742760"/>
          </a:xfrm>
          <a:prstGeom prst="wedgeRoundRectCallout">
            <a:avLst>
              <a:gd name="adj1" fmla="val -25759"/>
              <a:gd name="adj2" fmla="val 51013"/>
              <a:gd name="adj3" fmla="val 16667"/>
            </a:avLst>
          </a:prstGeom>
          <a:solidFill>
            <a:srgbClr val="ffffff"/>
          </a:solidFill>
          <a:ln w="4140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1120680" y="-55440"/>
            <a:ext cx="708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来了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们应该如何躲避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1-1 (2)"/>
          <p:cNvPicPr/>
          <p:nvPr/>
        </p:nvPicPr>
        <p:blipFill>
          <a:blip r:embed="rId1"/>
          <a:stretch/>
        </p:blipFill>
        <p:spPr>
          <a:xfrm>
            <a:off x="-52560" y="3240"/>
            <a:ext cx="9512640" cy="688500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标注 3"/>
          <p:cNvSpPr/>
          <p:nvPr/>
        </p:nvSpPr>
        <p:spPr>
          <a:xfrm>
            <a:off x="-52560" y="3240"/>
            <a:ext cx="4438800" cy="1309680"/>
          </a:xfrm>
          <a:prstGeom prst="wedgeRoundRectCallout">
            <a:avLst>
              <a:gd name="adj1" fmla="val -49625"/>
              <a:gd name="adj2" fmla="val -4694"/>
              <a:gd name="adj3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-34920" y="324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如果在教室里，应用书包挡住自己的头部，迅速躲在书桌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69200" cy="6093000"/>
          </a:xfrm>
          <a:prstGeom prst="rect">
            <a:avLst/>
          </a:prstGeom>
          <a:ln w="0">
            <a:noFill/>
          </a:ln>
        </p:spPr>
      </p:pic>
      <p:sp>
        <p:nvSpPr>
          <p:cNvPr id="61" name="圆角矩形标注 10"/>
          <p:cNvSpPr/>
          <p:nvPr/>
        </p:nvSpPr>
        <p:spPr>
          <a:xfrm>
            <a:off x="130320" y="210960"/>
            <a:ext cx="3073320" cy="2835360"/>
          </a:xfrm>
          <a:prstGeom prst="wedgeRoundRectCallout">
            <a:avLst>
              <a:gd name="adj1" fmla="val 50574"/>
              <a:gd name="adj2" fmla="val 26851"/>
              <a:gd name="adj3" fmla="val 16667"/>
            </a:avLst>
          </a:prstGeom>
          <a:solidFill>
            <a:srgbClr val="ffffff"/>
          </a:solidFill>
          <a:ln w="4140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250920" y="403200"/>
            <a:ext cx="28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停止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若房屋不再摇晃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们应该怎样安全的离开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圆角矩形 1"/>
          <p:cNvSpPr/>
          <p:nvPr/>
        </p:nvSpPr>
        <p:spPr>
          <a:xfrm>
            <a:off x="177840" y="3573360"/>
            <a:ext cx="3073320" cy="22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标注 6"/>
          <p:cNvSpPr/>
          <p:nvPr/>
        </p:nvSpPr>
        <p:spPr>
          <a:xfrm>
            <a:off x="130320" y="3141720"/>
            <a:ext cx="3073320" cy="2835360"/>
          </a:xfrm>
          <a:prstGeom prst="wedgeRoundRectCallout">
            <a:avLst>
              <a:gd name="adj1" fmla="val 50574"/>
              <a:gd name="adj2" fmla="val 26851"/>
              <a:gd name="adj3" fmla="val 16667"/>
            </a:avLst>
          </a:prstGeom>
          <a:solidFill>
            <a:srgbClr val="ffffff"/>
          </a:solidFill>
          <a:ln w="4140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81080" y="3281400"/>
            <a:ext cx="292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护头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沿安全通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听从指挥，快速疏散到操场等空旷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3" descr=""/>
          <p:cNvPicPr/>
          <p:nvPr/>
        </p:nvPicPr>
        <p:blipFill>
          <a:blip r:embed="rId1"/>
          <a:stretch/>
        </p:blipFill>
        <p:spPr>
          <a:xfrm>
            <a:off x="254160" y="1119240"/>
            <a:ext cx="8646840" cy="5721120"/>
          </a:xfrm>
          <a:prstGeom prst="rect">
            <a:avLst/>
          </a:prstGeom>
          <a:ln w="0">
            <a:noFill/>
          </a:ln>
        </p:spPr>
      </p:pic>
      <p:sp>
        <p:nvSpPr>
          <p:cNvPr id="67" name="圆角矩形标注 4"/>
          <p:cNvSpPr/>
          <p:nvPr/>
        </p:nvSpPr>
        <p:spPr>
          <a:xfrm>
            <a:off x="-52560" y="3240"/>
            <a:ext cx="9209160" cy="1116000"/>
          </a:xfrm>
          <a:prstGeom prst="wedgeRoundRectCallout">
            <a:avLst>
              <a:gd name="adj1" fmla="val -49625"/>
              <a:gd name="adj2" fmla="val -4694"/>
              <a:gd name="adj3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-34920" y="3240"/>
            <a:ext cx="9191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如果在室外，应尽快跑到开阔的地方。不要躲到地下通道中或高架桥下面，注意远离楼房、围墙、树木、广告牌、玻璃或是悬挂物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1:55:07Z</dcterms:created>
  <dc:creator>Administrator</dc:creator>
  <dc:description/>
  <cp:keywords/>
  <dc:language>en-US</dc:language>
  <cp:lastModifiedBy>依凌 蔡</cp:lastModifiedBy>
  <dcterms:modified xsi:type="dcterms:W3CDTF">2022-04-25T05:04:42Z</dcterms:modified>
  <cp:revision>1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