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73A-670C-4B31-9F7C-5E31BFA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A8D-63F1-4D0D-AA73-764BCB2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C7E-BBFF-4B82-919B-CEAFCFE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DA6-0B13-4FE9-AA42-E6F05470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6A5-0A0C-473D-A170-DBF424E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ABB-810A-4734-A41C-508D97C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E80-FAAC-4772-9584-F133C849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EF2-766E-4C99-A30F-4750DE0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B64-8698-4CA7-9FF2-35B3A9A3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CAE-12CA-4741-8DEE-20DD7E5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843-C7FC-4340-A3EC-35A380C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927-F9E2-48E6-AE76-E9FDBD33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39C8-D90B-47F3-A037-B2FA177104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6849-9FB1-467D-88CB-12C7782E42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193680" y="282888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f81bd"/>
                </a:solidFill>
                <a:latin typeface="Arial"/>
              </a:rPr>
              <a:t>健康：防疫知识知多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QQ图片2021112307442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QQ图片20211123074432"/>
          <p:cNvPicPr/>
          <p:nvPr/>
        </p:nvPicPr>
        <p:blipFill>
          <a:blip r:embed="rId1"/>
          <a:stretch/>
        </p:blipFill>
        <p:spPr>
          <a:xfrm>
            <a:off x="2311560" y="1600200"/>
            <a:ext cx="452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QQ图片20211123074437"/>
          <p:cNvPicPr/>
          <p:nvPr/>
        </p:nvPicPr>
        <p:blipFill>
          <a:blip r:embed="rId1"/>
          <a:stretch/>
        </p:blipFill>
        <p:spPr>
          <a:xfrm>
            <a:off x="1147680" y="1600200"/>
            <a:ext cx="6846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3" descr="11"/>
          <p:cNvPicPr/>
          <p:nvPr/>
        </p:nvPicPr>
        <p:blipFill>
          <a:blip r:embed="rId1"/>
          <a:stretch/>
        </p:blipFill>
        <p:spPr>
          <a:xfrm>
            <a:off x="1187280" y="719280"/>
            <a:ext cx="680724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QQ图片20211123074441"/>
          <p:cNvPicPr/>
          <p:nvPr/>
        </p:nvPicPr>
        <p:blipFill>
          <a:blip r:embed="rId1"/>
          <a:stretch/>
        </p:blipFill>
        <p:spPr>
          <a:xfrm>
            <a:off x="1374840" y="1600200"/>
            <a:ext cx="639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4T08:10:00Z</dcterms:created>
  <dc:creator>Tony</dc:creator>
  <dc:description/>
  <dc:language>en-US</dc:language>
  <cp:lastModifiedBy>asus</cp:lastModifiedBy>
  <dcterms:modified xsi:type="dcterms:W3CDTF">2022-02-17T01:11:2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7F9DD37747B4D1F8425DA99FFB573FA</vt:lpwstr>
  </property>
  <property fmtid="{D5CDD505-2E9C-101B-9397-08002B2CF9AE}" pid="3" name="KSOProductBuildVer">
    <vt:lpwstr>2052-11.1.0.11294</vt:lpwstr>
  </property>
</Properties>
</file>