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7C42-08E0-4F54-8107-E9E86B2B6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D80A-34EF-4CE8-8285-6BDD25FAC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F345-E21E-472B-9F02-CD24C0B59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ECEB-F516-4FB5-86BD-8111C5E81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71DC-936E-4F3B-9EB2-07609C538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9B26-7EE7-4DF0-8056-2D4CB884E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F6AA-3299-42AB-B484-99838317B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4A6D-2CD1-4FD6-93A8-126153552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90DF-4022-41BC-B5EA-E4D042B19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9945-8806-45CF-865E-F22C28DE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B00A-DD94-4CD4-BAF0-3F97CBB8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2868-70E2-45E3-9543-72209C9A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A0EB9-7A13-48FE-9D2E-933D43BD10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21085" r="0" b="901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6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128520"/>
            <a:ext cx="9144000" cy="67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04920" y="14400"/>
            <a:ext cx="830556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7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3805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乘坐轿车时从哪边下车最安全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Ａ．左边 Ｂ．右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1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分别是干什么的？请你模拟打其中的一个电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如果看到有汽车撞人后要逃跑了，你应该立即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Ａ．记下车牌号 Ｂ．告诉老师或家长 Ｃ．不需要做任何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你知道下列几种禁令标志的含义吗？请指出哪个是“禁止行人通行标志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油锅着火时，正确的灭火方法是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Ａ、用水浇 Ｂ、用锅盖盖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Ｃ、赶快去端油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324480" y="3352680"/>
            <a:ext cx="205740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在火场中，充满了各种各样的危险：烈焰、高温、烟雾、毒气等。下面几种保护措施，哪一条是不正确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Ａ、在火场中站立、直行，并大口呼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Ｂ、迅速躲避在火场的下风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Ｃ、用湿毛巾捂住口鼻，必要时匍匐前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当身上衣服着火时，立即采取的正确灭火方法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Ａ、赶快奔跑灭掉身上火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Ｂ、就地打滚压灭身上火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Ｃ、用手拍打火苗，尽快撕脱衣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在家遇到烫伤，马上要做的第一件事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Ａ、将烫起的水泡挑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Ｂ、用自来水冲烫伤部位降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Ｃ、抹上豆浆或食用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发生煤气泄漏时，下面哪些措施是不正确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Ａ、马上关掉煤气开关，不动任何电器开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Ｂ、打开排气扇通风      Ｃ、打开门窗，让中毒者呼吸新鲜空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6T06:58:26Z</dcterms:created>
  <dc:creator>Administrator</dc:creator>
  <dc:description/>
  <dc:language>en-US</dc:language>
  <cp:lastModifiedBy>dbc</cp:lastModifiedBy>
  <dcterms:modified xsi:type="dcterms:W3CDTF">2014-06-16T07:07:19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