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7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0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11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7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46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</p:sldMasterIdLst>
  <p:sldIdLst>
    <p:sldId id="256" r:id="rId48"/>
    <p:sldId id="257" r:id="rId49"/>
    <p:sldId id="258" r:id="rId50"/>
    <p:sldId id="259" r:id="rId51"/>
    <p:sldId id="260" r:id="rId52"/>
    <p:sldId id="261" r:id="rId53"/>
    <p:sldId id="262" r:id="rId54"/>
    <p:sldId id="263" r:id="rId55"/>
    <p:sldId id="264" r:id="rId56"/>
    <p:sldId id="265" r:id="rId57"/>
    <p:sldId id="266" r:id="rId58"/>
    <p:sldId id="267" r:id="rId59"/>
    <p:sldId id="268" r:id="rId60"/>
    <p:sldId id="269" r:id="rId61"/>
    <p:sldId id="270" r:id="rId62"/>
    <p:sldId id="271" r:id="rId63"/>
    <p:sldId id="272" r:id="rId64"/>
    <p:sldId id="273" r:id="rId65"/>
    <p:sldId id="274" r:id="rId66"/>
    <p:sldId id="275" r:id="rId67"/>
    <p:sldId id="276" r:id="rId68"/>
    <p:sldId id="277" r:id="rId69"/>
    <p:sldId id="278" r:id="rId70"/>
    <p:sldId id="279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" Target="slides/slide1.xml"/><Relationship Id="rId49" Type="http://schemas.openxmlformats.org/officeDocument/2006/relationships/slide" Target="slides/slide2.xml"/><Relationship Id="rId50" Type="http://schemas.openxmlformats.org/officeDocument/2006/relationships/slide" Target="slides/slide3.xml"/><Relationship Id="rId51" Type="http://schemas.openxmlformats.org/officeDocument/2006/relationships/slide" Target="slides/slide4.xml"/><Relationship Id="rId52" Type="http://schemas.openxmlformats.org/officeDocument/2006/relationships/slide" Target="slides/slide5.xml"/><Relationship Id="rId53" Type="http://schemas.openxmlformats.org/officeDocument/2006/relationships/slide" Target="slides/slide6.xml"/><Relationship Id="rId54" Type="http://schemas.openxmlformats.org/officeDocument/2006/relationships/slide" Target="slides/slide7.xml"/><Relationship Id="rId55" Type="http://schemas.openxmlformats.org/officeDocument/2006/relationships/slide" Target="slides/slide8.xml"/><Relationship Id="rId56" Type="http://schemas.openxmlformats.org/officeDocument/2006/relationships/slide" Target="slides/slide9.xml"/><Relationship Id="rId57" Type="http://schemas.openxmlformats.org/officeDocument/2006/relationships/slide" Target="slides/slide10.xml"/><Relationship Id="rId58" Type="http://schemas.openxmlformats.org/officeDocument/2006/relationships/slide" Target="slides/slide11.xml"/><Relationship Id="rId59" Type="http://schemas.openxmlformats.org/officeDocument/2006/relationships/slide" Target="slides/slide12.xml"/><Relationship Id="rId60" Type="http://schemas.openxmlformats.org/officeDocument/2006/relationships/slide" Target="slides/slide13.xml"/><Relationship Id="rId61" Type="http://schemas.openxmlformats.org/officeDocument/2006/relationships/slide" Target="slides/slide14.xml"/><Relationship Id="rId62" Type="http://schemas.openxmlformats.org/officeDocument/2006/relationships/slide" Target="slides/slide15.xml"/><Relationship Id="rId63" Type="http://schemas.openxmlformats.org/officeDocument/2006/relationships/slide" Target="slides/slide16.xml"/><Relationship Id="rId64" Type="http://schemas.openxmlformats.org/officeDocument/2006/relationships/slide" Target="slides/slide17.xml"/><Relationship Id="rId65" Type="http://schemas.openxmlformats.org/officeDocument/2006/relationships/slide" Target="slides/slide18.xml"/><Relationship Id="rId66" Type="http://schemas.openxmlformats.org/officeDocument/2006/relationships/slide" Target="slides/slide19.xml"/><Relationship Id="rId67" Type="http://schemas.openxmlformats.org/officeDocument/2006/relationships/slide" Target="slides/slide20.xml"/><Relationship Id="rId68" Type="http://schemas.openxmlformats.org/officeDocument/2006/relationships/slide" Target="slides/slide21.xml"/><Relationship Id="rId69" Type="http://schemas.openxmlformats.org/officeDocument/2006/relationships/slide" Target="slides/slide22.xml"/><Relationship Id="rId70" Type="http://schemas.openxmlformats.org/officeDocument/2006/relationships/slide" Target="slides/slide23.xml"/><Relationship Id="rId71" Type="http://schemas.openxmlformats.org/officeDocument/2006/relationships/slide" Target="slides/slide24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EAA-2343-4398-9857-67F5AE64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4E2-B33D-47D9-8296-61AA3F1B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A115E-4315-4A16-A6C2-E46595A6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F7F7A-6D00-4B04-88FF-EE15016D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95F6D-7124-4C7B-BC41-32E473BC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B3BC3-4C69-41C7-BD78-F6BAB53D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2FDC5-7608-4729-BD51-E444E0E3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04222-69B6-499E-BCDF-44BDBAC3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6E33E-C2FF-483D-BDE9-A8B5304B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45BAA-0F8B-4F5D-BE68-7D68FD4E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234FA-8DD8-4EB0-A002-3F502928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1F1CD-A82B-421B-AC5C-53510245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FF9-5E94-4927-9489-8B7BAE60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4DC20-1B7D-43BC-BB43-73823616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9B514-934F-4FC7-85D8-AFCE2B8A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9C4BC-EA9A-4C6B-9144-A461D6A5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DEBCA-054A-4C56-A0A3-39564B44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7DB8F-3D15-49B4-9A51-F949233B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3A366-83A5-4EA2-8A42-F4CC4295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BFA1C-02BE-4090-8CA0-EB33C127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D2625-C308-47B6-9171-477BD804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212CB-CD62-4ED7-BFC1-8FADE93C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622B5-0682-426F-A57B-62BC0D17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6A08-570D-4322-BE7D-2BAB22C1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1C90B-A70F-4A60-AA5C-A03C3FB7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C8EDB-F802-4122-8028-FCDFA331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F7888-A00B-480C-92B1-159AD454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35D1E-4102-4785-96DB-476F6CA6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7F399-2984-46E0-96A5-118AF978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D8383-2409-44E4-8F67-AF96C14F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A7C47-5639-43C5-92DC-2078A747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1D9C1-1CA6-4BCD-8D41-BA65656F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1068F-7C29-470B-8C0A-465C40F6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AE22F-F00C-48D2-A88C-624070AC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441E-D927-47FF-B23D-1E79BFCB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2B2B0-97B1-47BD-BE2A-9E5326B3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1876E-A085-4FA9-98F6-A34FE382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35A99-03B2-4F0A-83C1-184C2E89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EA870-40A8-4B2D-9DF5-5BE492B0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F77BA-97F4-4400-AE31-1398AE46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D19A3-4134-4FA7-8699-2F48411C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9FCE7-9417-4DBA-A020-10F8D8BA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B01BE-3EB8-4BD2-A05D-6B6364C2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D3228-F61B-4C0D-B53A-0BB0F735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3FCAF-02E2-48C9-9489-1CA81C35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7020-3000-4559-82A9-6F6C7D42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F2DFE-9A24-4E8E-8C90-22A4E360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71865-535F-4275-96AB-C60E07F6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1A2FF-7181-4760-BB2F-44724CBA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0553A-0247-40BD-ADCC-4EB30DC2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3A3AF-84E3-4B3B-A12E-ECC67446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32E4B-FB3D-4EA8-89AE-BF9780F6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DE7FE-E157-4372-A5B0-B129FAD0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323B1-92ED-4B8D-9C7F-B44326A6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FDCC8-2096-49A3-A3C1-88E85897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778F9-5DE1-47B5-8044-184E3169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7487-AB60-4D9D-80A8-FD5A4EBE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D5BB3-591F-4BA4-B003-C721E85C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800A3-8772-4D01-AE2D-022814BB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F8E50-4B5E-4B1E-9CB3-C63D9594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48C2C-AAE7-4A03-A47E-3A8C96F3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FFFD4-EC5F-4112-9A0D-4878201F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19EFE-4E1F-42BF-B4AD-84F63C1D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0C8B1-1DB9-4283-A0BB-05FDC18E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E68A50-F8D8-4989-9307-CFC41A80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A64D3-8858-472B-8690-5516D2EE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DB8ED-B0FD-440B-95DE-CD6A2D95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A4FD-0E6C-4E7B-863E-EA48DD60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06D7D-93FB-4063-8AF8-0869A9BC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2B926-93D7-47B9-BA21-0807177F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6BD41-CAF4-43B4-A640-56ECD3CF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50CF8-E822-4B30-8DB4-C0FA836A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C7356C-D339-4561-91AE-6CAEAAAF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0FA52-0F6E-4A1C-84A0-5BDEB6DB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27008-C68E-412F-83AE-26CC1141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B7B78-0542-49BA-9449-F27DEB47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F5B8C-9FA5-40D1-91CB-732A8ACF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3602DB-12FF-41DA-A010-3E246071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53FB-7851-4F74-AB05-0F91E006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8F97A8-FBB0-4F4C-A6B1-498416E2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004DCD-F94B-40BE-9D85-6D146CB9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E8C60-577C-40F7-8C43-8CD6BD50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4D7F9-BD26-4C00-9847-EE520662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7D7E3C-C29E-4C34-A800-5EDC8AF1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11136-F6C5-4B9C-9AA6-DE8724EC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58ECFB-8BB8-4F5A-89AA-7E4A0513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18FFEF-D82D-41F0-9533-3FF6A7C8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E66059-1D33-40D9-9C39-D99C7FDB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9D098-7AED-4E2E-BFA9-2C86EC0A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02DC-02F9-4E59-8C70-728F6D9B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F0F68-80BE-4CC4-AEE8-710583FE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CC5A1C-3F48-4512-8FF6-CB602961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B546F5-56B9-458B-A50B-4162C324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9CF84A-D9B5-446F-87DD-436CF82A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396E51-6AD0-42A9-9DC3-7BAE01E7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2941E2-C2DA-4ADE-B761-4C06AFF6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D4B3EC-45A1-48D7-BED6-4ECAA6C3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35F12B-1449-4FF3-A824-97D2F981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370E73-21B4-4A0E-A794-60C85DDA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526CB-FF19-4C57-ACE5-97CCE47E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05C7-FBB4-4B88-9A4B-F7B2441B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80C3C-A342-4978-9647-1118D4E0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3D3A90-20E5-437E-85B9-AC7D20E1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B3D3D8-8371-41AA-AFDF-E6A73828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DAE514-495C-4FBF-B8CF-C6A80E78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35DC29-6715-4300-898C-F7006D03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EA2751-92A2-4134-896D-8431577C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0C0A58-12FE-4E6F-97DC-C354D4BB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394273-E53F-4AEA-8C08-6337AE5F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819DE-19B3-49CB-93C3-A6D02467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058512-6A2B-4E54-9BEC-B7EE2AE8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17D-BBDA-4779-88DF-2BF01A75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A49D-AEE2-43BA-9D59-1B771E1F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2E8CA2-E070-407C-8FC4-31A13E65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4B02C2-7BCD-46D9-AFA7-FAE1BE86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85DE9C-F2E3-414D-B8BF-5FD30F3B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7597F-CB95-4E96-97AA-75AC1F9C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A4D411-B192-40D3-BC03-586D8591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E16989-DE90-4925-874F-71E764C0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BDD617-DF34-42B8-A8F1-0C243491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A4E64E-5FCA-4ACA-99C2-FE2BB795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98EA82-F963-4159-88FE-5866A84E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5E36AE-EC2B-4B4F-814C-83C11B45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AA54-D94B-47C6-8BCB-001ED195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C348F5-A808-4948-8625-9007D05F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8CF578-CD4E-4E4F-933E-C4A67D63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773396-7D44-4D31-B4A5-BB10BFBE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BF83DB-0575-4E24-A459-6308C432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2DDCD2-0435-445C-A013-DA993503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72A95-9DA9-441C-BB2E-0B678196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70E009-2AE0-4AFD-A510-5B4488D7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110A31-3761-4586-BB71-8148E877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09EE2E-B5D4-4D83-AD42-35F36632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99A936-5586-45A8-872B-668F96A0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5F5F-159F-4A8A-8551-8778A666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48D76B-16B4-4C8E-A952-BEFF2873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3B2754-C64F-49A0-926E-3712E2C1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9C3DB8-731C-4FF0-8529-A6A677CA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BF1FA3-D2E7-4D24-8D74-8ACF7A36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AB8930-C136-4E7F-89D7-279E984C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3B139C-6776-4E4D-AB13-11126447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EFEFC0-2E18-4D7C-B342-7550464E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36C624-6CA7-458B-915E-47DBE10E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C1AAE-C530-4387-9C6F-CA716DDA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9B4B04-FBBE-42B2-A5B6-D57A35E3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F273-82CB-4B35-B697-4F9B440B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5CA370-0458-44D0-BCFB-529E355E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654DF4-F05D-4B53-B9B4-82456BB9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D41C6B-6BF3-496E-9A2B-4FCD429B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1122AF-639F-410C-B2BB-985FDC97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F0012F-B9F4-42F8-AAF9-F46040E2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F4ACBF-10A3-4340-81A4-3CAC0791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F48A00-5961-4E6A-9B62-22731C4C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E178EA-8218-4945-974A-25A24D04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C82220-7CEA-47AD-9795-A7744CB2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A621E2-E2F4-490F-B9CE-54003483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D47A-9AE4-49E4-BEEE-A6963702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30C8DD-8ECF-425B-B26D-BCE07AE9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DA2DF5-0697-4667-8340-042C72F4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CE73F9-0AF5-4B33-ADB5-65211413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FBA927-E157-4D23-8553-99EFEE70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526696-B266-48DC-8696-A73659FE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742F72-A3D1-4F38-9CAB-6EDA9B94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06B92C-A9AB-406F-883C-AF16A878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EBBD90-3298-4622-9FA8-F3FD4A3C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F29ABB-F81E-40E7-8BF5-E9FD9B89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3702DC-F6AC-4384-BEE5-5C547CA9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5E1E2-4470-45BC-8DF4-7D6CBDE6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D0E7FE-2F4E-4830-9681-92529F6F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700BAF-1E15-476E-BF7E-AF7E875A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3DB59E-C0AA-4823-8C3C-E93186EC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5EABCD-A5AE-456C-BCCB-EFB4764E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196DE4-A068-4DE0-A1E0-0B8D7910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4EFBD0-8BAA-4D38-89F1-3573F9AF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2ECF9C-7C6B-4E75-8AC5-9DE17D84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971FA0-9F97-4E9E-BADA-56325FE3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DF3CB6-A888-4AE2-B11A-ABC00315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A541EF-5044-4244-9121-5E8D3AF8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1BC8D-01BA-4386-993E-2AD55222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5EB751-F4BF-4DCE-AD48-37E8B397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11F681-9868-4125-9BE4-12BFC5D6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B8D5EC-C793-4D67-B028-0CB1AFFB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A648EB-82FD-4C18-8595-33B08ABC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2E4656-C700-4F63-976E-92D93ED8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20C5C4-621D-4C6E-ACC9-DBC04EBC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F0C8BB-B342-458E-BB99-0379DBBC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FE64AA-0F34-4DB8-9B59-74EACEC1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896C28-FE23-4468-9600-E915BB70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F4CE5B-25F7-4DFE-AD2E-73804B1A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C28FE-1EAF-4850-94F8-68F49D1D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E7E348-8FE6-447F-8EA9-948B474B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24AF79-20C7-4301-BB6D-E07900A6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B2E0D7-7C0D-4D4D-A0E6-E8136543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7C9698-1BB5-4FA2-8581-96CC7D08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43A7E5-4971-44AF-827D-7E41FEE2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6AD58B-3C8C-437F-B055-B34C16E3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682C56-F20F-48B1-B62F-7604B09F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342D98-DF96-4382-BE01-96AF9F50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F2B129-C52F-41FF-B99F-97920D64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FF836A-00BA-4D70-B67E-57774F7C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2B21-619D-4814-85E3-6B62BEB9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753060-9826-4572-BA55-3D6315A7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01064A-1335-44A1-8A9D-489F9F8B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92D175-3E6D-4E4A-BE88-AB42B83C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DC44DE-6969-4CAD-ACD3-1B37393D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ADB918-A291-468C-8440-A0451262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582DC2-ACFF-4CDB-9CFE-79447CFB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E369CE-213F-41E0-9712-86FD5655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4C3CC1-D658-44D7-9876-106BBE2B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D3CCDB-BC4F-46BB-B49E-139FF000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9E5D50-96B8-4D1A-950D-608815C8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DE59-4B35-47A1-A27E-323A5F3C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81F49C-A9C7-4DE1-A201-48C87576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E5808E-C75A-433F-B641-741D3B60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C2AAE1-97B8-4C7D-AF7F-8E02758A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AA028E-CCEF-4B31-BA9D-A95E8E16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ED75C6-0481-448F-A7DE-74FF1721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146AF3-5215-42A4-BCE0-30CD29AC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4F040D-6775-4B25-8398-2A1E7A21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DCEBE1-2F80-4E5B-B13C-017D2582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68485F-E44B-45EE-8852-1CFA4851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38C299-4AE0-41DD-AB9E-8A6587BB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E54-1B89-4CBA-9452-EAE7A6BE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C583C-DBC9-4477-9298-65C92583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905D28-12BA-4D63-A156-EE12726F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6B2868-4B5B-4D17-AE97-1E92E71A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BFB32A-7909-4914-BA7E-013E0AD1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E1F098-03C0-40B9-B70E-152A0716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1930B1-E23F-453D-9693-33190115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D6F706-B802-4D90-962E-71E311BA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CBBD0B-6227-4E6B-B338-0B835C5B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0B30AC-4CA6-4876-B01F-8FAF17BE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0AA981-6E16-47E7-B1D6-89289483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BCCF5B-E079-4FDF-A5AC-F4ECED25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53F5C-21E3-41AC-967B-21BD9DEF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40206B-DD0E-4BC7-BC03-4C43857C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F00FC8-3B4A-4EA3-9EC0-81AC67E5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43A125-F84D-4C9E-9D40-99902907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888836-91F6-4656-869B-170C67EC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959FB2-0888-4208-99C3-9AC4646B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92D5AD-46F8-49BD-9B23-1B86F55F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5F0EB1-0AD8-47D2-9999-0318D40A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427236-342A-4E9F-8AAE-272CF674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F04E1D-B10E-4C01-860B-C0E151CF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A0DF01-7577-41F5-AA39-46E5C1D2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60AA9-CCD6-40C2-B1A4-B9890E66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49BEA5-9E92-4F48-9B6F-A30B412F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B866E3-9C27-447E-A61E-6FDD98C1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D6F240-C222-4AE0-A85D-117AF041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F962D6-4C2E-45E9-BCCD-CABA8640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D668FF-5556-4C08-A926-B2C2FBC7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E371E9-B6C6-4147-85A2-69AE276E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8BF586-9638-45D4-B24E-18DFB11A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D8C0FD-BFF9-43A5-A42F-70AC557D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6372CD-0657-441B-A8F4-250AAE28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089051-0B50-4EC1-B091-5FE326C5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46763-08EB-453A-BA2C-BDC3CBCE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55D5DB-1D1A-4251-9532-44A5E8B7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7A090C-C140-470D-855B-9260CD9C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DBC20E-22DD-4334-81E6-4E3B7CAF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9735C2-36E4-49B5-9332-6E404B89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911977-5B12-46CB-91D6-4CEF9DC6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62F7ED-4F01-4399-BD6C-B23713D1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B8B731-2CE9-4A27-BE84-517203FA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124ACF-51B3-4E01-A6D0-A95D0C1C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BC51B8-7590-4018-B395-C8D84E60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B6C405-C472-4307-B3EA-0EFE8BCF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65E5B-30A7-4D53-A3C1-7454E422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065A08-774A-43DE-BFC3-878186DA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4F22CE-0BD7-437C-82B2-00A153EC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907E4D-D156-442C-9A90-452261B4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8A097E-03B8-48FF-AD74-A1ECE6CE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2D7130-F1CE-462B-A02E-653F8312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86DDC0-5733-4249-A850-3B77A68A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D10FCC-518B-482B-8151-C7E324DD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4FC3F3-C443-42EF-A447-F677DE4B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717FF4-A0A6-4BC7-AED8-0CCD7138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F3FECF-E1E8-4E31-A80A-AA7FF235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481EB-3447-48CC-9ADD-F1442074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513E06-1438-41A2-BCF1-03124639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2F61EF-364D-4325-9A5A-A3FCD825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434FA6-3F51-4E8F-98B5-1DFAC92B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A0F6F9-AD3B-4108-AFC7-DEDE10DF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5E96EC-CCD6-4FE8-94CC-48AB3992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B7D8C7-E904-46E7-936D-550CD30C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346A68-EB41-4596-A69F-86B4926E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DC71D4-C6C4-47C8-AC1F-DE7F84D9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308826-2478-4431-A864-5747CC0D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C269E0-4C1C-482A-9E06-CCAC9146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7C834-007F-4E4F-BF0C-50D65474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42B1B9-A0BD-4845-9EE6-36EB988C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A87434-6ECF-4CC5-85C4-3A48C8F0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2463A7-8B85-43A4-863A-ACD16101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B080F6-AA99-4210-9E4A-9C019F46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AEB7F3-962D-4DD3-BF30-690859F3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DDB362-F0FD-467A-94AB-1A652DAE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B6D424-9A0D-4444-8EC4-665311D7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692953-E358-4EC3-8D32-D6A5CDB6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92EEA7-F02E-4C26-9C29-3722A742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684928-A9F2-4732-B322-2BF230BB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4A93A-6BA7-4446-B767-9981EBD1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0D132F-ACC8-4E72-B278-8194A632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C31472-73AA-417D-A5B4-6583E443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17836F-9632-43B2-8BB7-DF74DCFE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A25997-2987-4EA0-802C-9C0558DB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42F66F-C23D-4710-AFBD-E8EC48B8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80488D-B183-41D4-A29A-022DEF8A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31DB2F-4960-41DC-9421-9D8278AB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9859DA-CE78-4CB4-B09E-6971C90D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678437-89C9-44F8-81DA-4550AB9E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22DD80-F013-4C3C-BD82-621194CE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312F0-1C6C-4DF0-8A92-0EE40D72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0D517E-F9C4-4A68-A4AC-1D73EBF0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BA6BA3-29FE-4672-A4B0-3F644404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641C8E-31E5-4FD6-B157-077013A3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4E6769-4782-47E5-BC21-84177025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9515F6-2D19-46D1-8A3C-FD515028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2FA9D4-793C-45A4-929B-0409048A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7180B6-205A-4BA0-AEA5-E8B502B8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85516A-727D-41B7-9B19-A0EC5C89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05E1B5-FEF1-42DF-AA33-6E4C96ED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BE2082-90E5-4985-8DE5-1E014C36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360D6-0386-408C-9A19-E2C0076C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988197-F9F0-4A8A-AE7C-941DA107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C3ABF1-3FAF-417F-A3DC-F7AF8BBA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2B97841-1DAA-4710-B1A3-0DA0B7DA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51EF27-626B-432D-B976-0D57BD50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F140F6-86C7-4A48-9DC0-AC8B9251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304359-39CD-4FF4-A6A8-B9C01625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A899D7-9AAF-45D1-850E-021C8224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40D0D8-C47A-4376-9210-475232A5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02DC9E-FFEB-4081-9D47-CC28FCBB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728E7C-2CEF-40C5-8C4D-FF202AE3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6AE-76CB-4738-8F37-FF0AD045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A28A7-6C15-4859-BF92-7426E3B0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776227-7DF1-400D-A100-08B111DB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6913ED-198C-49DF-A5EF-66ECA6F0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FBC364-4FD2-4FC8-A8FB-0E6E5F5B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9D2B7E-2850-4F7E-A1DD-810CFA3D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EF9B6D-A8FD-4A79-BD1B-D667C6EC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4BF623-D4F2-413D-AB13-6A4CBF52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8BB054-4BF4-44B4-9D6C-E6B5C918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8103FA-E825-4C27-80DC-5007D883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6AE0B4-B5B0-41D0-BD6E-096DA953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73816FE-B181-4510-8570-CC4267A9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AA832-DD93-4B43-BB15-F93482B2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35176E-0C87-4EDF-BF15-DBB18153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B4ADF7-D61D-434B-A877-425AB951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1C781E-8751-4B65-8005-95832F10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A45912-4FBB-4E4F-BEE2-3A57C37B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5A93E81-5527-4658-9F54-FFC70708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F19B92-29AB-48BF-8072-85F1BB46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22DCB2-AA2D-4D12-9EA3-3E5CF582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840A66-19A7-4C9C-81EA-E84A691F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1601F3-88DB-49C6-BCBA-47F38262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F62363-A730-4799-AFD5-01227D62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B5753-D70A-4B6A-A92C-0918D196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134EB2-8663-4798-B69D-EED874FB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0BCCD9-EFDE-4842-AB03-50908DDE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847EB06-A85A-4F84-8F36-F53DA477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C1A9E7-8845-467C-B091-5AD8C59E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FDBF82-105A-4ED1-BFA3-AF67FDB1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18B4862-CEFB-4C31-8A22-2779D0A7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801403-71E5-411C-84D0-BC7C0E85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C84958-CCEC-482E-B936-F56C7895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DB83DE-7CB8-475B-A78D-CF01B97B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3F68E2-357D-4209-A940-1B0C90E6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B80CB-7CDC-471E-905B-033A5F4A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52473F-6A2F-433A-BBEF-8BD0155E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E0D348-104A-4B24-9C5D-4E539A76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E7F26B-2F92-408A-8D38-8E915748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85B24F-A6AD-461F-800E-1F6B3CED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42CCE1-C355-47CE-93FC-6443CA63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48581D-39D4-4852-B9EC-73E26CE7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DF6411-4076-4EC2-A3BB-D0933A75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D500F69-B985-439D-B17C-371A52B6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54AC19-CA56-4BFB-9D16-A80726B2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E7A7176-B2B5-4BDC-8C94-1AE7F4E2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AC9F4-F3CC-48E9-8225-AA1D4EE0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A7C5688-CBC9-40A8-9417-99E05604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966A875-F99E-4768-9703-1766F714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307D20-985D-4055-8187-11A1C243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9376870-CBFF-414F-9D24-942A2AC1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5FE6A29-B71A-4A14-AFA5-DF407C2F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0ED03A5-62C4-4881-BD99-83034611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474A786-DBC4-4D1B-BDF6-49379CE3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6D2460-78E7-4EEC-8450-F1CB2461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00F0AF-5FB3-4EB4-B0FB-68A35B84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B69792E-5386-4D60-926A-F5EDFDE2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F85F1-5E0C-452E-A6E8-607E8264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CF665E-E10F-4B7B-9AB0-A117CA6A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319EA28-52B5-4B35-82E9-2EEFDB41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C7A0821-AE9D-4F7F-A780-E69C7E2D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50F8644-C29C-4F40-A0F6-D97FC992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D412FE2-F26F-4243-A935-EF5ED30A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2804A34-938A-48DB-B797-667BA28B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D0E3BE9-7EFA-4A3C-A554-FB05F8B4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510E644-C2B2-47A5-97E3-8C5FB279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845DF03-6857-41E4-AB1F-8CB1609A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AE1C937-C6C7-4DEC-B8F9-0B8D1253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5EEC1-965A-41AA-8087-B009ABAF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B78ED7-1E84-4150-B576-4D7595FA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4DB5E75-1DA2-4A3D-8A28-B6F6F5CA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BD48C8F-37B5-4D89-881B-C5FAF6B7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386D502-B1BF-4299-AC05-192BC9E9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9367980-3F06-4197-806E-8068145E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67B4A6-D132-42F7-B32D-4D7F4589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65B2F74-4CB9-4D6D-91BB-B9058724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240151-313A-41A8-8740-775E9F5F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D790917-318A-41CD-9B7E-758C38CC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7FB9A7B-97EA-4BF0-99B0-7E8A7149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97938-C5ED-454D-B218-E9E5F072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FC6BBD-035F-4D30-80B3-4B48CF9E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D96ABE9-E179-4936-AD95-879BC276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28A5896-2884-46E5-83DF-4FA37458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D4A0EB2-7D70-45E4-9A7E-CEDF1077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8DFB66F-132D-446E-80F8-47FABB9F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21B001A-498C-40DE-918E-94CECD74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0719DBE-07E1-4037-85A1-FAB5DA74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3FC1911-72A2-4214-B57D-D71FAFD1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AB2FD46-98EE-48F6-8365-21E3B9EB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2BDD2AA-46FA-42D9-A19D-9B714C05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5C050-1945-4262-A776-E18F08C4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10B40FE-506C-43EB-8ED7-8C0E7DA8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178BC7C-98E3-4D9C-B8D6-06C565AF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0BD6448-DC1E-4EA4-A829-474D9C54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23D0270-7DE1-42AF-9ECD-DB54C68A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4286956-E71B-4C74-9CF6-0DDFF4A6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3A185E-3CC9-4817-B4C5-4FD20A45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F81F55C-99DE-485A-9BFF-A805B2A7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9D09B50-CD00-4A1C-A11D-5164FE50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2786E53-0AC5-479D-8316-8A4ACF4D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9D87279-A7AA-49C2-8B45-739477AD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EB3E4-4F11-44FB-BEDB-E81A6CC5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79F6A44-899C-4E93-AC9E-96ACB1F8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B80B61-BE93-4347-B698-88742681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57DCAD3-BEA7-48C5-A695-E3DB8442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8C62B84-AC6F-4361-B144-9A02A979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2711284-824C-4AF7-AC63-55AF028D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F7B8006-1F44-4AAE-BD94-AB5B3E32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965ECFC-06DA-49AE-9167-F6A8B5A3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19C3ED-A5A2-4792-A152-85673490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F65972E-001F-4A56-A8F1-D106EC21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203F4D6-1184-4455-ADD5-FCF07157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119-7CF7-431C-BF46-7C5C1D0D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56D39-ABF6-4F19-800F-C356E351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B4F853A-7BFE-437B-871F-9DA17748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49EBBCE-8712-4315-9F7B-1B79F8FD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1CAB6E2-A1C6-41E5-97FB-39EEA9E2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E88F05B-97EA-47A8-9F47-B7E0FC94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7BD2AE0-FBCC-4E53-881F-A587C4A1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AA424A7-CE95-4FF3-849F-C8D319C4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8ECEE99-ADD9-42F6-AF67-63223419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1C5A359-393C-4652-8CEC-38186E47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2AE1667-A40B-41ED-A51F-742E06E1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9244F2A-E9F0-413A-8220-B346ED21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861A4-2F29-4554-9100-4F18F595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31C706B-F664-4DD0-9C75-D8C6CE65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48497BA-98B1-44F0-8E1E-5474B6D3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FC1848D-D6CF-41F2-BF00-CD912D94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D70FB73-617C-4421-81FE-73F1F238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4684609-7429-4E02-A46B-291C2D2E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55D1AF4-5254-40D3-AB85-11CE04CB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86D0E31-B9ED-4B58-B3EC-2A4DD5B1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F3354DC-A05E-4A00-9511-B81DE13D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E4643CB-AB36-43F3-9638-B501CEF3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863D4A6-A2F0-41FC-9ECE-E93EF639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D6254-1589-417D-802C-266637CD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B8076C7-DCD5-4EB9-B625-878CCEFB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7B02663-A5D2-4726-9B23-A2E022F4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57EE535-44B4-447E-BBA8-D5C3C201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DC85AEA-259F-4786-BBEF-59360EEB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3AAABD4-E791-490D-B875-590B6BCB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965686A-D327-46D7-BBE1-64DCDA17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6D7532F-5C22-4C70-BB92-BE49BA86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A226605-8DD6-4D1D-A23D-657156B5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B994F05-90F7-4AB8-BA01-CB6187F3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FFE464D-24A3-4C32-9F0A-35D25914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B415C-BBD1-4BDA-8D4A-31F48FCE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A0FDB7-4ED8-4973-8CEC-CE80EFD4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BC1C936-83A2-44F3-81BE-6744D3B2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7946094-BC15-4184-A38D-D62E7AB4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41D1425-1278-4008-957D-BBA2E0CD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220216F-263C-47A2-90EB-51934F5E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418F7E0-CC4C-41C1-AF75-3C80CFAD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C47B4D1-5D11-465B-A84A-B21C1E22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26C1111-7359-48F7-B71D-5208F670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3A906A8-BECA-4C30-B817-477B97CF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E7948DF-0491-4DAB-A55F-BFDD1877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2B6E1-8E5D-4AC4-9841-3CD84C6B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7D15607-8D39-4C61-863B-0994CB79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06E8599-2F44-4500-B14B-4D9DBDAC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1ABC699-23E6-4C68-BF3A-0E2F81B6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E16B6DC-219F-4926-BFF5-9CD9C8DA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94E3A5C-553E-4E73-AB26-083A5880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C7E608C-40C8-453C-835D-192CC92D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EA591A6-0203-41FC-91A8-07EEE766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910FF0E-9700-4002-8EFA-768A3C0E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E5CD68B-22AA-4822-AD09-720CAFFA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CCFB12D-7860-4495-BB38-E58D4FFD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88947-D635-43ED-BDA7-590EC58E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BB4B58D-9D61-4739-A580-A9259249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48DFC83-9367-4A6B-92A7-44E80C93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06EC0AE-6BF4-4460-BDA8-970FD293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57CC5-0DDD-4C91-9F35-8177B462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0C838-8D1C-412C-B0C8-BC1B146E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9128D-0656-4BD3-BD25-73E72C1D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EDB18-20ED-407D-9038-58D48BD9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18B-45D6-4F55-A0B7-E8A7B0EB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816BA-7E35-4C6B-8254-ED65393B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71581-8639-4D19-BAD7-E6A5367D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692F2-9451-4D14-8DD7-DF5057B1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13556-46D7-410B-AA3B-4DBFEF62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6B870-CEEA-4922-88D4-016A44F1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477E8-B0A0-4339-8D7E-7CF8D437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1DD6B-9C84-4A61-8F8B-D22B83FA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9AC22-142D-49D5-8537-00AD742F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63182-B8BD-4D55-A976-9F2A6F42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E3004-BF7A-4666-9686-B4EF64D9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355-153A-424F-8BEF-9F2E4925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A3BE9-9115-4055-93F0-8B6A7C09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D7625-A79E-4F9A-A89B-941E1EB3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5CE38-FED6-422C-AA00-043D8D36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8B390-77C2-4592-B4B7-94F6DB4A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2E80F-668B-456D-B0E2-D208BE83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AF6BF-ED57-413E-8236-88A35D08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8F1B5-8C92-43C8-AD47-AC83864A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A2470-6F92-4608-959C-32885422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CCCC2-C4C6-4B30-9B84-ACBCF191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307AF-9F5F-4F4C-ADBF-2910122E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668-9E25-4B87-8B45-02FD8F0B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A438B-2FB5-4FD5-ACFC-1CE3D558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A89EB-6D83-45F8-AE1C-FC9A7AA3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0EB03-18DD-4527-8B4B-AF458A82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39F25-F227-4C7B-AB83-A7FB8818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431A7-F5DF-4200-87A4-650B825F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5839B-D526-4531-887A-74505F24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C561F-7B18-4306-B3E5-C7015567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2DC28-0541-4B77-B0F6-E5D864D5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F7B11-02A7-4965-BBAF-96F3BD9D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D3638-78CF-4DF3-9A41-D95533F6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E61-9D53-4EDD-9267-A382BCE8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985680" y="274320"/>
            <a:ext cx="7715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06006-3F32-4708-8253-36D11DB1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A6BC6-3FD3-4BA9-B701-4CF60FFF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BB49B-03E7-4C3E-AC42-ADDEB73C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10B4D-0F97-40A6-837C-7E079DF3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769680" y="3943440"/>
            <a:ext cx="7931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149C0-DF19-4EA1-9FC9-DCE93F37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34080" y="167112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96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834080" y="3943440"/>
            <a:ext cx="387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4E0C2-8EB3-4B86-A294-7AE915FC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45132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32600" y="167112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6968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45132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32600" y="3943440"/>
            <a:ext cx="255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AC2CA-D36C-4A28-8B73-D3DA8FA4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549C5-BCC8-497E-B135-6108A98B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638C5-68D0-4887-8EE4-750BFF6D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03AD4-88AE-4D64-B73F-EAC06361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69.xml"/><Relationship Id="rId10" Type="http://schemas.openxmlformats.org/officeDocument/2006/relationships/slideLayout" Target="../slideLayouts/slideLayout170.xml"/><Relationship Id="rId11" Type="http://schemas.openxmlformats.org/officeDocument/2006/relationships/slideLayout" Target="../slideLayouts/slideLayout171.xml"/><Relationship Id="rId12" Type="http://schemas.openxmlformats.org/officeDocument/2006/relationships/slideLayout" Target="../slideLayouts/slideLayout172.xml"/><Relationship Id="rId13" Type="http://schemas.openxmlformats.org/officeDocument/2006/relationships/slideLayout" Target="../slideLayouts/slideLayout173.xml"/><Relationship Id="rId14" Type="http://schemas.openxmlformats.org/officeDocument/2006/relationships/slideLayout" Target="../slideLayouts/slideLayout174.xml"/><Relationship Id="rId15" Type="http://schemas.openxmlformats.org/officeDocument/2006/relationships/slideLayout" Target="../slideLayouts/slideLayout175.xml"/><Relationship Id="rId16" Type="http://schemas.openxmlformats.org/officeDocument/2006/relationships/slideLayout" Target="../slideLayouts/slideLayout176.xml"/><Relationship Id="rId17" Type="http://schemas.openxmlformats.org/officeDocument/2006/relationships/slideLayout" Target="../slideLayouts/slideLayout177.xml"/><Relationship Id="rId18" Type="http://schemas.openxmlformats.org/officeDocument/2006/relationships/slideLayout" Target="../slideLayouts/slideLayout178.xml"/><Relationship Id="rId19" Type="http://schemas.openxmlformats.org/officeDocument/2006/relationships/slideLayout" Target="../slideLayouts/slideLayout179.xml"/><Relationship Id="rId20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81.xml"/><Relationship Id="rId10" Type="http://schemas.openxmlformats.org/officeDocument/2006/relationships/slideLayout" Target="../slideLayouts/slideLayout182.xml"/><Relationship Id="rId11" Type="http://schemas.openxmlformats.org/officeDocument/2006/relationships/slideLayout" Target="../slideLayouts/slideLayout183.xml"/><Relationship Id="rId12" Type="http://schemas.openxmlformats.org/officeDocument/2006/relationships/slideLayout" Target="../slideLayouts/slideLayout184.xml"/><Relationship Id="rId13" Type="http://schemas.openxmlformats.org/officeDocument/2006/relationships/slideLayout" Target="../slideLayouts/slideLayout185.xml"/><Relationship Id="rId14" Type="http://schemas.openxmlformats.org/officeDocument/2006/relationships/slideLayout" Target="../slideLayouts/slideLayout186.xml"/><Relationship Id="rId15" Type="http://schemas.openxmlformats.org/officeDocument/2006/relationships/slideLayout" Target="../slideLayouts/slideLayout187.xml"/><Relationship Id="rId16" Type="http://schemas.openxmlformats.org/officeDocument/2006/relationships/slideLayout" Target="../slideLayouts/slideLayout188.xml"/><Relationship Id="rId17" Type="http://schemas.openxmlformats.org/officeDocument/2006/relationships/slideLayout" Target="../slideLayouts/slideLayout189.xml"/><Relationship Id="rId18" Type="http://schemas.openxmlformats.org/officeDocument/2006/relationships/slideLayout" Target="../slideLayouts/slideLayout190.xml"/><Relationship Id="rId19" Type="http://schemas.openxmlformats.org/officeDocument/2006/relationships/slideLayout" Target="../slideLayouts/slideLayout191.xml"/><Relationship Id="rId20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93.xml"/><Relationship Id="rId10" Type="http://schemas.openxmlformats.org/officeDocument/2006/relationships/slideLayout" Target="../slideLayouts/slideLayout194.xml"/><Relationship Id="rId11" Type="http://schemas.openxmlformats.org/officeDocument/2006/relationships/slideLayout" Target="../slideLayouts/slideLayout195.xml"/><Relationship Id="rId12" Type="http://schemas.openxmlformats.org/officeDocument/2006/relationships/slideLayout" Target="../slideLayouts/slideLayout196.xml"/><Relationship Id="rId13" Type="http://schemas.openxmlformats.org/officeDocument/2006/relationships/slideLayout" Target="../slideLayouts/slideLayout197.xml"/><Relationship Id="rId14" Type="http://schemas.openxmlformats.org/officeDocument/2006/relationships/slideLayout" Target="../slideLayouts/slideLayout198.xml"/><Relationship Id="rId15" Type="http://schemas.openxmlformats.org/officeDocument/2006/relationships/slideLayout" Target="../slideLayouts/slideLayout199.xml"/><Relationship Id="rId16" Type="http://schemas.openxmlformats.org/officeDocument/2006/relationships/slideLayout" Target="../slideLayouts/slideLayout200.xml"/><Relationship Id="rId17" Type="http://schemas.openxmlformats.org/officeDocument/2006/relationships/slideLayout" Target="../slideLayouts/slideLayout201.xml"/><Relationship Id="rId18" Type="http://schemas.openxmlformats.org/officeDocument/2006/relationships/slideLayout" Target="../slideLayouts/slideLayout202.xml"/><Relationship Id="rId19" Type="http://schemas.openxmlformats.org/officeDocument/2006/relationships/slideLayout" Target="../slideLayouts/slideLayout203.xml"/><Relationship Id="rId20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05.xml"/><Relationship Id="rId10" Type="http://schemas.openxmlformats.org/officeDocument/2006/relationships/slideLayout" Target="../slideLayouts/slideLayout206.xml"/><Relationship Id="rId11" Type="http://schemas.openxmlformats.org/officeDocument/2006/relationships/slideLayout" Target="../slideLayouts/slideLayout207.xml"/><Relationship Id="rId12" Type="http://schemas.openxmlformats.org/officeDocument/2006/relationships/slideLayout" Target="../slideLayouts/slideLayout208.xml"/><Relationship Id="rId13" Type="http://schemas.openxmlformats.org/officeDocument/2006/relationships/slideLayout" Target="../slideLayouts/slideLayout209.xml"/><Relationship Id="rId14" Type="http://schemas.openxmlformats.org/officeDocument/2006/relationships/slideLayout" Target="../slideLayouts/slideLayout210.xml"/><Relationship Id="rId15" Type="http://schemas.openxmlformats.org/officeDocument/2006/relationships/slideLayout" Target="../slideLayouts/slideLayout211.xml"/><Relationship Id="rId16" Type="http://schemas.openxmlformats.org/officeDocument/2006/relationships/slideLayout" Target="../slideLayouts/slideLayout212.xml"/><Relationship Id="rId17" Type="http://schemas.openxmlformats.org/officeDocument/2006/relationships/slideLayout" Target="../slideLayouts/slideLayout213.xml"/><Relationship Id="rId18" Type="http://schemas.openxmlformats.org/officeDocument/2006/relationships/slideLayout" Target="../slideLayouts/slideLayout214.xml"/><Relationship Id="rId19" Type="http://schemas.openxmlformats.org/officeDocument/2006/relationships/slideLayout" Target="../slideLayouts/slideLayout215.xml"/><Relationship Id="rId20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17.xml"/><Relationship Id="rId10" Type="http://schemas.openxmlformats.org/officeDocument/2006/relationships/slideLayout" Target="../slideLayouts/slideLayout218.xml"/><Relationship Id="rId11" Type="http://schemas.openxmlformats.org/officeDocument/2006/relationships/slideLayout" Target="../slideLayouts/slideLayout219.xml"/><Relationship Id="rId12" Type="http://schemas.openxmlformats.org/officeDocument/2006/relationships/slideLayout" Target="../slideLayouts/slideLayout220.xml"/><Relationship Id="rId13" Type="http://schemas.openxmlformats.org/officeDocument/2006/relationships/slideLayout" Target="../slideLayouts/slideLayout221.xml"/><Relationship Id="rId14" Type="http://schemas.openxmlformats.org/officeDocument/2006/relationships/slideLayout" Target="../slideLayouts/slideLayout222.xml"/><Relationship Id="rId15" Type="http://schemas.openxmlformats.org/officeDocument/2006/relationships/slideLayout" Target="../slideLayouts/slideLayout223.xml"/><Relationship Id="rId16" Type="http://schemas.openxmlformats.org/officeDocument/2006/relationships/slideLayout" Target="../slideLayouts/slideLayout224.xml"/><Relationship Id="rId17" Type="http://schemas.openxmlformats.org/officeDocument/2006/relationships/slideLayout" Target="../slideLayouts/slideLayout225.xml"/><Relationship Id="rId18" Type="http://schemas.openxmlformats.org/officeDocument/2006/relationships/slideLayout" Target="../slideLayouts/slideLayout226.xml"/><Relationship Id="rId19" Type="http://schemas.openxmlformats.org/officeDocument/2006/relationships/slideLayout" Target="../slideLayouts/slideLayout227.xml"/><Relationship Id="rId20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29.xml"/><Relationship Id="rId10" Type="http://schemas.openxmlformats.org/officeDocument/2006/relationships/slideLayout" Target="../slideLayouts/slideLayout230.xml"/><Relationship Id="rId11" Type="http://schemas.openxmlformats.org/officeDocument/2006/relationships/slideLayout" Target="../slideLayouts/slideLayout231.xml"/><Relationship Id="rId12" Type="http://schemas.openxmlformats.org/officeDocument/2006/relationships/slideLayout" Target="../slideLayouts/slideLayout232.xml"/><Relationship Id="rId13" Type="http://schemas.openxmlformats.org/officeDocument/2006/relationships/slideLayout" Target="../slideLayouts/slideLayout233.xml"/><Relationship Id="rId14" Type="http://schemas.openxmlformats.org/officeDocument/2006/relationships/slideLayout" Target="../slideLayouts/slideLayout234.xml"/><Relationship Id="rId15" Type="http://schemas.openxmlformats.org/officeDocument/2006/relationships/slideLayout" Target="../slideLayouts/slideLayout235.xml"/><Relationship Id="rId16" Type="http://schemas.openxmlformats.org/officeDocument/2006/relationships/slideLayout" Target="../slideLayouts/slideLayout236.xml"/><Relationship Id="rId17" Type="http://schemas.openxmlformats.org/officeDocument/2006/relationships/slideLayout" Target="../slideLayouts/slideLayout237.xml"/><Relationship Id="rId18" Type="http://schemas.openxmlformats.org/officeDocument/2006/relationships/slideLayout" Target="../slideLayouts/slideLayout238.xml"/><Relationship Id="rId19" Type="http://schemas.openxmlformats.org/officeDocument/2006/relationships/slideLayout" Target="../slideLayouts/slideLayout239.xml"/><Relationship Id="rId20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41.xml"/><Relationship Id="rId10" Type="http://schemas.openxmlformats.org/officeDocument/2006/relationships/slideLayout" Target="../slideLayouts/slideLayout242.xml"/><Relationship Id="rId11" Type="http://schemas.openxmlformats.org/officeDocument/2006/relationships/slideLayout" Target="../slideLayouts/slideLayout243.xml"/><Relationship Id="rId12" Type="http://schemas.openxmlformats.org/officeDocument/2006/relationships/slideLayout" Target="../slideLayouts/slideLayout244.xml"/><Relationship Id="rId13" Type="http://schemas.openxmlformats.org/officeDocument/2006/relationships/slideLayout" Target="../slideLayouts/slideLayout245.xml"/><Relationship Id="rId14" Type="http://schemas.openxmlformats.org/officeDocument/2006/relationships/slideLayout" Target="../slideLayouts/slideLayout246.xml"/><Relationship Id="rId15" Type="http://schemas.openxmlformats.org/officeDocument/2006/relationships/slideLayout" Target="../slideLayouts/slideLayout247.xml"/><Relationship Id="rId16" Type="http://schemas.openxmlformats.org/officeDocument/2006/relationships/slideLayout" Target="../slideLayouts/slideLayout248.xml"/><Relationship Id="rId17" Type="http://schemas.openxmlformats.org/officeDocument/2006/relationships/slideLayout" Target="../slideLayouts/slideLayout249.xml"/><Relationship Id="rId18" Type="http://schemas.openxmlformats.org/officeDocument/2006/relationships/slideLayout" Target="../slideLayouts/slideLayout250.xml"/><Relationship Id="rId19" Type="http://schemas.openxmlformats.org/officeDocument/2006/relationships/slideLayout" Target="../slideLayouts/slideLayout251.xml"/><Relationship Id="rId20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3.xml"/><Relationship Id="rId10" Type="http://schemas.openxmlformats.org/officeDocument/2006/relationships/slideLayout" Target="../slideLayouts/slideLayout254.xml"/><Relationship Id="rId11" Type="http://schemas.openxmlformats.org/officeDocument/2006/relationships/slideLayout" Target="../slideLayouts/slideLayout255.xml"/><Relationship Id="rId12" Type="http://schemas.openxmlformats.org/officeDocument/2006/relationships/slideLayout" Target="../slideLayouts/slideLayout256.xml"/><Relationship Id="rId13" Type="http://schemas.openxmlformats.org/officeDocument/2006/relationships/slideLayout" Target="../slideLayouts/slideLayout257.xml"/><Relationship Id="rId14" Type="http://schemas.openxmlformats.org/officeDocument/2006/relationships/slideLayout" Target="../slideLayouts/slideLayout258.xml"/><Relationship Id="rId15" Type="http://schemas.openxmlformats.org/officeDocument/2006/relationships/slideLayout" Target="../slideLayouts/slideLayout259.xml"/><Relationship Id="rId16" Type="http://schemas.openxmlformats.org/officeDocument/2006/relationships/slideLayout" Target="../slideLayouts/slideLayout260.xml"/><Relationship Id="rId17" Type="http://schemas.openxmlformats.org/officeDocument/2006/relationships/slideLayout" Target="../slideLayouts/slideLayout261.xml"/><Relationship Id="rId18" Type="http://schemas.openxmlformats.org/officeDocument/2006/relationships/slideLayout" Target="../slideLayouts/slideLayout262.xml"/><Relationship Id="rId19" Type="http://schemas.openxmlformats.org/officeDocument/2006/relationships/slideLayout" Target="../slideLayouts/slideLayout263.xml"/><Relationship Id="rId20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65.xml"/><Relationship Id="rId10" Type="http://schemas.openxmlformats.org/officeDocument/2006/relationships/slideLayout" Target="../slideLayouts/slideLayout266.xml"/><Relationship Id="rId11" Type="http://schemas.openxmlformats.org/officeDocument/2006/relationships/slideLayout" Target="../slideLayouts/slideLayout267.xml"/><Relationship Id="rId12" Type="http://schemas.openxmlformats.org/officeDocument/2006/relationships/slideLayout" Target="../slideLayouts/slideLayout268.xml"/><Relationship Id="rId13" Type="http://schemas.openxmlformats.org/officeDocument/2006/relationships/slideLayout" Target="../slideLayouts/slideLayout269.xml"/><Relationship Id="rId14" Type="http://schemas.openxmlformats.org/officeDocument/2006/relationships/slideLayout" Target="../slideLayouts/slideLayout270.xml"/><Relationship Id="rId15" Type="http://schemas.openxmlformats.org/officeDocument/2006/relationships/slideLayout" Target="../slideLayouts/slideLayout271.xml"/><Relationship Id="rId16" Type="http://schemas.openxmlformats.org/officeDocument/2006/relationships/slideLayout" Target="../slideLayouts/slideLayout272.xml"/><Relationship Id="rId17" Type="http://schemas.openxmlformats.org/officeDocument/2006/relationships/slideLayout" Target="../slideLayouts/slideLayout273.xml"/><Relationship Id="rId18" Type="http://schemas.openxmlformats.org/officeDocument/2006/relationships/slideLayout" Target="../slideLayouts/slideLayout274.xml"/><Relationship Id="rId19" Type="http://schemas.openxmlformats.org/officeDocument/2006/relationships/slideLayout" Target="../slideLayouts/slideLayout275.xml"/><Relationship Id="rId20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77.xml"/><Relationship Id="rId10" Type="http://schemas.openxmlformats.org/officeDocument/2006/relationships/slideLayout" Target="../slideLayouts/slideLayout278.xml"/><Relationship Id="rId11" Type="http://schemas.openxmlformats.org/officeDocument/2006/relationships/slideLayout" Target="../slideLayouts/slideLayout279.xml"/><Relationship Id="rId12" Type="http://schemas.openxmlformats.org/officeDocument/2006/relationships/slideLayout" Target="../slideLayouts/slideLayout280.xml"/><Relationship Id="rId13" Type="http://schemas.openxmlformats.org/officeDocument/2006/relationships/slideLayout" Target="../slideLayouts/slideLayout281.xml"/><Relationship Id="rId14" Type="http://schemas.openxmlformats.org/officeDocument/2006/relationships/slideLayout" Target="../slideLayouts/slideLayout282.xml"/><Relationship Id="rId15" Type="http://schemas.openxmlformats.org/officeDocument/2006/relationships/slideLayout" Target="../slideLayouts/slideLayout283.xml"/><Relationship Id="rId16" Type="http://schemas.openxmlformats.org/officeDocument/2006/relationships/slideLayout" Target="../slideLayouts/slideLayout284.xml"/><Relationship Id="rId17" Type="http://schemas.openxmlformats.org/officeDocument/2006/relationships/slideLayout" Target="../slideLayouts/slideLayout285.xml"/><Relationship Id="rId18" Type="http://schemas.openxmlformats.org/officeDocument/2006/relationships/slideLayout" Target="../slideLayouts/slideLayout286.xml"/><Relationship Id="rId19" Type="http://schemas.openxmlformats.org/officeDocument/2006/relationships/slideLayout" Target="../slideLayouts/slideLayout287.xml"/><Relationship Id="rId20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89.xml"/><Relationship Id="rId10" Type="http://schemas.openxmlformats.org/officeDocument/2006/relationships/slideLayout" Target="../slideLayouts/slideLayout290.xml"/><Relationship Id="rId11" Type="http://schemas.openxmlformats.org/officeDocument/2006/relationships/slideLayout" Target="../slideLayouts/slideLayout291.xml"/><Relationship Id="rId12" Type="http://schemas.openxmlformats.org/officeDocument/2006/relationships/slideLayout" Target="../slideLayouts/slideLayout292.xml"/><Relationship Id="rId13" Type="http://schemas.openxmlformats.org/officeDocument/2006/relationships/slideLayout" Target="../slideLayouts/slideLayout293.xml"/><Relationship Id="rId14" Type="http://schemas.openxmlformats.org/officeDocument/2006/relationships/slideLayout" Target="../slideLayouts/slideLayout294.xml"/><Relationship Id="rId15" Type="http://schemas.openxmlformats.org/officeDocument/2006/relationships/slideLayout" Target="../slideLayouts/slideLayout295.xml"/><Relationship Id="rId16" Type="http://schemas.openxmlformats.org/officeDocument/2006/relationships/slideLayout" Target="../slideLayouts/slideLayout296.xml"/><Relationship Id="rId17" Type="http://schemas.openxmlformats.org/officeDocument/2006/relationships/slideLayout" Target="../slideLayouts/slideLayout297.xml"/><Relationship Id="rId18" Type="http://schemas.openxmlformats.org/officeDocument/2006/relationships/slideLayout" Target="../slideLayouts/slideLayout298.xml"/><Relationship Id="rId19" Type="http://schemas.openxmlformats.org/officeDocument/2006/relationships/slideLayout" Target="../slideLayouts/slideLayout299.xml"/><Relationship Id="rId20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01.xml"/><Relationship Id="rId10" Type="http://schemas.openxmlformats.org/officeDocument/2006/relationships/slideLayout" Target="../slideLayouts/slideLayout302.xml"/><Relationship Id="rId11" Type="http://schemas.openxmlformats.org/officeDocument/2006/relationships/slideLayout" Target="../slideLayouts/slideLayout303.xml"/><Relationship Id="rId12" Type="http://schemas.openxmlformats.org/officeDocument/2006/relationships/slideLayout" Target="../slideLayouts/slideLayout304.xml"/><Relationship Id="rId13" Type="http://schemas.openxmlformats.org/officeDocument/2006/relationships/slideLayout" Target="../slideLayouts/slideLayout305.xml"/><Relationship Id="rId14" Type="http://schemas.openxmlformats.org/officeDocument/2006/relationships/slideLayout" Target="../slideLayouts/slideLayout306.xml"/><Relationship Id="rId15" Type="http://schemas.openxmlformats.org/officeDocument/2006/relationships/slideLayout" Target="../slideLayouts/slideLayout307.xml"/><Relationship Id="rId16" Type="http://schemas.openxmlformats.org/officeDocument/2006/relationships/slideLayout" Target="../slideLayouts/slideLayout308.xml"/><Relationship Id="rId17" Type="http://schemas.openxmlformats.org/officeDocument/2006/relationships/slideLayout" Target="../slideLayouts/slideLayout309.xml"/><Relationship Id="rId18" Type="http://schemas.openxmlformats.org/officeDocument/2006/relationships/slideLayout" Target="../slideLayouts/slideLayout310.xml"/><Relationship Id="rId19" Type="http://schemas.openxmlformats.org/officeDocument/2006/relationships/slideLayout" Target="../slideLayouts/slideLayout311.xml"/><Relationship Id="rId20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13.xml"/><Relationship Id="rId10" Type="http://schemas.openxmlformats.org/officeDocument/2006/relationships/slideLayout" Target="../slideLayouts/slideLayout314.xml"/><Relationship Id="rId11" Type="http://schemas.openxmlformats.org/officeDocument/2006/relationships/slideLayout" Target="../slideLayouts/slideLayout315.xml"/><Relationship Id="rId12" Type="http://schemas.openxmlformats.org/officeDocument/2006/relationships/slideLayout" Target="../slideLayouts/slideLayout316.xml"/><Relationship Id="rId13" Type="http://schemas.openxmlformats.org/officeDocument/2006/relationships/slideLayout" Target="../slideLayouts/slideLayout317.xml"/><Relationship Id="rId14" Type="http://schemas.openxmlformats.org/officeDocument/2006/relationships/slideLayout" Target="../slideLayouts/slideLayout318.xml"/><Relationship Id="rId15" Type="http://schemas.openxmlformats.org/officeDocument/2006/relationships/slideLayout" Target="../slideLayouts/slideLayout319.xml"/><Relationship Id="rId16" Type="http://schemas.openxmlformats.org/officeDocument/2006/relationships/slideLayout" Target="../slideLayouts/slideLayout320.xml"/><Relationship Id="rId17" Type="http://schemas.openxmlformats.org/officeDocument/2006/relationships/slideLayout" Target="../slideLayouts/slideLayout321.xml"/><Relationship Id="rId18" Type="http://schemas.openxmlformats.org/officeDocument/2006/relationships/slideLayout" Target="../slideLayouts/slideLayout322.xml"/><Relationship Id="rId19" Type="http://schemas.openxmlformats.org/officeDocument/2006/relationships/slideLayout" Target="../slideLayouts/slideLayout323.xml"/><Relationship Id="rId20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25.xml"/><Relationship Id="rId10" Type="http://schemas.openxmlformats.org/officeDocument/2006/relationships/slideLayout" Target="../slideLayouts/slideLayout326.xml"/><Relationship Id="rId11" Type="http://schemas.openxmlformats.org/officeDocument/2006/relationships/slideLayout" Target="../slideLayouts/slideLayout327.xml"/><Relationship Id="rId12" Type="http://schemas.openxmlformats.org/officeDocument/2006/relationships/slideLayout" Target="../slideLayouts/slideLayout328.xml"/><Relationship Id="rId13" Type="http://schemas.openxmlformats.org/officeDocument/2006/relationships/slideLayout" Target="../slideLayouts/slideLayout329.xml"/><Relationship Id="rId14" Type="http://schemas.openxmlformats.org/officeDocument/2006/relationships/slideLayout" Target="../slideLayouts/slideLayout330.xml"/><Relationship Id="rId15" Type="http://schemas.openxmlformats.org/officeDocument/2006/relationships/slideLayout" Target="../slideLayouts/slideLayout331.xml"/><Relationship Id="rId16" Type="http://schemas.openxmlformats.org/officeDocument/2006/relationships/slideLayout" Target="../slideLayouts/slideLayout332.xml"/><Relationship Id="rId17" Type="http://schemas.openxmlformats.org/officeDocument/2006/relationships/slideLayout" Target="../slideLayouts/slideLayout333.xml"/><Relationship Id="rId18" Type="http://schemas.openxmlformats.org/officeDocument/2006/relationships/slideLayout" Target="../slideLayouts/slideLayout334.xml"/><Relationship Id="rId19" Type="http://schemas.openxmlformats.org/officeDocument/2006/relationships/slideLayout" Target="../slideLayouts/slideLayout335.xml"/><Relationship Id="rId20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37.xml"/><Relationship Id="rId10" Type="http://schemas.openxmlformats.org/officeDocument/2006/relationships/slideLayout" Target="../slideLayouts/slideLayout338.xml"/><Relationship Id="rId11" Type="http://schemas.openxmlformats.org/officeDocument/2006/relationships/slideLayout" Target="../slideLayouts/slideLayout339.xml"/><Relationship Id="rId12" Type="http://schemas.openxmlformats.org/officeDocument/2006/relationships/slideLayout" Target="../slideLayouts/slideLayout340.xml"/><Relationship Id="rId13" Type="http://schemas.openxmlformats.org/officeDocument/2006/relationships/slideLayout" Target="../slideLayouts/slideLayout341.xml"/><Relationship Id="rId14" Type="http://schemas.openxmlformats.org/officeDocument/2006/relationships/slideLayout" Target="../slideLayouts/slideLayout342.xml"/><Relationship Id="rId15" Type="http://schemas.openxmlformats.org/officeDocument/2006/relationships/slideLayout" Target="../slideLayouts/slideLayout343.xml"/><Relationship Id="rId16" Type="http://schemas.openxmlformats.org/officeDocument/2006/relationships/slideLayout" Target="../slideLayouts/slideLayout344.xml"/><Relationship Id="rId17" Type="http://schemas.openxmlformats.org/officeDocument/2006/relationships/slideLayout" Target="../slideLayouts/slideLayout345.xml"/><Relationship Id="rId18" Type="http://schemas.openxmlformats.org/officeDocument/2006/relationships/slideLayout" Target="../slideLayouts/slideLayout346.xml"/><Relationship Id="rId19" Type="http://schemas.openxmlformats.org/officeDocument/2006/relationships/slideLayout" Target="../slideLayouts/slideLayout347.xml"/><Relationship Id="rId20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49.xml"/><Relationship Id="rId10" Type="http://schemas.openxmlformats.org/officeDocument/2006/relationships/slideLayout" Target="../slideLayouts/slideLayout350.xml"/><Relationship Id="rId11" Type="http://schemas.openxmlformats.org/officeDocument/2006/relationships/slideLayout" Target="../slideLayouts/slideLayout351.xml"/><Relationship Id="rId12" Type="http://schemas.openxmlformats.org/officeDocument/2006/relationships/slideLayout" Target="../slideLayouts/slideLayout352.xml"/><Relationship Id="rId13" Type="http://schemas.openxmlformats.org/officeDocument/2006/relationships/slideLayout" Target="../slideLayouts/slideLayout353.xml"/><Relationship Id="rId14" Type="http://schemas.openxmlformats.org/officeDocument/2006/relationships/slideLayout" Target="../slideLayouts/slideLayout354.xml"/><Relationship Id="rId15" Type="http://schemas.openxmlformats.org/officeDocument/2006/relationships/slideLayout" Target="../slideLayouts/slideLayout355.xml"/><Relationship Id="rId16" Type="http://schemas.openxmlformats.org/officeDocument/2006/relationships/slideLayout" Target="../slideLayouts/slideLayout356.xml"/><Relationship Id="rId17" Type="http://schemas.openxmlformats.org/officeDocument/2006/relationships/slideLayout" Target="../slideLayouts/slideLayout357.xml"/><Relationship Id="rId18" Type="http://schemas.openxmlformats.org/officeDocument/2006/relationships/slideLayout" Target="../slideLayouts/slideLayout358.xml"/><Relationship Id="rId19" Type="http://schemas.openxmlformats.org/officeDocument/2006/relationships/slideLayout" Target="../slideLayouts/slideLayout359.xml"/><Relationship Id="rId20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61.xml"/><Relationship Id="rId10" Type="http://schemas.openxmlformats.org/officeDocument/2006/relationships/slideLayout" Target="../slideLayouts/slideLayout362.xml"/><Relationship Id="rId11" Type="http://schemas.openxmlformats.org/officeDocument/2006/relationships/slideLayout" Target="../slideLayouts/slideLayout363.xml"/><Relationship Id="rId12" Type="http://schemas.openxmlformats.org/officeDocument/2006/relationships/slideLayout" Target="../slideLayouts/slideLayout364.xml"/><Relationship Id="rId13" Type="http://schemas.openxmlformats.org/officeDocument/2006/relationships/slideLayout" Target="../slideLayouts/slideLayout365.xml"/><Relationship Id="rId14" Type="http://schemas.openxmlformats.org/officeDocument/2006/relationships/slideLayout" Target="../slideLayouts/slideLayout366.xml"/><Relationship Id="rId15" Type="http://schemas.openxmlformats.org/officeDocument/2006/relationships/slideLayout" Target="../slideLayouts/slideLayout367.xml"/><Relationship Id="rId16" Type="http://schemas.openxmlformats.org/officeDocument/2006/relationships/slideLayout" Target="../slideLayouts/slideLayout368.xml"/><Relationship Id="rId17" Type="http://schemas.openxmlformats.org/officeDocument/2006/relationships/slideLayout" Target="../slideLayouts/slideLayout369.xml"/><Relationship Id="rId18" Type="http://schemas.openxmlformats.org/officeDocument/2006/relationships/slideLayout" Target="../slideLayouts/slideLayout370.xml"/><Relationship Id="rId19" Type="http://schemas.openxmlformats.org/officeDocument/2006/relationships/slideLayout" Target="../slideLayouts/slideLayout371.xml"/><Relationship Id="rId20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3.xml"/><Relationship Id="rId10" Type="http://schemas.openxmlformats.org/officeDocument/2006/relationships/slideLayout" Target="../slideLayouts/slideLayout374.xml"/><Relationship Id="rId11" Type="http://schemas.openxmlformats.org/officeDocument/2006/relationships/slideLayout" Target="../slideLayouts/slideLayout375.xml"/><Relationship Id="rId12" Type="http://schemas.openxmlformats.org/officeDocument/2006/relationships/slideLayout" Target="../slideLayouts/slideLayout376.xml"/><Relationship Id="rId13" Type="http://schemas.openxmlformats.org/officeDocument/2006/relationships/slideLayout" Target="../slideLayouts/slideLayout377.xml"/><Relationship Id="rId14" Type="http://schemas.openxmlformats.org/officeDocument/2006/relationships/slideLayout" Target="../slideLayouts/slideLayout378.xml"/><Relationship Id="rId15" Type="http://schemas.openxmlformats.org/officeDocument/2006/relationships/slideLayout" Target="../slideLayouts/slideLayout379.xml"/><Relationship Id="rId16" Type="http://schemas.openxmlformats.org/officeDocument/2006/relationships/slideLayout" Target="../slideLayouts/slideLayout380.xml"/><Relationship Id="rId17" Type="http://schemas.openxmlformats.org/officeDocument/2006/relationships/slideLayout" Target="../slideLayouts/slideLayout381.xml"/><Relationship Id="rId18" Type="http://schemas.openxmlformats.org/officeDocument/2006/relationships/slideLayout" Target="../slideLayouts/slideLayout382.xml"/><Relationship Id="rId19" Type="http://schemas.openxmlformats.org/officeDocument/2006/relationships/slideLayout" Target="../slideLayouts/slideLayout383.xml"/><Relationship Id="rId20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85.xml"/><Relationship Id="rId10" Type="http://schemas.openxmlformats.org/officeDocument/2006/relationships/slideLayout" Target="../slideLayouts/slideLayout386.xml"/><Relationship Id="rId11" Type="http://schemas.openxmlformats.org/officeDocument/2006/relationships/slideLayout" Target="../slideLayouts/slideLayout387.xml"/><Relationship Id="rId12" Type="http://schemas.openxmlformats.org/officeDocument/2006/relationships/slideLayout" Target="../slideLayouts/slideLayout388.xml"/><Relationship Id="rId13" Type="http://schemas.openxmlformats.org/officeDocument/2006/relationships/slideLayout" Target="../slideLayouts/slideLayout389.xml"/><Relationship Id="rId14" Type="http://schemas.openxmlformats.org/officeDocument/2006/relationships/slideLayout" Target="../slideLayouts/slideLayout390.xml"/><Relationship Id="rId15" Type="http://schemas.openxmlformats.org/officeDocument/2006/relationships/slideLayout" Target="../slideLayouts/slideLayout391.xml"/><Relationship Id="rId16" Type="http://schemas.openxmlformats.org/officeDocument/2006/relationships/slideLayout" Target="../slideLayouts/slideLayout392.xml"/><Relationship Id="rId17" Type="http://schemas.openxmlformats.org/officeDocument/2006/relationships/slideLayout" Target="../slideLayouts/slideLayout393.xml"/><Relationship Id="rId18" Type="http://schemas.openxmlformats.org/officeDocument/2006/relationships/slideLayout" Target="../slideLayouts/slideLayout394.xml"/><Relationship Id="rId19" Type="http://schemas.openxmlformats.org/officeDocument/2006/relationships/slideLayout" Target="../slideLayouts/slideLayout395.xml"/><Relationship Id="rId20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97.xml"/><Relationship Id="rId10" Type="http://schemas.openxmlformats.org/officeDocument/2006/relationships/slideLayout" Target="../slideLayouts/slideLayout398.xml"/><Relationship Id="rId11" Type="http://schemas.openxmlformats.org/officeDocument/2006/relationships/slideLayout" Target="../slideLayouts/slideLayout399.xml"/><Relationship Id="rId12" Type="http://schemas.openxmlformats.org/officeDocument/2006/relationships/slideLayout" Target="../slideLayouts/slideLayout400.xml"/><Relationship Id="rId13" Type="http://schemas.openxmlformats.org/officeDocument/2006/relationships/slideLayout" Target="../slideLayouts/slideLayout401.xml"/><Relationship Id="rId14" Type="http://schemas.openxmlformats.org/officeDocument/2006/relationships/slideLayout" Target="../slideLayouts/slideLayout402.xml"/><Relationship Id="rId15" Type="http://schemas.openxmlformats.org/officeDocument/2006/relationships/slideLayout" Target="../slideLayouts/slideLayout403.xml"/><Relationship Id="rId16" Type="http://schemas.openxmlformats.org/officeDocument/2006/relationships/slideLayout" Target="../slideLayouts/slideLayout404.xml"/><Relationship Id="rId17" Type="http://schemas.openxmlformats.org/officeDocument/2006/relationships/slideLayout" Target="../slideLayouts/slideLayout405.xml"/><Relationship Id="rId18" Type="http://schemas.openxmlformats.org/officeDocument/2006/relationships/slideLayout" Target="../slideLayouts/slideLayout406.xml"/><Relationship Id="rId19" Type="http://schemas.openxmlformats.org/officeDocument/2006/relationships/slideLayout" Target="../slideLayouts/slideLayout407.xml"/><Relationship Id="rId20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09.xml"/><Relationship Id="rId10" Type="http://schemas.openxmlformats.org/officeDocument/2006/relationships/slideLayout" Target="../slideLayouts/slideLayout410.xml"/><Relationship Id="rId11" Type="http://schemas.openxmlformats.org/officeDocument/2006/relationships/slideLayout" Target="../slideLayouts/slideLayout411.xml"/><Relationship Id="rId12" Type="http://schemas.openxmlformats.org/officeDocument/2006/relationships/slideLayout" Target="../slideLayouts/slideLayout412.xml"/><Relationship Id="rId13" Type="http://schemas.openxmlformats.org/officeDocument/2006/relationships/slideLayout" Target="../slideLayouts/slideLayout413.xml"/><Relationship Id="rId14" Type="http://schemas.openxmlformats.org/officeDocument/2006/relationships/slideLayout" Target="../slideLayouts/slideLayout414.xml"/><Relationship Id="rId15" Type="http://schemas.openxmlformats.org/officeDocument/2006/relationships/slideLayout" Target="../slideLayouts/slideLayout415.xml"/><Relationship Id="rId16" Type="http://schemas.openxmlformats.org/officeDocument/2006/relationships/slideLayout" Target="../slideLayouts/slideLayout416.xml"/><Relationship Id="rId17" Type="http://schemas.openxmlformats.org/officeDocument/2006/relationships/slideLayout" Target="../slideLayouts/slideLayout417.xml"/><Relationship Id="rId18" Type="http://schemas.openxmlformats.org/officeDocument/2006/relationships/slideLayout" Target="../slideLayouts/slideLayout418.xml"/><Relationship Id="rId19" Type="http://schemas.openxmlformats.org/officeDocument/2006/relationships/slideLayout" Target="../slideLayouts/slideLayout419.xml"/><Relationship Id="rId20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21.xml"/><Relationship Id="rId10" Type="http://schemas.openxmlformats.org/officeDocument/2006/relationships/slideLayout" Target="../slideLayouts/slideLayout422.xml"/><Relationship Id="rId11" Type="http://schemas.openxmlformats.org/officeDocument/2006/relationships/slideLayout" Target="../slideLayouts/slideLayout423.xml"/><Relationship Id="rId12" Type="http://schemas.openxmlformats.org/officeDocument/2006/relationships/slideLayout" Target="../slideLayouts/slideLayout424.xml"/><Relationship Id="rId13" Type="http://schemas.openxmlformats.org/officeDocument/2006/relationships/slideLayout" Target="../slideLayouts/slideLayout425.xml"/><Relationship Id="rId14" Type="http://schemas.openxmlformats.org/officeDocument/2006/relationships/slideLayout" Target="../slideLayouts/slideLayout426.xml"/><Relationship Id="rId15" Type="http://schemas.openxmlformats.org/officeDocument/2006/relationships/slideLayout" Target="../slideLayouts/slideLayout427.xml"/><Relationship Id="rId16" Type="http://schemas.openxmlformats.org/officeDocument/2006/relationships/slideLayout" Target="../slideLayouts/slideLayout428.xml"/><Relationship Id="rId17" Type="http://schemas.openxmlformats.org/officeDocument/2006/relationships/slideLayout" Target="../slideLayouts/slideLayout429.xml"/><Relationship Id="rId18" Type="http://schemas.openxmlformats.org/officeDocument/2006/relationships/slideLayout" Target="../slideLayouts/slideLayout430.xml"/><Relationship Id="rId19" Type="http://schemas.openxmlformats.org/officeDocument/2006/relationships/slideLayout" Target="../slideLayouts/slideLayout431.xml"/><Relationship Id="rId20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33.xml"/><Relationship Id="rId10" Type="http://schemas.openxmlformats.org/officeDocument/2006/relationships/slideLayout" Target="../slideLayouts/slideLayout434.xml"/><Relationship Id="rId11" Type="http://schemas.openxmlformats.org/officeDocument/2006/relationships/slideLayout" Target="../slideLayouts/slideLayout435.xml"/><Relationship Id="rId12" Type="http://schemas.openxmlformats.org/officeDocument/2006/relationships/slideLayout" Target="../slideLayouts/slideLayout436.xml"/><Relationship Id="rId13" Type="http://schemas.openxmlformats.org/officeDocument/2006/relationships/slideLayout" Target="../slideLayouts/slideLayout437.xml"/><Relationship Id="rId14" Type="http://schemas.openxmlformats.org/officeDocument/2006/relationships/slideLayout" Target="../slideLayouts/slideLayout438.xml"/><Relationship Id="rId15" Type="http://schemas.openxmlformats.org/officeDocument/2006/relationships/slideLayout" Target="../slideLayouts/slideLayout439.xml"/><Relationship Id="rId16" Type="http://schemas.openxmlformats.org/officeDocument/2006/relationships/slideLayout" Target="../slideLayouts/slideLayout440.xml"/><Relationship Id="rId17" Type="http://schemas.openxmlformats.org/officeDocument/2006/relationships/slideLayout" Target="../slideLayouts/slideLayout441.xml"/><Relationship Id="rId18" Type="http://schemas.openxmlformats.org/officeDocument/2006/relationships/slideLayout" Target="../slideLayouts/slideLayout442.xml"/><Relationship Id="rId19" Type="http://schemas.openxmlformats.org/officeDocument/2006/relationships/slideLayout" Target="../slideLayouts/slideLayout443.xml"/><Relationship Id="rId20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45.xml"/><Relationship Id="rId10" Type="http://schemas.openxmlformats.org/officeDocument/2006/relationships/slideLayout" Target="../slideLayouts/slideLayout446.xml"/><Relationship Id="rId11" Type="http://schemas.openxmlformats.org/officeDocument/2006/relationships/slideLayout" Target="../slideLayouts/slideLayout447.xml"/><Relationship Id="rId12" Type="http://schemas.openxmlformats.org/officeDocument/2006/relationships/slideLayout" Target="../slideLayouts/slideLayout448.xml"/><Relationship Id="rId13" Type="http://schemas.openxmlformats.org/officeDocument/2006/relationships/slideLayout" Target="../slideLayouts/slideLayout449.xml"/><Relationship Id="rId14" Type="http://schemas.openxmlformats.org/officeDocument/2006/relationships/slideLayout" Target="../slideLayouts/slideLayout450.xml"/><Relationship Id="rId15" Type="http://schemas.openxmlformats.org/officeDocument/2006/relationships/slideLayout" Target="../slideLayouts/slideLayout451.xml"/><Relationship Id="rId16" Type="http://schemas.openxmlformats.org/officeDocument/2006/relationships/slideLayout" Target="../slideLayouts/slideLayout452.xml"/><Relationship Id="rId17" Type="http://schemas.openxmlformats.org/officeDocument/2006/relationships/slideLayout" Target="../slideLayouts/slideLayout453.xml"/><Relationship Id="rId18" Type="http://schemas.openxmlformats.org/officeDocument/2006/relationships/slideLayout" Target="../slideLayouts/slideLayout454.xml"/><Relationship Id="rId19" Type="http://schemas.openxmlformats.org/officeDocument/2006/relationships/slideLayout" Target="../slideLayouts/slideLayout455.xml"/><Relationship Id="rId20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57.xml"/><Relationship Id="rId10" Type="http://schemas.openxmlformats.org/officeDocument/2006/relationships/slideLayout" Target="../slideLayouts/slideLayout458.xml"/><Relationship Id="rId11" Type="http://schemas.openxmlformats.org/officeDocument/2006/relationships/slideLayout" Target="../slideLayouts/slideLayout459.xml"/><Relationship Id="rId12" Type="http://schemas.openxmlformats.org/officeDocument/2006/relationships/slideLayout" Target="../slideLayouts/slideLayout460.xml"/><Relationship Id="rId13" Type="http://schemas.openxmlformats.org/officeDocument/2006/relationships/slideLayout" Target="../slideLayouts/slideLayout461.xml"/><Relationship Id="rId14" Type="http://schemas.openxmlformats.org/officeDocument/2006/relationships/slideLayout" Target="../slideLayouts/slideLayout462.xml"/><Relationship Id="rId15" Type="http://schemas.openxmlformats.org/officeDocument/2006/relationships/slideLayout" Target="../slideLayouts/slideLayout463.xml"/><Relationship Id="rId16" Type="http://schemas.openxmlformats.org/officeDocument/2006/relationships/slideLayout" Target="../slideLayouts/slideLayout464.xml"/><Relationship Id="rId17" Type="http://schemas.openxmlformats.org/officeDocument/2006/relationships/slideLayout" Target="../slideLayouts/slideLayout465.xml"/><Relationship Id="rId18" Type="http://schemas.openxmlformats.org/officeDocument/2006/relationships/slideLayout" Target="../slideLayouts/slideLayout466.xml"/><Relationship Id="rId19" Type="http://schemas.openxmlformats.org/officeDocument/2006/relationships/slideLayout" Target="../slideLayouts/slideLayout467.xml"/><Relationship Id="rId20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69.xml"/><Relationship Id="rId10" Type="http://schemas.openxmlformats.org/officeDocument/2006/relationships/slideLayout" Target="../slideLayouts/slideLayout470.xml"/><Relationship Id="rId11" Type="http://schemas.openxmlformats.org/officeDocument/2006/relationships/slideLayout" Target="../slideLayouts/slideLayout471.xml"/><Relationship Id="rId12" Type="http://schemas.openxmlformats.org/officeDocument/2006/relationships/slideLayout" Target="../slideLayouts/slideLayout472.xml"/><Relationship Id="rId13" Type="http://schemas.openxmlformats.org/officeDocument/2006/relationships/slideLayout" Target="../slideLayouts/slideLayout473.xml"/><Relationship Id="rId14" Type="http://schemas.openxmlformats.org/officeDocument/2006/relationships/slideLayout" Target="../slideLayouts/slideLayout474.xml"/><Relationship Id="rId15" Type="http://schemas.openxmlformats.org/officeDocument/2006/relationships/slideLayout" Target="../slideLayouts/slideLayout475.xml"/><Relationship Id="rId16" Type="http://schemas.openxmlformats.org/officeDocument/2006/relationships/slideLayout" Target="../slideLayouts/slideLayout476.xml"/><Relationship Id="rId17" Type="http://schemas.openxmlformats.org/officeDocument/2006/relationships/slideLayout" Target="../slideLayouts/slideLayout477.xml"/><Relationship Id="rId18" Type="http://schemas.openxmlformats.org/officeDocument/2006/relationships/slideLayout" Target="../slideLayouts/slideLayout478.xml"/><Relationship Id="rId19" Type="http://schemas.openxmlformats.org/officeDocument/2006/relationships/slideLayout" Target="../slideLayouts/slideLayout479.xml"/><Relationship Id="rId20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81.xml"/><Relationship Id="rId10" Type="http://schemas.openxmlformats.org/officeDocument/2006/relationships/slideLayout" Target="../slideLayouts/slideLayout482.xml"/><Relationship Id="rId11" Type="http://schemas.openxmlformats.org/officeDocument/2006/relationships/slideLayout" Target="../slideLayouts/slideLayout483.xml"/><Relationship Id="rId12" Type="http://schemas.openxmlformats.org/officeDocument/2006/relationships/slideLayout" Target="../slideLayouts/slideLayout484.xml"/><Relationship Id="rId13" Type="http://schemas.openxmlformats.org/officeDocument/2006/relationships/slideLayout" Target="../slideLayouts/slideLayout485.xml"/><Relationship Id="rId14" Type="http://schemas.openxmlformats.org/officeDocument/2006/relationships/slideLayout" Target="../slideLayouts/slideLayout486.xml"/><Relationship Id="rId15" Type="http://schemas.openxmlformats.org/officeDocument/2006/relationships/slideLayout" Target="../slideLayouts/slideLayout487.xml"/><Relationship Id="rId16" Type="http://schemas.openxmlformats.org/officeDocument/2006/relationships/slideLayout" Target="../slideLayouts/slideLayout488.xml"/><Relationship Id="rId17" Type="http://schemas.openxmlformats.org/officeDocument/2006/relationships/slideLayout" Target="../slideLayouts/slideLayout489.xml"/><Relationship Id="rId18" Type="http://schemas.openxmlformats.org/officeDocument/2006/relationships/slideLayout" Target="../slideLayouts/slideLayout490.xml"/><Relationship Id="rId19" Type="http://schemas.openxmlformats.org/officeDocument/2006/relationships/slideLayout" Target="../slideLayouts/slideLayout491.xml"/><Relationship Id="rId20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3.xml"/><Relationship Id="rId10" Type="http://schemas.openxmlformats.org/officeDocument/2006/relationships/slideLayout" Target="../slideLayouts/slideLayout494.xml"/><Relationship Id="rId11" Type="http://schemas.openxmlformats.org/officeDocument/2006/relationships/slideLayout" Target="../slideLayouts/slideLayout495.xml"/><Relationship Id="rId12" Type="http://schemas.openxmlformats.org/officeDocument/2006/relationships/slideLayout" Target="../slideLayouts/slideLayout496.xml"/><Relationship Id="rId13" Type="http://schemas.openxmlformats.org/officeDocument/2006/relationships/slideLayout" Target="../slideLayouts/slideLayout497.xml"/><Relationship Id="rId14" Type="http://schemas.openxmlformats.org/officeDocument/2006/relationships/slideLayout" Target="../slideLayouts/slideLayout498.xml"/><Relationship Id="rId15" Type="http://schemas.openxmlformats.org/officeDocument/2006/relationships/slideLayout" Target="../slideLayouts/slideLayout499.xml"/><Relationship Id="rId16" Type="http://schemas.openxmlformats.org/officeDocument/2006/relationships/slideLayout" Target="../slideLayouts/slideLayout500.xml"/><Relationship Id="rId17" Type="http://schemas.openxmlformats.org/officeDocument/2006/relationships/slideLayout" Target="../slideLayouts/slideLayout501.xml"/><Relationship Id="rId18" Type="http://schemas.openxmlformats.org/officeDocument/2006/relationships/slideLayout" Target="../slideLayouts/slideLayout502.xml"/><Relationship Id="rId19" Type="http://schemas.openxmlformats.org/officeDocument/2006/relationships/slideLayout" Target="../slideLayouts/slideLayout503.xml"/><Relationship Id="rId20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05.xml"/><Relationship Id="rId10" Type="http://schemas.openxmlformats.org/officeDocument/2006/relationships/slideLayout" Target="../slideLayouts/slideLayout506.xml"/><Relationship Id="rId11" Type="http://schemas.openxmlformats.org/officeDocument/2006/relationships/slideLayout" Target="../slideLayouts/slideLayout507.xml"/><Relationship Id="rId12" Type="http://schemas.openxmlformats.org/officeDocument/2006/relationships/slideLayout" Target="../slideLayouts/slideLayout508.xml"/><Relationship Id="rId13" Type="http://schemas.openxmlformats.org/officeDocument/2006/relationships/slideLayout" Target="../slideLayouts/slideLayout509.xml"/><Relationship Id="rId14" Type="http://schemas.openxmlformats.org/officeDocument/2006/relationships/slideLayout" Target="../slideLayouts/slideLayout510.xml"/><Relationship Id="rId15" Type="http://schemas.openxmlformats.org/officeDocument/2006/relationships/slideLayout" Target="../slideLayouts/slideLayout511.xml"/><Relationship Id="rId16" Type="http://schemas.openxmlformats.org/officeDocument/2006/relationships/slideLayout" Target="../slideLayouts/slideLayout512.xml"/><Relationship Id="rId17" Type="http://schemas.openxmlformats.org/officeDocument/2006/relationships/slideLayout" Target="../slideLayouts/slideLayout513.xml"/><Relationship Id="rId18" Type="http://schemas.openxmlformats.org/officeDocument/2006/relationships/slideLayout" Target="../slideLayouts/slideLayout514.xml"/><Relationship Id="rId19" Type="http://schemas.openxmlformats.org/officeDocument/2006/relationships/slideLayout" Target="../slideLayouts/slideLayout515.xml"/><Relationship Id="rId20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17.xml"/><Relationship Id="rId10" Type="http://schemas.openxmlformats.org/officeDocument/2006/relationships/slideLayout" Target="../slideLayouts/slideLayout518.xml"/><Relationship Id="rId11" Type="http://schemas.openxmlformats.org/officeDocument/2006/relationships/slideLayout" Target="../slideLayouts/slideLayout519.xml"/><Relationship Id="rId12" Type="http://schemas.openxmlformats.org/officeDocument/2006/relationships/slideLayout" Target="../slideLayouts/slideLayout520.xml"/><Relationship Id="rId13" Type="http://schemas.openxmlformats.org/officeDocument/2006/relationships/slideLayout" Target="../slideLayouts/slideLayout521.xml"/><Relationship Id="rId14" Type="http://schemas.openxmlformats.org/officeDocument/2006/relationships/slideLayout" Target="../slideLayouts/slideLayout522.xml"/><Relationship Id="rId15" Type="http://schemas.openxmlformats.org/officeDocument/2006/relationships/slideLayout" Target="../slideLayouts/slideLayout523.xml"/><Relationship Id="rId16" Type="http://schemas.openxmlformats.org/officeDocument/2006/relationships/slideLayout" Target="../slideLayouts/slideLayout524.xml"/><Relationship Id="rId17" Type="http://schemas.openxmlformats.org/officeDocument/2006/relationships/slideLayout" Target="../slideLayouts/slideLayout525.xml"/><Relationship Id="rId18" Type="http://schemas.openxmlformats.org/officeDocument/2006/relationships/slideLayout" Target="../slideLayouts/slideLayout526.xml"/><Relationship Id="rId19" Type="http://schemas.openxmlformats.org/officeDocument/2006/relationships/slideLayout" Target="../slideLayouts/slideLayout527.xml"/><Relationship Id="rId20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29.xml"/><Relationship Id="rId10" Type="http://schemas.openxmlformats.org/officeDocument/2006/relationships/slideLayout" Target="../slideLayouts/slideLayout530.xml"/><Relationship Id="rId11" Type="http://schemas.openxmlformats.org/officeDocument/2006/relationships/slideLayout" Target="../slideLayouts/slideLayout531.xml"/><Relationship Id="rId12" Type="http://schemas.openxmlformats.org/officeDocument/2006/relationships/slideLayout" Target="../slideLayouts/slideLayout532.xml"/><Relationship Id="rId13" Type="http://schemas.openxmlformats.org/officeDocument/2006/relationships/slideLayout" Target="../slideLayouts/slideLayout533.xml"/><Relationship Id="rId14" Type="http://schemas.openxmlformats.org/officeDocument/2006/relationships/slideLayout" Target="../slideLayouts/slideLayout534.xml"/><Relationship Id="rId15" Type="http://schemas.openxmlformats.org/officeDocument/2006/relationships/slideLayout" Target="../slideLayouts/slideLayout535.xml"/><Relationship Id="rId16" Type="http://schemas.openxmlformats.org/officeDocument/2006/relationships/slideLayout" Target="../slideLayouts/slideLayout536.xml"/><Relationship Id="rId17" Type="http://schemas.openxmlformats.org/officeDocument/2006/relationships/slideLayout" Target="../slideLayouts/slideLayout537.xml"/><Relationship Id="rId18" Type="http://schemas.openxmlformats.org/officeDocument/2006/relationships/slideLayout" Target="../slideLayouts/slideLayout538.xml"/><Relationship Id="rId19" Type="http://schemas.openxmlformats.org/officeDocument/2006/relationships/slideLayout" Target="../slideLayouts/slideLayout539.xml"/><Relationship Id="rId20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41.xml"/><Relationship Id="rId10" Type="http://schemas.openxmlformats.org/officeDocument/2006/relationships/slideLayout" Target="../slideLayouts/slideLayout542.xml"/><Relationship Id="rId11" Type="http://schemas.openxmlformats.org/officeDocument/2006/relationships/slideLayout" Target="../slideLayouts/slideLayout543.xml"/><Relationship Id="rId12" Type="http://schemas.openxmlformats.org/officeDocument/2006/relationships/slideLayout" Target="../slideLayouts/slideLayout544.xml"/><Relationship Id="rId13" Type="http://schemas.openxmlformats.org/officeDocument/2006/relationships/slideLayout" Target="../slideLayouts/slideLayout545.xml"/><Relationship Id="rId14" Type="http://schemas.openxmlformats.org/officeDocument/2006/relationships/slideLayout" Target="../slideLayouts/slideLayout546.xml"/><Relationship Id="rId15" Type="http://schemas.openxmlformats.org/officeDocument/2006/relationships/slideLayout" Target="../slideLayouts/slideLayout547.xml"/><Relationship Id="rId16" Type="http://schemas.openxmlformats.org/officeDocument/2006/relationships/slideLayout" Target="../slideLayouts/slideLayout548.xml"/><Relationship Id="rId17" Type="http://schemas.openxmlformats.org/officeDocument/2006/relationships/slideLayout" Target="../slideLayouts/slideLayout549.xml"/><Relationship Id="rId18" Type="http://schemas.openxmlformats.org/officeDocument/2006/relationships/slideLayout" Target="../slideLayouts/slideLayout550.xml"/><Relationship Id="rId19" Type="http://schemas.openxmlformats.org/officeDocument/2006/relationships/slideLayout" Target="../slideLayouts/slideLayout551.xml"/><Relationship Id="rId20" Type="http://schemas.openxmlformats.org/officeDocument/2006/relationships/slideLayout" Target="../slideLayouts/slideLayout55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1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4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6F24-73B0-43C9-9380-A980B43386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460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463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126B-3844-4668-9920-5B7B17AE5A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511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514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D535-5473-4E9B-81C0-159D130F87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562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565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4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5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6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938E-F24E-4D86-9454-DCD7FCDB07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613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616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7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8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9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B01C-E360-4969-BF4B-5EF7324029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664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667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0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1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2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A007-A847-4290-9A35-C58C8F8150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715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718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A6D8-8048-4563-B5E6-E5287A0379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9"/>
    <p:sldLayoutId id="2147483832" r:id="rId10"/>
    <p:sldLayoutId id="2147483833" r:id="rId11"/>
    <p:sldLayoutId id="2147483834" r:id="rId12"/>
    <p:sldLayoutId id="2147483835" r:id="rId13"/>
    <p:sldLayoutId id="2147483836" r:id="rId14"/>
    <p:sldLayoutId id="2147483837" r:id="rId15"/>
    <p:sldLayoutId id="2147483838" r:id="rId16"/>
    <p:sldLayoutId id="2147483839" r:id="rId17"/>
    <p:sldLayoutId id="2147483840" r:id="rId18"/>
    <p:sldLayoutId id="2147483841" r:id="rId19"/>
    <p:sldLayoutId id="2147483842" r:id="rId20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766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769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33C3-9E8C-455B-B496-ED801B6E9D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9"/>
    <p:sldLayoutId id="2147483845" r:id="rId10"/>
    <p:sldLayoutId id="2147483846" r:id="rId11"/>
    <p:sldLayoutId id="2147483847" r:id="rId12"/>
    <p:sldLayoutId id="2147483848" r:id="rId13"/>
    <p:sldLayoutId id="2147483849" r:id="rId14"/>
    <p:sldLayoutId id="2147483850" r:id="rId15"/>
    <p:sldLayoutId id="2147483851" r:id="rId16"/>
    <p:sldLayoutId id="2147483852" r:id="rId17"/>
    <p:sldLayoutId id="2147483853" r:id="rId18"/>
    <p:sldLayoutId id="2147483854" r:id="rId19"/>
    <p:sldLayoutId id="2147483855" r:id="rId20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817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820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9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0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1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2BDF-A39C-4D2F-B44D-152806FC23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9"/>
    <p:sldLayoutId id="2147483858" r:id="rId10"/>
    <p:sldLayoutId id="2147483859" r:id="rId11"/>
    <p:sldLayoutId id="2147483860" r:id="rId12"/>
    <p:sldLayoutId id="2147483861" r:id="rId13"/>
    <p:sldLayoutId id="2147483862" r:id="rId14"/>
    <p:sldLayoutId id="2147483863" r:id="rId15"/>
    <p:sldLayoutId id="2147483864" r:id="rId16"/>
    <p:sldLayoutId id="2147483865" r:id="rId17"/>
    <p:sldLayoutId id="2147483866" r:id="rId18"/>
    <p:sldLayoutId id="2147483867" r:id="rId19"/>
    <p:sldLayoutId id="2147483868" r:id="rId20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868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871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52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53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54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BEE7-85D6-4866-BDB4-176A10D06F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9"/>
    <p:sldLayoutId id="2147483871" r:id="rId10"/>
    <p:sldLayoutId id="2147483872" r:id="rId11"/>
    <p:sldLayoutId id="2147483873" r:id="rId12"/>
    <p:sldLayoutId id="2147483874" r:id="rId13"/>
    <p:sldLayoutId id="2147483875" r:id="rId14"/>
    <p:sldLayoutId id="2147483876" r:id="rId15"/>
    <p:sldLayoutId id="2147483877" r:id="rId16"/>
    <p:sldLayoutId id="2147483878" r:id="rId17"/>
    <p:sldLayoutId id="2147483879" r:id="rId18"/>
    <p:sldLayoutId id="2147483880" r:id="rId19"/>
    <p:sldLayoutId id="2147483881" r:id="rId20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919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922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55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56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57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EC4F-3AF8-491F-8C00-6BA11E2BA0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9"/>
    <p:sldLayoutId id="2147483884" r:id="rId10"/>
    <p:sldLayoutId id="2147483885" r:id="rId11"/>
    <p:sldLayoutId id="2147483886" r:id="rId12"/>
    <p:sldLayoutId id="2147483887" r:id="rId13"/>
    <p:sldLayoutId id="2147483888" r:id="rId14"/>
    <p:sldLayoutId id="2147483889" r:id="rId15"/>
    <p:sldLayoutId id="2147483890" r:id="rId16"/>
    <p:sldLayoutId id="2147483891" r:id="rId17"/>
    <p:sldLayoutId id="2147483892" r:id="rId18"/>
    <p:sldLayoutId id="2147483893" r:id="rId19"/>
    <p:sldLayoutId id="2147483894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52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55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8231-ABEF-488B-AB30-0858AA4606B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970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973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dt" idx="58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ftr" idx="59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sldNum" idx="60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86C4-139E-4AC7-B053-6B5E39BEA3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9"/>
    <p:sldLayoutId id="2147483897" r:id="rId10"/>
    <p:sldLayoutId id="2147483898" r:id="rId11"/>
    <p:sldLayoutId id="2147483899" r:id="rId12"/>
    <p:sldLayoutId id="2147483900" r:id="rId13"/>
    <p:sldLayoutId id="2147483901" r:id="rId14"/>
    <p:sldLayoutId id="2147483902" r:id="rId15"/>
    <p:sldLayoutId id="2147483903" r:id="rId16"/>
    <p:sldLayoutId id="2147483904" r:id="rId17"/>
    <p:sldLayoutId id="2147483905" r:id="rId18"/>
    <p:sldLayoutId id="2147483906" r:id="rId19"/>
    <p:sldLayoutId id="2147483907" r:id="rId20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1021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1024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61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62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63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7F7B-641E-4982-AC1F-35E3A2F555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9"/>
    <p:sldLayoutId id="2147483910" r:id="rId10"/>
    <p:sldLayoutId id="2147483911" r:id="rId11"/>
    <p:sldLayoutId id="2147483912" r:id="rId12"/>
    <p:sldLayoutId id="2147483913" r:id="rId13"/>
    <p:sldLayoutId id="2147483914" r:id="rId14"/>
    <p:sldLayoutId id="2147483915" r:id="rId15"/>
    <p:sldLayoutId id="2147483916" r:id="rId16"/>
    <p:sldLayoutId id="2147483917" r:id="rId17"/>
    <p:sldLayoutId id="2147483918" r:id="rId18"/>
    <p:sldLayoutId id="2147483919" r:id="rId19"/>
    <p:sldLayoutId id="2147483920" r:id="rId20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1072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1075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64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65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66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C724-6BCB-4FDD-91CC-68855FA4FE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9"/>
    <p:sldLayoutId id="2147483923" r:id="rId10"/>
    <p:sldLayoutId id="2147483924" r:id="rId11"/>
    <p:sldLayoutId id="2147483925" r:id="rId12"/>
    <p:sldLayoutId id="2147483926" r:id="rId13"/>
    <p:sldLayoutId id="2147483927" r:id="rId14"/>
    <p:sldLayoutId id="2147483928" r:id="rId15"/>
    <p:sldLayoutId id="2147483929" r:id="rId16"/>
    <p:sldLayoutId id="2147483930" r:id="rId17"/>
    <p:sldLayoutId id="2147483931" r:id="rId18"/>
    <p:sldLayoutId id="2147483932" r:id="rId19"/>
    <p:sldLayoutId id="2147483933" r:id="rId20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1123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1126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 type="dt" idx="67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 type="ftr" idx="68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 type="sldNum" idx="69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CD0B-907F-4A7C-B377-C441901445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9"/>
    <p:sldLayoutId id="2147483936" r:id="rId10"/>
    <p:sldLayoutId id="2147483937" r:id="rId11"/>
    <p:sldLayoutId id="2147483938" r:id="rId12"/>
    <p:sldLayoutId id="2147483939" r:id="rId13"/>
    <p:sldLayoutId id="2147483940" r:id="rId14"/>
    <p:sldLayoutId id="2147483941" r:id="rId15"/>
    <p:sldLayoutId id="2147483942" r:id="rId16"/>
    <p:sldLayoutId id="2147483943" r:id="rId17"/>
    <p:sldLayoutId id="2147483944" r:id="rId18"/>
    <p:sldLayoutId id="2147483945" r:id="rId19"/>
    <p:sldLayoutId id="2147483946" r:id="rId20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1174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1177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3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1184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6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1187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70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71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72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7738-C7CC-4E0C-935F-43DCE8E557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9"/>
    <p:sldLayoutId id="2147483949" r:id="rId10"/>
    <p:sldLayoutId id="2147483950" r:id="rId11"/>
    <p:sldLayoutId id="2147483951" r:id="rId12"/>
    <p:sldLayoutId id="2147483952" r:id="rId13"/>
    <p:sldLayoutId id="2147483953" r:id="rId14"/>
    <p:sldLayoutId id="2147483954" r:id="rId15"/>
    <p:sldLayoutId id="2147483955" r:id="rId16"/>
    <p:sldLayoutId id="2147483956" r:id="rId17"/>
    <p:sldLayoutId id="2147483957" r:id="rId18"/>
    <p:sldLayoutId id="2147483958" r:id="rId19"/>
    <p:sldLayoutId id="2147483959" r:id="rId20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1231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1234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0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1241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3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1244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dt" idx="73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ftr" idx="74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 type="sldNum" idx="75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CFD0-3563-419B-BE67-309BB365CB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9"/>
    <p:sldLayoutId id="2147483962" r:id="rId10"/>
    <p:sldLayoutId id="2147483963" r:id="rId11"/>
    <p:sldLayoutId id="2147483964" r:id="rId12"/>
    <p:sldLayoutId id="2147483965" r:id="rId13"/>
    <p:sldLayoutId id="2147483966" r:id="rId14"/>
    <p:sldLayoutId id="2147483967" r:id="rId15"/>
    <p:sldLayoutId id="2147483968" r:id="rId16"/>
    <p:sldLayoutId id="2147483969" r:id="rId17"/>
    <p:sldLayoutId id="2147483970" r:id="rId18"/>
    <p:sldLayoutId id="2147483971" r:id="rId19"/>
    <p:sldLayoutId id="2147483972" r:id="rId20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1288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1291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7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1298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0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1301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 type="dt" idx="76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 type="ftr" idx="77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 type="sldNum" idx="78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9AEE-B758-49D1-AA3D-87A1E9960A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9"/>
    <p:sldLayoutId id="2147483975" r:id="rId10"/>
    <p:sldLayoutId id="2147483976" r:id="rId11"/>
    <p:sldLayoutId id="2147483977" r:id="rId12"/>
    <p:sldLayoutId id="2147483978" r:id="rId13"/>
    <p:sldLayoutId id="2147483979" r:id="rId14"/>
    <p:sldLayoutId id="2147483980" r:id="rId15"/>
    <p:sldLayoutId id="2147483981" r:id="rId16"/>
    <p:sldLayoutId id="2147483982" r:id="rId17"/>
    <p:sldLayoutId id="2147483983" r:id="rId18"/>
    <p:sldLayoutId id="2147483984" r:id="rId19"/>
    <p:sldLayoutId id="2147483985" r:id="rId20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4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1345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1348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4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1355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7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1358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 type="dt" idx="79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 type="ftr" idx="80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 type="sldNum" idx="81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DAE2-0FEB-46B6-9AE5-B22E85FE52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9"/>
    <p:sldLayoutId id="2147483988" r:id="rId10"/>
    <p:sldLayoutId id="2147483989" r:id="rId11"/>
    <p:sldLayoutId id="2147483990" r:id="rId12"/>
    <p:sldLayoutId id="2147483991" r:id="rId13"/>
    <p:sldLayoutId id="2147483992" r:id="rId14"/>
    <p:sldLayoutId id="2147483993" r:id="rId15"/>
    <p:sldLayoutId id="2147483994" r:id="rId16"/>
    <p:sldLayoutId id="2147483995" r:id="rId17"/>
    <p:sldLayoutId id="2147483996" r:id="rId18"/>
    <p:sldLayoutId id="2147483997" r:id="rId19"/>
    <p:sldLayoutId id="2147483998" r:id="rId20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1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1402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1405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1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1412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4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1415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 type="dt" idx="82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 type="ftr" idx="83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 type="sldNum" idx="84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4ECE-7ED2-422C-9EBE-26B50B94E5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9"/>
    <p:sldLayoutId id="2147484001" r:id="rId10"/>
    <p:sldLayoutId id="2147484002" r:id="rId11"/>
    <p:sldLayoutId id="2147484003" r:id="rId12"/>
    <p:sldLayoutId id="2147484004" r:id="rId13"/>
    <p:sldLayoutId id="2147484005" r:id="rId14"/>
    <p:sldLayoutId id="2147484006" r:id="rId15"/>
    <p:sldLayoutId id="2147484007" r:id="rId16"/>
    <p:sldLayoutId id="2147484008" r:id="rId17"/>
    <p:sldLayoutId id="2147484009" r:id="rId18"/>
    <p:sldLayoutId id="2147484010" r:id="rId19"/>
    <p:sldLayoutId id="2147484011" r:id="rId20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8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1459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1462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8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1469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1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1472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85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ftr" idx="86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 type="sldNum" idx="87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3533-6EB2-478E-9F19-2E63128809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9"/>
    <p:sldLayoutId id="2147484014" r:id="rId10"/>
    <p:sldLayoutId id="2147484015" r:id="rId11"/>
    <p:sldLayoutId id="2147484016" r:id="rId12"/>
    <p:sldLayoutId id="2147484017" r:id="rId13"/>
    <p:sldLayoutId id="2147484018" r:id="rId14"/>
    <p:sldLayoutId id="2147484019" r:id="rId15"/>
    <p:sldLayoutId id="2147484020" r:id="rId16"/>
    <p:sldLayoutId id="2147484021" r:id="rId17"/>
    <p:sldLayoutId id="2147484022" r:id="rId18"/>
    <p:sldLayoutId id="2147484023" r:id="rId19"/>
    <p:sldLayoutId id="2147484024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103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106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A07D-CA77-4B8E-BDB8-3B8EE32E44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5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1516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1519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5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1526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8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1529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 type="dt" idx="88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 type="ftr" idx="89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 type="sldNum" idx="90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B56E-C7E6-4BD0-AC1D-B862501968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9"/>
    <p:sldLayoutId id="2147484027" r:id="rId10"/>
    <p:sldLayoutId id="2147484028" r:id="rId11"/>
    <p:sldLayoutId id="2147484029" r:id="rId12"/>
    <p:sldLayoutId id="2147484030" r:id="rId13"/>
    <p:sldLayoutId id="2147484031" r:id="rId14"/>
    <p:sldLayoutId id="2147484032" r:id="rId15"/>
    <p:sldLayoutId id="2147484033" r:id="rId16"/>
    <p:sldLayoutId id="2147484034" r:id="rId17"/>
    <p:sldLayoutId id="2147484035" r:id="rId18"/>
    <p:sldLayoutId id="2147484036" r:id="rId19"/>
    <p:sldLayoutId id="2147484037" r:id="rId20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2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1573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1576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2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1583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5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1586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 type="dt" idx="91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 type="ftr" idx="92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 type="sldNum" idx="93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FE86-E1AA-408D-BD8F-546779EBB6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9"/>
    <p:sldLayoutId id="2147484040" r:id="rId10"/>
    <p:sldLayoutId id="2147484041" r:id="rId11"/>
    <p:sldLayoutId id="2147484042" r:id="rId12"/>
    <p:sldLayoutId id="2147484043" r:id="rId13"/>
    <p:sldLayoutId id="2147484044" r:id="rId14"/>
    <p:sldLayoutId id="2147484045" r:id="rId15"/>
    <p:sldLayoutId id="2147484046" r:id="rId16"/>
    <p:sldLayoutId id="2147484047" r:id="rId17"/>
    <p:sldLayoutId id="2147484048" r:id="rId18"/>
    <p:sldLayoutId id="2147484049" r:id="rId19"/>
    <p:sldLayoutId id="2147484050" r:id="rId20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9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1630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2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1633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9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1640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2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1643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 type="dt" idx="94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 type="ftr" idx="95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 type="sldNum" idx="96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9870-4900-44C4-A4E4-6BBE6B64A9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9"/>
    <p:sldLayoutId id="2147484053" r:id="rId10"/>
    <p:sldLayoutId id="2147484054" r:id="rId11"/>
    <p:sldLayoutId id="2147484055" r:id="rId12"/>
    <p:sldLayoutId id="2147484056" r:id="rId13"/>
    <p:sldLayoutId id="2147484057" r:id="rId14"/>
    <p:sldLayoutId id="2147484058" r:id="rId15"/>
    <p:sldLayoutId id="2147484059" r:id="rId16"/>
    <p:sldLayoutId id="2147484060" r:id="rId17"/>
    <p:sldLayoutId id="2147484061" r:id="rId18"/>
    <p:sldLayoutId id="2147484062" r:id="rId19"/>
    <p:sldLayoutId id="2147484063" r:id="rId20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6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1687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1690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6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1697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9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1700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 type="dt" idx="97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 type="ftr" idx="98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 type="sldNum" idx="99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D86D-7E23-4290-A03E-BA2C48BF7D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9"/>
    <p:sldLayoutId id="2147484066" r:id="rId10"/>
    <p:sldLayoutId id="2147484067" r:id="rId11"/>
    <p:sldLayoutId id="2147484068" r:id="rId12"/>
    <p:sldLayoutId id="2147484069" r:id="rId13"/>
    <p:sldLayoutId id="2147484070" r:id="rId14"/>
    <p:sldLayoutId id="2147484071" r:id="rId15"/>
    <p:sldLayoutId id="2147484072" r:id="rId16"/>
    <p:sldLayoutId id="2147484073" r:id="rId17"/>
    <p:sldLayoutId id="2147484074" r:id="rId18"/>
    <p:sldLayoutId id="2147484075" r:id="rId19"/>
    <p:sldLayoutId id="2147484076" r:id="rId20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3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1744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6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1747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3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1754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6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1757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 type="dt" idx="100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 type="ftr" idx="101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 type="sldNum" idx="102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4D5C-5FFB-4607-BF40-F38FCEB998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9"/>
    <p:sldLayoutId id="2147484079" r:id="rId10"/>
    <p:sldLayoutId id="2147484080" r:id="rId11"/>
    <p:sldLayoutId id="2147484081" r:id="rId12"/>
    <p:sldLayoutId id="2147484082" r:id="rId13"/>
    <p:sldLayoutId id="2147484083" r:id="rId14"/>
    <p:sldLayoutId id="2147484084" r:id="rId15"/>
    <p:sldLayoutId id="2147484085" r:id="rId16"/>
    <p:sldLayoutId id="2147484086" r:id="rId17"/>
    <p:sldLayoutId id="2147484087" r:id="rId18"/>
    <p:sldLayoutId id="2147484088" r:id="rId19"/>
    <p:sldLayoutId id="2147484089" r:id="rId20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0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1801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3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1804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0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1811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3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1814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 type="dt" idx="103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 type="ftr" idx="104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 type="sldNum" idx="105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406B-3C4B-4A5E-85E1-75C62EAE48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9"/>
    <p:sldLayoutId id="2147484092" r:id="rId10"/>
    <p:sldLayoutId id="2147484093" r:id="rId11"/>
    <p:sldLayoutId id="2147484094" r:id="rId12"/>
    <p:sldLayoutId id="2147484095" r:id="rId13"/>
    <p:sldLayoutId id="2147484096" r:id="rId14"/>
    <p:sldLayoutId id="2147484097" r:id="rId15"/>
    <p:sldLayoutId id="2147484098" r:id="rId16"/>
    <p:sldLayoutId id="2147484099" r:id="rId17"/>
    <p:sldLayoutId id="2147484100" r:id="rId18"/>
    <p:sldLayoutId id="2147484101" r:id="rId19"/>
    <p:sldLayoutId id="2147484102" r:id="rId20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7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1858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0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1861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7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1868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0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1871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 type="dt" idx="106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 type="ftr" idx="107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 type="sldNum" idx="108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0C82-FCC8-4FAF-BB01-E3C20CE29F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9"/>
    <p:sldLayoutId id="2147484105" r:id="rId10"/>
    <p:sldLayoutId id="2147484106" r:id="rId11"/>
    <p:sldLayoutId id="2147484107" r:id="rId12"/>
    <p:sldLayoutId id="2147484108" r:id="rId13"/>
    <p:sldLayoutId id="2147484109" r:id="rId14"/>
    <p:sldLayoutId id="2147484110" r:id="rId15"/>
    <p:sldLayoutId id="2147484111" r:id="rId16"/>
    <p:sldLayoutId id="2147484112" r:id="rId17"/>
    <p:sldLayoutId id="2147484113" r:id="rId18"/>
    <p:sldLayoutId id="2147484114" r:id="rId19"/>
    <p:sldLayoutId id="2147484115" r:id="rId20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4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1915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7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1918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4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1925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7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1928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09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10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11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6C19-5F5F-4A9F-A7B5-235E6D74BE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9"/>
    <p:sldLayoutId id="2147484118" r:id="rId10"/>
    <p:sldLayoutId id="2147484119" r:id="rId11"/>
    <p:sldLayoutId id="2147484120" r:id="rId12"/>
    <p:sldLayoutId id="2147484121" r:id="rId13"/>
    <p:sldLayoutId id="2147484122" r:id="rId14"/>
    <p:sldLayoutId id="2147484123" r:id="rId15"/>
    <p:sldLayoutId id="2147484124" r:id="rId16"/>
    <p:sldLayoutId id="2147484125" r:id="rId17"/>
    <p:sldLayoutId id="2147484126" r:id="rId18"/>
    <p:sldLayoutId id="2147484127" r:id="rId19"/>
    <p:sldLayoutId id="2147484128" r:id="rId20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1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1972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4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1975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1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1982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4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1985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 type="dt" idx="112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 type="ftr" idx="113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 type="sldNum" idx="114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7B45-852F-4DF6-B997-299DFE42D9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9"/>
    <p:sldLayoutId id="2147484131" r:id="rId10"/>
    <p:sldLayoutId id="2147484132" r:id="rId11"/>
    <p:sldLayoutId id="2147484133" r:id="rId12"/>
    <p:sldLayoutId id="2147484134" r:id="rId13"/>
    <p:sldLayoutId id="2147484135" r:id="rId14"/>
    <p:sldLayoutId id="2147484136" r:id="rId15"/>
    <p:sldLayoutId id="2147484137" r:id="rId16"/>
    <p:sldLayoutId id="2147484138" r:id="rId17"/>
    <p:sldLayoutId id="2147484139" r:id="rId18"/>
    <p:sldLayoutId id="2147484140" r:id="rId19"/>
    <p:sldLayoutId id="2147484141" r:id="rId20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8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2029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1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2032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8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2039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1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2042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 type="dt" idx="115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 type="ftr" idx="116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 type="sldNum" idx="117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C571-C521-43CA-BBF3-F20611D1D9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9"/>
    <p:sldLayoutId id="2147484144" r:id="rId10"/>
    <p:sldLayoutId id="2147484145" r:id="rId11"/>
    <p:sldLayoutId id="2147484146" r:id="rId12"/>
    <p:sldLayoutId id="2147484147" r:id="rId13"/>
    <p:sldLayoutId id="2147484148" r:id="rId14"/>
    <p:sldLayoutId id="2147484149" r:id="rId15"/>
    <p:sldLayoutId id="2147484150" r:id="rId16"/>
    <p:sldLayoutId id="2147484151" r:id="rId17"/>
    <p:sldLayoutId id="2147484152" r:id="rId18"/>
    <p:sldLayoutId id="2147484153" r:id="rId19"/>
    <p:sldLayoutId id="2147484154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154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157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CB71-BE42-4928-B7CB-9AE37AACD0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5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2086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8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2089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5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2096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8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2099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 type="dt" idx="118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 type="ftr" idx="119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 type="sldNum" idx="120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1EF7-7021-4030-BDD4-018801D2BD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9"/>
    <p:sldLayoutId id="2147484157" r:id="rId10"/>
    <p:sldLayoutId id="2147484158" r:id="rId11"/>
    <p:sldLayoutId id="2147484159" r:id="rId12"/>
    <p:sldLayoutId id="2147484160" r:id="rId13"/>
    <p:sldLayoutId id="2147484161" r:id="rId14"/>
    <p:sldLayoutId id="2147484162" r:id="rId15"/>
    <p:sldLayoutId id="2147484163" r:id="rId16"/>
    <p:sldLayoutId id="2147484164" r:id="rId17"/>
    <p:sldLayoutId id="2147484165" r:id="rId18"/>
    <p:sldLayoutId id="2147484166" r:id="rId19"/>
    <p:sldLayoutId id="2147484167" r:id="rId20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2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2143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5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2146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2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2153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5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2156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 type="dt" idx="121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 type="ftr" idx="122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 type="sldNum" idx="123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C630-87EC-4B74-A21F-2E2AC1781DB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9"/>
    <p:sldLayoutId id="2147484170" r:id="rId10"/>
    <p:sldLayoutId id="2147484171" r:id="rId11"/>
    <p:sldLayoutId id="2147484172" r:id="rId12"/>
    <p:sldLayoutId id="2147484173" r:id="rId13"/>
    <p:sldLayoutId id="2147484174" r:id="rId14"/>
    <p:sldLayoutId id="2147484175" r:id="rId15"/>
    <p:sldLayoutId id="2147484176" r:id="rId16"/>
    <p:sldLayoutId id="2147484177" r:id="rId17"/>
    <p:sldLayoutId id="2147484178" r:id="rId18"/>
    <p:sldLayoutId id="2147484179" r:id="rId19"/>
    <p:sldLayoutId id="2147484180" r:id="rId20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9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2200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2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2203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9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2210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2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2213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 type="dt" idx="124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 type="ftr" idx="125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 type="sldNum" idx="126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6668-AFF9-47B3-A1F5-A32E25FAB7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9"/>
    <p:sldLayoutId id="2147484183" r:id="rId10"/>
    <p:sldLayoutId id="2147484184" r:id="rId11"/>
    <p:sldLayoutId id="2147484185" r:id="rId12"/>
    <p:sldLayoutId id="2147484186" r:id="rId13"/>
    <p:sldLayoutId id="2147484187" r:id="rId14"/>
    <p:sldLayoutId id="2147484188" r:id="rId15"/>
    <p:sldLayoutId id="2147484189" r:id="rId16"/>
    <p:sldLayoutId id="2147484190" r:id="rId17"/>
    <p:sldLayoutId id="2147484191" r:id="rId18"/>
    <p:sldLayoutId id="2147484192" r:id="rId19"/>
    <p:sldLayoutId id="2147484193" r:id="rId20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6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2257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9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2260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6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2267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9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2270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7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8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9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52DD-F2FE-404C-BFE3-57A20DDC0C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9"/>
    <p:sldLayoutId id="2147484196" r:id="rId10"/>
    <p:sldLayoutId id="2147484197" r:id="rId11"/>
    <p:sldLayoutId id="2147484198" r:id="rId12"/>
    <p:sldLayoutId id="2147484199" r:id="rId13"/>
    <p:sldLayoutId id="2147484200" r:id="rId14"/>
    <p:sldLayoutId id="2147484201" r:id="rId15"/>
    <p:sldLayoutId id="2147484202" r:id="rId16"/>
    <p:sldLayoutId id="2147484203" r:id="rId17"/>
    <p:sldLayoutId id="2147484204" r:id="rId18"/>
    <p:sldLayoutId id="2147484205" r:id="rId19"/>
    <p:sldLayoutId id="2147484206" r:id="rId20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2314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6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2317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3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2324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6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2327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30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31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32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14AB-15DF-45A3-B0AF-9BB4F787AA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9"/>
    <p:sldLayoutId id="2147484209" r:id="rId10"/>
    <p:sldLayoutId id="2147484210" r:id="rId11"/>
    <p:sldLayoutId id="2147484211" r:id="rId12"/>
    <p:sldLayoutId id="2147484212" r:id="rId13"/>
    <p:sldLayoutId id="2147484213" r:id="rId14"/>
    <p:sldLayoutId id="2147484214" r:id="rId15"/>
    <p:sldLayoutId id="2147484215" r:id="rId16"/>
    <p:sldLayoutId id="2147484216" r:id="rId17"/>
    <p:sldLayoutId id="2147484217" r:id="rId18"/>
    <p:sldLayoutId id="2147484218" r:id="rId19"/>
    <p:sldLayoutId id="2147484219" r:id="rId20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2371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3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2374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0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2381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3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2384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 type="dt" idx="133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 type="ftr" idx="134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5"/>
          <p:cNvSpPr>
            <a:spLocks noGrp="1"/>
          </p:cNvSpPr>
          <p:nvPr>
            <p:ph type="sldNum" idx="135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CE26-0F87-4B81-A7B1-D1C8EFA2F3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9"/>
    <p:sldLayoutId id="2147484222" r:id="rId10"/>
    <p:sldLayoutId id="2147484223" r:id="rId11"/>
    <p:sldLayoutId id="2147484224" r:id="rId12"/>
    <p:sldLayoutId id="2147484225" r:id="rId13"/>
    <p:sldLayoutId id="2147484226" r:id="rId14"/>
    <p:sldLayoutId id="2147484227" r:id="rId15"/>
    <p:sldLayoutId id="2147484228" r:id="rId16"/>
    <p:sldLayoutId id="2147484229" r:id="rId17"/>
    <p:sldLayoutId id="2147484230" r:id="rId18"/>
    <p:sldLayoutId id="2147484231" r:id="rId19"/>
    <p:sldLayoutId id="2147484232" r:id="rId20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7" name="组合 2049"/>
          <p:cNvGrpSpPr/>
          <p:nvPr/>
        </p:nvGrpSpPr>
        <p:grpSpPr>
          <a:xfrm>
            <a:off x="8723160" y="-7920"/>
            <a:ext cx="431640" cy="6852960"/>
            <a:chOff x="8723160" y="-7920"/>
            <a:chExt cx="431640" cy="6852960"/>
          </a:xfrm>
        </p:grpSpPr>
        <p:sp>
          <p:nvSpPr>
            <p:cNvPr id="2428" name="文本框 2050"/>
            <p:cNvSpPr/>
            <p:nvPr/>
          </p:nvSpPr>
          <p:spPr>
            <a:xfrm>
              <a:off x="8723160" y="2134440"/>
              <a:ext cx="431640" cy="47106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文本框 2051"/>
            <p:cNvSpPr/>
            <p:nvPr/>
          </p:nvSpPr>
          <p:spPr>
            <a:xfrm>
              <a:off x="8723160" y="-7920"/>
              <a:ext cx="431640" cy="403488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0" name="组合 2052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2431" name="文本框 2053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文本框 2054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文本框 2055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文本框 2056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文本框 2057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文本框 2058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7" name="组合 2059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2438" name="文本框 2060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文本框 2061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40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2441" name="直接连接符 2062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 type="dt" idx="136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 type="ftr" idx="137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5"/>
          <p:cNvSpPr>
            <a:spLocks noGrp="1"/>
          </p:cNvSpPr>
          <p:nvPr>
            <p:ph type="sldNum" idx="138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9634-051C-4628-8CF1-23FF2F0544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9"/>
    <p:sldLayoutId id="2147484235" r:id="rId10"/>
    <p:sldLayoutId id="2147484236" r:id="rId11"/>
    <p:sldLayoutId id="2147484237" r:id="rId12"/>
    <p:sldLayoutId id="2147484238" r:id="rId13"/>
    <p:sldLayoutId id="2147484239" r:id="rId14"/>
    <p:sldLayoutId id="2147484240" r:id="rId15"/>
    <p:sldLayoutId id="2147484241" r:id="rId16"/>
    <p:sldLayoutId id="2147484242" r:id="rId17"/>
    <p:sldLayoutId id="2147484243" r:id="rId18"/>
    <p:sldLayoutId id="2147484244" r:id="rId19"/>
    <p:sldLayoutId id="2147484245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205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208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7D81-B073-4FB3-9494-2122C66C48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256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259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73F0-DF74-40D1-83D2-5E029F2A4F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307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310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12E6-34D6-4C32-939C-01B88030C9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358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361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C953-544A-4EC0-A666-856D6F1385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组合 1025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409" name="文本框 1026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文本框 1027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1028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412" name="文本框 1029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文本框 1030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文本框 1031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1032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文本框 1033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文本框 1034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EAAA-95BA-4AD3-A8C5-544BA05E1C3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6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4" name="图片 1" descr="timg"/>
          <p:cNvPicPr/>
          <p:nvPr/>
        </p:nvPicPr>
        <p:blipFill>
          <a:blip r:embed="rId1"/>
          <a:stretch/>
        </p:blipFill>
        <p:spPr>
          <a:xfrm>
            <a:off x="9360" y="0"/>
            <a:ext cx="91951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5" name=""/>
          <p:cNvGraphicFramePr/>
          <p:nvPr/>
        </p:nvGraphicFramePr>
        <p:xfrm>
          <a:off x="812880" y="4581360"/>
          <a:ext cx="7516800" cy="1320840"/>
        </p:xfrm>
        <a:graphic>
          <a:graphicData uri="http://schemas.openxmlformats.org/drawingml/2006/table">
            <a:tbl>
              <a:tblPr/>
              <a:tblGrid>
                <a:gridCol w="1025640"/>
                <a:gridCol w="1562040"/>
                <a:gridCol w="1639800"/>
                <a:gridCol w="1682640"/>
                <a:gridCol w="1606680"/>
              </a:tblGrid>
              <a:tr h="43956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“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长度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”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物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场景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事情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小话剧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个小时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人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个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一两件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6" name="Rectangle 49"/>
          <p:cNvSpPr/>
          <p:nvPr/>
        </p:nvSpPr>
        <p:spPr>
          <a:xfrm>
            <a:off x="1547640" y="34671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7" name="图片 1" descr="febd-fyfzhac1354070"/>
          <p:cNvPicPr/>
          <p:nvPr/>
        </p:nvPicPr>
        <p:blipFill>
          <a:blip r:embed="rId2"/>
          <a:stretch/>
        </p:blipFill>
        <p:spPr>
          <a:xfrm>
            <a:off x="-88920" y="0"/>
            <a:ext cx="4702320" cy="3670200"/>
          </a:xfrm>
          <a:prstGeom prst="rect">
            <a:avLst/>
          </a:prstGeom>
          <a:ln w="0">
            <a:noFill/>
          </a:ln>
        </p:spPr>
      </p:pic>
      <p:pic>
        <p:nvPicPr>
          <p:cNvPr id="2488" name="图片 2" descr="e3950093d05b47d4a18af1fa668eed6e"/>
          <p:cNvPicPr/>
          <p:nvPr/>
        </p:nvPicPr>
        <p:blipFill>
          <a:blip r:embed="rId3"/>
          <a:stretch/>
        </p:blipFill>
        <p:spPr>
          <a:xfrm>
            <a:off x="4613400" y="0"/>
            <a:ext cx="4591080" cy="3670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5" name="图片 1" descr="timg"/>
          <p:cNvPicPr/>
          <p:nvPr/>
        </p:nvPicPr>
        <p:blipFill>
          <a:blip r:embed="rId1"/>
          <a:stretch/>
        </p:blipFill>
        <p:spPr>
          <a:xfrm>
            <a:off x="9360" y="0"/>
            <a:ext cx="9195120" cy="6856560"/>
          </a:xfrm>
          <a:prstGeom prst="rect">
            <a:avLst/>
          </a:prstGeom>
          <a:ln w="0">
            <a:noFill/>
          </a:ln>
        </p:spPr>
      </p:pic>
      <p:sp>
        <p:nvSpPr>
          <p:cNvPr id="2516" name="Rectangle 49"/>
          <p:cNvSpPr/>
          <p:nvPr/>
        </p:nvSpPr>
        <p:spPr>
          <a:xfrm>
            <a:off x="1547640" y="34671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文本框 1"/>
          <p:cNvSpPr/>
          <p:nvPr/>
        </p:nvSpPr>
        <p:spPr>
          <a:xfrm>
            <a:off x="219240" y="-96840"/>
            <a:ext cx="877536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草莓味硬糖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草莓味硬糖一直记得出厂那天糖果将军的交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生命的最后一刻，用了全力抱住小女孩的舌尖，在甜甜的夹心溢出来时，小女孩因打针而哭花的小脸立刻破涕为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终于完成了使命。草莓味硬糖放心地闭上了眼睛，透明的身体渐渐融化开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模糊中她想起穿上漂亮铠甲出征的时候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市装甲车来的那天，厂长将军召集了所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的糖果，严肃地看着将士们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记住了，糖果的使命，就是把生命献给每一个需要安慰的舌头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果军团的将士们的眼里个个都散发着五彩缤纷又坚定的光芒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8" name="图片 1" descr="timg"/>
          <p:cNvPicPr/>
          <p:nvPr/>
        </p:nvPicPr>
        <p:blipFill>
          <a:blip r:embed="rId1"/>
          <a:stretch/>
        </p:blipFill>
        <p:spPr>
          <a:xfrm>
            <a:off x="9360" y="0"/>
            <a:ext cx="9195120" cy="6856560"/>
          </a:xfrm>
          <a:prstGeom prst="rect">
            <a:avLst/>
          </a:prstGeom>
          <a:ln w="0">
            <a:noFill/>
          </a:ln>
        </p:spPr>
      </p:pic>
      <p:sp>
        <p:nvSpPr>
          <p:cNvPr id="2519" name="Rectangle 49"/>
          <p:cNvSpPr/>
          <p:nvPr/>
        </p:nvSpPr>
        <p:spPr>
          <a:xfrm>
            <a:off x="1547640" y="34671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文本框 1"/>
          <p:cNvSpPr/>
          <p:nvPr/>
        </p:nvSpPr>
        <p:spPr>
          <a:xfrm>
            <a:off x="219240" y="114480"/>
            <a:ext cx="877536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草莓味硬糖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五分钟后，舌头上红彤彤的小女孩傲娇地对着医生做了个鬼脸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医生摸摸小女孩的脑袋，和煦的阳光从窗外照进来，纸篓里空荡荡的糖衣铠甲金光闪闪，淡淡的草莓芬芳溢满了小小的诊所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这个宁静祥和的时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她小小的舌头上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了捍卫世界上的纯真笑容，草莓味硬糖刚刚用生命结束了一场殊死搏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1" name="图片 1" descr="timg"/>
          <p:cNvPicPr/>
          <p:nvPr/>
        </p:nvPicPr>
        <p:blipFill>
          <a:blip r:embed="rId1"/>
          <a:stretch/>
        </p:blipFill>
        <p:spPr>
          <a:xfrm>
            <a:off x="9360" y="0"/>
            <a:ext cx="91951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2" name=""/>
          <p:cNvGraphicFramePr/>
          <p:nvPr/>
        </p:nvGraphicFramePr>
        <p:xfrm>
          <a:off x="714240" y="1928880"/>
          <a:ext cx="7615080" cy="2946240"/>
        </p:xfrm>
        <a:graphic>
          <a:graphicData uri="http://schemas.openxmlformats.org/drawingml/2006/table">
            <a:tbl>
              <a:tblPr/>
              <a:tblGrid>
                <a:gridCol w="1039680"/>
                <a:gridCol w="1582920"/>
                <a:gridCol w="1660320"/>
                <a:gridCol w="1704960"/>
                <a:gridCol w="1627200"/>
              </a:tblGrid>
              <a:tr h="5191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“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长度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”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物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场景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事情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28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短文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五百字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人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个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一件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《草莓味硬糖</a:t>
                      </a: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3" name="Rectangle 49"/>
          <p:cNvSpPr/>
          <p:nvPr/>
        </p:nvSpPr>
        <p:spPr>
          <a:xfrm>
            <a:off x="1547640" y="34671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4" name="图片 1" descr="timg"/>
          <p:cNvPicPr/>
          <p:nvPr/>
        </p:nvPicPr>
        <p:blipFill>
          <a:blip r:embed="rId1"/>
          <a:stretch/>
        </p:blipFill>
        <p:spPr>
          <a:xfrm>
            <a:off x="9360" y="0"/>
            <a:ext cx="91951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5" name=""/>
          <p:cNvGraphicFramePr/>
          <p:nvPr/>
        </p:nvGraphicFramePr>
        <p:xfrm>
          <a:off x="714240" y="1928880"/>
          <a:ext cx="7615080" cy="3081240"/>
        </p:xfrm>
        <a:graphic>
          <a:graphicData uri="http://schemas.openxmlformats.org/drawingml/2006/table">
            <a:tbl>
              <a:tblPr/>
              <a:tblGrid>
                <a:gridCol w="1039680"/>
                <a:gridCol w="1582920"/>
                <a:gridCol w="1660320"/>
                <a:gridCol w="1704960"/>
                <a:gridCol w="1627200"/>
              </a:tblGrid>
              <a:tr h="5191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“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长度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”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物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场景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事情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28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短文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五百字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人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个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一件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784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《草莓味硬糖</a:t>
                      </a: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80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个字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女孩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草莓味硬糖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糖果厂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女孩的舌头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草莓味硬糖把生命献给了一个需要安慰的舌头。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6" name="Rectangle 49"/>
          <p:cNvSpPr/>
          <p:nvPr/>
        </p:nvSpPr>
        <p:spPr>
          <a:xfrm>
            <a:off x="1547640" y="34671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7" name="图片 1" descr="timg"/>
          <p:cNvPicPr/>
          <p:nvPr/>
        </p:nvPicPr>
        <p:blipFill>
          <a:blip r:embed="rId1"/>
          <a:stretch/>
        </p:blipFill>
        <p:spPr>
          <a:xfrm>
            <a:off x="9360" y="0"/>
            <a:ext cx="91951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8" name=""/>
          <p:cNvGraphicFramePr/>
          <p:nvPr/>
        </p:nvGraphicFramePr>
        <p:xfrm>
          <a:off x="728640" y="1330200"/>
          <a:ext cx="7966080" cy="3941640"/>
        </p:xfrm>
        <a:graphic>
          <a:graphicData uri="http://schemas.openxmlformats.org/drawingml/2006/table">
            <a:tbl>
              <a:tblPr/>
              <a:tblGrid>
                <a:gridCol w="1371600"/>
                <a:gridCol w="2195640"/>
                <a:gridCol w="2249280"/>
                <a:gridCol w="2149560"/>
              </a:tblGrid>
              <a:tr h="66348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物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场景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事情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268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《草莓味硬糖</a:t>
                      </a: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女孩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护士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家里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输液室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护士把一颗糖送了哭闹的小女孩。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548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《草莓味硬糖</a:t>
                      </a: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女孩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草莓味硬糖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糖果厂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女孩的舌头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草莓味硬糖把生命献给了一个需要安慰的舌头。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9" name="Rectangle 49"/>
          <p:cNvSpPr/>
          <p:nvPr/>
        </p:nvSpPr>
        <p:spPr>
          <a:xfrm>
            <a:off x="1547640" y="34671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0" name="图片 1" descr="timg"/>
          <p:cNvPicPr/>
          <p:nvPr/>
        </p:nvPicPr>
        <p:blipFill>
          <a:blip r:embed="rId1"/>
          <a:stretch/>
        </p:blipFill>
        <p:spPr>
          <a:xfrm>
            <a:off x="9360" y="0"/>
            <a:ext cx="91951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1" name=""/>
          <p:cNvGraphicFramePr/>
          <p:nvPr/>
        </p:nvGraphicFramePr>
        <p:xfrm>
          <a:off x="849240" y="3467160"/>
          <a:ext cx="7516800" cy="1320840"/>
        </p:xfrm>
        <a:graphic>
          <a:graphicData uri="http://schemas.openxmlformats.org/drawingml/2006/table">
            <a:tbl>
              <a:tblPr/>
              <a:tblGrid>
                <a:gridCol w="1025640"/>
                <a:gridCol w="1562040"/>
                <a:gridCol w="1639800"/>
                <a:gridCol w="1682640"/>
                <a:gridCol w="1606680"/>
              </a:tblGrid>
              <a:tr h="43956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“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长度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”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物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场景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事情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故事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五百字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人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个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一件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2" name="Rectangle 49"/>
          <p:cNvSpPr/>
          <p:nvPr/>
        </p:nvSpPr>
        <p:spPr>
          <a:xfrm>
            <a:off x="1547640" y="34671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文本框 1"/>
          <p:cNvSpPr/>
          <p:nvPr/>
        </p:nvSpPr>
        <p:spPr>
          <a:xfrm>
            <a:off x="676440" y="860400"/>
            <a:ext cx="786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其实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生活中的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每天报纸上刊登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新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都可以改写成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故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4" name="图片 1" descr="timg"/>
          <p:cNvPicPr/>
          <p:nvPr/>
        </p:nvPicPr>
        <p:blipFill>
          <a:blip r:embed="rId1"/>
          <a:stretch/>
        </p:blipFill>
        <p:spPr>
          <a:xfrm>
            <a:off x="-25560" y="0"/>
            <a:ext cx="9195120" cy="6856560"/>
          </a:xfrm>
          <a:prstGeom prst="rect">
            <a:avLst/>
          </a:prstGeom>
          <a:ln w="0">
            <a:noFill/>
          </a:ln>
        </p:spPr>
      </p:pic>
      <p:pic>
        <p:nvPicPr>
          <p:cNvPr id="2535" name="图片 1" descr="7-14020621221c47"/>
          <p:cNvPicPr/>
          <p:nvPr/>
        </p:nvPicPr>
        <p:blipFill>
          <a:blip r:embed="rId2"/>
          <a:stretch/>
        </p:blipFill>
        <p:spPr>
          <a:xfrm>
            <a:off x="-190440" y="-203040"/>
            <a:ext cx="9524880" cy="72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6" name="图片 1" descr="timg"/>
          <p:cNvPicPr/>
          <p:nvPr/>
        </p:nvPicPr>
        <p:blipFill>
          <a:blip r:embed="rId1"/>
          <a:stretch/>
        </p:blipFill>
        <p:spPr>
          <a:xfrm>
            <a:off x="-25560" y="0"/>
            <a:ext cx="9195120" cy="6856560"/>
          </a:xfrm>
          <a:prstGeom prst="rect">
            <a:avLst/>
          </a:prstGeom>
          <a:ln w="0">
            <a:noFill/>
          </a:ln>
        </p:spPr>
      </p:pic>
      <p:sp>
        <p:nvSpPr>
          <p:cNvPr id="2537" name="文本框 2"/>
          <p:cNvSpPr/>
          <p:nvPr/>
        </p:nvSpPr>
        <p:spPr>
          <a:xfrm>
            <a:off x="368280" y="920880"/>
            <a:ext cx="840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最近，美国洛杉矶的法院发出了一项决议，要求星巴克和其它的咖啡公司，必须在加利福尼亚州出售的咖啡产品上贴着致癌警告标签，提醒来买咖啡的人，喝咖啡有可能会致癌！这可太让大家惊奇了，喝咖啡也会导致癌症吗？这到底是怎么一回事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8" name="图片 1" descr="timg"/>
          <p:cNvPicPr/>
          <p:nvPr/>
        </p:nvPicPr>
        <p:blipFill>
          <a:blip r:embed="rId1"/>
          <a:stretch/>
        </p:blipFill>
        <p:spPr>
          <a:xfrm>
            <a:off x="-25560" y="0"/>
            <a:ext cx="9195120" cy="6856560"/>
          </a:xfrm>
          <a:prstGeom prst="rect">
            <a:avLst/>
          </a:prstGeom>
          <a:ln w="0">
            <a:noFill/>
          </a:ln>
        </p:spPr>
      </p:pic>
      <p:sp>
        <p:nvSpPr>
          <p:cNvPr id="2539" name="文本框 2"/>
          <p:cNvSpPr/>
          <p:nvPr/>
        </p:nvSpPr>
        <p:spPr>
          <a:xfrm>
            <a:off x="368280" y="736560"/>
            <a:ext cx="84074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咖啡会致癌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因为制作咖啡的咖啡豆在烘焙过程中，会产生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丙烯酰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丙烯酰胺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被列入了国际癌症研究机构公布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类致癌物清单中，它在很多动物身上做过实验，都证明会有一定的致癌性，而且还可能会造成神经系统损伤，影响婴儿早期的发育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0" name="图片 1" descr="timg"/>
          <p:cNvPicPr/>
          <p:nvPr/>
        </p:nvPicPr>
        <p:blipFill>
          <a:blip r:embed="rId1"/>
          <a:stretch/>
        </p:blipFill>
        <p:spPr>
          <a:xfrm>
            <a:off x="-25560" y="0"/>
            <a:ext cx="9195120" cy="6856560"/>
          </a:xfrm>
          <a:prstGeom prst="rect">
            <a:avLst/>
          </a:prstGeom>
          <a:ln w="0">
            <a:noFill/>
          </a:ln>
        </p:spPr>
      </p:pic>
      <p:sp>
        <p:nvSpPr>
          <p:cNvPr id="2541" name="文本框 2"/>
          <p:cNvSpPr/>
          <p:nvPr/>
        </p:nvSpPr>
        <p:spPr>
          <a:xfrm>
            <a:off x="290520" y="828720"/>
            <a:ext cx="85615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正常喝咖啡不会致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年，《食品与化学毒物学期刊》上的一项研究成果表明：丙烯酰胺的致癌剂量每公斤体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微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微克每天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也就是说，一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公斤体重的成年人，每天摄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公斤咖啡，才会喝到致癌剂量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公斤的咖啡，差不多相当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杯星巴克中杯咖啡的量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9" name="图片 3" descr="timg (1)"/>
          <p:cNvPicPr/>
          <p:nvPr/>
        </p:nvPicPr>
        <p:blipFill>
          <a:blip r:embed="rId1"/>
          <a:stretch/>
        </p:blipFill>
        <p:spPr>
          <a:xfrm>
            <a:off x="5454720" y="4176720"/>
            <a:ext cx="3217680" cy="2736720"/>
          </a:xfrm>
          <a:prstGeom prst="rect">
            <a:avLst/>
          </a:prstGeom>
          <a:ln w="0">
            <a:noFill/>
          </a:ln>
        </p:spPr>
      </p:pic>
      <p:pic>
        <p:nvPicPr>
          <p:cNvPr id="2490" name="矩形 1" descr=""/>
          <p:cNvPicPr/>
          <p:nvPr/>
        </p:nvPicPr>
        <p:blipFill>
          <a:blip r:embed="rId2"/>
          <a:stretch/>
        </p:blipFill>
        <p:spPr>
          <a:xfrm>
            <a:off x="781200" y="1730520"/>
            <a:ext cx="811836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2" name="图片 1" descr="timg"/>
          <p:cNvPicPr/>
          <p:nvPr/>
        </p:nvPicPr>
        <p:blipFill>
          <a:blip r:embed="rId1"/>
          <a:stretch/>
        </p:blipFill>
        <p:spPr>
          <a:xfrm>
            <a:off x="-25560" y="0"/>
            <a:ext cx="9195120" cy="6856560"/>
          </a:xfrm>
          <a:prstGeom prst="rect">
            <a:avLst/>
          </a:prstGeom>
          <a:ln w="0">
            <a:noFill/>
          </a:ln>
        </p:spPr>
      </p:pic>
      <p:sp>
        <p:nvSpPr>
          <p:cNvPr id="2543" name="文本框 2"/>
          <p:cNvSpPr/>
          <p:nvPr/>
        </p:nvSpPr>
        <p:spPr>
          <a:xfrm>
            <a:off x="290520" y="612720"/>
            <a:ext cx="85615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怎样减少丙烯酰胺的危害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丙烯酰胺这种东西不只是咖啡里有，许多含有淀粉的食物在高温加热以后，都会产生丙烯酰胺，比如薯片、面包、薯条、麻花、饼干和烧炒过的菜里面。如果要减少丙烯酰胺对我们身体可能会带来的危害，我们平时也要少吃一些用煎、炸、烤的方法做出来的食物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4" name="图片 1" descr="timg"/>
          <p:cNvPicPr/>
          <p:nvPr/>
        </p:nvPicPr>
        <p:blipFill>
          <a:blip r:embed="rId1"/>
          <a:stretch/>
        </p:blipFill>
        <p:spPr>
          <a:xfrm>
            <a:off x="9360" y="0"/>
            <a:ext cx="91951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5" name=""/>
          <p:cNvGraphicFramePr/>
          <p:nvPr/>
        </p:nvGraphicFramePr>
        <p:xfrm>
          <a:off x="1352520" y="3467160"/>
          <a:ext cx="6437160" cy="1644480"/>
        </p:xfrm>
        <a:graphic>
          <a:graphicData uri="http://schemas.openxmlformats.org/drawingml/2006/table">
            <a:tbl>
              <a:tblPr/>
              <a:tblGrid>
                <a:gridCol w="2143080"/>
                <a:gridCol w="2197080"/>
                <a:gridCol w="2097000"/>
              </a:tblGrid>
              <a:tr h="54756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物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场景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事情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6" name="Rectangle 49"/>
          <p:cNvSpPr/>
          <p:nvPr/>
        </p:nvSpPr>
        <p:spPr>
          <a:xfrm>
            <a:off x="1547640" y="34671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文本框 1"/>
          <p:cNvSpPr/>
          <p:nvPr/>
        </p:nvSpPr>
        <p:spPr>
          <a:xfrm>
            <a:off x="676440" y="860400"/>
            <a:ext cx="786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如果把这则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新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改写成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故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，你会怎样设计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8" name="图片 1" descr="timg"/>
          <p:cNvPicPr/>
          <p:nvPr/>
        </p:nvPicPr>
        <p:blipFill>
          <a:blip r:embed="rId1"/>
          <a:stretch/>
        </p:blipFill>
        <p:spPr>
          <a:xfrm>
            <a:off x="-25560" y="0"/>
            <a:ext cx="91951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9" name=""/>
          <p:cNvGraphicFramePr/>
          <p:nvPr/>
        </p:nvGraphicFramePr>
        <p:xfrm>
          <a:off x="1352520" y="3467160"/>
          <a:ext cx="6437160" cy="1896840"/>
        </p:xfrm>
        <a:graphic>
          <a:graphicData uri="http://schemas.openxmlformats.org/drawingml/2006/table">
            <a:tbl>
              <a:tblPr/>
              <a:tblGrid>
                <a:gridCol w="2143080"/>
                <a:gridCol w="2197080"/>
                <a:gridCol w="2097000"/>
              </a:tblGrid>
              <a:tr h="54720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物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场景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事情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64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咖啡豆（星巴克咖啡）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可乐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超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可乐要把咖啡从超市里赶出去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0" name="Rectangle 49"/>
          <p:cNvSpPr/>
          <p:nvPr/>
        </p:nvSpPr>
        <p:spPr>
          <a:xfrm>
            <a:off x="1463760" y="34671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文本框 1"/>
          <p:cNvSpPr/>
          <p:nvPr/>
        </p:nvSpPr>
        <p:spPr>
          <a:xfrm>
            <a:off x="676440" y="860400"/>
            <a:ext cx="786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如果把这则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新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改写成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故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，你会怎样设计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2" name="图片 1" descr="timg"/>
          <p:cNvPicPr/>
          <p:nvPr/>
        </p:nvPicPr>
        <p:blipFill>
          <a:blip r:embed="rId1"/>
          <a:stretch/>
        </p:blipFill>
        <p:spPr>
          <a:xfrm>
            <a:off x="-25560" y="0"/>
            <a:ext cx="9195120" cy="6856560"/>
          </a:xfrm>
          <a:prstGeom prst="rect">
            <a:avLst/>
          </a:prstGeom>
          <a:ln w="0">
            <a:noFill/>
          </a:ln>
        </p:spPr>
      </p:pic>
      <p:sp>
        <p:nvSpPr>
          <p:cNvPr id="2553" name="文本框 2"/>
          <p:cNvSpPr/>
          <p:nvPr/>
        </p:nvSpPr>
        <p:spPr>
          <a:xfrm>
            <a:off x="388800" y="422280"/>
            <a:ext cx="83664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超市夜惊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随着九点的钟声响起，麻雀超市准时关门歇业。可刚关上，饮料架的方向就传来乒乒乓乓的声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只见可乐头头叉着腰，正在训斥咖啡豆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来你们咖啡豆这么坏啊，你们身上的丙烯酰胺会让人得癌症，感谢美国加州的法院，揭穿了你们咖啡的真面目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话刚说完，一个可乐小弟就直接拉开自己头上的易拉罐环，扑上去，用锋利的易拉罐环割破了咖啡豆妈妈的袋子，咖啡豆哗啦啦掉出来，咖啡豆妈妈伤心地哭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跌倒一边的咖啡豆抱在一起，苦苦哀求着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乐头头，我们是生的咖啡豆，没有你所说的致癌物质，求你大发慈悲，不要赶走我们哪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4" name="图片 1" descr="timg"/>
          <p:cNvPicPr/>
          <p:nvPr/>
        </p:nvPicPr>
        <p:blipFill>
          <a:blip r:embed="rId1"/>
          <a:stretch/>
        </p:blipFill>
        <p:spPr>
          <a:xfrm>
            <a:off x="-25560" y="0"/>
            <a:ext cx="9195120" cy="6856560"/>
          </a:xfrm>
          <a:prstGeom prst="rect">
            <a:avLst/>
          </a:prstGeom>
          <a:ln w="0">
            <a:noFill/>
          </a:ln>
        </p:spPr>
      </p:pic>
      <p:sp>
        <p:nvSpPr>
          <p:cNvPr id="2555" name="文本框 2"/>
          <p:cNvSpPr/>
          <p:nvPr/>
        </p:nvSpPr>
        <p:spPr>
          <a:xfrm>
            <a:off x="388800" y="577800"/>
            <a:ext cx="8366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超市夜惊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还有你，星巴克咖啡，你平时不是觉得自己特了不起吗？前些天还笑话我们可乐会让人蛀牙，让人得糖尿病。没想到你还有今天哪，还不赶快走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可乐头头一声令下，可乐小弟冲向饮料架，把瓶瓶罐罐的咖啡全都赶到一边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1" name="图片 1" descr="timg"/>
          <p:cNvPicPr/>
          <p:nvPr/>
        </p:nvPicPr>
        <p:blipFill>
          <a:blip r:embed="rId1"/>
          <a:stretch/>
        </p:blipFill>
        <p:spPr>
          <a:xfrm>
            <a:off x="9360" y="0"/>
            <a:ext cx="91951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2" name=""/>
          <p:cNvGraphicFramePr/>
          <p:nvPr/>
        </p:nvGraphicFramePr>
        <p:xfrm>
          <a:off x="812880" y="4581360"/>
          <a:ext cx="7516800" cy="1320840"/>
        </p:xfrm>
        <a:graphic>
          <a:graphicData uri="http://schemas.openxmlformats.org/drawingml/2006/table">
            <a:tbl>
              <a:tblPr/>
              <a:tblGrid>
                <a:gridCol w="1025640"/>
                <a:gridCol w="1562040"/>
                <a:gridCol w="1639800"/>
                <a:gridCol w="1682640"/>
                <a:gridCol w="1606680"/>
              </a:tblGrid>
              <a:tr h="43956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“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长度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”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物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场景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事情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小话剧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个小时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人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个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一两件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3" name="Rectangle 49"/>
          <p:cNvSpPr/>
          <p:nvPr/>
        </p:nvSpPr>
        <p:spPr>
          <a:xfrm>
            <a:off x="1547640" y="34671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4" name="图片 1" descr="febd-fyfzhac1354070"/>
          <p:cNvPicPr/>
          <p:nvPr/>
        </p:nvPicPr>
        <p:blipFill>
          <a:blip r:embed="rId2"/>
          <a:stretch/>
        </p:blipFill>
        <p:spPr>
          <a:xfrm>
            <a:off x="-88920" y="0"/>
            <a:ext cx="4702320" cy="3670200"/>
          </a:xfrm>
          <a:prstGeom prst="rect">
            <a:avLst/>
          </a:prstGeom>
          <a:ln w="0">
            <a:noFill/>
          </a:ln>
        </p:spPr>
      </p:pic>
      <p:pic>
        <p:nvPicPr>
          <p:cNvPr id="2495" name="图片 2" descr="e3950093d05b47d4a18af1fa668eed6e"/>
          <p:cNvPicPr/>
          <p:nvPr/>
        </p:nvPicPr>
        <p:blipFill>
          <a:blip r:embed="rId3"/>
          <a:stretch/>
        </p:blipFill>
        <p:spPr>
          <a:xfrm>
            <a:off x="4613400" y="0"/>
            <a:ext cx="4591080" cy="3670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6" name="图片 1" descr="timg"/>
          <p:cNvPicPr/>
          <p:nvPr/>
        </p:nvPicPr>
        <p:blipFill>
          <a:blip r:embed="rId1"/>
          <a:stretch/>
        </p:blipFill>
        <p:spPr>
          <a:xfrm>
            <a:off x="9360" y="0"/>
            <a:ext cx="91951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7" name=""/>
          <p:cNvGraphicFramePr/>
          <p:nvPr/>
        </p:nvGraphicFramePr>
        <p:xfrm>
          <a:off x="849240" y="3467160"/>
          <a:ext cx="7516800" cy="2349360"/>
        </p:xfrm>
        <a:graphic>
          <a:graphicData uri="http://schemas.openxmlformats.org/drawingml/2006/table">
            <a:tbl>
              <a:tblPr/>
              <a:tblGrid>
                <a:gridCol w="1025640"/>
                <a:gridCol w="1562040"/>
                <a:gridCol w="1639800"/>
                <a:gridCol w="1682640"/>
                <a:gridCol w="1606680"/>
              </a:tblGrid>
              <a:tr h="43956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“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长度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”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物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场景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事情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小话剧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个小时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人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个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一件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短文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五百字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人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个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一件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8" name="Rectangle 49"/>
          <p:cNvSpPr/>
          <p:nvPr/>
        </p:nvSpPr>
        <p:spPr>
          <a:xfrm>
            <a:off x="1547640" y="34671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文本框 1"/>
          <p:cNvSpPr/>
          <p:nvPr/>
        </p:nvSpPr>
        <p:spPr>
          <a:xfrm>
            <a:off x="676440" y="860400"/>
            <a:ext cx="786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其实，这个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规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，也适用于四五百字的短小的文章、故事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0" name="图片 1" descr="timg"/>
          <p:cNvPicPr/>
          <p:nvPr/>
        </p:nvPicPr>
        <p:blipFill>
          <a:blip r:embed="rId1"/>
          <a:stretch/>
        </p:blipFill>
        <p:spPr>
          <a:xfrm>
            <a:off x="9360" y="0"/>
            <a:ext cx="9195120" cy="6856560"/>
          </a:xfrm>
          <a:prstGeom prst="rect">
            <a:avLst/>
          </a:prstGeom>
          <a:ln w="0">
            <a:noFill/>
          </a:ln>
        </p:spPr>
      </p:pic>
      <p:sp>
        <p:nvSpPr>
          <p:cNvPr id="2501" name="Rectangle 49"/>
          <p:cNvSpPr/>
          <p:nvPr/>
        </p:nvSpPr>
        <p:spPr>
          <a:xfrm>
            <a:off x="1547640" y="34671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文本框 1"/>
          <p:cNvSpPr/>
          <p:nvPr/>
        </p:nvSpPr>
        <p:spPr>
          <a:xfrm>
            <a:off x="262080" y="1212840"/>
            <a:ext cx="861984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个小女孩打针，哭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护士给小女孩吃了一颗甜甜的草莓味硬糖，她笑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3" name="图片 1" descr="timg"/>
          <p:cNvPicPr/>
          <p:nvPr/>
        </p:nvPicPr>
        <p:blipFill>
          <a:blip r:embed="rId1"/>
          <a:stretch/>
        </p:blipFill>
        <p:spPr>
          <a:xfrm>
            <a:off x="9360" y="0"/>
            <a:ext cx="9195120" cy="6856560"/>
          </a:xfrm>
          <a:prstGeom prst="rect">
            <a:avLst/>
          </a:prstGeom>
          <a:ln w="0">
            <a:noFill/>
          </a:ln>
        </p:spPr>
      </p:pic>
      <p:sp>
        <p:nvSpPr>
          <p:cNvPr id="2504" name="Rectangle 49"/>
          <p:cNvSpPr/>
          <p:nvPr/>
        </p:nvSpPr>
        <p:spPr>
          <a:xfrm>
            <a:off x="1547640" y="34671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文本框 1"/>
          <p:cNvSpPr/>
          <p:nvPr/>
        </p:nvSpPr>
        <p:spPr>
          <a:xfrm>
            <a:off x="297000" y="-96840"/>
            <a:ext cx="862164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草莓味硬糖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末的早晨，妹妹感到身体不舒服，全身懒洋洋的，不想动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妈妈过去摸了摸她的额头，惊呼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妹，你发烧了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说完，一路飞奔带着她到儿童医院检查。医生对妈妈说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孩子需要打针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妹妹一听，立马哭了起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哭只是第一步，然后是闹、大叫、撒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医命难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妹妹再反抗也没有用。护士右手拿着注射器，左手拿着消毒棉签，沾了碘酒，用小指把妹妹的裤子往下压了压，进行消毒。妹妹的臀部反射性地紧绷起来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也许感到肌肉比较紧张，护士加大了手劲，并一再告诫妹妹要放松，不然药液不扩散，会加剧疼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6" name="图片 1" descr="timg"/>
          <p:cNvPicPr/>
          <p:nvPr/>
        </p:nvPicPr>
        <p:blipFill>
          <a:blip r:embed="rId1"/>
          <a:stretch/>
        </p:blipFill>
        <p:spPr>
          <a:xfrm>
            <a:off x="9360" y="0"/>
            <a:ext cx="9195120" cy="6856560"/>
          </a:xfrm>
          <a:prstGeom prst="rect">
            <a:avLst/>
          </a:prstGeom>
          <a:ln w="0">
            <a:noFill/>
          </a:ln>
        </p:spPr>
      </p:pic>
      <p:sp>
        <p:nvSpPr>
          <p:cNvPr id="2507" name="Rectangle 49"/>
          <p:cNvSpPr/>
          <p:nvPr/>
        </p:nvSpPr>
        <p:spPr>
          <a:xfrm>
            <a:off x="1547640" y="34671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文本框 1"/>
          <p:cNvSpPr/>
          <p:nvPr/>
        </p:nvSpPr>
        <p:spPr>
          <a:xfrm>
            <a:off x="135000" y="-96840"/>
            <a:ext cx="906948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草莓味硬糖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针头拔出来的时候，妹妹又哭喊起来，那哭声惊天动地，排山倒海。这哭声一下子就把不大的诊室装满了。所有人都看着妹妹，另外有几个孩子在妹妹的影响下也大声哭了起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从口袋里摸出一颗糖，在妹妹朦胧的泪眼前晃了一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妹妹一边哭着一边伸手把糖拿了过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糖是草莓味的哦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还没等护士说完，妹妹已经把糖纸剥掉塞进了嘴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终于亲眼见到妹妹破涕为笑，脸上还挂着泪珠，但眉眼已经舒展开来。妹妹的腮帮子凹了进去，我知道她是在用力吮吸草莓糖的甜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煦的阳光从窗外照进来，淡淡的草莓芬芳溢满了小小的输液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9" name="图片 1" descr="timg"/>
          <p:cNvPicPr/>
          <p:nvPr/>
        </p:nvPicPr>
        <p:blipFill>
          <a:blip r:embed="rId1"/>
          <a:stretch/>
        </p:blipFill>
        <p:spPr>
          <a:xfrm>
            <a:off x="9360" y="0"/>
            <a:ext cx="91951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0" name=""/>
          <p:cNvGraphicFramePr/>
          <p:nvPr/>
        </p:nvGraphicFramePr>
        <p:xfrm>
          <a:off x="714240" y="1928880"/>
          <a:ext cx="7615080" cy="2946240"/>
        </p:xfrm>
        <a:graphic>
          <a:graphicData uri="http://schemas.openxmlformats.org/drawingml/2006/table">
            <a:tbl>
              <a:tblPr/>
              <a:tblGrid>
                <a:gridCol w="1039680"/>
                <a:gridCol w="1582920"/>
                <a:gridCol w="1660320"/>
                <a:gridCol w="1704960"/>
                <a:gridCol w="1627200"/>
              </a:tblGrid>
              <a:tr h="5191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“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长度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”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物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场景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事情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28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短文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五百字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人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个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一件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《草莓味硬糖</a:t>
                      </a: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1" name="Rectangle 49"/>
          <p:cNvSpPr/>
          <p:nvPr/>
        </p:nvSpPr>
        <p:spPr>
          <a:xfrm>
            <a:off x="1547640" y="34671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2" name="图片 1" descr="timg"/>
          <p:cNvPicPr/>
          <p:nvPr/>
        </p:nvPicPr>
        <p:blipFill>
          <a:blip r:embed="rId1"/>
          <a:stretch/>
        </p:blipFill>
        <p:spPr>
          <a:xfrm>
            <a:off x="9360" y="0"/>
            <a:ext cx="91951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3" name=""/>
          <p:cNvGraphicFramePr/>
          <p:nvPr/>
        </p:nvGraphicFramePr>
        <p:xfrm>
          <a:off x="714240" y="1928880"/>
          <a:ext cx="7615080" cy="2946240"/>
        </p:xfrm>
        <a:graphic>
          <a:graphicData uri="http://schemas.openxmlformats.org/drawingml/2006/table">
            <a:tbl>
              <a:tblPr/>
              <a:tblGrid>
                <a:gridCol w="1039680"/>
                <a:gridCol w="1582920"/>
                <a:gridCol w="1660320"/>
                <a:gridCol w="1704960"/>
                <a:gridCol w="1627200"/>
              </a:tblGrid>
              <a:tr h="5191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“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长度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”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物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场景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事情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28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短文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五百字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人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三个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一件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《草莓味硬糖</a:t>
                      </a: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1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85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个字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女孩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护士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家里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输液室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护士把一颗糖送了哭闹的小女孩。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4" name="Rectangle 49"/>
          <p:cNvSpPr/>
          <p:nvPr/>
        </p:nvSpPr>
        <p:spPr>
          <a:xfrm>
            <a:off x="1547640" y="34671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21:27:14Z</dcterms:created>
  <dc:creator>txp</dc:creator>
  <dc:description/>
  <dc:language>en-US</dc:language>
  <cp:lastModifiedBy>精抖</cp:lastModifiedBy>
  <dcterms:modified xsi:type="dcterms:W3CDTF">2019-12-15T07:11:11Z</dcterms:modified>
  <cp:revision>9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8</vt:lpwstr>
  </property>
</Properties>
</file>