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gif" ContentType="image/gif"/>
  <Override PartName="/ppt/media/image26.png" ContentType="image/png"/>
  <Override PartName="/ppt/media/image33.gif" ContentType="image/gif"/>
  <Override PartName="/ppt/media/image24.gif" ContentType="image/gif"/>
  <Override PartName="/ppt/media/image17.png" ContentType="image/png"/>
  <Override PartName="/ppt/media/image22.png" ContentType="image/png"/>
  <Override PartName="/ppt/media/image19.png" ContentType="image/png"/>
  <Override PartName="/ppt/media/image8.jpeg" ContentType="image/jpeg"/>
  <Override PartName="/ppt/media/image9.png" ContentType="image/png"/>
  <Override PartName="/ppt/media/image34.png" ContentType="image/png"/>
  <Override PartName="/ppt/media/image12.png" ContentType="image/png"/>
  <Override PartName="/ppt/media/image32.png" ContentType="image/png"/>
  <Override PartName="/ppt/media/image10.png" ContentType="image/png"/>
  <Override PartName="/ppt/media/image6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35.png" ContentType="image/png"/>
  <Override PartName="/ppt/media/image5.jpeg" ContentType="image/jpeg"/>
  <Override PartName="/ppt/media/image13.png" ContentType="image/png"/>
  <Override PartName="/ppt/media/image37.png" ContentType="image/png"/>
  <Override PartName="/ppt/media/image4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1.gif" ContentType="image/gif"/>
  <Override PartName="/ppt/media/image14.gif" ContentType="image/gif"/>
  <Override PartName="/ppt/media/image16.png" ContentType="image/png"/>
  <Override PartName="/ppt/media/image18.gif" ContentType="image/gif"/>
  <Override PartName="/ppt/media/image23.png" ContentType="image/png"/>
  <Override PartName="/ppt/media/image3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5" descr="07房"/>
          <p:cNvPicPr/>
          <p:nvPr/>
        </p:nvPicPr>
        <p:blipFill>
          <a:blip r:embed="rId1"/>
          <a:stretch/>
        </p:blipFill>
        <p:spPr>
          <a:xfrm>
            <a:off x="5989680" y="2952720"/>
            <a:ext cx="907920" cy="907920"/>
          </a:xfrm>
          <a:prstGeom prst="rect">
            <a:avLst/>
          </a:prstGeom>
          <a:ln w="0">
            <a:noFill/>
          </a:ln>
        </p:spPr>
      </p:pic>
      <p:pic>
        <p:nvPicPr>
          <p:cNvPr id="38" name="图片 13" descr="06草"/>
          <p:cNvPicPr/>
          <p:nvPr/>
        </p:nvPicPr>
        <p:blipFill>
          <a:blip r:embed="rId2"/>
          <a:stretch/>
        </p:blipFill>
        <p:spPr>
          <a:xfrm>
            <a:off x="4175280" y="2952720"/>
            <a:ext cx="907920" cy="907920"/>
          </a:xfrm>
          <a:prstGeom prst="rect">
            <a:avLst/>
          </a:prstGeom>
          <a:ln w="0">
            <a:noFill/>
          </a:ln>
        </p:spPr>
      </p:pic>
      <p:pic>
        <p:nvPicPr>
          <p:cNvPr id="39" name="图片 16" descr="05您"/>
          <p:cNvPicPr/>
          <p:nvPr/>
        </p:nvPicPr>
        <p:blipFill>
          <a:blip r:embed="rId3"/>
          <a:stretch/>
        </p:blipFill>
        <p:spPr>
          <a:xfrm>
            <a:off x="2355840" y="2952720"/>
            <a:ext cx="909720" cy="907920"/>
          </a:xfrm>
          <a:prstGeom prst="rect">
            <a:avLst/>
          </a:prstGeom>
          <a:ln w="0">
            <a:noFill/>
          </a:ln>
        </p:spPr>
      </p:pic>
      <p:pic>
        <p:nvPicPr>
          <p:cNvPr id="40" name="图片 9" descr="04姐"/>
          <p:cNvPicPr/>
          <p:nvPr/>
        </p:nvPicPr>
        <p:blipFill>
          <a:blip r:embed="rId4"/>
          <a:stretch/>
        </p:blipFill>
        <p:spPr>
          <a:xfrm>
            <a:off x="6894360" y="1627200"/>
            <a:ext cx="908280" cy="907920"/>
          </a:xfrm>
          <a:prstGeom prst="rect">
            <a:avLst/>
          </a:prstGeom>
          <a:ln w="0">
            <a:noFill/>
          </a:ln>
        </p:spPr>
      </p:pic>
      <p:pic>
        <p:nvPicPr>
          <p:cNvPr id="41" name="图片 13" descr="03爬"/>
          <p:cNvPicPr/>
          <p:nvPr/>
        </p:nvPicPr>
        <p:blipFill>
          <a:blip r:embed="rId5"/>
          <a:stretch/>
        </p:blipFill>
        <p:spPr>
          <a:xfrm>
            <a:off x="5079960" y="1627200"/>
            <a:ext cx="909720" cy="9079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3" descr="02条"/>
          <p:cNvPicPr/>
          <p:nvPr/>
        </p:nvPicPr>
        <p:blipFill>
          <a:blip r:embed="rId6"/>
          <a:stretch/>
        </p:blipFill>
        <p:spPr>
          <a:xfrm>
            <a:off x="3265560" y="1627200"/>
            <a:ext cx="909720" cy="907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3" descr="01捉"/>
          <p:cNvPicPr/>
          <p:nvPr/>
        </p:nvPicPr>
        <p:blipFill>
          <a:blip r:embed="rId7"/>
          <a:stretch/>
        </p:blipFill>
        <p:spPr>
          <a:xfrm>
            <a:off x="1447920" y="1627200"/>
            <a:ext cx="907920" cy="9079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4" descr=""/>
          <p:cNvPicPr/>
          <p:nvPr/>
        </p:nvPicPr>
        <p:blipFill>
          <a:blip r:embed="rId8"/>
          <a:stretch/>
        </p:blipFill>
        <p:spPr>
          <a:xfrm>
            <a:off x="2925720" y="871560"/>
            <a:ext cx="3292560" cy="5382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"/>
          <p:cNvPicPr/>
          <p:nvPr/>
        </p:nvPicPr>
        <p:blipFill>
          <a:blip r:embed="rId9"/>
          <a:stretch/>
        </p:blipFill>
        <p:spPr>
          <a:xfrm>
            <a:off x="4680" y="7920"/>
            <a:ext cx="2579760" cy="507960"/>
          </a:xfrm>
          <a:prstGeom prst="rect">
            <a:avLst/>
          </a:prstGeom>
          <a:ln w="0">
            <a:noFill/>
          </a:ln>
        </p:spPr>
      </p:pic>
      <p:grpSp>
        <p:nvGrpSpPr>
          <p:cNvPr id="46" name="组合 20"/>
          <p:cNvGrpSpPr/>
          <p:nvPr/>
        </p:nvGrpSpPr>
        <p:grpSpPr>
          <a:xfrm>
            <a:off x="73080" y="3633840"/>
            <a:ext cx="1979640" cy="1338120"/>
            <a:chOff x="73080" y="3633840"/>
            <a:chExt cx="1979640" cy="1338120"/>
          </a:xfrm>
        </p:grpSpPr>
        <p:pic>
          <p:nvPicPr>
            <p:cNvPr id="47" name="图片 37" descr=""/>
            <p:cNvPicPr/>
            <p:nvPr/>
          </p:nvPicPr>
          <p:blipFill>
            <a:blip r:embed="rId10"/>
            <a:srcRect l="0" t="0" r="0" b="6992"/>
            <a:stretch/>
          </p:blipFill>
          <p:spPr>
            <a:xfrm>
              <a:off x="73080" y="3633840"/>
              <a:ext cx="1979640" cy="13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任意多边形: 形状 10"/>
            <p:cNvSpPr/>
            <p:nvPr/>
          </p:nvSpPr>
          <p:spPr>
            <a:xfrm rot="21234000">
              <a:off x="371160" y="3924000"/>
              <a:ext cx="1219320" cy="654120"/>
            </a:xfrm>
            <a:custGeom>
              <a:avLst/>
              <a:gdLst/>
              <a:ahLst/>
              <a:rect l="l" t="t" r="r" b="b"/>
              <a:pathLst>
                <a:path w="1220027" h="653211">
                  <a:moveTo>
                    <a:pt x="146467" y="607340"/>
                  </a:moveTo>
                  <a:cubicBezTo>
                    <a:pt x="144736" y="607059"/>
                    <a:pt x="143108" y="606929"/>
                    <a:pt x="141584" y="606949"/>
                  </a:cubicBezTo>
                  <a:cubicBezTo>
                    <a:pt x="140060" y="606971"/>
                    <a:pt x="138789" y="606886"/>
                    <a:pt x="137770" y="606697"/>
                  </a:cubicBezTo>
                  <a:lnTo>
                    <a:pt x="136247" y="606718"/>
                  </a:lnTo>
                  <a:cubicBezTo>
                    <a:pt x="135231" y="606732"/>
                    <a:pt x="134526" y="607250"/>
                    <a:pt x="134134" y="608271"/>
                  </a:cubicBezTo>
                  <a:lnTo>
                    <a:pt x="134255" y="617110"/>
                  </a:lnTo>
                  <a:cubicBezTo>
                    <a:pt x="134261" y="617516"/>
                    <a:pt x="134071" y="618534"/>
                    <a:pt x="133687" y="620166"/>
                  </a:cubicBezTo>
                  <a:cubicBezTo>
                    <a:pt x="133709" y="621791"/>
                    <a:pt x="133733" y="623518"/>
                    <a:pt x="133758" y="625346"/>
                  </a:cubicBezTo>
                  <a:cubicBezTo>
                    <a:pt x="134189" y="627170"/>
                    <a:pt x="134668" y="628738"/>
                    <a:pt x="135194" y="630052"/>
                  </a:cubicBezTo>
                  <a:cubicBezTo>
                    <a:pt x="135720" y="631365"/>
                    <a:pt x="136694" y="632013"/>
                    <a:pt x="138117" y="631993"/>
                  </a:cubicBezTo>
                  <a:lnTo>
                    <a:pt x="154574" y="631768"/>
                  </a:lnTo>
                  <a:lnTo>
                    <a:pt x="154282" y="610434"/>
                  </a:lnTo>
                  <a:lnTo>
                    <a:pt x="151811" y="608029"/>
                  </a:lnTo>
                  <a:cubicBezTo>
                    <a:pt x="149979" y="607851"/>
                    <a:pt x="148198" y="607622"/>
                    <a:pt x="146467" y="607340"/>
                  </a:cubicBezTo>
                  <a:close/>
                  <a:moveTo>
                    <a:pt x="189907" y="607508"/>
                  </a:moveTo>
                  <a:cubicBezTo>
                    <a:pt x="187672" y="607538"/>
                    <a:pt x="185031" y="607575"/>
                    <a:pt x="181983" y="607616"/>
                  </a:cubicBezTo>
                  <a:lnTo>
                    <a:pt x="177107" y="607683"/>
                  </a:lnTo>
                  <a:lnTo>
                    <a:pt x="175600" y="608923"/>
                  </a:lnTo>
                  <a:lnTo>
                    <a:pt x="175908" y="631476"/>
                  </a:lnTo>
                  <a:lnTo>
                    <a:pt x="195109" y="631213"/>
                  </a:lnTo>
                  <a:lnTo>
                    <a:pt x="197535" y="630266"/>
                  </a:lnTo>
                  <a:cubicBezTo>
                    <a:pt x="197735" y="630060"/>
                    <a:pt x="197919" y="628686"/>
                    <a:pt x="198088" y="626143"/>
                  </a:cubicBezTo>
                  <a:cubicBezTo>
                    <a:pt x="198256" y="623600"/>
                    <a:pt x="198431" y="621515"/>
                    <a:pt x="198612" y="619886"/>
                  </a:cubicBezTo>
                  <a:lnTo>
                    <a:pt x="198532" y="614096"/>
                  </a:lnTo>
                  <a:lnTo>
                    <a:pt x="198458" y="608610"/>
                  </a:lnTo>
                  <a:cubicBezTo>
                    <a:pt x="195401" y="608042"/>
                    <a:pt x="192551" y="607675"/>
                    <a:pt x="189907" y="607508"/>
                  </a:cubicBezTo>
                  <a:close/>
                  <a:moveTo>
                    <a:pt x="151360" y="575114"/>
                  </a:moveTo>
                  <a:lnTo>
                    <a:pt x="144351" y="575210"/>
                  </a:lnTo>
                  <a:cubicBezTo>
                    <a:pt x="143335" y="575223"/>
                    <a:pt x="142013" y="575191"/>
                    <a:pt x="140386" y="575112"/>
                  </a:cubicBezTo>
                  <a:cubicBezTo>
                    <a:pt x="138760" y="575032"/>
                    <a:pt x="137135" y="575105"/>
                    <a:pt x="135512" y="575331"/>
                  </a:cubicBezTo>
                  <a:cubicBezTo>
                    <a:pt x="133890" y="575556"/>
                    <a:pt x="132524" y="576032"/>
                    <a:pt x="131417" y="576759"/>
                  </a:cubicBezTo>
                  <a:cubicBezTo>
                    <a:pt x="130309" y="577485"/>
                    <a:pt x="129766" y="578661"/>
                    <a:pt x="129788" y="580286"/>
                  </a:cubicBezTo>
                  <a:cubicBezTo>
                    <a:pt x="129813" y="582115"/>
                    <a:pt x="130492" y="583477"/>
                    <a:pt x="131826" y="584374"/>
                  </a:cubicBezTo>
                  <a:cubicBezTo>
                    <a:pt x="133159" y="585270"/>
                    <a:pt x="134538" y="585810"/>
                    <a:pt x="135963" y="585994"/>
                  </a:cubicBezTo>
                  <a:cubicBezTo>
                    <a:pt x="137797" y="586375"/>
                    <a:pt x="139629" y="586553"/>
                    <a:pt x="141457" y="586528"/>
                  </a:cubicBezTo>
                  <a:cubicBezTo>
                    <a:pt x="143286" y="586503"/>
                    <a:pt x="144911" y="586481"/>
                    <a:pt x="146334" y="586461"/>
                  </a:cubicBezTo>
                  <a:lnTo>
                    <a:pt x="151515" y="586390"/>
                  </a:lnTo>
                  <a:cubicBezTo>
                    <a:pt x="152325" y="586176"/>
                    <a:pt x="152723" y="585612"/>
                    <a:pt x="152711" y="584697"/>
                  </a:cubicBezTo>
                  <a:cubicBezTo>
                    <a:pt x="152698" y="583783"/>
                    <a:pt x="152689" y="583123"/>
                    <a:pt x="152684" y="582717"/>
                  </a:cubicBezTo>
                  <a:cubicBezTo>
                    <a:pt x="152653" y="580481"/>
                    <a:pt x="152212" y="577947"/>
                    <a:pt x="151360" y="575114"/>
                  </a:cubicBezTo>
                  <a:close/>
                  <a:moveTo>
                    <a:pt x="190509" y="573511"/>
                  </a:moveTo>
                  <a:cubicBezTo>
                    <a:pt x="188984" y="573430"/>
                    <a:pt x="187713" y="573397"/>
                    <a:pt x="186697" y="573411"/>
                  </a:cubicBezTo>
                  <a:cubicBezTo>
                    <a:pt x="185681" y="573425"/>
                    <a:pt x="183496" y="573404"/>
                    <a:pt x="180142" y="573348"/>
                  </a:cubicBezTo>
                  <a:cubicBezTo>
                    <a:pt x="176789" y="573292"/>
                    <a:pt x="174604" y="573271"/>
                    <a:pt x="173588" y="573286"/>
                  </a:cubicBezTo>
                  <a:lnTo>
                    <a:pt x="173604" y="574505"/>
                  </a:lnTo>
                  <a:cubicBezTo>
                    <a:pt x="173621" y="575724"/>
                    <a:pt x="173639" y="576993"/>
                    <a:pt x="173657" y="578314"/>
                  </a:cubicBezTo>
                  <a:cubicBezTo>
                    <a:pt x="173675" y="579635"/>
                    <a:pt x="173794" y="580954"/>
                    <a:pt x="174016" y="582272"/>
                  </a:cubicBezTo>
                  <a:cubicBezTo>
                    <a:pt x="174237" y="583590"/>
                    <a:pt x="174655" y="584448"/>
                    <a:pt x="175270" y="584846"/>
                  </a:cubicBezTo>
                  <a:cubicBezTo>
                    <a:pt x="178329" y="585617"/>
                    <a:pt x="181027" y="585986"/>
                    <a:pt x="183363" y="585954"/>
                  </a:cubicBezTo>
                  <a:cubicBezTo>
                    <a:pt x="185700" y="585923"/>
                    <a:pt x="188290" y="585887"/>
                    <a:pt x="191135" y="585848"/>
                  </a:cubicBezTo>
                  <a:lnTo>
                    <a:pt x="199364" y="585736"/>
                  </a:lnTo>
                  <a:cubicBezTo>
                    <a:pt x="199959" y="584711"/>
                    <a:pt x="200302" y="583741"/>
                    <a:pt x="200391" y="582826"/>
                  </a:cubicBezTo>
                  <a:cubicBezTo>
                    <a:pt x="200480" y="581910"/>
                    <a:pt x="200515" y="580741"/>
                    <a:pt x="200495" y="579318"/>
                  </a:cubicBezTo>
                  <a:cubicBezTo>
                    <a:pt x="200476" y="577896"/>
                    <a:pt x="199851" y="576787"/>
                    <a:pt x="198621" y="575991"/>
                  </a:cubicBezTo>
                  <a:cubicBezTo>
                    <a:pt x="197797" y="575190"/>
                    <a:pt x="196620" y="574596"/>
                    <a:pt x="195091" y="574211"/>
                  </a:cubicBezTo>
                  <a:cubicBezTo>
                    <a:pt x="193561" y="573825"/>
                    <a:pt x="192034" y="573592"/>
                    <a:pt x="190509" y="573511"/>
                  </a:cubicBezTo>
                  <a:close/>
                  <a:moveTo>
                    <a:pt x="200759" y="554014"/>
                  </a:moveTo>
                  <a:cubicBezTo>
                    <a:pt x="204421" y="554370"/>
                    <a:pt x="207937" y="555135"/>
                    <a:pt x="211307" y="556308"/>
                  </a:cubicBezTo>
                  <a:cubicBezTo>
                    <a:pt x="214676" y="557482"/>
                    <a:pt x="217492" y="559120"/>
                    <a:pt x="219757" y="561222"/>
                  </a:cubicBezTo>
                  <a:cubicBezTo>
                    <a:pt x="222021" y="563325"/>
                    <a:pt x="223178" y="566205"/>
                    <a:pt x="223228" y="569862"/>
                  </a:cubicBezTo>
                  <a:cubicBezTo>
                    <a:pt x="223359" y="579412"/>
                    <a:pt x="222626" y="588974"/>
                    <a:pt x="221029" y="598547"/>
                  </a:cubicBezTo>
                  <a:cubicBezTo>
                    <a:pt x="219433" y="608120"/>
                    <a:pt x="218702" y="617783"/>
                    <a:pt x="218835" y="627535"/>
                  </a:cubicBezTo>
                  <a:cubicBezTo>
                    <a:pt x="218860" y="629364"/>
                    <a:pt x="219140" y="631240"/>
                    <a:pt x="219674" y="633163"/>
                  </a:cubicBezTo>
                  <a:cubicBezTo>
                    <a:pt x="220209" y="635087"/>
                    <a:pt x="220488" y="636962"/>
                    <a:pt x="220513" y="638791"/>
                  </a:cubicBezTo>
                  <a:cubicBezTo>
                    <a:pt x="220611" y="645902"/>
                    <a:pt x="217219" y="650521"/>
                    <a:pt x="210339" y="652648"/>
                  </a:cubicBezTo>
                  <a:lnTo>
                    <a:pt x="190224" y="652923"/>
                  </a:lnTo>
                  <a:lnTo>
                    <a:pt x="170109" y="653198"/>
                  </a:lnTo>
                  <a:cubicBezTo>
                    <a:pt x="168280" y="653223"/>
                    <a:pt x="165334" y="653213"/>
                    <a:pt x="161269" y="653167"/>
                  </a:cubicBezTo>
                  <a:cubicBezTo>
                    <a:pt x="157204" y="653121"/>
                    <a:pt x="152783" y="653079"/>
                    <a:pt x="148007" y="653044"/>
                  </a:cubicBezTo>
                  <a:cubicBezTo>
                    <a:pt x="143231" y="653007"/>
                    <a:pt x="138605" y="652816"/>
                    <a:pt x="134129" y="652471"/>
                  </a:cubicBezTo>
                  <a:cubicBezTo>
                    <a:pt x="130066" y="652527"/>
                    <a:pt x="127221" y="652566"/>
                    <a:pt x="125596" y="652588"/>
                  </a:cubicBezTo>
                  <a:cubicBezTo>
                    <a:pt x="122131" y="651822"/>
                    <a:pt x="119297" y="648965"/>
                    <a:pt x="117096" y="644017"/>
                  </a:cubicBezTo>
                  <a:cubicBezTo>
                    <a:pt x="114894" y="639068"/>
                    <a:pt x="113242" y="633451"/>
                    <a:pt x="112140" y="627167"/>
                  </a:cubicBezTo>
                  <a:cubicBezTo>
                    <a:pt x="111044" y="621288"/>
                    <a:pt x="110303" y="615456"/>
                    <a:pt x="109919" y="609669"/>
                  </a:cubicBezTo>
                  <a:cubicBezTo>
                    <a:pt x="109535" y="603883"/>
                    <a:pt x="109123" y="599773"/>
                    <a:pt x="108684" y="597340"/>
                  </a:cubicBezTo>
                  <a:cubicBezTo>
                    <a:pt x="108681" y="597138"/>
                    <a:pt x="108517" y="596276"/>
                    <a:pt x="108191" y="594757"/>
                  </a:cubicBezTo>
                  <a:cubicBezTo>
                    <a:pt x="107865" y="593237"/>
                    <a:pt x="107488" y="591667"/>
                    <a:pt x="107060" y="590047"/>
                  </a:cubicBezTo>
                  <a:cubicBezTo>
                    <a:pt x="106840" y="588831"/>
                    <a:pt x="106619" y="587513"/>
                    <a:pt x="106396" y="586093"/>
                  </a:cubicBezTo>
                  <a:cubicBezTo>
                    <a:pt x="106173" y="584674"/>
                    <a:pt x="106060" y="583812"/>
                    <a:pt x="106056" y="583507"/>
                  </a:cubicBezTo>
                  <a:cubicBezTo>
                    <a:pt x="106052" y="583202"/>
                    <a:pt x="105986" y="582136"/>
                    <a:pt x="105860" y="580309"/>
                  </a:cubicBezTo>
                  <a:cubicBezTo>
                    <a:pt x="105733" y="578482"/>
                    <a:pt x="105661" y="576958"/>
                    <a:pt x="105645" y="575740"/>
                  </a:cubicBezTo>
                  <a:cubicBezTo>
                    <a:pt x="105606" y="572895"/>
                    <a:pt x="105675" y="570506"/>
                    <a:pt x="105851" y="568573"/>
                  </a:cubicBezTo>
                  <a:cubicBezTo>
                    <a:pt x="106028" y="566640"/>
                    <a:pt x="107216" y="564338"/>
                    <a:pt x="109415" y="561666"/>
                  </a:cubicBezTo>
                  <a:cubicBezTo>
                    <a:pt x="110617" y="560430"/>
                    <a:pt x="112787" y="559333"/>
                    <a:pt x="115924" y="558376"/>
                  </a:cubicBezTo>
                  <a:cubicBezTo>
                    <a:pt x="119060" y="557419"/>
                    <a:pt x="122553" y="556507"/>
                    <a:pt x="126403" y="555641"/>
                  </a:cubicBezTo>
                  <a:cubicBezTo>
                    <a:pt x="130258" y="555183"/>
                    <a:pt x="134012" y="554775"/>
                    <a:pt x="137665" y="554420"/>
                  </a:cubicBezTo>
                  <a:cubicBezTo>
                    <a:pt x="141318" y="554066"/>
                    <a:pt x="144059" y="553876"/>
                    <a:pt x="145887" y="553851"/>
                  </a:cubicBezTo>
                  <a:lnTo>
                    <a:pt x="168745" y="553538"/>
                  </a:lnTo>
                  <a:lnTo>
                    <a:pt x="191298" y="553229"/>
                  </a:lnTo>
                  <a:cubicBezTo>
                    <a:pt x="193942" y="553396"/>
                    <a:pt x="197096" y="553658"/>
                    <a:pt x="200759" y="554014"/>
                  </a:cubicBezTo>
                  <a:close/>
                  <a:moveTo>
                    <a:pt x="155557" y="503117"/>
                  </a:moveTo>
                  <a:lnTo>
                    <a:pt x="151290" y="503175"/>
                  </a:lnTo>
                  <a:cubicBezTo>
                    <a:pt x="151307" y="504394"/>
                    <a:pt x="151724" y="505201"/>
                    <a:pt x="152543" y="505597"/>
                  </a:cubicBezTo>
                  <a:cubicBezTo>
                    <a:pt x="153361" y="505992"/>
                    <a:pt x="154380" y="506181"/>
                    <a:pt x="155599" y="506165"/>
                  </a:cubicBezTo>
                  <a:close/>
                  <a:moveTo>
                    <a:pt x="44360" y="429956"/>
                  </a:moveTo>
                  <a:cubicBezTo>
                    <a:pt x="47713" y="429910"/>
                    <a:pt x="50369" y="430991"/>
                    <a:pt x="52330" y="433200"/>
                  </a:cubicBezTo>
                  <a:cubicBezTo>
                    <a:pt x="54291" y="435409"/>
                    <a:pt x="55497" y="438135"/>
                    <a:pt x="55948" y="441381"/>
                  </a:cubicBezTo>
                  <a:lnTo>
                    <a:pt x="63186" y="502552"/>
                  </a:lnTo>
                  <a:lnTo>
                    <a:pt x="84825" y="502256"/>
                  </a:lnTo>
                  <a:cubicBezTo>
                    <a:pt x="85231" y="502250"/>
                    <a:pt x="86054" y="502950"/>
                    <a:pt x="87292" y="504356"/>
                  </a:cubicBezTo>
                  <a:cubicBezTo>
                    <a:pt x="88531" y="505762"/>
                    <a:pt x="89257" y="506869"/>
                    <a:pt x="89472" y="507679"/>
                  </a:cubicBezTo>
                  <a:cubicBezTo>
                    <a:pt x="89881" y="507877"/>
                    <a:pt x="90094" y="508585"/>
                    <a:pt x="90110" y="509804"/>
                  </a:cubicBezTo>
                  <a:cubicBezTo>
                    <a:pt x="90127" y="511023"/>
                    <a:pt x="90138" y="511836"/>
                    <a:pt x="90144" y="512243"/>
                  </a:cubicBezTo>
                  <a:cubicBezTo>
                    <a:pt x="90199" y="516306"/>
                    <a:pt x="89167" y="518860"/>
                    <a:pt x="87048" y="519906"/>
                  </a:cubicBezTo>
                  <a:cubicBezTo>
                    <a:pt x="84929" y="520951"/>
                    <a:pt x="82446" y="521493"/>
                    <a:pt x="79602" y="521532"/>
                  </a:cubicBezTo>
                  <a:cubicBezTo>
                    <a:pt x="76757" y="521570"/>
                    <a:pt x="73914" y="521711"/>
                    <a:pt x="71072" y="521953"/>
                  </a:cubicBezTo>
                  <a:cubicBezTo>
                    <a:pt x="68231" y="522195"/>
                    <a:pt x="66115" y="523545"/>
                    <a:pt x="64726" y="526003"/>
                  </a:cubicBezTo>
                  <a:lnTo>
                    <a:pt x="64948" y="542156"/>
                  </a:lnTo>
                  <a:cubicBezTo>
                    <a:pt x="65012" y="546829"/>
                    <a:pt x="65074" y="551400"/>
                    <a:pt x="65135" y="555871"/>
                  </a:cubicBezTo>
                  <a:cubicBezTo>
                    <a:pt x="65202" y="560747"/>
                    <a:pt x="65672" y="565414"/>
                    <a:pt x="66546" y="569873"/>
                  </a:cubicBezTo>
                  <a:cubicBezTo>
                    <a:pt x="66972" y="571290"/>
                    <a:pt x="67948" y="572039"/>
                    <a:pt x="69473" y="572119"/>
                  </a:cubicBezTo>
                  <a:cubicBezTo>
                    <a:pt x="70998" y="572200"/>
                    <a:pt x="72626" y="572330"/>
                    <a:pt x="74355" y="572510"/>
                  </a:cubicBezTo>
                  <a:cubicBezTo>
                    <a:pt x="76085" y="572690"/>
                    <a:pt x="77466" y="573382"/>
                    <a:pt x="78499" y="574587"/>
                  </a:cubicBezTo>
                  <a:cubicBezTo>
                    <a:pt x="79938" y="575787"/>
                    <a:pt x="80683" y="578215"/>
                    <a:pt x="80733" y="581872"/>
                  </a:cubicBezTo>
                  <a:lnTo>
                    <a:pt x="80791" y="586139"/>
                  </a:lnTo>
                  <a:cubicBezTo>
                    <a:pt x="79397" y="588190"/>
                    <a:pt x="77586" y="589536"/>
                    <a:pt x="75359" y="590176"/>
                  </a:cubicBezTo>
                  <a:cubicBezTo>
                    <a:pt x="73341" y="591220"/>
                    <a:pt x="71422" y="592059"/>
                    <a:pt x="69602" y="592694"/>
                  </a:cubicBezTo>
                  <a:cubicBezTo>
                    <a:pt x="69198" y="592902"/>
                    <a:pt x="68895" y="593008"/>
                    <a:pt x="68692" y="593011"/>
                  </a:cubicBezTo>
                  <a:cubicBezTo>
                    <a:pt x="68489" y="593014"/>
                    <a:pt x="68084" y="593121"/>
                    <a:pt x="67477" y="593332"/>
                  </a:cubicBezTo>
                  <a:lnTo>
                    <a:pt x="66270" y="594263"/>
                  </a:lnTo>
                  <a:lnTo>
                    <a:pt x="66838" y="635712"/>
                  </a:lnTo>
                  <a:cubicBezTo>
                    <a:pt x="66874" y="638354"/>
                    <a:pt x="65273" y="640204"/>
                    <a:pt x="62036" y="641265"/>
                  </a:cubicBezTo>
                  <a:cubicBezTo>
                    <a:pt x="59211" y="642726"/>
                    <a:pt x="56884" y="643469"/>
                    <a:pt x="55056" y="643494"/>
                  </a:cubicBezTo>
                  <a:cubicBezTo>
                    <a:pt x="52211" y="643533"/>
                    <a:pt x="48903" y="643121"/>
                    <a:pt x="45132" y="642258"/>
                  </a:cubicBezTo>
                  <a:cubicBezTo>
                    <a:pt x="41361" y="641395"/>
                    <a:pt x="37889" y="640122"/>
                    <a:pt x="34716" y="638438"/>
                  </a:cubicBezTo>
                  <a:cubicBezTo>
                    <a:pt x="31543" y="636754"/>
                    <a:pt x="28770" y="634607"/>
                    <a:pt x="26397" y="631998"/>
                  </a:cubicBezTo>
                  <a:cubicBezTo>
                    <a:pt x="24024" y="629389"/>
                    <a:pt x="22816" y="626458"/>
                    <a:pt x="22771" y="623208"/>
                  </a:cubicBezTo>
                  <a:cubicBezTo>
                    <a:pt x="22693" y="617518"/>
                    <a:pt x="25702" y="614633"/>
                    <a:pt x="31798" y="614549"/>
                  </a:cubicBezTo>
                  <a:cubicBezTo>
                    <a:pt x="34236" y="614516"/>
                    <a:pt x="36327" y="615147"/>
                    <a:pt x="38072" y="616444"/>
                  </a:cubicBezTo>
                  <a:cubicBezTo>
                    <a:pt x="39818" y="617742"/>
                    <a:pt x="41808" y="618375"/>
                    <a:pt x="44043" y="618344"/>
                  </a:cubicBezTo>
                  <a:lnTo>
                    <a:pt x="44652" y="618336"/>
                  </a:lnTo>
                  <a:cubicBezTo>
                    <a:pt x="45231" y="616093"/>
                    <a:pt x="45507" y="613955"/>
                    <a:pt x="45479" y="611923"/>
                  </a:cubicBezTo>
                  <a:cubicBezTo>
                    <a:pt x="45860" y="610089"/>
                    <a:pt x="46036" y="608055"/>
                    <a:pt x="46005" y="605819"/>
                  </a:cubicBezTo>
                  <a:cubicBezTo>
                    <a:pt x="45991" y="604803"/>
                    <a:pt x="45770" y="603485"/>
                    <a:pt x="45341" y="601865"/>
                  </a:cubicBezTo>
                  <a:cubicBezTo>
                    <a:pt x="45319" y="600240"/>
                    <a:pt x="45307" y="599326"/>
                    <a:pt x="45304" y="599123"/>
                  </a:cubicBezTo>
                  <a:cubicBezTo>
                    <a:pt x="45301" y="598919"/>
                    <a:pt x="45142" y="598464"/>
                    <a:pt x="44828" y="597758"/>
                  </a:cubicBezTo>
                  <a:cubicBezTo>
                    <a:pt x="44513" y="597051"/>
                    <a:pt x="44353" y="596494"/>
                    <a:pt x="44348" y="596088"/>
                  </a:cubicBezTo>
                  <a:lnTo>
                    <a:pt x="20271" y="596417"/>
                  </a:lnTo>
                  <a:cubicBezTo>
                    <a:pt x="19255" y="596431"/>
                    <a:pt x="18386" y="596036"/>
                    <a:pt x="17664" y="595233"/>
                  </a:cubicBezTo>
                  <a:cubicBezTo>
                    <a:pt x="16941" y="594430"/>
                    <a:pt x="16420" y="593472"/>
                    <a:pt x="16100" y="592359"/>
                  </a:cubicBezTo>
                  <a:cubicBezTo>
                    <a:pt x="15780" y="591246"/>
                    <a:pt x="15511" y="590131"/>
                    <a:pt x="15292" y="589017"/>
                  </a:cubicBezTo>
                  <a:cubicBezTo>
                    <a:pt x="15074" y="587902"/>
                    <a:pt x="14960" y="587040"/>
                    <a:pt x="14952" y="586431"/>
                  </a:cubicBezTo>
                  <a:cubicBezTo>
                    <a:pt x="14899" y="582570"/>
                    <a:pt x="16285" y="579909"/>
                    <a:pt x="19110" y="578448"/>
                  </a:cubicBezTo>
                  <a:cubicBezTo>
                    <a:pt x="22342" y="576981"/>
                    <a:pt x="25784" y="576070"/>
                    <a:pt x="29437" y="575716"/>
                  </a:cubicBezTo>
                  <a:cubicBezTo>
                    <a:pt x="33090" y="575361"/>
                    <a:pt x="36339" y="575164"/>
                    <a:pt x="39184" y="575125"/>
                  </a:cubicBezTo>
                  <a:cubicBezTo>
                    <a:pt x="42437" y="575284"/>
                    <a:pt x="44057" y="574855"/>
                    <a:pt x="44043" y="573839"/>
                  </a:cubicBezTo>
                  <a:lnTo>
                    <a:pt x="43443" y="529952"/>
                  </a:lnTo>
                  <a:lnTo>
                    <a:pt x="42173" y="526311"/>
                  </a:lnTo>
                  <a:lnTo>
                    <a:pt x="40650" y="526333"/>
                  </a:lnTo>
                  <a:cubicBezTo>
                    <a:pt x="40243" y="526338"/>
                    <a:pt x="39834" y="526140"/>
                    <a:pt x="39422" y="525739"/>
                  </a:cubicBezTo>
                  <a:cubicBezTo>
                    <a:pt x="39219" y="525742"/>
                    <a:pt x="38914" y="525746"/>
                    <a:pt x="38508" y="525752"/>
                  </a:cubicBezTo>
                  <a:cubicBezTo>
                    <a:pt x="34038" y="525813"/>
                    <a:pt x="29576" y="526433"/>
                    <a:pt x="25121" y="527612"/>
                  </a:cubicBezTo>
                  <a:cubicBezTo>
                    <a:pt x="20666" y="528790"/>
                    <a:pt x="16204" y="529410"/>
                    <a:pt x="11734" y="529472"/>
                  </a:cubicBezTo>
                  <a:cubicBezTo>
                    <a:pt x="8483" y="529516"/>
                    <a:pt x="5727" y="528639"/>
                    <a:pt x="3467" y="526841"/>
                  </a:cubicBezTo>
                  <a:cubicBezTo>
                    <a:pt x="1207" y="525043"/>
                    <a:pt x="52" y="522315"/>
                    <a:pt x="2" y="518658"/>
                  </a:cubicBezTo>
                  <a:cubicBezTo>
                    <a:pt x="-25" y="516626"/>
                    <a:pt x="405" y="514639"/>
                    <a:pt x="1293" y="512696"/>
                  </a:cubicBezTo>
                  <a:cubicBezTo>
                    <a:pt x="2180" y="510753"/>
                    <a:pt x="3839" y="509461"/>
                    <a:pt x="6269" y="508818"/>
                  </a:cubicBezTo>
                  <a:lnTo>
                    <a:pt x="37915" y="504727"/>
                  </a:lnTo>
                  <a:cubicBezTo>
                    <a:pt x="39335" y="504504"/>
                    <a:pt x="40239" y="503780"/>
                    <a:pt x="40629" y="502556"/>
                  </a:cubicBezTo>
                  <a:cubicBezTo>
                    <a:pt x="41428" y="501529"/>
                    <a:pt x="41819" y="500406"/>
                    <a:pt x="41802" y="499187"/>
                  </a:cubicBezTo>
                  <a:lnTo>
                    <a:pt x="41773" y="497053"/>
                  </a:lnTo>
                  <a:cubicBezTo>
                    <a:pt x="41545" y="495228"/>
                    <a:pt x="41147" y="492134"/>
                    <a:pt x="40579" y="487773"/>
                  </a:cubicBezTo>
                  <a:cubicBezTo>
                    <a:pt x="40011" y="483411"/>
                    <a:pt x="39388" y="478695"/>
                    <a:pt x="38709" y="473623"/>
                  </a:cubicBezTo>
                  <a:cubicBezTo>
                    <a:pt x="38035" y="468959"/>
                    <a:pt x="37464" y="464292"/>
                    <a:pt x="36993" y="459625"/>
                  </a:cubicBezTo>
                  <a:cubicBezTo>
                    <a:pt x="36528" y="455364"/>
                    <a:pt x="36182" y="452320"/>
                    <a:pt x="35954" y="450494"/>
                  </a:cubicBezTo>
                  <a:cubicBezTo>
                    <a:pt x="35116" y="448677"/>
                    <a:pt x="34636" y="447007"/>
                    <a:pt x="34513" y="445484"/>
                  </a:cubicBezTo>
                  <a:cubicBezTo>
                    <a:pt x="34391" y="443962"/>
                    <a:pt x="34317" y="442286"/>
                    <a:pt x="34292" y="440457"/>
                  </a:cubicBezTo>
                  <a:cubicBezTo>
                    <a:pt x="34250" y="437410"/>
                    <a:pt x="35080" y="434909"/>
                    <a:pt x="36781" y="432955"/>
                  </a:cubicBezTo>
                  <a:cubicBezTo>
                    <a:pt x="38481" y="431001"/>
                    <a:pt x="41008" y="430001"/>
                    <a:pt x="44360" y="429956"/>
                  </a:cubicBezTo>
                  <a:close/>
                  <a:moveTo>
                    <a:pt x="697762" y="496916"/>
                  </a:moveTo>
                  <a:cubicBezTo>
                    <a:pt x="701027" y="497887"/>
                    <a:pt x="702691" y="500709"/>
                    <a:pt x="702755" y="505382"/>
                  </a:cubicBezTo>
                  <a:cubicBezTo>
                    <a:pt x="702825" y="510462"/>
                    <a:pt x="700533" y="513745"/>
                    <a:pt x="695879" y="515231"/>
                  </a:cubicBezTo>
                  <a:cubicBezTo>
                    <a:pt x="693647" y="515465"/>
                    <a:pt x="690803" y="515555"/>
                    <a:pt x="687347" y="515500"/>
                  </a:cubicBezTo>
                  <a:cubicBezTo>
                    <a:pt x="683892" y="515446"/>
                    <a:pt x="680592" y="515593"/>
                    <a:pt x="677447" y="515941"/>
                  </a:cubicBezTo>
                  <a:cubicBezTo>
                    <a:pt x="674301" y="516289"/>
                    <a:pt x="671469" y="517242"/>
                    <a:pt x="668951" y="518800"/>
                  </a:cubicBezTo>
                  <a:cubicBezTo>
                    <a:pt x="666432" y="520359"/>
                    <a:pt x="664990" y="522665"/>
                    <a:pt x="664625" y="525718"/>
                  </a:cubicBezTo>
                  <a:cubicBezTo>
                    <a:pt x="664249" y="527959"/>
                    <a:pt x="663587" y="531524"/>
                    <a:pt x="662638" y="536414"/>
                  </a:cubicBezTo>
                  <a:cubicBezTo>
                    <a:pt x="662098" y="541502"/>
                    <a:pt x="661409" y="546846"/>
                    <a:pt x="660571" y="552446"/>
                  </a:cubicBezTo>
                  <a:cubicBezTo>
                    <a:pt x="659733" y="558046"/>
                    <a:pt x="658891" y="563341"/>
                    <a:pt x="658045" y="568332"/>
                  </a:cubicBezTo>
                  <a:cubicBezTo>
                    <a:pt x="657199" y="573322"/>
                    <a:pt x="656688" y="576834"/>
                    <a:pt x="656512" y="578869"/>
                  </a:cubicBezTo>
                  <a:lnTo>
                    <a:pt x="656533" y="580393"/>
                  </a:lnTo>
                  <a:cubicBezTo>
                    <a:pt x="656553" y="581815"/>
                    <a:pt x="657375" y="582516"/>
                    <a:pt x="659001" y="582493"/>
                  </a:cubicBezTo>
                  <a:lnTo>
                    <a:pt x="660220" y="582476"/>
                  </a:lnTo>
                  <a:cubicBezTo>
                    <a:pt x="661842" y="582251"/>
                    <a:pt x="664073" y="581865"/>
                    <a:pt x="666910" y="581318"/>
                  </a:cubicBezTo>
                  <a:cubicBezTo>
                    <a:pt x="669748" y="580771"/>
                    <a:pt x="672583" y="580072"/>
                    <a:pt x="675417" y="579220"/>
                  </a:cubicBezTo>
                  <a:cubicBezTo>
                    <a:pt x="678052" y="578778"/>
                    <a:pt x="680333" y="578340"/>
                    <a:pt x="682257" y="577907"/>
                  </a:cubicBezTo>
                  <a:cubicBezTo>
                    <a:pt x="684182" y="577475"/>
                    <a:pt x="685246" y="577257"/>
                    <a:pt x="685449" y="577254"/>
                  </a:cubicBezTo>
                  <a:lnTo>
                    <a:pt x="688480" y="575993"/>
                  </a:lnTo>
                  <a:lnTo>
                    <a:pt x="688251" y="559231"/>
                  </a:lnTo>
                  <a:cubicBezTo>
                    <a:pt x="688223" y="557199"/>
                    <a:pt x="689471" y="555607"/>
                    <a:pt x="691996" y="554455"/>
                  </a:cubicBezTo>
                  <a:cubicBezTo>
                    <a:pt x="694520" y="553302"/>
                    <a:pt x="696697" y="552714"/>
                    <a:pt x="698525" y="552689"/>
                  </a:cubicBezTo>
                  <a:cubicBezTo>
                    <a:pt x="702386" y="552636"/>
                    <a:pt x="705147" y="553970"/>
                    <a:pt x="706810" y="556691"/>
                  </a:cubicBezTo>
                  <a:cubicBezTo>
                    <a:pt x="708474" y="559411"/>
                    <a:pt x="709534" y="562648"/>
                    <a:pt x="709992" y="566402"/>
                  </a:cubicBezTo>
                  <a:cubicBezTo>
                    <a:pt x="710449" y="570155"/>
                    <a:pt x="710552" y="573964"/>
                    <a:pt x="710301" y="577828"/>
                  </a:cubicBezTo>
                  <a:cubicBezTo>
                    <a:pt x="710049" y="581693"/>
                    <a:pt x="709938" y="584743"/>
                    <a:pt x="709968" y="586978"/>
                  </a:cubicBezTo>
                  <a:cubicBezTo>
                    <a:pt x="709980" y="587790"/>
                    <a:pt x="709994" y="588806"/>
                    <a:pt x="710010" y="590025"/>
                  </a:cubicBezTo>
                  <a:cubicBezTo>
                    <a:pt x="710032" y="591651"/>
                    <a:pt x="710005" y="593379"/>
                    <a:pt x="709929" y="595208"/>
                  </a:cubicBezTo>
                  <a:cubicBezTo>
                    <a:pt x="709852" y="597039"/>
                    <a:pt x="709824" y="598716"/>
                    <a:pt x="709845" y="600240"/>
                  </a:cubicBezTo>
                  <a:cubicBezTo>
                    <a:pt x="709866" y="601763"/>
                    <a:pt x="709881" y="602830"/>
                    <a:pt x="709889" y="603440"/>
                  </a:cubicBezTo>
                  <a:cubicBezTo>
                    <a:pt x="709307" y="605480"/>
                    <a:pt x="708163" y="607274"/>
                    <a:pt x="706457" y="608821"/>
                  </a:cubicBezTo>
                  <a:cubicBezTo>
                    <a:pt x="704751" y="610368"/>
                    <a:pt x="702730" y="611158"/>
                    <a:pt x="700393" y="611190"/>
                  </a:cubicBezTo>
                  <a:cubicBezTo>
                    <a:pt x="698056" y="611222"/>
                    <a:pt x="696320" y="610534"/>
                    <a:pt x="695183" y="609128"/>
                  </a:cubicBezTo>
                  <a:cubicBezTo>
                    <a:pt x="694046" y="607721"/>
                    <a:pt x="692958" y="606212"/>
                    <a:pt x="691920" y="604600"/>
                  </a:cubicBezTo>
                  <a:cubicBezTo>
                    <a:pt x="691294" y="603389"/>
                    <a:pt x="690564" y="602079"/>
                    <a:pt x="689732" y="600667"/>
                  </a:cubicBezTo>
                  <a:cubicBezTo>
                    <a:pt x="688900" y="599256"/>
                    <a:pt x="687570" y="598563"/>
                    <a:pt x="685741" y="598588"/>
                  </a:cubicBezTo>
                  <a:lnTo>
                    <a:pt x="683303" y="598621"/>
                  </a:lnTo>
                  <a:lnTo>
                    <a:pt x="651711" y="606674"/>
                  </a:lnTo>
                  <a:cubicBezTo>
                    <a:pt x="651307" y="606883"/>
                    <a:pt x="650902" y="606990"/>
                    <a:pt x="650496" y="606996"/>
                  </a:cubicBezTo>
                  <a:lnTo>
                    <a:pt x="648363" y="607025"/>
                  </a:lnTo>
                  <a:cubicBezTo>
                    <a:pt x="645924" y="607058"/>
                    <a:pt x="643578" y="606379"/>
                    <a:pt x="641324" y="604988"/>
                  </a:cubicBezTo>
                  <a:cubicBezTo>
                    <a:pt x="638872" y="604005"/>
                    <a:pt x="637321" y="602096"/>
                    <a:pt x="636673" y="599259"/>
                  </a:cubicBezTo>
                  <a:cubicBezTo>
                    <a:pt x="636456" y="598246"/>
                    <a:pt x="636324" y="596064"/>
                    <a:pt x="636278" y="592711"/>
                  </a:cubicBezTo>
                  <a:cubicBezTo>
                    <a:pt x="636233" y="589359"/>
                    <a:pt x="636201" y="587073"/>
                    <a:pt x="636185" y="585854"/>
                  </a:cubicBezTo>
                  <a:cubicBezTo>
                    <a:pt x="636176" y="585244"/>
                    <a:pt x="636161" y="584127"/>
                    <a:pt x="636139" y="582501"/>
                  </a:cubicBezTo>
                  <a:cubicBezTo>
                    <a:pt x="636122" y="581282"/>
                    <a:pt x="636104" y="579961"/>
                    <a:pt x="636084" y="578539"/>
                  </a:cubicBezTo>
                  <a:cubicBezTo>
                    <a:pt x="636065" y="577117"/>
                    <a:pt x="636098" y="575847"/>
                    <a:pt x="636185" y="574727"/>
                  </a:cubicBezTo>
                  <a:cubicBezTo>
                    <a:pt x="636271" y="573609"/>
                    <a:pt x="636313" y="572948"/>
                    <a:pt x="636310" y="572744"/>
                  </a:cubicBezTo>
                  <a:cubicBezTo>
                    <a:pt x="636491" y="571116"/>
                    <a:pt x="636756" y="568166"/>
                    <a:pt x="637103" y="563894"/>
                  </a:cubicBezTo>
                  <a:cubicBezTo>
                    <a:pt x="637858" y="559616"/>
                    <a:pt x="638508" y="555136"/>
                    <a:pt x="639053" y="550454"/>
                  </a:cubicBezTo>
                  <a:cubicBezTo>
                    <a:pt x="640008" y="545970"/>
                    <a:pt x="640760" y="541489"/>
                    <a:pt x="641308" y="537011"/>
                  </a:cubicBezTo>
                  <a:cubicBezTo>
                    <a:pt x="642065" y="532936"/>
                    <a:pt x="642737" y="530082"/>
                    <a:pt x="643324" y="528448"/>
                  </a:cubicBezTo>
                  <a:lnTo>
                    <a:pt x="643224" y="521134"/>
                  </a:lnTo>
                  <a:cubicBezTo>
                    <a:pt x="638348" y="521200"/>
                    <a:pt x="633525" y="521470"/>
                    <a:pt x="628756" y="521942"/>
                  </a:cubicBezTo>
                  <a:cubicBezTo>
                    <a:pt x="623987" y="522413"/>
                    <a:pt x="619062" y="522684"/>
                    <a:pt x="613983" y="522753"/>
                  </a:cubicBezTo>
                  <a:cubicBezTo>
                    <a:pt x="607278" y="522845"/>
                    <a:pt x="603880" y="519538"/>
                    <a:pt x="603788" y="512833"/>
                  </a:cubicBezTo>
                  <a:cubicBezTo>
                    <a:pt x="603754" y="510395"/>
                    <a:pt x="604182" y="508205"/>
                    <a:pt x="605070" y="506262"/>
                  </a:cubicBezTo>
                  <a:cubicBezTo>
                    <a:pt x="605957" y="504319"/>
                    <a:pt x="607616" y="503026"/>
                    <a:pt x="610046" y="502384"/>
                  </a:cubicBezTo>
                  <a:cubicBezTo>
                    <a:pt x="612482" y="502147"/>
                    <a:pt x="616998" y="501730"/>
                    <a:pt x="623594" y="501131"/>
                  </a:cubicBezTo>
                  <a:cubicBezTo>
                    <a:pt x="630190" y="500533"/>
                    <a:pt x="637193" y="499929"/>
                    <a:pt x="644602" y="499320"/>
                  </a:cubicBezTo>
                  <a:cubicBezTo>
                    <a:pt x="652012" y="498710"/>
                    <a:pt x="659014" y="498106"/>
                    <a:pt x="665611" y="497508"/>
                  </a:cubicBezTo>
                  <a:cubicBezTo>
                    <a:pt x="672207" y="496910"/>
                    <a:pt x="676725" y="496594"/>
                    <a:pt x="679163" y="496560"/>
                  </a:cubicBezTo>
                  <a:cubicBezTo>
                    <a:pt x="679769" y="496349"/>
                    <a:pt x="680987" y="496231"/>
                    <a:pt x="682816" y="496206"/>
                  </a:cubicBezTo>
                  <a:cubicBezTo>
                    <a:pt x="684644" y="496181"/>
                    <a:pt x="686067" y="496161"/>
                    <a:pt x="687083" y="496147"/>
                  </a:cubicBezTo>
                  <a:cubicBezTo>
                    <a:pt x="690943" y="496094"/>
                    <a:pt x="694503" y="496350"/>
                    <a:pt x="697762" y="496916"/>
                  </a:cubicBezTo>
                  <a:close/>
                  <a:moveTo>
                    <a:pt x="1010010" y="526783"/>
                  </a:moveTo>
                  <a:cubicBezTo>
                    <a:pt x="1008382" y="526602"/>
                    <a:pt x="1006958" y="526520"/>
                    <a:pt x="1005739" y="526536"/>
                  </a:cubicBezTo>
                  <a:cubicBezTo>
                    <a:pt x="1004520" y="526553"/>
                    <a:pt x="1002691" y="526527"/>
                    <a:pt x="1000251" y="526459"/>
                  </a:cubicBezTo>
                  <a:cubicBezTo>
                    <a:pt x="997812" y="526391"/>
                    <a:pt x="995118" y="526326"/>
                    <a:pt x="992171" y="526265"/>
                  </a:cubicBezTo>
                  <a:cubicBezTo>
                    <a:pt x="989223" y="526204"/>
                    <a:pt x="986327" y="526193"/>
                    <a:pt x="983483" y="526231"/>
                  </a:cubicBezTo>
                  <a:cubicBezTo>
                    <a:pt x="981045" y="526265"/>
                    <a:pt x="979318" y="526288"/>
                    <a:pt x="978302" y="526303"/>
                  </a:cubicBezTo>
                  <a:cubicBezTo>
                    <a:pt x="978321" y="527725"/>
                    <a:pt x="978355" y="530213"/>
                    <a:pt x="978404" y="533769"/>
                  </a:cubicBezTo>
                  <a:cubicBezTo>
                    <a:pt x="978453" y="537325"/>
                    <a:pt x="978555" y="541083"/>
                    <a:pt x="978710" y="545044"/>
                  </a:cubicBezTo>
                  <a:cubicBezTo>
                    <a:pt x="978866" y="549004"/>
                    <a:pt x="978968" y="552712"/>
                    <a:pt x="979015" y="556166"/>
                  </a:cubicBezTo>
                  <a:cubicBezTo>
                    <a:pt x="979469" y="559614"/>
                    <a:pt x="979705" y="562050"/>
                    <a:pt x="979725" y="563472"/>
                  </a:cubicBezTo>
                  <a:cubicBezTo>
                    <a:pt x="979730" y="563878"/>
                    <a:pt x="979900" y="565146"/>
                    <a:pt x="980234" y="567275"/>
                  </a:cubicBezTo>
                  <a:cubicBezTo>
                    <a:pt x="980568" y="569404"/>
                    <a:pt x="980788" y="570621"/>
                    <a:pt x="980894" y="570924"/>
                  </a:cubicBezTo>
                  <a:cubicBezTo>
                    <a:pt x="980999" y="571228"/>
                    <a:pt x="981155" y="571480"/>
                    <a:pt x="981361" y="571680"/>
                  </a:cubicBezTo>
                  <a:lnTo>
                    <a:pt x="981979" y="572281"/>
                  </a:lnTo>
                  <a:lnTo>
                    <a:pt x="1014894" y="571831"/>
                  </a:lnTo>
                  <a:lnTo>
                    <a:pt x="1016097" y="570595"/>
                  </a:lnTo>
                  <a:lnTo>
                    <a:pt x="1016009" y="564195"/>
                  </a:lnTo>
                  <a:lnTo>
                    <a:pt x="1015872" y="554137"/>
                  </a:lnTo>
                  <a:cubicBezTo>
                    <a:pt x="1015849" y="552512"/>
                    <a:pt x="1015769" y="550328"/>
                    <a:pt x="1015630" y="547587"/>
                  </a:cubicBezTo>
                  <a:cubicBezTo>
                    <a:pt x="1015490" y="544845"/>
                    <a:pt x="1015353" y="542256"/>
                    <a:pt x="1015219" y="539819"/>
                  </a:cubicBezTo>
                  <a:cubicBezTo>
                    <a:pt x="1015084" y="537383"/>
                    <a:pt x="1014901" y="535149"/>
                    <a:pt x="1014670" y="533120"/>
                  </a:cubicBezTo>
                  <a:lnTo>
                    <a:pt x="1014327" y="530382"/>
                  </a:lnTo>
                  <a:lnTo>
                    <a:pt x="1013380" y="527956"/>
                  </a:lnTo>
                  <a:cubicBezTo>
                    <a:pt x="1012970" y="527758"/>
                    <a:pt x="1011847" y="527367"/>
                    <a:pt x="1010010" y="526783"/>
                  </a:cubicBezTo>
                  <a:close/>
                  <a:moveTo>
                    <a:pt x="387539" y="459095"/>
                  </a:moveTo>
                  <a:cubicBezTo>
                    <a:pt x="389776" y="459268"/>
                    <a:pt x="391822" y="460256"/>
                    <a:pt x="393676" y="462059"/>
                  </a:cubicBezTo>
                  <a:cubicBezTo>
                    <a:pt x="395529" y="463863"/>
                    <a:pt x="396473" y="465984"/>
                    <a:pt x="396506" y="468422"/>
                  </a:cubicBezTo>
                  <a:cubicBezTo>
                    <a:pt x="396540" y="470860"/>
                    <a:pt x="395507" y="473363"/>
                    <a:pt x="393408" y="475933"/>
                  </a:cubicBezTo>
                  <a:cubicBezTo>
                    <a:pt x="391310" y="478501"/>
                    <a:pt x="389041" y="479803"/>
                    <a:pt x="386603" y="479836"/>
                  </a:cubicBezTo>
                  <a:lnTo>
                    <a:pt x="350031" y="480337"/>
                  </a:lnTo>
                  <a:lnTo>
                    <a:pt x="347329" y="483422"/>
                  </a:lnTo>
                  <a:cubicBezTo>
                    <a:pt x="347332" y="483625"/>
                    <a:pt x="347208" y="485659"/>
                    <a:pt x="346956" y="489524"/>
                  </a:cubicBezTo>
                  <a:cubicBezTo>
                    <a:pt x="346704" y="493388"/>
                    <a:pt x="346593" y="496438"/>
                    <a:pt x="346624" y="498673"/>
                  </a:cubicBezTo>
                  <a:cubicBezTo>
                    <a:pt x="346635" y="499485"/>
                    <a:pt x="346653" y="500806"/>
                    <a:pt x="346678" y="502635"/>
                  </a:cubicBezTo>
                  <a:cubicBezTo>
                    <a:pt x="346703" y="504463"/>
                    <a:pt x="346729" y="506394"/>
                    <a:pt x="346757" y="508425"/>
                  </a:cubicBezTo>
                  <a:cubicBezTo>
                    <a:pt x="346785" y="510457"/>
                    <a:pt x="346863" y="512438"/>
                    <a:pt x="346991" y="514366"/>
                  </a:cubicBezTo>
                  <a:cubicBezTo>
                    <a:pt x="347119" y="516295"/>
                    <a:pt x="347187" y="517564"/>
                    <a:pt x="347195" y="518174"/>
                  </a:cubicBezTo>
                  <a:lnTo>
                    <a:pt x="401140" y="517436"/>
                  </a:lnTo>
                  <a:cubicBezTo>
                    <a:pt x="405000" y="517383"/>
                    <a:pt x="408070" y="518967"/>
                    <a:pt x="410350" y="522187"/>
                  </a:cubicBezTo>
                  <a:cubicBezTo>
                    <a:pt x="412629" y="525407"/>
                    <a:pt x="413791" y="528643"/>
                    <a:pt x="413836" y="531894"/>
                  </a:cubicBezTo>
                  <a:lnTo>
                    <a:pt x="413890" y="535856"/>
                  </a:lnTo>
                  <a:lnTo>
                    <a:pt x="397281" y="614119"/>
                  </a:lnTo>
                  <a:cubicBezTo>
                    <a:pt x="396716" y="617379"/>
                    <a:pt x="395536" y="620240"/>
                    <a:pt x="393741" y="622703"/>
                  </a:cubicBezTo>
                  <a:cubicBezTo>
                    <a:pt x="392154" y="625570"/>
                    <a:pt x="389532" y="627028"/>
                    <a:pt x="385875" y="627078"/>
                  </a:cubicBezTo>
                  <a:cubicBezTo>
                    <a:pt x="384656" y="627095"/>
                    <a:pt x="382922" y="626611"/>
                    <a:pt x="380673" y="625625"/>
                  </a:cubicBezTo>
                  <a:cubicBezTo>
                    <a:pt x="378430" y="625046"/>
                    <a:pt x="377295" y="623842"/>
                    <a:pt x="377270" y="622014"/>
                  </a:cubicBezTo>
                  <a:lnTo>
                    <a:pt x="377095" y="609213"/>
                  </a:lnTo>
                  <a:cubicBezTo>
                    <a:pt x="377474" y="607176"/>
                    <a:pt x="378336" y="603354"/>
                    <a:pt x="379682" y="597747"/>
                  </a:cubicBezTo>
                  <a:cubicBezTo>
                    <a:pt x="381028" y="592140"/>
                    <a:pt x="382319" y="586280"/>
                    <a:pt x="383556" y="580166"/>
                  </a:cubicBezTo>
                  <a:cubicBezTo>
                    <a:pt x="384794" y="574053"/>
                    <a:pt x="386034" y="568193"/>
                    <a:pt x="387279" y="562588"/>
                  </a:cubicBezTo>
                  <a:cubicBezTo>
                    <a:pt x="388523" y="556982"/>
                    <a:pt x="389436" y="553159"/>
                    <a:pt x="390017" y="551119"/>
                  </a:cubicBezTo>
                  <a:cubicBezTo>
                    <a:pt x="390789" y="548060"/>
                    <a:pt x="391150" y="544804"/>
                    <a:pt x="391103" y="541350"/>
                  </a:cubicBezTo>
                  <a:cubicBezTo>
                    <a:pt x="391089" y="540334"/>
                    <a:pt x="391029" y="539624"/>
                    <a:pt x="390921" y="539218"/>
                  </a:cubicBezTo>
                  <a:cubicBezTo>
                    <a:pt x="390814" y="538814"/>
                    <a:pt x="390050" y="538621"/>
                    <a:pt x="388627" y="538640"/>
                  </a:cubicBezTo>
                  <a:lnTo>
                    <a:pt x="353274" y="539124"/>
                  </a:lnTo>
                  <a:cubicBezTo>
                    <a:pt x="349210" y="539180"/>
                    <a:pt x="346388" y="540844"/>
                    <a:pt x="344807" y="544117"/>
                  </a:cubicBezTo>
                  <a:cubicBezTo>
                    <a:pt x="343435" y="547794"/>
                    <a:pt x="342632" y="552276"/>
                    <a:pt x="342400" y="557563"/>
                  </a:cubicBezTo>
                  <a:cubicBezTo>
                    <a:pt x="342168" y="562849"/>
                    <a:pt x="342245" y="568488"/>
                    <a:pt x="342631" y="574477"/>
                  </a:cubicBezTo>
                  <a:cubicBezTo>
                    <a:pt x="343018" y="580467"/>
                    <a:pt x="343095" y="586105"/>
                    <a:pt x="342863" y="591392"/>
                  </a:cubicBezTo>
                  <a:cubicBezTo>
                    <a:pt x="342630" y="596679"/>
                    <a:pt x="341724" y="600959"/>
                    <a:pt x="340143" y="604232"/>
                  </a:cubicBezTo>
                  <a:cubicBezTo>
                    <a:pt x="338771" y="607909"/>
                    <a:pt x="336053" y="609775"/>
                    <a:pt x="331989" y="609831"/>
                  </a:cubicBezTo>
                  <a:cubicBezTo>
                    <a:pt x="329957" y="609859"/>
                    <a:pt x="328017" y="609174"/>
                    <a:pt x="326169" y="607777"/>
                  </a:cubicBezTo>
                  <a:cubicBezTo>
                    <a:pt x="324321" y="606379"/>
                    <a:pt x="323180" y="604668"/>
                    <a:pt x="322746" y="602641"/>
                  </a:cubicBezTo>
                  <a:cubicBezTo>
                    <a:pt x="322531" y="601832"/>
                    <a:pt x="322408" y="600207"/>
                    <a:pt x="322374" y="597769"/>
                  </a:cubicBezTo>
                  <a:cubicBezTo>
                    <a:pt x="322341" y="595331"/>
                    <a:pt x="322319" y="593706"/>
                    <a:pt x="322308" y="592893"/>
                  </a:cubicBezTo>
                  <a:cubicBezTo>
                    <a:pt x="322066" y="575216"/>
                    <a:pt x="322737" y="557476"/>
                    <a:pt x="324323" y="539673"/>
                  </a:cubicBezTo>
                  <a:cubicBezTo>
                    <a:pt x="325908" y="521870"/>
                    <a:pt x="326580" y="504129"/>
                    <a:pt x="326338" y="486452"/>
                  </a:cubicBezTo>
                  <a:cubicBezTo>
                    <a:pt x="326321" y="485233"/>
                    <a:pt x="326104" y="484221"/>
                    <a:pt x="325686" y="483413"/>
                  </a:cubicBezTo>
                  <a:cubicBezTo>
                    <a:pt x="325673" y="482397"/>
                    <a:pt x="324952" y="481696"/>
                    <a:pt x="323524" y="481309"/>
                  </a:cubicBezTo>
                  <a:cubicBezTo>
                    <a:pt x="321695" y="481334"/>
                    <a:pt x="319157" y="481470"/>
                    <a:pt x="315909" y="481718"/>
                  </a:cubicBezTo>
                  <a:cubicBezTo>
                    <a:pt x="312661" y="481966"/>
                    <a:pt x="309510" y="481907"/>
                    <a:pt x="306457" y="481543"/>
                  </a:cubicBezTo>
                  <a:cubicBezTo>
                    <a:pt x="303403" y="481178"/>
                    <a:pt x="300798" y="480147"/>
                    <a:pt x="298641" y="478449"/>
                  </a:cubicBezTo>
                  <a:cubicBezTo>
                    <a:pt x="296484" y="476751"/>
                    <a:pt x="295382" y="474175"/>
                    <a:pt x="295335" y="470721"/>
                  </a:cubicBezTo>
                  <a:cubicBezTo>
                    <a:pt x="295304" y="468486"/>
                    <a:pt x="296190" y="466391"/>
                    <a:pt x="297992" y="464435"/>
                  </a:cubicBezTo>
                  <a:cubicBezTo>
                    <a:pt x="299794" y="462480"/>
                    <a:pt x="301813" y="461488"/>
                    <a:pt x="304048" y="461457"/>
                  </a:cubicBezTo>
                  <a:cubicBezTo>
                    <a:pt x="309528" y="460975"/>
                    <a:pt x="314553" y="460602"/>
                    <a:pt x="319122" y="460336"/>
                  </a:cubicBezTo>
                  <a:cubicBezTo>
                    <a:pt x="323690" y="460070"/>
                    <a:pt x="328159" y="459908"/>
                    <a:pt x="332527" y="459848"/>
                  </a:cubicBezTo>
                  <a:cubicBezTo>
                    <a:pt x="336896" y="459788"/>
                    <a:pt x="341366" y="459727"/>
                    <a:pt x="345937" y="459664"/>
                  </a:cubicBezTo>
                  <a:cubicBezTo>
                    <a:pt x="350509" y="459602"/>
                    <a:pt x="355538" y="459533"/>
                    <a:pt x="361024" y="459458"/>
                  </a:cubicBezTo>
                  <a:close/>
                  <a:moveTo>
                    <a:pt x="1078956" y="530716"/>
                  </a:moveTo>
                  <a:lnTo>
                    <a:pt x="1075294" y="530462"/>
                  </a:lnTo>
                  <a:cubicBezTo>
                    <a:pt x="1073259" y="530287"/>
                    <a:pt x="1070818" y="530066"/>
                    <a:pt x="1067969" y="529800"/>
                  </a:cubicBezTo>
                  <a:cubicBezTo>
                    <a:pt x="1065120" y="529534"/>
                    <a:pt x="1062119" y="529270"/>
                    <a:pt x="1058966" y="529008"/>
                  </a:cubicBezTo>
                  <a:cubicBezTo>
                    <a:pt x="1055812" y="528747"/>
                    <a:pt x="1053218" y="528528"/>
                    <a:pt x="1051184" y="528353"/>
                  </a:cubicBezTo>
                  <a:lnTo>
                    <a:pt x="1043869" y="528453"/>
                  </a:lnTo>
                  <a:lnTo>
                    <a:pt x="1037164" y="528545"/>
                  </a:lnTo>
                  <a:cubicBezTo>
                    <a:pt x="1036162" y="529575"/>
                    <a:pt x="1035670" y="530750"/>
                    <a:pt x="1035688" y="532071"/>
                  </a:cubicBezTo>
                  <a:cubicBezTo>
                    <a:pt x="1035706" y="533391"/>
                    <a:pt x="1035724" y="534661"/>
                    <a:pt x="1035740" y="535881"/>
                  </a:cubicBezTo>
                  <a:cubicBezTo>
                    <a:pt x="1035818" y="541570"/>
                    <a:pt x="1036051" y="547409"/>
                    <a:pt x="1036437" y="553399"/>
                  </a:cubicBezTo>
                  <a:cubicBezTo>
                    <a:pt x="1036824" y="559388"/>
                    <a:pt x="1037257" y="565021"/>
                    <a:pt x="1037736" y="570299"/>
                  </a:cubicBezTo>
                  <a:cubicBezTo>
                    <a:pt x="1038562" y="571304"/>
                    <a:pt x="1039889" y="571742"/>
                    <a:pt x="1041716" y="571616"/>
                  </a:cubicBezTo>
                  <a:cubicBezTo>
                    <a:pt x="1043544" y="571490"/>
                    <a:pt x="1044965" y="571419"/>
                    <a:pt x="1045981" y="571405"/>
                  </a:cubicBezTo>
                  <a:lnTo>
                    <a:pt x="1052686" y="571313"/>
                  </a:lnTo>
                  <a:cubicBezTo>
                    <a:pt x="1054921" y="571283"/>
                    <a:pt x="1057714" y="571194"/>
                    <a:pt x="1061065" y="571047"/>
                  </a:cubicBezTo>
                  <a:cubicBezTo>
                    <a:pt x="1064416" y="570899"/>
                    <a:pt x="1067513" y="570704"/>
                    <a:pt x="1070354" y="570462"/>
                  </a:cubicBezTo>
                  <a:cubicBezTo>
                    <a:pt x="1073603" y="570214"/>
                    <a:pt x="1076343" y="569973"/>
                    <a:pt x="1078575" y="569740"/>
                  </a:cubicBezTo>
                  <a:lnTo>
                    <a:pt x="1082232" y="569690"/>
                  </a:lnTo>
                  <a:lnTo>
                    <a:pt x="1083113" y="567239"/>
                  </a:lnTo>
                  <a:lnTo>
                    <a:pt x="1080208" y="533138"/>
                  </a:lnTo>
                  <a:close/>
                  <a:moveTo>
                    <a:pt x="133756" y="424769"/>
                  </a:moveTo>
                  <a:cubicBezTo>
                    <a:pt x="139446" y="424691"/>
                    <a:pt x="142936" y="427286"/>
                    <a:pt x="144227" y="432552"/>
                  </a:cubicBezTo>
                  <a:cubicBezTo>
                    <a:pt x="144238" y="433364"/>
                    <a:pt x="144410" y="434785"/>
                    <a:pt x="144743" y="436812"/>
                  </a:cubicBezTo>
                  <a:cubicBezTo>
                    <a:pt x="145075" y="438840"/>
                    <a:pt x="145409" y="440969"/>
                    <a:pt x="145745" y="443200"/>
                  </a:cubicBezTo>
                  <a:cubicBezTo>
                    <a:pt x="146080" y="445431"/>
                    <a:pt x="146414" y="447560"/>
                    <a:pt x="146747" y="449587"/>
                  </a:cubicBezTo>
                  <a:cubicBezTo>
                    <a:pt x="147079" y="451615"/>
                    <a:pt x="147252" y="453137"/>
                    <a:pt x="147266" y="454153"/>
                  </a:cubicBezTo>
                  <a:lnTo>
                    <a:pt x="147304" y="456896"/>
                  </a:lnTo>
                  <a:cubicBezTo>
                    <a:pt x="147337" y="459334"/>
                    <a:pt x="146508" y="461835"/>
                    <a:pt x="144815" y="464398"/>
                  </a:cubicBezTo>
                  <a:cubicBezTo>
                    <a:pt x="143123" y="466961"/>
                    <a:pt x="140855" y="468263"/>
                    <a:pt x="138010" y="468302"/>
                  </a:cubicBezTo>
                  <a:cubicBezTo>
                    <a:pt x="134556" y="468349"/>
                    <a:pt x="131897" y="467115"/>
                    <a:pt x="130034" y="464601"/>
                  </a:cubicBezTo>
                  <a:cubicBezTo>
                    <a:pt x="128171" y="462086"/>
                    <a:pt x="126707" y="459108"/>
                    <a:pt x="125644" y="455668"/>
                  </a:cubicBezTo>
                  <a:cubicBezTo>
                    <a:pt x="124993" y="452629"/>
                    <a:pt x="124592" y="449332"/>
                    <a:pt x="124442" y="445778"/>
                  </a:cubicBezTo>
                  <a:cubicBezTo>
                    <a:pt x="124292" y="442223"/>
                    <a:pt x="124203" y="439431"/>
                    <a:pt x="124175" y="437399"/>
                  </a:cubicBezTo>
                  <a:cubicBezTo>
                    <a:pt x="124130" y="434148"/>
                    <a:pt x="124903" y="431241"/>
                    <a:pt x="126494" y="428679"/>
                  </a:cubicBezTo>
                  <a:cubicBezTo>
                    <a:pt x="128085" y="426117"/>
                    <a:pt x="130506" y="424814"/>
                    <a:pt x="133756" y="424769"/>
                  </a:cubicBezTo>
                  <a:close/>
                  <a:moveTo>
                    <a:pt x="201128" y="425066"/>
                  </a:moveTo>
                  <a:cubicBezTo>
                    <a:pt x="202956" y="425041"/>
                    <a:pt x="204636" y="425273"/>
                    <a:pt x="206167" y="425760"/>
                  </a:cubicBezTo>
                  <a:cubicBezTo>
                    <a:pt x="207698" y="426247"/>
                    <a:pt x="208887" y="427805"/>
                    <a:pt x="209736" y="430436"/>
                  </a:cubicBezTo>
                  <a:cubicBezTo>
                    <a:pt x="209945" y="430839"/>
                    <a:pt x="210061" y="431905"/>
                    <a:pt x="210085" y="433632"/>
                  </a:cubicBezTo>
                  <a:cubicBezTo>
                    <a:pt x="210109" y="435359"/>
                    <a:pt x="210123" y="436425"/>
                    <a:pt x="210129" y="436832"/>
                  </a:cubicBezTo>
                  <a:cubicBezTo>
                    <a:pt x="210156" y="438864"/>
                    <a:pt x="210093" y="441659"/>
                    <a:pt x="209939" y="445217"/>
                  </a:cubicBezTo>
                  <a:cubicBezTo>
                    <a:pt x="209784" y="448776"/>
                    <a:pt x="209222" y="452289"/>
                    <a:pt x="208254" y="455757"/>
                  </a:cubicBezTo>
                  <a:cubicBezTo>
                    <a:pt x="207689" y="459016"/>
                    <a:pt x="206509" y="461928"/>
                    <a:pt x="204715" y="464493"/>
                  </a:cubicBezTo>
                  <a:cubicBezTo>
                    <a:pt x="202922" y="467058"/>
                    <a:pt x="200399" y="468362"/>
                    <a:pt x="197148" y="468407"/>
                  </a:cubicBezTo>
                  <a:cubicBezTo>
                    <a:pt x="193085" y="468462"/>
                    <a:pt x="190427" y="467279"/>
                    <a:pt x="189174" y="464858"/>
                  </a:cubicBezTo>
                  <a:cubicBezTo>
                    <a:pt x="187922" y="462436"/>
                    <a:pt x="187273" y="459601"/>
                    <a:pt x="187229" y="456349"/>
                  </a:cubicBezTo>
                  <a:cubicBezTo>
                    <a:pt x="187201" y="454317"/>
                    <a:pt x="187264" y="451522"/>
                    <a:pt x="187419" y="447964"/>
                  </a:cubicBezTo>
                  <a:cubicBezTo>
                    <a:pt x="187573" y="444405"/>
                    <a:pt x="188135" y="440892"/>
                    <a:pt x="189104" y="437425"/>
                  </a:cubicBezTo>
                  <a:cubicBezTo>
                    <a:pt x="190072" y="433956"/>
                    <a:pt x="191506" y="431041"/>
                    <a:pt x="193404" y="428678"/>
                  </a:cubicBezTo>
                  <a:cubicBezTo>
                    <a:pt x="195302" y="426315"/>
                    <a:pt x="197877" y="425111"/>
                    <a:pt x="201128" y="425066"/>
                  </a:cubicBezTo>
                  <a:close/>
                  <a:moveTo>
                    <a:pt x="1126765" y="516040"/>
                  </a:moveTo>
                  <a:cubicBezTo>
                    <a:pt x="1129305" y="516005"/>
                    <a:pt x="1131605" y="516990"/>
                    <a:pt x="1133664" y="518994"/>
                  </a:cubicBezTo>
                  <a:cubicBezTo>
                    <a:pt x="1135729" y="521404"/>
                    <a:pt x="1136779" y="523829"/>
                    <a:pt x="1136812" y="526267"/>
                  </a:cubicBezTo>
                  <a:lnTo>
                    <a:pt x="1137913" y="606726"/>
                  </a:lnTo>
                  <a:cubicBezTo>
                    <a:pt x="1137977" y="611399"/>
                    <a:pt x="1137272" y="615524"/>
                    <a:pt x="1135796" y="619101"/>
                  </a:cubicBezTo>
                  <a:cubicBezTo>
                    <a:pt x="1134321" y="622678"/>
                    <a:pt x="1131360" y="625309"/>
                    <a:pt x="1126912" y="626996"/>
                  </a:cubicBezTo>
                  <a:cubicBezTo>
                    <a:pt x="1121437" y="627883"/>
                    <a:pt x="1117024" y="628401"/>
                    <a:pt x="1113673" y="628549"/>
                  </a:cubicBezTo>
                  <a:cubicBezTo>
                    <a:pt x="1110322" y="628696"/>
                    <a:pt x="1106208" y="628803"/>
                    <a:pt x="1101332" y="628870"/>
                  </a:cubicBezTo>
                  <a:cubicBezTo>
                    <a:pt x="1098894" y="628903"/>
                    <a:pt x="1096706" y="628679"/>
                    <a:pt x="1094769" y="628198"/>
                  </a:cubicBezTo>
                  <a:cubicBezTo>
                    <a:pt x="1092832" y="627716"/>
                    <a:pt x="1090644" y="627492"/>
                    <a:pt x="1088206" y="627525"/>
                  </a:cubicBezTo>
                  <a:cubicBezTo>
                    <a:pt x="1077640" y="627670"/>
                    <a:pt x="1067078" y="628018"/>
                    <a:pt x="1056518" y="628569"/>
                  </a:cubicBezTo>
                  <a:cubicBezTo>
                    <a:pt x="1046167" y="629523"/>
                    <a:pt x="1035607" y="630074"/>
                    <a:pt x="1024839" y="630222"/>
                  </a:cubicBezTo>
                  <a:cubicBezTo>
                    <a:pt x="1022400" y="630255"/>
                    <a:pt x="1019200" y="630299"/>
                    <a:pt x="1015238" y="630353"/>
                  </a:cubicBezTo>
                  <a:cubicBezTo>
                    <a:pt x="1011276" y="630407"/>
                    <a:pt x="1007160" y="630362"/>
                    <a:pt x="1002891" y="630217"/>
                  </a:cubicBezTo>
                  <a:cubicBezTo>
                    <a:pt x="999030" y="630270"/>
                    <a:pt x="995627" y="630316"/>
                    <a:pt x="992681" y="630357"/>
                  </a:cubicBezTo>
                  <a:cubicBezTo>
                    <a:pt x="989735" y="630397"/>
                    <a:pt x="988160" y="630419"/>
                    <a:pt x="987957" y="630422"/>
                  </a:cubicBezTo>
                  <a:cubicBezTo>
                    <a:pt x="985925" y="630449"/>
                    <a:pt x="982267" y="630398"/>
                    <a:pt x="976981" y="630267"/>
                  </a:cubicBezTo>
                  <a:cubicBezTo>
                    <a:pt x="972099" y="629927"/>
                    <a:pt x="966761" y="629696"/>
                    <a:pt x="960968" y="629572"/>
                  </a:cubicBezTo>
                  <a:cubicBezTo>
                    <a:pt x="955175" y="629448"/>
                    <a:pt x="949686" y="629319"/>
                    <a:pt x="944502" y="629187"/>
                  </a:cubicBezTo>
                  <a:cubicBezTo>
                    <a:pt x="939318" y="629055"/>
                    <a:pt x="935709" y="628901"/>
                    <a:pt x="933674" y="628726"/>
                  </a:cubicBezTo>
                  <a:cubicBezTo>
                    <a:pt x="928973" y="626758"/>
                    <a:pt x="925988" y="623954"/>
                    <a:pt x="924719" y="620313"/>
                  </a:cubicBezTo>
                  <a:cubicBezTo>
                    <a:pt x="923856" y="616667"/>
                    <a:pt x="922984" y="612310"/>
                    <a:pt x="922102" y="607241"/>
                  </a:cubicBezTo>
                  <a:cubicBezTo>
                    <a:pt x="921659" y="604606"/>
                    <a:pt x="921047" y="600702"/>
                    <a:pt x="920265" y="595531"/>
                  </a:cubicBezTo>
                  <a:cubicBezTo>
                    <a:pt x="919483" y="590359"/>
                    <a:pt x="918700" y="585137"/>
                    <a:pt x="917917" y="579864"/>
                  </a:cubicBezTo>
                  <a:cubicBezTo>
                    <a:pt x="917133" y="574591"/>
                    <a:pt x="916405" y="569622"/>
                    <a:pt x="915731" y="564957"/>
                  </a:cubicBezTo>
                  <a:cubicBezTo>
                    <a:pt x="915266" y="560696"/>
                    <a:pt x="915027" y="558058"/>
                    <a:pt x="915013" y="557042"/>
                  </a:cubicBezTo>
                  <a:lnTo>
                    <a:pt x="914880" y="547289"/>
                  </a:lnTo>
                  <a:cubicBezTo>
                    <a:pt x="914855" y="545461"/>
                    <a:pt x="914824" y="543226"/>
                    <a:pt x="914788" y="540584"/>
                  </a:cubicBezTo>
                  <a:cubicBezTo>
                    <a:pt x="914752" y="537943"/>
                    <a:pt x="915073" y="535398"/>
                    <a:pt x="915750" y="532950"/>
                  </a:cubicBezTo>
                  <a:cubicBezTo>
                    <a:pt x="916428" y="530502"/>
                    <a:pt x="917364" y="528356"/>
                    <a:pt x="918558" y="526510"/>
                  </a:cubicBezTo>
                  <a:cubicBezTo>
                    <a:pt x="920161" y="524863"/>
                    <a:pt x="922487" y="524018"/>
                    <a:pt x="925534" y="523976"/>
                  </a:cubicBezTo>
                  <a:cubicBezTo>
                    <a:pt x="928988" y="523929"/>
                    <a:pt x="931237" y="524915"/>
                    <a:pt x="932281" y="526932"/>
                  </a:cubicBezTo>
                  <a:cubicBezTo>
                    <a:pt x="933734" y="529148"/>
                    <a:pt x="934633" y="531727"/>
                    <a:pt x="934978" y="534668"/>
                  </a:cubicBezTo>
                  <a:cubicBezTo>
                    <a:pt x="935323" y="537610"/>
                    <a:pt x="935414" y="540505"/>
                    <a:pt x="935249" y="543352"/>
                  </a:cubicBezTo>
                  <a:cubicBezTo>
                    <a:pt x="935085" y="546199"/>
                    <a:pt x="935014" y="548436"/>
                    <a:pt x="935036" y="550062"/>
                  </a:cubicBezTo>
                  <a:cubicBezTo>
                    <a:pt x="935267" y="552091"/>
                    <a:pt x="935619" y="555540"/>
                    <a:pt x="936093" y="560411"/>
                  </a:cubicBezTo>
                  <a:cubicBezTo>
                    <a:pt x="936975" y="565480"/>
                    <a:pt x="937757" y="570702"/>
                    <a:pt x="938441" y="576078"/>
                  </a:cubicBezTo>
                  <a:cubicBezTo>
                    <a:pt x="939124" y="581454"/>
                    <a:pt x="939804" y="586576"/>
                    <a:pt x="940480" y="591444"/>
                  </a:cubicBezTo>
                  <a:cubicBezTo>
                    <a:pt x="941156" y="596311"/>
                    <a:pt x="941713" y="599860"/>
                    <a:pt x="942150" y="602090"/>
                  </a:cubicBezTo>
                  <a:cubicBezTo>
                    <a:pt x="942598" y="605132"/>
                    <a:pt x="943948" y="607247"/>
                    <a:pt x="946199" y="608436"/>
                  </a:cubicBezTo>
                  <a:cubicBezTo>
                    <a:pt x="965117" y="609803"/>
                    <a:pt x="983670" y="610412"/>
                    <a:pt x="1001856" y="610265"/>
                  </a:cubicBezTo>
                  <a:cubicBezTo>
                    <a:pt x="1020042" y="610118"/>
                    <a:pt x="1038684" y="609913"/>
                    <a:pt x="1057783" y="609652"/>
                  </a:cubicBezTo>
                  <a:cubicBezTo>
                    <a:pt x="1060221" y="609619"/>
                    <a:pt x="1063777" y="609570"/>
                    <a:pt x="1068450" y="609506"/>
                  </a:cubicBezTo>
                  <a:cubicBezTo>
                    <a:pt x="1073123" y="609442"/>
                    <a:pt x="1077847" y="609327"/>
                    <a:pt x="1082620" y="609160"/>
                  </a:cubicBezTo>
                  <a:cubicBezTo>
                    <a:pt x="1087394" y="608993"/>
                    <a:pt x="1091710" y="608883"/>
                    <a:pt x="1095571" y="608830"/>
                  </a:cubicBezTo>
                  <a:cubicBezTo>
                    <a:pt x="1099431" y="608777"/>
                    <a:pt x="1101869" y="608744"/>
                    <a:pt x="1102885" y="608730"/>
                  </a:cubicBezTo>
                  <a:lnTo>
                    <a:pt x="1115360" y="607035"/>
                  </a:lnTo>
                  <a:lnTo>
                    <a:pt x="1115661" y="606726"/>
                  </a:lnTo>
                  <a:cubicBezTo>
                    <a:pt x="1116061" y="606314"/>
                    <a:pt x="1116362" y="606005"/>
                    <a:pt x="1116563" y="605799"/>
                  </a:cubicBezTo>
                  <a:cubicBezTo>
                    <a:pt x="1116763" y="605593"/>
                    <a:pt x="1117009" y="605031"/>
                    <a:pt x="1117301" y="604113"/>
                  </a:cubicBezTo>
                  <a:cubicBezTo>
                    <a:pt x="1117594" y="603194"/>
                    <a:pt x="1117736" y="602430"/>
                    <a:pt x="1117727" y="601821"/>
                  </a:cubicBezTo>
                  <a:lnTo>
                    <a:pt x="1116697" y="526542"/>
                  </a:lnTo>
                  <a:cubicBezTo>
                    <a:pt x="1116658" y="523698"/>
                    <a:pt x="1117691" y="521245"/>
                    <a:pt x="1119797" y="519184"/>
                  </a:cubicBezTo>
                  <a:cubicBezTo>
                    <a:pt x="1121903" y="517123"/>
                    <a:pt x="1124226" y="516075"/>
                    <a:pt x="1126765" y="516040"/>
                  </a:cubicBezTo>
                  <a:close/>
                  <a:moveTo>
                    <a:pt x="682378" y="441952"/>
                  </a:moveTo>
                  <a:cubicBezTo>
                    <a:pt x="684621" y="442531"/>
                    <a:pt x="686162" y="443729"/>
                    <a:pt x="687000" y="445547"/>
                  </a:cubicBezTo>
                  <a:cubicBezTo>
                    <a:pt x="688244" y="447359"/>
                    <a:pt x="688879" y="449230"/>
                    <a:pt x="688905" y="451160"/>
                  </a:cubicBezTo>
                  <a:cubicBezTo>
                    <a:pt x="688932" y="453090"/>
                    <a:pt x="688352" y="455283"/>
                    <a:pt x="687167" y="457738"/>
                  </a:cubicBezTo>
                  <a:cubicBezTo>
                    <a:pt x="686384" y="459984"/>
                    <a:pt x="684876" y="461122"/>
                    <a:pt x="682641" y="461153"/>
                  </a:cubicBezTo>
                  <a:lnTo>
                    <a:pt x="623210" y="461966"/>
                  </a:lnTo>
                  <a:cubicBezTo>
                    <a:pt x="621382" y="461991"/>
                    <a:pt x="619639" y="460846"/>
                    <a:pt x="617981" y="458532"/>
                  </a:cubicBezTo>
                  <a:cubicBezTo>
                    <a:pt x="616324" y="456218"/>
                    <a:pt x="615483" y="454146"/>
                    <a:pt x="615458" y="452318"/>
                  </a:cubicBezTo>
                  <a:cubicBezTo>
                    <a:pt x="615424" y="449879"/>
                    <a:pt x="616110" y="447991"/>
                    <a:pt x="617514" y="446650"/>
                  </a:cubicBezTo>
                  <a:cubicBezTo>
                    <a:pt x="618918" y="445310"/>
                    <a:pt x="620631" y="444271"/>
                    <a:pt x="622653" y="443532"/>
                  </a:cubicBezTo>
                  <a:cubicBezTo>
                    <a:pt x="624675" y="442793"/>
                    <a:pt x="626752" y="442307"/>
                    <a:pt x="628882" y="442074"/>
                  </a:cubicBezTo>
                  <a:cubicBezTo>
                    <a:pt x="631013" y="441842"/>
                    <a:pt x="632993" y="441713"/>
                    <a:pt x="634821" y="441688"/>
                  </a:cubicBezTo>
                  <a:cubicBezTo>
                    <a:pt x="642949" y="441577"/>
                    <a:pt x="650670" y="441522"/>
                    <a:pt x="657986" y="441524"/>
                  </a:cubicBezTo>
                  <a:cubicBezTo>
                    <a:pt x="665302" y="441525"/>
                    <a:pt x="673433" y="441668"/>
                    <a:pt x="682378" y="441952"/>
                  </a:cubicBezTo>
                  <a:close/>
                  <a:moveTo>
                    <a:pt x="328869" y="404114"/>
                  </a:moveTo>
                  <a:cubicBezTo>
                    <a:pt x="330901" y="404086"/>
                    <a:pt x="332632" y="404368"/>
                    <a:pt x="334062" y="404957"/>
                  </a:cubicBezTo>
                  <a:cubicBezTo>
                    <a:pt x="335702" y="405951"/>
                    <a:pt x="337036" y="406949"/>
                    <a:pt x="338066" y="407951"/>
                  </a:cubicBezTo>
                  <a:cubicBezTo>
                    <a:pt x="339508" y="409354"/>
                    <a:pt x="340798" y="410810"/>
                    <a:pt x="341936" y="412318"/>
                  </a:cubicBezTo>
                  <a:cubicBezTo>
                    <a:pt x="343075" y="413827"/>
                    <a:pt x="344262" y="415182"/>
                    <a:pt x="345497" y="416385"/>
                  </a:cubicBezTo>
                  <a:cubicBezTo>
                    <a:pt x="346118" y="417189"/>
                    <a:pt x="347202" y="418445"/>
                    <a:pt x="348750" y="420150"/>
                  </a:cubicBezTo>
                  <a:cubicBezTo>
                    <a:pt x="350297" y="421856"/>
                    <a:pt x="351795" y="423614"/>
                    <a:pt x="353242" y="425423"/>
                  </a:cubicBezTo>
                  <a:cubicBezTo>
                    <a:pt x="355095" y="427227"/>
                    <a:pt x="356845" y="428829"/>
                    <a:pt x="358490" y="430229"/>
                  </a:cubicBezTo>
                  <a:cubicBezTo>
                    <a:pt x="360140" y="432035"/>
                    <a:pt x="361276" y="433341"/>
                    <a:pt x="361896" y="434145"/>
                  </a:cubicBezTo>
                  <a:cubicBezTo>
                    <a:pt x="363138" y="435754"/>
                    <a:pt x="363866" y="437014"/>
                    <a:pt x="364082" y="437926"/>
                  </a:cubicBezTo>
                  <a:cubicBezTo>
                    <a:pt x="364298" y="438837"/>
                    <a:pt x="364415" y="440004"/>
                    <a:pt x="364435" y="441426"/>
                  </a:cubicBezTo>
                  <a:cubicBezTo>
                    <a:pt x="364521" y="447725"/>
                    <a:pt x="361415" y="450917"/>
                    <a:pt x="355116" y="451003"/>
                  </a:cubicBezTo>
                  <a:cubicBezTo>
                    <a:pt x="352678" y="451037"/>
                    <a:pt x="349303" y="449457"/>
                    <a:pt x="344992" y="446265"/>
                  </a:cubicBezTo>
                  <a:cubicBezTo>
                    <a:pt x="341087" y="443067"/>
                    <a:pt x="337176" y="439411"/>
                    <a:pt x="333258" y="435299"/>
                  </a:cubicBezTo>
                  <a:cubicBezTo>
                    <a:pt x="329341" y="431187"/>
                    <a:pt x="325931" y="427017"/>
                    <a:pt x="323028" y="422789"/>
                  </a:cubicBezTo>
                  <a:cubicBezTo>
                    <a:pt x="320125" y="418561"/>
                    <a:pt x="318658" y="415329"/>
                    <a:pt x="318628" y="413094"/>
                  </a:cubicBezTo>
                  <a:cubicBezTo>
                    <a:pt x="318583" y="409843"/>
                    <a:pt x="319517" y="407545"/>
                    <a:pt x="321429" y="406197"/>
                  </a:cubicBezTo>
                  <a:cubicBezTo>
                    <a:pt x="323341" y="404850"/>
                    <a:pt x="325821" y="404156"/>
                    <a:pt x="328869" y="404114"/>
                  </a:cubicBezTo>
                  <a:close/>
                  <a:moveTo>
                    <a:pt x="201512" y="386348"/>
                  </a:moveTo>
                  <a:cubicBezTo>
                    <a:pt x="204766" y="386507"/>
                    <a:pt x="207926" y="387226"/>
                    <a:pt x="210991" y="388505"/>
                  </a:cubicBezTo>
                  <a:cubicBezTo>
                    <a:pt x="214057" y="389783"/>
                    <a:pt x="215616" y="392354"/>
                    <a:pt x="215669" y="396214"/>
                  </a:cubicBezTo>
                  <a:cubicBezTo>
                    <a:pt x="215711" y="399262"/>
                    <a:pt x="214677" y="401663"/>
                    <a:pt x="212567" y="403420"/>
                  </a:cubicBezTo>
                  <a:cubicBezTo>
                    <a:pt x="210457" y="405176"/>
                    <a:pt x="207778" y="406178"/>
                    <a:pt x="204530" y="406425"/>
                  </a:cubicBezTo>
                  <a:lnTo>
                    <a:pt x="179234" y="406772"/>
                  </a:lnTo>
                  <a:lnTo>
                    <a:pt x="176817" y="408329"/>
                  </a:lnTo>
                  <a:lnTo>
                    <a:pt x="177785" y="479036"/>
                  </a:lnTo>
                  <a:lnTo>
                    <a:pt x="205519" y="478656"/>
                  </a:lnTo>
                  <a:cubicBezTo>
                    <a:pt x="208160" y="478620"/>
                    <a:pt x="210003" y="479611"/>
                    <a:pt x="211047" y="481629"/>
                  </a:cubicBezTo>
                  <a:cubicBezTo>
                    <a:pt x="212497" y="483641"/>
                    <a:pt x="213237" y="485765"/>
                    <a:pt x="213268" y="488000"/>
                  </a:cubicBezTo>
                  <a:cubicBezTo>
                    <a:pt x="213332" y="492673"/>
                    <a:pt x="211492" y="495645"/>
                    <a:pt x="207750" y="496915"/>
                  </a:cubicBezTo>
                  <a:cubicBezTo>
                    <a:pt x="204008" y="498186"/>
                    <a:pt x="199903" y="498903"/>
                    <a:pt x="195434" y="499066"/>
                  </a:cubicBezTo>
                  <a:cubicBezTo>
                    <a:pt x="190966" y="499228"/>
                    <a:pt x="186956" y="499537"/>
                    <a:pt x="183406" y="499992"/>
                  </a:cubicBezTo>
                  <a:cubicBezTo>
                    <a:pt x="179856" y="500447"/>
                    <a:pt x="178102" y="502198"/>
                    <a:pt x="178143" y="505247"/>
                  </a:cubicBezTo>
                  <a:cubicBezTo>
                    <a:pt x="178194" y="508904"/>
                    <a:pt x="180360" y="511262"/>
                    <a:pt x="184642" y="512321"/>
                  </a:cubicBezTo>
                  <a:cubicBezTo>
                    <a:pt x="188924" y="513380"/>
                    <a:pt x="193763" y="514330"/>
                    <a:pt x="199160" y="515170"/>
                  </a:cubicBezTo>
                  <a:cubicBezTo>
                    <a:pt x="204557" y="516011"/>
                    <a:pt x="209401" y="517317"/>
                    <a:pt x="213693" y="519087"/>
                  </a:cubicBezTo>
                  <a:cubicBezTo>
                    <a:pt x="217985" y="520857"/>
                    <a:pt x="220163" y="524079"/>
                    <a:pt x="220227" y="528752"/>
                  </a:cubicBezTo>
                  <a:cubicBezTo>
                    <a:pt x="220271" y="532003"/>
                    <a:pt x="219388" y="534301"/>
                    <a:pt x="217578" y="535647"/>
                  </a:cubicBezTo>
                  <a:cubicBezTo>
                    <a:pt x="215767" y="536992"/>
                    <a:pt x="213439" y="537685"/>
                    <a:pt x="210595" y="537724"/>
                  </a:cubicBezTo>
                  <a:cubicBezTo>
                    <a:pt x="205515" y="537793"/>
                    <a:pt x="200679" y="537046"/>
                    <a:pt x="196085" y="535484"/>
                  </a:cubicBezTo>
                  <a:cubicBezTo>
                    <a:pt x="191491" y="533921"/>
                    <a:pt x="186756" y="533173"/>
                    <a:pt x="181880" y="533240"/>
                  </a:cubicBezTo>
                  <a:lnTo>
                    <a:pt x="178527" y="533285"/>
                  </a:lnTo>
                  <a:cubicBezTo>
                    <a:pt x="177731" y="534515"/>
                    <a:pt x="177140" y="535895"/>
                    <a:pt x="176755" y="537425"/>
                  </a:cubicBezTo>
                  <a:cubicBezTo>
                    <a:pt x="176369" y="538954"/>
                    <a:pt x="175829" y="540333"/>
                    <a:pt x="175135" y="541562"/>
                  </a:cubicBezTo>
                  <a:cubicBezTo>
                    <a:pt x="174441" y="542791"/>
                    <a:pt x="173540" y="543819"/>
                    <a:pt x="172434" y="544647"/>
                  </a:cubicBezTo>
                  <a:cubicBezTo>
                    <a:pt x="171327" y="545475"/>
                    <a:pt x="169758" y="545903"/>
                    <a:pt x="167726" y="545931"/>
                  </a:cubicBezTo>
                  <a:cubicBezTo>
                    <a:pt x="162444" y="546003"/>
                    <a:pt x="159219" y="544269"/>
                    <a:pt x="158053" y="540729"/>
                  </a:cubicBezTo>
                  <a:cubicBezTo>
                    <a:pt x="156887" y="537189"/>
                    <a:pt x="156170" y="533083"/>
                    <a:pt x="155903" y="528413"/>
                  </a:cubicBezTo>
                  <a:cubicBezTo>
                    <a:pt x="154670" y="527413"/>
                    <a:pt x="153086" y="526775"/>
                    <a:pt x="151152" y="526497"/>
                  </a:cubicBezTo>
                  <a:cubicBezTo>
                    <a:pt x="149218" y="526218"/>
                    <a:pt x="147743" y="526086"/>
                    <a:pt x="146727" y="526100"/>
                  </a:cubicBezTo>
                  <a:cubicBezTo>
                    <a:pt x="145711" y="526114"/>
                    <a:pt x="144902" y="526430"/>
                    <a:pt x="144301" y="527047"/>
                  </a:cubicBezTo>
                  <a:cubicBezTo>
                    <a:pt x="144348" y="530502"/>
                    <a:pt x="143532" y="533968"/>
                    <a:pt x="141852" y="537445"/>
                  </a:cubicBezTo>
                  <a:cubicBezTo>
                    <a:pt x="140173" y="540923"/>
                    <a:pt x="137402" y="542688"/>
                    <a:pt x="133542" y="542741"/>
                  </a:cubicBezTo>
                  <a:cubicBezTo>
                    <a:pt x="126431" y="542838"/>
                    <a:pt x="122824" y="539128"/>
                    <a:pt x="122721" y="531610"/>
                  </a:cubicBezTo>
                  <a:cubicBezTo>
                    <a:pt x="122657" y="526937"/>
                    <a:pt x="122902" y="522564"/>
                    <a:pt x="123456" y="518493"/>
                  </a:cubicBezTo>
                  <a:cubicBezTo>
                    <a:pt x="124416" y="514415"/>
                    <a:pt x="124866" y="510141"/>
                    <a:pt x="124804" y="505672"/>
                  </a:cubicBezTo>
                  <a:cubicBezTo>
                    <a:pt x="123179" y="505694"/>
                    <a:pt x="121249" y="505771"/>
                    <a:pt x="119016" y="505903"/>
                  </a:cubicBezTo>
                  <a:cubicBezTo>
                    <a:pt x="116782" y="506035"/>
                    <a:pt x="114443" y="505915"/>
                    <a:pt x="112000" y="505542"/>
                  </a:cubicBezTo>
                  <a:cubicBezTo>
                    <a:pt x="109962" y="505164"/>
                    <a:pt x="108123" y="504376"/>
                    <a:pt x="106481" y="503179"/>
                  </a:cubicBezTo>
                  <a:cubicBezTo>
                    <a:pt x="105245" y="501977"/>
                    <a:pt x="104609" y="500055"/>
                    <a:pt x="104573" y="497413"/>
                  </a:cubicBezTo>
                  <a:cubicBezTo>
                    <a:pt x="104542" y="495178"/>
                    <a:pt x="104922" y="493242"/>
                    <a:pt x="105712" y="491606"/>
                  </a:cubicBezTo>
                  <a:cubicBezTo>
                    <a:pt x="106912" y="490167"/>
                    <a:pt x="108268" y="488980"/>
                    <a:pt x="109779" y="488045"/>
                  </a:cubicBezTo>
                  <a:cubicBezTo>
                    <a:pt x="111290" y="487110"/>
                    <a:pt x="112957" y="486426"/>
                    <a:pt x="114781" y="485995"/>
                  </a:cubicBezTo>
                  <a:cubicBezTo>
                    <a:pt x="117010" y="485558"/>
                    <a:pt x="119138" y="485122"/>
                    <a:pt x="121164" y="484688"/>
                  </a:cubicBezTo>
                  <a:cubicBezTo>
                    <a:pt x="122177" y="484471"/>
                    <a:pt x="124308" y="484239"/>
                    <a:pt x="127556" y="483991"/>
                  </a:cubicBezTo>
                  <a:cubicBezTo>
                    <a:pt x="130804" y="483743"/>
                    <a:pt x="134102" y="483444"/>
                    <a:pt x="137451" y="483094"/>
                  </a:cubicBezTo>
                  <a:cubicBezTo>
                    <a:pt x="140799" y="482743"/>
                    <a:pt x="144096" y="482393"/>
                    <a:pt x="147343" y="482044"/>
                  </a:cubicBezTo>
                  <a:cubicBezTo>
                    <a:pt x="150590" y="481695"/>
                    <a:pt x="152721" y="481513"/>
                    <a:pt x="153737" y="481499"/>
                  </a:cubicBezTo>
                  <a:lnTo>
                    <a:pt x="156146" y="479332"/>
                  </a:lnTo>
                  <a:cubicBezTo>
                    <a:pt x="156344" y="478923"/>
                    <a:pt x="156568" y="476786"/>
                    <a:pt x="156820" y="472922"/>
                  </a:cubicBezTo>
                  <a:cubicBezTo>
                    <a:pt x="157072" y="469057"/>
                    <a:pt x="157183" y="466007"/>
                    <a:pt x="157152" y="463772"/>
                  </a:cubicBezTo>
                  <a:lnTo>
                    <a:pt x="157069" y="457677"/>
                  </a:lnTo>
                  <a:lnTo>
                    <a:pt x="156981" y="451276"/>
                  </a:lnTo>
                  <a:cubicBezTo>
                    <a:pt x="156736" y="448232"/>
                    <a:pt x="156481" y="444424"/>
                    <a:pt x="156215" y="439856"/>
                  </a:cubicBezTo>
                  <a:cubicBezTo>
                    <a:pt x="155950" y="435287"/>
                    <a:pt x="155687" y="430922"/>
                    <a:pt x="155427" y="426759"/>
                  </a:cubicBezTo>
                  <a:cubicBezTo>
                    <a:pt x="155166" y="422596"/>
                    <a:pt x="154912" y="418891"/>
                    <a:pt x="154665" y="415643"/>
                  </a:cubicBezTo>
                  <a:lnTo>
                    <a:pt x="154297" y="411076"/>
                  </a:lnTo>
                  <a:lnTo>
                    <a:pt x="152753" y="409573"/>
                  </a:lnTo>
                  <a:lnTo>
                    <a:pt x="123799" y="409969"/>
                  </a:lnTo>
                  <a:cubicBezTo>
                    <a:pt x="122789" y="410389"/>
                    <a:pt x="121222" y="410970"/>
                    <a:pt x="119098" y="411710"/>
                  </a:cubicBezTo>
                  <a:cubicBezTo>
                    <a:pt x="116975" y="412451"/>
                    <a:pt x="115608" y="412825"/>
                    <a:pt x="114999" y="412833"/>
                  </a:cubicBezTo>
                  <a:cubicBezTo>
                    <a:pt x="112154" y="412872"/>
                    <a:pt x="109700" y="411737"/>
                    <a:pt x="107636" y="409428"/>
                  </a:cubicBezTo>
                  <a:cubicBezTo>
                    <a:pt x="105572" y="407120"/>
                    <a:pt x="104522" y="404645"/>
                    <a:pt x="104486" y="402003"/>
                  </a:cubicBezTo>
                  <a:cubicBezTo>
                    <a:pt x="104444" y="398955"/>
                    <a:pt x="105529" y="396502"/>
                    <a:pt x="107739" y="394643"/>
                  </a:cubicBezTo>
                  <a:cubicBezTo>
                    <a:pt x="110352" y="392575"/>
                    <a:pt x="113074" y="391013"/>
                    <a:pt x="115905" y="389959"/>
                  </a:cubicBezTo>
                  <a:cubicBezTo>
                    <a:pt x="117530" y="389936"/>
                    <a:pt x="120475" y="389794"/>
                    <a:pt x="124739" y="389533"/>
                  </a:cubicBezTo>
                  <a:cubicBezTo>
                    <a:pt x="129407" y="389062"/>
                    <a:pt x="134227" y="388641"/>
                    <a:pt x="139201" y="388268"/>
                  </a:cubicBezTo>
                  <a:cubicBezTo>
                    <a:pt x="144175" y="387895"/>
                    <a:pt x="148794" y="387578"/>
                    <a:pt x="153058" y="387316"/>
                  </a:cubicBezTo>
                  <a:cubicBezTo>
                    <a:pt x="157728" y="387049"/>
                    <a:pt x="160978" y="386903"/>
                    <a:pt x="162806" y="386878"/>
                  </a:cubicBezTo>
                  <a:cubicBezTo>
                    <a:pt x="163009" y="386875"/>
                    <a:pt x="163924" y="386863"/>
                    <a:pt x="165549" y="386840"/>
                  </a:cubicBezTo>
                  <a:cubicBezTo>
                    <a:pt x="167175" y="386818"/>
                    <a:pt x="169003" y="386742"/>
                    <a:pt x="171033" y="386613"/>
                  </a:cubicBezTo>
                  <a:cubicBezTo>
                    <a:pt x="173063" y="386484"/>
                    <a:pt x="175145" y="386404"/>
                    <a:pt x="177279" y="386375"/>
                  </a:cubicBezTo>
                  <a:cubicBezTo>
                    <a:pt x="179412" y="386346"/>
                    <a:pt x="181088" y="386323"/>
                    <a:pt x="182307" y="386306"/>
                  </a:cubicBezTo>
                  <a:cubicBezTo>
                    <a:pt x="182917" y="386298"/>
                    <a:pt x="184187" y="386281"/>
                    <a:pt x="186117" y="386254"/>
                  </a:cubicBezTo>
                  <a:cubicBezTo>
                    <a:pt x="188047" y="386228"/>
                    <a:pt x="190029" y="386251"/>
                    <a:pt x="192062" y="386325"/>
                  </a:cubicBezTo>
                  <a:cubicBezTo>
                    <a:pt x="194095" y="386399"/>
                    <a:pt x="196026" y="386423"/>
                    <a:pt x="197855" y="386398"/>
                  </a:cubicBezTo>
                  <a:cubicBezTo>
                    <a:pt x="199684" y="386373"/>
                    <a:pt x="200903" y="386357"/>
                    <a:pt x="201512" y="386348"/>
                  </a:cubicBezTo>
                  <a:close/>
                  <a:moveTo>
                    <a:pt x="1007364" y="467073"/>
                  </a:moveTo>
                  <a:lnTo>
                    <a:pt x="1004012" y="467119"/>
                  </a:lnTo>
                  <a:cubicBezTo>
                    <a:pt x="999339" y="467183"/>
                    <a:pt x="994363" y="467454"/>
                    <a:pt x="989086" y="467933"/>
                  </a:cubicBezTo>
                  <a:cubicBezTo>
                    <a:pt x="984213" y="468202"/>
                    <a:pt x="979849" y="468567"/>
                    <a:pt x="975994" y="469026"/>
                  </a:cubicBezTo>
                  <a:cubicBezTo>
                    <a:pt x="974981" y="469243"/>
                    <a:pt x="974477" y="469555"/>
                    <a:pt x="974482" y="469961"/>
                  </a:cubicBezTo>
                  <a:cubicBezTo>
                    <a:pt x="974493" y="470774"/>
                    <a:pt x="974502" y="471384"/>
                    <a:pt x="974507" y="471790"/>
                  </a:cubicBezTo>
                  <a:lnTo>
                    <a:pt x="974536" y="473924"/>
                  </a:lnTo>
                  <a:cubicBezTo>
                    <a:pt x="974550" y="474939"/>
                    <a:pt x="974678" y="476817"/>
                    <a:pt x="974918" y="479558"/>
                  </a:cubicBezTo>
                  <a:cubicBezTo>
                    <a:pt x="975159" y="482298"/>
                    <a:pt x="975504" y="485239"/>
                    <a:pt x="975954" y="488383"/>
                  </a:cubicBezTo>
                  <a:cubicBezTo>
                    <a:pt x="976403" y="491527"/>
                    <a:pt x="976748" y="494469"/>
                    <a:pt x="976989" y="497209"/>
                  </a:cubicBezTo>
                  <a:cubicBezTo>
                    <a:pt x="977230" y="499949"/>
                    <a:pt x="977358" y="501929"/>
                    <a:pt x="977375" y="503148"/>
                  </a:cubicBezTo>
                  <a:cubicBezTo>
                    <a:pt x="977787" y="503549"/>
                    <a:pt x="978402" y="503947"/>
                    <a:pt x="979220" y="504342"/>
                  </a:cubicBezTo>
                  <a:cubicBezTo>
                    <a:pt x="980044" y="505144"/>
                    <a:pt x="980659" y="505542"/>
                    <a:pt x="981066" y="505536"/>
                  </a:cubicBezTo>
                  <a:lnTo>
                    <a:pt x="1013371" y="505094"/>
                  </a:lnTo>
                  <a:cubicBezTo>
                    <a:pt x="1013355" y="503875"/>
                    <a:pt x="1013275" y="501742"/>
                    <a:pt x="1013131" y="498696"/>
                  </a:cubicBezTo>
                  <a:cubicBezTo>
                    <a:pt x="1012988" y="495650"/>
                    <a:pt x="1012908" y="493517"/>
                    <a:pt x="1012892" y="492298"/>
                  </a:cubicBezTo>
                  <a:cubicBezTo>
                    <a:pt x="1012466" y="490881"/>
                    <a:pt x="1012132" y="488752"/>
                    <a:pt x="1011890" y="485910"/>
                  </a:cubicBezTo>
                  <a:cubicBezTo>
                    <a:pt x="1011653" y="483475"/>
                    <a:pt x="1011314" y="480939"/>
                    <a:pt x="1010871" y="478303"/>
                  </a:cubicBezTo>
                  <a:cubicBezTo>
                    <a:pt x="1010637" y="476071"/>
                    <a:pt x="1010406" y="474042"/>
                    <a:pt x="1010178" y="472216"/>
                  </a:cubicBezTo>
                  <a:lnTo>
                    <a:pt x="1009836" y="469477"/>
                  </a:lnTo>
                  <a:close/>
                  <a:moveTo>
                    <a:pt x="437706" y="405063"/>
                  </a:moveTo>
                  <a:cubicBezTo>
                    <a:pt x="440956" y="405019"/>
                    <a:pt x="443407" y="405900"/>
                    <a:pt x="445058" y="407706"/>
                  </a:cubicBezTo>
                  <a:cubicBezTo>
                    <a:pt x="446708" y="409512"/>
                    <a:pt x="447554" y="411939"/>
                    <a:pt x="447596" y="414987"/>
                  </a:cubicBezTo>
                  <a:lnTo>
                    <a:pt x="447633" y="417730"/>
                  </a:lnTo>
                  <a:cubicBezTo>
                    <a:pt x="447639" y="418137"/>
                    <a:pt x="447497" y="418901"/>
                    <a:pt x="447208" y="420022"/>
                  </a:cubicBezTo>
                  <a:cubicBezTo>
                    <a:pt x="446918" y="421144"/>
                    <a:pt x="446577" y="422215"/>
                    <a:pt x="446185" y="423237"/>
                  </a:cubicBezTo>
                  <a:cubicBezTo>
                    <a:pt x="446001" y="424662"/>
                    <a:pt x="445815" y="425935"/>
                    <a:pt x="445627" y="427055"/>
                  </a:cubicBezTo>
                  <a:cubicBezTo>
                    <a:pt x="445439" y="428175"/>
                    <a:pt x="445347" y="428837"/>
                    <a:pt x="445350" y="429040"/>
                  </a:cubicBezTo>
                  <a:cubicBezTo>
                    <a:pt x="444757" y="430268"/>
                    <a:pt x="444421" y="431745"/>
                    <a:pt x="444343" y="433474"/>
                  </a:cubicBezTo>
                  <a:cubicBezTo>
                    <a:pt x="444266" y="435202"/>
                    <a:pt x="444035" y="436933"/>
                    <a:pt x="443652" y="438665"/>
                  </a:cubicBezTo>
                  <a:cubicBezTo>
                    <a:pt x="443270" y="440398"/>
                    <a:pt x="442991" y="442281"/>
                    <a:pt x="442815" y="444316"/>
                  </a:cubicBezTo>
                  <a:lnTo>
                    <a:pt x="445596" y="447022"/>
                  </a:lnTo>
                  <a:lnTo>
                    <a:pt x="523646" y="448087"/>
                  </a:lnTo>
                  <a:cubicBezTo>
                    <a:pt x="526903" y="448449"/>
                    <a:pt x="529610" y="449530"/>
                    <a:pt x="531769" y="451329"/>
                  </a:cubicBezTo>
                  <a:cubicBezTo>
                    <a:pt x="533927" y="453129"/>
                    <a:pt x="535027" y="455552"/>
                    <a:pt x="535069" y="458600"/>
                  </a:cubicBezTo>
                  <a:lnTo>
                    <a:pt x="535077" y="459210"/>
                  </a:lnTo>
                  <a:cubicBezTo>
                    <a:pt x="534103" y="462271"/>
                    <a:pt x="532144" y="467582"/>
                    <a:pt x="529199" y="475141"/>
                  </a:cubicBezTo>
                  <a:cubicBezTo>
                    <a:pt x="526254" y="482701"/>
                    <a:pt x="523212" y="490566"/>
                    <a:pt x="520072" y="498738"/>
                  </a:cubicBezTo>
                  <a:cubicBezTo>
                    <a:pt x="516938" y="507316"/>
                    <a:pt x="513948" y="515282"/>
                    <a:pt x="511102" y="522637"/>
                  </a:cubicBezTo>
                  <a:cubicBezTo>
                    <a:pt x="508256" y="529992"/>
                    <a:pt x="506143" y="535203"/>
                    <a:pt x="504762" y="538270"/>
                  </a:cubicBezTo>
                  <a:cubicBezTo>
                    <a:pt x="504172" y="539701"/>
                    <a:pt x="503085" y="541951"/>
                    <a:pt x="501501" y="545021"/>
                  </a:cubicBezTo>
                  <a:cubicBezTo>
                    <a:pt x="499923" y="548497"/>
                    <a:pt x="498195" y="552128"/>
                    <a:pt x="496316" y="555913"/>
                  </a:cubicBezTo>
                  <a:cubicBezTo>
                    <a:pt x="494437" y="559698"/>
                    <a:pt x="492657" y="563280"/>
                    <a:pt x="490976" y="566655"/>
                  </a:cubicBezTo>
                  <a:cubicBezTo>
                    <a:pt x="489295" y="570032"/>
                    <a:pt x="488158" y="572334"/>
                    <a:pt x="487565" y="573561"/>
                  </a:cubicBezTo>
                  <a:lnTo>
                    <a:pt x="488822" y="576287"/>
                  </a:lnTo>
                  <a:cubicBezTo>
                    <a:pt x="489645" y="577089"/>
                    <a:pt x="491036" y="578441"/>
                    <a:pt x="492992" y="580345"/>
                  </a:cubicBezTo>
                  <a:cubicBezTo>
                    <a:pt x="494949" y="582249"/>
                    <a:pt x="497009" y="584253"/>
                    <a:pt x="499171" y="586357"/>
                  </a:cubicBezTo>
                  <a:cubicBezTo>
                    <a:pt x="501334" y="588461"/>
                    <a:pt x="503393" y="590465"/>
                    <a:pt x="505350" y="592369"/>
                  </a:cubicBezTo>
                  <a:cubicBezTo>
                    <a:pt x="507307" y="594273"/>
                    <a:pt x="508594" y="595525"/>
                    <a:pt x="509212" y="596127"/>
                  </a:cubicBezTo>
                  <a:cubicBezTo>
                    <a:pt x="510859" y="597730"/>
                    <a:pt x="511739" y="598886"/>
                    <a:pt x="511850" y="599596"/>
                  </a:cubicBezTo>
                  <a:cubicBezTo>
                    <a:pt x="511962" y="600306"/>
                    <a:pt x="512030" y="601575"/>
                    <a:pt x="512055" y="603404"/>
                  </a:cubicBezTo>
                  <a:cubicBezTo>
                    <a:pt x="512097" y="606451"/>
                    <a:pt x="511420" y="609001"/>
                    <a:pt x="510026" y="611052"/>
                  </a:cubicBezTo>
                  <a:cubicBezTo>
                    <a:pt x="508631" y="613104"/>
                    <a:pt x="506309" y="614151"/>
                    <a:pt x="503058" y="614196"/>
                  </a:cubicBezTo>
                  <a:cubicBezTo>
                    <a:pt x="499401" y="614246"/>
                    <a:pt x="496179" y="612715"/>
                    <a:pt x="493393" y="609603"/>
                  </a:cubicBezTo>
                  <a:cubicBezTo>
                    <a:pt x="490607" y="606492"/>
                    <a:pt x="487979" y="603835"/>
                    <a:pt x="485510" y="601633"/>
                  </a:cubicBezTo>
                  <a:cubicBezTo>
                    <a:pt x="484277" y="600634"/>
                    <a:pt x="482685" y="599335"/>
                    <a:pt x="480732" y="597736"/>
                  </a:cubicBezTo>
                  <a:cubicBezTo>
                    <a:pt x="478780" y="596137"/>
                    <a:pt x="477702" y="595339"/>
                    <a:pt x="477499" y="595341"/>
                  </a:cubicBezTo>
                  <a:lnTo>
                    <a:pt x="475061" y="595375"/>
                  </a:lnTo>
                  <a:lnTo>
                    <a:pt x="457747" y="622132"/>
                  </a:lnTo>
                  <a:cubicBezTo>
                    <a:pt x="456753" y="623771"/>
                    <a:pt x="455048" y="625420"/>
                    <a:pt x="452632" y="627079"/>
                  </a:cubicBezTo>
                  <a:cubicBezTo>
                    <a:pt x="450626" y="628936"/>
                    <a:pt x="448606" y="629877"/>
                    <a:pt x="446574" y="629905"/>
                  </a:cubicBezTo>
                  <a:cubicBezTo>
                    <a:pt x="443527" y="629947"/>
                    <a:pt x="441278" y="628962"/>
                    <a:pt x="439828" y="626950"/>
                  </a:cubicBezTo>
                  <a:cubicBezTo>
                    <a:pt x="438378" y="624937"/>
                    <a:pt x="437633" y="622509"/>
                    <a:pt x="437594" y="619664"/>
                  </a:cubicBezTo>
                  <a:cubicBezTo>
                    <a:pt x="437544" y="616007"/>
                    <a:pt x="438613" y="612436"/>
                    <a:pt x="440801" y="608951"/>
                  </a:cubicBezTo>
                  <a:cubicBezTo>
                    <a:pt x="443392" y="605258"/>
                    <a:pt x="445983" y="601564"/>
                    <a:pt x="448575" y="597871"/>
                  </a:cubicBezTo>
                  <a:cubicBezTo>
                    <a:pt x="451575" y="594375"/>
                    <a:pt x="454222" y="591037"/>
                    <a:pt x="456516" y="587855"/>
                  </a:cubicBezTo>
                  <a:cubicBezTo>
                    <a:pt x="458809" y="584674"/>
                    <a:pt x="459935" y="581560"/>
                    <a:pt x="459893" y="578512"/>
                  </a:cubicBezTo>
                  <a:lnTo>
                    <a:pt x="459885" y="577902"/>
                  </a:lnTo>
                  <a:cubicBezTo>
                    <a:pt x="459679" y="577702"/>
                    <a:pt x="459469" y="577197"/>
                    <a:pt x="459255" y="576387"/>
                  </a:cubicBezTo>
                  <a:cubicBezTo>
                    <a:pt x="459046" y="575983"/>
                    <a:pt x="458838" y="575682"/>
                    <a:pt x="458632" y="575481"/>
                  </a:cubicBezTo>
                  <a:cubicBezTo>
                    <a:pt x="457811" y="574882"/>
                    <a:pt x="456729" y="573729"/>
                    <a:pt x="455384" y="572020"/>
                  </a:cubicBezTo>
                  <a:cubicBezTo>
                    <a:pt x="454040" y="570311"/>
                    <a:pt x="452543" y="568553"/>
                    <a:pt x="450892" y="566747"/>
                  </a:cubicBezTo>
                  <a:cubicBezTo>
                    <a:pt x="449242" y="564940"/>
                    <a:pt x="447591" y="563134"/>
                    <a:pt x="445941" y="561328"/>
                  </a:cubicBezTo>
                  <a:cubicBezTo>
                    <a:pt x="444699" y="559719"/>
                    <a:pt x="443770" y="558614"/>
                    <a:pt x="443152" y="558013"/>
                  </a:cubicBezTo>
                  <a:cubicBezTo>
                    <a:pt x="441908" y="556201"/>
                    <a:pt x="441127" y="554840"/>
                    <a:pt x="440810" y="553930"/>
                  </a:cubicBezTo>
                  <a:cubicBezTo>
                    <a:pt x="440492" y="553019"/>
                    <a:pt x="440321" y="551650"/>
                    <a:pt x="440296" y="549821"/>
                  </a:cubicBezTo>
                  <a:cubicBezTo>
                    <a:pt x="440207" y="543320"/>
                    <a:pt x="443515" y="540023"/>
                    <a:pt x="450220" y="539931"/>
                  </a:cubicBezTo>
                  <a:cubicBezTo>
                    <a:pt x="452252" y="539903"/>
                    <a:pt x="454242" y="540485"/>
                    <a:pt x="456189" y="541678"/>
                  </a:cubicBezTo>
                  <a:cubicBezTo>
                    <a:pt x="458135" y="542871"/>
                    <a:pt x="459830" y="544169"/>
                    <a:pt x="461271" y="545572"/>
                  </a:cubicBezTo>
                  <a:cubicBezTo>
                    <a:pt x="462922" y="547378"/>
                    <a:pt x="464421" y="549237"/>
                    <a:pt x="465768" y="551150"/>
                  </a:cubicBezTo>
                  <a:cubicBezTo>
                    <a:pt x="467115" y="553062"/>
                    <a:pt x="468408" y="554720"/>
                    <a:pt x="469646" y="556126"/>
                  </a:cubicBezTo>
                  <a:cubicBezTo>
                    <a:pt x="469849" y="556123"/>
                    <a:pt x="470053" y="556171"/>
                    <a:pt x="470258" y="556270"/>
                  </a:cubicBezTo>
                  <a:cubicBezTo>
                    <a:pt x="470462" y="556369"/>
                    <a:pt x="470666" y="556417"/>
                    <a:pt x="470870" y="556414"/>
                  </a:cubicBezTo>
                  <a:cubicBezTo>
                    <a:pt x="472292" y="556395"/>
                    <a:pt x="473299" y="555771"/>
                    <a:pt x="473892" y="554544"/>
                  </a:cubicBezTo>
                  <a:cubicBezTo>
                    <a:pt x="474891" y="553311"/>
                    <a:pt x="475587" y="552183"/>
                    <a:pt x="475980" y="551162"/>
                  </a:cubicBezTo>
                  <a:cubicBezTo>
                    <a:pt x="476770" y="549525"/>
                    <a:pt x="478148" y="546255"/>
                    <a:pt x="480113" y="541351"/>
                  </a:cubicBezTo>
                  <a:cubicBezTo>
                    <a:pt x="482484" y="536441"/>
                    <a:pt x="484802" y="531278"/>
                    <a:pt x="487064" y="525862"/>
                  </a:cubicBezTo>
                  <a:cubicBezTo>
                    <a:pt x="489327" y="520446"/>
                    <a:pt x="491493" y="515335"/>
                    <a:pt x="493561" y="510532"/>
                  </a:cubicBezTo>
                  <a:cubicBezTo>
                    <a:pt x="495629" y="505728"/>
                    <a:pt x="497057" y="502406"/>
                    <a:pt x="497845" y="500566"/>
                  </a:cubicBezTo>
                  <a:cubicBezTo>
                    <a:pt x="498237" y="499545"/>
                    <a:pt x="498922" y="497655"/>
                    <a:pt x="499901" y="494899"/>
                  </a:cubicBezTo>
                  <a:cubicBezTo>
                    <a:pt x="500879" y="492142"/>
                    <a:pt x="501856" y="489284"/>
                    <a:pt x="502832" y="486323"/>
                  </a:cubicBezTo>
                  <a:cubicBezTo>
                    <a:pt x="503807" y="483363"/>
                    <a:pt x="504734" y="480556"/>
                    <a:pt x="505612" y="477903"/>
                  </a:cubicBezTo>
                  <a:cubicBezTo>
                    <a:pt x="506491" y="475249"/>
                    <a:pt x="507126" y="473411"/>
                    <a:pt x="507518" y="472389"/>
                  </a:cubicBezTo>
                  <a:lnTo>
                    <a:pt x="507506" y="471475"/>
                  </a:lnTo>
                  <a:cubicBezTo>
                    <a:pt x="507483" y="469850"/>
                    <a:pt x="507065" y="468941"/>
                    <a:pt x="506249" y="468749"/>
                  </a:cubicBezTo>
                  <a:cubicBezTo>
                    <a:pt x="503811" y="468782"/>
                    <a:pt x="499440" y="468639"/>
                    <a:pt x="493136" y="468318"/>
                  </a:cubicBezTo>
                  <a:cubicBezTo>
                    <a:pt x="487243" y="468399"/>
                    <a:pt x="480893" y="468436"/>
                    <a:pt x="474085" y="468427"/>
                  </a:cubicBezTo>
                  <a:cubicBezTo>
                    <a:pt x="467277" y="468419"/>
                    <a:pt x="460824" y="468355"/>
                    <a:pt x="454726" y="468235"/>
                  </a:cubicBezTo>
                  <a:cubicBezTo>
                    <a:pt x="448628" y="468115"/>
                    <a:pt x="444360" y="468072"/>
                    <a:pt x="441922" y="468105"/>
                  </a:cubicBezTo>
                  <a:lnTo>
                    <a:pt x="440398" y="468126"/>
                  </a:lnTo>
                  <a:cubicBezTo>
                    <a:pt x="438163" y="468157"/>
                    <a:pt x="436674" y="470717"/>
                    <a:pt x="435930" y="475808"/>
                  </a:cubicBezTo>
                  <a:cubicBezTo>
                    <a:pt x="435591" y="480690"/>
                    <a:pt x="434953" y="486084"/>
                    <a:pt x="434018" y="491990"/>
                  </a:cubicBezTo>
                  <a:cubicBezTo>
                    <a:pt x="433495" y="498297"/>
                    <a:pt x="432302" y="503953"/>
                    <a:pt x="430440" y="508957"/>
                  </a:cubicBezTo>
                  <a:cubicBezTo>
                    <a:pt x="428578" y="513961"/>
                    <a:pt x="425310" y="516496"/>
                    <a:pt x="420637" y="516559"/>
                  </a:cubicBezTo>
                  <a:cubicBezTo>
                    <a:pt x="414135" y="516648"/>
                    <a:pt x="410837" y="513239"/>
                    <a:pt x="410742" y="506331"/>
                  </a:cubicBezTo>
                  <a:lnTo>
                    <a:pt x="410713" y="504197"/>
                  </a:lnTo>
                  <a:cubicBezTo>
                    <a:pt x="411484" y="501139"/>
                    <a:pt x="412479" y="495841"/>
                    <a:pt x="413696" y="488305"/>
                  </a:cubicBezTo>
                  <a:cubicBezTo>
                    <a:pt x="414914" y="480770"/>
                    <a:pt x="416328" y="472723"/>
                    <a:pt x="417939" y="464166"/>
                  </a:cubicBezTo>
                  <a:cubicBezTo>
                    <a:pt x="419549" y="455609"/>
                    <a:pt x="420963" y="447562"/>
                    <a:pt x="422181" y="440026"/>
                  </a:cubicBezTo>
                  <a:cubicBezTo>
                    <a:pt x="423398" y="432491"/>
                    <a:pt x="424394" y="427295"/>
                    <a:pt x="425168" y="424439"/>
                  </a:cubicBezTo>
                  <a:cubicBezTo>
                    <a:pt x="425343" y="422405"/>
                    <a:pt x="425618" y="420166"/>
                    <a:pt x="425990" y="417722"/>
                  </a:cubicBezTo>
                  <a:cubicBezTo>
                    <a:pt x="426572" y="415682"/>
                    <a:pt x="427307" y="413690"/>
                    <a:pt x="428195" y="411747"/>
                  </a:cubicBezTo>
                  <a:cubicBezTo>
                    <a:pt x="429083" y="409804"/>
                    <a:pt x="430228" y="408113"/>
                    <a:pt x="431631" y="406671"/>
                  </a:cubicBezTo>
                  <a:cubicBezTo>
                    <a:pt x="433243" y="405633"/>
                    <a:pt x="435267" y="405097"/>
                    <a:pt x="437706" y="405063"/>
                  </a:cubicBezTo>
                  <a:close/>
                  <a:moveTo>
                    <a:pt x="1078071" y="466105"/>
                  </a:moveTo>
                  <a:lnTo>
                    <a:pt x="1033879" y="466710"/>
                  </a:lnTo>
                  <a:lnTo>
                    <a:pt x="1031157" y="468271"/>
                  </a:lnTo>
                  <a:lnTo>
                    <a:pt x="1031191" y="470709"/>
                  </a:lnTo>
                  <a:cubicBezTo>
                    <a:pt x="1031199" y="471319"/>
                    <a:pt x="1031231" y="473655"/>
                    <a:pt x="1031287" y="477719"/>
                  </a:cubicBezTo>
                  <a:cubicBezTo>
                    <a:pt x="1031342" y="481783"/>
                    <a:pt x="1031656" y="486148"/>
                    <a:pt x="1032228" y="490814"/>
                  </a:cubicBezTo>
                  <a:cubicBezTo>
                    <a:pt x="1032800" y="495480"/>
                    <a:pt x="1033516" y="499535"/>
                    <a:pt x="1034376" y="502978"/>
                  </a:cubicBezTo>
                  <a:cubicBezTo>
                    <a:pt x="1035642" y="506415"/>
                    <a:pt x="1037287" y="507815"/>
                    <a:pt x="1039310" y="507178"/>
                  </a:cubicBezTo>
                  <a:cubicBezTo>
                    <a:pt x="1040123" y="507167"/>
                    <a:pt x="1041547" y="507249"/>
                    <a:pt x="1043581" y="507424"/>
                  </a:cubicBezTo>
                  <a:cubicBezTo>
                    <a:pt x="1046022" y="507594"/>
                    <a:pt x="1048412" y="507713"/>
                    <a:pt x="1050750" y="507783"/>
                  </a:cubicBezTo>
                  <a:cubicBezTo>
                    <a:pt x="1053088" y="507853"/>
                    <a:pt x="1055324" y="507924"/>
                    <a:pt x="1057459" y="507996"/>
                  </a:cubicBezTo>
                  <a:cubicBezTo>
                    <a:pt x="1059594" y="508069"/>
                    <a:pt x="1061169" y="508098"/>
                    <a:pt x="1062185" y="508084"/>
                  </a:cubicBezTo>
                  <a:lnTo>
                    <a:pt x="1071023" y="507963"/>
                  </a:lnTo>
                  <a:lnTo>
                    <a:pt x="1079862" y="507842"/>
                  </a:lnTo>
                  <a:cubicBezTo>
                    <a:pt x="1080839" y="504983"/>
                    <a:pt x="1081309" y="502234"/>
                    <a:pt x="1081273" y="499592"/>
                  </a:cubicBezTo>
                  <a:cubicBezTo>
                    <a:pt x="1081242" y="497358"/>
                    <a:pt x="1081206" y="494716"/>
                    <a:pt x="1081165" y="491668"/>
                  </a:cubicBezTo>
                  <a:lnTo>
                    <a:pt x="1081039" y="482525"/>
                  </a:lnTo>
                  <a:cubicBezTo>
                    <a:pt x="1080619" y="481515"/>
                    <a:pt x="1080397" y="480146"/>
                    <a:pt x="1080374" y="478419"/>
                  </a:cubicBezTo>
                  <a:cubicBezTo>
                    <a:pt x="1080350" y="476692"/>
                    <a:pt x="1080225" y="474966"/>
                    <a:pt x="1079998" y="473242"/>
                  </a:cubicBezTo>
                  <a:cubicBezTo>
                    <a:pt x="1079771" y="471518"/>
                    <a:pt x="1079542" y="469641"/>
                    <a:pt x="1079311" y="467612"/>
                  </a:cubicBezTo>
                  <a:close/>
                  <a:moveTo>
                    <a:pt x="1088450" y="444930"/>
                  </a:moveTo>
                  <a:cubicBezTo>
                    <a:pt x="1090688" y="445103"/>
                    <a:pt x="1092524" y="445585"/>
                    <a:pt x="1093957" y="446378"/>
                  </a:cubicBezTo>
                  <a:cubicBezTo>
                    <a:pt x="1095797" y="447166"/>
                    <a:pt x="1097386" y="448211"/>
                    <a:pt x="1098725" y="449514"/>
                  </a:cubicBezTo>
                  <a:cubicBezTo>
                    <a:pt x="1100064" y="450817"/>
                    <a:pt x="1100748" y="452585"/>
                    <a:pt x="1100779" y="454820"/>
                  </a:cubicBezTo>
                  <a:lnTo>
                    <a:pt x="1102001" y="544118"/>
                  </a:lnTo>
                  <a:cubicBezTo>
                    <a:pt x="1102488" y="550005"/>
                    <a:pt x="1103024" y="555739"/>
                    <a:pt x="1103608" y="561319"/>
                  </a:cubicBezTo>
                  <a:cubicBezTo>
                    <a:pt x="1104193" y="566900"/>
                    <a:pt x="1104525" y="572636"/>
                    <a:pt x="1104606" y="578528"/>
                  </a:cubicBezTo>
                  <a:cubicBezTo>
                    <a:pt x="1104639" y="580967"/>
                    <a:pt x="1104266" y="583360"/>
                    <a:pt x="1103485" y="585708"/>
                  </a:cubicBezTo>
                  <a:cubicBezTo>
                    <a:pt x="1102704" y="588055"/>
                    <a:pt x="1100690" y="589353"/>
                    <a:pt x="1097441" y="589600"/>
                  </a:cubicBezTo>
                  <a:cubicBezTo>
                    <a:pt x="1082824" y="590613"/>
                    <a:pt x="1069165" y="591207"/>
                    <a:pt x="1056466" y="591380"/>
                  </a:cubicBezTo>
                  <a:cubicBezTo>
                    <a:pt x="1043768" y="591554"/>
                    <a:pt x="1030002" y="591743"/>
                    <a:pt x="1015170" y="591946"/>
                  </a:cubicBezTo>
                  <a:lnTo>
                    <a:pt x="970978" y="592550"/>
                  </a:lnTo>
                  <a:cubicBezTo>
                    <a:pt x="965272" y="591409"/>
                    <a:pt x="961469" y="588210"/>
                    <a:pt x="959568" y="582952"/>
                  </a:cubicBezTo>
                  <a:cubicBezTo>
                    <a:pt x="959560" y="582342"/>
                    <a:pt x="959441" y="581125"/>
                    <a:pt x="959213" y="579299"/>
                  </a:cubicBezTo>
                  <a:cubicBezTo>
                    <a:pt x="958985" y="577473"/>
                    <a:pt x="958805" y="575494"/>
                    <a:pt x="958675" y="573362"/>
                  </a:cubicBezTo>
                  <a:cubicBezTo>
                    <a:pt x="958544" y="571230"/>
                    <a:pt x="958416" y="569302"/>
                    <a:pt x="958291" y="567576"/>
                  </a:cubicBezTo>
                  <a:cubicBezTo>
                    <a:pt x="958165" y="565850"/>
                    <a:pt x="958097" y="564581"/>
                    <a:pt x="958086" y="563768"/>
                  </a:cubicBezTo>
                  <a:lnTo>
                    <a:pt x="957706" y="536034"/>
                  </a:lnTo>
                  <a:cubicBezTo>
                    <a:pt x="957676" y="533799"/>
                    <a:pt x="957521" y="529940"/>
                    <a:pt x="957243" y="524457"/>
                  </a:cubicBezTo>
                  <a:cubicBezTo>
                    <a:pt x="956970" y="519380"/>
                    <a:pt x="956591" y="513949"/>
                    <a:pt x="956106" y="508164"/>
                  </a:cubicBezTo>
                  <a:cubicBezTo>
                    <a:pt x="955620" y="502379"/>
                    <a:pt x="955241" y="496948"/>
                    <a:pt x="954968" y="491871"/>
                  </a:cubicBezTo>
                  <a:cubicBezTo>
                    <a:pt x="954696" y="486794"/>
                    <a:pt x="954548" y="483443"/>
                    <a:pt x="954526" y="481818"/>
                  </a:cubicBezTo>
                  <a:cubicBezTo>
                    <a:pt x="954520" y="481411"/>
                    <a:pt x="954352" y="480245"/>
                    <a:pt x="954021" y="478319"/>
                  </a:cubicBezTo>
                  <a:cubicBezTo>
                    <a:pt x="953690" y="476393"/>
                    <a:pt x="953408" y="474416"/>
                    <a:pt x="953178" y="472387"/>
                  </a:cubicBezTo>
                  <a:cubicBezTo>
                    <a:pt x="952946" y="470358"/>
                    <a:pt x="952512" y="468331"/>
                    <a:pt x="951875" y="466308"/>
                  </a:cubicBezTo>
                  <a:cubicBezTo>
                    <a:pt x="951647" y="464482"/>
                    <a:pt x="951530" y="463366"/>
                    <a:pt x="951524" y="462960"/>
                  </a:cubicBezTo>
                  <a:lnTo>
                    <a:pt x="951483" y="459912"/>
                  </a:lnTo>
                  <a:cubicBezTo>
                    <a:pt x="951446" y="457271"/>
                    <a:pt x="952226" y="454821"/>
                    <a:pt x="953821" y="452564"/>
                  </a:cubicBezTo>
                  <a:cubicBezTo>
                    <a:pt x="955416" y="450307"/>
                    <a:pt x="957534" y="449160"/>
                    <a:pt x="960175" y="449124"/>
                  </a:cubicBezTo>
                  <a:cubicBezTo>
                    <a:pt x="963223" y="449082"/>
                    <a:pt x="967742" y="448919"/>
                    <a:pt x="973733" y="448634"/>
                  </a:cubicBezTo>
                  <a:cubicBezTo>
                    <a:pt x="979724" y="448348"/>
                    <a:pt x="986527" y="448001"/>
                    <a:pt x="994142" y="447592"/>
                  </a:cubicBezTo>
                  <a:cubicBezTo>
                    <a:pt x="1001757" y="447183"/>
                    <a:pt x="1009780" y="446870"/>
                    <a:pt x="1018211" y="446653"/>
                  </a:cubicBezTo>
                  <a:cubicBezTo>
                    <a:pt x="1026642" y="446436"/>
                    <a:pt x="1034665" y="446174"/>
                    <a:pt x="1042282" y="445867"/>
                  </a:cubicBezTo>
                  <a:cubicBezTo>
                    <a:pt x="1049898" y="445559"/>
                    <a:pt x="1056651" y="445263"/>
                    <a:pt x="1062541" y="444980"/>
                  </a:cubicBezTo>
                  <a:cubicBezTo>
                    <a:pt x="1068839" y="444893"/>
                    <a:pt x="1073411" y="444831"/>
                    <a:pt x="1076255" y="444792"/>
                  </a:cubicBezTo>
                  <a:lnTo>
                    <a:pt x="1083570" y="444692"/>
                  </a:lnTo>
                  <a:cubicBezTo>
                    <a:pt x="1084992" y="444672"/>
                    <a:pt x="1086619" y="444752"/>
                    <a:pt x="1088450" y="444930"/>
                  </a:cubicBezTo>
                  <a:close/>
                  <a:moveTo>
                    <a:pt x="771501" y="405677"/>
                  </a:moveTo>
                  <a:cubicBezTo>
                    <a:pt x="774346" y="405638"/>
                    <a:pt x="776797" y="406570"/>
                    <a:pt x="778855" y="408472"/>
                  </a:cubicBezTo>
                  <a:cubicBezTo>
                    <a:pt x="780914" y="410375"/>
                    <a:pt x="781962" y="412748"/>
                    <a:pt x="782001" y="415593"/>
                  </a:cubicBezTo>
                  <a:cubicBezTo>
                    <a:pt x="782073" y="420875"/>
                    <a:pt x="781233" y="426272"/>
                    <a:pt x="779479" y="431783"/>
                  </a:cubicBezTo>
                  <a:cubicBezTo>
                    <a:pt x="777726" y="437294"/>
                    <a:pt x="776888" y="442894"/>
                    <a:pt x="776966" y="448583"/>
                  </a:cubicBezTo>
                  <a:lnTo>
                    <a:pt x="776982" y="449802"/>
                  </a:lnTo>
                  <a:cubicBezTo>
                    <a:pt x="776991" y="450412"/>
                    <a:pt x="777098" y="450817"/>
                    <a:pt x="777304" y="451017"/>
                  </a:cubicBezTo>
                  <a:lnTo>
                    <a:pt x="779759" y="452203"/>
                  </a:lnTo>
                  <a:cubicBezTo>
                    <a:pt x="781184" y="452386"/>
                    <a:pt x="783423" y="452661"/>
                    <a:pt x="786476" y="453026"/>
                  </a:cubicBezTo>
                  <a:cubicBezTo>
                    <a:pt x="789939" y="453588"/>
                    <a:pt x="793552" y="454046"/>
                    <a:pt x="797316" y="454401"/>
                  </a:cubicBezTo>
                  <a:cubicBezTo>
                    <a:pt x="801081" y="454756"/>
                    <a:pt x="804693" y="455113"/>
                    <a:pt x="808153" y="455472"/>
                  </a:cubicBezTo>
                  <a:cubicBezTo>
                    <a:pt x="811618" y="456237"/>
                    <a:pt x="813961" y="456713"/>
                    <a:pt x="815183" y="456900"/>
                  </a:cubicBezTo>
                  <a:cubicBezTo>
                    <a:pt x="817421" y="457073"/>
                    <a:pt x="819661" y="457448"/>
                    <a:pt x="821905" y="458027"/>
                  </a:cubicBezTo>
                  <a:cubicBezTo>
                    <a:pt x="824357" y="459010"/>
                    <a:pt x="826709" y="460146"/>
                    <a:pt x="828962" y="461436"/>
                  </a:cubicBezTo>
                  <a:cubicBezTo>
                    <a:pt x="831215" y="462726"/>
                    <a:pt x="833117" y="464326"/>
                    <a:pt x="834667" y="466236"/>
                  </a:cubicBezTo>
                  <a:cubicBezTo>
                    <a:pt x="836218" y="468145"/>
                    <a:pt x="837011" y="470420"/>
                    <a:pt x="837047" y="473061"/>
                  </a:cubicBezTo>
                  <a:lnTo>
                    <a:pt x="837302" y="491653"/>
                  </a:lnTo>
                  <a:cubicBezTo>
                    <a:pt x="837313" y="492465"/>
                    <a:pt x="837038" y="494654"/>
                    <a:pt x="836477" y="498218"/>
                  </a:cubicBezTo>
                  <a:cubicBezTo>
                    <a:pt x="835916" y="501782"/>
                    <a:pt x="835210" y="505907"/>
                    <a:pt x="834360" y="510592"/>
                  </a:cubicBezTo>
                  <a:cubicBezTo>
                    <a:pt x="833510" y="515278"/>
                    <a:pt x="832759" y="519861"/>
                    <a:pt x="832110" y="524341"/>
                  </a:cubicBezTo>
                  <a:cubicBezTo>
                    <a:pt x="831460" y="528820"/>
                    <a:pt x="830745" y="532285"/>
                    <a:pt x="829966" y="534734"/>
                  </a:cubicBezTo>
                  <a:cubicBezTo>
                    <a:pt x="829974" y="535343"/>
                    <a:pt x="829403" y="538196"/>
                    <a:pt x="828254" y="543293"/>
                  </a:cubicBezTo>
                  <a:cubicBezTo>
                    <a:pt x="826907" y="548798"/>
                    <a:pt x="825317" y="555170"/>
                    <a:pt x="823486" y="562409"/>
                  </a:cubicBezTo>
                  <a:cubicBezTo>
                    <a:pt x="821654" y="569649"/>
                    <a:pt x="819823" y="576939"/>
                    <a:pt x="817993" y="584280"/>
                  </a:cubicBezTo>
                  <a:cubicBezTo>
                    <a:pt x="816163" y="591621"/>
                    <a:pt x="814669" y="597535"/>
                    <a:pt x="813511" y="602021"/>
                  </a:cubicBezTo>
                  <a:cubicBezTo>
                    <a:pt x="812545" y="605692"/>
                    <a:pt x="810916" y="609170"/>
                    <a:pt x="808624" y="612452"/>
                  </a:cubicBezTo>
                  <a:cubicBezTo>
                    <a:pt x="806332" y="615735"/>
                    <a:pt x="803154" y="617404"/>
                    <a:pt x="799091" y="617460"/>
                  </a:cubicBezTo>
                  <a:cubicBezTo>
                    <a:pt x="796856" y="617491"/>
                    <a:pt x="794710" y="616606"/>
                    <a:pt x="792653" y="614805"/>
                  </a:cubicBezTo>
                  <a:cubicBezTo>
                    <a:pt x="790596" y="613004"/>
                    <a:pt x="789552" y="610986"/>
                    <a:pt x="789522" y="608751"/>
                  </a:cubicBezTo>
                  <a:cubicBezTo>
                    <a:pt x="789497" y="606922"/>
                    <a:pt x="789875" y="604885"/>
                    <a:pt x="790657" y="602639"/>
                  </a:cubicBezTo>
                  <a:cubicBezTo>
                    <a:pt x="791849" y="600590"/>
                    <a:pt x="792637" y="598751"/>
                    <a:pt x="793021" y="597120"/>
                  </a:cubicBezTo>
                  <a:cubicBezTo>
                    <a:pt x="798073" y="580183"/>
                    <a:pt x="802701" y="562034"/>
                    <a:pt x="806907" y="542670"/>
                  </a:cubicBezTo>
                  <a:cubicBezTo>
                    <a:pt x="811522" y="523505"/>
                    <a:pt x="814823" y="504865"/>
                    <a:pt x="816811" y="486751"/>
                  </a:cubicBezTo>
                  <a:cubicBezTo>
                    <a:pt x="817011" y="486545"/>
                    <a:pt x="817107" y="486087"/>
                    <a:pt x="817097" y="485376"/>
                  </a:cubicBezTo>
                  <a:cubicBezTo>
                    <a:pt x="817087" y="484664"/>
                    <a:pt x="817080" y="484105"/>
                    <a:pt x="817074" y="483699"/>
                  </a:cubicBezTo>
                  <a:cubicBezTo>
                    <a:pt x="817030" y="480448"/>
                    <a:pt x="815272" y="478237"/>
                    <a:pt x="811801" y="477065"/>
                  </a:cubicBezTo>
                  <a:cubicBezTo>
                    <a:pt x="810782" y="476876"/>
                    <a:pt x="808747" y="476650"/>
                    <a:pt x="805695" y="476386"/>
                  </a:cubicBezTo>
                  <a:cubicBezTo>
                    <a:pt x="802643" y="476123"/>
                    <a:pt x="799539" y="475760"/>
                    <a:pt x="796383" y="475295"/>
                  </a:cubicBezTo>
                  <a:cubicBezTo>
                    <a:pt x="793227" y="474830"/>
                    <a:pt x="790224" y="474465"/>
                    <a:pt x="787375" y="474199"/>
                  </a:cubicBezTo>
                  <a:cubicBezTo>
                    <a:pt x="784527" y="473933"/>
                    <a:pt x="782493" y="473808"/>
                    <a:pt x="781274" y="473825"/>
                  </a:cubicBezTo>
                  <a:cubicBezTo>
                    <a:pt x="781071" y="473828"/>
                    <a:pt x="780460" y="473785"/>
                    <a:pt x="779443" y="473698"/>
                  </a:cubicBezTo>
                  <a:cubicBezTo>
                    <a:pt x="778426" y="473610"/>
                    <a:pt x="777714" y="473569"/>
                    <a:pt x="777308" y="473575"/>
                  </a:cubicBezTo>
                  <a:cubicBezTo>
                    <a:pt x="775682" y="473597"/>
                    <a:pt x="774364" y="473818"/>
                    <a:pt x="773354" y="474238"/>
                  </a:cubicBezTo>
                  <a:cubicBezTo>
                    <a:pt x="772344" y="474659"/>
                    <a:pt x="771648" y="475786"/>
                    <a:pt x="771266" y="477620"/>
                  </a:cubicBezTo>
                  <a:lnTo>
                    <a:pt x="746733" y="600497"/>
                  </a:lnTo>
                  <a:cubicBezTo>
                    <a:pt x="745953" y="602946"/>
                    <a:pt x="744661" y="605047"/>
                    <a:pt x="742856" y="606799"/>
                  </a:cubicBezTo>
                  <a:cubicBezTo>
                    <a:pt x="741051" y="608551"/>
                    <a:pt x="738930" y="609444"/>
                    <a:pt x="736492" y="609477"/>
                  </a:cubicBezTo>
                  <a:cubicBezTo>
                    <a:pt x="733241" y="609521"/>
                    <a:pt x="730686" y="608489"/>
                    <a:pt x="728829" y="606381"/>
                  </a:cubicBezTo>
                  <a:cubicBezTo>
                    <a:pt x="726971" y="604273"/>
                    <a:pt x="726021" y="601694"/>
                    <a:pt x="725979" y="598647"/>
                  </a:cubicBezTo>
                  <a:lnTo>
                    <a:pt x="725954" y="596818"/>
                  </a:lnTo>
                  <a:lnTo>
                    <a:pt x="749640" y="478830"/>
                  </a:lnTo>
                  <a:lnTo>
                    <a:pt x="749628" y="477916"/>
                  </a:lnTo>
                  <a:cubicBezTo>
                    <a:pt x="749625" y="477713"/>
                    <a:pt x="749673" y="477509"/>
                    <a:pt x="749772" y="477304"/>
                  </a:cubicBezTo>
                  <a:cubicBezTo>
                    <a:pt x="749871" y="477100"/>
                    <a:pt x="749919" y="476896"/>
                    <a:pt x="749916" y="476693"/>
                  </a:cubicBezTo>
                  <a:cubicBezTo>
                    <a:pt x="749908" y="476083"/>
                    <a:pt x="749897" y="475321"/>
                    <a:pt x="749885" y="474407"/>
                  </a:cubicBezTo>
                  <a:cubicBezTo>
                    <a:pt x="749872" y="473493"/>
                    <a:pt x="749509" y="472989"/>
                    <a:pt x="748797" y="472898"/>
                  </a:cubicBezTo>
                  <a:cubicBezTo>
                    <a:pt x="748085" y="472806"/>
                    <a:pt x="746915" y="472720"/>
                    <a:pt x="745288" y="472641"/>
                  </a:cubicBezTo>
                  <a:cubicBezTo>
                    <a:pt x="743661" y="472561"/>
                    <a:pt x="741984" y="472483"/>
                    <a:pt x="740255" y="472405"/>
                  </a:cubicBezTo>
                  <a:cubicBezTo>
                    <a:pt x="738527" y="472327"/>
                    <a:pt x="736848" y="472197"/>
                    <a:pt x="735220" y="472017"/>
                  </a:cubicBezTo>
                  <a:cubicBezTo>
                    <a:pt x="733998" y="471830"/>
                    <a:pt x="732981" y="471742"/>
                    <a:pt x="732168" y="471754"/>
                  </a:cubicBezTo>
                  <a:cubicBezTo>
                    <a:pt x="729321" y="471589"/>
                    <a:pt x="726262" y="470818"/>
                    <a:pt x="722992" y="469440"/>
                  </a:cubicBezTo>
                  <a:cubicBezTo>
                    <a:pt x="719721" y="468063"/>
                    <a:pt x="718061" y="465545"/>
                    <a:pt x="718011" y="461888"/>
                  </a:cubicBezTo>
                  <a:cubicBezTo>
                    <a:pt x="717986" y="460059"/>
                    <a:pt x="718668" y="457916"/>
                    <a:pt x="720057" y="455458"/>
                  </a:cubicBezTo>
                  <a:cubicBezTo>
                    <a:pt x="721446" y="453001"/>
                    <a:pt x="723258" y="451757"/>
                    <a:pt x="725493" y="451726"/>
                  </a:cubicBezTo>
                  <a:lnTo>
                    <a:pt x="753227" y="451347"/>
                  </a:lnTo>
                  <a:lnTo>
                    <a:pt x="754425" y="449806"/>
                  </a:lnTo>
                  <a:cubicBezTo>
                    <a:pt x="754628" y="449803"/>
                    <a:pt x="754914" y="448377"/>
                    <a:pt x="755281" y="445527"/>
                  </a:cubicBezTo>
                  <a:cubicBezTo>
                    <a:pt x="756055" y="442671"/>
                    <a:pt x="756632" y="440326"/>
                    <a:pt x="757014" y="438492"/>
                  </a:cubicBezTo>
                  <a:cubicBezTo>
                    <a:pt x="757008" y="438086"/>
                    <a:pt x="757142" y="436763"/>
                    <a:pt x="757417" y="434524"/>
                  </a:cubicBezTo>
                  <a:cubicBezTo>
                    <a:pt x="757691" y="432285"/>
                    <a:pt x="758064" y="429892"/>
                    <a:pt x="758538" y="427345"/>
                  </a:cubicBezTo>
                  <a:cubicBezTo>
                    <a:pt x="759011" y="424798"/>
                    <a:pt x="759385" y="422405"/>
                    <a:pt x="759659" y="420166"/>
                  </a:cubicBezTo>
                  <a:cubicBezTo>
                    <a:pt x="759933" y="417927"/>
                    <a:pt x="760167" y="416501"/>
                    <a:pt x="760362" y="415889"/>
                  </a:cubicBezTo>
                  <a:cubicBezTo>
                    <a:pt x="760933" y="413036"/>
                    <a:pt x="762221" y="410631"/>
                    <a:pt x="764226" y="408673"/>
                  </a:cubicBezTo>
                  <a:cubicBezTo>
                    <a:pt x="766232" y="406714"/>
                    <a:pt x="768657" y="405716"/>
                    <a:pt x="771501" y="405677"/>
                  </a:cubicBezTo>
                  <a:close/>
                  <a:moveTo>
                    <a:pt x="1098300" y="385048"/>
                  </a:moveTo>
                  <a:cubicBezTo>
                    <a:pt x="1100543" y="385627"/>
                    <a:pt x="1102389" y="386872"/>
                    <a:pt x="1103838" y="388783"/>
                  </a:cubicBezTo>
                  <a:cubicBezTo>
                    <a:pt x="1105287" y="390694"/>
                    <a:pt x="1106028" y="392868"/>
                    <a:pt x="1106061" y="395307"/>
                  </a:cubicBezTo>
                  <a:cubicBezTo>
                    <a:pt x="1106086" y="397135"/>
                    <a:pt x="1105298" y="398975"/>
                    <a:pt x="1103698" y="400826"/>
                  </a:cubicBezTo>
                  <a:cubicBezTo>
                    <a:pt x="1102098" y="402677"/>
                    <a:pt x="1100386" y="403818"/>
                    <a:pt x="1098563" y="404249"/>
                  </a:cubicBezTo>
                  <a:cubicBezTo>
                    <a:pt x="1095111" y="404500"/>
                    <a:pt x="1089831" y="404775"/>
                    <a:pt x="1082723" y="405076"/>
                  </a:cubicBezTo>
                  <a:cubicBezTo>
                    <a:pt x="1075614" y="405376"/>
                    <a:pt x="1067592" y="405740"/>
                    <a:pt x="1058656" y="406167"/>
                  </a:cubicBezTo>
                  <a:cubicBezTo>
                    <a:pt x="1049721" y="406594"/>
                    <a:pt x="1040328" y="407079"/>
                    <a:pt x="1030480" y="407620"/>
                  </a:cubicBezTo>
                  <a:cubicBezTo>
                    <a:pt x="1020631" y="408161"/>
                    <a:pt x="1011136" y="408596"/>
                    <a:pt x="1001996" y="408924"/>
                  </a:cubicBezTo>
                  <a:cubicBezTo>
                    <a:pt x="993265" y="409450"/>
                    <a:pt x="985345" y="409863"/>
                    <a:pt x="978236" y="410163"/>
                  </a:cubicBezTo>
                  <a:cubicBezTo>
                    <a:pt x="971128" y="410464"/>
                    <a:pt x="965849" y="410841"/>
                    <a:pt x="962401" y="411295"/>
                  </a:cubicBezTo>
                  <a:lnTo>
                    <a:pt x="957220" y="411366"/>
                  </a:lnTo>
                  <a:cubicBezTo>
                    <a:pt x="954172" y="411408"/>
                    <a:pt x="951467" y="410530"/>
                    <a:pt x="949106" y="408734"/>
                  </a:cubicBezTo>
                  <a:cubicBezTo>
                    <a:pt x="946744" y="406937"/>
                    <a:pt x="945541" y="404413"/>
                    <a:pt x="945496" y="401162"/>
                  </a:cubicBezTo>
                  <a:cubicBezTo>
                    <a:pt x="945466" y="398927"/>
                    <a:pt x="946149" y="396835"/>
                    <a:pt x="947544" y="394885"/>
                  </a:cubicBezTo>
                  <a:cubicBezTo>
                    <a:pt x="948940" y="392935"/>
                    <a:pt x="950852" y="391537"/>
                    <a:pt x="953279" y="390691"/>
                  </a:cubicBezTo>
                  <a:cubicBezTo>
                    <a:pt x="975019" y="390394"/>
                    <a:pt x="996448" y="389593"/>
                    <a:pt x="1017565" y="388288"/>
                  </a:cubicBezTo>
                  <a:cubicBezTo>
                    <a:pt x="1038676" y="386576"/>
                    <a:pt x="1059899" y="385574"/>
                    <a:pt x="1081233" y="385282"/>
                  </a:cubicBezTo>
                  <a:close/>
                  <a:moveTo>
                    <a:pt x="66042" y="243485"/>
                  </a:moveTo>
                  <a:cubicBezTo>
                    <a:pt x="68887" y="243446"/>
                    <a:pt x="71389" y="244377"/>
                    <a:pt x="73549" y="246278"/>
                  </a:cubicBezTo>
                  <a:cubicBezTo>
                    <a:pt x="75708" y="248179"/>
                    <a:pt x="77619" y="250439"/>
                    <a:pt x="79281" y="253058"/>
                  </a:cubicBezTo>
                  <a:cubicBezTo>
                    <a:pt x="80948" y="256084"/>
                    <a:pt x="82207" y="259013"/>
                    <a:pt x="83059" y="261847"/>
                  </a:cubicBezTo>
                  <a:cubicBezTo>
                    <a:pt x="84119" y="265083"/>
                    <a:pt x="84665" y="267819"/>
                    <a:pt x="84695" y="270055"/>
                  </a:cubicBezTo>
                  <a:cubicBezTo>
                    <a:pt x="84732" y="272696"/>
                    <a:pt x="83799" y="275097"/>
                    <a:pt x="81898" y="277256"/>
                  </a:cubicBezTo>
                  <a:cubicBezTo>
                    <a:pt x="79997" y="279416"/>
                    <a:pt x="77726" y="280514"/>
                    <a:pt x="75085" y="280550"/>
                  </a:cubicBezTo>
                  <a:cubicBezTo>
                    <a:pt x="72443" y="280586"/>
                    <a:pt x="70092" y="279552"/>
                    <a:pt x="68031" y="277446"/>
                  </a:cubicBezTo>
                  <a:cubicBezTo>
                    <a:pt x="65970" y="275341"/>
                    <a:pt x="64106" y="272775"/>
                    <a:pt x="62439" y="269750"/>
                  </a:cubicBezTo>
                  <a:cubicBezTo>
                    <a:pt x="60777" y="267130"/>
                    <a:pt x="59518" y="264201"/>
                    <a:pt x="58661" y="260961"/>
                  </a:cubicBezTo>
                  <a:cubicBezTo>
                    <a:pt x="57803" y="257721"/>
                    <a:pt x="57361" y="255085"/>
                    <a:pt x="57333" y="253054"/>
                  </a:cubicBezTo>
                  <a:cubicBezTo>
                    <a:pt x="57247" y="246755"/>
                    <a:pt x="60150" y="243565"/>
                    <a:pt x="66042" y="243485"/>
                  </a:cubicBezTo>
                  <a:close/>
                  <a:moveTo>
                    <a:pt x="24760" y="233990"/>
                  </a:moveTo>
                  <a:cubicBezTo>
                    <a:pt x="28011" y="233946"/>
                    <a:pt x="30567" y="235080"/>
                    <a:pt x="32428" y="237391"/>
                  </a:cubicBezTo>
                  <a:cubicBezTo>
                    <a:pt x="34288" y="239703"/>
                    <a:pt x="35238" y="242281"/>
                    <a:pt x="35277" y="245125"/>
                  </a:cubicBezTo>
                  <a:lnTo>
                    <a:pt x="35314" y="247868"/>
                  </a:lnTo>
                  <a:cubicBezTo>
                    <a:pt x="35326" y="248681"/>
                    <a:pt x="35193" y="250105"/>
                    <a:pt x="34916" y="252141"/>
                  </a:cubicBezTo>
                  <a:cubicBezTo>
                    <a:pt x="34639" y="254177"/>
                    <a:pt x="34363" y="256315"/>
                    <a:pt x="34089" y="258554"/>
                  </a:cubicBezTo>
                  <a:cubicBezTo>
                    <a:pt x="33815" y="260793"/>
                    <a:pt x="33590" y="262930"/>
                    <a:pt x="33415" y="264964"/>
                  </a:cubicBezTo>
                  <a:cubicBezTo>
                    <a:pt x="33239" y="266999"/>
                    <a:pt x="33057" y="268526"/>
                    <a:pt x="32868" y="269544"/>
                  </a:cubicBezTo>
                  <a:cubicBezTo>
                    <a:pt x="32303" y="272804"/>
                    <a:pt x="31479" y="275711"/>
                    <a:pt x="30396" y="278266"/>
                  </a:cubicBezTo>
                  <a:cubicBezTo>
                    <a:pt x="29313" y="280821"/>
                    <a:pt x="26892" y="282124"/>
                    <a:pt x="23134" y="282176"/>
                  </a:cubicBezTo>
                  <a:cubicBezTo>
                    <a:pt x="19375" y="282227"/>
                    <a:pt x="16719" y="281247"/>
                    <a:pt x="15168" y="279237"/>
                  </a:cubicBezTo>
                  <a:cubicBezTo>
                    <a:pt x="13616" y="277225"/>
                    <a:pt x="12814" y="274290"/>
                    <a:pt x="12761" y="270429"/>
                  </a:cubicBezTo>
                  <a:cubicBezTo>
                    <a:pt x="12733" y="268398"/>
                    <a:pt x="12742" y="265349"/>
                    <a:pt x="12788" y="261284"/>
                  </a:cubicBezTo>
                  <a:cubicBezTo>
                    <a:pt x="12834" y="257219"/>
                    <a:pt x="13186" y="253201"/>
                    <a:pt x="13843" y="249229"/>
                  </a:cubicBezTo>
                  <a:cubicBezTo>
                    <a:pt x="14499" y="245257"/>
                    <a:pt x="15671" y="241735"/>
                    <a:pt x="17356" y="238665"/>
                  </a:cubicBezTo>
                  <a:cubicBezTo>
                    <a:pt x="19041" y="235593"/>
                    <a:pt x="21509" y="234035"/>
                    <a:pt x="24760" y="233990"/>
                  </a:cubicBezTo>
                  <a:close/>
                  <a:moveTo>
                    <a:pt x="124241" y="241774"/>
                  </a:moveTo>
                  <a:cubicBezTo>
                    <a:pt x="127492" y="241730"/>
                    <a:pt x="130249" y="242708"/>
                    <a:pt x="132511" y="244709"/>
                  </a:cubicBezTo>
                  <a:cubicBezTo>
                    <a:pt x="134774" y="246710"/>
                    <a:pt x="136636" y="249123"/>
                    <a:pt x="138097" y="251949"/>
                  </a:cubicBezTo>
                  <a:cubicBezTo>
                    <a:pt x="139767" y="255177"/>
                    <a:pt x="140931" y="258515"/>
                    <a:pt x="141588" y="261960"/>
                  </a:cubicBezTo>
                  <a:cubicBezTo>
                    <a:pt x="142244" y="265405"/>
                    <a:pt x="142591" y="268449"/>
                    <a:pt x="142627" y="271091"/>
                  </a:cubicBezTo>
                  <a:lnTo>
                    <a:pt x="142706" y="276881"/>
                  </a:lnTo>
                  <a:cubicBezTo>
                    <a:pt x="141512" y="278727"/>
                    <a:pt x="140208" y="279964"/>
                    <a:pt x="138794" y="280593"/>
                  </a:cubicBezTo>
                  <a:cubicBezTo>
                    <a:pt x="137589" y="281625"/>
                    <a:pt x="135971" y="282155"/>
                    <a:pt x="133939" y="282183"/>
                  </a:cubicBezTo>
                  <a:cubicBezTo>
                    <a:pt x="131501" y="282217"/>
                    <a:pt x="129408" y="281483"/>
                    <a:pt x="127660" y="279983"/>
                  </a:cubicBezTo>
                  <a:cubicBezTo>
                    <a:pt x="125912" y="278483"/>
                    <a:pt x="124618" y="276722"/>
                    <a:pt x="123777" y="274702"/>
                  </a:cubicBezTo>
                  <a:cubicBezTo>
                    <a:pt x="123362" y="274098"/>
                    <a:pt x="122837" y="272835"/>
                    <a:pt x="122201" y="270913"/>
                  </a:cubicBezTo>
                  <a:cubicBezTo>
                    <a:pt x="121565" y="268991"/>
                    <a:pt x="120774" y="266868"/>
                    <a:pt x="119828" y="264544"/>
                  </a:cubicBezTo>
                  <a:cubicBezTo>
                    <a:pt x="118881" y="262220"/>
                    <a:pt x="118039" y="260098"/>
                    <a:pt x="117302" y="258177"/>
                  </a:cubicBezTo>
                  <a:cubicBezTo>
                    <a:pt x="116564" y="256257"/>
                    <a:pt x="116090" y="254993"/>
                    <a:pt x="115878" y="254386"/>
                  </a:cubicBezTo>
                  <a:cubicBezTo>
                    <a:pt x="115876" y="254183"/>
                    <a:pt x="115817" y="253625"/>
                    <a:pt x="115703" y="252712"/>
                  </a:cubicBezTo>
                  <a:cubicBezTo>
                    <a:pt x="115589" y="251799"/>
                    <a:pt x="115529" y="251139"/>
                    <a:pt x="115524" y="250733"/>
                  </a:cubicBezTo>
                  <a:cubicBezTo>
                    <a:pt x="115443" y="244841"/>
                    <a:pt x="118349" y="241854"/>
                    <a:pt x="124241" y="241774"/>
                  </a:cubicBezTo>
                  <a:close/>
                  <a:moveTo>
                    <a:pt x="182077" y="235800"/>
                  </a:moveTo>
                  <a:cubicBezTo>
                    <a:pt x="186750" y="235736"/>
                    <a:pt x="189867" y="237065"/>
                    <a:pt x="191428" y="239787"/>
                  </a:cubicBezTo>
                  <a:cubicBezTo>
                    <a:pt x="192990" y="242510"/>
                    <a:pt x="194711" y="245788"/>
                    <a:pt x="196593" y="249624"/>
                  </a:cubicBezTo>
                  <a:cubicBezTo>
                    <a:pt x="196804" y="250230"/>
                    <a:pt x="197274" y="251138"/>
                    <a:pt x="198002" y="252348"/>
                  </a:cubicBezTo>
                  <a:cubicBezTo>
                    <a:pt x="198730" y="253557"/>
                    <a:pt x="199459" y="254919"/>
                    <a:pt x="200191" y="256433"/>
                  </a:cubicBezTo>
                  <a:cubicBezTo>
                    <a:pt x="200923" y="257947"/>
                    <a:pt x="201553" y="259412"/>
                    <a:pt x="202081" y="260828"/>
                  </a:cubicBezTo>
                  <a:cubicBezTo>
                    <a:pt x="202608" y="262243"/>
                    <a:pt x="202880" y="263560"/>
                    <a:pt x="202897" y="264779"/>
                  </a:cubicBezTo>
                  <a:cubicBezTo>
                    <a:pt x="202930" y="267217"/>
                    <a:pt x="202098" y="269514"/>
                    <a:pt x="200400" y="271672"/>
                  </a:cubicBezTo>
                  <a:cubicBezTo>
                    <a:pt x="198702" y="273829"/>
                    <a:pt x="196533" y="274925"/>
                    <a:pt x="193891" y="274961"/>
                  </a:cubicBezTo>
                  <a:cubicBezTo>
                    <a:pt x="191250" y="274998"/>
                    <a:pt x="188592" y="273815"/>
                    <a:pt x="185917" y="271412"/>
                  </a:cubicBezTo>
                  <a:cubicBezTo>
                    <a:pt x="183654" y="269411"/>
                    <a:pt x="181588" y="266899"/>
                    <a:pt x="179717" y="263877"/>
                  </a:cubicBezTo>
                  <a:cubicBezTo>
                    <a:pt x="177847" y="260854"/>
                    <a:pt x="176382" y="257775"/>
                    <a:pt x="175323" y="254640"/>
                  </a:cubicBezTo>
                  <a:cubicBezTo>
                    <a:pt x="174264" y="251504"/>
                    <a:pt x="173718" y="248717"/>
                    <a:pt x="173685" y="246279"/>
                  </a:cubicBezTo>
                  <a:cubicBezTo>
                    <a:pt x="173649" y="243638"/>
                    <a:pt x="174276" y="241241"/>
                    <a:pt x="175568" y="239090"/>
                  </a:cubicBezTo>
                  <a:cubicBezTo>
                    <a:pt x="176859" y="236939"/>
                    <a:pt x="179029" y="235842"/>
                    <a:pt x="182077" y="235800"/>
                  </a:cubicBezTo>
                  <a:close/>
                  <a:moveTo>
                    <a:pt x="143263" y="139396"/>
                  </a:moveTo>
                  <a:cubicBezTo>
                    <a:pt x="143060" y="139399"/>
                    <a:pt x="140720" y="139177"/>
                    <a:pt x="136243" y="138730"/>
                  </a:cubicBezTo>
                  <a:cubicBezTo>
                    <a:pt x="131766" y="138283"/>
                    <a:pt x="126477" y="137848"/>
                    <a:pt x="120374" y="137423"/>
                  </a:cubicBezTo>
                  <a:cubicBezTo>
                    <a:pt x="114272" y="136999"/>
                    <a:pt x="107863" y="136426"/>
                    <a:pt x="101146" y="135705"/>
                  </a:cubicBezTo>
                  <a:cubicBezTo>
                    <a:pt x="94639" y="135387"/>
                    <a:pt x="89352" y="135155"/>
                    <a:pt x="85286" y="135007"/>
                  </a:cubicBezTo>
                  <a:lnTo>
                    <a:pt x="77362" y="135116"/>
                  </a:lnTo>
                  <a:cubicBezTo>
                    <a:pt x="70250" y="135213"/>
                    <a:pt x="63953" y="135401"/>
                    <a:pt x="58470" y="135679"/>
                  </a:cubicBezTo>
                  <a:cubicBezTo>
                    <a:pt x="52987" y="135957"/>
                    <a:pt x="46286" y="136354"/>
                    <a:pt x="38368" y="136869"/>
                  </a:cubicBezTo>
                  <a:cubicBezTo>
                    <a:pt x="36756" y="137907"/>
                    <a:pt x="35968" y="139747"/>
                    <a:pt x="36005" y="142388"/>
                  </a:cubicBezTo>
                  <a:lnTo>
                    <a:pt x="36034" y="144522"/>
                  </a:lnTo>
                  <a:cubicBezTo>
                    <a:pt x="36499" y="148783"/>
                    <a:pt x="36979" y="154212"/>
                    <a:pt x="37476" y="160810"/>
                  </a:cubicBezTo>
                  <a:cubicBezTo>
                    <a:pt x="37973" y="167408"/>
                    <a:pt x="38466" y="173752"/>
                    <a:pt x="38956" y="179842"/>
                  </a:cubicBezTo>
                  <a:cubicBezTo>
                    <a:pt x="39462" y="187151"/>
                    <a:pt x="40073" y="194662"/>
                    <a:pt x="40788" y="202374"/>
                  </a:cubicBezTo>
                  <a:lnTo>
                    <a:pt x="42041" y="204795"/>
                  </a:lnTo>
                  <a:lnTo>
                    <a:pt x="44788" y="205062"/>
                  </a:lnTo>
                  <a:cubicBezTo>
                    <a:pt x="46619" y="205240"/>
                    <a:pt x="48754" y="205313"/>
                    <a:pt x="51192" y="205280"/>
                  </a:cubicBezTo>
                  <a:cubicBezTo>
                    <a:pt x="53839" y="205650"/>
                    <a:pt x="56535" y="205867"/>
                    <a:pt x="59279" y="205931"/>
                  </a:cubicBezTo>
                  <a:cubicBezTo>
                    <a:pt x="62024" y="205995"/>
                    <a:pt x="64310" y="206015"/>
                    <a:pt x="66139" y="205989"/>
                  </a:cubicBezTo>
                  <a:lnTo>
                    <a:pt x="80768" y="205789"/>
                  </a:lnTo>
                  <a:lnTo>
                    <a:pt x="96311" y="205577"/>
                  </a:lnTo>
                  <a:cubicBezTo>
                    <a:pt x="99562" y="205532"/>
                    <a:pt x="103574" y="205426"/>
                    <a:pt x="108347" y="205259"/>
                  </a:cubicBezTo>
                  <a:cubicBezTo>
                    <a:pt x="113121" y="205093"/>
                    <a:pt x="117740" y="204776"/>
                    <a:pt x="122204" y="204308"/>
                  </a:cubicBezTo>
                  <a:cubicBezTo>
                    <a:pt x="127078" y="204038"/>
                    <a:pt x="131138" y="203779"/>
                    <a:pt x="134387" y="203532"/>
                  </a:cubicBezTo>
                  <a:lnTo>
                    <a:pt x="139263" y="203465"/>
                  </a:lnTo>
                  <a:lnTo>
                    <a:pt x="141689" y="202517"/>
                  </a:lnTo>
                  <a:cubicBezTo>
                    <a:pt x="141875" y="201295"/>
                    <a:pt x="142113" y="200123"/>
                    <a:pt x="142403" y="199002"/>
                  </a:cubicBezTo>
                  <a:cubicBezTo>
                    <a:pt x="142692" y="197880"/>
                    <a:pt x="142830" y="196862"/>
                    <a:pt x="142818" y="195948"/>
                  </a:cubicBezTo>
                  <a:cubicBezTo>
                    <a:pt x="142805" y="195034"/>
                    <a:pt x="142897" y="194270"/>
                    <a:pt x="143091" y="193658"/>
                  </a:cubicBezTo>
                  <a:cubicBezTo>
                    <a:pt x="143598" y="186132"/>
                    <a:pt x="144302" y="178196"/>
                    <a:pt x="145204" y="169852"/>
                  </a:cubicBezTo>
                  <a:cubicBezTo>
                    <a:pt x="145909" y="161917"/>
                    <a:pt x="146208" y="154089"/>
                    <a:pt x="146102" y="146368"/>
                  </a:cubicBezTo>
                  <a:lnTo>
                    <a:pt x="146019" y="140273"/>
                  </a:lnTo>
                  <a:close/>
                  <a:moveTo>
                    <a:pt x="1208472" y="171761"/>
                  </a:moveTo>
                  <a:cubicBezTo>
                    <a:pt x="1210910" y="171728"/>
                    <a:pt x="1212902" y="172463"/>
                    <a:pt x="1214447" y="173966"/>
                  </a:cubicBezTo>
                  <a:cubicBezTo>
                    <a:pt x="1215991" y="175469"/>
                    <a:pt x="1217185" y="177281"/>
                    <a:pt x="1218026" y="179404"/>
                  </a:cubicBezTo>
                  <a:cubicBezTo>
                    <a:pt x="1218868" y="181526"/>
                    <a:pt x="1219406" y="183703"/>
                    <a:pt x="1219640" y="185935"/>
                  </a:cubicBezTo>
                  <a:cubicBezTo>
                    <a:pt x="1219874" y="188168"/>
                    <a:pt x="1220002" y="190096"/>
                    <a:pt x="1220024" y="191722"/>
                  </a:cubicBezTo>
                  <a:cubicBezTo>
                    <a:pt x="1220063" y="194566"/>
                    <a:pt x="1219753" y="197924"/>
                    <a:pt x="1219095" y="201794"/>
                  </a:cubicBezTo>
                  <a:cubicBezTo>
                    <a:pt x="1218437" y="205664"/>
                    <a:pt x="1217319" y="209388"/>
                    <a:pt x="1215742" y="212966"/>
                  </a:cubicBezTo>
                  <a:cubicBezTo>
                    <a:pt x="1214166" y="216544"/>
                    <a:pt x="1212125" y="219620"/>
                    <a:pt x="1209620" y="222195"/>
                  </a:cubicBezTo>
                  <a:cubicBezTo>
                    <a:pt x="1207115" y="224769"/>
                    <a:pt x="1204034" y="226081"/>
                    <a:pt x="1200376" y="226132"/>
                  </a:cubicBezTo>
                  <a:cubicBezTo>
                    <a:pt x="1198345" y="226159"/>
                    <a:pt x="1196306" y="225730"/>
                    <a:pt x="1194262" y="224843"/>
                  </a:cubicBezTo>
                  <a:cubicBezTo>
                    <a:pt x="1192218" y="223957"/>
                    <a:pt x="1191176" y="222091"/>
                    <a:pt x="1191137" y="219247"/>
                  </a:cubicBezTo>
                  <a:cubicBezTo>
                    <a:pt x="1191104" y="216809"/>
                    <a:pt x="1191683" y="214565"/>
                    <a:pt x="1192874" y="212517"/>
                  </a:cubicBezTo>
                  <a:cubicBezTo>
                    <a:pt x="1194065" y="210468"/>
                    <a:pt x="1195308" y="208470"/>
                    <a:pt x="1196602" y="206522"/>
                  </a:cubicBezTo>
                  <a:cubicBezTo>
                    <a:pt x="1197897" y="204573"/>
                    <a:pt x="1199139" y="202524"/>
                    <a:pt x="1200329" y="200374"/>
                  </a:cubicBezTo>
                  <a:cubicBezTo>
                    <a:pt x="1201519" y="198224"/>
                    <a:pt x="1202097" y="195930"/>
                    <a:pt x="1202063" y="193492"/>
                  </a:cubicBezTo>
                  <a:cubicBezTo>
                    <a:pt x="1202030" y="191054"/>
                    <a:pt x="1201592" y="188723"/>
                    <a:pt x="1200748" y="186499"/>
                  </a:cubicBezTo>
                  <a:cubicBezTo>
                    <a:pt x="1199905" y="184275"/>
                    <a:pt x="1199467" y="181944"/>
                    <a:pt x="1199433" y="179506"/>
                  </a:cubicBezTo>
                  <a:cubicBezTo>
                    <a:pt x="1199417" y="178287"/>
                    <a:pt x="1200513" y="176696"/>
                    <a:pt x="1202721" y="174736"/>
                  </a:cubicBezTo>
                  <a:cubicBezTo>
                    <a:pt x="1204930" y="172775"/>
                    <a:pt x="1206847" y="171783"/>
                    <a:pt x="1208472" y="171761"/>
                  </a:cubicBezTo>
                  <a:close/>
                  <a:moveTo>
                    <a:pt x="82592" y="16161"/>
                  </a:moveTo>
                  <a:cubicBezTo>
                    <a:pt x="85132" y="16126"/>
                    <a:pt x="87021" y="16812"/>
                    <a:pt x="88260" y="18217"/>
                  </a:cubicBezTo>
                  <a:cubicBezTo>
                    <a:pt x="89899" y="19211"/>
                    <a:pt x="91188" y="20565"/>
                    <a:pt x="92126" y="22280"/>
                  </a:cubicBezTo>
                  <a:cubicBezTo>
                    <a:pt x="93064" y="23994"/>
                    <a:pt x="93801" y="25915"/>
                    <a:pt x="94338" y="28041"/>
                  </a:cubicBezTo>
                  <a:cubicBezTo>
                    <a:pt x="94876" y="30168"/>
                    <a:pt x="95155" y="32043"/>
                    <a:pt x="95178" y="33669"/>
                  </a:cubicBezTo>
                  <a:cubicBezTo>
                    <a:pt x="95194" y="34888"/>
                    <a:pt x="95322" y="36817"/>
                    <a:pt x="95562" y="39456"/>
                  </a:cubicBezTo>
                  <a:cubicBezTo>
                    <a:pt x="95806" y="42500"/>
                    <a:pt x="96001" y="45597"/>
                    <a:pt x="96146" y="48745"/>
                  </a:cubicBezTo>
                  <a:cubicBezTo>
                    <a:pt x="96291" y="51892"/>
                    <a:pt x="96434" y="54939"/>
                    <a:pt x="96576" y="57884"/>
                  </a:cubicBezTo>
                  <a:cubicBezTo>
                    <a:pt x="96718" y="60828"/>
                    <a:pt x="96797" y="62910"/>
                    <a:pt x="96814" y="64129"/>
                  </a:cubicBezTo>
                  <a:lnTo>
                    <a:pt x="99573" y="65311"/>
                  </a:lnTo>
                  <a:cubicBezTo>
                    <a:pt x="101199" y="65289"/>
                    <a:pt x="104148" y="65451"/>
                    <a:pt x="108420" y="65800"/>
                  </a:cubicBezTo>
                  <a:cubicBezTo>
                    <a:pt x="113099" y="66142"/>
                    <a:pt x="117930" y="66482"/>
                    <a:pt x="122913" y="66820"/>
                  </a:cubicBezTo>
                  <a:cubicBezTo>
                    <a:pt x="127897" y="67159"/>
                    <a:pt x="132523" y="67400"/>
                    <a:pt x="136793" y="67545"/>
                  </a:cubicBezTo>
                  <a:cubicBezTo>
                    <a:pt x="141068" y="68096"/>
                    <a:pt x="144121" y="68461"/>
                    <a:pt x="145953" y="68639"/>
                  </a:cubicBezTo>
                  <a:cubicBezTo>
                    <a:pt x="149616" y="68995"/>
                    <a:pt x="152928" y="69763"/>
                    <a:pt x="155891" y="70942"/>
                  </a:cubicBezTo>
                  <a:cubicBezTo>
                    <a:pt x="158854" y="72120"/>
                    <a:pt x="160365" y="74843"/>
                    <a:pt x="160423" y="79110"/>
                  </a:cubicBezTo>
                  <a:cubicBezTo>
                    <a:pt x="160454" y="81345"/>
                    <a:pt x="160274" y="83075"/>
                    <a:pt x="159884" y="84299"/>
                  </a:cubicBezTo>
                  <a:cubicBezTo>
                    <a:pt x="159500" y="85930"/>
                    <a:pt x="157996" y="87374"/>
                    <a:pt x="155371" y="88629"/>
                  </a:cubicBezTo>
                  <a:lnTo>
                    <a:pt x="148362" y="88725"/>
                  </a:lnTo>
                  <a:cubicBezTo>
                    <a:pt x="140641" y="88830"/>
                    <a:pt x="132964" y="88478"/>
                    <a:pt x="125333" y="87668"/>
                  </a:cubicBezTo>
                  <a:cubicBezTo>
                    <a:pt x="117701" y="86858"/>
                    <a:pt x="110126" y="86505"/>
                    <a:pt x="102608" y="86607"/>
                  </a:cubicBezTo>
                  <a:lnTo>
                    <a:pt x="98646" y="86662"/>
                  </a:lnTo>
                  <a:lnTo>
                    <a:pt x="97139" y="87902"/>
                  </a:lnTo>
                  <a:lnTo>
                    <a:pt x="97231" y="94607"/>
                  </a:lnTo>
                  <a:lnTo>
                    <a:pt x="97364" y="104359"/>
                  </a:lnTo>
                  <a:cubicBezTo>
                    <a:pt x="97587" y="105779"/>
                    <a:pt x="97815" y="107605"/>
                    <a:pt x="98049" y="109837"/>
                  </a:cubicBezTo>
                  <a:cubicBezTo>
                    <a:pt x="98283" y="112069"/>
                    <a:pt x="98603" y="113182"/>
                    <a:pt x="99009" y="113177"/>
                  </a:cubicBezTo>
                  <a:lnTo>
                    <a:pt x="103906" y="114634"/>
                  </a:lnTo>
                  <a:lnTo>
                    <a:pt x="158227" y="119072"/>
                  </a:lnTo>
                  <a:cubicBezTo>
                    <a:pt x="160058" y="119251"/>
                    <a:pt x="161951" y="120241"/>
                    <a:pt x="163907" y="122043"/>
                  </a:cubicBezTo>
                  <a:cubicBezTo>
                    <a:pt x="165862" y="123845"/>
                    <a:pt x="167354" y="125247"/>
                    <a:pt x="168384" y="126249"/>
                  </a:cubicBezTo>
                  <a:cubicBezTo>
                    <a:pt x="168390" y="126656"/>
                    <a:pt x="168453" y="127569"/>
                    <a:pt x="168574" y="128990"/>
                  </a:cubicBezTo>
                  <a:cubicBezTo>
                    <a:pt x="168695" y="130411"/>
                    <a:pt x="168758" y="131325"/>
                    <a:pt x="168764" y="131731"/>
                  </a:cubicBezTo>
                  <a:cubicBezTo>
                    <a:pt x="168922" y="143312"/>
                    <a:pt x="168014" y="154908"/>
                    <a:pt x="166039" y="166519"/>
                  </a:cubicBezTo>
                  <a:cubicBezTo>
                    <a:pt x="164064" y="178130"/>
                    <a:pt x="163158" y="189827"/>
                    <a:pt x="163319" y="201611"/>
                  </a:cubicBezTo>
                  <a:lnTo>
                    <a:pt x="163340" y="203135"/>
                  </a:lnTo>
                  <a:cubicBezTo>
                    <a:pt x="163955" y="203533"/>
                    <a:pt x="165086" y="204534"/>
                    <a:pt x="166734" y="206137"/>
                  </a:cubicBezTo>
                  <a:cubicBezTo>
                    <a:pt x="168382" y="207740"/>
                    <a:pt x="169311" y="208845"/>
                    <a:pt x="169523" y="209452"/>
                  </a:cubicBezTo>
                  <a:lnTo>
                    <a:pt x="169544" y="210976"/>
                  </a:lnTo>
                  <a:cubicBezTo>
                    <a:pt x="169549" y="211383"/>
                    <a:pt x="169553" y="211687"/>
                    <a:pt x="169556" y="211890"/>
                  </a:cubicBezTo>
                  <a:cubicBezTo>
                    <a:pt x="169768" y="212497"/>
                    <a:pt x="169875" y="212902"/>
                    <a:pt x="169878" y="213105"/>
                  </a:cubicBezTo>
                  <a:cubicBezTo>
                    <a:pt x="169928" y="216762"/>
                    <a:pt x="169098" y="219263"/>
                    <a:pt x="167389" y="220607"/>
                  </a:cubicBezTo>
                  <a:cubicBezTo>
                    <a:pt x="165680" y="221952"/>
                    <a:pt x="163103" y="222952"/>
                    <a:pt x="159657" y="223609"/>
                  </a:cubicBezTo>
                  <a:cubicBezTo>
                    <a:pt x="158032" y="223631"/>
                    <a:pt x="154781" y="223676"/>
                    <a:pt x="149905" y="223743"/>
                  </a:cubicBezTo>
                  <a:cubicBezTo>
                    <a:pt x="145034" y="224216"/>
                    <a:pt x="139907" y="224540"/>
                    <a:pt x="134524" y="224715"/>
                  </a:cubicBezTo>
                  <a:cubicBezTo>
                    <a:pt x="129141" y="224890"/>
                    <a:pt x="124063" y="225062"/>
                    <a:pt x="119290" y="225228"/>
                  </a:cubicBezTo>
                  <a:cubicBezTo>
                    <a:pt x="114516" y="225395"/>
                    <a:pt x="111215" y="225491"/>
                    <a:pt x="109387" y="225516"/>
                  </a:cubicBezTo>
                  <a:cubicBezTo>
                    <a:pt x="108777" y="225525"/>
                    <a:pt x="106898" y="225551"/>
                    <a:pt x="103748" y="225594"/>
                  </a:cubicBezTo>
                  <a:cubicBezTo>
                    <a:pt x="100599" y="225637"/>
                    <a:pt x="96943" y="225738"/>
                    <a:pt x="92779" y="225896"/>
                  </a:cubicBezTo>
                  <a:cubicBezTo>
                    <a:pt x="88615" y="226055"/>
                    <a:pt x="84298" y="226165"/>
                    <a:pt x="79828" y="226226"/>
                  </a:cubicBezTo>
                  <a:cubicBezTo>
                    <a:pt x="75764" y="226281"/>
                    <a:pt x="72513" y="226326"/>
                    <a:pt x="70075" y="226359"/>
                  </a:cubicBezTo>
                  <a:cubicBezTo>
                    <a:pt x="68653" y="226379"/>
                    <a:pt x="66062" y="226414"/>
                    <a:pt x="62304" y="226465"/>
                  </a:cubicBezTo>
                  <a:cubicBezTo>
                    <a:pt x="58545" y="226517"/>
                    <a:pt x="54633" y="226520"/>
                    <a:pt x="50568" y="226474"/>
                  </a:cubicBezTo>
                  <a:cubicBezTo>
                    <a:pt x="46503" y="226428"/>
                    <a:pt x="42591" y="226431"/>
                    <a:pt x="38832" y="226482"/>
                  </a:cubicBezTo>
                  <a:cubicBezTo>
                    <a:pt x="35073" y="226533"/>
                    <a:pt x="32381" y="226570"/>
                    <a:pt x="30756" y="226593"/>
                  </a:cubicBezTo>
                  <a:cubicBezTo>
                    <a:pt x="28718" y="226214"/>
                    <a:pt x="26727" y="225479"/>
                    <a:pt x="24781" y="224388"/>
                  </a:cubicBezTo>
                  <a:cubicBezTo>
                    <a:pt x="22836" y="223297"/>
                    <a:pt x="21542" y="221537"/>
                    <a:pt x="20899" y="219107"/>
                  </a:cubicBezTo>
                  <a:cubicBezTo>
                    <a:pt x="20665" y="216875"/>
                    <a:pt x="20203" y="212817"/>
                    <a:pt x="19513" y="206933"/>
                  </a:cubicBezTo>
                  <a:cubicBezTo>
                    <a:pt x="19232" y="201246"/>
                    <a:pt x="18844" y="195206"/>
                    <a:pt x="18350" y="188811"/>
                  </a:cubicBezTo>
                  <a:cubicBezTo>
                    <a:pt x="17856" y="182417"/>
                    <a:pt x="17266" y="176379"/>
                    <a:pt x="16578" y="170698"/>
                  </a:cubicBezTo>
                  <a:cubicBezTo>
                    <a:pt x="16297" y="165012"/>
                    <a:pt x="16141" y="161051"/>
                    <a:pt x="16111" y="158816"/>
                  </a:cubicBezTo>
                  <a:cubicBezTo>
                    <a:pt x="16108" y="158613"/>
                    <a:pt x="16098" y="157902"/>
                    <a:pt x="16082" y="156683"/>
                  </a:cubicBezTo>
                  <a:cubicBezTo>
                    <a:pt x="16070" y="155870"/>
                    <a:pt x="16004" y="154753"/>
                    <a:pt x="15883" y="153332"/>
                  </a:cubicBezTo>
                  <a:cubicBezTo>
                    <a:pt x="15762" y="151912"/>
                    <a:pt x="15693" y="150541"/>
                    <a:pt x="15675" y="149220"/>
                  </a:cubicBezTo>
                  <a:cubicBezTo>
                    <a:pt x="15657" y="147899"/>
                    <a:pt x="15641" y="146782"/>
                    <a:pt x="15629" y="145868"/>
                  </a:cubicBezTo>
                  <a:cubicBezTo>
                    <a:pt x="15616" y="144953"/>
                    <a:pt x="15638" y="142870"/>
                    <a:pt x="15696" y="139618"/>
                  </a:cubicBezTo>
                  <a:cubicBezTo>
                    <a:pt x="15753" y="136365"/>
                    <a:pt x="15776" y="134333"/>
                    <a:pt x="15765" y="133520"/>
                  </a:cubicBezTo>
                  <a:cubicBezTo>
                    <a:pt x="16700" y="127614"/>
                    <a:pt x="19586" y="123205"/>
                    <a:pt x="24424" y="120294"/>
                  </a:cubicBezTo>
                  <a:cubicBezTo>
                    <a:pt x="29470" y="117786"/>
                    <a:pt x="35035" y="116085"/>
                    <a:pt x="41119" y="115188"/>
                  </a:cubicBezTo>
                  <a:cubicBezTo>
                    <a:pt x="47610" y="114287"/>
                    <a:pt x="54007" y="113945"/>
                    <a:pt x="60309" y="114164"/>
                  </a:cubicBezTo>
                  <a:cubicBezTo>
                    <a:pt x="66612" y="114382"/>
                    <a:pt x="71893" y="114158"/>
                    <a:pt x="76151" y="113490"/>
                  </a:cubicBezTo>
                  <a:cubicBezTo>
                    <a:pt x="76352" y="113284"/>
                    <a:pt x="76601" y="112924"/>
                    <a:pt x="76899" y="112412"/>
                  </a:cubicBezTo>
                  <a:cubicBezTo>
                    <a:pt x="77196" y="111900"/>
                    <a:pt x="77343" y="111441"/>
                    <a:pt x="77337" y="111035"/>
                  </a:cubicBezTo>
                  <a:cubicBezTo>
                    <a:pt x="77145" y="97015"/>
                    <a:pt x="76495" y="82951"/>
                    <a:pt x="75388" y="68843"/>
                  </a:cubicBezTo>
                  <a:cubicBezTo>
                    <a:pt x="74280" y="54734"/>
                    <a:pt x="73631" y="40670"/>
                    <a:pt x="73439" y="26651"/>
                  </a:cubicBezTo>
                  <a:cubicBezTo>
                    <a:pt x="73403" y="24009"/>
                    <a:pt x="74284" y="21609"/>
                    <a:pt x="76084" y="19451"/>
                  </a:cubicBezTo>
                  <a:cubicBezTo>
                    <a:pt x="77883" y="17292"/>
                    <a:pt x="80053" y="16196"/>
                    <a:pt x="82592" y="16161"/>
                  </a:cubicBezTo>
                  <a:close/>
                  <a:moveTo>
                    <a:pt x="1042853" y="97821"/>
                  </a:moveTo>
                  <a:cubicBezTo>
                    <a:pt x="1046112" y="98386"/>
                    <a:pt x="1049023" y="99464"/>
                    <a:pt x="1051585" y="101054"/>
                  </a:cubicBezTo>
                  <a:cubicBezTo>
                    <a:pt x="1054147" y="102645"/>
                    <a:pt x="1055453" y="105269"/>
                    <a:pt x="1055503" y="108926"/>
                  </a:cubicBezTo>
                  <a:lnTo>
                    <a:pt x="1055524" y="110450"/>
                  </a:lnTo>
                  <a:cubicBezTo>
                    <a:pt x="1054961" y="113913"/>
                    <a:pt x="1053339" y="117847"/>
                    <a:pt x="1050655" y="122252"/>
                  </a:cubicBezTo>
                  <a:cubicBezTo>
                    <a:pt x="1047972" y="126658"/>
                    <a:pt x="1045188" y="131117"/>
                    <a:pt x="1042303" y="135627"/>
                  </a:cubicBezTo>
                  <a:cubicBezTo>
                    <a:pt x="1039418" y="140137"/>
                    <a:pt x="1036835" y="144389"/>
                    <a:pt x="1034552" y="148384"/>
                  </a:cubicBezTo>
                  <a:cubicBezTo>
                    <a:pt x="1032270" y="152377"/>
                    <a:pt x="1031148" y="155797"/>
                    <a:pt x="1031187" y="158641"/>
                  </a:cubicBezTo>
                  <a:cubicBezTo>
                    <a:pt x="1031218" y="160876"/>
                    <a:pt x="1031250" y="163213"/>
                    <a:pt x="1031283" y="165651"/>
                  </a:cubicBezTo>
                  <a:cubicBezTo>
                    <a:pt x="1031322" y="168495"/>
                    <a:pt x="1032065" y="170822"/>
                    <a:pt x="1033513" y="172631"/>
                  </a:cubicBezTo>
                  <a:cubicBezTo>
                    <a:pt x="1036357" y="172593"/>
                    <a:pt x="1041184" y="172628"/>
                    <a:pt x="1047993" y="172738"/>
                  </a:cubicBezTo>
                  <a:cubicBezTo>
                    <a:pt x="1054803" y="172848"/>
                    <a:pt x="1062070" y="173003"/>
                    <a:pt x="1069795" y="173202"/>
                  </a:cubicBezTo>
                  <a:cubicBezTo>
                    <a:pt x="1077520" y="173401"/>
                    <a:pt x="1084737" y="173556"/>
                    <a:pt x="1091444" y="173668"/>
                  </a:cubicBezTo>
                  <a:cubicBezTo>
                    <a:pt x="1098152" y="173779"/>
                    <a:pt x="1102928" y="173815"/>
                    <a:pt x="1105773" y="173776"/>
                  </a:cubicBezTo>
                  <a:cubicBezTo>
                    <a:pt x="1107601" y="173751"/>
                    <a:pt x="1109635" y="173876"/>
                    <a:pt x="1111874" y="174150"/>
                  </a:cubicBezTo>
                  <a:cubicBezTo>
                    <a:pt x="1114113" y="174424"/>
                    <a:pt x="1116152" y="174854"/>
                    <a:pt x="1117988" y="175438"/>
                  </a:cubicBezTo>
                  <a:cubicBezTo>
                    <a:pt x="1120034" y="176426"/>
                    <a:pt x="1121675" y="177521"/>
                    <a:pt x="1122911" y="178724"/>
                  </a:cubicBezTo>
                  <a:cubicBezTo>
                    <a:pt x="1124152" y="180333"/>
                    <a:pt x="1124792" y="182559"/>
                    <a:pt x="1124831" y="185404"/>
                  </a:cubicBezTo>
                  <a:cubicBezTo>
                    <a:pt x="1124848" y="186623"/>
                    <a:pt x="1124263" y="188409"/>
                    <a:pt x="1123075" y="190762"/>
                  </a:cubicBezTo>
                  <a:cubicBezTo>
                    <a:pt x="1121888" y="193116"/>
                    <a:pt x="1120380" y="194305"/>
                    <a:pt x="1118552" y="194330"/>
                  </a:cubicBezTo>
                  <a:lnTo>
                    <a:pt x="1034740" y="195477"/>
                  </a:lnTo>
                  <a:lnTo>
                    <a:pt x="1035616" y="259479"/>
                  </a:lnTo>
                  <a:cubicBezTo>
                    <a:pt x="1035643" y="261511"/>
                    <a:pt x="1034959" y="263451"/>
                    <a:pt x="1033562" y="265299"/>
                  </a:cubicBezTo>
                  <a:cubicBezTo>
                    <a:pt x="1032164" y="267147"/>
                    <a:pt x="1030508" y="268643"/>
                    <a:pt x="1028593" y="269787"/>
                  </a:cubicBezTo>
                  <a:cubicBezTo>
                    <a:pt x="1026678" y="270931"/>
                    <a:pt x="1024659" y="271873"/>
                    <a:pt x="1022535" y="272613"/>
                  </a:cubicBezTo>
                  <a:cubicBezTo>
                    <a:pt x="1020412" y="273354"/>
                    <a:pt x="1018537" y="273735"/>
                    <a:pt x="1016912" y="273757"/>
                  </a:cubicBezTo>
                  <a:cubicBezTo>
                    <a:pt x="1014067" y="273796"/>
                    <a:pt x="1010454" y="273388"/>
                    <a:pt x="1006073" y="272534"/>
                  </a:cubicBezTo>
                  <a:cubicBezTo>
                    <a:pt x="1001693" y="271679"/>
                    <a:pt x="997457" y="270314"/>
                    <a:pt x="993367" y="268440"/>
                  </a:cubicBezTo>
                  <a:cubicBezTo>
                    <a:pt x="989277" y="266565"/>
                    <a:pt x="985740" y="264277"/>
                    <a:pt x="982757" y="261574"/>
                  </a:cubicBezTo>
                  <a:cubicBezTo>
                    <a:pt x="979773" y="258871"/>
                    <a:pt x="978256" y="255691"/>
                    <a:pt x="978206" y="252034"/>
                  </a:cubicBezTo>
                  <a:cubicBezTo>
                    <a:pt x="978170" y="249393"/>
                    <a:pt x="978901" y="247147"/>
                    <a:pt x="980400" y="245298"/>
                  </a:cubicBezTo>
                  <a:cubicBezTo>
                    <a:pt x="981899" y="243449"/>
                    <a:pt x="984070" y="242504"/>
                    <a:pt x="986915" y="242465"/>
                  </a:cubicBezTo>
                  <a:cubicBezTo>
                    <a:pt x="990979" y="242410"/>
                    <a:pt x="994551" y="243580"/>
                    <a:pt x="997632" y="245977"/>
                  </a:cubicBezTo>
                  <a:cubicBezTo>
                    <a:pt x="1000922" y="248777"/>
                    <a:pt x="1004501" y="250455"/>
                    <a:pt x="1008370" y="251012"/>
                  </a:cubicBezTo>
                  <a:cubicBezTo>
                    <a:pt x="1008779" y="251209"/>
                    <a:pt x="1009795" y="251195"/>
                    <a:pt x="1011418" y="250970"/>
                  </a:cubicBezTo>
                  <a:cubicBezTo>
                    <a:pt x="1013040" y="250745"/>
                    <a:pt x="1014055" y="250629"/>
                    <a:pt x="1014461" y="250624"/>
                  </a:cubicBezTo>
                  <a:lnTo>
                    <a:pt x="1013723" y="196679"/>
                  </a:lnTo>
                  <a:cubicBezTo>
                    <a:pt x="1013317" y="196685"/>
                    <a:pt x="1013010" y="196587"/>
                    <a:pt x="1012804" y="196387"/>
                  </a:cubicBezTo>
                  <a:cubicBezTo>
                    <a:pt x="1011986" y="195991"/>
                    <a:pt x="1011171" y="195799"/>
                    <a:pt x="1010358" y="195810"/>
                  </a:cubicBezTo>
                  <a:cubicBezTo>
                    <a:pt x="1001215" y="195936"/>
                    <a:pt x="992227" y="196262"/>
                    <a:pt x="983394" y="196789"/>
                  </a:cubicBezTo>
                  <a:cubicBezTo>
                    <a:pt x="974561" y="197317"/>
                    <a:pt x="965573" y="197643"/>
                    <a:pt x="956430" y="197768"/>
                  </a:cubicBezTo>
                  <a:cubicBezTo>
                    <a:pt x="955414" y="197782"/>
                    <a:pt x="953636" y="197806"/>
                    <a:pt x="951097" y="197841"/>
                  </a:cubicBezTo>
                  <a:cubicBezTo>
                    <a:pt x="948557" y="197876"/>
                    <a:pt x="945813" y="197862"/>
                    <a:pt x="942866" y="197801"/>
                  </a:cubicBezTo>
                  <a:cubicBezTo>
                    <a:pt x="939918" y="197740"/>
                    <a:pt x="937022" y="197729"/>
                    <a:pt x="934178" y="197768"/>
                  </a:cubicBezTo>
                  <a:cubicBezTo>
                    <a:pt x="931739" y="197801"/>
                    <a:pt x="930114" y="197823"/>
                    <a:pt x="929301" y="197834"/>
                  </a:cubicBezTo>
                  <a:cubicBezTo>
                    <a:pt x="926660" y="197871"/>
                    <a:pt x="924462" y="196885"/>
                    <a:pt x="922707" y="194876"/>
                  </a:cubicBezTo>
                  <a:cubicBezTo>
                    <a:pt x="920952" y="192868"/>
                    <a:pt x="920059" y="190696"/>
                    <a:pt x="920027" y="188359"/>
                  </a:cubicBezTo>
                  <a:cubicBezTo>
                    <a:pt x="919995" y="186023"/>
                    <a:pt x="920876" y="183572"/>
                    <a:pt x="922670" y="181007"/>
                  </a:cubicBezTo>
                  <a:cubicBezTo>
                    <a:pt x="924463" y="178442"/>
                    <a:pt x="926580" y="177143"/>
                    <a:pt x="929018" y="177110"/>
                  </a:cubicBezTo>
                  <a:lnTo>
                    <a:pt x="1000944" y="176125"/>
                  </a:lnTo>
                  <a:cubicBezTo>
                    <a:pt x="1003788" y="176087"/>
                    <a:pt x="1006121" y="175750"/>
                    <a:pt x="1007941" y="175115"/>
                  </a:cubicBezTo>
                  <a:cubicBezTo>
                    <a:pt x="1010170" y="174678"/>
                    <a:pt x="1011267" y="173139"/>
                    <a:pt x="1011231" y="170498"/>
                  </a:cubicBezTo>
                  <a:cubicBezTo>
                    <a:pt x="1011200" y="168263"/>
                    <a:pt x="1010863" y="165930"/>
                    <a:pt x="1010221" y="163501"/>
                  </a:cubicBezTo>
                  <a:cubicBezTo>
                    <a:pt x="1009786" y="161474"/>
                    <a:pt x="1009554" y="159344"/>
                    <a:pt x="1009523" y="157109"/>
                  </a:cubicBezTo>
                  <a:cubicBezTo>
                    <a:pt x="1009476" y="153655"/>
                    <a:pt x="1010343" y="150188"/>
                    <a:pt x="1012125" y="146709"/>
                  </a:cubicBezTo>
                  <a:cubicBezTo>
                    <a:pt x="1013911" y="143636"/>
                    <a:pt x="1015900" y="140459"/>
                    <a:pt x="1018091" y="137178"/>
                  </a:cubicBezTo>
                  <a:cubicBezTo>
                    <a:pt x="1020287" y="134303"/>
                    <a:pt x="1022280" y="131481"/>
                    <a:pt x="1024071" y="128713"/>
                  </a:cubicBezTo>
                  <a:cubicBezTo>
                    <a:pt x="1025862" y="125945"/>
                    <a:pt x="1026740" y="123240"/>
                    <a:pt x="1026704" y="120599"/>
                  </a:cubicBezTo>
                  <a:lnTo>
                    <a:pt x="1026691" y="119685"/>
                  </a:lnTo>
                  <a:lnTo>
                    <a:pt x="1021494" y="118537"/>
                  </a:lnTo>
                  <a:cubicBezTo>
                    <a:pt x="1021087" y="118542"/>
                    <a:pt x="1019561" y="118360"/>
                    <a:pt x="1016914" y="117990"/>
                  </a:cubicBezTo>
                  <a:cubicBezTo>
                    <a:pt x="1014272" y="118026"/>
                    <a:pt x="1012342" y="118052"/>
                    <a:pt x="1011123" y="118069"/>
                  </a:cubicBezTo>
                  <a:cubicBezTo>
                    <a:pt x="1006043" y="118138"/>
                    <a:pt x="1001120" y="118511"/>
                    <a:pt x="996354" y="119185"/>
                  </a:cubicBezTo>
                  <a:cubicBezTo>
                    <a:pt x="991588" y="119860"/>
                    <a:pt x="986665" y="120232"/>
                    <a:pt x="981585" y="120302"/>
                  </a:cubicBezTo>
                  <a:cubicBezTo>
                    <a:pt x="978538" y="120344"/>
                    <a:pt x="975680" y="119468"/>
                    <a:pt x="973014" y="117676"/>
                  </a:cubicBezTo>
                  <a:cubicBezTo>
                    <a:pt x="970757" y="116081"/>
                    <a:pt x="969604" y="113557"/>
                    <a:pt x="969557" y="110103"/>
                  </a:cubicBezTo>
                  <a:cubicBezTo>
                    <a:pt x="969524" y="107664"/>
                    <a:pt x="970207" y="105623"/>
                    <a:pt x="971607" y="103978"/>
                  </a:cubicBezTo>
                  <a:cubicBezTo>
                    <a:pt x="973216" y="102736"/>
                    <a:pt x="975029" y="101594"/>
                    <a:pt x="977047" y="100550"/>
                  </a:cubicBezTo>
                  <a:cubicBezTo>
                    <a:pt x="979071" y="99913"/>
                    <a:pt x="981249" y="99426"/>
                    <a:pt x="983581" y="99089"/>
                  </a:cubicBezTo>
                  <a:cubicBezTo>
                    <a:pt x="985914" y="98752"/>
                    <a:pt x="987994" y="98571"/>
                    <a:pt x="989823" y="98546"/>
                  </a:cubicBezTo>
                  <a:cubicBezTo>
                    <a:pt x="990229" y="98541"/>
                    <a:pt x="991448" y="98524"/>
                    <a:pt x="993480" y="98496"/>
                  </a:cubicBezTo>
                  <a:cubicBezTo>
                    <a:pt x="995512" y="98469"/>
                    <a:pt x="997847" y="98335"/>
                    <a:pt x="1000485" y="98096"/>
                  </a:cubicBezTo>
                  <a:cubicBezTo>
                    <a:pt x="1003533" y="98054"/>
                    <a:pt x="1006378" y="98015"/>
                    <a:pt x="1009019" y="97979"/>
                  </a:cubicBezTo>
                  <a:cubicBezTo>
                    <a:pt x="1012067" y="97937"/>
                    <a:pt x="1014505" y="97904"/>
                    <a:pt x="1016333" y="97879"/>
                  </a:cubicBezTo>
                  <a:cubicBezTo>
                    <a:pt x="1017146" y="97868"/>
                    <a:pt x="1018772" y="97846"/>
                    <a:pt x="1021210" y="97812"/>
                  </a:cubicBezTo>
                  <a:cubicBezTo>
                    <a:pt x="1024054" y="97773"/>
                    <a:pt x="1026849" y="97786"/>
                    <a:pt x="1029593" y="97850"/>
                  </a:cubicBezTo>
                  <a:cubicBezTo>
                    <a:pt x="1032338" y="97914"/>
                    <a:pt x="1034929" y="97929"/>
                    <a:pt x="1037367" y="97896"/>
                  </a:cubicBezTo>
                  <a:cubicBezTo>
                    <a:pt x="1039805" y="97862"/>
                    <a:pt x="1041634" y="97837"/>
                    <a:pt x="1042853" y="97821"/>
                  </a:cubicBezTo>
                  <a:close/>
                  <a:moveTo>
                    <a:pt x="401940" y="19106"/>
                  </a:moveTo>
                  <a:cubicBezTo>
                    <a:pt x="406004" y="19051"/>
                    <a:pt x="408922" y="20687"/>
                    <a:pt x="410695" y="24016"/>
                  </a:cubicBezTo>
                  <a:cubicBezTo>
                    <a:pt x="412468" y="27345"/>
                    <a:pt x="413682" y="30631"/>
                    <a:pt x="414336" y="33873"/>
                  </a:cubicBezTo>
                  <a:cubicBezTo>
                    <a:pt x="414347" y="34686"/>
                    <a:pt x="414469" y="36158"/>
                    <a:pt x="414701" y="38288"/>
                  </a:cubicBezTo>
                  <a:cubicBezTo>
                    <a:pt x="414933" y="40419"/>
                    <a:pt x="415116" y="42601"/>
                    <a:pt x="415248" y="44835"/>
                  </a:cubicBezTo>
                  <a:cubicBezTo>
                    <a:pt x="415380" y="47068"/>
                    <a:pt x="415511" y="49200"/>
                    <a:pt x="415640" y="51231"/>
                  </a:cubicBezTo>
                  <a:cubicBezTo>
                    <a:pt x="415770" y="53261"/>
                    <a:pt x="415839" y="54581"/>
                    <a:pt x="415847" y="55191"/>
                  </a:cubicBezTo>
                  <a:lnTo>
                    <a:pt x="417087" y="56698"/>
                  </a:lnTo>
                  <a:lnTo>
                    <a:pt x="481394" y="55818"/>
                  </a:lnTo>
                  <a:cubicBezTo>
                    <a:pt x="483425" y="55790"/>
                    <a:pt x="485013" y="56734"/>
                    <a:pt x="486157" y="58648"/>
                  </a:cubicBezTo>
                  <a:cubicBezTo>
                    <a:pt x="487301" y="60563"/>
                    <a:pt x="487885" y="62435"/>
                    <a:pt x="487911" y="64264"/>
                  </a:cubicBezTo>
                  <a:cubicBezTo>
                    <a:pt x="487955" y="67515"/>
                    <a:pt x="487476" y="69655"/>
                    <a:pt x="486474" y="70685"/>
                  </a:cubicBezTo>
                  <a:cubicBezTo>
                    <a:pt x="485478" y="72121"/>
                    <a:pt x="483466" y="73571"/>
                    <a:pt x="480437" y="75035"/>
                  </a:cubicBezTo>
                  <a:cubicBezTo>
                    <a:pt x="478609" y="75060"/>
                    <a:pt x="475308" y="75207"/>
                    <a:pt x="470536" y="75475"/>
                  </a:cubicBezTo>
                  <a:cubicBezTo>
                    <a:pt x="465764" y="75744"/>
                    <a:pt x="460688" y="76017"/>
                    <a:pt x="455306" y="76293"/>
                  </a:cubicBezTo>
                  <a:cubicBezTo>
                    <a:pt x="449925" y="76570"/>
                    <a:pt x="444849" y="76894"/>
                    <a:pt x="440078" y="77264"/>
                  </a:cubicBezTo>
                  <a:cubicBezTo>
                    <a:pt x="435307" y="77634"/>
                    <a:pt x="431906" y="77833"/>
                    <a:pt x="429874" y="77861"/>
                  </a:cubicBezTo>
                  <a:cubicBezTo>
                    <a:pt x="428249" y="77883"/>
                    <a:pt x="426017" y="78117"/>
                    <a:pt x="423178" y="78562"/>
                  </a:cubicBezTo>
                  <a:cubicBezTo>
                    <a:pt x="420339" y="79007"/>
                    <a:pt x="418819" y="79333"/>
                    <a:pt x="418619" y="79539"/>
                  </a:cubicBezTo>
                  <a:lnTo>
                    <a:pt x="417412" y="80470"/>
                  </a:lnTo>
                  <a:lnTo>
                    <a:pt x="417566" y="91746"/>
                  </a:lnTo>
                  <a:lnTo>
                    <a:pt x="417796" y="108509"/>
                  </a:lnTo>
                  <a:cubicBezTo>
                    <a:pt x="418030" y="110741"/>
                    <a:pt x="418272" y="113634"/>
                    <a:pt x="418524" y="117187"/>
                  </a:cubicBezTo>
                  <a:cubicBezTo>
                    <a:pt x="418776" y="120740"/>
                    <a:pt x="419077" y="124190"/>
                    <a:pt x="419428" y="127539"/>
                  </a:cubicBezTo>
                  <a:cubicBezTo>
                    <a:pt x="419779" y="130887"/>
                    <a:pt x="420072" y="133779"/>
                    <a:pt x="420309" y="136214"/>
                  </a:cubicBezTo>
                  <a:lnTo>
                    <a:pt x="420664" y="139867"/>
                  </a:lnTo>
                  <a:lnTo>
                    <a:pt x="422208" y="141370"/>
                  </a:lnTo>
                  <a:lnTo>
                    <a:pt x="432571" y="141228"/>
                  </a:lnTo>
                  <a:cubicBezTo>
                    <a:pt x="443136" y="141084"/>
                    <a:pt x="453596" y="140686"/>
                    <a:pt x="463952" y="140037"/>
                  </a:cubicBezTo>
                  <a:cubicBezTo>
                    <a:pt x="474307" y="139387"/>
                    <a:pt x="484767" y="138990"/>
                    <a:pt x="495333" y="138845"/>
                  </a:cubicBezTo>
                  <a:lnTo>
                    <a:pt x="519105" y="138520"/>
                  </a:lnTo>
                  <a:cubicBezTo>
                    <a:pt x="523594" y="139881"/>
                    <a:pt x="525874" y="143101"/>
                    <a:pt x="525943" y="148181"/>
                  </a:cubicBezTo>
                  <a:cubicBezTo>
                    <a:pt x="525977" y="150619"/>
                    <a:pt x="525396" y="152761"/>
                    <a:pt x="524202" y="154606"/>
                  </a:cubicBezTo>
                  <a:cubicBezTo>
                    <a:pt x="523008" y="156451"/>
                    <a:pt x="521092" y="157494"/>
                    <a:pt x="518453" y="157733"/>
                  </a:cubicBezTo>
                  <a:lnTo>
                    <a:pt x="422500" y="162704"/>
                  </a:lnTo>
                  <a:lnTo>
                    <a:pt x="421010" y="165163"/>
                  </a:lnTo>
                  <a:cubicBezTo>
                    <a:pt x="421013" y="165366"/>
                    <a:pt x="420924" y="166333"/>
                    <a:pt x="420745" y="168063"/>
                  </a:cubicBezTo>
                  <a:cubicBezTo>
                    <a:pt x="420565" y="169792"/>
                    <a:pt x="420440" y="171776"/>
                    <a:pt x="420369" y="174012"/>
                  </a:cubicBezTo>
                  <a:cubicBezTo>
                    <a:pt x="420298" y="176248"/>
                    <a:pt x="420228" y="178586"/>
                    <a:pt x="420160" y="181026"/>
                  </a:cubicBezTo>
                  <a:cubicBezTo>
                    <a:pt x="420092" y="183466"/>
                    <a:pt x="420067" y="185396"/>
                    <a:pt x="420087" y="186819"/>
                  </a:cubicBezTo>
                  <a:lnTo>
                    <a:pt x="420612" y="225220"/>
                  </a:lnTo>
                  <a:lnTo>
                    <a:pt x="420950" y="249906"/>
                  </a:lnTo>
                  <a:lnTo>
                    <a:pt x="423710" y="251088"/>
                  </a:lnTo>
                  <a:lnTo>
                    <a:pt x="431329" y="250984"/>
                  </a:lnTo>
                  <a:cubicBezTo>
                    <a:pt x="439863" y="250867"/>
                    <a:pt x="448395" y="250648"/>
                    <a:pt x="456926" y="250328"/>
                  </a:cubicBezTo>
                  <a:cubicBezTo>
                    <a:pt x="465457" y="250008"/>
                    <a:pt x="474088" y="249586"/>
                    <a:pt x="482819" y="249060"/>
                  </a:cubicBezTo>
                  <a:cubicBezTo>
                    <a:pt x="483222" y="248851"/>
                    <a:pt x="483622" y="248337"/>
                    <a:pt x="484017" y="247519"/>
                  </a:cubicBezTo>
                  <a:cubicBezTo>
                    <a:pt x="484824" y="247102"/>
                    <a:pt x="485328" y="246790"/>
                    <a:pt x="485528" y="246584"/>
                  </a:cubicBezTo>
                  <a:lnTo>
                    <a:pt x="485520" y="245974"/>
                  </a:lnTo>
                  <a:cubicBezTo>
                    <a:pt x="485440" y="240082"/>
                    <a:pt x="485104" y="234143"/>
                    <a:pt x="484514" y="228156"/>
                  </a:cubicBezTo>
                  <a:cubicBezTo>
                    <a:pt x="483924" y="222169"/>
                    <a:pt x="483589" y="216229"/>
                    <a:pt x="483508" y="210337"/>
                  </a:cubicBezTo>
                  <a:lnTo>
                    <a:pt x="483191" y="187174"/>
                  </a:lnTo>
                  <a:cubicBezTo>
                    <a:pt x="483570" y="185137"/>
                    <a:pt x="484713" y="183292"/>
                    <a:pt x="486621" y="181640"/>
                  </a:cubicBezTo>
                  <a:cubicBezTo>
                    <a:pt x="488529" y="179989"/>
                    <a:pt x="490550" y="179148"/>
                    <a:pt x="492683" y="179119"/>
                  </a:cubicBezTo>
                  <a:cubicBezTo>
                    <a:pt x="494817" y="179090"/>
                    <a:pt x="496860" y="179875"/>
                    <a:pt x="498812" y="181473"/>
                  </a:cubicBezTo>
                  <a:cubicBezTo>
                    <a:pt x="500764" y="183073"/>
                    <a:pt x="501958" y="184885"/>
                    <a:pt x="502392" y="186912"/>
                  </a:cubicBezTo>
                  <a:cubicBezTo>
                    <a:pt x="502737" y="197271"/>
                    <a:pt x="503335" y="207525"/>
                    <a:pt x="504185" y="217675"/>
                  </a:cubicBezTo>
                  <a:cubicBezTo>
                    <a:pt x="505035" y="227824"/>
                    <a:pt x="505531" y="238080"/>
                    <a:pt x="505673" y="248442"/>
                  </a:cubicBezTo>
                  <a:cubicBezTo>
                    <a:pt x="505759" y="254740"/>
                    <a:pt x="504655" y="259430"/>
                    <a:pt x="502360" y="262509"/>
                  </a:cubicBezTo>
                  <a:cubicBezTo>
                    <a:pt x="500065" y="265589"/>
                    <a:pt x="495776" y="267782"/>
                    <a:pt x="489494" y="269087"/>
                  </a:cubicBezTo>
                  <a:cubicBezTo>
                    <a:pt x="473861" y="270114"/>
                    <a:pt x="457916" y="270738"/>
                    <a:pt x="441662" y="270961"/>
                  </a:cubicBezTo>
                  <a:cubicBezTo>
                    <a:pt x="425814" y="271178"/>
                    <a:pt x="410169" y="271392"/>
                    <a:pt x="394727" y="271603"/>
                  </a:cubicBezTo>
                  <a:lnTo>
                    <a:pt x="338040" y="272379"/>
                  </a:lnTo>
                  <a:cubicBezTo>
                    <a:pt x="334586" y="272426"/>
                    <a:pt x="331924" y="270989"/>
                    <a:pt x="330055" y="268068"/>
                  </a:cubicBezTo>
                  <a:cubicBezTo>
                    <a:pt x="328186" y="265147"/>
                    <a:pt x="326818" y="261711"/>
                    <a:pt x="325951" y="257760"/>
                  </a:cubicBezTo>
                  <a:cubicBezTo>
                    <a:pt x="325084" y="253809"/>
                    <a:pt x="324523" y="249905"/>
                    <a:pt x="324267" y="246047"/>
                  </a:cubicBezTo>
                  <a:cubicBezTo>
                    <a:pt x="324011" y="242190"/>
                    <a:pt x="323767" y="239246"/>
                    <a:pt x="323536" y="237217"/>
                  </a:cubicBezTo>
                  <a:cubicBezTo>
                    <a:pt x="323531" y="236811"/>
                    <a:pt x="323415" y="235746"/>
                    <a:pt x="323188" y="234021"/>
                  </a:cubicBezTo>
                  <a:cubicBezTo>
                    <a:pt x="322961" y="232297"/>
                    <a:pt x="322529" y="230423"/>
                    <a:pt x="321892" y="228400"/>
                  </a:cubicBezTo>
                  <a:cubicBezTo>
                    <a:pt x="321663" y="226574"/>
                    <a:pt x="321435" y="224748"/>
                    <a:pt x="321207" y="222922"/>
                  </a:cubicBezTo>
                  <a:cubicBezTo>
                    <a:pt x="320979" y="221097"/>
                    <a:pt x="320863" y="220031"/>
                    <a:pt x="320858" y="219727"/>
                  </a:cubicBezTo>
                  <a:cubicBezTo>
                    <a:pt x="320854" y="219422"/>
                    <a:pt x="320778" y="217593"/>
                    <a:pt x="320631" y="214242"/>
                  </a:cubicBezTo>
                  <a:cubicBezTo>
                    <a:pt x="320484" y="210891"/>
                    <a:pt x="320397" y="208301"/>
                    <a:pt x="320372" y="206473"/>
                  </a:cubicBezTo>
                  <a:cubicBezTo>
                    <a:pt x="320358" y="205457"/>
                    <a:pt x="320379" y="203272"/>
                    <a:pt x="320435" y="199919"/>
                  </a:cubicBezTo>
                  <a:cubicBezTo>
                    <a:pt x="320490" y="196565"/>
                    <a:pt x="320510" y="194278"/>
                    <a:pt x="320493" y="193059"/>
                  </a:cubicBezTo>
                  <a:cubicBezTo>
                    <a:pt x="320872" y="191021"/>
                    <a:pt x="322016" y="189228"/>
                    <a:pt x="323925" y="187677"/>
                  </a:cubicBezTo>
                  <a:cubicBezTo>
                    <a:pt x="325835" y="186127"/>
                    <a:pt x="327805" y="185338"/>
                    <a:pt x="329837" y="185310"/>
                  </a:cubicBezTo>
                  <a:cubicBezTo>
                    <a:pt x="331869" y="185282"/>
                    <a:pt x="333810" y="186018"/>
                    <a:pt x="335659" y="187517"/>
                  </a:cubicBezTo>
                  <a:cubicBezTo>
                    <a:pt x="337508" y="189016"/>
                    <a:pt x="338752" y="190777"/>
                    <a:pt x="339389" y="192800"/>
                  </a:cubicBezTo>
                  <a:cubicBezTo>
                    <a:pt x="339912" y="201328"/>
                    <a:pt x="340696" y="210310"/>
                    <a:pt x="341739" y="219745"/>
                  </a:cubicBezTo>
                  <a:cubicBezTo>
                    <a:pt x="342783" y="229181"/>
                    <a:pt x="343867" y="237854"/>
                    <a:pt x="344991" y="245764"/>
                  </a:cubicBezTo>
                  <a:cubicBezTo>
                    <a:pt x="345203" y="246371"/>
                    <a:pt x="345520" y="247281"/>
                    <a:pt x="345943" y="248494"/>
                  </a:cubicBezTo>
                  <a:cubicBezTo>
                    <a:pt x="346366" y="249708"/>
                    <a:pt x="346987" y="250512"/>
                    <a:pt x="347805" y="250907"/>
                  </a:cubicBezTo>
                  <a:cubicBezTo>
                    <a:pt x="355328" y="251211"/>
                    <a:pt x="361987" y="251425"/>
                    <a:pt x="367780" y="251549"/>
                  </a:cubicBezTo>
                  <a:cubicBezTo>
                    <a:pt x="373574" y="251672"/>
                    <a:pt x="380128" y="251684"/>
                    <a:pt x="387442" y="251584"/>
                  </a:cubicBezTo>
                  <a:lnTo>
                    <a:pt x="397195" y="251450"/>
                  </a:lnTo>
                  <a:lnTo>
                    <a:pt x="398397" y="250215"/>
                  </a:lnTo>
                  <a:cubicBezTo>
                    <a:pt x="398150" y="246967"/>
                    <a:pt x="397943" y="243007"/>
                    <a:pt x="397777" y="238335"/>
                  </a:cubicBezTo>
                  <a:cubicBezTo>
                    <a:pt x="397612" y="233663"/>
                    <a:pt x="398013" y="229593"/>
                    <a:pt x="398982" y="226126"/>
                  </a:cubicBezTo>
                  <a:cubicBezTo>
                    <a:pt x="398957" y="224297"/>
                    <a:pt x="399066" y="221095"/>
                    <a:pt x="399308" y="216519"/>
                  </a:cubicBezTo>
                  <a:cubicBezTo>
                    <a:pt x="399550" y="211943"/>
                    <a:pt x="399685" y="206962"/>
                    <a:pt x="399713" y="201577"/>
                  </a:cubicBezTo>
                  <a:cubicBezTo>
                    <a:pt x="399741" y="196191"/>
                    <a:pt x="399721" y="191060"/>
                    <a:pt x="399655" y="186184"/>
                  </a:cubicBezTo>
                  <a:cubicBezTo>
                    <a:pt x="399797" y="181711"/>
                    <a:pt x="399855" y="178560"/>
                    <a:pt x="399830" y="176732"/>
                  </a:cubicBezTo>
                  <a:lnTo>
                    <a:pt x="399743" y="170331"/>
                  </a:lnTo>
                  <a:cubicBezTo>
                    <a:pt x="399729" y="169316"/>
                    <a:pt x="399711" y="167995"/>
                    <a:pt x="399688" y="166369"/>
                  </a:cubicBezTo>
                  <a:cubicBezTo>
                    <a:pt x="399875" y="165148"/>
                    <a:pt x="399352" y="164037"/>
                    <a:pt x="398119" y="163038"/>
                  </a:cubicBezTo>
                  <a:cubicBezTo>
                    <a:pt x="397509" y="163046"/>
                    <a:pt x="396035" y="163016"/>
                    <a:pt x="393697" y="162946"/>
                  </a:cubicBezTo>
                  <a:cubicBezTo>
                    <a:pt x="391359" y="162876"/>
                    <a:pt x="389784" y="162847"/>
                    <a:pt x="388971" y="162858"/>
                  </a:cubicBezTo>
                  <a:cubicBezTo>
                    <a:pt x="375358" y="163045"/>
                    <a:pt x="361856" y="163941"/>
                    <a:pt x="348466" y="165546"/>
                  </a:cubicBezTo>
                  <a:cubicBezTo>
                    <a:pt x="335075" y="167152"/>
                    <a:pt x="321574" y="168048"/>
                    <a:pt x="307961" y="168235"/>
                  </a:cubicBezTo>
                  <a:cubicBezTo>
                    <a:pt x="304913" y="168276"/>
                    <a:pt x="302108" y="167502"/>
                    <a:pt x="299546" y="165911"/>
                  </a:cubicBezTo>
                  <a:cubicBezTo>
                    <a:pt x="296984" y="164320"/>
                    <a:pt x="295681" y="161950"/>
                    <a:pt x="295638" y="158801"/>
                  </a:cubicBezTo>
                  <a:cubicBezTo>
                    <a:pt x="295595" y="155652"/>
                    <a:pt x="296983" y="153143"/>
                    <a:pt x="299803" y="151276"/>
                  </a:cubicBezTo>
                  <a:cubicBezTo>
                    <a:pt x="302622" y="149408"/>
                    <a:pt x="305553" y="148250"/>
                    <a:pt x="308595" y="147802"/>
                  </a:cubicBezTo>
                  <a:lnTo>
                    <a:pt x="397827" y="141704"/>
                  </a:lnTo>
                  <a:cubicBezTo>
                    <a:pt x="398233" y="141698"/>
                    <a:pt x="398533" y="141338"/>
                    <a:pt x="398726" y="140624"/>
                  </a:cubicBezTo>
                  <a:cubicBezTo>
                    <a:pt x="398920" y="139911"/>
                    <a:pt x="399115" y="139349"/>
                    <a:pt x="399313" y="138940"/>
                  </a:cubicBezTo>
                  <a:lnTo>
                    <a:pt x="399309" y="138635"/>
                  </a:lnTo>
                  <a:lnTo>
                    <a:pt x="399296" y="137721"/>
                  </a:lnTo>
                  <a:cubicBezTo>
                    <a:pt x="399038" y="133660"/>
                    <a:pt x="398763" y="128431"/>
                    <a:pt x="398472" y="122034"/>
                  </a:cubicBezTo>
                  <a:cubicBezTo>
                    <a:pt x="398181" y="115636"/>
                    <a:pt x="397792" y="109494"/>
                    <a:pt x="397305" y="103607"/>
                  </a:cubicBezTo>
                  <a:cubicBezTo>
                    <a:pt x="396804" y="96705"/>
                    <a:pt x="396402" y="89598"/>
                    <a:pt x="396099" y="82286"/>
                  </a:cubicBezTo>
                  <a:lnTo>
                    <a:pt x="394859" y="80779"/>
                  </a:lnTo>
                  <a:lnTo>
                    <a:pt x="332990" y="81625"/>
                  </a:lnTo>
                  <a:cubicBezTo>
                    <a:pt x="330552" y="81659"/>
                    <a:pt x="328405" y="80672"/>
                    <a:pt x="326548" y="78665"/>
                  </a:cubicBezTo>
                  <a:cubicBezTo>
                    <a:pt x="324692" y="76658"/>
                    <a:pt x="323749" y="74588"/>
                    <a:pt x="323720" y="72455"/>
                  </a:cubicBezTo>
                  <a:cubicBezTo>
                    <a:pt x="323691" y="70322"/>
                    <a:pt x="324426" y="68330"/>
                    <a:pt x="325924" y="66481"/>
                  </a:cubicBezTo>
                  <a:cubicBezTo>
                    <a:pt x="327423" y="64631"/>
                    <a:pt x="329186" y="63489"/>
                    <a:pt x="331212" y="63055"/>
                  </a:cubicBezTo>
                  <a:cubicBezTo>
                    <a:pt x="333244" y="63028"/>
                    <a:pt x="336848" y="62826"/>
                    <a:pt x="342025" y="62450"/>
                  </a:cubicBezTo>
                  <a:cubicBezTo>
                    <a:pt x="347202" y="62074"/>
                    <a:pt x="352684" y="61695"/>
                    <a:pt x="358470" y="61311"/>
                  </a:cubicBezTo>
                  <a:cubicBezTo>
                    <a:pt x="364257" y="60926"/>
                    <a:pt x="369689" y="60598"/>
                    <a:pt x="374765" y="60325"/>
                  </a:cubicBezTo>
                  <a:cubicBezTo>
                    <a:pt x="379842" y="60053"/>
                    <a:pt x="383395" y="59801"/>
                    <a:pt x="385424" y="59570"/>
                  </a:cubicBezTo>
                  <a:cubicBezTo>
                    <a:pt x="386237" y="59559"/>
                    <a:pt x="387759" y="59436"/>
                    <a:pt x="389991" y="59203"/>
                  </a:cubicBezTo>
                  <a:cubicBezTo>
                    <a:pt x="392223" y="58969"/>
                    <a:pt x="393743" y="58643"/>
                    <a:pt x="394550" y="58226"/>
                  </a:cubicBezTo>
                  <a:lnTo>
                    <a:pt x="394413" y="48168"/>
                  </a:lnTo>
                  <a:cubicBezTo>
                    <a:pt x="394368" y="44917"/>
                    <a:pt x="394071" y="41721"/>
                    <a:pt x="393519" y="38578"/>
                  </a:cubicBezTo>
                  <a:cubicBezTo>
                    <a:pt x="392968" y="35436"/>
                    <a:pt x="392671" y="32239"/>
                    <a:pt x="392626" y="28989"/>
                  </a:cubicBezTo>
                  <a:cubicBezTo>
                    <a:pt x="392587" y="26144"/>
                    <a:pt x="393419" y="23796"/>
                    <a:pt x="395121" y="21943"/>
                  </a:cubicBezTo>
                  <a:cubicBezTo>
                    <a:pt x="396823" y="20091"/>
                    <a:pt x="399096" y="19145"/>
                    <a:pt x="401940" y="19106"/>
                  </a:cubicBezTo>
                  <a:close/>
                  <a:moveTo>
                    <a:pt x="719220" y="37931"/>
                  </a:moveTo>
                  <a:cubicBezTo>
                    <a:pt x="721252" y="37903"/>
                    <a:pt x="723190" y="38486"/>
                    <a:pt x="725036" y="39680"/>
                  </a:cubicBezTo>
                  <a:cubicBezTo>
                    <a:pt x="727090" y="41278"/>
                    <a:pt x="728334" y="43090"/>
                    <a:pt x="728768" y="45116"/>
                  </a:cubicBezTo>
                  <a:cubicBezTo>
                    <a:pt x="728787" y="46539"/>
                    <a:pt x="728872" y="48976"/>
                    <a:pt x="729020" y="52429"/>
                  </a:cubicBezTo>
                  <a:cubicBezTo>
                    <a:pt x="729169" y="55881"/>
                    <a:pt x="729322" y="59588"/>
                    <a:pt x="729477" y="63549"/>
                  </a:cubicBezTo>
                  <a:cubicBezTo>
                    <a:pt x="729633" y="67509"/>
                    <a:pt x="729887" y="71215"/>
                    <a:pt x="730239" y="74665"/>
                  </a:cubicBezTo>
                  <a:cubicBezTo>
                    <a:pt x="730591" y="78114"/>
                    <a:pt x="730776" y="80449"/>
                    <a:pt x="730792" y="81668"/>
                  </a:cubicBezTo>
                  <a:cubicBezTo>
                    <a:pt x="730803" y="82481"/>
                    <a:pt x="730932" y="84460"/>
                    <a:pt x="731178" y="87607"/>
                  </a:cubicBezTo>
                  <a:cubicBezTo>
                    <a:pt x="731425" y="90753"/>
                    <a:pt x="732065" y="93031"/>
                    <a:pt x="733101" y="94439"/>
                  </a:cubicBezTo>
                  <a:cubicBezTo>
                    <a:pt x="733106" y="94846"/>
                    <a:pt x="733620" y="95245"/>
                    <a:pt x="734641" y="95638"/>
                  </a:cubicBezTo>
                  <a:cubicBezTo>
                    <a:pt x="735051" y="95835"/>
                    <a:pt x="735358" y="96034"/>
                    <a:pt x="735564" y="96234"/>
                  </a:cubicBezTo>
                  <a:lnTo>
                    <a:pt x="783718" y="95575"/>
                  </a:lnTo>
                  <a:cubicBezTo>
                    <a:pt x="785343" y="95553"/>
                    <a:pt x="787036" y="96749"/>
                    <a:pt x="788797" y="99164"/>
                  </a:cubicBezTo>
                  <a:cubicBezTo>
                    <a:pt x="790557" y="101579"/>
                    <a:pt x="791448" y="103598"/>
                    <a:pt x="791471" y="105224"/>
                  </a:cubicBezTo>
                  <a:cubicBezTo>
                    <a:pt x="791493" y="106849"/>
                    <a:pt x="790709" y="108994"/>
                    <a:pt x="789120" y="111657"/>
                  </a:cubicBezTo>
                  <a:cubicBezTo>
                    <a:pt x="787531" y="114321"/>
                    <a:pt x="785822" y="115665"/>
                    <a:pt x="783993" y="115690"/>
                  </a:cubicBezTo>
                  <a:lnTo>
                    <a:pt x="735839" y="116349"/>
                  </a:lnTo>
                  <a:lnTo>
                    <a:pt x="736352" y="153836"/>
                  </a:lnTo>
                  <a:lnTo>
                    <a:pt x="775705" y="156041"/>
                  </a:lnTo>
                  <a:cubicBezTo>
                    <a:pt x="778146" y="156211"/>
                    <a:pt x="780091" y="157251"/>
                    <a:pt x="781540" y="159162"/>
                  </a:cubicBezTo>
                  <a:cubicBezTo>
                    <a:pt x="782989" y="161073"/>
                    <a:pt x="783726" y="162993"/>
                    <a:pt x="783752" y="164923"/>
                  </a:cubicBezTo>
                  <a:cubicBezTo>
                    <a:pt x="783779" y="166854"/>
                    <a:pt x="782995" y="168947"/>
                    <a:pt x="781400" y="171205"/>
                  </a:cubicBezTo>
                  <a:cubicBezTo>
                    <a:pt x="779805" y="173462"/>
                    <a:pt x="777992" y="174604"/>
                    <a:pt x="775960" y="174632"/>
                  </a:cubicBezTo>
                  <a:lnTo>
                    <a:pt x="739387" y="175133"/>
                  </a:lnTo>
                  <a:lnTo>
                    <a:pt x="736665" y="176694"/>
                  </a:lnTo>
                  <a:cubicBezTo>
                    <a:pt x="736724" y="180961"/>
                    <a:pt x="736679" y="185128"/>
                    <a:pt x="736531" y="189194"/>
                  </a:cubicBezTo>
                  <a:cubicBezTo>
                    <a:pt x="736376" y="192651"/>
                    <a:pt x="736272" y="196259"/>
                    <a:pt x="736222" y="200020"/>
                  </a:cubicBezTo>
                  <a:cubicBezTo>
                    <a:pt x="736172" y="203780"/>
                    <a:pt x="736164" y="206879"/>
                    <a:pt x="736197" y="209317"/>
                  </a:cubicBezTo>
                  <a:cubicBezTo>
                    <a:pt x="736203" y="209724"/>
                    <a:pt x="736167" y="210791"/>
                    <a:pt x="736089" y="212519"/>
                  </a:cubicBezTo>
                  <a:cubicBezTo>
                    <a:pt x="736011" y="214248"/>
                    <a:pt x="735977" y="215518"/>
                    <a:pt x="735988" y="216331"/>
                  </a:cubicBezTo>
                  <a:lnTo>
                    <a:pt x="736022" y="218769"/>
                  </a:lnTo>
                  <a:cubicBezTo>
                    <a:pt x="736033" y="219582"/>
                    <a:pt x="736143" y="220190"/>
                    <a:pt x="736352" y="220594"/>
                  </a:cubicBezTo>
                  <a:lnTo>
                    <a:pt x="737295" y="222715"/>
                  </a:lnTo>
                  <a:lnTo>
                    <a:pt x="796726" y="221901"/>
                  </a:lnTo>
                  <a:cubicBezTo>
                    <a:pt x="798554" y="221876"/>
                    <a:pt x="800349" y="223071"/>
                    <a:pt x="802109" y="225486"/>
                  </a:cubicBezTo>
                  <a:cubicBezTo>
                    <a:pt x="803869" y="227900"/>
                    <a:pt x="804761" y="229920"/>
                    <a:pt x="804783" y="231546"/>
                  </a:cubicBezTo>
                  <a:cubicBezTo>
                    <a:pt x="804814" y="233781"/>
                    <a:pt x="804029" y="235823"/>
                    <a:pt x="802428" y="237674"/>
                  </a:cubicBezTo>
                  <a:cubicBezTo>
                    <a:pt x="800828" y="239525"/>
                    <a:pt x="799016" y="240769"/>
                    <a:pt x="796992" y="241407"/>
                  </a:cubicBezTo>
                  <a:cubicBezTo>
                    <a:pt x="779530" y="242459"/>
                    <a:pt x="762519" y="243098"/>
                    <a:pt x="745960" y="243324"/>
                  </a:cubicBezTo>
                  <a:cubicBezTo>
                    <a:pt x="729401" y="243551"/>
                    <a:pt x="712384" y="243784"/>
                    <a:pt x="694911" y="244023"/>
                  </a:cubicBezTo>
                  <a:lnTo>
                    <a:pt x="636699" y="244820"/>
                  </a:lnTo>
                  <a:cubicBezTo>
                    <a:pt x="634662" y="244441"/>
                    <a:pt x="632868" y="243297"/>
                    <a:pt x="631318" y="241388"/>
                  </a:cubicBezTo>
                  <a:cubicBezTo>
                    <a:pt x="629768" y="239478"/>
                    <a:pt x="628978" y="237508"/>
                    <a:pt x="628951" y="235476"/>
                  </a:cubicBezTo>
                  <a:cubicBezTo>
                    <a:pt x="628909" y="232428"/>
                    <a:pt x="629992" y="229873"/>
                    <a:pt x="632199" y="227811"/>
                  </a:cubicBezTo>
                  <a:cubicBezTo>
                    <a:pt x="634813" y="225743"/>
                    <a:pt x="637542" y="224690"/>
                    <a:pt x="640386" y="224651"/>
                  </a:cubicBezTo>
                  <a:lnTo>
                    <a:pt x="713531" y="223649"/>
                  </a:lnTo>
                  <a:lnTo>
                    <a:pt x="714734" y="222414"/>
                  </a:lnTo>
                  <a:cubicBezTo>
                    <a:pt x="714887" y="218754"/>
                    <a:pt x="715143" y="215194"/>
                    <a:pt x="715502" y="211734"/>
                  </a:cubicBezTo>
                  <a:cubicBezTo>
                    <a:pt x="715664" y="208684"/>
                    <a:pt x="715723" y="205584"/>
                    <a:pt x="715679" y="202435"/>
                  </a:cubicBezTo>
                  <a:cubicBezTo>
                    <a:pt x="715636" y="199285"/>
                    <a:pt x="715702" y="196693"/>
                    <a:pt x="715878" y="194659"/>
                  </a:cubicBezTo>
                  <a:cubicBezTo>
                    <a:pt x="715867" y="193846"/>
                    <a:pt x="715851" y="192678"/>
                    <a:pt x="715830" y="191154"/>
                  </a:cubicBezTo>
                  <a:cubicBezTo>
                    <a:pt x="715809" y="189630"/>
                    <a:pt x="715736" y="188005"/>
                    <a:pt x="715611" y="186279"/>
                  </a:cubicBezTo>
                  <a:cubicBezTo>
                    <a:pt x="715486" y="184554"/>
                    <a:pt x="715412" y="182878"/>
                    <a:pt x="715390" y="181253"/>
                  </a:cubicBezTo>
                  <a:cubicBezTo>
                    <a:pt x="715367" y="179628"/>
                    <a:pt x="715352" y="178510"/>
                    <a:pt x="715344" y="177900"/>
                  </a:cubicBezTo>
                  <a:lnTo>
                    <a:pt x="677552" y="178418"/>
                  </a:lnTo>
                  <a:cubicBezTo>
                    <a:pt x="675520" y="178446"/>
                    <a:pt x="673728" y="177403"/>
                    <a:pt x="672175" y="175291"/>
                  </a:cubicBezTo>
                  <a:cubicBezTo>
                    <a:pt x="670622" y="173178"/>
                    <a:pt x="669833" y="171207"/>
                    <a:pt x="669808" y="169379"/>
                  </a:cubicBezTo>
                  <a:cubicBezTo>
                    <a:pt x="669783" y="167550"/>
                    <a:pt x="670517" y="165508"/>
                    <a:pt x="672010" y="163252"/>
                  </a:cubicBezTo>
                  <a:cubicBezTo>
                    <a:pt x="673503" y="160996"/>
                    <a:pt x="675264" y="159753"/>
                    <a:pt x="677293" y="159522"/>
                  </a:cubicBezTo>
                  <a:lnTo>
                    <a:pt x="713816" y="155364"/>
                  </a:lnTo>
                  <a:lnTo>
                    <a:pt x="715323" y="154124"/>
                  </a:lnTo>
                  <a:lnTo>
                    <a:pt x="715173" y="143152"/>
                  </a:lnTo>
                  <a:lnTo>
                    <a:pt x="714944" y="126390"/>
                  </a:lnTo>
                  <a:cubicBezTo>
                    <a:pt x="714724" y="125174"/>
                    <a:pt x="714448" y="123602"/>
                    <a:pt x="714117" y="121676"/>
                  </a:cubicBezTo>
                  <a:cubicBezTo>
                    <a:pt x="713786" y="119750"/>
                    <a:pt x="713519" y="118789"/>
                    <a:pt x="713315" y="118791"/>
                  </a:cubicBezTo>
                  <a:lnTo>
                    <a:pt x="710556" y="117610"/>
                  </a:lnTo>
                  <a:lnTo>
                    <a:pt x="664231" y="118244"/>
                  </a:lnTo>
                  <a:lnTo>
                    <a:pt x="661521" y="120720"/>
                  </a:lnTo>
                  <a:cubicBezTo>
                    <a:pt x="661535" y="121736"/>
                    <a:pt x="661408" y="123617"/>
                    <a:pt x="661141" y="126364"/>
                  </a:cubicBezTo>
                  <a:cubicBezTo>
                    <a:pt x="660874" y="129111"/>
                    <a:pt x="660507" y="132012"/>
                    <a:pt x="660041" y="135067"/>
                  </a:cubicBezTo>
                  <a:cubicBezTo>
                    <a:pt x="659574" y="138122"/>
                    <a:pt x="659208" y="141073"/>
                    <a:pt x="658943" y="143922"/>
                  </a:cubicBezTo>
                  <a:cubicBezTo>
                    <a:pt x="658677" y="146771"/>
                    <a:pt x="658449" y="148704"/>
                    <a:pt x="658260" y="149723"/>
                  </a:cubicBezTo>
                  <a:cubicBezTo>
                    <a:pt x="657701" y="153389"/>
                    <a:pt x="656829" y="156550"/>
                    <a:pt x="655646" y="159208"/>
                  </a:cubicBezTo>
                  <a:cubicBezTo>
                    <a:pt x="654469" y="162273"/>
                    <a:pt x="651899" y="163832"/>
                    <a:pt x="647937" y="163886"/>
                  </a:cubicBezTo>
                  <a:cubicBezTo>
                    <a:pt x="643975" y="163941"/>
                    <a:pt x="641265" y="162657"/>
                    <a:pt x="639807" y="160035"/>
                  </a:cubicBezTo>
                  <a:cubicBezTo>
                    <a:pt x="638557" y="157817"/>
                    <a:pt x="637910" y="155082"/>
                    <a:pt x="637865" y="151831"/>
                  </a:cubicBezTo>
                  <a:cubicBezTo>
                    <a:pt x="637857" y="151222"/>
                    <a:pt x="637842" y="150104"/>
                    <a:pt x="637819" y="148479"/>
                  </a:cubicBezTo>
                  <a:cubicBezTo>
                    <a:pt x="638006" y="147257"/>
                    <a:pt x="638097" y="146493"/>
                    <a:pt x="638093" y="146189"/>
                  </a:cubicBezTo>
                  <a:cubicBezTo>
                    <a:pt x="638089" y="145884"/>
                    <a:pt x="638132" y="145325"/>
                    <a:pt x="638222" y="144510"/>
                  </a:cubicBezTo>
                  <a:cubicBezTo>
                    <a:pt x="638313" y="143696"/>
                    <a:pt x="638402" y="142781"/>
                    <a:pt x="638490" y="141763"/>
                  </a:cubicBezTo>
                  <a:cubicBezTo>
                    <a:pt x="638577" y="140746"/>
                    <a:pt x="638716" y="139779"/>
                    <a:pt x="638907" y="138862"/>
                  </a:cubicBezTo>
                  <a:cubicBezTo>
                    <a:pt x="639098" y="137945"/>
                    <a:pt x="639192" y="137384"/>
                    <a:pt x="639189" y="137181"/>
                  </a:cubicBezTo>
                  <a:cubicBezTo>
                    <a:pt x="639356" y="134537"/>
                    <a:pt x="639594" y="129656"/>
                    <a:pt x="639903" y="122540"/>
                  </a:cubicBezTo>
                  <a:cubicBezTo>
                    <a:pt x="640421" y="115826"/>
                    <a:pt x="640829" y="108556"/>
                    <a:pt x="641129" y="100728"/>
                  </a:cubicBezTo>
                  <a:cubicBezTo>
                    <a:pt x="641428" y="92900"/>
                    <a:pt x="641784" y="85528"/>
                    <a:pt x="642198" y="78613"/>
                  </a:cubicBezTo>
                  <a:cubicBezTo>
                    <a:pt x="642611" y="71698"/>
                    <a:pt x="642901" y="66918"/>
                    <a:pt x="643068" y="64274"/>
                  </a:cubicBezTo>
                  <a:cubicBezTo>
                    <a:pt x="643425" y="60611"/>
                    <a:pt x="644446" y="57295"/>
                    <a:pt x="646133" y="54325"/>
                  </a:cubicBezTo>
                  <a:cubicBezTo>
                    <a:pt x="647820" y="51355"/>
                    <a:pt x="650695" y="49843"/>
                    <a:pt x="654758" y="49787"/>
                  </a:cubicBezTo>
                  <a:cubicBezTo>
                    <a:pt x="661260" y="49698"/>
                    <a:pt x="664556" y="52905"/>
                    <a:pt x="664645" y="59406"/>
                  </a:cubicBezTo>
                  <a:cubicBezTo>
                    <a:pt x="664723" y="65096"/>
                    <a:pt x="664393" y="70688"/>
                    <a:pt x="663655" y="76185"/>
                  </a:cubicBezTo>
                  <a:cubicBezTo>
                    <a:pt x="662917" y="81682"/>
                    <a:pt x="662589" y="87377"/>
                    <a:pt x="662669" y="93269"/>
                  </a:cubicBezTo>
                  <a:cubicBezTo>
                    <a:pt x="662678" y="93879"/>
                    <a:pt x="662789" y="94589"/>
                    <a:pt x="663003" y="95399"/>
                  </a:cubicBezTo>
                  <a:cubicBezTo>
                    <a:pt x="663218" y="96208"/>
                    <a:pt x="663833" y="96606"/>
                    <a:pt x="664849" y="96593"/>
                  </a:cubicBezTo>
                  <a:lnTo>
                    <a:pt x="707821" y="96004"/>
                  </a:lnTo>
                  <a:cubicBezTo>
                    <a:pt x="709447" y="95982"/>
                    <a:pt x="710307" y="95716"/>
                    <a:pt x="710402" y="95207"/>
                  </a:cubicBezTo>
                  <a:cubicBezTo>
                    <a:pt x="710496" y="94698"/>
                    <a:pt x="710535" y="93834"/>
                    <a:pt x="710519" y="92614"/>
                  </a:cubicBezTo>
                  <a:cubicBezTo>
                    <a:pt x="710457" y="88145"/>
                    <a:pt x="710089" y="83476"/>
                    <a:pt x="709412" y="78607"/>
                  </a:cubicBezTo>
                  <a:cubicBezTo>
                    <a:pt x="708945" y="74143"/>
                    <a:pt x="708679" y="69574"/>
                    <a:pt x="708615" y="64901"/>
                  </a:cubicBezTo>
                  <a:cubicBezTo>
                    <a:pt x="708587" y="62869"/>
                    <a:pt x="708553" y="60380"/>
                    <a:pt x="708513" y="57434"/>
                  </a:cubicBezTo>
                  <a:cubicBezTo>
                    <a:pt x="708473" y="54488"/>
                    <a:pt x="708686" y="51539"/>
                    <a:pt x="709154" y="48586"/>
                  </a:cubicBezTo>
                  <a:cubicBezTo>
                    <a:pt x="709622" y="45632"/>
                    <a:pt x="710603" y="43130"/>
                    <a:pt x="712099" y="41077"/>
                  </a:cubicBezTo>
                  <a:cubicBezTo>
                    <a:pt x="713596" y="39024"/>
                    <a:pt x="715969" y="37975"/>
                    <a:pt x="719220" y="37931"/>
                  </a:cubicBezTo>
                  <a:close/>
                  <a:moveTo>
                    <a:pt x="1115627" y="47443"/>
                  </a:moveTo>
                  <a:cubicBezTo>
                    <a:pt x="1118277" y="48016"/>
                    <a:pt x="1120579" y="49204"/>
                    <a:pt x="1122534" y="51006"/>
                  </a:cubicBezTo>
                  <a:cubicBezTo>
                    <a:pt x="1124490" y="52808"/>
                    <a:pt x="1125490" y="55335"/>
                    <a:pt x="1125534" y="58586"/>
                  </a:cubicBezTo>
                  <a:cubicBezTo>
                    <a:pt x="1125554" y="60008"/>
                    <a:pt x="1125466" y="61025"/>
                    <a:pt x="1125271" y="61637"/>
                  </a:cubicBezTo>
                  <a:cubicBezTo>
                    <a:pt x="1125285" y="62653"/>
                    <a:pt x="1124995" y="63775"/>
                    <a:pt x="1124403" y="65002"/>
                  </a:cubicBezTo>
                  <a:cubicBezTo>
                    <a:pt x="1124208" y="65615"/>
                    <a:pt x="1123667" y="66943"/>
                    <a:pt x="1122781" y="68987"/>
                  </a:cubicBezTo>
                  <a:cubicBezTo>
                    <a:pt x="1121894" y="71032"/>
                    <a:pt x="1120907" y="73179"/>
                    <a:pt x="1119820" y="75429"/>
                  </a:cubicBezTo>
                  <a:cubicBezTo>
                    <a:pt x="1118734" y="77680"/>
                    <a:pt x="1117644" y="79778"/>
                    <a:pt x="1116553" y="81723"/>
                  </a:cubicBezTo>
                  <a:cubicBezTo>
                    <a:pt x="1115462" y="83669"/>
                    <a:pt x="1114818" y="84846"/>
                    <a:pt x="1114620" y="85255"/>
                  </a:cubicBezTo>
                  <a:cubicBezTo>
                    <a:pt x="1114428" y="86071"/>
                    <a:pt x="1113840" y="87653"/>
                    <a:pt x="1112856" y="90004"/>
                  </a:cubicBezTo>
                  <a:cubicBezTo>
                    <a:pt x="1111873" y="92355"/>
                    <a:pt x="1110841" y="94909"/>
                    <a:pt x="1109761" y="97667"/>
                  </a:cubicBezTo>
                  <a:cubicBezTo>
                    <a:pt x="1108681" y="100425"/>
                    <a:pt x="1107547" y="102930"/>
                    <a:pt x="1106358" y="105182"/>
                  </a:cubicBezTo>
                  <a:cubicBezTo>
                    <a:pt x="1105579" y="107631"/>
                    <a:pt x="1105091" y="109162"/>
                    <a:pt x="1104897" y="109774"/>
                  </a:cubicBezTo>
                  <a:cubicBezTo>
                    <a:pt x="1104103" y="111208"/>
                    <a:pt x="1103412" y="112640"/>
                    <a:pt x="1102822" y="114070"/>
                  </a:cubicBezTo>
                  <a:cubicBezTo>
                    <a:pt x="1102237" y="115907"/>
                    <a:pt x="1101345" y="117545"/>
                    <a:pt x="1100146" y="118984"/>
                  </a:cubicBezTo>
                  <a:cubicBezTo>
                    <a:pt x="1099355" y="120621"/>
                    <a:pt x="1098205" y="122008"/>
                    <a:pt x="1096697" y="123147"/>
                  </a:cubicBezTo>
                  <a:cubicBezTo>
                    <a:pt x="1095188" y="124285"/>
                    <a:pt x="1093520" y="124867"/>
                    <a:pt x="1091691" y="124892"/>
                  </a:cubicBezTo>
                  <a:cubicBezTo>
                    <a:pt x="1088440" y="124936"/>
                    <a:pt x="1086040" y="124055"/>
                    <a:pt x="1084491" y="122247"/>
                  </a:cubicBezTo>
                  <a:cubicBezTo>
                    <a:pt x="1082943" y="120439"/>
                    <a:pt x="1082149" y="118113"/>
                    <a:pt x="1082110" y="115268"/>
                  </a:cubicBezTo>
                  <a:cubicBezTo>
                    <a:pt x="1082085" y="113440"/>
                    <a:pt x="1082065" y="112017"/>
                    <a:pt x="1082051" y="111002"/>
                  </a:cubicBezTo>
                  <a:cubicBezTo>
                    <a:pt x="1082246" y="110389"/>
                    <a:pt x="1082636" y="109164"/>
                    <a:pt x="1083220" y="107328"/>
                  </a:cubicBezTo>
                  <a:cubicBezTo>
                    <a:pt x="1084014" y="105894"/>
                    <a:pt x="1084996" y="103442"/>
                    <a:pt x="1086168" y="99971"/>
                  </a:cubicBezTo>
                  <a:cubicBezTo>
                    <a:pt x="1087549" y="96904"/>
                    <a:pt x="1089077" y="93479"/>
                    <a:pt x="1090752" y="89697"/>
                  </a:cubicBezTo>
                  <a:cubicBezTo>
                    <a:pt x="1092428" y="85914"/>
                    <a:pt x="1093903" y="82338"/>
                    <a:pt x="1095178" y="78967"/>
                  </a:cubicBezTo>
                  <a:cubicBezTo>
                    <a:pt x="1096453" y="75597"/>
                    <a:pt x="1097488" y="73296"/>
                    <a:pt x="1098284" y="72066"/>
                  </a:cubicBezTo>
                  <a:lnTo>
                    <a:pt x="1098259" y="70238"/>
                  </a:lnTo>
                  <a:cubicBezTo>
                    <a:pt x="1095618" y="70274"/>
                    <a:pt x="1091147" y="70284"/>
                    <a:pt x="1084847" y="70269"/>
                  </a:cubicBezTo>
                  <a:cubicBezTo>
                    <a:pt x="1078547" y="70253"/>
                    <a:pt x="1071790" y="70244"/>
                    <a:pt x="1064575" y="70241"/>
                  </a:cubicBezTo>
                  <a:cubicBezTo>
                    <a:pt x="1057361" y="70238"/>
                    <a:pt x="1050604" y="70229"/>
                    <a:pt x="1044304" y="70214"/>
                  </a:cubicBezTo>
                  <a:cubicBezTo>
                    <a:pt x="1038004" y="70198"/>
                    <a:pt x="1033635" y="70208"/>
                    <a:pt x="1031197" y="70241"/>
                  </a:cubicBezTo>
                  <a:cubicBezTo>
                    <a:pt x="1027136" y="70500"/>
                    <a:pt x="1021551" y="70779"/>
                    <a:pt x="1014443" y="71080"/>
                  </a:cubicBezTo>
                  <a:cubicBezTo>
                    <a:pt x="1007743" y="71578"/>
                    <a:pt x="1000841" y="72130"/>
                    <a:pt x="993737" y="72735"/>
                  </a:cubicBezTo>
                  <a:cubicBezTo>
                    <a:pt x="986633" y="73340"/>
                    <a:pt x="980339" y="73833"/>
                    <a:pt x="974858" y="74213"/>
                  </a:cubicBezTo>
                  <a:cubicBezTo>
                    <a:pt x="969376" y="74592"/>
                    <a:pt x="966229" y="74788"/>
                    <a:pt x="965416" y="74799"/>
                  </a:cubicBezTo>
                  <a:lnTo>
                    <a:pt x="937753" y="80360"/>
                  </a:lnTo>
                  <a:cubicBezTo>
                    <a:pt x="936943" y="80574"/>
                    <a:pt x="936543" y="81037"/>
                    <a:pt x="936552" y="81748"/>
                  </a:cubicBezTo>
                  <a:cubicBezTo>
                    <a:pt x="936562" y="82459"/>
                    <a:pt x="936570" y="83018"/>
                    <a:pt x="936575" y="83424"/>
                  </a:cubicBezTo>
                  <a:cubicBezTo>
                    <a:pt x="936648" y="88707"/>
                    <a:pt x="937175" y="93831"/>
                    <a:pt x="938158" y="98796"/>
                  </a:cubicBezTo>
                  <a:cubicBezTo>
                    <a:pt x="939140" y="103762"/>
                    <a:pt x="939667" y="108886"/>
                    <a:pt x="939740" y="114169"/>
                  </a:cubicBezTo>
                  <a:cubicBezTo>
                    <a:pt x="939779" y="117013"/>
                    <a:pt x="938847" y="119464"/>
                    <a:pt x="936945" y="121523"/>
                  </a:cubicBezTo>
                  <a:cubicBezTo>
                    <a:pt x="935042" y="123581"/>
                    <a:pt x="932567" y="124631"/>
                    <a:pt x="929519" y="124673"/>
                  </a:cubicBezTo>
                  <a:cubicBezTo>
                    <a:pt x="927488" y="124700"/>
                    <a:pt x="925803" y="124165"/>
                    <a:pt x="924468" y="123065"/>
                  </a:cubicBezTo>
                  <a:cubicBezTo>
                    <a:pt x="923132" y="121966"/>
                    <a:pt x="921995" y="120609"/>
                    <a:pt x="921059" y="118997"/>
                  </a:cubicBezTo>
                  <a:cubicBezTo>
                    <a:pt x="920122" y="117384"/>
                    <a:pt x="919387" y="115616"/>
                    <a:pt x="918852" y="113692"/>
                  </a:cubicBezTo>
                  <a:cubicBezTo>
                    <a:pt x="918318" y="111769"/>
                    <a:pt x="918041" y="110096"/>
                    <a:pt x="918022" y="108674"/>
                  </a:cubicBezTo>
                  <a:cubicBezTo>
                    <a:pt x="917788" y="106442"/>
                    <a:pt x="917437" y="103093"/>
                    <a:pt x="916970" y="98629"/>
                  </a:cubicBezTo>
                  <a:cubicBezTo>
                    <a:pt x="916502" y="94165"/>
                    <a:pt x="915928" y="89295"/>
                    <a:pt x="915246" y="84021"/>
                  </a:cubicBezTo>
                  <a:cubicBezTo>
                    <a:pt x="914973" y="78944"/>
                    <a:pt x="914654" y="74224"/>
                    <a:pt x="914290" y="69859"/>
                  </a:cubicBezTo>
                  <a:cubicBezTo>
                    <a:pt x="913925" y="65495"/>
                    <a:pt x="913730" y="62399"/>
                    <a:pt x="913705" y="60570"/>
                  </a:cubicBezTo>
                  <a:cubicBezTo>
                    <a:pt x="913499" y="60370"/>
                    <a:pt x="913384" y="59355"/>
                    <a:pt x="913359" y="57527"/>
                  </a:cubicBezTo>
                  <a:cubicBezTo>
                    <a:pt x="913334" y="55698"/>
                    <a:pt x="913316" y="54377"/>
                    <a:pt x="913305" y="53564"/>
                  </a:cubicBezTo>
                  <a:cubicBezTo>
                    <a:pt x="913252" y="49704"/>
                    <a:pt x="913815" y="46343"/>
                    <a:pt x="914996" y="43482"/>
                  </a:cubicBezTo>
                  <a:cubicBezTo>
                    <a:pt x="916579" y="40412"/>
                    <a:pt x="919606" y="38847"/>
                    <a:pt x="924076" y="38785"/>
                  </a:cubicBezTo>
                  <a:cubicBezTo>
                    <a:pt x="926514" y="38752"/>
                    <a:pt x="928402" y="39285"/>
                    <a:pt x="929738" y="40384"/>
                  </a:cubicBezTo>
                  <a:cubicBezTo>
                    <a:pt x="931073" y="41484"/>
                    <a:pt x="932109" y="42892"/>
                    <a:pt x="932844" y="44610"/>
                  </a:cubicBezTo>
                  <a:cubicBezTo>
                    <a:pt x="933578" y="46327"/>
                    <a:pt x="934061" y="48200"/>
                    <a:pt x="934292" y="50229"/>
                  </a:cubicBezTo>
                  <a:cubicBezTo>
                    <a:pt x="934523" y="52258"/>
                    <a:pt x="934653" y="54289"/>
                    <a:pt x="934680" y="56320"/>
                  </a:cubicBezTo>
                  <a:lnTo>
                    <a:pt x="936225" y="57823"/>
                  </a:lnTo>
                  <a:lnTo>
                    <a:pt x="939882" y="57773"/>
                  </a:lnTo>
                  <a:cubicBezTo>
                    <a:pt x="944759" y="57706"/>
                    <a:pt x="949730" y="57130"/>
                    <a:pt x="954795" y="56045"/>
                  </a:cubicBezTo>
                  <a:cubicBezTo>
                    <a:pt x="960270" y="55157"/>
                    <a:pt x="964932" y="54281"/>
                    <a:pt x="968781" y="53415"/>
                  </a:cubicBezTo>
                  <a:cubicBezTo>
                    <a:pt x="972030" y="53167"/>
                    <a:pt x="976801" y="52899"/>
                    <a:pt x="983097" y="52609"/>
                  </a:cubicBezTo>
                  <a:cubicBezTo>
                    <a:pt x="989802" y="52518"/>
                    <a:pt x="997216" y="52213"/>
                    <a:pt x="1005337" y="51695"/>
                  </a:cubicBezTo>
                  <a:cubicBezTo>
                    <a:pt x="1013868" y="51375"/>
                    <a:pt x="1022501" y="51054"/>
                    <a:pt x="1031235" y="50731"/>
                  </a:cubicBezTo>
                  <a:cubicBezTo>
                    <a:pt x="1040375" y="50403"/>
                    <a:pt x="1049005" y="49878"/>
                    <a:pt x="1057124" y="49158"/>
                  </a:cubicBezTo>
                  <a:cubicBezTo>
                    <a:pt x="1065654" y="48838"/>
                    <a:pt x="1073068" y="48533"/>
                    <a:pt x="1079363" y="48244"/>
                  </a:cubicBezTo>
                  <a:cubicBezTo>
                    <a:pt x="1086068" y="48152"/>
                    <a:pt x="1090943" y="47983"/>
                    <a:pt x="1093988" y="47739"/>
                  </a:cubicBezTo>
                  <a:lnTo>
                    <a:pt x="1104655" y="47593"/>
                  </a:lnTo>
                  <a:close/>
                  <a:moveTo>
                    <a:pt x="996095" y="1"/>
                  </a:moveTo>
                  <a:cubicBezTo>
                    <a:pt x="998126" y="-27"/>
                    <a:pt x="1000883" y="901"/>
                    <a:pt x="1004363" y="2784"/>
                  </a:cubicBezTo>
                  <a:cubicBezTo>
                    <a:pt x="1007844" y="4667"/>
                    <a:pt x="1011127" y="7009"/>
                    <a:pt x="1014214" y="9812"/>
                  </a:cubicBezTo>
                  <a:cubicBezTo>
                    <a:pt x="1017707" y="12610"/>
                    <a:pt x="1020590" y="15415"/>
                    <a:pt x="1022864" y="18229"/>
                  </a:cubicBezTo>
                  <a:cubicBezTo>
                    <a:pt x="1025550" y="21444"/>
                    <a:pt x="1026907" y="24067"/>
                    <a:pt x="1026935" y="26099"/>
                  </a:cubicBezTo>
                  <a:cubicBezTo>
                    <a:pt x="1026979" y="29350"/>
                    <a:pt x="1025995" y="31649"/>
                    <a:pt x="1023981" y="32998"/>
                  </a:cubicBezTo>
                  <a:cubicBezTo>
                    <a:pt x="1021967" y="34347"/>
                    <a:pt x="1019538" y="35040"/>
                    <a:pt x="1016694" y="35079"/>
                  </a:cubicBezTo>
                  <a:cubicBezTo>
                    <a:pt x="1014865" y="35104"/>
                    <a:pt x="1012261" y="34175"/>
                    <a:pt x="1008882" y="32290"/>
                  </a:cubicBezTo>
                  <a:cubicBezTo>
                    <a:pt x="1005503" y="30406"/>
                    <a:pt x="1001967" y="28168"/>
                    <a:pt x="998274" y="25577"/>
                  </a:cubicBezTo>
                  <a:cubicBezTo>
                    <a:pt x="994580" y="22985"/>
                    <a:pt x="991292" y="20287"/>
                    <a:pt x="988408" y="17481"/>
                  </a:cubicBezTo>
                  <a:cubicBezTo>
                    <a:pt x="985931" y="14670"/>
                    <a:pt x="984679" y="12249"/>
                    <a:pt x="984651" y="10217"/>
                  </a:cubicBezTo>
                  <a:cubicBezTo>
                    <a:pt x="984609" y="7169"/>
                    <a:pt x="985694" y="4716"/>
                    <a:pt x="987903" y="2857"/>
                  </a:cubicBezTo>
                  <a:cubicBezTo>
                    <a:pt x="990520" y="992"/>
                    <a:pt x="993250" y="40"/>
                    <a:pt x="99609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组合 31" descr=""/>
          <p:cNvPicPr/>
          <p:nvPr/>
        </p:nvPicPr>
        <p:blipFill>
          <a:blip r:embed="rId11"/>
          <a:stretch/>
        </p:blipFill>
        <p:spPr>
          <a:xfrm>
            <a:off x="2168640" y="1643040"/>
            <a:ext cx="5607000" cy="14875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4" descr=""/>
          <p:cNvPicPr/>
          <p:nvPr/>
        </p:nvPicPr>
        <p:blipFill>
          <a:blip r:embed="rId12"/>
          <a:stretch/>
        </p:blipFill>
        <p:spPr>
          <a:xfrm>
            <a:off x="571680" y="496800"/>
            <a:ext cx="135864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5" descr="01捉"/>
          <p:cNvPicPr/>
          <p:nvPr/>
        </p:nvPicPr>
        <p:blipFill>
          <a:blip r:embed="rId1"/>
          <a:stretch/>
        </p:blipFill>
        <p:spPr>
          <a:xfrm>
            <a:off x="498600" y="1114560"/>
            <a:ext cx="2762280" cy="276228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8"/>
          <p:cNvSpPr/>
          <p:nvPr/>
        </p:nvSpPr>
        <p:spPr>
          <a:xfrm>
            <a:off x="865080" y="100080"/>
            <a:ext cx="202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宋体"/>
                <a:ea typeface="宋体"/>
              </a:rPr>
              <a:t>zhu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4" descr=""/>
          <p:cNvPicPr/>
          <p:nvPr/>
        </p:nvPicPr>
        <p:blipFill>
          <a:blip r:embed="rId2"/>
          <a:srcRect l="0" t="0" r="2047" b="0"/>
          <a:stretch/>
        </p:blipFill>
        <p:spPr>
          <a:xfrm>
            <a:off x="2646360" y="4027320"/>
            <a:ext cx="3889440" cy="57312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2"/>
          <p:cNvSpPr/>
          <p:nvPr/>
        </p:nvSpPr>
        <p:spPr>
          <a:xfrm>
            <a:off x="4168800" y="1192320"/>
            <a:ext cx="2762280" cy="25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构：</a:t>
            </a:r>
            <a:r>
              <a:rPr b="1" lang="zh-CN" sz="2800" spc="-1" strike="noStrike">
                <a:solidFill>
                  <a:srgbClr val="ee1a20"/>
                </a:solidFill>
                <a:latin typeface="宋体"/>
                <a:ea typeface="宋体"/>
              </a:rPr>
              <a:t>左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词：</a:t>
            </a:r>
            <a:r>
              <a:rPr b="1" lang="zh-CN" sz="2800" spc="-1" strike="noStrike">
                <a:solidFill>
                  <a:srgbClr val="ee1a20"/>
                </a:solidFill>
                <a:latin typeface="宋体"/>
                <a:ea typeface="宋体"/>
              </a:rPr>
              <a:t>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ee1a20"/>
                </a:solidFill>
                <a:latin typeface="宋体"/>
                <a:ea typeface="宋体"/>
              </a:rPr>
              <a:t>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2"/>
          <p:cNvSpPr/>
          <p:nvPr/>
        </p:nvSpPr>
        <p:spPr>
          <a:xfrm>
            <a:off x="1420920" y="3968640"/>
            <a:ext cx="133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笔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" descr=""/>
          <p:cNvPicPr/>
          <p:nvPr/>
        </p:nvPicPr>
        <p:blipFill>
          <a:blip r:embed="rId3"/>
          <a:stretch/>
        </p:blipFill>
        <p:spPr>
          <a:xfrm>
            <a:off x="5357880" y="1428840"/>
            <a:ext cx="198360" cy="36828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1"/>
          <p:cNvGrpSpPr/>
          <p:nvPr/>
        </p:nvGrpSpPr>
        <p:grpSpPr>
          <a:xfrm>
            <a:off x="7192800" y="1380960"/>
            <a:ext cx="1241640" cy="1882800"/>
            <a:chOff x="7192800" y="1380960"/>
            <a:chExt cx="1241640" cy="1882800"/>
          </a:xfrm>
        </p:grpSpPr>
        <p:pic>
          <p:nvPicPr>
            <p:cNvPr id="58" name="图片 10" descr=""/>
            <p:cNvPicPr/>
            <p:nvPr/>
          </p:nvPicPr>
          <p:blipFill>
            <a:blip r:embed="rId4"/>
            <a:stretch/>
          </p:blipFill>
          <p:spPr>
            <a:xfrm>
              <a:off x="7192800" y="1726920"/>
              <a:ext cx="12416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任意多边形: 形状 14">
              <a:hlinkClick r:id="" action="ppaction://hlinkshowjump?jump=firstslide"/>
            </p:cNvPr>
            <p:cNvSpPr/>
            <p:nvPr/>
          </p:nvSpPr>
          <p:spPr>
            <a:xfrm>
              <a:off x="7276680" y="1380960"/>
              <a:ext cx="1081440" cy="369720"/>
            </a:xfrm>
            <a:custGeom>
              <a:avLst/>
              <a:gdLst/>
              <a:ahLst/>
              <a:rect l="l" t="t" r="r" b="b"/>
              <a:pathLst>
                <a:path w="1081039" h="370198">
                  <a:moveTo>
                    <a:pt x="610032" y="293857"/>
                  </a:moveTo>
                  <a:cubicBezTo>
                    <a:pt x="606056" y="293857"/>
                    <a:pt x="599112" y="293992"/>
                    <a:pt x="589201" y="294260"/>
                  </a:cubicBezTo>
                  <a:cubicBezTo>
                    <a:pt x="579824" y="294529"/>
                    <a:pt x="569616" y="294796"/>
                    <a:pt x="558579" y="295060"/>
                  </a:cubicBezTo>
                  <a:cubicBezTo>
                    <a:pt x="547832" y="295862"/>
                    <a:pt x="537584" y="296396"/>
                    <a:pt x="527835" y="296660"/>
                  </a:cubicBezTo>
                  <a:cubicBezTo>
                    <a:pt x="518087" y="296925"/>
                    <a:pt x="511158" y="297196"/>
                    <a:pt x="507050" y="297473"/>
                  </a:cubicBezTo>
                  <a:cubicBezTo>
                    <a:pt x="506090" y="297473"/>
                    <a:pt x="503871" y="297675"/>
                    <a:pt x="500394" y="298078"/>
                  </a:cubicBezTo>
                  <a:cubicBezTo>
                    <a:pt x="496917" y="298481"/>
                    <a:pt x="494470" y="298749"/>
                    <a:pt x="493054" y="298881"/>
                  </a:cubicBezTo>
                  <a:cubicBezTo>
                    <a:pt x="491637" y="299013"/>
                    <a:pt x="490572" y="299216"/>
                    <a:pt x="489857" y="299489"/>
                  </a:cubicBezTo>
                  <a:cubicBezTo>
                    <a:pt x="489142" y="299762"/>
                    <a:pt x="488913" y="299579"/>
                    <a:pt x="489169" y="298939"/>
                  </a:cubicBezTo>
                  <a:lnTo>
                    <a:pt x="489169" y="309850"/>
                  </a:lnTo>
                  <a:lnTo>
                    <a:pt x="489169" y="321209"/>
                  </a:lnTo>
                  <a:cubicBezTo>
                    <a:pt x="489382" y="322903"/>
                    <a:pt x="489608" y="325261"/>
                    <a:pt x="489847" y="328284"/>
                  </a:cubicBezTo>
                  <a:cubicBezTo>
                    <a:pt x="490086" y="331307"/>
                    <a:pt x="490118" y="332731"/>
                    <a:pt x="489943" y="332556"/>
                  </a:cubicBezTo>
                  <a:lnTo>
                    <a:pt x="490103" y="332684"/>
                  </a:lnTo>
                  <a:lnTo>
                    <a:pt x="501949" y="332684"/>
                  </a:lnTo>
                  <a:cubicBezTo>
                    <a:pt x="522735" y="332684"/>
                    <a:pt x="542638" y="332349"/>
                    <a:pt x="561657" y="331679"/>
                  </a:cubicBezTo>
                  <a:cubicBezTo>
                    <a:pt x="580677" y="331009"/>
                    <a:pt x="598248" y="330674"/>
                    <a:pt x="614371" y="330674"/>
                  </a:cubicBezTo>
                  <a:cubicBezTo>
                    <a:pt x="614371" y="326596"/>
                    <a:pt x="613840" y="320836"/>
                    <a:pt x="612777" y="313395"/>
                  </a:cubicBezTo>
                  <a:lnTo>
                    <a:pt x="610934" y="293857"/>
                  </a:lnTo>
                  <a:close/>
                  <a:moveTo>
                    <a:pt x="552935" y="248855"/>
                  </a:moveTo>
                  <a:cubicBezTo>
                    <a:pt x="542192" y="248855"/>
                    <a:pt x="530385" y="249380"/>
                    <a:pt x="517513" y="250430"/>
                  </a:cubicBezTo>
                  <a:cubicBezTo>
                    <a:pt x="515094" y="250967"/>
                    <a:pt x="512009" y="251376"/>
                    <a:pt x="508259" y="251655"/>
                  </a:cubicBezTo>
                  <a:cubicBezTo>
                    <a:pt x="504509" y="251934"/>
                    <a:pt x="501038" y="252208"/>
                    <a:pt x="497847" y="252474"/>
                  </a:cubicBezTo>
                  <a:cubicBezTo>
                    <a:pt x="494656" y="252741"/>
                    <a:pt x="491742" y="253009"/>
                    <a:pt x="489105" y="253277"/>
                  </a:cubicBezTo>
                  <a:lnTo>
                    <a:pt x="487563" y="253452"/>
                  </a:lnTo>
                  <a:lnTo>
                    <a:pt x="487563" y="263171"/>
                  </a:lnTo>
                  <a:lnTo>
                    <a:pt x="490295" y="263171"/>
                  </a:lnTo>
                  <a:cubicBezTo>
                    <a:pt x="494681" y="263171"/>
                    <a:pt x="498549" y="262923"/>
                    <a:pt x="501898" y="262426"/>
                  </a:cubicBezTo>
                  <a:cubicBezTo>
                    <a:pt x="505247" y="261929"/>
                    <a:pt x="509569" y="261241"/>
                    <a:pt x="514863" y="260362"/>
                  </a:cubicBezTo>
                  <a:lnTo>
                    <a:pt x="611171" y="260362"/>
                  </a:lnTo>
                  <a:lnTo>
                    <a:pt x="612765" y="249207"/>
                  </a:lnTo>
                  <a:lnTo>
                    <a:pt x="612406" y="248855"/>
                  </a:lnTo>
                  <a:lnTo>
                    <a:pt x="589937" y="248855"/>
                  </a:lnTo>
                  <a:cubicBezTo>
                    <a:pt x="576012" y="248855"/>
                    <a:pt x="563678" y="248855"/>
                    <a:pt x="552935" y="248855"/>
                  </a:cubicBezTo>
                  <a:close/>
                  <a:moveTo>
                    <a:pt x="606877" y="187381"/>
                  </a:moveTo>
                  <a:cubicBezTo>
                    <a:pt x="597504" y="187649"/>
                    <a:pt x="585863" y="187918"/>
                    <a:pt x="571954" y="188187"/>
                  </a:cubicBezTo>
                  <a:cubicBezTo>
                    <a:pt x="558046" y="188456"/>
                    <a:pt x="544530" y="188857"/>
                    <a:pt x="531406" y="189390"/>
                  </a:cubicBezTo>
                  <a:lnTo>
                    <a:pt x="485956" y="190553"/>
                  </a:lnTo>
                  <a:lnTo>
                    <a:pt x="485956" y="215660"/>
                  </a:lnTo>
                  <a:lnTo>
                    <a:pt x="486180" y="216166"/>
                  </a:lnTo>
                  <a:lnTo>
                    <a:pt x="493508" y="216166"/>
                  </a:lnTo>
                  <a:cubicBezTo>
                    <a:pt x="515433" y="216166"/>
                    <a:pt x="536226" y="215841"/>
                    <a:pt x="555888" y="215190"/>
                  </a:cubicBezTo>
                  <a:cubicBezTo>
                    <a:pt x="575550" y="214539"/>
                    <a:pt x="595149" y="214334"/>
                    <a:pt x="614685" y="214573"/>
                  </a:cubicBezTo>
                  <a:cubicBezTo>
                    <a:pt x="616886" y="204875"/>
                    <a:pt x="617987" y="195811"/>
                    <a:pt x="617987" y="187381"/>
                  </a:cubicBezTo>
                  <a:close/>
                  <a:moveTo>
                    <a:pt x="953994" y="177192"/>
                  </a:moveTo>
                  <a:cubicBezTo>
                    <a:pt x="965027" y="177192"/>
                    <a:pt x="970544" y="182572"/>
                    <a:pt x="970544" y="193332"/>
                  </a:cubicBezTo>
                  <a:cubicBezTo>
                    <a:pt x="970544" y="204514"/>
                    <a:pt x="969405" y="215396"/>
                    <a:pt x="967129" y="225977"/>
                  </a:cubicBezTo>
                  <a:cubicBezTo>
                    <a:pt x="964853" y="236557"/>
                    <a:pt x="963715" y="247104"/>
                    <a:pt x="963715" y="257616"/>
                  </a:cubicBezTo>
                  <a:lnTo>
                    <a:pt x="963715" y="258205"/>
                  </a:lnTo>
                  <a:lnTo>
                    <a:pt x="973481" y="267600"/>
                  </a:lnTo>
                  <a:cubicBezTo>
                    <a:pt x="973635" y="267907"/>
                    <a:pt x="975063" y="268883"/>
                    <a:pt x="977766" y="270528"/>
                  </a:cubicBezTo>
                  <a:cubicBezTo>
                    <a:pt x="980468" y="272172"/>
                    <a:pt x="983876" y="274270"/>
                    <a:pt x="987989" y="276822"/>
                  </a:cubicBezTo>
                  <a:cubicBezTo>
                    <a:pt x="992102" y="279373"/>
                    <a:pt x="996049" y="281888"/>
                    <a:pt x="999831" y="284367"/>
                  </a:cubicBezTo>
                  <a:cubicBezTo>
                    <a:pt x="1003614" y="286845"/>
                    <a:pt x="1006509" y="288639"/>
                    <a:pt x="1008519" y="289749"/>
                  </a:cubicBezTo>
                  <a:cubicBezTo>
                    <a:pt x="1009713" y="290342"/>
                    <a:pt x="1012657" y="291912"/>
                    <a:pt x="1017350" y="294459"/>
                  </a:cubicBezTo>
                  <a:cubicBezTo>
                    <a:pt x="1022043" y="297006"/>
                    <a:pt x="1026973" y="299572"/>
                    <a:pt x="1032140" y="302158"/>
                  </a:cubicBezTo>
                  <a:cubicBezTo>
                    <a:pt x="1037993" y="304820"/>
                    <a:pt x="1043143" y="307401"/>
                    <a:pt x="1047589" y="309901"/>
                  </a:cubicBezTo>
                  <a:cubicBezTo>
                    <a:pt x="1052452" y="312597"/>
                    <a:pt x="1055513" y="314321"/>
                    <a:pt x="1056772" y="315072"/>
                  </a:cubicBezTo>
                  <a:cubicBezTo>
                    <a:pt x="1059972" y="316527"/>
                    <a:pt x="1063142" y="318659"/>
                    <a:pt x="1066282" y="321468"/>
                  </a:cubicBezTo>
                  <a:cubicBezTo>
                    <a:pt x="1069422" y="324278"/>
                    <a:pt x="1070992" y="327958"/>
                    <a:pt x="1070992" y="332508"/>
                  </a:cubicBezTo>
                  <a:cubicBezTo>
                    <a:pt x="1070992" y="337058"/>
                    <a:pt x="1069663" y="341196"/>
                    <a:pt x="1067005" y="344923"/>
                  </a:cubicBezTo>
                  <a:cubicBezTo>
                    <a:pt x="1064347" y="348650"/>
                    <a:pt x="1060294" y="350513"/>
                    <a:pt x="1054846" y="350513"/>
                  </a:cubicBezTo>
                  <a:cubicBezTo>
                    <a:pt x="1052640" y="350513"/>
                    <a:pt x="1051096" y="350336"/>
                    <a:pt x="1050216" y="349982"/>
                  </a:cubicBezTo>
                  <a:cubicBezTo>
                    <a:pt x="1049334" y="349628"/>
                    <a:pt x="1048041" y="349169"/>
                    <a:pt x="1046334" y="348606"/>
                  </a:cubicBezTo>
                  <a:cubicBezTo>
                    <a:pt x="1044261" y="347416"/>
                    <a:pt x="1041010" y="345790"/>
                    <a:pt x="1036581" y="343729"/>
                  </a:cubicBezTo>
                  <a:cubicBezTo>
                    <a:pt x="1034695" y="342091"/>
                    <a:pt x="1030854" y="340058"/>
                    <a:pt x="1025056" y="337631"/>
                  </a:cubicBezTo>
                  <a:cubicBezTo>
                    <a:pt x="1019257" y="335203"/>
                    <a:pt x="1014344" y="332949"/>
                    <a:pt x="1010314" y="330869"/>
                  </a:cubicBezTo>
                  <a:cubicBezTo>
                    <a:pt x="1006284" y="328790"/>
                    <a:pt x="1003399" y="327459"/>
                    <a:pt x="1001659" y="326879"/>
                  </a:cubicBezTo>
                  <a:cubicBezTo>
                    <a:pt x="992925" y="322242"/>
                    <a:pt x="984615" y="316915"/>
                    <a:pt x="976729" y="310899"/>
                  </a:cubicBezTo>
                  <a:cubicBezTo>
                    <a:pt x="968842" y="304884"/>
                    <a:pt x="961066" y="300274"/>
                    <a:pt x="953399" y="297070"/>
                  </a:cubicBezTo>
                  <a:cubicBezTo>
                    <a:pt x="953245" y="297305"/>
                    <a:pt x="952898" y="298960"/>
                    <a:pt x="952356" y="302036"/>
                  </a:cubicBezTo>
                  <a:cubicBezTo>
                    <a:pt x="952100" y="306379"/>
                    <a:pt x="951691" y="311144"/>
                    <a:pt x="951130" y="316330"/>
                  </a:cubicBezTo>
                  <a:cubicBezTo>
                    <a:pt x="950569" y="321515"/>
                    <a:pt x="948996" y="326120"/>
                    <a:pt x="946411" y="330143"/>
                  </a:cubicBezTo>
                  <a:cubicBezTo>
                    <a:pt x="943509" y="335954"/>
                    <a:pt x="938403" y="338859"/>
                    <a:pt x="931090" y="338859"/>
                  </a:cubicBezTo>
                  <a:cubicBezTo>
                    <a:pt x="924716" y="338859"/>
                    <a:pt x="920238" y="336709"/>
                    <a:pt x="917657" y="332409"/>
                  </a:cubicBezTo>
                  <a:cubicBezTo>
                    <a:pt x="916381" y="329217"/>
                    <a:pt x="915744" y="325181"/>
                    <a:pt x="915744" y="320300"/>
                  </a:cubicBezTo>
                  <a:cubicBezTo>
                    <a:pt x="915744" y="319494"/>
                    <a:pt x="915744" y="317921"/>
                    <a:pt x="915744" y="315581"/>
                  </a:cubicBezTo>
                  <a:cubicBezTo>
                    <a:pt x="915744" y="313241"/>
                    <a:pt x="915963" y="311855"/>
                    <a:pt x="916403" y="311424"/>
                  </a:cubicBezTo>
                  <a:lnTo>
                    <a:pt x="934226" y="215961"/>
                  </a:lnTo>
                  <a:cubicBezTo>
                    <a:pt x="934226" y="213465"/>
                    <a:pt x="934226" y="210133"/>
                    <a:pt x="934226" y="205965"/>
                  </a:cubicBezTo>
                  <a:cubicBezTo>
                    <a:pt x="934226" y="201797"/>
                    <a:pt x="934663" y="197670"/>
                    <a:pt x="935538" y="193585"/>
                  </a:cubicBezTo>
                  <a:cubicBezTo>
                    <a:pt x="936412" y="189500"/>
                    <a:pt x="938220" y="185747"/>
                    <a:pt x="940961" y="182325"/>
                  </a:cubicBezTo>
                  <a:cubicBezTo>
                    <a:pt x="943703" y="178903"/>
                    <a:pt x="948047" y="177192"/>
                    <a:pt x="953994" y="177192"/>
                  </a:cubicBezTo>
                  <a:close/>
                  <a:moveTo>
                    <a:pt x="105024" y="162070"/>
                  </a:moveTo>
                  <a:lnTo>
                    <a:pt x="105024" y="162793"/>
                  </a:lnTo>
                  <a:cubicBezTo>
                    <a:pt x="105024" y="163177"/>
                    <a:pt x="105080" y="163881"/>
                    <a:pt x="105193" y="164905"/>
                  </a:cubicBezTo>
                  <a:cubicBezTo>
                    <a:pt x="105306" y="165929"/>
                    <a:pt x="105423" y="167043"/>
                    <a:pt x="105542" y="168246"/>
                  </a:cubicBezTo>
                  <a:cubicBezTo>
                    <a:pt x="105662" y="169449"/>
                    <a:pt x="105862" y="170645"/>
                    <a:pt x="106144" y="171833"/>
                  </a:cubicBezTo>
                  <a:cubicBezTo>
                    <a:pt x="106425" y="173021"/>
                    <a:pt x="106587" y="173892"/>
                    <a:pt x="106630" y="174447"/>
                  </a:cubicBezTo>
                  <a:cubicBezTo>
                    <a:pt x="106630" y="176619"/>
                    <a:pt x="106816" y="179805"/>
                    <a:pt x="107187" y="184005"/>
                  </a:cubicBezTo>
                  <a:cubicBezTo>
                    <a:pt x="107558" y="188205"/>
                    <a:pt x="107876" y="192571"/>
                    <a:pt x="108140" y="197102"/>
                  </a:cubicBezTo>
                  <a:cubicBezTo>
                    <a:pt x="108682" y="202486"/>
                    <a:pt x="109096" y="207324"/>
                    <a:pt x="109382" y="211616"/>
                  </a:cubicBezTo>
                  <a:cubicBezTo>
                    <a:pt x="109689" y="216876"/>
                    <a:pt x="109843" y="219865"/>
                    <a:pt x="109843" y="220582"/>
                  </a:cubicBezTo>
                  <a:lnTo>
                    <a:pt x="110271" y="221267"/>
                  </a:lnTo>
                  <a:cubicBezTo>
                    <a:pt x="110271" y="221267"/>
                    <a:pt x="111194" y="221364"/>
                    <a:pt x="113039" y="221558"/>
                  </a:cubicBezTo>
                  <a:cubicBezTo>
                    <a:pt x="114884" y="221752"/>
                    <a:pt x="117682" y="222057"/>
                    <a:pt x="121432" y="222473"/>
                  </a:cubicBezTo>
                  <a:cubicBezTo>
                    <a:pt x="125182" y="222889"/>
                    <a:pt x="128613" y="223216"/>
                    <a:pt x="131723" y="223455"/>
                  </a:cubicBezTo>
                  <a:cubicBezTo>
                    <a:pt x="136040" y="223745"/>
                    <a:pt x="139274" y="224127"/>
                    <a:pt x="141425" y="224601"/>
                  </a:cubicBezTo>
                  <a:lnTo>
                    <a:pt x="146333" y="224601"/>
                  </a:lnTo>
                  <a:cubicBezTo>
                    <a:pt x="146231" y="224601"/>
                    <a:pt x="146619" y="224600"/>
                    <a:pt x="147498" y="224597"/>
                  </a:cubicBezTo>
                  <a:cubicBezTo>
                    <a:pt x="148377" y="224595"/>
                    <a:pt x="148765" y="224963"/>
                    <a:pt x="148663" y="225701"/>
                  </a:cubicBezTo>
                  <a:cubicBezTo>
                    <a:pt x="148663" y="223905"/>
                    <a:pt x="148730" y="220195"/>
                    <a:pt x="148864" y="214569"/>
                  </a:cubicBezTo>
                  <a:cubicBezTo>
                    <a:pt x="148999" y="208944"/>
                    <a:pt x="149133" y="202851"/>
                    <a:pt x="149267" y="196289"/>
                  </a:cubicBezTo>
                  <a:cubicBezTo>
                    <a:pt x="149402" y="189727"/>
                    <a:pt x="149535" y="183706"/>
                    <a:pt x="149667" y="178226"/>
                  </a:cubicBezTo>
                  <a:cubicBezTo>
                    <a:pt x="149800" y="172746"/>
                    <a:pt x="149866" y="168807"/>
                    <a:pt x="149866" y="166409"/>
                  </a:cubicBezTo>
                  <a:lnTo>
                    <a:pt x="149866" y="165609"/>
                  </a:lnTo>
                  <a:cubicBezTo>
                    <a:pt x="149866" y="165289"/>
                    <a:pt x="149436" y="164866"/>
                    <a:pt x="148576" y="164339"/>
                  </a:cubicBezTo>
                  <a:cubicBezTo>
                    <a:pt x="147717" y="163812"/>
                    <a:pt x="146120" y="163364"/>
                    <a:pt x="143786" y="162995"/>
                  </a:cubicBezTo>
                  <a:cubicBezTo>
                    <a:pt x="141452" y="162626"/>
                    <a:pt x="139195" y="162379"/>
                    <a:pt x="137015" y="162256"/>
                  </a:cubicBezTo>
                  <a:cubicBezTo>
                    <a:pt x="134835" y="162132"/>
                    <a:pt x="133252" y="162070"/>
                    <a:pt x="132267" y="162070"/>
                  </a:cubicBezTo>
                  <a:lnTo>
                    <a:pt x="117401" y="162070"/>
                  </a:lnTo>
                  <a:close/>
                  <a:moveTo>
                    <a:pt x="101389" y="125362"/>
                  </a:moveTo>
                  <a:cubicBezTo>
                    <a:pt x="105689" y="125626"/>
                    <a:pt x="109286" y="125759"/>
                    <a:pt x="112178" y="125759"/>
                  </a:cubicBezTo>
                  <a:lnTo>
                    <a:pt x="127448" y="125759"/>
                  </a:lnTo>
                  <a:cubicBezTo>
                    <a:pt x="127589" y="125759"/>
                    <a:pt x="129304" y="125923"/>
                    <a:pt x="132593" y="126251"/>
                  </a:cubicBezTo>
                  <a:cubicBezTo>
                    <a:pt x="135546" y="127058"/>
                    <a:pt x="138961" y="127669"/>
                    <a:pt x="142839" y="128085"/>
                  </a:cubicBezTo>
                  <a:cubicBezTo>
                    <a:pt x="146717" y="128501"/>
                    <a:pt x="150443" y="128965"/>
                    <a:pt x="154016" y="129477"/>
                  </a:cubicBezTo>
                  <a:cubicBezTo>
                    <a:pt x="157589" y="129989"/>
                    <a:pt x="160577" y="130511"/>
                    <a:pt x="162979" y="131045"/>
                  </a:cubicBezTo>
                  <a:cubicBezTo>
                    <a:pt x="168768" y="131958"/>
                    <a:pt x="173213" y="133476"/>
                    <a:pt x="176312" y="135598"/>
                  </a:cubicBezTo>
                  <a:cubicBezTo>
                    <a:pt x="179412" y="137721"/>
                    <a:pt x="182301" y="141630"/>
                    <a:pt x="184980" y="147325"/>
                  </a:cubicBezTo>
                  <a:lnTo>
                    <a:pt x="184980" y="161590"/>
                  </a:lnTo>
                  <a:lnTo>
                    <a:pt x="184980" y="174447"/>
                  </a:lnTo>
                  <a:cubicBezTo>
                    <a:pt x="184980" y="175113"/>
                    <a:pt x="184903" y="178793"/>
                    <a:pt x="184747" y="185489"/>
                  </a:cubicBezTo>
                  <a:cubicBezTo>
                    <a:pt x="184591" y="192186"/>
                    <a:pt x="184380" y="198671"/>
                    <a:pt x="184113" y="204944"/>
                  </a:cubicBezTo>
                  <a:cubicBezTo>
                    <a:pt x="183847" y="211218"/>
                    <a:pt x="183651" y="217157"/>
                    <a:pt x="183528" y="222761"/>
                  </a:cubicBezTo>
                  <a:cubicBezTo>
                    <a:pt x="183404" y="228365"/>
                    <a:pt x="183353" y="232472"/>
                    <a:pt x="183374" y="235083"/>
                  </a:cubicBezTo>
                  <a:cubicBezTo>
                    <a:pt x="181139" y="240297"/>
                    <a:pt x="179478" y="244111"/>
                    <a:pt x="178392" y="246526"/>
                  </a:cubicBezTo>
                  <a:cubicBezTo>
                    <a:pt x="177306" y="248941"/>
                    <a:pt x="175772" y="251305"/>
                    <a:pt x="173791" y="253620"/>
                  </a:cubicBezTo>
                  <a:cubicBezTo>
                    <a:pt x="171809" y="255934"/>
                    <a:pt x="169435" y="257661"/>
                    <a:pt x="166668" y="258800"/>
                  </a:cubicBezTo>
                  <a:cubicBezTo>
                    <a:pt x="163901" y="259939"/>
                    <a:pt x="160336" y="260509"/>
                    <a:pt x="155971" y="260509"/>
                  </a:cubicBezTo>
                  <a:cubicBezTo>
                    <a:pt x="144959" y="260509"/>
                    <a:pt x="134214" y="259971"/>
                    <a:pt x="123736" y="258896"/>
                  </a:cubicBezTo>
                  <a:cubicBezTo>
                    <a:pt x="113258" y="257821"/>
                    <a:pt x="102660" y="257145"/>
                    <a:pt x="91943" y="256868"/>
                  </a:cubicBezTo>
                  <a:cubicBezTo>
                    <a:pt x="86687" y="255225"/>
                    <a:pt x="82970" y="252981"/>
                    <a:pt x="80792" y="250135"/>
                  </a:cubicBezTo>
                  <a:cubicBezTo>
                    <a:pt x="78614" y="247289"/>
                    <a:pt x="76737" y="243503"/>
                    <a:pt x="75163" y="238776"/>
                  </a:cubicBezTo>
                  <a:cubicBezTo>
                    <a:pt x="74621" y="225277"/>
                    <a:pt x="73550" y="211584"/>
                    <a:pt x="71951" y="197697"/>
                  </a:cubicBezTo>
                  <a:cubicBezTo>
                    <a:pt x="70858" y="184074"/>
                    <a:pt x="70312" y="170298"/>
                    <a:pt x="70312" y="156368"/>
                  </a:cubicBezTo>
                  <a:lnTo>
                    <a:pt x="70312" y="142878"/>
                  </a:lnTo>
                  <a:cubicBezTo>
                    <a:pt x="70649" y="137809"/>
                    <a:pt x="72910" y="133756"/>
                    <a:pt x="77096" y="130718"/>
                  </a:cubicBezTo>
                  <a:cubicBezTo>
                    <a:pt x="80872" y="128969"/>
                    <a:pt x="84884" y="127487"/>
                    <a:pt x="89133" y="126271"/>
                  </a:cubicBezTo>
                  <a:cubicBezTo>
                    <a:pt x="94014" y="125665"/>
                    <a:pt x="98099" y="125362"/>
                    <a:pt x="101389" y="125362"/>
                  </a:cubicBezTo>
                  <a:close/>
                  <a:moveTo>
                    <a:pt x="140167" y="86932"/>
                  </a:moveTo>
                  <a:cubicBezTo>
                    <a:pt x="136325" y="86932"/>
                    <a:pt x="132472" y="86999"/>
                    <a:pt x="128606" y="87134"/>
                  </a:cubicBezTo>
                  <a:cubicBezTo>
                    <a:pt x="124741" y="87268"/>
                    <a:pt x="121006" y="87335"/>
                    <a:pt x="117401" y="87335"/>
                  </a:cubicBezTo>
                  <a:cubicBezTo>
                    <a:pt x="114457" y="87335"/>
                    <a:pt x="112850" y="87335"/>
                    <a:pt x="112582" y="87335"/>
                  </a:cubicBezTo>
                  <a:cubicBezTo>
                    <a:pt x="111101" y="87335"/>
                    <a:pt x="107764" y="87467"/>
                    <a:pt x="102569" y="87729"/>
                  </a:cubicBezTo>
                  <a:cubicBezTo>
                    <a:pt x="97375" y="87991"/>
                    <a:pt x="91111" y="88263"/>
                    <a:pt x="83777" y="88545"/>
                  </a:cubicBezTo>
                  <a:cubicBezTo>
                    <a:pt x="77390" y="88810"/>
                    <a:pt x="70917" y="89139"/>
                    <a:pt x="64357" y="89534"/>
                  </a:cubicBezTo>
                  <a:cubicBezTo>
                    <a:pt x="57798" y="89928"/>
                    <a:pt x="52959" y="90254"/>
                    <a:pt x="49840" y="90510"/>
                  </a:cubicBezTo>
                  <a:cubicBezTo>
                    <a:pt x="47677" y="90783"/>
                    <a:pt x="45217" y="91014"/>
                    <a:pt x="42461" y="91204"/>
                  </a:cubicBezTo>
                  <a:cubicBezTo>
                    <a:pt x="39705" y="91394"/>
                    <a:pt x="38327" y="90668"/>
                    <a:pt x="38327" y="89025"/>
                  </a:cubicBezTo>
                  <a:lnTo>
                    <a:pt x="36721" y="92238"/>
                  </a:lnTo>
                  <a:lnTo>
                    <a:pt x="36721" y="104941"/>
                  </a:lnTo>
                  <a:lnTo>
                    <a:pt x="36721" y="125938"/>
                  </a:lnTo>
                  <a:cubicBezTo>
                    <a:pt x="36943" y="130917"/>
                    <a:pt x="37188" y="137826"/>
                    <a:pt x="37457" y="146666"/>
                  </a:cubicBezTo>
                  <a:cubicBezTo>
                    <a:pt x="37725" y="155506"/>
                    <a:pt x="37994" y="164814"/>
                    <a:pt x="38263" y="174591"/>
                  </a:cubicBezTo>
                  <a:cubicBezTo>
                    <a:pt x="38532" y="184367"/>
                    <a:pt x="38796" y="193962"/>
                    <a:pt x="39057" y="203373"/>
                  </a:cubicBezTo>
                  <a:cubicBezTo>
                    <a:pt x="39863" y="213037"/>
                    <a:pt x="40400" y="221805"/>
                    <a:pt x="40669" y="229679"/>
                  </a:cubicBezTo>
                  <a:cubicBezTo>
                    <a:pt x="40938" y="237552"/>
                    <a:pt x="41145" y="244040"/>
                    <a:pt x="41290" y="249140"/>
                  </a:cubicBezTo>
                  <a:cubicBezTo>
                    <a:pt x="41435" y="254240"/>
                    <a:pt x="41518" y="257070"/>
                    <a:pt x="41540" y="257629"/>
                  </a:cubicBezTo>
                  <a:lnTo>
                    <a:pt x="44656" y="280853"/>
                  </a:lnTo>
                  <a:lnTo>
                    <a:pt x="211993" y="280853"/>
                  </a:lnTo>
                  <a:lnTo>
                    <a:pt x="225004" y="101056"/>
                  </a:lnTo>
                  <a:lnTo>
                    <a:pt x="225004" y="96097"/>
                  </a:lnTo>
                  <a:cubicBezTo>
                    <a:pt x="225004" y="93763"/>
                    <a:pt x="224447" y="92395"/>
                    <a:pt x="223333" y="91994"/>
                  </a:cubicBezTo>
                  <a:cubicBezTo>
                    <a:pt x="221213" y="91568"/>
                    <a:pt x="217998" y="91086"/>
                    <a:pt x="213689" y="90548"/>
                  </a:cubicBezTo>
                  <a:cubicBezTo>
                    <a:pt x="211569" y="90249"/>
                    <a:pt x="208914" y="89901"/>
                    <a:pt x="205725" y="89502"/>
                  </a:cubicBezTo>
                  <a:cubicBezTo>
                    <a:pt x="202536" y="89103"/>
                    <a:pt x="199352" y="88771"/>
                    <a:pt x="196173" y="88507"/>
                  </a:cubicBezTo>
                  <a:cubicBezTo>
                    <a:pt x="192995" y="88242"/>
                    <a:pt x="190217" y="87981"/>
                    <a:pt x="187841" y="87723"/>
                  </a:cubicBezTo>
                  <a:cubicBezTo>
                    <a:pt x="185465" y="87465"/>
                    <a:pt x="184179" y="87335"/>
                    <a:pt x="183985" y="87335"/>
                  </a:cubicBezTo>
                  <a:cubicBezTo>
                    <a:pt x="183791" y="87335"/>
                    <a:pt x="182256" y="87335"/>
                    <a:pt x="179381" y="87335"/>
                  </a:cubicBezTo>
                  <a:cubicBezTo>
                    <a:pt x="176505" y="87335"/>
                    <a:pt x="173263" y="87268"/>
                    <a:pt x="169653" y="87134"/>
                  </a:cubicBezTo>
                  <a:cubicBezTo>
                    <a:pt x="166044" y="86999"/>
                    <a:pt x="162326" y="86932"/>
                    <a:pt x="158499" y="86932"/>
                  </a:cubicBezTo>
                  <a:cubicBezTo>
                    <a:pt x="154672" y="86932"/>
                    <a:pt x="151620" y="86932"/>
                    <a:pt x="149344" y="86932"/>
                  </a:cubicBezTo>
                  <a:cubicBezTo>
                    <a:pt x="147068" y="86932"/>
                    <a:pt x="144009" y="86932"/>
                    <a:pt x="140167" y="86932"/>
                  </a:cubicBezTo>
                  <a:close/>
                  <a:moveTo>
                    <a:pt x="660256" y="84379"/>
                  </a:moveTo>
                  <a:cubicBezTo>
                    <a:pt x="665589" y="84379"/>
                    <a:pt x="671154" y="85146"/>
                    <a:pt x="676950" y="86680"/>
                  </a:cubicBezTo>
                  <a:cubicBezTo>
                    <a:pt x="682745" y="88213"/>
                    <a:pt x="685643" y="93093"/>
                    <a:pt x="685643" y="101319"/>
                  </a:cubicBezTo>
                  <a:cubicBezTo>
                    <a:pt x="685643" y="105231"/>
                    <a:pt x="684735" y="108702"/>
                    <a:pt x="682917" y="111731"/>
                  </a:cubicBezTo>
                  <a:cubicBezTo>
                    <a:pt x="681275" y="116240"/>
                    <a:pt x="677691" y="118681"/>
                    <a:pt x="672166" y="119052"/>
                  </a:cubicBezTo>
                  <a:lnTo>
                    <a:pt x="573561" y="124300"/>
                  </a:lnTo>
                  <a:cubicBezTo>
                    <a:pt x="573885" y="124300"/>
                    <a:pt x="573622" y="124603"/>
                    <a:pt x="572773" y="125208"/>
                  </a:cubicBezTo>
                  <a:cubicBezTo>
                    <a:pt x="571357" y="127192"/>
                    <a:pt x="570232" y="128839"/>
                    <a:pt x="569398" y="130149"/>
                  </a:cubicBezTo>
                  <a:cubicBezTo>
                    <a:pt x="568564" y="131459"/>
                    <a:pt x="567383" y="133201"/>
                    <a:pt x="565856" y="135377"/>
                  </a:cubicBezTo>
                  <a:cubicBezTo>
                    <a:pt x="564563" y="138483"/>
                    <a:pt x="563014" y="141425"/>
                    <a:pt x="561209" y="144202"/>
                  </a:cubicBezTo>
                  <a:cubicBezTo>
                    <a:pt x="559405" y="146980"/>
                    <a:pt x="557996" y="149271"/>
                    <a:pt x="556983" y="151076"/>
                  </a:cubicBezTo>
                  <a:lnTo>
                    <a:pt x="556253" y="152265"/>
                  </a:lnTo>
                  <a:lnTo>
                    <a:pt x="589656" y="151677"/>
                  </a:lnTo>
                  <a:cubicBezTo>
                    <a:pt x="601576" y="151276"/>
                    <a:pt x="613189" y="151076"/>
                    <a:pt x="624495" y="151076"/>
                  </a:cubicBezTo>
                  <a:cubicBezTo>
                    <a:pt x="633796" y="151076"/>
                    <a:pt x="640927" y="153089"/>
                    <a:pt x="645889" y="157117"/>
                  </a:cubicBezTo>
                  <a:cubicBezTo>
                    <a:pt x="651499" y="162070"/>
                    <a:pt x="654305" y="169321"/>
                    <a:pt x="654305" y="178869"/>
                  </a:cubicBezTo>
                  <a:cubicBezTo>
                    <a:pt x="654305" y="197944"/>
                    <a:pt x="653099" y="216658"/>
                    <a:pt x="650689" y="235010"/>
                  </a:cubicBezTo>
                  <a:cubicBezTo>
                    <a:pt x="648278" y="253362"/>
                    <a:pt x="647073" y="271881"/>
                    <a:pt x="647073" y="290568"/>
                  </a:cubicBezTo>
                  <a:cubicBezTo>
                    <a:pt x="647073" y="291639"/>
                    <a:pt x="647073" y="293708"/>
                    <a:pt x="647073" y="296776"/>
                  </a:cubicBezTo>
                  <a:cubicBezTo>
                    <a:pt x="647073" y="299843"/>
                    <a:pt x="647140" y="302789"/>
                    <a:pt x="647275" y="305613"/>
                  </a:cubicBezTo>
                  <a:cubicBezTo>
                    <a:pt x="647409" y="308438"/>
                    <a:pt x="647476" y="310989"/>
                    <a:pt x="647476" y="313267"/>
                  </a:cubicBezTo>
                  <a:cubicBezTo>
                    <a:pt x="647476" y="315546"/>
                    <a:pt x="647476" y="317032"/>
                    <a:pt x="647476" y="317728"/>
                  </a:cubicBezTo>
                  <a:cubicBezTo>
                    <a:pt x="649277" y="321849"/>
                    <a:pt x="650329" y="325798"/>
                    <a:pt x="650634" y="329574"/>
                  </a:cubicBezTo>
                  <a:cubicBezTo>
                    <a:pt x="650939" y="333349"/>
                    <a:pt x="651092" y="337355"/>
                    <a:pt x="651092" y="341592"/>
                  </a:cubicBezTo>
                  <a:cubicBezTo>
                    <a:pt x="651092" y="341451"/>
                    <a:pt x="651019" y="342911"/>
                    <a:pt x="650874" y="345973"/>
                  </a:cubicBezTo>
                  <a:cubicBezTo>
                    <a:pt x="650729" y="349034"/>
                    <a:pt x="650667" y="350910"/>
                    <a:pt x="650689" y="351601"/>
                  </a:cubicBezTo>
                  <a:cubicBezTo>
                    <a:pt x="649170" y="357309"/>
                    <a:pt x="646366" y="361144"/>
                    <a:pt x="642276" y="363104"/>
                  </a:cubicBezTo>
                  <a:cubicBezTo>
                    <a:pt x="638187" y="365065"/>
                    <a:pt x="634203" y="366493"/>
                    <a:pt x="630325" y="367389"/>
                  </a:cubicBezTo>
                  <a:lnTo>
                    <a:pt x="533691" y="367389"/>
                  </a:lnTo>
                  <a:cubicBezTo>
                    <a:pt x="532706" y="367389"/>
                    <a:pt x="530605" y="367455"/>
                    <a:pt x="527391" y="367587"/>
                  </a:cubicBezTo>
                  <a:cubicBezTo>
                    <a:pt x="524176" y="367719"/>
                    <a:pt x="520608" y="367851"/>
                    <a:pt x="516687" y="367981"/>
                  </a:cubicBezTo>
                  <a:cubicBezTo>
                    <a:pt x="512766" y="368111"/>
                    <a:pt x="508905" y="368312"/>
                    <a:pt x="505104" y="368586"/>
                  </a:cubicBezTo>
                  <a:cubicBezTo>
                    <a:pt x="501303" y="368859"/>
                    <a:pt x="498510" y="368995"/>
                    <a:pt x="496727" y="368995"/>
                  </a:cubicBezTo>
                  <a:cubicBezTo>
                    <a:pt x="496629" y="368995"/>
                    <a:pt x="495709" y="369062"/>
                    <a:pt x="493969" y="369197"/>
                  </a:cubicBezTo>
                  <a:cubicBezTo>
                    <a:pt x="492228" y="369331"/>
                    <a:pt x="490486" y="369464"/>
                    <a:pt x="488743" y="369597"/>
                  </a:cubicBezTo>
                  <a:cubicBezTo>
                    <a:pt x="487001" y="369729"/>
                    <a:pt x="485170" y="369862"/>
                    <a:pt x="483253" y="369997"/>
                  </a:cubicBezTo>
                  <a:cubicBezTo>
                    <a:pt x="481335" y="370131"/>
                    <a:pt x="480201" y="370198"/>
                    <a:pt x="479851" y="370198"/>
                  </a:cubicBezTo>
                  <a:lnTo>
                    <a:pt x="479045" y="370198"/>
                  </a:lnTo>
                  <a:cubicBezTo>
                    <a:pt x="471788" y="370198"/>
                    <a:pt x="466298" y="367852"/>
                    <a:pt x="462575" y="363159"/>
                  </a:cubicBezTo>
                  <a:cubicBezTo>
                    <a:pt x="458853" y="358466"/>
                    <a:pt x="456697" y="353175"/>
                    <a:pt x="456109" y="347288"/>
                  </a:cubicBezTo>
                  <a:cubicBezTo>
                    <a:pt x="455819" y="343555"/>
                    <a:pt x="455540" y="337876"/>
                    <a:pt x="455274" y="330252"/>
                  </a:cubicBezTo>
                  <a:cubicBezTo>
                    <a:pt x="455007" y="322628"/>
                    <a:pt x="454470" y="313848"/>
                    <a:pt x="453664" y="303911"/>
                  </a:cubicBezTo>
                  <a:cubicBezTo>
                    <a:pt x="453391" y="294073"/>
                    <a:pt x="453053" y="283874"/>
                    <a:pt x="452650" y="273315"/>
                  </a:cubicBezTo>
                  <a:cubicBezTo>
                    <a:pt x="452246" y="262755"/>
                    <a:pt x="451780" y="252563"/>
                    <a:pt x="451251" y="242737"/>
                  </a:cubicBezTo>
                  <a:cubicBezTo>
                    <a:pt x="450983" y="233462"/>
                    <a:pt x="450449" y="224825"/>
                    <a:pt x="449651" y="216825"/>
                  </a:cubicBezTo>
                  <a:cubicBezTo>
                    <a:pt x="449374" y="209052"/>
                    <a:pt x="449235" y="203365"/>
                    <a:pt x="449235" y="199764"/>
                  </a:cubicBezTo>
                  <a:lnTo>
                    <a:pt x="449235" y="186504"/>
                  </a:lnTo>
                  <a:lnTo>
                    <a:pt x="449235" y="172956"/>
                  </a:lnTo>
                  <a:cubicBezTo>
                    <a:pt x="449581" y="169163"/>
                    <a:pt x="450999" y="166022"/>
                    <a:pt x="453488" y="163532"/>
                  </a:cubicBezTo>
                  <a:cubicBezTo>
                    <a:pt x="455977" y="161043"/>
                    <a:pt x="458791" y="159170"/>
                    <a:pt x="461929" y="157914"/>
                  </a:cubicBezTo>
                  <a:cubicBezTo>
                    <a:pt x="465067" y="156657"/>
                    <a:pt x="468279" y="155806"/>
                    <a:pt x="471564" y="155360"/>
                  </a:cubicBezTo>
                  <a:cubicBezTo>
                    <a:pt x="474849" y="154914"/>
                    <a:pt x="477611" y="154691"/>
                    <a:pt x="479851" y="154691"/>
                  </a:cubicBezTo>
                  <a:cubicBezTo>
                    <a:pt x="481396" y="154691"/>
                    <a:pt x="483774" y="154557"/>
                    <a:pt x="486987" y="154288"/>
                  </a:cubicBezTo>
                  <a:cubicBezTo>
                    <a:pt x="490818" y="154288"/>
                    <a:pt x="494240" y="154172"/>
                    <a:pt x="497252" y="153939"/>
                  </a:cubicBezTo>
                  <a:cubicBezTo>
                    <a:pt x="500264" y="153707"/>
                    <a:pt x="503754" y="153288"/>
                    <a:pt x="507721" y="152682"/>
                  </a:cubicBezTo>
                  <a:cubicBezTo>
                    <a:pt x="511105" y="152682"/>
                    <a:pt x="513249" y="152682"/>
                    <a:pt x="514153" y="152682"/>
                  </a:cubicBezTo>
                  <a:cubicBezTo>
                    <a:pt x="513616" y="152955"/>
                    <a:pt x="513810" y="152629"/>
                    <a:pt x="514736" y="151703"/>
                  </a:cubicBezTo>
                  <a:cubicBezTo>
                    <a:pt x="515661" y="150777"/>
                    <a:pt x="516126" y="150310"/>
                    <a:pt x="516131" y="150301"/>
                  </a:cubicBezTo>
                  <a:cubicBezTo>
                    <a:pt x="517560" y="147805"/>
                    <a:pt x="519294" y="145131"/>
                    <a:pt x="521334" y="142279"/>
                  </a:cubicBezTo>
                  <a:cubicBezTo>
                    <a:pt x="523373" y="139427"/>
                    <a:pt x="525221" y="136660"/>
                    <a:pt x="526879" y="133979"/>
                  </a:cubicBezTo>
                  <a:lnTo>
                    <a:pt x="530472" y="127943"/>
                  </a:lnTo>
                  <a:lnTo>
                    <a:pt x="489524" y="128520"/>
                  </a:lnTo>
                  <a:cubicBezTo>
                    <a:pt x="473967" y="128923"/>
                    <a:pt x="458018" y="129125"/>
                    <a:pt x="441678" y="129125"/>
                  </a:cubicBezTo>
                  <a:lnTo>
                    <a:pt x="426043" y="129125"/>
                  </a:lnTo>
                  <a:cubicBezTo>
                    <a:pt x="421440" y="127973"/>
                    <a:pt x="418329" y="125777"/>
                    <a:pt x="416709" y="122537"/>
                  </a:cubicBezTo>
                  <a:cubicBezTo>
                    <a:pt x="415090" y="119296"/>
                    <a:pt x="414281" y="115573"/>
                    <a:pt x="414281" y="111366"/>
                  </a:cubicBezTo>
                  <a:cubicBezTo>
                    <a:pt x="414281" y="108508"/>
                    <a:pt x="415080" y="105036"/>
                    <a:pt x="416677" y="100951"/>
                  </a:cubicBezTo>
                  <a:cubicBezTo>
                    <a:pt x="418275" y="96866"/>
                    <a:pt x="422016" y="94823"/>
                    <a:pt x="427899" y="94823"/>
                  </a:cubicBezTo>
                  <a:lnTo>
                    <a:pt x="650113" y="84808"/>
                  </a:lnTo>
                  <a:cubicBezTo>
                    <a:pt x="651282" y="84786"/>
                    <a:pt x="652974" y="84715"/>
                    <a:pt x="655191" y="84593"/>
                  </a:cubicBezTo>
                  <a:cubicBezTo>
                    <a:pt x="657407" y="84472"/>
                    <a:pt x="659096" y="84400"/>
                    <a:pt x="660256" y="84379"/>
                  </a:cubicBezTo>
                  <a:close/>
                  <a:moveTo>
                    <a:pt x="102989" y="52637"/>
                  </a:moveTo>
                  <a:cubicBezTo>
                    <a:pt x="106973" y="52637"/>
                    <a:pt x="111644" y="52637"/>
                    <a:pt x="117001" y="52637"/>
                  </a:cubicBezTo>
                  <a:cubicBezTo>
                    <a:pt x="122357" y="52637"/>
                    <a:pt x="127848" y="52637"/>
                    <a:pt x="133473" y="52637"/>
                  </a:cubicBezTo>
                  <a:cubicBezTo>
                    <a:pt x="139098" y="52637"/>
                    <a:pt x="143517" y="52637"/>
                    <a:pt x="146730" y="52637"/>
                  </a:cubicBezTo>
                  <a:cubicBezTo>
                    <a:pt x="148607" y="52637"/>
                    <a:pt x="151956" y="52637"/>
                    <a:pt x="156777" y="52637"/>
                  </a:cubicBezTo>
                  <a:cubicBezTo>
                    <a:pt x="161598" y="52637"/>
                    <a:pt x="166338" y="52637"/>
                    <a:pt x="170997" y="52637"/>
                  </a:cubicBezTo>
                  <a:cubicBezTo>
                    <a:pt x="175656" y="52637"/>
                    <a:pt x="180817" y="52708"/>
                    <a:pt x="186481" y="52851"/>
                  </a:cubicBezTo>
                  <a:cubicBezTo>
                    <a:pt x="192145" y="52994"/>
                    <a:pt x="195900" y="53055"/>
                    <a:pt x="197748" y="53034"/>
                  </a:cubicBezTo>
                  <a:cubicBezTo>
                    <a:pt x="204791" y="53912"/>
                    <a:pt x="211921" y="54687"/>
                    <a:pt x="219135" y="55357"/>
                  </a:cubicBezTo>
                  <a:cubicBezTo>
                    <a:pt x="226350" y="56026"/>
                    <a:pt x="232986" y="57223"/>
                    <a:pt x="239044" y="58947"/>
                  </a:cubicBezTo>
                  <a:cubicBezTo>
                    <a:pt x="245653" y="61357"/>
                    <a:pt x="250873" y="65069"/>
                    <a:pt x="254704" y="70082"/>
                  </a:cubicBezTo>
                  <a:cubicBezTo>
                    <a:pt x="259384" y="75381"/>
                    <a:pt x="261725" y="82713"/>
                    <a:pt x="261725" y="92078"/>
                  </a:cubicBezTo>
                  <a:lnTo>
                    <a:pt x="261725" y="97946"/>
                  </a:lnTo>
                  <a:cubicBezTo>
                    <a:pt x="258179" y="131749"/>
                    <a:pt x="255007" y="164909"/>
                    <a:pt x="252208" y="197428"/>
                  </a:cubicBezTo>
                  <a:cubicBezTo>
                    <a:pt x="249410" y="229947"/>
                    <a:pt x="248682" y="262960"/>
                    <a:pt x="250026" y="296468"/>
                  </a:cubicBezTo>
                  <a:cubicBezTo>
                    <a:pt x="249309" y="303260"/>
                    <a:pt x="245856" y="307960"/>
                    <a:pt x="239665" y="310567"/>
                  </a:cubicBezTo>
                  <a:cubicBezTo>
                    <a:pt x="234541" y="312973"/>
                    <a:pt x="229539" y="314637"/>
                    <a:pt x="224658" y="315558"/>
                  </a:cubicBezTo>
                  <a:cubicBezTo>
                    <a:pt x="220656" y="315558"/>
                    <a:pt x="214905" y="315558"/>
                    <a:pt x="207405" y="315558"/>
                  </a:cubicBezTo>
                  <a:cubicBezTo>
                    <a:pt x="199904" y="315558"/>
                    <a:pt x="191466" y="315624"/>
                    <a:pt x="182091" y="315757"/>
                  </a:cubicBezTo>
                  <a:cubicBezTo>
                    <a:pt x="172716" y="315889"/>
                    <a:pt x="162872" y="316022"/>
                    <a:pt x="152560" y="316157"/>
                  </a:cubicBezTo>
                  <a:cubicBezTo>
                    <a:pt x="142248" y="316291"/>
                    <a:pt x="132337" y="316426"/>
                    <a:pt x="122827" y="316560"/>
                  </a:cubicBezTo>
                  <a:cubicBezTo>
                    <a:pt x="113318" y="316694"/>
                    <a:pt x="104880" y="316761"/>
                    <a:pt x="97514" y="316761"/>
                  </a:cubicBezTo>
                  <a:cubicBezTo>
                    <a:pt x="90148" y="316761"/>
                    <a:pt x="84724" y="316761"/>
                    <a:pt x="81243" y="316761"/>
                  </a:cubicBezTo>
                  <a:cubicBezTo>
                    <a:pt x="80436" y="316761"/>
                    <a:pt x="79060" y="316761"/>
                    <a:pt x="77115" y="316761"/>
                  </a:cubicBezTo>
                  <a:cubicBezTo>
                    <a:pt x="75170" y="316761"/>
                    <a:pt x="72869" y="316829"/>
                    <a:pt x="70213" y="316963"/>
                  </a:cubicBezTo>
                  <a:cubicBezTo>
                    <a:pt x="67557" y="317097"/>
                    <a:pt x="64536" y="317165"/>
                    <a:pt x="61148" y="317165"/>
                  </a:cubicBezTo>
                  <a:cubicBezTo>
                    <a:pt x="58473" y="317165"/>
                    <a:pt x="56532" y="317165"/>
                    <a:pt x="55324" y="317165"/>
                  </a:cubicBezTo>
                  <a:cubicBezTo>
                    <a:pt x="54117" y="317165"/>
                    <a:pt x="52265" y="317165"/>
                    <a:pt x="49769" y="317165"/>
                  </a:cubicBezTo>
                  <a:cubicBezTo>
                    <a:pt x="47274" y="317165"/>
                    <a:pt x="44687" y="317097"/>
                    <a:pt x="42010" y="316963"/>
                  </a:cubicBezTo>
                  <a:cubicBezTo>
                    <a:pt x="39333" y="316829"/>
                    <a:pt x="36764" y="316761"/>
                    <a:pt x="34305" y="316761"/>
                  </a:cubicBezTo>
                  <a:cubicBezTo>
                    <a:pt x="31845" y="316761"/>
                    <a:pt x="30212" y="316761"/>
                    <a:pt x="29406" y="316761"/>
                  </a:cubicBezTo>
                  <a:cubicBezTo>
                    <a:pt x="24150" y="316761"/>
                    <a:pt x="19809" y="314857"/>
                    <a:pt x="16383" y="311047"/>
                  </a:cubicBezTo>
                  <a:cubicBezTo>
                    <a:pt x="14314" y="308393"/>
                    <a:pt x="12606" y="305047"/>
                    <a:pt x="11260" y="301009"/>
                  </a:cubicBezTo>
                  <a:cubicBezTo>
                    <a:pt x="9914" y="296971"/>
                    <a:pt x="8919" y="293145"/>
                    <a:pt x="8274" y="289531"/>
                  </a:cubicBezTo>
                  <a:cubicBezTo>
                    <a:pt x="7630" y="285918"/>
                    <a:pt x="7157" y="282750"/>
                    <a:pt x="6854" y="280028"/>
                  </a:cubicBezTo>
                  <a:cubicBezTo>
                    <a:pt x="6576" y="274968"/>
                    <a:pt x="6304" y="267362"/>
                    <a:pt x="6038" y="257210"/>
                  </a:cubicBezTo>
                  <a:cubicBezTo>
                    <a:pt x="5771" y="247058"/>
                    <a:pt x="5235" y="235501"/>
                    <a:pt x="4428" y="222540"/>
                  </a:cubicBezTo>
                  <a:cubicBezTo>
                    <a:pt x="4155" y="209894"/>
                    <a:pt x="3750" y="196317"/>
                    <a:pt x="3212" y="181807"/>
                  </a:cubicBezTo>
                  <a:cubicBezTo>
                    <a:pt x="2948" y="167924"/>
                    <a:pt x="2547" y="154397"/>
                    <a:pt x="2009" y="141227"/>
                  </a:cubicBezTo>
                  <a:cubicBezTo>
                    <a:pt x="1740" y="128679"/>
                    <a:pt x="1406" y="117327"/>
                    <a:pt x="1004" y="107171"/>
                  </a:cubicBezTo>
                  <a:cubicBezTo>
                    <a:pt x="603" y="97015"/>
                    <a:pt x="269" y="89516"/>
                    <a:pt x="0" y="84673"/>
                  </a:cubicBezTo>
                  <a:lnTo>
                    <a:pt x="0" y="80027"/>
                  </a:lnTo>
                  <a:cubicBezTo>
                    <a:pt x="0" y="75198"/>
                    <a:pt x="1147" y="71390"/>
                    <a:pt x="3443" y="68604"/>
                  </a:cubicBezTo>
                  <a:cubicBezTo>
                    <a:pt x="5738" y="65818"/>
                    <a:pt x="8510" y="63574"/>
                    <a:pt x="11759" y="61871"/>
                  </a:cubicBezTo>
                  <a:cubicBezTo>
                    <a:pt x="15008" y="60169"/>
                    <a:pt x="18427" y="58960"/>
                    <a:pt x="22018" y="58243"/>
                  </a:cubicBezTo>
                  <a:cubicBezTo>
                    <a:pt x="25608" y="57526"/>
                    <a:pt x="29035" y="56875"/>
                    <a:pt x="32299" y="56291"/>
                  </a:cubicBezTo>
                  <a:cubicBezTo>
                    <a:pt x="34419" y="56056"/>
                    <a:pt x="38483" y="55734"/>
                    <a:pt x="44490" y="55325"/>
                  </a:cubicBezTo>
                  <a:cubicBezTo>
                    <a:pt x="50497" y="54915"/>
                    <a:pt x="56953" y="54575"/>
                    <a:pt x="63858" y="54304"/>
                  </a:cubicBezTo>
                  <a:cubicBezTo>
                    <a:pt x="70763" y="54033"/>
                    <a:pt x="77455" y="53754"/>
                    <a:pt x="83934" y="53466"/>
                  </a:cubicBezTo>
                  <a:cubicBezTo>
                    <a:pt x="90412" y="53178"/>
                    <a:pt x="94471" y="53034"/>
                    <a:pt x="96109" y="53034"/>
                  </a:cubicBezTo>
                  <a:cubicBezTo>
                    <a:pt x="96975" y="53034"/>
                    <a:pt x="99268" y="52901"/>
                    <a:pt x="102989" y="52637"/>
                  </a:cubicBezTo>
                  <a:close/>
                  <a:moveTo>
                    <a:pt x="1049624" y="19685"/>
                  </a:moveTo>
                  <a:lnTo>
                    <a:pt x="1058461" y="19685"/>
                  </a:lnTo>
                  <a:cubicBezTo>
                    <a:pt x="1062945" y="19685"/>
                    <a:pt x="1067829" y="20624"/>
                    <a:pt x="1073113" y="22501"/>
                  </a:cubicBezTo>
                  <a:cubicBezTo>
                    <a:pt x="1078397" y="24378"/>
                    <a:pt x="1081039" y="28687"/>
                    <a:pt x="1081039" y="35428"/>
                  </a:cubicBezTo>
                  <a:cubicBezTo>
                    <a:pt x="1081039" y="39136"/>
                    <a:pt x="1079675" y="43290"/>
                    <a:pt x="1076947" y="47891"/>
                  </a:cubicBezTo>
                  <a:cubicBezTo>
                    <a:pt x="1074218" y="52493"/>
                    <a:pt x="1070066" y="54793"/>
                    <a:pt x="1064490" y="54793"/>
                  </a:cubicBezTo>
                  <a:lnTo>
                    <a:pt x="989461" y="54793"/>
                  </a:lnTo>
                  <a:lnTo>
                    <a:pt x="975766" y="96992"/>
                  </a:lnTo>
                  <a:lnTo>
                    <a:pt x="975766" y="98842"/>
                  </a:lnTo>
                  <a:lnTo>
                    <a:pt x="1061674" y="98842"/>
                  </a:lnTo>
                  <a:cubicBezTo>
                    <a:pt x="1066098" y="98842"/>
                    <a:pt x="1069360" y="100310"/>
                    <a:pt x="1071459" y="103245"/>
                  </a:cubicBezTo>
                  <a:cubicBezTo>
                    <a:pt x="1073562" y="105655"/>
                    <a:pt x="1075001" y="108330"/>
                    <a:pt x="1075776" y="111270"/>
                  </a:cubicBezTo>
                  <a:cubicBezTo>
                    <a:pt x="1076550" y="114210"/>
                    <a:pt x="1077018" y="117295"/>
                    <a:pt x="1077180" y="120527"/>
                  </a:cubicBezTo>
                  <a:cubicBezTo>
                    <a:pt x="1077342" y="123759"/>
                    <a:pt x="1077424" y="125929"/>
                    <a:pt x="1077424" y="127039"/>
                  </a:cubicBezTo>
                  <a:lnTo>
                    <a:pt x="1077424" y="137867"/>
                  </a:lnTo>
                  <a:lnTo>
                    <a:pt x="1067267" y="265366"/>
                  </a:lnTo>
                  <a:cubicBezTo>
                    <a:pt x="1066990" y="267866"/>
                    <a:pt x="1066642" y="270586"/>
                    <a:pt x="1066224" y="273526"/>
                  </a:cubicBezTo>
                  <a:cubicBezTo>
                    <a:pt x="1065806" y="276465"/>
                    <a:pt x="1064848" y="279132"/>
                    <a:pt x="1063351" y="281525"/>
                  </a:cubicBezTo>
                  <a:cubicBezTo>
                    <a:pt x="1062387" y="284426"/>
                    <a:pt x="1060545" y="286872"/>
                    <a:pt x="1057828" y="288862"/>
                  </a:cubicBezTo>
                  <a:cubicBezTo>
                    <a:pt x="1055110" y="290853"/>
                    <a:pt x="1051838" y="291848"/>
                    <a:pt x="1048011" y="291848"/>
                  </a:cubicBezTo>
                  <a:cubicBezTo>
                    <a:pt x="1045161" y="291848"/>
                    <a:pt x="1041825" y="290847"/>
                    <a:pt x="1038002" y="288846"/>
                  </a:cubicBezTo>
                  <a:cubicBezTo>
                    <a:pt x="1034179" y="286845"/>
                    <a:pt x="1032268" y="283804"/>
                    <a:pt x="1032268" y="279721"/>
                  </a:cubicBezTo>
                  <a:lnTo>
                    <a:pt x="1032268" y="254576"/>
                  </a:lnTo>
                  <a:lnTo>
                    <a:pt x="1041509" y="134347"/>
                  </a:lnTo>
                  <a:lnTo>
                    <a:pt x="1040498" y="133944"/>
                  </a:lnTo>
                  <a:lnTo>
                    <a:pt x="894043" y="133944"/>
                  </a:lnTo>
                  <a:lnTo>
                    <a:pt x="890920" y="261770"/>
                  </a:lnTo>
                  <a:cubicBezTo>
                    <a:pt x="890510" y="265831"/>
                    <a:pt x="888380" y="268914"/>
                    <a:pt x="884530" y="271017"/>
                  </a:cubicBezTo>
                  <a:cubicBezTo>
                    <a:pt x="880679" y="273120"/>
                    <a:pt x="877316" y="274172"/>
                    <a:pt x="874441" y="274172"/>
                  </a:cubicBezTo>
                  <a:cubicBezTo>
                    <a:pt x="870729" y="274172"/>
                    <a:pt x="867254" y="272808"/>
                    <a:pt x="864016" y="270080"/>
                  </a:cubicBezTo>
                  <a:cubicBezTo>
                    <a:pt x="860778" y="267351"/>
                    <a:pt x="858602" y="264131"/>
                    <a:pt x="857488" y="260419"/>
                  </a:cubicBezTo>
                  <a:lnTo>
                    <a:pt x="857488" y="229893"/>
                  </a:lnTo>
                  <a:lnTo>
                    <a:pt x="857488" y="199764"/>
                  </a:lnTo>
                  <a:cubicBezTo>
                    <a:pt x="857488" y="196777"/>
                    <a:pt x="857554" y="191209"/>
                    <a:pt x="857687" y="183058"/>
                  </a:cubicBezTo>
                  <a:cubicBezTo>
                    <a:pt x="857819" y="174907"/>
                    <a:pt x="857885" y="166354"/>
                    <a:pt x="857885" y="157398"/>
                  </a:cubicBezTo>
                  <a:cubicBezTo>
                    <a:pt x="858427" y="148166"/>
                    <a:pt x="858831" y="139561"/>
                    <a:pt x="859098" y="131582"/>
                  </a:cubicBezTo>
                  <a:cubicBezTo>
                    <a:pt x="859364" y="123604"/>
                    <a:pt x="859498" y="117734"/>
                    <a:pt x="859498" y="113971"/>
                  </a:cubicBezTo>
                  <a:cubicBezTo>
                    <a:pt x="860547" y="109760"/>
                    <a:pt x="863476" y="106051"/>
                    <a:pt x="868284" y="102845"/>
                  </a:cubicBezTo>
                  <a:cubicBezTo>
                    <a:pt x="873092" y="99639"/>
                    <a:pt x="877690" y="98036"/>
                    <a:pt x="882075" y="98036"/>
                  </a:cubicBezTo>
                  <a:lnTo>
                    <a:pt x="936066" y="98036"/>
                  </a:lnTo>
                  <a:lnTo>
                    <a:pt x="936616" y="97495"/>
                  </a:lnTo>
                  <a:cubicBezTo>
                    <a:pt x="937002" y="97109"/>
                    <a:pt x="937536" y="96118"/>
                    <a:pt x="938219" y="94522"/>
                  </a:cubicBezTo>
                  <a:cubicBezTo>
                    <a:pt x="938774" y="93601"/>
                    <a:pt x="939051" y="92997"/>
                    <a:pt x="939051" y="92711"/>
                  </a:cubicBezTo>
                  <a:cubicBezTo>
                    <a:pt x="939981" y="89917"/>
                    <a:pt x="941116" y="86510"/>
                    <a:pt x="942456" y="82491"/>
                  </a:cubicBezTo>
                  <a:cubicBezTo>
                    <a:pt x="943795" y="78472"/>
                    <a:pt x="945068" y="74722"/>
                    <a:pt x="946273" y="71240"/>
                  </a:cubicBezTo>
                  <a:cubicBezTo>
                    <a:pt x="947478" y="67759"/>
                    <a:pt x="948552" y="64715"/>
                    <a:pt x="949495" y="62108"/>
                  </a:cubicBezTo>
                  <a:cubicBezTo>
                    <a:pt x="950302" y="59181"/>
                    <a:pt x="950705" y="57279"/>
                    <a:pt x="950705" y="56400"/>
                  </a:cubicBezTo>
                  <a:cubicBezTo>
                    <a:pt x="942535" y="56400"/>
                    <a:pt x="933033" y="56600"/>
                    <a:pt x="922201" y="57001"/>
                  </a:cubicBezTo>
                  <a:cubicBezTo>
                    <a:pt x="911368" y="57402"/>
                    <a:pt x="900404" y="57603"/>
                    <a:pt x="889307" y="57603"/>
                  </a:cubicBezTo>
                  <a:lnTo>
                    <a:pt x="874921" y="57603"/>
                  </a:lnTo>
                  <a:cubicBezTo>
                    <a:pt x="869494" y="57240"/>
                    <a:pt x="865567" y="55064"/>
                    <a:pt x="863139" y="51075"/>
                  </a:cubicBezTo>
                  <a:cubicBezTo>
                    <a:pt x="860711" y="47086"/>
                    <a:pt x="859498" y="43076"/>
                    <a:pt x="859498" y="39044"/>
                  </a:cubicBezTo>
                  <a:cubicBezTo>
                    <a:pt x="859498" y="35725"/>
                    <a:pt x="860435" y="32529"/>
                    <a:pt x="862310" y="29457"/>
                  </a:cubicBezTo>
                  <a:cubicBezTo>
                    <a:pt x="864185" y="26386"/>
                    <a:pt x="867073" y="24201"/>
                    <a:pt x="870972" y="22904"/>
                  </a:cubicBezTo>
                  <a:cubicBezTo>
                    <a:pt x="878562" y="22904"/>
                    <a:pt x="886296" y="22847"/>
                    <a:pt x="894174" y="22731"/>
                  </a:cubicBezTo>
                  <a:cubicBezTo>
                    <a:pt x="902052" y="22616"/>
                    <a:pt x="911860" y="22358"/>
                    <a:pt x="923599" y="21957"/>
                  </a:cubicBezTo>
                  <a:cubicBezTo>
                    <a:pt x="935338" y="21556"/>
                    <a:pt x="947670" y="21288"/>
                    <a:pt x="960595" y="21154"/>
                  </a:cubicBezTo>
                  <a:cubicBezTo>
                    <a:pt x="973520" y="21020"/>
                    <a:pt x="985819" y="20818"/>
                    <a:pt x="997492" y="20549"/>
                  </a:cubicBezTo>
                  <a:cubicBezTo>
                    <a:pt x="1009165" y="20280"/>
                    <a:pt x="1019695" y="20075"/>
                    <a:pt x="1029081" y="19932"/>
                  </a:cubicBezTo>
                  <a:cubicBezTo>
                    <a:pt x="1038467" y="19789"/>
                    <a:pt x="1045314" y="19707"/>
                    <a:pt x="1049624" y="19685"/>
                  </a:cubicBezTo>
                  <a:close/>
                  <a:moveTo>
                    <a:pt x="481861" y="11654"/>
                  </a:moveTo>
                  <a:cubicBezTo>
                    <a:pt x="486072" y="11654"/>
                    <a:pt x="490271" y="13359"/>
                    <a:pt x="494458" y="16770"/>
                  </a:cubicBezTo>
                  <a:cubicBezTo>
                    <a:pt x="498646" y="20181"/>
                    <a:pt x="502222" y="24146"/>
                    <a:pt x="505187" y="28664"/>
                  </a:cubicBezTo>
                  <a:cubicBezTo>
                    <a:pt x="508152" y="33182"/>
                    <a:pt x="510710" y="37809"/>
                    <a:pt x="512860" y="42545"/>
                  </a:cubicBezTo>
                  <a:cubicBezTo>
                    <a:pt x="515011" y="47280"/>
                    <a:pt x="516086" y="51338"/>
                    <a:pt x="516086" y="54717"/>
                  </a:cubicBezTo>
                  <a:cubicBezTo>
                    <a:pt x="516086" y="65750"/>
                    <a:pt x="510838" y="71266"/>
                    <a:pt x="500343" y="71266"/>
                  </a:cubicBezTo>
                  <a:cubicBezTo>
                    <a:pt x="495931" y="71266"/>
                    <a:pt x="492189" y="70133"/>
                    <a:pt x="489115" y="67868"/>
                  </a:cubicBezTo>
                  <a:cubicBezTo>
                    <a:pt x="486041" y="65602"/>
                    <a:pt x="483437" y="63116"/>
                    <a:pt x="481304" y="60409"/>
                  </a:cubicBezTo>
                  <a:cubicBezTo>
                    <a:pt x="479171" y="57702"/>
                    <a:pt x="477246" y="54963"/>
                    <a:pt x="475528" y="52192"/>
                  </a:cubicBezTo>
                  <a:cubicBezTo>
                    <a:pt x="473811" y="49421"/>
                    <a:pt x="472100" y="46757"/>
                    <a:pt x="470396" y="44199"/>
                  </a:cubicBezTo>
                  <a:cubicBezTo>
                    <a:pt x="468691" y="41641"/>
                    <a:pt x="467216" y="39194"/>
                    <a:pt x="465970" y="36859"/>
                  </a:cubicBezTo>
                  <a:cubicBezTo>
                    <a:pt x="464725" y="34523"/>
                    <a:pt x="464102" y="31635"/>
                    <a:pt x="464102" y="28197"/>
                  </a:cubicBezTo>
                  <a:cubicBezTo>
                    <a:pt x="464102" y="23717"/>
                    <a:pt x="465826" y="19840"/>
                    <a:pt x="469276" y="16565"/>
                  </a:cubicBezTo>
                  <a:cubicBezTo>
                    <a:pt x="472725" y="13291"/>
                    <a:pt x="476920" y="11654"/>
                    <a:pt x="481861" y="11654"/>
                  </a:cubicBezTo>
                  <a:close/>
                  <a:moveTo>
                    <a:pt x="618870" y="0"/>
                  </a:moveTo>
                  <a:cubicBezTo>
                    <a:pt x="623593" y="0"/>
                    <a:pt x="627599" y="1279"/>
                    <a:pt x="630888" y="3837"/>
                  </a:cubicBezTo>
                  <a:cubicBezTo>
                    <a:pt x="634178" y="6394"/>
                    <a:pt x="635822" y="10229"/>
                    <a:pt x="635822" y="15340"/>
                  </a:cubicBezTo>
                  <a:lnTo>
                    <a:pt x="635822" y="17529"/>
                  </a:lnTo>
                  <a:lnTo>
                    <a:pt x="618691" y="68514"/>
                  </a:lnTo>
                  <a:cubicBezTo>
                    <a:pt x="617616" y="71748"/>
                    <a:pt x="615401" y="74623"/>
                    <a:pt x="612048" y="77138"/>
                  </a:cubicBezTo>
                  <a:cubicBezTo>
                    <a:pt x="608695" y="79653"/>
                    <a:pt x="605209" y="80910"/>
                    <a:pt x="601591" y="80910"/>
                  </a:cubicBezTo>
                  <a:cubicBezTo>
                    <a:pt x="595968" y="80910"/>
                    <a:pt x="591669" y="79074"/>
                    <a:pt x="588696" y="75400"/>
                  </a:cubicBezTo>
                  <a:cubicBezTo>
                    <a:pt x="585722" y="71727"/>
                    <a:pt x="584235" y="67375"/>
                    <a:pt x="584235" y="62345"/>
                  </a:cubicBezTo>
                  <a:lnTo>
                    <a:pt x="584235" y="61046"/>
                  </a:lnTo>
                  <a:lnTo>
                    <a:pt x="599684" y="13042"/>
                  </a:lnTo>
                  <a:cubicBezTo>
                    <a:pt x="600998" y="9365"/>
                    <a:pt x="603495" y="6272"/>
                    <a:pt x="607175" y="3763"/>
                  </a:cubicBezTo>
                  <a:cubicBezTo>
                    <a:pt x="610854" y="1254"/>
                    <a:pt x="614753" y="0"/>
                    <a:pt x="618870" y="0"/>
                  </a:cubicBez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7" descr="02条"/>
          <p:cNvPicPr/>
          <p:nvPr/>
        </p:nvPicPr>
        <p:blipFill>
          <a:blip r:embed="rId1"/>
          <a:stretch/>
        </p:blipFill>
        <p:spPr>
          <a:xfrm>
            <a:off x="498600" y="1114560"/>
            <a:ext cx="2762280" cy="276228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8"/>
          <p:cNvSpPr/>
          <p:nvPr/>
        </p:nvSpPr>
        <p:spPr>
          <a:xfrm>
            <a:off x="906480" y="100080"/>
            <a:ext cx="194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宋体"/>
                <a:ea typeface="宋体"/>
              </a:rPr>
              <a:t>tiá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19"/>
          <p:cNvGrpSpPr/>
          <p:nvPr/>
        </p:nvGrpSpPr>
        <p:grpSpPr>
          <a:xfrm>
            <a:off x="2665440" y="4113360"/>
            <a:ext cx="3286080" cy="637920"/>
            <a:chOff x="2665440" y="4113360"/>
            <a:chExt cx="3286080" cy="637920"/>
          </a:xfrm>
        </p:grpSpPr>
        <p:pic>
          <p:nvPicPr>
            <p:cNvPr id="63" name="图片 20" descr=""/>
            <p:cNvPicPr/>
            <p:nvPr/>
          </p:nvPicPr>
          <p:blipFill>
            <a:blip r:embed="rId2"/>
            <a:stretch/>
          </p:blipFill>
          <p:spPr>
            <a:xfrm>
              <a:off x="2713680" y="4113360"/>
              <a:ext cx="323784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矩形 21"/>
            <p:cNvSpPr/>
            <p:nvPr/>
          </p:nvSpPr>
          <p:spPr>
            <a:xfrm>
              <a:off x="2665440" y="4527360"/>
              <a:ext cx="218880" cy="22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文本框 2"/>
          <p:cNvSpPr/>
          <p:nvPr/>
        </p:nvSpPr>
        <p:spPr>
          <a:xfrm>
            <a:off x="4168800" y="1192320"/>
            <a:ext cx="2762280" cy="25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构：</a:t>
            </a:r>
            <a:r>
              <a:rPr b="1" lang="zh-CN" sz="2800" spc="-1" strike="noStrike">
                <a:solidFill>
                  <a:srgbClr val="ee1a20"/>
                </a:solidFill>
                <a:latin typeface="宋体"/>
                <a:ea typeface="宋体"/>
              </a:rPr>
              <a:t>上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词：</a:t>
            </a:r>
            <a:r>
              <a:rPr b="1" lang="zh-CN" sz="2800" spc="-1" strike="noStrike">
                <a:solidFill>
                  <a:srgbClr val="ee1a20"/>
                </a:solidFill>
                <a:latin typeface="宋体"/>
                <a:ea typeface="宋体"/>
              </a:rPr>
              <a:t>条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枝</a:t>
            </a:r>
            <a:r>
              <a:rPr b="1" lang="zh-CN" sz="2800" spc="-1" strike="noStrike">
                <a:solidFill>
                  <a:srgbClr val="ee1a20"/>
                </a:solidFill>
                <a:latin typeface="宋体"/>
                <a:ea typeface="宋体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2"/>
          <p:cNvSpPr/>
          <p:nvPr/>
        </p:nvSpPr>
        <p:spPr>
          <a:xfrm>
            <a:off x="1420920" y="3968640"/>
            <a:ext cx="133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笔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1" descr=""/>
          <p:cNvPicPr/>
          <p:nvPr/>
        </p:nvPicPr>
        <p:blipFill>
          <a:blip r:embed="rId3"/>
          <a:stretch/>
        </p:blipFill>
        <p:spPr>
          <a:xfrm>
            <a:off x="5327640" y="1428840"/>
            <a:ext cx="345960" cy="341280"/>
          </a:xfrm>
          <a:prstGeom prst="rect">
            <a:avLst/>
          </a:prstGeom>
          <a:ln w="0">
            <a:noFill/>
          </a:ln>
        </p:spPr>
      </p:pic>
      <p:grpSp>
        <p:nvGrpSpPr>
          <p:cNvPr id="68" name="组合 1"/>
          <p:cNvGrpSpPr/>
          <p:nvPr/>
        </p:nvGrpSpPr>
        <p:grpSpPr>
          <a:xfrm>
            <a:off x="7192800" y="1380960"/>
            <a:ext cx="1241640" cy="1882800"/>
            <a:chOff x="7192800" y="1380960"/>
            <a:chExt cx="1241640" cy="1882800"/>
          </a:xfrm>
        </p:grpSpPr>
        <p:pic>
          <p:nvPicPr>
            <p:cNvPr id="69" name="图片 10" descr=""/>
            <p:cNvPicPr/>
            <p:nvPr/>
          </p:nvPicPr>
          <p:blipFill>
            <a:blip r:embed="rId4"/>
            <a:stretch/>
          </p:blipFill>
          <p:spPr>
            <a:xfrm>
              <a:off x="7192800" y="1726920"/>
              <a:ext cx="12416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任意多边形: 形状 14">
              <a:hlinkClick r:id="" action="ppaction://hlinkshowjump?jump=firstslide"/>
            </p:cNvPr>
            <p:cNvSpPr/>
            <p:nvPr/>
          </p:nvSpPr>
          <p:spPr>
            <a:xfrm>
              <a:off x="7276680" y="1380960"/>
              <a:ext cx="1081440" cy="369720"/>
            </a:xfrm>
            <a:custGeom>
              <a:avLst/>
              <a:gdLst/>
              <a:ahLst/>
              <a:rect l="l" t="t" r="r" b="b"/>
              <a:pathLst>
                <a:path w="1081039" h="370198">
                  <a:moveTo>
                    <a:pt x="610032" y="293857"/>
                  </a:moveTo>
                  <a:cubicBezTo>
                    <a:pt x="606056" y="293857"/>
                    <a:pt x="599112" y="293992"/>
                    <a:pt x="589201" y="294260"/>
                  </a:cubicBezTo>
                  <a:cubicBezTo>
                    <a:pt x="579824" y="294529"/>
                    <a:pt x="569616" y="294796"/>
                    <a:pt x="558579" y="295060"/>
                  </a:cubicBezTo>
                  <a:cubicBezTo>
                    <a:pt x="547832" y="295862"/>
                    <a:pt x="537584" y="296396"/>
                    <a:pt x="527835" y="296660"/>
                  </a:cubicBezTo>
                  <a:cubicBezTo>
                    <a:pt x="518087" y="296925"/>
                    <a:pt x="511158" y="297196"/>
                    <a:pt x="507050" y="297473"/>
                  </a:cubicBezTo>
                  <a:cubicBezTo>
                    <a:pt x="506090" y="297473"/>
                    <a:pt x="503871" y="297675"/>
                    <a:pt x="500394" y="298078"/>
                  </a:cubicBezTo>
                  <a:cubicBezTo>
                    <a:pt x="496917" y="298481"/>
                    <a:pt x="494470" y="298749"/>
                    <a:pt x="493054" y="298881"/>
                  </a:cubicBezTo>
                  <a:cubicBezTo>
                    <a:pt x="491637" y="299013"/>
                    <a:pt x="490572" y="299216"/>
                    <a:pt x="489857" y="299489"/>
                  </a:cubicBezTo>
                  <a:cubicBezTo>
                    <a:pt x="489142" y="299762"/>
                    <a:pt x="488913" y="299579"/>
                    <a:pt x="489169" y="298939"/>
                  </a:cubicBezTo>
                  <a:lnTo>
                    <a:pt x="489169" y="309850"/>
                  </a:lnTo>
                  <a:lnTo>
                    <a:pt x="489169" y="321209"/>
                  </a:lnTo>
                  <a:cubicBezTo>
                    <a:pt x="489382" y="322903"/>
                    <a:pt x="489608" y="325261"/>
                    <a:pt x="489847" y="328284"/>
                  </a:cubicBezTo>
                  <a:cubicBezTo>
                    <a:pt x="490086" y="331307"/>
                    <a:pt x="490118" y="332731"/>
                    <a:pt x="489943" y="332556"/>
                  </a:cubicBezTo>
                  <a:lnTo>
                    <a:pt x="490103" y="332684"/>
                  </a:lnTo>
                  <a:lnTo>
                    <a:pt x="501949" y="332684"/>
                  </a:lnTo>
                  <a:cubicBezTo>
                    <a:pt x="522735" y="332684"/>
                    <a:pt x="542638" y="332349"/>
                    <a:pt x="561657" y="331679"/>
                  </a:cubicBezTo>
                  <a:cubicBezTo>
                    <a:pt x="580677" y="331009"/>
                    <a:pt x="598248" y="330674"/>
                    <a:pt x="614371" y="330674"/>
                  </a:cubicBezTo>
                  <a:cubicBezTo>
                    <a:pt x="614371" y="326596"/>
                    <a:pt x="613840" y="320836"/>
                    <a:pt x="612777" y="313395"/>
                  </a:cubicBezTo>
                  <a:lnTo>
                    <a:pt x="610934" y="293857"/>
                  </a:lnTo>
                  <a:close/>
                  <a:moveTo>
                    <a:pt x="552935" y="248855"/>
                  </a:moveTo>
                  <a:cubicBezTo>
                    <a:pt x="542192" y="248855"/>
                    <a:pt x="530385" y="249380"/>
                    <a:pt x="517513" y="250430"/>
                  </a:cubicBezTo>
                  <a:cubicBezTo>
                    <a:pt x="515094" y="250967"/>
                    <a:pt x="512009" y="251376"/>
                    <a:pt x="508259" y="251655"/>
                  </a:cubicBezTo>
                  <a:cubicBezTo>
                    <a:pt x="504509" y="251934"/>
                    <a:pt x="501038" y="252208"/>
                    <a:pt x="497847" y="252474"/>
                  </a:cubicBezTo>
                  <a:cubicBezTo>
                    <a:pt x="494656" y="252741"/>
                    <a:pt x="491742" y="253009"/>
                    <a:pt x="489105" y="253277"/>
                  </a:cubicBezTo>
                  <a:lnTo>
                    <a:pt x="487563" y="253452"/>
                  </a:lnTo>
                  <a:lnTo>
                    <a:pt x="487563" y="263171"/>
                  </a:lnTo>
                  <a:lnTo>
                    <a:pt x="490295" y="263171"/>
                  </a:lnTo>
                  <a:cubicBezTo>
                    <a:pt x="494681" y="263171"/>
                    <a:pt x="498549" y="262923"/>
                    <a:pt x="501898" y="262426"/>
                  </a:cubicBezTo>
                  <a:cubicBezTo>
                    <a:pt x="505247" y="261929"/>
                    <a:pt x="509569" y="261241"/>
                    <a:pt x="514863" y="260362"/>
                  </a:cubicBezTo>
                  <a:lnTo>
                    <a:pt x="611171" y="260362"/>
                  </a:lnTo>
                  <a:lnTo>
                    <a:pt x="612765" y="249207"/>
                  </a:lnTo>
                  <a:lnTo>
                    <a:pt x="612406" y="248855"/>
                  </a:lnTo>
                  <a:lnTo>
                    <a:pt x="589937" y="248855"/>
                  </a:lnTo>
                  <a:cubicBezTo>
                    <a:pt x="576012" y="248855"/>
                    <a:pt x="563678" y="248855"/>
                    <a:pt x="552935" y="248855"/>
                  </a:cubicBezTo>
                  <a:close/>
                  <a:moveTo>
                    <a:pt x="606877" y="187381"/>
                  </a:moveTo>
                  <a:cubicBezTo>
                    <a:pt x="597504" y="187649"/>
                    <a:pt x="585863" y="187918"/>
                    <a:pt x="571954" y="188187"/>
                  </a:cubicBezTo>
                  <a:cubicBezTo>
                    <a:pt x="558046" y="188456"/>
                    <a:pt x="544530" y="188857"/>
                    <a:pt x="531406" y="189390"/>
                  </a:cubicBezTo>
                  <a:lnTo>
                    <a:pt x="485956" y="190553"/>
                  </a:lnTo>
                  <a:lnTo>
                    <a:pt x="485956" y="215660"/>
                  </a:lnTo>
                  <a:lnTo>
                    <a:pt x="486180" y="216166"/>
                  </a:lnTo>
                  <a:lnTo>
                    <a:pt x="493508" y="216166"/>
                  </a:lnTo>
                  <a:cubicBezTo>
                    <a:pt x="515433" y="216166"/>
                    <a:pt x="536226" y="215841"/>
                    <a:pt x="555888" y="215190"/>
                  </a:cubicBezTo>
                  <a:cubicBezTo>
                    <a:pt x="575550" y="214539"/>
                    <a:pt x="595149" y="214334"/>
                    <a:pt x="614685" y="214573"/>
                  </a:cubicBezTo>
                  <a:cubicBezTo>
                    <a:pt x="616886" y="204875"/>
                    <a:pt x="617987" y="195811"/>
                    <a:pt x="617987" y="187381"/>
                  </a:cubicBezTo>
                  <a:close/>
                  <a:moveTo>
                    <a:pt x="953994" y="177192"/>
                  </a:moveTo>
                  <a:cubicBezTo>
                    <a:pt x="965027" y="177192"/>
                    <a:pt x="970544" y="182572"/>
                    <a:pt x="970544" y="193332"/>
                  </a:cubicBezTo>
                  <a:cubicBezTo>
                    <a:pt x="970544" y="204514"/>
                    <a:pt x="969405" y="215396"/>
                    <a:pt x="967129" y="225977"/>
                  </a:cubicBezTo>
                  <a:cubicBezTo>
                    <a:pt x="964853" y="236557"/>
                    <a:pt x="963715" y="247104"/>
                    <a:pt x="963715" y="257616"/>
                  </a:cubicBezTo>
                  <a:lnTo>
                    <a:pt x="963715" y="258205"/>
                  </a:lnTo>
                  <a:lnTo>
                    <a:pt x="973481" y="267600"/>
                  </a:lnTo>
                  <a:cubicBezTo>
                    <a:pt x="973635" y="267907"/>
                    <a:pt x="975063" y="268883"/>
                    <a:pt x="977766" y="270528"/>
                  </a:cubicBezTo>
                  <a:cubicBezTo>
                    <a:pt x="980468" y="272172"/>
                    <a:pt x="983876" y="274270"/>
                    <a:pt x="987989" y="276822"/>
                  </a:cubicBezTo>
                  <a:cubicBezTo>
                    <a:pt x="992102" y="279373"/>
                    <a:pt x="996049" y="281888"/>
                    <a:pt x="999831" y="284367"/>
                  </a:cubicBezTo>
                  <a:cubicBezTo>
                    <a:pt x="1003614" y="286845"/>
                    <a:pt x="1006509" y="288639"/>
                    <a:pt x="1008519" y="289749"/>
                  </a:cubicBezTo>
                  <a:cubicBezTo>
                    <a:pt x="1009713" y="290342"/>
                    <a:pt x="1012657" y="291912"/>
                    <a:pt x="1017350" y="294459"/>
                  </a:cubicBezTo>
                  <a:cubicBezTo>
                    <a:pt x="1022043" y="297006"/>
                    <a:pt x="1026973" y="299572"/>
                    <a:pt x="1032140" y="302158"/>
                  </a:cubicBezTo>
                  <a:cubicBezTo>
                    <a:pt x="1037993" y="304820"/>
                    <a:pt x="1043143" y="307401"/>
                    <a:pt x="1047589" y="309901"/>
                  </a:cubicBezTo>
                  <a:cubicBezTo>
                    <a:pt x="1052452" y="312597"/>
                    <a:pt x="1055513" y="314321"/>
                    <a:pt x="1056772" y="315072"/>
                  </a:cubicBezTo>
                  <a:cubicBezTo>
                    <a:pt x="1059972" y="316527"/>
                    <a:pt x="1063142" y="318659"/>
                    <a:pt x="1066282" y="321468"/>
                  </a:cubicBezTo>
                  <a:cubicBezTo>
                    <a:pt x="1069422" y="324278"/>
                    <a:pt x="1070992" y="327958"/>
                    <a:pt x="1070992" y="332508"/>
                  </a:cubicBezTo>
                  <a:cubicBezTo>
                    <a:pt x="1070992" y="337058"/>
                    <a:pt x="1069663" y="341196"/>
                    <a:pt x="1067005" y="344923"/>
                  </a:cubicBezTo>
                  <a:cubicBezTo>
                    <a:pt x="1064347" y="348650"/>
                    <a:pt x="1060294" y="350513"/>
                    <a:pt x="1054846" y="350513"/>
                  </a:cubicBezTo>
                  <a:cubicBezTo>
                    <a:pt x="1052640" y="350513"/>
                    <a:pt x="1051096" y="350336"/>
                    <a:pt x="1050216" y="349982"/>
                  </a:cubicBezTo>
                  <a:cubicBezTo>
                    <a:pt x="1049334" y="349628"/>
                    <a:pt x="1048041" y="349169"/>
                    <a:pt x="1046334" y="348606"/>
                  </a:cubicBezTo>
                  <a:cubicBezTo>
                    <a:pt x="1044261" y="347416"/>
                    <a:pt x="1041010" y="345790"/>
                    <a:pt x="1036581" y="343729"/>
                  </a:cubicBezTo>
                  <a:cubicBezTo>
                    <a:pt x="1034695" y="342091"/>
                    <a:pt x="1030854" y="340058"/>
                    <a:pt x="1025056" y="337631"/>
                  </a:cubicBezTo>
                  <a:cubicBezTo>
                    <a:pt x="1019257" y="335203"/>
                    <a:pt x="1014344" y="332949"/>
                    <a:pt x="1010314" y="330869"/>
                  </a:cubicBezTo>
                  <a:cubicBezTo>
                    <a:pt x="1006284" y="328790"/>
                    <a:pt x="1003399" y="327459"/>
                    <a:pt x="1001659" y="326879"/>
                  </a:cubicBezTo>
                  <a:cubicBezTo>
                    <a:pt x="992925" y="322242"/>
                    <a:pt x="984615" y="316915"/>
                    <a:pt x="976729" y="310899"/>
                  </a:cubicBezTo>
                  <a:cubicBezTo>
                    <a:pt x="968842" y="304884"/>
                    <a:pt x="961066" y="300274"/>
                    <a:pt x="953399" y="297070"/>
                  </a:cubicBezTo>
                  <a:cubicBezTo>
                    <a:pt x="953245" y="297305"/>
                    <a:pt x="952898" y="298960"/>
                    <a:pt x="952356" y="302036"/>
                  </a:cubicBezTo>
                  <a:cubicBezTo>
                    <a:pt x="952100" y="306379"/>
                    <a:pt x="951691" y="311144"/>
                    <a:pt x="951130" y="316330"/>
                  </a:cubicBezTo>
                  <a:cubicBezTo>
                    <a:pt x="950569" y="321515"/>
                    <a:pt x="948996" y="326120"/>
                    <a:pt x="946411" y="330143"/>
                  </a:cubicBezTo>
                  <a:cubicBezTo>
                    <a:pt x="943509" y="335954"/>
                    <a:pt x="938403" y="338859"/>
                    <a:pt x="931090" y="338859"/>
                  </a:cubicBezTo>
                  <a:cubicBezTo>
                    <a:pt x="924716" y="338859"/>
                    <a:pt x="920238" y="336709"/>
                    <a:pt x="917657" y="332409"/>
                  </a:cubicBezTo>
                  <a:cubicBezTo>
                    <a:pt x="916381" y="329217"/>
                    <a:pt x="915744" y="325181"/>
                    <a:pt x="915744" y="320300"/>
                  </a:cubicBezTo>
                  <a:cubicBezTo>
                    <a:pt x="915744" y="319494"/>
                    <a:pt x="915744" y="317921"/>
                    <a:pt x="915744" y="315581"/>
                  </a:cubicBezTo>
                  <a:cubicBezTo>
                    <a:pt x="915744" y="313241"/>
                    <a:pt x="915963" y="311855"/>
                    <a:pt x="916403" y="311424"/>
                  </a:cubicBezTo>
                  <a:lnTo>
                    <a:pt x="934226" y="215961"/>
                  </a:lnTo>
                  <a:cubicBezTo>
                    <a:pt x="934226" y="213465"/>
                    <a:pt x="934226" y="210133"/>
                    <a:pt x="934226" y="205965"/>
                  </a:cubicBezTo>
                  <a:cubicBezTo>
                    <a:pt x="934226" y="201797"/>
                    <a:pt x="934663" y="197670"/>
                    <a:pt x="935538" y="193585"/>
                  </a:cubicBezTo>
                  <a:cubicBezTo>
                    <a:pt x="936412" y="189500"/>
                    <a:pt x="938220" y="185747"/>
                    <a:pt x="940961" y="182325"/>
                  </a:cubicBezTo>
                  <a:cubicBezTo>
                    <a:pt x="943703" y="178903"/>
                    <a:pt x="948047" y="177192"/>
                    <a:pt x="953994" y="177192"/>
                  </a:cubicBezTo>
                  <a:close/>
                  <a:moveTo>
                    <a:pt x="105024" y="162070"/>
                  </a:moveTo>
                  <a:lnTo>
                    <a:pt x="105024" y="162793"/>
                  </a:lnTo>
                  <a:cubicBezTo>
                    <a:pt x="105024" y="163177"/>
                    <a:pt x="105080" y="163881"/>
                    <a:pt x="105193" y="164905"/>
                  </a:cubicBezTo>
                  <a:cubicBezTo>
                    <a:pt x="105306" y="165929"/>
                    <a:pt x="105423" y="167043"/>
                    <a:pt x="105542" y="168246"/>
                  </a:cubicBezTo>
                  <a:cubicBezTo>
                    <a:pt x="105662" y="169449"/>
                    <a:pt x="105862" y="170645"/>
                    <a:pt x="106144" y="171833"/>
                  </a:cubicBezTo>
                  <a:cubicBezTo>
                    <a:pt x="106425" y="173021"/>
                    <a:pt x="106587" y="173892"/>
                    <a:pt x="106630" y="174447"/>
                  </a:cubicBezTo>
                  <a:cubicBezTo>
                    <a:pt x="106630" y="176619"/>
                    <a:pt x="106816" y="179805"/>
                    <a:pt x="107187" y="184005"/>
                  </a:cubicBezTo>
                  <a:cubicBezTo>
                    <a:pt x="107558" y="188205"/>
                    <a:pt x="107876" y="192571"/>
                    <a:pt x="108140" y="197102"/>
                  </a:cubicBezTo>
                  <a:cubicBezTo>
                    <a:pt x="108682" y="202486"/>
                    <a:pt x="109096" y="207324"/>
                    <a:pt x="109382" y="211616"/>
                  </a:cubicBezTo>
                  <a:cubicBezTo>
                    <a:pt x="109689" y="216876"/>
                    <a:pt x="109843" y="219865"/>
                    <a:pt x="109843" y="220582"/>
                  </a:cubicBezTo>
                  <a:lnTo>
                    <a:pt x="110271" y="221267"/>
                  </a:lnTo>
                  <a:cubicBezTo>
                    <a:pt x="110271" y="221267"/>
                    <a:pt x="111194" y="221364"/>
                    <a:pt x="113039" y="221558"/>
                  </a:cubicBezTo>
                  <a:cubicBezTo>
                    <a:pt x="114884" y="221752"/>
                    <a:pt x="117682" y="222057"/>
                    <a:pt x="121432" y="222473"/>
                  </a:cubicBezTo>
                  <a:cubicBezTo>
                    <a:pt x="125182" y="222889"/>
                    <a:pt x="128613" y="223216"/>
                    <a:pt x="131723" y="223455"/>
                  </a:cubicBezTo>
                  <a:cubicBezTo>
                    <a:pt x="136040" y="223745"/>
                    <a:pt x="139274" y="224127"/>
                    <a:pt x="141425" y="224601"/>
                  </a:cubicBezTo>
                  <a:lnTo>
                    <a:pt x="146333" y="224601"/>
                  </a:lnTo>
                  <a:cubicBezTo>
                    <a:pt x="146231" y="224601"/>
                    <a:pt x="146619" y="224600"/>
                    <a:pt x="147498" y="224597"/>
                  </a:cubicBezTo>
                  <a:cubicBezTo>
                    <a:pt x="148377" y="224595"/>
                    <a:pt x="148765" y="224963"/>
                    <a:pt x="148663" y="225701"/>
                  </a:cubicBezTo>
                  <a:cubicBezTo>
                    <a:pt x="148663" y="223905"/>
                    <a:pt x="148730" y="220195"/>
                    <a:pt x="148864" y="214569"/>
                  </a:cubicBezTo>
                  <a:cubicBezTo>
                    <a:pt x="148999" y="208944"/>
                    <a:pt x="149133" y="202851"/>
                    <a:pt x="149267" y="196289"/>
                  </a:cubicBezTo>
                  <a:cubicBezTo>
                    <a:pt x="149402" y="189727"/>
                    <a:pt x="149535" y="183706"/>
                    <a:pt x="149667" y="178226"/>
                  </a:cubicBezTo>
                  <a:cubicBezTo>
                    <a:pt x="149800" y="172746"/>
                    <a:pt x="149866" y="168807"/>
                    <a:pt x="149866" y="166409"/>
                  </a:cubicBezTo>
                  <a:lnTo>
                    <a:pt x="149866" y="165609"/>
                  </a:lnTo>
                  <a:cubicBezTo>
                    <a:pt x="149866" y="165289"/>
                    <a:pt x="149436" y="164866"/>
                    <a:pt x="148576" y="164339"/>
                  </a:cubicBezTo>
                  <a:cubicBezTo>
                    <a:pt x="147717" y="163812"/>
                    <a:pt x="146120" y="163364"/>
                    <a:pt x="143786" y="162995"/>
                  </a:cubicBezTo>
                  <a:cubicBezTo>
                    <a:pt x="141452" y="162626"/>
                    <a:pt x="139195" y="162379"/>
                    <a:pt x="137015" y="162256"/>
                  </a:cubicBezTo>
                  <a:cubicBezTo>
                    <a:pt x="134835" y="162132"/>
                    <a:pt x="133252" y="162070"/>
                    <a:pt x="132267" y="162070"/>
                  </a:cubicBezTo>
                  <a:lnTo>
                    <a:pt x="117401" y="162070"/>
                  </a:lnTo>
                  <a:close/>
                  <a:moveTo>
                    <a:pt x="101389" y="125362"/>
                  </a:moveTo>
                  <a:cubicBezTo>
                    <a:pt x="105689" y="125626"/>
                    <a:pt x="109286" y="125759"/>
                    <a:pt x="112178" y="125759"/>
                  </a:cubicBezTo>
                  <a:lnTo>
                    <a:pt x="127448" y="125759"/>
                  </a:lnTo>
                  <a:cubicBezTo>
                    <a:pt x="127589" y="125759"/>
                    <a:pt x="129304" y="125923"/>
                    <a:pt x="132593" y="126251"/>
                  </a:cubicBezTo>
                  <a:cubicBezTo>
                    <a:pt x="135546" y="127058"/>
                    <a:pt x="138961" y="127669"/>
                    <a:pt x="142839" y="128085"/>
                  </a:cubicBezTo>
                  <a:cubicBezTo>
                    <a:pt x="146717" y="128501"/>
                    <a:pt x="150443" y="128965"/>
                    <a:pt x="154016" y="129477"/>
                  </a:cubicBezTo>
                  <a:cubicBezTo>
                    <a:pt x="157589" y="129989"/>
                    <a:pt x="160577" y="130511"/>
                    <a:pt x="162979" y="131045"/>
                  </a:cubicBezTo>
                  <a:cubicBezTo>
                    <a:pt x="168768" y="131958"/>
                    <a:pt x="173213" y="133476"/>
                    <a:pt x="176312" y="135598"/>
                  </a:cubicBezTo>
                  <a:cubicBezTo>
                    <a:pt x="179412" y="137721"/>
                    <a:pt x="182301" y="141630"/>
                    <a:pt x="184980" y="147325"/>
                  </a:cubicBezTo>
                  <a:lnTo>
                    <a:pt x="184980" y="161590"/>
                  </a:lnTo>
                  <a:lnTo>
                    <a:pt x="184980" y="174447"/>
                  </a:lnTo>
                  <a:cubicBezTo>
                    <a:pt x="184980" y="175113"/>
                    <a:pt x="184903" y="178793"/>
                    <a:pt x="184747" y="185489"/>
                  </a:cubicBezTo>
                  <a:cubicBezTo>
                    <a:pt x="184591" y="192186"/>
                    <a:pt x="184380" y="198671"/>
                    <a:pt x="184113" y="204944"/>
                  </a:cubicBezTo>
                  <a:cubicBezTo>
                    <a:pt x="183847" y="211218"/>
                    <a:pt x="183651" y="217157"/>
                    <a:pt x="183528" y="222761"/>
                  </a:cubicBezTo>
                  <a:cubicBezTo>
                    <a:pt x="183404" y="228365"/>
                    <a:pt x="183353" y="232472"/>
                    <a:pt x="183374" y="235083"/>
                  </a:cubicBezTo>
                  <a:cubicBezTo>
                    <a:pt x="181139" y="240297"/>
                    <a:pt x="179478" y="244111"/>
                    <a:pt x="178392" y="246526"/>
                  </a:cubicBezTo>
                  <a:cubicBezTo>
                    <a:pt x="177306" y="248941"/>
                    <a:pt x="175772" y="251305"/>
                    <a:pt x="173791" y="253620"/>
                  </a:cubicBezTo>
                  <a:cubicBezTo>
                    <a:pt x="171809" y="255934"/>
                    <a:pt x="169435" y="257661"/>
                    <a:pt x="166668" y="258800"/>
                  </a:cubicBezTo>
                  <a:cubicBezTo>
                    <a:pt x="163901" y="259939"/>
                    <a:pt x="160336" y="260509"/>
                    <a:pt x="155971" y="260509"/>
                  </a:cubicBezTo>
                  <a:cubicBezTo>
                    <a:pt x="144959" y="260509"/>
                    <a:pt x="134214" y="259971"/>
                    <a:pt x="123736" y="258896"/>
                  </a:cubicBezTo>
                  <a:cubicBezTo>
                    <a:pt x="113258" y="257821"/>
                    <a:pt x="102660" y="257145"/>
                    <a:pt x="91943" y="256868"/>
                  </a:cubicBezTo>
                  <a:cubicBezTo>
                    <a:pt x="86687" y="255225"/>
                    <a:pt x="82970" y="252981"/>
                    <a:pt x="80792" y="250135"/>
                  </a:cubicBezTo>
                  <a:cubicBezTo>
                    <a:pt x="78614" y="247289"/>
                    <a:pt x="76737" y="243503"/>
                    <a:pt x="75163" y="238776"/>
                  </a:cubicBezTo>
                  <a:cubicBezTo>
                    <a:pt x="74621" y="225277"/>
                    <a:pt x="73550" y="211584"/>
                    <a:pt x="71951" y="197697"/>
                  </a:cubicBezTo>
                  <a:cubicBezTo>
                    <a:pt x="70858" y="184074"/>
                    <a:pt x="70312" y="170298"/>
                    <a:pt x="70312" y="156368"/>
                  </a:cubicBezTo>
                  <a:lnTo>
                    <a:pt x="70312" y="142878"/>
                  </a:lnTo>
                  <a:cubicBezTo>
                    <a:pt x="70649" y="137809"/>
                    <a:pt x="72910" y="133756"/>
                    <a:pt x="77096" y="130718"/>
                  </a:cubicBezTo>
                  <a:cubicBezTo>
                    <a:pt x="80872" y="128969"/>
                    <a:pt x="84884" y="127487"/>
                    <a:pt x="89133" y="126271"/>
                  </a:cubicBezTo>
                  <a:cubicBezTo>
                    <a:pt x="94014" y="125665"/>
                    <a:pt x="98099" y="125362"/>
                    <a:pt x="101389" y="125362"/>
                  </a:cubicBezTo>
                  <a:close/>
                  <a:moveTo>
                    <a:pt x="140167" y="86932"/>
                  </a:moveTo>
                  <a:cubicBezTo>
                    <a:pt x="136325" y="86932"/>
                    <a:pt x="132472" y="86999"/>
                    <a:pt x="128606" y="87134"/>
                  </a:cubicBezTo>
                  <a:cubicBezTo>
                    <a:pt x="124741" y="87268"/>
                    <a:pt x="121006" y="87335"/>
                    <a:pt x="117401" y="87335"/>
                  </a:cubicBezTo>
                  <a:cubicBezTo>
                    <a:pt x="114457" y="87335"/>
                    <a:pt x="112850" y="87335"/>
                    <a:pt x="112582" y="87335"/>
                  </a:cubicBezTo>
                  <a:cubicBezTo>
                    <a:pt x="111101" y="87335"/>
                    <a:pt x="107764" y="87467"/>
                    <a:pt x="102569" y="87729"/>
                  </a:cubicBezTo>
                  <a:cubicBezTo>
                    <a:pt x="97375" y="87991"/>
                    <a:pt x="91111" y="88263"/>
                    <a:pt x="83777" y="88545"/>
                  </a:cubicBezTo>
                  <a:cubicBezTo>
                    <a:pt x="77390" y="88810"/>
                    <a:pt x="70917" y="89139"/>
                    <a:pt x="64357" y="89534"/>
                  </a:cubicBezTo>
                  <a:cubicBezTo>
                    <a:pt x="57798" y="89928"/>
                    <a:pt x="52959" y="90254"/>
                    <a:pt x="49840" y="90510"/>
                  </a:cubicBezTo>
                  <a:cubicBezTo>
                    <a:pt x="47677" y="90783"/>
                    <a:pt x="45217" y="91014"/>
                    <a:pt x="42461" y="91204"/>
                  </a:cubicBezTo>
                  <a:cubicBezTo>
                    <a:pt x="39705" y="91394"/>
                    <a:pt x="38327" y="90668"/>
                    <a:pt x="38327" y="89025"/>
                  </a:cubicBezTo>
                  <a:lnTo>
                    <a:pt x="36721" y="92238"/>
                  </a:lnTo>
                  <a:lnTo>
                    <a:pt x="36721" y="104941"/>
                  </a:lnTo>
                  <a:lnTo>
                    <a:pt x="36721" y="125938"/>
                  </a:lnTo>
                  <a:cubicBezTo>
                    <a:pt x="36943" y="130917"/>
                    <a:pt x="37188" y="137826"/>
                    <a:pt x="37457" y="146666"/>
                  </a:cubicBezTo>
                  <a:cubicBezTo>
                    <a:pt x="37725" y="155506"/>
                    <a:pt x="37994" y="164814"/>
                    <a:pt x="38263" y="174591"/>
                  </a:cubicBezTo>
                  <a:cubicBezTo>
                    <a:pt x="38532" y="184367"/>
                    <a:pt x="38796" y="193962"/>
                    <a:pt x="39057" y="203373"/>
                  </a:cubicBezTo>
                  <a:cubicBezTo>
                    <a:pt x="39863" y="213037"/>
                    <a:pt x="40400" y="221805"/>
                    <a:pt x="40669" y="229679"/>
                  </a:cubicBezTo>
                  <a:cubicBezTo>
                    <a:pt x="40938" y="237552"/>
                    <a:pt x="41145" y="244040"/>
                    <a:pt x="41290" y="249140"/>
                  </a:cubicBezTo>
                  <a:cubicBezTo>
                    <a:pt x="41435" y="254240"/>
                    <a:pt x="41518" y="257070"/>
                    <a:pt x="41540" y="257629"/>
                  </a:cubicBezTo>
                  <a:lnTo>
                    <a:pt x="44656" y="280853"/>
                  </a:lnTo>
                  <a:lnTo>
                    <a:pt x="211993" y="280853"/>
                  </a:lnTo>
                  <a:lnTo>
                    <a:pt x="225004" y="101056"/>
                  </a:lnTo>
                  <a:lnTo>
                    <a:pt x="225004" y="96097"/>
                  </a:lnTo>
                  <a:cubicBezTo>
                    <a:pt x="225004" y="93763"/>
                    <a:pt x="224447" y="92395"/>
                    <a:pt x="223333" y="91994"/>
                  </a:cubicBezTo>
                  <a:cubicBezTo>
                    <a:pt x="221213" y="91568"/>
                    <a:pt x="217998" y="91086"/>
                    <a:pt x="213689" y="90548"/>
                  </a:cubicBezTo>
                  <a:cubicBezTo>
                    <a:pt x="211569" y="90249"/>
                    <a:pt x="208914" y="89901"/>
                    <a:pt x="205725" y="89502"/>
                  </a:cubicBezTo>
                  <a:cubicBezTo>
                    <a:pt x="202536" y="89103"/>
                    <a:pt x="199352" y="88771"/>
                    <a:pt x="196173" y="88507"/>
                  </a:cubicBezTo>
                  <a:cubicBezTo>
                    <a:pt x="192995" y="88242"/>
                    <a:pt x="190217" y="87981"/>
                    <a:pt x="187841" y="87723"/>
                  </a:cubicBezTo>
                  <a:cubicBezTo>
                    <a:pt x="185465" y="87465"/>
                    <a:pt x="184179" y="87335"/>
                    <a:pt x="183985" y="87335"/>
                  </a:cubicBezTo>
                  <a:cubicBezTo>
                    <a:pt x="183791" y="87335"/>
                    <a:pt x="182256" y="87335"/>
                    <a:pt x="179381" y="87335"/>
                  </a:cubicBezTo>
                  <a:cubicBezTo>
                    <a:pt x="176505" y="87335"/>
                    <a:pt x="173263" y="87268"/>
                    <a:pt x="169653" y="87134"/>
                  </a:cubicBezTo>
                  <a:cubicBezTo>
                    <a:pt x="166044" y="86999"/>
                    <a:pt x="162326" y="86932"/>
                    <a:pt x="158499" y="86932"/>
                  </a:cubicBezTo>
                  <a:cubicBezTo>
                    <a:pt x="154672" y="86932"/>
                    <a:pt x="151620" y="86932"/>
                    <a:pt x="149344" y="86932"/>
                  </a:cubicBezTo>
                  <a:cubicBezTo>
                    <a:pt x="147068" y="86932"/>
                    <a:pt x="144009" y="86932"/>
                    <a:pt x="140167" y="86932"/>
                  </a:cubicBezTo>
                  <a:close/>
                  <a:moveTo>
                    <a:pt x="660256" y="84379"/>
                  </a:moveTo>
                  <a:cubicBezTo>
                    <a:pt x="665589" y="84379"/>
                    <a:pt x="671154" y="85146"/>
                    <a:pt x="676950" y="86680"/>
                  </a:cubicBezTo>
                  <a:cubicBezTo>
                    <a:pt x="682745" y="88213"/>
                    <a:pt x="685643" y="93093"/>
                    <a:pt x="685643" y="101319"/>
                  </a:cubicBezTo>
                  <a:cubicBezTo>
                    <a:pt x="685643" y="105231"/>
                    <a:pt x="684735" y="108702"/>
                    <a:pt x="682917" y="111731"/>
                  </a:cubicBezTo>
                  <a:cubicBezTo>
                    <a:pt x="681275" y="116240"/>
                    <a:pt x="677691" y="118681"/>
                    <a:pt x="672166" y="119052"/>
                  </a:cubicBezTo>
                  <a:lnTo>
                    <a:pt x="573561" y="124300"/>
                  </a:lnTo>
                  <a:cubicBezTo>
                    <a:pt x="573885" y="124300"/>
                    <a:pt x="573622" y="124603"/>
                    <a:pt x="572773" y="125208"/>
                  </a:cubicBezTo>
                  <a:cubicBezTo>
                    <a:pt x="571357" y="127192"/>
                    <a:pt x="570232" y="128839"/>
                    <a:pt x="569398" y="130149"/>
                  </a:cubicBezTo>
                  <a:cubicBezTo>
                    <a:pt x="568564" y="131459"/>
                    <a:pt x="567383" y="133201"/>
                    <a:pt x="565856" y="135377"/>
                  </a:cubicBezTo>
                  <a:cubicBezTo>
                    <a:pt x="564563" y="138483"/>
                    <a:pt x="563014" y="141425"/>
                    <a:pt x="561209" y="144202"/>
                  </a:cubicBezTo>
                  <a:cubicBezTo>
                    <a:pt x="559405" y="146980"/>
                    <a:pt x="557996" y="149271"/>
                    <a:pt x="556983" y="151076"/>
                  </a:cubicBezTo>
                  <a:lnTo>
                    <a:pt x="556253" y="152265"/>
                  </a:lnTo>
                  <a:lnTo>
                    <a:pt x="589656" y="151677"/>
                  </a:lnTo>
                  <a:cubicBezTo>
                    <a:pt x="601576" y="151276"/>
                    <a:pt x="613189" y="151076"/>
                    <a:pt x="624495" y="151076"/>
                  </a:cubicBezTo>
                  <a:cubicBezTo>
                    <a:pt x="633796" y="151076"/>
                    <a:pt x="640927" y="153089"/>
                    <a:pt x="645889" y="157117"/>
                  </a:cubicBezTo>
                  <a:cubicBezTo>
                    <a:pt x="651499" y="162070"/>
                    <a:pt x="654305" y="169321"/>
                    <a:pt x="654305" y="178869"/>
                  </a:cubicBezTo>
                  <a:cubicBezTo>
                    <a:pt x="654305" y="197944"/>
                    <a:pt x="653099" y="216658"/>
                    <a:pt x="650689" y="235010"/>
                  </a:cubicBezTo>
                  <a:cubicBezTo>
                    <a:pt x="648278" y="253362"/>
                    <a:pt x="647073" y="271881"/>
                    <a:pt x="647073" y="290568"/>
                  </a:cubicBezTo>
                  <a:cubicBezTo>
                    <a:pt x="647073" y="291639"/>
                    <a:pt x="647073" y="293708"/>
                    <a:pt x="647073" y="296776"/>
                  </a:cubicBezTo>
                  <a:cubicBezTo>
                    <a:pt x="647073" y="299843"/>
                    <a:pt x="647140" y="302789"/>
                    <a:pt x="647275" y="305613"/>
                  </a:cubicBezTo>
                  <a:cubicBezTo>
                    <a:pt x="647409" y="308438"/>
                    <a:pt x="647476" y="310989"/>
                    <a:pt x="647476" y="313267"/>
                  </a:cubicBezTo>
                  <a:cubicBezTo>
                    <a:pt x="647476" y="315546"/>
                    <a:pt x="647476" y="317032"/>
                    <a:pt x="647476" y="317728"/>
                  </a:cubicBezTo>
                  <a:cubicBezTo>
                    <a:pt x="649277" y="321849"/>
                    <a:pt x="650329" y="325798"/>
                    <a:pt x="650634" y="329574"/>
                  </a:cubicBezTo>
                  <a:cubicBezTo>
                    <a:pt x="650939" y="333349"/>
                    <a:pt x="651092" y="337355"/>
                    <a:pt x="651092" y="341592"/>
                  </a:cubicBezTo>
                  <a:cubicBezTo>
                    <a:pt x="651092" y="341451"/>
                    <a:pt x="651019" y="342911"/>
                    <a:pt x="650874" y="345973"/>
                  </a:cubicBezTo>
                  <a:cubicBezTo>
                    <a:pt x="650729" y="349034"/>
                    <a:pt x="650667" y="350910"/>
                    <a:pt x="650689" y="351601"/>
                  </a:cubicBezTo>
                  <a:cubicBezTo>
                    <a:pt x="649170" y="357309"/>
                    <a:pt x="646366" y="361144"/>
                    <a:pt x="642276" y="363104"/>
                  </a:cubicBezTo>
                  <a:cubicBezTo>
                    <a:pt x="638187" y="365065"/>
                    <a:pt x="634203" y="366493"/>
                    <a:pt x="630325" y="367389"/>
                  </a:cubicBezTo>
                  <a:lnTo>
                    <a:pt x="533691" y="367389"/>
                  </a:lnTo>
                  <a:cubicBezTo>
                    <a:pt x="532706" y="367389"/>
                    <a:pt x="530605" y="367455"/>
                    <a:pt x="527391" y="367587"/>
                  </a:cubicBezTo>
                  <a:cubicBezTo>
                    <a:pt x="524176" y="367719"/>
                    <a:pt x="520608" y="367851"/>
                    <a:pt x="516687" y="367981"/>
                  </a:cubicBezTo>
                  <a:cubicBezTo>
                    <a:pt x="512766" y="368111"/>
                    <a:pt x="508905" y="368312"/>
                    <a:pt x="505104" y="368586"/>
                  </a:cubicBezTo>
                  <a:cubicBezTo>
                    <a:pt x="501303" y="368859"/>
                    <a:pt x="498510" y="368995"/>
                    <a:pt x="496727" y="368995"/>
                  </a:cubicBezTo>
                  <a:cubicBezTo>
                    <a:pt x="496629" y="368995"/>
                    <a:pt x="495709" y="369062"/>
                    <a:pt x="493969" y="369197"/>
                  </a:cubicBezTo>
                  <a:cubicBezTo>
                    <a:pt x="492228" y="369331"/>
                    <a:pt x="490486" y="369464"/>
                    <a:pt x="488743" y="369597"/>
                  </a:cubicBezTo>
                  <a:cubicBezTo>
                    <a:pt x="487001" y="369729"/>
                    <a:pt x="485170" y="369862"/>
                    <a:pt x="483253" y="369997"/>
                  </a:cubicBezTo>
                  <a:cubicBezTo>
                    <a:pt x="481335" y="370131"/>
                    <a:pt x="480201" y="370198"/>
                    <a:pt x="479851" y="370198"/>
                  </a:cubicBezTo>
                  <a:lnTo>
                    <a:pt x="479045" y="370198"/>
                  </a:lnTo>
                  <a:cubicBezTo>
                    <a:pt x="471788" y="370198"/>
                    <a:pt x="466298" y="367852"/>
                    <a:pt x="462575" y="363159"/>
                  </a:cubicBezTo>
                  <a:cubicBezTo>
                    <a:pt x="458853" y="358466"/>
                    <a:pt x="456697" y="353175"/>
                    <a:pt x="456109" y="347288"/>
                  </a:cubicBezTo>
                  <a:cubicBezTo>
                    <a:pt x="455819" y="343555"/>
                    <a:pt x="455540" y="337876"/>
                    <a:pt x="455274" y="330252"/>
                  </a:cubicBezTo>
                  <a:cubicBezTo>
                    <a:pt x="455007" y="322628"/>
                    <a:pt x="454470" y="313848"/>
                    <a:pt x="453664" y="303911"/>
                  </a:cubicBezTo>
                  <a:cubicBezTo>
                    <a:pt x="453391" y="294073"/>
                    <a:pt x="453053" y="283874"/>
                    <a:pt x="452650" y="273315"/>
                  </a:cubicBezTo>
                  <a:cubicBezTo>
                    <a:pt x="452246" y="262755"/>
                    <a:pt x="451780" y="252563"/>
                    <a:pt x="451251" y="242737"/>
                  </a:cubicBezTo>
                  <a:cubicBezTo>
                    <a:pt x="450983" y="233462"/>
                    <a:pt x="450449" y="224825"/>
                    <a:pt x="449651" y="216825"/>
                  </a:cubicBezTo>
                  <a:cubicBezTo>
                    <a:pt x="449374" y="209052"/>
                    <a:pt x="449235" y="203365"/>
                    <a:pt x="449235" y="199764"/>
                  </a:cubicBezTo>
                  <a:lnTo>
                    <a:pt x="449235" y="186504"/>
                  </a:lnTo>
                  <a:lnTo>
                    <a:pt x="449235" y="172956"/>
                  </a:lnTo>
                  <a:cubicBezTo>
                    <a:pt x="449581" y="169163"/>
                    <a:pt x="450999" y="166022"/>
                    <a:pt x="453488" y="163532"/>
                  </a:cubicBezTo>
                  <a:cubicBezTo>
                    <a:pt x="455977" y="161043"/>
                    <a:pt x="458791" y="159170"/>
                    <a:pt x="461929" y="157914"/>
                  </a:cubicBezTo>
                  <a:cubicBezTo>
                    <a:pt x="465067" y="156657"/>
                    <a:pt x="468279" y="155806"/>
                    <a:pt x="471564" y="155360"/>
                  </a:cubicBezTo>
                  <a:cubicBezTo>
                    <a:pt x="474849" y="154914"/>
                    <a:pt x="477611" y="154691"/>
                    <a:pt x="479851" y="154691"/>
                  </a:cubicBezTo>
                  <a:cubicBezTo>
                    <a:pt x="481396" y="154691"/>
                    <a:pt x="483774" y="154557"/>
                    <a:pt x="486987" y="154288"/>
                  </a:cubicBezTo>
                  <a:cubicBezTo>
                    <a:pt x="490818" y="154288"/>
                    <a:pt x="494240" y="154172"/>
                    <a:pt x="497252" y="153939"/>
                  </a:cubicBezTo>
                  <a:cubicBezTo>
                    <a:pt x="500264" y="153707"/>
                    <a:pt x="503754" y="153288"/>
                    <a:pt x="507721" y="152682"/>
                  </a:cubicBezTo>
                  <a:cubicBezTo>
                    <a:pt x="511105" y="152682"/>
                    <a:pt x="513249" y="152682"/>
                    <a:pt x="514153" y="152682"/>
                  </a:cubicBezTo>
                  <a:cubicBezTo>
                    <a:pt x="513616" y="152955"/>
                    <a:pt x="513810" y="152629"/>
                    <a:pt x="514736" y="151703"/>
                  </a:cubicBezTo>
                  <a:cubicBezTo>
                    <a:pt x="515661" y="150777"/>
                    <a:pt x="516126" y="150310"/>
                    <a:pt x="516131" y="150301"/>
                  </a:cubicBezTo>
                  <a:cubicBezTo>
                    <a:pt x="517560" y="147805"/>
                    <a:pt x="519294" y="145131"/>
                    <a:pt x="521334" y="142279"/>
                  </a:cubicBezTo>
                  <a:cubicBezTo>
                    <a:pt x="523373" y="139427"/>
                    <a:pt x="525221" y="136660"/>
                    <a:pt x="526879" y="133979"/>
                  </a:cubicBezTo>
                  <a:lnTo>
                    <a:pt x="530472" y="127943"/>
                  </a:lnTo>
                  <a:lnTo>
                    <a:pt x="489524" y="128520"/>
                  </a:lnTo>
                  <a:cubicBezTo>
                    <a:pt x="473967" y="128923"/>
                    <a:pt x="458018" y="129125"/>
                    <a:pt x="441678" y="129125"/>
                  </a:cubicBezTo>
                  <a:lnTo>
                    <a:pt x="426043" y="129125"/>
                  </a:lnTo>
                  <a:cubicBezTo>
                    <a:pt x="421440" y="127973"/>
                    <a:pt x="418329" y="125777"/>
                    <a:pt x="416709" y="122537"/>
                  </a:cubicBezTo>
                  <a:cubicBezTo>
                    <a:pt x="415090" y="119296"/>
                    <a:pt x="414281" y="115573"/>
                    <a:pt x="414281" y="111366"/>
                  </a:cubicBezTo>
                  <a:cubicBezTo>
                    <a:pt x="414281" y="108508"/>
                    <a:pt x="415080" y="105036"/>
                    <a:pt x="416677" y="100951"/>
                  </a:cubicBezTo>
                  <a:cubicBezTo>
                    <a:pt x="418275" y="96866"/>
                    <a:pt x="422016" y="94823"/>
                    <a:pt x="427899" y="94823"/>
                  </a:cubicBezTo>
                  <a:lnTo>
                    <a:pt x="650113" y="84808"/>
                  </a:lnTo>
                  <a:cubicBezTo>
                    <a:pt x="651282" y="84786"/>
                    <a:pt x="652974" y="84715"/>
                    <a:pt x="655191" y="84593"/>
                  </a:cubicBezTo>
                  <a:cubicBezTo>
                    <a:pt x="657407" y="84472"/>
                    <a:pt x="659096" y="84400"/>
                    <a:pt x="660256" y="84379"/>
                  </a:cubicBezTo>
                  <a:close/>
                  <a:moveTo>
                    <a:pt x="102989" y="52637"/>
                  </a:moveTo>
                  <a:cubicBezTo>
                    <a:pt x="106973" y="52637"/>
                    <a:pt x="111644" y="52637"/>
                    <a:pt x="117001" y="52637"/>
                  </a:cubicBezTo>
                  <a:cubicBezTo>
                    <a:pt x="122357" y="52637"/>
                    <a:pt x="127848" y="52637"/>
                    <a:pt x="133473" y="52637"/>
                  </a:cubicBezTo>
                  <a:cubicBezTo>
                    <a:pt x="139098" y="52637"/>
                    <a:pt x="143517" y="52637"/>
                    <a:pt x="146730" y="52637"/>
                  </a:cubicBezTo>
                  <a:cubicBezTo>
                    <a:pt x="148607" y="52637"/>
                    <a:pt x="151956" y="52637"/>
                    <a:pt x="156777" y="52637"/>
                  </a:cubicBezTo>
                  <a:cubicBezTo>
                    <a:pt x="161598" y="52637"/>
                    <a:pt x="166338" y="52637"/>
                    <a:pt x="170997" y="52637"/>
                  </a:cubicBezTo>
                  <a:cubicBezTo>
                    <a:pt x="175656" y="52637"/>
                    <a:pt x="180817" y="52708"/>
                    <a:pt x="186481" y="52851"/>
                  </a:cubicBezTo>
                  <a:cubicBezTo>
                    <a:pt x="192145" y="52994"/>
                    <a:pt x="195900" y="53055"/>
                    <a:pt x="197748" y="53034"/>
                  </a:cubicBezTo>
                  <a:cubicBezTo>
                    <a:pt x="204791" y="53912"/>
                    <a:pt x="211921" y="54687"/>
                    <a:pt x="219135" y="55357"/>
                  </a:cubicBezTo>
                  <a:cubicBezTo>
                    <a:pt x="226350" y="56026"/>
                    <a:pt x="232986" y="57223"/>
                    <a:pt x="239044" y="58947"/>
                  </a:cubicBezTo>
                  <a:cubicBezTo>
                    <a:pt x="245653" y="61357"/>
                    <a:pt x="250873" y="65069"/>
                    <a:pt x="254704" y="70082"/>
                  </a:cubicBezTo>
                  <a:cubicBezTo>
                    <a:pt x="259384" y="75381"/>
                    <a:pt x="261725" y="82713"/>
                    <a:pt x="261725" y="92078"/>
                  </a:cubicBezTo>
                  <a:lnTo>
                    <a:pt x="261725" y="97946"/>
                  </a:lnTo>
                  <a:cubicBezTo>
                    <a:pt x="258179" y="131749"/>
                    <a:pt x="255007" y="164909"/>
                    <a:pt x="252208" y="197428"/>
                  </a:cubicBezTo>
                  <a:cubicBezTo>
                    <a:pt x="249410" y="229947"/>
                    <a:pt x="248682" y="262960"/>
                    <a:pt x="250026" y="296468"/>
                  </a:cubicBezTo>
                  <a:cubicBezTo>
                    <a:pt x="249309" y="303260"/>
                    <a:pt x="245856" y="307960"/>
                    <a:pt x="239665" y="310567"/>
                  </a:cubicBezTo>
                  <a:cubicBezTo>
                    <a:pt x="234541" y="312973"/>
                    <a:pt x="229539" y="314637"/>
                    <a:pt x="224658" y="315558"/>
                  </a:cubicBezTo>
                  <a:cubicBezTo>
                    <a:pt x="220656" y="315558"/>
                    <a:pt x="214905" y="315558"/>
                    <a:pt x="207405" y="315558"/>
                  </a:cubicBezTo>
                  <a:cubicBezTo>
                    <a:pt x="199904" y="315558"/>
                    <a:pt x="191466" y="315624"/>
                    <a:pt x="182091" y="315757"/>
                  </a:cubicBezTo>
                  <a:cubicBezTo>
                    <a:pt x="172716" y="315889"/>
                    <a:pt x="162872" y="316022"/>
                    <a:pt x="152560" y="316157"/>
                  </a:cubicBezTo>
                  <a:cubicBezTo>
                    <a:pt x="142248" y="316291"/>
                    <a:pt x="132337" y="316426"/>
                    <a:pt x="122827" y="316560"/>
                  </a:cubicBezTo>
                  <a:cubicBezTo>
                    <a:pt x="113318" y="316694"/>
                    <a:pt x="104880" y="316761"/>
                    <a:pt x="97514" y="316761"/>
                  </a:cubicBezTo>
                  <a:cubicBezTo>
                    <a:pt x="90148" y="316761"/>
                    <a:pt x="84724" y="316761"/>
                    <a:pt x="81243" y="316761"/>
                  </a:cubicBezTo>
                  <a:cubicBezTo>
                    <a:pt x="80436" y="316761"/>
                    <a:pt x="79060" y="316761"/>
                    <a:pt x="77115" y="316761"/>
                  </a:cubicBezTo>
                  <a:cubicBezTo>
                    <a:pt x="75170" y="316761"/>
                    <a:pt x="72869" y="316829"/>
                    <a:pt x="70213" y="316963"/>
                  </a:cubicBezTo>
                  <a:cubicBezTo>
                    <a:pt x="67557" y="317097"/>
                    <a:pt x="64536" y="317165"/>
                    <a:pt x="61148" y="317165"/>
                  </a:cubicBezTo>
                  <a:cubicBezTo>
                    <a:pt x="58473" y="317165"/>
                    <a:pt x="56532" y="317165"/>
                    <a:pt x="55324" y="317165"/>
                  </a:cubicBezTo>
                  <a:cubicBezTo>
                    <a:pt x="54117" y="317165"/>
                    <a:pt x="52265" y="317165"/>
                    <a:pt x="49769" y="317165"/>
                  </a:cubicBezTo>
                  <a:cubicBezTo>
                    <a:pt x="47274" y="317165"/>
                    <a:pt x="44687" y="317097"/>
                    <a:pt x="42010" y="316963"/>
                  </a:cubicBezTo>
                  <a:cubicBezTo>
                    <a:pt x="39333" y="316829"/>
                    <a:pt x="36764" y="316761"/>
                    <a:pt x="34305" y="316761"/>
                  </a:cubicBezTo>
                  <a:cubicBezTo>
                    <a:pt x="31845" y="316761"/>
                    <a:pt x="30212" y="316761"/>
                    <a:pt x="29406" y="316761"/>
                  </a:cubicBezTo>
                  <a:cubicBezTo>
                    <a:pt x="24150" y="316761"/>
                    <a:pt x="19809" y="314857"/>
                    <a:pt x="16383" y="311047"/>
                  </a:cubicBezTo>
                  <a:cubicBezTo>
                    <a:pt x="14314" y="308393"/>
                    <a:pt x="12606" y="305047"/>
                    <a:pt x="11260" y="301009"/>
                  </a:cubicBezTo>
                  <a:cubicBezTo>
                    <a:pt x="9914" y="296971"/>
                    <a:pt x="8919" y="293145"/>
                    <a:pt x="8274" y="289531"/>
                  </a:cubicBezTo>
                  <a:cubicBezTo>
                    <a:pt x="7630" y="285918"/>
                    <a:pt x="7157" y="282750"/>
                    <a:pt x="6854" y="280028"/>
                  </a:cubicBezTo>
                  <a:cubicBezTo>
                    <a:pt x="6576" y="274968"/>
                    <a:pt x="6304" y="267362"/>
                    <a:pt x="6038" y="257210"/>
                  </a:cubicBezTo>
                  <a:cubicBezTo>
                    <a:pt x="5771" y="247058"/>
                    <a:pt x="5235" y="235501"/>
                    <a:pt x="4428" y="222540"/>
                  </a:cubicBezTo>
                  <a:cubicBezTo>
                    <a:pt x="4155" y="209894"/>
                    <a:pt x="3750" y="196317"/>
                    <a:pt x="3212" y="181807"/>
                  </a:cubicBezTo>
                  <a:cubicBezTo>
                    <a:pt x="2948" y="167924"/>
                    <a:pt x="2547" y="154397"/>
                    <a:pt x="2009" y="141227"/>
                  </a:cubicBezTo>
                  <a:cubicBezTo>
                    <a:pt x="1740" y="128679"/>
                    <a:pt x="1406" y="117327"/>
                    <a:pt x="1004" y="107171"/>
                  </a:cubicBezTo>
                  <a:cubicBezTo>
                    <a:pt x="603" y="97015"/>
                    <a:pt x="269" y="89516"/>
                    <a:pt x="0" y="84673"/>
                  </a:cubicBezTo>
                  <a:lnTo>
                    <a:pt x="0" y="80027"/>
                  </a:lnTo>
                  <a:cubicBezTo>
                    <a:pt x="0" y="75198"/>
                    <a:pt x="1147" y="71390"/>
                    <a:pt x="3443" y="68604"/>
                  </a:cubicBezTo>
                  <a:cubicBezTo>
                    <a:pt x="5738" y="65818"/>
                    <a:pt x="8510" y="63574"/>
                    <a:pt x="11759" y="61871"/>
                  </a:cubicBezTo>
                  <a:cubicBezTo>
                    <a:pt x="15008" y="60169"/>
                    <a:pt x="18427" y="58960"/>
                    <a:pt x="22018" y="58243"/>
                  </a:cubicBezTo>
                  <a:cubicBezTo>
                    <a:pt x="25608" y="57526"/>
                    <a:pt x="29035" y="56875"/>
                    <a:pt x="32299" y="56291"/>
                  </a:cubicBezTo>
                  <a:cubicBezTo>
                    <a:pt x="34419" y="56056"/>
                    <a:pt x="38483" y="55734"/>
                    <a:pt x="44490" y="55325"/>
                  </a:cubicBezTo>
                  <a:cubicBezTo>
                    <a:pt x="50497" y="54915"/>
                    <a:pt x="56953" y="54575"/>
                    <a:pt x="63858" y="54304"/>
                  </a:cubicBezTo>
                  <a:cubicBezTo>
                    <a:pt x="70763" y="54033"/>
                    <a:pt x="77455" y="53754"/>
                    <a:pt x="83934" y="53466"/>
                  </a:cubicBezTo>
                  <a:cubicBezTo>
                    <a:pt x="90412" y="53178"/>
                    <a:pt x="94471" y="53034"/>
                    <a:pt x="96109" y="53034"/>
                  </a:cubicBezTo>
                  <a:cubicBezTo>
                    <a:pt x="96975" y="53034"/>
                    <a:pt x="99268" y="52901"/>
                    <a:pt x="102989" y="52637"/>
                  </a:cubicBezTo>
                  <a:close/>
                  <a:moveTo>
                    <a:pt x="1049624" y="19685"/>
                  </a:moveTo>
                  <a:lnTo>
                    <a:pt x="1058461" y="19685"/>
                  </a:lnTo>
                  <a:cubicBezTo>
                    <a:pt x="1062945" y="19685"/>
                    <a:pt x="1067829" y="20624"/>
                    <a:pt x="1073113" y="22501"/>
                  </a:cubicBezTo>
                  <a:cubicBezTo>
                    <a:pt x="1078397" y="24378"/>
                    <a:pt x="1081039" y="28687"/>
                    <a:pt x="1081039" y="35428"/>
                  </a:cubicBezTo>
                  <a:cubicBezTo>
                    <a:pt x="1081039" y="39136"/>
                    <a:pt x="1079675" y="43290"/>
                    <a:pt x="1076947" y="47891"/>
                  </a:cubicBezTo>
                  <a:cubicBezTo>
                    <a:pt x="1074218" y="52493"/>
                    <a:pt x="1070066" y="54793"/>
                    <a:pt x="1064490" y="54793"/>
                  </a:cubicBezTo>
                  <a:lnTo>
                    <a:pt x="989461" y="54793"/>
                  </a:lnTo>
                  <a:lnTo>
                    <a:pt x="975766" y="96992"/>
                  </a:lnTo>
                  <a:lnTo>
                    <a:pt x="975766" y="98842"/>
                  </a:lnTo>
                  <a:lnTo>
                    <a:pt x="1061674" y="98842"/>
                  </a:lnTo>
                  <a:cubicBezTo>
                    <a:pt x="1066098" y="98842"/>
                    <a:pt x="1069360" y="100310"/>
                    <a:pt x="1071459" y="103245"/>
                  </a:cubicBezTo>
                  <a:cubicBezTo>
                    <a:pt x="1073562" y="105655"/>
                    <a:pt x="1075001" y="108330"/>
                    <a:pt x="1075776" y="111270"/>
                  </a:cubicBezTo>
                  <a:cubicBezTo>
                    <a:pt x="1076550" y="114210"/>
                    <a:pt x="1077018" y="117295"/>
                    <a:pt x="1077180" y="120527"/>
                  </a:cubicBezTo>
                  <a:cubicBezTo>
                    <a:pt x="1077342" y="123759"/>
                    <a:pt x="1077424" y="125929"/>
                    <a:pt x="1077424" y="127039"/>
                  </a:cubicBezTo>
                  <a:lnTo>
                    <a:pt x="1077424" y="137867"/>
                  </a:lnTo>
                  <a:lnTo>
                    <a:pt x="1067267" y="265366"/>
                  </a:lnTo>
                  <a:cubicBezTo>
                    <a:pt x="1066990" y="267866"/>
                    <a:pt x="1066642" y="270586"/>
                    <a:pt x="1066224" y="273526"/>
                  </a:cubicBezTo>
                  <a:cubicBezTo>
                    <a:pt x="1065806" y="276465"/>
                    <a:pt x="1064848" y="279132"/>
                    <a:pt x="1063351" y="281525"/>
                  </a:cubicBezTo>
                  <a:cubicBezTo>
                    <a:pt x="1062387" y="284426"/>
                    <a:pt x="1060545" y="286872"/>
                    <a:pt x="1057828" y="288862"/>
                  </a:cubicBezTo>
                  <a:cubicBezTo>
                    <a:pt x="1055110" y="290853"/>
                    <a:pt x="1051838" y="291848"/>
                    <a:pt x="1048011" y="291848"/>
                  </a:cubicBezTo>
                  <a:cubicBezTo>
                    <a:pt x="1045161" y="291848"/>
                    <a:pt x="1041825" y="290847"/>
                    <a:pt x="1038002" y="288846"/>
                  </a:cubicBezTo>
                  <a:cubicBezTo>
                    <a:pt x="1034179" y="286845"/>
                    <a:pt x="1032268" y="283804"/>
                    <a:pt x="1032268" y="279721"/>
                  </a:cubicBezTo>
                  <a:lnTo>
                    <a:pt x="1032268" y="254576"/>
                  </a:lnTo>
                  <a:lnTo>
                    <a:pt x="1041509" y="134347"/>
                  </a:lnTo>
                  <a:lnTo>
                    <a:pt x="1040498" y="133944"/>
                  </a:lnTo>
                  <a:lnTo>
                    <a:pt x="894043" y="133944"/>
                  </a:lnTo>
                  <a:lnTo>
                    <a:pt x="890920" y="261770"/>
                  </a:lnTo>
                  <a:cubicBezTo>
                    <a:pt x="890510" y="265831"/>
                    <a:pt x="888380" y="268914"/>
                    <a:pt x="884530" y="271017"/>
                  </a:cubicBezTo>
                  <a:cubicBezTo>
                    <a:pt x="880679" y="273120"/>
                    <a:pt x="877316" y="274172"/>
                    <a:pt x="874441" y="274172"/>
                  </a:cubicBezTo>
                  <a:cubicBezTo>
                    <a:pt x="870729" y="274172"/>
                    <a:pt x="867254" y="272808"/>
                    <a:pt x="864016" y="270080"/>
                  </a:cubicBezTo>
                  <a:cubicBezTo>
                    <a:pt x="860778" y="267351"/>
                    <a:pt x="858602" y="264131"/>
                    <a:pt x="857488" y="260419"/>
                  </a:cubicBezTo>
                  <a:lnTo>
                    <a:pt x="857488" y="229893"/>
                  </a:lnTo>
                  <a:lnTo>
                    <a:pt x="857488" y="199764"/>
                  </a:lnTo>
                  <a:cubicBezTo>
                    <a:pt x="857488" y="196777"/>
                    <a:pt x="857554" y="191209"/>
                    <a:pt x="857687" y="183058"/>
                  </a:cubicBezTo>
                  <a:cubicBezTo>
                    <a:pt x="857819" y="174907"/>
                    <a:pt x="857885" y="166354"/>
                    <a:pt x="857885" y="157398"/>
                  </a:cubicBezTo>
                  <a:cubicBezTo>
                    <a:pt x="858427" y="148166"/>
                    <a:pt x="858831" y="139561"/>
                    <a:pt x="859098" y="131582"/>
                  </a:cubicBezTo>
                  <a:cubicBezTo>
                    <a:pt x="859364" y="123604"/>
                    <a:pt x="859498" y="117734"/>
                    <a:pt x="859498" y="113971"/>
                  </a:cubicBezTo>
                  <a:cubicBezTo>
                    <a:pt x="860547" y="109760"/>
                    <a:pt x="863476" y="106051"/>
                    <a:pt x="868284" y="102845"/>
                  </a:cubicBezTo>
                  <a:cubicBezTo>
                    <a:pt x="873092" y="99639"/>
                    <a:pt x="877690" y="98036"/>
                    <a:pt x="882075" y="98036"/>
                  </a:cubicBezTo>
                  <a:lnTo>
                    <a:pt x="936066" y="98036"/>
                  </a:lnTo>
                  <a:lnTo>
                    <a:pt x="936616" y="97495"/>
                  </a:lnTo>
                  <a:cubicBezTo>
                    <a:pt x="937002" y="97109"/>
                    <a:pt x="937536" y="96118"/>
                    <a:pt x="938219" y="94522"/>
                  </a:cubicBezTo>
                  <a:cubicBezTo>
                    <a:pt x="938774" y="93601"/>
                    <a:pt x="939051" y="92997"/>
                    <a:pt x="939051" y="92711"/>
                  </a:cubicBezTo>
                  <a:cubicBezTo>
                    <a:pt x="939981" y="89917"/>
                    <a:pt x="941116" y="86510"/>
                    <a:pt x="942456" y="82491"/>
                  </a:cubicBezTo>
                  <a:cubicBezTo>
                    <a:pt x="943795" y="78472"/>
                    <a:pt x="945068" y="74722"/>
                    <a:pt x="946273" y="71240"/>
                  </a:cubicBezTo>
                  <a:cubicBezTo>
                    <a:pt x="947478" y="67759"/>
                    <a:pt x="948552" y="64715"/>
                    <a:pt x="949495" y="62108"/>
                  </a:cubicBezTo>
                  <a:cubicBezTo>
                    <a:pt x="950302" y="59181"/>
                    <a:pt x="950705" y="57279"/>
                    <a:pt x="950705" y="56400"/>
                  </a:cubicBezTo>
                  <a:cubicBezTo>
                    <a:pt x="942535" y="56400"/>
                    <a:pt x="933033" y="56600"/>
                    <a:pt x="922201" y="57001"/>
                  </a:cubicBezTo>
                  <a:cubicBezTo>
                    <a:pt x="911368" y="57402"/>
                    <a:pt x="900404" y="57603"/>
                    <a:pt x="889307" y="57603"/>
                  </a:cubicBezTo>
                  <a:lnTo>
                    <a:pt x="874921" y="57603"/>
                  </a:lnTo>
                  <a:cubicBezTo>
                    <a:pt x="869494" y="57240"/>
                    <a:pt x="865567" y="55064"/>
                    <a:pt x="863139" y="51075"/>
                  </a:cubicBezTo>
                  <a:cubicBezTo>
                    <a:pt x="860711" y="47086"/>
                    <a:pt x="859498" y="43076"/>
                    <a:pt x="859498" y="39044"/>
                  </a:cubicBezTo>
                  <a:cubicBezTo>
                    <a:pt x="859498" y="35725"/>
                    <a:pt x="860435" y="32529"/>
                    <a:pt x="862310" y="29457"/>
                  </a:cubicBezTo>
                  <a:cubicBezTo>
                    <a:pt x="864185" y="26386"/>
                    <a:pt x="867073" y="24201"/>
                    <a:pt x="870972" y="22904"/>
                  </a:cubicBezTo>
                  <a:cubicBezTo>
                    <a:pt x="878562" y="22904"/>
                    <a:pt x="886296" y="22847"/>
                    <a:pt x="894174" y="22731"/>
                  </a:cubicBezTo>
                  <a:cubicBezTo>
                    <a:pt x="902052" y="22616"/>
                    <a:pt x="911860" y="22358"/>
                    <a:pt x="923599" y="21957"/>
                  </a:cubicBezTo>
                  <a:cubicBezTo>
                    <a:pt x="935338" y="21556"/>
                    <a:pt x="947670" y="21288"/>
                    <a:pt x="960595" y="21154"/>
                  </a:cubicBezTo>
                  <a:cubicBezTo>
                    <a:pt x="973520" y="21020"/>
                    <a:pt x="985819" y="20818"/>
                    <a:pt x="997492" y="20549"/>
                  </a:cubicBezTo>
                  <a:cubicBezTo>
                    <a:pt x="1009165" y="20280"/>
                    <a:pt x="1019695" y="20075"/>
                    <a:pt x="1029081" y="19932"/>
                  </a:cubicBezTo>
                  <a:cubicBezTo>
                    <a:pt x="1038467" y="19789"/>
                    <a:pt x="1045314" y="19707"/>
                    <a:pt x="1049624" y="19685"/>
                  </a:cubicBezTo>
                  <a:close/>
                  <a:moveTo>
                    <a:pt x="481861" y="11654"/>
                  </a:moveTo>
                  <a:cubicBezTo>
                    <a:pt x="486072" y="11654"/>
                    <a:pt x="490271" y="13359"/>
                    <a:pt x="494458" y="16770"/>
                  </a:cubicBezTo>
                  <a:cubicBezTo>
                    <a:pt x="498646" y="20181"/>
                    <a:pt x="502222" y="24146"/>
                    <a:pt x="505187" y="28664"/>
                  </a:cubicBezTo>
                  <a:cubicBezTo>
                    <a:pt x="508152" y="33182"/>
                    <a:pt x="510710" y="37809"/>
                    <a:pt x="512860" y="42545"/>
                  </a:cubicBezTo>
                  <a:cubicBezTo>
                    <a:pt x="515011" y="47280"/>
                    <a:pt x="516086" y="51338"/>
                    <a:pt x="516086" y="54717"/>
                  </a:cubicBezTo>
                  <a:cubicBezTo>
                    <a:pt x="516086" y="65750"/>
                    <a:pt x="510838" y="71266"/>
                    <a:pt x="500343" y="71266"/>
                  </a:cubicBezTo>
                  <a:cubicBezTo>
                    <a:pt x="495931" y="71266"/>
                    <a:pt x="492189" y="70133"/>
                    <a:pt x="489115" y="67868"/>
                  </a:cubicBezTo>
                  <a:cubicBezTo>
                    <a:pt x="486041" y="65602"/>
                    <a:pt x="483437" y="63116"/>
                    <a:pt x="481304" y="60409"/>
                  </a:cubicBezTo>
                  <a:cubicBezTo>
                    <a:pt x="479171" y="57702"/>
                    <a:pt x="477246" y="54963"/>
                    <a:pt x="475528" y="52192"/>
                  </a:cubicBezTo>
                  <a:cubicBezTo>
                    <a:pt x="473811" y="49421"/>
                    <a:pt x="472100" y="46757"/>
                    <a:pt x="470396" y="44199"/>
                  </a:cubicBezTo>
                  <a:cubicBezTo>
                    <a:pt x="468691" y="41641"/>
                    <a:pt x="467216" y="39194"/>
                    <a:pt x="465970" y="36859"/>
                  </a:cubicBezTo>
                  <a:cubicBezTo>
                    <a:pt x="464725" y="34523"/>
                    <a:pt x="464102" y="31635"/>
                    <a:pt x="464102" y="28197"/>
                  </a:cubicBezTo>
                  <a:cubicBezTo>
                    <a:pt x="464102" y="23717"/>
                    <a:pt x="465826" y="19840"/>
                    <a:pt x="469276" y="16565"/>
                  </a:cubicBezTo>
                  <a:cubicBezTo>
                    <a:pt x="472725" y="13291"/>
                    <a:pt x="476920" y="11654"/>
                    <a:pt x="481861" y="11654"/>
                  </a:cubicBezTo>
                  <a:close/>
                  <a:moveTo>
                    <a:pt x="618870" y="0"/>
                  </a:moveTo>
                  <a:cubicBezTo>
                    <a:pt x="623593" y="0"/>
                    <a:pt x="627599" y="1279"/>
                    <a:pt x="630888" y="3837"/>
                  </a:cubicBezTo>
                  <a:cubicBezTo>
                    <a:pt x="634178" y="6394"/>
                    <a:pt x="635822" y="10229"/>
                    <a:pt x="635822" y="15340"/>
                  </a:cubicBezTo>
                  <a:lnTo>
                    <a:pt x="635822" y="17529"/>
                  </a:lnTo>
                  <a:lnTo>
                    <a:pt x="618691" y="68514"/>
                  </a:lnTo>
                  <a:cubicBezTo>
                    <a:pt x="617616" y="71748"/>
                    <a:pt x="615401" y="74623"/>
                    <a:pt x="612048" y="77138"/>
                  </a:cubicBezTo>
                  <a:cubicBezTo>
                    <a:pt x="608695" y="79653"/>
                    <a:pt x="605209" y="80910"/>
                    <a:pt x="601591" y="80910"/>
                  </a:cubicBezTo>
                  <a:cubicBezTo>
                    <a:pt x="595968" y="80910"/>
                    <a:pt x="591669" y="79074"/>
                    <a:pt x="588696" y="75400"/>
                  </a:cubicBezTo>
                  <a:cubicBezTo>
                    <a:pt x="585722" y="71727"/>
                    <a:pt x="584235" y="67375"/>
                    <a:pt x="584235" y="62345"/>
                  </a:cubicBezTo>
                  <a:lnTo>
                    <a:pt x="584235" y="61046"/>
                  </a:lnTo>
                  <a:lnTo>
                    <a:pt x="599684" y="13042"/>
                  </a:lnTo>
                  <a:cubicBezTo>
                    <a:pt x="600998" y="9365"/>
                    <a:pt x="603495" y="6272"/>
                    <a:pt x="607175" y="3763"/>
                  </a:cubicBezTo>
                  <a:cubicBezTo>
                    <a:pt x="610854" y="1254"/>
                    <a:pt x="614753" y="0"/>
                    <a:pt x="618870" y="0"/>
                  </a:cubicBez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5" descr="03爬"/>
          <p:cNvPicPr/>
          <p:nvPr/>
        </p:nvPicPr>
        <p:blipFill>
          <a:blip r:embed="rId1"/>
          <a:stretch/>
        </p:blipFill>
        <p:spPr>
          <a:xfrm>
            <a:off x="498600" y="1114560"/>
            <a:ext cx="2762280" cy="276228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8"/>
          <p:cNvSpPr/>
          <p:nvPr/>
        </p:nvSpPr>
        <p:spPr>
          <a:xfrm>
            <a:off x="1316880" y="100080"/>
            <a:ext cx="11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宋体"/>
                <a:ea typeface="宋体"/>
              </a:rPr>
              <a:t>p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17" descr=""/>
          <p:cNvPicPr/>
          <p:nvPr/>
        </p:nvPicPr>
        <p:blipFill>
          <a:blip r:embed="rId2"/>
          <a:srcRect l="0" t="0" r="1561" b="0"/>
          <a:stretch/>
        </p:blipFill>
        <p:spPr>
          <a:xfrm>
            <a:off x="2738520" y="4076640"/>
            <a:ext cx="3397320" cy="52380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2"/>
          <p:cNvSpPr/>
          <p:nvPr/>
        </p:nvSpPr>
        <p:spPr>
          <a:xfrm>
            <a:off x="4168800" y="1192320"/>
            <a:ext cx="2762280" cy="25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构：</a:t>
            </a:r>
            <a:r>
              <a:rPr b="1" lang="zh-CN" sz="2800" spc="-1" strike="noStrike">
                <a:solidFill>
                  <a:srgbClr val="ee1a20"/>
                </a:solidFill>
                <a:latin typeface="宋体"/>
                <a:ea typeface="宋体"/>
              </a:rPr>
              <a:t>半包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词：</a:t>
            </a:r>
            <a:r>
              <a:rPr b="1" lang="zh-CN" sz="2800" spc="-1" strike="noStrike">
                <a:solidFill>
                  <a:srgbClr val="ee1a20"/>
                </a:solidFill>
                <a:latin typeface="宋体"/>
                <a:ea typeface="宋体"/>
              </a:rPr>
              <a:t>爬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ee1a20"/>
                </a:solidFill>
                <a:latin typeface="宋体"/>
                <a:ea typeface="宋体"/>
              </a:rPr>
              <a:t>爬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2"/>
          <p:cNvSpPr/>
          <p:nvPr/>
        </p:nvSpPr>
        <p:spPr>
          <a:xfrm>
            <a:off x="1420920" y="3968640"/>
            <a:ext cx="133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笔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1" descr=""/>
          <p:cNvPicPr/>
          <p:nvPr/>
        </p:nvPicPr>
        <p:blipFill>
          <a:blip r:embed="rId3"/>
          <a:stretch/>
        </p:blipFill>
        <p:spPr>
          <a:xfrm>
            <a:off x="5340240" y="1447920"/>
            <a:ext cx="346320" cy="345960"/>
          </a:xfrm>
          <a:prstGeom prst="rect">
            <a:avLst/>
          </a:prstGeom>
          <a:ln w="0">
            <a:noFill/>
          </a:ln>
        </p:spPr>
      </p:pic>
      <p:grpSp>
        <p:nvGrpSpPr>
          <p:cNvPr id="77" name="组合 1"/>
          <p:cNvGrpSpPr/>
          <p:nvPr/>
        </p:nvGrpSpPr>
        <p:grpSpPr>
          <a:xfrm>
            <a:off x="7192800" y="1380960"/>
            <a:ext cx="1241640" cy="1882800"/>
            <a:chOff x="7192800" y="1380960"/>
            <a:chExt cx="1241640" cy="1882800"/>
          </a:xfrm>
        </p:grpSpPr>
        <p:pic>
          <p:nvPicPr>
            <p:cNvPr id="78" name="图片 10" descr=""/>
            <p:cNvPicPr/>
            <p:nvPr/>
          </p:nvPicPr>
          <p:blipFill>
            <a:blip r:embed="rId4"/>
            <a:stretch/>
          </p:blipFill>
          <p:spPr>
            <a:xfrm>
              <a:off x="7192800" y="1726920"/>
              <a:ext cx="12416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任意多边形: 形状 12">
              <a:hlinkClick r:id="" action="ppaction://hlinkshowjump?jump=firstslide"/>
            </p:cNvPr>
            <p:cNvSpPr/>
            <p:nvPr/>
          </p:nvSpPr>
          <p:spPr>
            <a:xfrm>
              <a:off x="7276680" y="1380960"/>
              <a:ext cx="1081440" cy="369720"/>
            </a:xfrm>
            <a:custGeom>
              <a:avLst/>
              <a:gdLst/>
              <a:ahLst/>
              <a:rect l="l" t="t" r="r" b="b"/>
              <a:pathLst>
                <a:path w="1081039" h="370198">
                  <a:moveTo>
                    <a:pt x="610032" y="293857"/>
                  </a:moveTo>
                  <a:cubicBezTo>
                    <a:pt x="606056" y="293857"/>
                    <a:pt x="599112" y="293992"/>
                    <a:pt x="589201" y="294260"/>
                  </a:cubicBezTo>
                  <a:cubicBezTo>
                    <a:pt x="579824" y="294529"/>
                    <a:pt x="569616" y="294796"/>
                    <a:pt x="558579" y="295060"/>
                  </a:cubicBezTo>
                  <a:cubicBezTo>
                    <a:pt x="547832" y="295862"/>
                    <a:pt x="537584" y="296396"/>
                    <a:pt x="527835" y="296660"/>
                  </a:cubicBezTo>
                  <a:cubicBezTo>
                    <a:pt x="518087" y="296925"/>
                    <a:pt x="511158" y="297196"/>
                    <a:pt x="507050" y="297473"/>
                  </a:cubicBezTo>
                  <a:cubicBezTo>
                    <a:pt x="506090" y="297473"/>
                    <a:pt x="503871" y="297675"/>
                    <a:pt x="500394" y="298078"/>
                  </a:cubicBezTo>
                  <a:cubicBezTo>
                    <a:pt x="496917" y="298481"/>
                    <a:pt x="494470" y="298749"/>
                    <a:pt x="493054" y="298881"/>
                  </a:cubicBezTo>
                  <a:cubicBezTo>
                    <a:pt x="491637" y="299013"/>
                    <a:pt x="490572" y="299216"/>
                    <a:pt x="489857" y="299489"/>
                  </a:cubicBezTo>
                  <a:cubicBezTo>
                    <a:pt x="489142" y="299762"/>
                    <a:pt x="488913" y="299579"/>
                    <a:pt x="489169" y="298939"/>
                  </a:cubicBezTo>
                  <a:lnTo>
                    <a:pt x="489169" y="309850"/>
                  </a:lnTo>
                  <a:lnTo>
                    <a:pt x="489169" y="321209"/>
                  </a:lnTo>
                  <a:cubicBezTo>
                    <a:pt x="489382" y="322903"/>
                    <a:pt x="489608" y="325261"/>
                    <a:pt x="489847" y="328284"/>
                  </a:cubicBezTo>
                  <a:cubicBezTo>
                    <a:pt x="490086" y="331307"/>
                    <a:pt x="490118" y="332731"/>
                    <a:pt x="489943" y="332556"/>
                  </a:cubicBezTo>
                  <a:lnTo>
                    <a:pt x="490103" y="332684"/>
                  </a:lnTo>
                  <a:lnTo>
                    <a:pt x="501949" y="332684"/>
                  </a:lnTo>
                  <a:cubicBezTo>
                    <a:pt x="522735" y="332684"/>
                    <a:pt x="542638" y="332349"/>
                    <a:pt x="561657" y="331679"/>
                  </a:cubicBezTo>
                  <a:cubicBezTo>
                    <a:pt x="580677" y="331009"/>
                    <a:pt x="598248" y="330674"/>
                    <a:pt x="614371" y="330674"/>
                  </a:cubicBezTo>
                  <a:cubicBezTo>
                    <a:pt x="614371" y="326596"/>
                    <a:pt x="613840" y="320836"/>
                    <a:pt x="612777" y="313395"/>
                  </a:cubicBezTo>
                  <a:lnTo>
                    <a:pt x="610934" y="293857"/>
                  </a:lnTo>
                  <a:close/>
                  <a:moveTo>
                    <a:pt x="552935" y="248855"/>
                  </a:moveTo>
                  <a:cubicBezTo>
                    <a:pt x="542192" y="248855"/>
                    <a:pt x="530385" y="249380"/>
                    <a:pt x="517513" y="250430"/>
                  </a:cubicBezTo>
                  <a:cubicBezTo>
                    <a:pt x="515094" y="250967"/>
                    <a:pt x="512009" y="251376"/>
                    <a:pt x="508259" y="251655"/>
                  </a:cubicBezTo>
                  <a:cubicBezTo>
                    <a:pt x="504509" y="251934"/>
                    <a:pt x="501038" y="252208"/>
                    <a:pt x="497847" y="252474"/>
                  </a:cubicBezTo>
                  <a:cubicBezTo>
                    <a:pt x="494656" y="252741"/>
                    <a:pt x="491742" y="253009"/>
                    <a:pt x="489105" y="253277"/>
                  </a:cubicBezTo>
                  <a:lnTo>
                    <a:pt x="487563" y="253452"/>
                  </a:lnTo>
                  <a:lnTo>
                    <a:pt x="487563" y="263171"/>
                  </a:lnTo>
                  <a:lnTo>
                    <a:pt x="490295" y="263171"/>
                  </a:lnTo>
                  <a:cubicBezTo>
                    <a:pt x="494681" y="263171"/>
                    <a:pt x="498549" y="262923"/>
                    <a:pt x="501898" y="262426"/>
                  </a:cubicBezTo>
                  <a:cubicBezTo>
                    <a:pt x="505247" y="261929"/>
                    <a:pt x="509569" y="261241"/>
                    <a:pt x="514863" y="260362"/>
                  </a:cubicBezTo>
                  <a:lnTo>
                    <a:pt x="611171" y="260362"/>
                  </a:lnTo>
                  <a:lnTo>
                    <a:pt x="612765" y="249207"/>
                  </a:lnTo>
                  <a:lnTo>
                    <a:pt x="612406" y="248855"/>
                  </a:lnTo>
                  <a:lnTo>
                    <a:pt x="589937" y="248855"/>
                  </a:lnTo>
                  <a:cubicBezTo>
                    <a:pt x="576012" y="248855"/>
                    <a:pt x="563678" y="248855"/>
                    <a:pt x="552935" y="248855"/>
                  </a:cubicBezTo>
                  <a:close/>
                  <a:moveTo>
                    <a:pt x="606877" y="187381"/>
                  </a:moveTo>
                  <a:cubicBezTo>
                    <a:pt x="597504" y="187649"/>
                    <a:pt x="585863" y="187918"/>
                    <a:pt x="571954" y="188187"/>
                  </a:cubicBezTo>
                  <a:cubicBezTo>
                    <a:pt x="558046" y="188456"/>
                    <a:pt x="544530" y="188857"/>
                    <a:pt x="531406" y="189390"/>
                  </a:cubicBezTo>
                  <a:lnTo>
                    <a:pt x="485956" y="190553"/>
                  </a:lnTo>
                  <a:lnTo>
                    <a:pt x="485956" y="215660"/>
                  </a:lnTo>
                  <a:lnTo>
                    <a:pt x="486180" y="216166"/>
                  </a:lnTo>
                  <a:lnTo>
                    <a:pt x="493508" y="216166"/>
                  </a:lnTo>
                  <a:cubicBezTo>
                    <a:pt x="515433" y="216166"/>
                    <a:pt x="536226" y="215841"/>
                    <a:pt x="555888" y="215190"/>
                  </a:cubicBezTo>
                  <a:cubicBezTo>
                    <a:pt x="575550" y="214539"/>
                    <a:pt x="595149" y="214334"/>
                    <a:pt x="614685" y="214573"/>
                  </a:cubicBezTo>
                  <a:cubicBezTo>
                    <a:pt x="616886" y="204875"/>
                    <a:pt x="617987" y="195811"/>
                    <a:pt x="617987" y="187381"/>
                  </a:cubicBezTo>
                  <a:close/>
                  <a:moveTo>
                    <a:pt x="953994" y="177192"/>
                  </a:moveTo>
                  <a:cubicBezTo>
                    <a:pt x="965027" y="177192"/>
                    <a:pt x="970544" y="182572"/>
                    <a:pt x="970544" y="193332"/>
                  </a:cubicBezTo>
                  <a:cubicBezTo>
                    <a:pt x="970544" y="204514"/>
                    <a:pt x="969405" y="215396"/>
                    <a:pt x="967129" y="225977"/>
                  </a:cubicBezTo>
                  <a:cubicBezTo>
                    <a:pt x="964853" y="236557"/>
                    <a:pt x="963715" y="247104"/>
                    <a:pt x="963715" y="257616"/>
                  </a:cubicBezTo>
                  <a:lnTo>
                    <a:pt x="963715" y="258205"/>
                  </a:lnTo>
                  <a:lnTo>
                    <a:pt x="973481" y="267600"/>
                  </a:lnTo>
                  <a:cubicBezTo>
                    <a:pt x="973635" y="267907"/>
                    <a:pt x="975063" y="268883"/>
                    <a:pt x="977766" y="270528"/>
                  </a:cubicBezTo>
                  <a:cubicBezTo>
                    <a:pt x="980468" y="272172"/>
                    <a:pt x="983876" y="274270"/>
                    <a:pt x="987989" y="276822"/>
                  </a:cubicBezTo>
                  <a:cubicBezTo>
                    <a:pt x="992102" y="279373"/>
                    <a:pt x="996049" y="281888"/>
                    <a:pt x="999831" y="284367"/>
                  </a:cubicBezTo>
                  <a:cubicBezTo>
                    <a:pt x="1003614" y="286845"/>
                    <a:pt x="1006509" y="288639"/>
                    <a:pt x="1008519" y="289749"/>
                  </a:cubicBezTo>
                  <a:cubicBezTo>
                    <a:pt x="1009713" y="290342"/>
                    <a:pt x="1012657" y="291912"/>
                    <a:pt x="1017350" y="294459"/>
                  </a:cubicBezTo>
                  <a:cubicBezTo>
                    <a:pt x="1022043" y="297006"/>
                    <a:pt x="1026973" y="299572"/>
                    <a:pt x="1032140" y="302158"/>
                  </a:cubicBezTo>
                  <a:cubicBezTo>
                    <a:pt x="1037993" y="304820"/>
                    <a:pt x="1043143" y="307401"/>
                    <a:pt x="1047589" y="309901"/>
                  </a:cubicBezTo>
                  <a:cubicBezTo>
                    <a:pt x="1052452" y="312597"/>
                    <a:pt x="1055513" y="314321"/>
                    <a:pt x="1056772" y="315072"/>
                  </a:cubicBezTo>
                  <a:cubicBezTo>
                    <a:pt x="1059972" y="316527"/>
                    <a:pt x="1063142" y="318659"/>
                    <a:pt x="1066282" y="321468"/>
                  </a:cubicBezTo>
                  <a:cubicBezTo>
                    <a:pt x="1069422" y="324278"/>
                    <a:pt x="1070992" y="327958"/>
                    <a:pt x="1070992" y="332508"/>
                  </a:cubicBezTo>
                  <a:cubicBezTo>
                    <a:pt x="1070992" y="337058"/>
                    <a:pt x="1069663" y="341196"/>
                    <a:pt x="1067005" y="344923"/>
                  </a:cubicBezTo>
                  <a:cubicBezTo>
                    <a:pt x="1064347" y="348650"/>
                    <a:pt x="1060294" y="350513"/>
                    <a:pt x="1054846" y="350513"/>
                  </a:cubicBezTo>
                  <a:cubicBezTo>
                    <a:pt x="1052640" y="350513"/>
                    <a:pt x="1051096" y="350336"/>
                    <a:pt x="1050216" y="349982"/>
                  </a:cubicBezTo>
                  <a:cubicBezTo>
                    <a:pt x="1049334" y="349628"/>
                    <a:pt x="1048041" y="349169"/>
                    <a:pt x="1046334" y="348606"/>
                  </a:cubicBezTo>
                  <a:cubicBezTo>
                    <a:pt x="1044261" y="347416"/>
                    <a:pt x="1041010" y="345790"/>
                    <a:pt x="1036581" y="343729"/>
                  </a:cubicBezTo>
                  <a:cubicBezTo>
                    <a:pt x="1034695" y="342091"/>
                    <a:pt x="1030854" y="340058"/>
                    <a:pt x="1025056" y="337631"/>
                  </a:cubicBezTo>
                  <a:cubicBezTo>
                    <a:pt x="1019257" y="335203"/>
                    <a:pt x="1014344" y="332949"/>
                    <a:pt x="1010314" y="330869"/>
                  </a:cubicBezTo>
                  <a:cubicBezTo>
                    <a:pt x="1006284" y="328790"/>
                    <a:pt x="1003399" y="327459"/>
                    <a:pt x="1001659" y="326879"/>
                  </a:cubicBezTo>
                  <a:cubicBezTo>
                    <a:pt x="992925" y="322242"/>
                    <a:pt x="984615" y="316915"/>
                    <a:pt x="976729" y="310899"/>
                  </a:cubicBezTo>
                  <a:cubicBezTo>
                    <a:pt x="968842" y="304884"/>
                    <a:pt x="961066" y="300274"/>
                    <a:pt x="953399" y="297070"/>
                  </a:cubicBezTo>
                  <a:cubicBezTo>
                    <a:pt x="953245" y="297305"/>
                    <a:pt x="952898" y="298960"/>
                    <a:pt x="952356" y="302036"/>
                  </a:cubicBezTo>
                  <a:cubicBezTo>
                    <a:pt x="952100" y="306379"/>
                    <a:pt x="951691" y="311144"/>
                    <a:pt x="951130" y="316330"/>
                  </a:cubicBezTo>
                  <a:cubicBezTo>
                    <a:pt x="950569" y="321515"/>
                    <a:pt x="948996" y="326120"/>
                    <a:pt x="946411" y="330143"/>
                  </a:cubicBezTo>
                  <a:cubicBezTo>
                    <a:pt x="943509" y="335954"/>
                    <a:pt x="938403" y="338859"/>
                    <a:pt x="931090" y="338859"/>
                  </a:cubicBezTo>
                  <a:cubicBezTo>
                    <a:pt x="924716" y="338859"/>
                    <a:pt x="920238" y="336709"/>
                    <a:pt x="917657" y="332409"/>
                  </a:cubicBezTo>
                  <a:cubicBezTo>
                    <a:pt x="916381" y="329217"/>
                    <a:pt x="915744" y="325181"/>
                    <a:pt x="915744" y="320300"/>
                  </a:cubicBezTo>
                  <a:cubicBezTo>
                    <a:pt x="915744" y="319494"/>
                    <a:pt x="915744" y="317921"/>
                    <a:pt x="915744" y="315581"/>
                  </a:cubicBezTo>
                  <a:cubicBezTo>
                    <a:pt x="915744" y="313241"/>
                    <a:pt x="915963" y="311855"/>
                    <a:pt x="916403" y="311424"/>
                  </a:cubicBezTo>
                  <a:lnTo>
                    <a:pt x="934226" y="215961"/>
                  </a:lnTo>
                  <a:cubicBezTo>
                    <a:pt x="934226" y="213465"/>
                    <a:pt x="934226" y="210133"/>
                    <a:pt x="934226" y="205965"/>
                  </a:cubicBezTo>
                  <a:cubicBezTo>
                    <a:pt x="934226" y="201797"/>
                    <a:pt x="934663" y="197670"/>
                    <a:pt x="935538" y="193585"/>
                  </a:cubicBezTo>
                  <a:cubicBezTo>
                    <a:pt x="936412" y="189500"/>
                    <a:pt x="938220" y="185747"/>
                    <a:pt x="940961" y="182325"/>
                  </a:cubicBezTo>
                  <a:cubicBezTo>
                    <a:pt x="943703" y="178903"/>
                    <a:pt x="948047" y="177192"/>
                    <a:pt x="953994" y="177192"/>
                  </a:cubicBezTo>
                  <a:close/>
                  <a:moveTo>
                    <a:pt x="105024" y="162070"/>
                  </a:moveTo>
                  <a:lnTo>
                    <a:pt x="105024" y="162793"/>
                  </a:lnTo>
                  <a:cubicBezTo>
                    <a:pt x="105024" y="163177"/>
                    <a:pt x="105080" y="163881"/>
                    <a:pt x="105193" y="164905"/>
                  </a:cubicBezTo>
                  <a:cubicBezTo>
                    <a:pt x="105306" y="165929"/>
                    <a:pt x="105423" y="167043"/>
                    <a:pt x="105542" y="168246"/>
                  </a:cubicBezTo>
                  <a:cubicBezTo>
                    <a:pt x="105662" y="169449"/>
                    <a:pt x="105862" y="170645"/>
                    <a:pt x="106144" y="171833"/>
                  </a:cubicBezTo>
                  <a:cubicBezTo>
                    <a:pt x="106425" y="173021"/>
                    <a:pt x="106587" y="173892"/>
                    <a:pt x="106630" y="174447"/>
                  </a:cubicBezTo>
                  <a:cubicBezTo>
                    <a:pt x="106630" y="176619"/>
                    <a:pt x="106816" y="179805"/>
                    <a:pt x="107187" y="184005"/>
                  </a:cubicBezTo>
                  <a:cubicBezTo>
                    <a:pt x="107558" y="188205"/>
                    <a:pt x="107876" y="192571"/>
                    <a:pt x="108140" y="197102"/>
                  </a:cubicBezTo>
                  <a:cubicBezTo>
                    <a:pt x="108682" y="202486"/>
                    <a:pt x="109096" y="207324"/>
                    <a:pt x="109382" y="211616"/>
                  </a:cubicBezTo>
                  <a:cubicBezTo>
                    <a:pt x="109689" y="216876"/>
                    <a:pt x="109843" y="219865"/>
                    <a:pt x="109843" y="220582"/>
                  </a:cubicBezTo>
                  <a:lnTo>
                    <a:pt x="110271" y="221267"/>
                  </a:lnTo>
                  <a:cubicBezTo>
                    <a:pt x="110271" y="221267"/>
                    <a:pt x="111194" y="221364"/>
                    <a:pt x="113039" y="221558"/>
                  </a:cubicBezTo>
                  <a:cubicBezTo>
                    <a:pt x="114884" y="221752"/>
                    <a:pt x="117682" y="222057"/>
                    <a:pt x="121432" y="222473"/>
                  </a:cubicBezTo>
                  <a:cubicBezTo>
                    <a:pt x="125182" y="222889"/>
                    <a:pt x="128613" y="223216"/>
                    <a:pt x="131723" y="223455"/>
                  </a:cubicBezTo>
                  <a:cubicBezTo>
                    <a:pt x="136040" y="223745"/>
                    <a:pt x="139274" y="224127"/>
                    <a:pt x="141425" y="224601"/>
                  </a:cubicBezTo>
                  <a:lnTo>
                    <a:pt x="146333" y="224601"/>
                  </a:lnTo>
                  <a:cubicBezTo>
                    <a:pt x="146231" y="224601"/>
                    <a:pt x="146619" y="224600"/>
                    <a:pt x="147498" y="224597"/>
                  </a:cubicBezTo>
                  <a:cubicBezTo>
                    <a:pt x="148377" y="224595"/>
                    <a:pt x="148765" y="224963"/>
                    <a:pt x="148663" y="225701"/>
                  </a:cubicBezTo>
                  <a:cubicBezTo>
                    <a:pt x="148663" y="223905"/>
                    <a:pt x="148730" y="220195"/>
                    <a:pt x="148864" y="214569"/>
                  </a:cubicBezTo>
                  <a:cubicBezTo>
                    <a:pt x="148999" y="208944"/>
                    <a:pt x="149133" y="202851"/>
                    <a:pt x="149267" y="196289"/>
                  </a:cubicBezTo>
                  <a:cubicBezTo>
                    <a:pt x="149402" y="189727"/>
                    <a:pt x="149535" y="183706"/>
                    <a:pt x="149667" y="178226"/>
                  </a:cubicBezTo>
                  <a:cubicBezTo>
                    <a:pt x="149800" y="172746"/>
                    <a:pt x="149866" y="168807"/>
                    <a:pt x="149866" y="166409"/>
                  </a:cubicBezTo>
                  <a:lnTo>
                    <a:pt x="149866" y="165609"/>
                  </a:lnTo>
                  <a:cubicBezTo>
                    <a:pt x="149866" y="165289"/>
                    <a:pt x="149436" y="164866"/>
                    <a:pt x="148576" y="164339"/>
                  </a:cubicBezTo>
                  <a:cubicBezTo>
                    <a:pt x="147717" y="163812"/>
                    <a:pt x="146120" y="163364"/>
                    <a:pt x="143786" y="162995"/>
                  </a:cubicBezTo>
                  <a:cubicBezTo>
                    <a:pt x="141452" y="162626"/>
                    <a:pt x="139195" y="162379"/>
                    <a:pt x="137015" y="162256"/>
                  </a:cubicBezTo>
                  <a:cubicBezTo>
                    <a:pt x="134835" y="162132"/>
                    <a:pt x="133252" y="162070"/>
                    <a:pt x="132267" y="162070"/>
                  </a:cubicBezTo>
                  <a:lnTo>
                    <a:pt x="117401" y="162070"/>
                  </a:lnTo>
                  <a:close/>
                  <a:moveTo>
                    <a:pt x="101389" y="125362"/>
                  </a:moveTo>
                  <a:cubicBezTo>
                    <a:pt x="105689" y="125626"/>
                    <a:pt x="109286" y="125759"/>
                    <a:pt x="112178" y="125759"/>
                  </a:cubicBezTo>
                  <a:lnTo>
                    <a:pt x="127448" y="125759"/>
                  </a:lnTo>
                  <a:cubicBezTo>
                    <a:pt x="127589" y="125759"/>
                    <a:pt x="129304" y="125923"/>
                    <a:pt x="132593" y="126251"/>
                  </a:cubicBezTo>
                  <a:cubicBezTo>
                    <a:pt x="135546" y="127058"/>
                    <a:pt x="138961" y="127669"/>
                    <a:pt x="142839" y="128085"/>
                  </a:cubicBezTo>
                  <a:cubicBezTo>
                    <a:pt x="146717" y="128501"/>
                    <a:pt x="150443" y="128965"/>
                    <a:pt x="154016" y="129477"/>
                  </a:cubicBezTo>
                  <a:cubicBezTo>
                    <a:pt x="157589" y="129989"/>
                    <a:pt x="160577" y="130511"/>
                    <a:pt x="162979" y="131045"/>
                  </a:cubicBezTo>
                  <a:cubicBezTo>
                    <a:pt x="168768" y="131958"/>
                    <a:pt x="173213" y="133476"/>
                    <a:pt x="176312" y="135598"/>
                  </a:cubicBezTo>
                  <a:cubicBezTo>
                    <a:pt x="179412" y="137721"/>
                    <a:pt x="182301" y="141630"/>
                    <a:pt x="184980" y="147325"/>
                  </a:cubicBezTo>
                  <a:lnTo>
                    <a:pt x="184980" y="161590"/>
                  </a:lnTo>
                  <a:lnTo>
                    <a:pt x="184980" y="174447"/>
                  </a:lnTo>
                  <a:cubicBezTo>
                    <a:pt x="184980" y="175113"/>
                    <a:pt x="184903" y="178793"/>
                    <a:pt x="184747" y="185489"/>
                  </a:cubicBezTo>
                  <a:cubicBezTo>
                    <a:pt x="184591" y="192186"/>
                    <a:pt x="184380" y="198671"/>
                    <a:pt x="184113" y="204944"/>
                  </a:cubicBezTo>
                  <a:cubicBezTo>
                    <a:pt x="183847" y="211218"/>
                    <a:pt x="183651" y="217157"/>
                    <a:pt x="183528" y="222761"/>
                  </a:cubicBezTo>
                  <a:cubicBezTo>
                    <a:pt x="183404" y="228365"/>
                    <a:pt x="183353" y="232472"/>
                    <a:pt x="183374" y="235083"/>
                  </a:cubicBezTo>
                  <a:cubicBezTo>
                    <a:pt x="181139" y="240297"/>
                    <a:pt x="179478" y="244111"/>
                    <a:pt x="178392" y="246526"/>
                  </a:cubicBezTo>
                  <a:cubicBezTo>
                    <a:pt x="177306" y="248941"/>
                    <a:pt x="175772" y="251305"/>
                    <a:pt x="173791" y="253620"/>
                  </a:cubicBezTo>
                  <a:cubicBezTo>
                    <a:pt x="171809" y="255934"/>
                    <a:pt x="169435" y="257661"/>
                    <a:pt x="166668" y="258800"/>
                  </a:cubicBezTo>
                  <a:cubicBezTo>
                    <a:pt x="163901" y="259939"/>
                    <a:pt x="160336" y="260509"/>
                    <a:pt x="155971" y="260509"/>
                  </a:cubicBezTo>
                  <a:cubicBezTo>
                    <a:pt x="144959" y="260509"/>
                    <a:pt x="134214" y="259971"/>
                    <a:pt x="123736" y="258896"/>
                  </a:cubicBezTo>
                  <a:cubicBezTo>
                    <a:pt x="113258" y="257821"/>
                    <a:pt x="102660" y="257145"/>
                    <a:pt x="91943" y="256868"/>
                  </a:cubicBezTo>
                  <a:cubicBezTo>
                    <a:pt x="86687" y="255225"/>
                    <a:pt x="82970" y="252981"/>
                    <a:pt x="80792" y="250135"/>
                  </a:cubicBezTo>
                  <a:cubicBezTo>
                    <a:pt x="78614" y="247289"/>
                    <a:pt x="76737" y="243503"/>
                    <a:pt x="75163" y="238776"/>
                  </a:cubicBezTo>
                  <a:cubicBezTo>
                    <a:pt x="74621" y="225277"/>
                    <a:pt x="73550" y="211584"/>
                    <a:pt x="71951" y="197697"/>
                  </a:cubicBezTo>
                  <a:cubicBezTo>
                    <a:pt x="70858" y="184074"/>
                    <a:pt x="70312" y="170298"/>
                    <a:pt x="70312" y="156368"/>
                  </a:cubicBezTo>
                  <a:lnTo>
                    <a:pt x="70312" y="142878"/>
                  </a:lnTo>
                  <a:cubicBezTo>
                    <a:pt x="70649" y="137809"/>
                    <a:pt x="72910" y="133756"/>
                    <a:pt x="77096" y="130718"/>
                  </a:cubicBezTo>
                  <a:cubicBezTo>
                    <a:pt x="80872" y="128969"/>
                    <a:pt x="84884" y="127487"/>
                    <a:pt x="89133" y="126271"/>
                  </a:cubicBezTo>
                  <a:cubicBezTo>
                    <a:pt x="94014" y="125665"/>
                    <a:pt x="98099" y="125362"/>
                    <a:pt x="101389" y="125362"/>
                  </a:cubicBezTo>
                  <a:close/>
                  <a:moveTo>
                    <a:pt x="140167" y="86932"/>
                  </a:moveTo>
                  <a:cubicBezTo>
                    <a:pt x="136325" y="86932"/>
                    <a:pt x="132472" y="86999"/>
                    <a:pt x="128606" y="87134"/>
                  </a:cubicBezTo>
                  <a:cubicBezTo>
                    <a:pt x="124741" y="87268"/>
                    <a:pt x="121006" y="87335"/>
                    <a:pt x="117401" y="87335"/>
                  </a:cubicBezTo>
                  <a:cubicBezTo>
                    <a:pt x="114457" y="87335"/>
                    <a:pt x="112850" y="87335"/>
                    <a:pt x="112582" y="87335"/>
                  </a:cubicBezTo>
                  <a:cubicBezTo>
                    <a:pt x="111101" y="87335"/>
                    <a:pt x="107764" y="87467"/>
                    <a:pt x="102569" y="87729"/>
                  </a:cubicBezTo>
                  <a:cubicBezTo>
                    <a:pt x="97375" y="87991"/>
                    <a:pt x="91111" y="88263"/>
                    <a:pt x="83777" y="88545"/>
                  </a:cubicBezTo>
                  <a:cubicBezTo>
                    <a:pt x="77390" y="88810"/>
                    <a:pt x="70917" y="89139"/>
                    <a:pt x="64357" y="89534"/>
                  </a:cubicBezTo>
                  <a:cubicBezTo>
                    <a:pt x="57798" y="89928"/>
                    <a:pt x="52959" y="90254"/>
                    <a:pt x="49840" y="90510"/>
                  </a:cubicBezTo>
                  <a:cubicBezTo>
                    <a:pt x="47677" y="90783"/>
                    <a:pt x="45217" y="91014"/>
                    <a:pt x="42461" y="91204"/>
                  </a:cubicBezTo>
                  <a:cubicBezTo>
                    <a:pt x="39705" y="91394"/>
                    <a:pt x="38327" y="90668"/>
                    <a:pt x="38327" y="89025"/>
                  </a:cubicBezTo>
                  <a:lnTo>
                    <a:pt x="36721" y="92238"/>
                  </a:lnTo>
                  <a:lnTo>
                    <a:pt x="36721" y="104941"/>
                  </a:lnTo>
                  <a:lnTo>
                    <a:pt x="36721" y="125938"/>
                  </a:lnTo>
                  <a:cubicBezTo>
                    <a:pt x="36943" y="130917"/>
                    <a:pt x="37188" y="137826"/>
                    <a:pt x="37457" y="146666"/>
                  </a:cubicBezTo>
                  <a:cubicBezTo>
                    <a:pt x="37725" y="155506"/>
                    <a:pt x="37994" y="164814"/>
                    <a:pt x="38263" y="174591"/>
                  </a:cubicBezTo>
                  <a:cubicBezTo>
                    <a:pt x="38532" y="184367"/>
                    <a:pt x="38796" y="193962"/>
                    <a:pt x="39057" y="203373"/>
                  </a:cubicBezTo>
                  <a:cubicBezTo>
                    <a:pt x="39863" y="213037"/>
                    <a:pt x="40400" y="221805"/>
                    <a:pt x="40669" y="229679"/>
                  </a:cubicBezTo>
                  <a:cubicBezTo>
                    <a:pt x="40938" y="237552"/>
                    <a:pt x="41145" y="244040"/>
                    <a:pt x="41290" y="249140"/>
                  </a:cubicBezTo>
                  <a:cubicBezTo>
                    <a:pt x="41435" y="254240"/>
                    <a:pt x="41518" y="257070"/>
                    <a:pt x="41540" y="257629"/>
                  </a:cubicBezTo>
                  <a:lnTo>
                    <a:pt x="44656" y="280853"/>
                  </a:lnTo>
                  <a:lnTo>
                    <a:pt x="211993" y="280853"/>
                  </a:lnTo>
                  <a:lnTo>
                    <a:pt x="225004" y="101056"/>
                  </a:lnTo>
                  <a:lnTo>
                    <a:pt x="225004" y="96097"/>
                  </a:lnTo>
                  <a:cubicBezTo>
                    <a:pt x="225004" y="93763"/>
                    <a:pt x="224447" y="92395"/>
                    <a:pt x="223333" y="91994"/>
                  </a:cubicBezTo>
                  <a:cubicBezTo>
                    <a:pt x="221213" y="91568"/>
                    <a:pt x="217998" y="91086"/>
                    <a:pt x="213689" y="90548"/>
                  </a:cubicBezTo>
                  <a:cubicBezTo>
                    <a:pt x="211569" y="90249"/>
                    <a:pt x="208914" y="89901"/>
                    <a:pt x="205725" y="89502"/>
                  </a:cubicBezTo>
                  <a:cubicBezTo>
                    <a:pt x="202536" y="89103"/>
                    <a:pt x="199352" y="88771"/>
                    <a:pt x="196173" y="88507"/>
                  </a:cubicBezTo>
                  <a:cubicBezTo>
                    <a:pt x="192995" y="88242"/>
                    <a:pt x="190217" y="87981"/>
                    <a:pt x="187841" y="87723"/>
                  </a:cubicBezTo>
                  <a:cubicBezTo>
                    <a:pt x="185465" y="87465"/>
                    <a:pt x="184179" y="87335"/>
                    <a:pt x="183985" y="87335"/>
                  </a:cubicBezTo>
                  <a:cubicBezTo>
                    <a:pt x="183791" y="87335"/>
                    <a:pt x="182256" y="87335"/>
                    <a:pt x="179381" y="87335"/>
                  </a:cubicBezTo>
                  <a:cubicBezTo>
                    <a:pt x="176505" y="87335"/>
                    <a:pt x="173263" y="87268"/>
                    <a:pt x="169653" y="87134"/>
                  </a:cubicBezTo>
                  <a:cubicBezTo>
                    <a:pt x="166044" y="86999"/>
                    <a:pt x="162326" y="86932"/>
                    <a:pt x="158499" y="86932"/>
                  </a:cubicBezTo>
                  <a:cubicBezTo>
                    <a:pt x="154672" y="86932"/>
                    <a:pt x="151620" y="86932"/>
                    <a:pt x="149344" y="86932"/>
                  </a:cubicBezTo>
                  <a:cubicBezTo>
                    <a:pt x="147068" y="86932"/>
                    <a:pt x="144009" y="86932"/>
                    <a:pt x="140167" y="86932"/>
                  </a:cubicBezTo>
                  <a:close/>
                  <a:moveTo>
                    <a:pt x="660256" y="84379"/>
                  </a:moveTo>
                  <a:cubicBezTo>
                    <a:pt x="665589" y="84379"/>
                    <a:pt x="671154" y="85146"/>
                    <a:pt x="676950" y="86680"/>
                  </a:cubicBezTo>
                  <a:cubicBezTo>
                    <a:pt x="682745" y="88213"/>
                    <a:pt x="685643" y="93093"/>
                    <a:pt x="685643" y="101319"/>
                  </a:cubicBezTo>
                  <a:cubicBezTo>
                    <a:pt x="685643" y="105231"/>
                    <a:pt x="684735" y="108702"/>
                    <a:pt x="682917" y="111731"/>
                  </a:cubicBezTo>
                  <a:cubicBezTo>
                    <a:pt x="681275" y="116240"/>
                    <a:pt x="677691" y="118681"/>
                    <a:pt x="672166" y="119052"/>
                  </a:cubicBezTo>
                  <a:lnTo>
                    <a:pt x="573561" y="124300"/>
                  </a:lnTo>
                  <a:cubicBezTo>
                    <a:pt x="573885" y="124300"/>
                    <a:pt x="573622" y="124603"/>
                    <a:pt x="572773" y="125208"/>
                  </a:cubicBezTo>
                  <a:cubicBezTo>
                    <a:pt x="571357" y="127192"/>
                    <a:pt x="570232" y="128839"/>
                    <a:pt x="569398" y="130149"/>
                  </a:cubicBezTo>
                  <a:cubicBezTo>
                    <a:pt x="568564" y="131459"/>
                    <a:pt x="567383" y="133201"/>
                    <a:pt x="565856" y="135377"/>
                  </a:cubicBezTo>
                  <a:cubicBezTo>
                    <a:pt x="564563" y="138483"/>
                    <a:pt x="563014" y="141425"/>
                    <a:pt x="561209" y="144202"/>
                  </a:cubicBezTo>
                  <a:cubicBezTo>
                    <a:pt x="559405" y="146980"/>
                    <a:pt x="557996" y="149271"/>
                    <a:pt x="556983" y="151076"/>
                  </a:cubicBezTo>
                  <a:lnTo>
                    <a:pt x="556253" y="152265"/>
                  </a:lnTo>
                  <a:lnTo>
                    <a:pt x="589656" y="151677"/>
                  </a:lnTo>
                  <a:cubicBezTo>
                    <a:pt x="601576" y="151276"/>
                    <a:pt x="613189" y="151076"/>
                    <a:pt x="624495" y="151076"/>
                  </a:cubicBezTo>
                  <a:cubicBezTo>
                    <a:pt x="633796" y="151076"/>
                    <a:pt x="640927" y="153089"/>
                    <a:pt x="645889" y="157117"/>
                  </a:cubicBezTo>
                  <a:cubicBezTo>
                    <a:pt x="651499" y="162070"/>
                    <a:pt x="654305" y="169321"/>
                    <a:pt x="654305" y="178869"/>
                  </a:cubicBezTo>
                  <a:cubicBezTo>
                    <a:pt x="654305" y="197944"/>
                    <a:pt x="653099" y="216658"/>
                    <a:pt x="650689" y="235010"/>
                  </a:cubicBezTo>
                  <a:cubicBezTo>
                    <a:pt x="648278" y="253362"/>
                    <a:pt x="647073" y="271881"/>
                    <a:pt x="647073" y="290568"/>
                  </a:cubicBezTo>
                  <a:cubicBezTo>
                    <a:pt x="647073" y="291639"/>
                    <a:pt x="647073" y="293708"/>
                    <a:pt x="647073" y="296776"/>
                  </a:cubicBezTo>
                  <a:cubicBezTo>
                    <a:pt x="647073" y="299843"/>
                    <a:pt x="647140" y="302789"/>
                    <a:pt x="647275" y="305613"/>
                  </a:cubicBezTo>
                  <a:cubicBezTo>
                    <a:pt x="647409" y="308438"/>
                    <a:pt x="647476" y="310989"/>
                    <a:pt x="647476" y="313267"/>
                  </a:cubicBezTo>
                  <a:cubicBezTo>
                    <a:pt x="647476" y="315546"/>
                    <a:pt x="647476" y="317032"/>
                    <a:pt x="647476" y="317728"/>
                  </a:cubicBezTo>
                  <a:cubicBezTo>
                    <a:pt x="649277" y="321849"/>
                    <a:pt x="650329" y="325798"/>
                    <a:pt x="650634" y="329574"/>
                  </a:cubicBezTo>
                  <a:cubicBezTo>
                    <a:pt x="650939" y="333349"/>
                    <a:pt x="651092" y="337355"/>
                    <a:pt x="651092" y="341592"/>
                  </a:cubicBezTo>
                  <a:cubicBezTo>
                    <a:pt x="651092" y="341451"/>
                    <a:pt x="651019" y="342911"/>
                    <a:pt x="650874" y="345973"/>
                  </a:cubicBezTo>
                  <a:cubicBezTo>
                    <a:pt x="650729" y="349034"/>
                    <a:pt x="650667" y="350910"/>
                    <a:pt x="650689" y="351601"/>
                  </a:cubicBezTo>
                  <a:cubicBezTo>
                    <a:pt x="649170" y="357309"/>
                    <a:pt x="646366" y="361144"/>
                    <a:pt x="642276" y="363104"/>
                  </a:cubicBezTo>
                  <a:cubicBezTo>
                    <a:pt x="638187" y="365065"/>
                    <a:pt x="634203" y="366493"/>
                    <a:pt x="630325" y="367389"/>
                  </a:cubicBezTo>
                  <a:lnTo>
                    <a:pt x="533691" y="367389"/>
                  </a:lnTo>
                  <a:cubicBezTo>
                    <a:pt x="532706" y="367389"/>
                    <a:pt x="530605" y="367455"/>
                    <a:pt x="527391" y="367587"/>
                  </a:cubicBezTo>
                  <a:cubicBezTo>
                    <a:pt x="524176" y="367719"/>
                    <a:pt x="520608" y="367851"/>
                    <a:pt x="516687" y="367981"/>
                  </a:cubicBezTo>
                  <a:cubicBezTo>
                    <a:pt x="512766" y="368111"/>
                    <a:pt x="508905" y="368312"/>
                    <a:pt x="505104" y="368586"/>
                  </a:cubicBezTo>
                  <a:cubicBezTo>
                    <a:pt x="501303" y="368859"/>
                    <a:pt x="498510" y="368995"/>
                    <a:pt x="496727" y="368995"/>
                  </a:cubicBezTo>
                  <a:cubicBezTo>
                    <a:pt x="496629" y="368995"/>
                    <a:pt x="495709" y="369062"/>
                    <a:pt x="493969" y="369197"/>
                  </a:cubicBezTo>
                  <a:cubicBezTo>
                    <a:pt x="492228" y="369331"/>
                    <a:pt x="490486" y="369464"/>
                    <a:pt x="488743" y="369597"/>
                  </a:cubicBezTo>
                  <a:cubicBezTo>
                    <a:pt x="487001" y="369729"/>
                    <a:pt x="485170" y="369862"/>
                    <a:pt x="483253" y="369997"/>
                  </a:cubicBezTo>
                  <a:cubicBezTo>
                    <a:pt x="481335" y="370131"/>
                    <a:pt x="480201" y="370198"/>
                    <a:pt x="479851" y="370198"/>
                  </a:cubicBezTo>
                  <a:lnTo>
                    <a:pt x="479045" y="370198"/>
                  </a:lnTo>
                  <a:cubicBezTo>
                    <a:pt x="471788" y="370198"/>
                    <a:pt x="466298" y="367852"/>
                    <a:pt x="462575" y="363159"/>
                  </a:cubicBezTo>
                  <a:cubicBezTo>
                    <a:pt x="458853" y="358466"/>
                    <a:pt x="456697" y="353175"/>
                    <a:pt x="456109" y="347288"/>
                  </a:cubicBezTo>
                  <a:cubicBezTo>
                    <a:pt x="455819" y="343555"/>
                    <a:pt x="455540" y="337876"/>
                    <a:pt x="455274" y="330252"/>
                  </a:cubicBezTo>
                  <a:cubicBezTo>
                    <a:pt x="455007" y="322628"/>
                    <a:pt x="454470" y="313848"/>
                    <a:pt x="453664" y="303911"/>
                  </a:cubicBezTo>
                  <a:cubicBezTo>
                    <a:pt x="453391" y="294073"/>
                    <a:pt x="453053" y="283874"/>
                    <a:pt x="452650" y="273315"/>
                  </a:cubicBezTo>
                  <a:cubicBezTo>
                    <a:pt x="452246" y="262755"/>
                    <a:pt x="451780" y="252563"/>
                    <a:pt x="451251" y="242737"/>
                  </a:cubicBezTo>
                  <a:cubicBezTo>
                    <a:pt x="450983" y="233462"/>
                    <a:pt x="450449" y="224825"/>
                    <a:pt x="449651" y="216825"/>
                  </a:cubicBezTo>
                  <a:cubicBezTo>
                    <a:pt x="449374" y="209052"/>
                    <a:pt x="449235" y="203365"/>
                    <a:pt x="449235" y="199764"/>
                  </a:cubicBezTo>
                  <a:lnTo>
                    <a:pt x="449235" y="186504"/>
                  </a:lnTo>
                  <a:lnTo>
                    <a:pt x="449235" y="172956"/>
                  </a:lnTo>
                  <a:cubicBezTo>
                    <a:pt x="449581" y="169163"/>
                    <a:pt x="450999" y="166022"/>
                    <a:pt x="453488" y="163532"/>
                  </a:cubicBezTo>
                  <a:cubicBezTo>
                    <a:pt x="455977" y="161043"/>
                    <a:pt x="458791" y="159170"/>
                    <a:pt x="461929" y="157914"/>
                  </a:cubicBezTo>
                  <a:cubicBezTo>
                    <a:pt x="465067" y="156657"/>
                    <a:pt x="468279" y="155806"/>
                    <a:pt x="471564" y="155360"/>
                  </a:cubicBezTo>
                  <a:cubicBezTo>
                    <a:pt x="474849" y="154914"/>
                    <a:pt x="477611" y="154691"/>
                    <a:pt x="479851" y="154691"/>
                  </a:cubicBezTo>
                  <a:cubicBezTo>
                    <a:pt x="481396" y="154691"/>
                    <a:pt x="483774" y="154557"/>
                    <a:pt x="486987" y="154288"/>
                  </a:cubicBezTo>
                  <a:cubicBezTo>
                    <a:pt x="490818" y="154288"/>
                    <a:pt x="494240" y="154172"/>
                    <a:pt x="497252" y="153939"/>
                  </a:cubicBezTo>
                  <a:cubicBezTo>
                    <a:pt x="500264" y="153707"/>
                    <a:pt x="503754" y="153288"/>
                    <a:pt x="507721" y="152682"/>
                  </a:cubicBezTo>
                  <a:cubicBezTo>
                    <a:pt x="511105" y="152682"/>
                    <a:pt x="513249" y="152682"/>
                    <a:pt x="514153" y="152682"/>
                  </a:cubicBezTo>
                  <a:cubicBezTo>
                    <a:pt x="513616" y="152955"/>
                    <a:pt x="513810" y="152629"/>
                    <a:pt x="514736" y="151703"/>
                  </a:cubicBezTo>
                  <a:cubicBezTo>
                    <a:pt x="515661" y="150777"/>
                    <a:pt x="516126" y="150310"/>
                    <a:pt x="516131" y="150301"/>
                  </a:cubicBezTo>
                  <a:cubicBezTo>
                    <a:pt x="517560" y="147805"/>
                    <a:pt x="519294" y="145131"/>
                    <a:pt x="521334" y="142279"/>
                  </a:cubicBezTo>
                  <a:cubicBezTo>
                    <a:pt x="523373" y="139427"/>
                    <a:pt x="525221" y="136660"/>
                    <a:pt x="526879" y="133979"/>
                  </a:cubicBezTo>
                  <a:lnTo>
                    <a:pt x="530472" y="127943"/>
                  </a:lnTo>
                  <a:lnTo>
                    <a:pt x="489524" y="128520"/>
                  </a:lnTo>
                  <a:cubicBezTo>
                    <a:pt x="473967" y="128923"/>
                    <a:pt x="458018" y="129125"/>
                    <a:pt x="441678" y="129125"/>
                  </a:cubicBezTo>
                  <a:lnTo>
                    <a:pt x="426043" y="129125"/>
                  </a:lnTo>
                  <a:cubicBezTo>
                    <a:pt x="421440" y="127973"/>
                    <a:pt x="418329" y="125777"/>
                    <a:pt x="416709" y="122537"/>
                  </a:cubicBezTo>
                  <a:cubicBezTo>
                    <a:pt x="415090" y="119296"/>
                    <a:pt x="414281" y="115573"/>
                    <a:pt x="414281" y="111366"/>
                  </a:cubicBezTo>
                  <a:cubicBezTo>
                    <a:pt x="414281" y="108508"/>
                    <a:pt x="415080" y="105036"/>
                    <a:pt x="416677" y="100951"/>
                  </a:cubicBezTo>
                  <a:cubicBezTo>
                    <a:pt x="418275" y="96866"/>
                    <a:pt x="422016" y="94823"/>
                    <a:pt x="427899" y="94823"/>
                  </a:cubicBezTo>
                  <a:lnTo>
                    <a:pt x="650113" y="84808"/>
                  </a:lnTo>
                  <a:cubicBezTo>
                    <a:pt x="651282" y="84786"/>
                    <a:pt x="652974" y="84715"/>
                    <a:pt x="655191" y="84593"/>
                  </a:cubicBezTo>
                  <a:cubicBezTo>
                    <a:pt x="657407" y="84472"/>
                    <a:pt x="659096" y="84400"/>
                    <a:pt x="660256" y="84379"/>
                  </a:cubicBezTo>
                  <a:close/>
                  <a:moveTo>
                    <a:pt x="102989" y="52637"/>
                  </a:moveTo>
                  <a:cubicBezTo>
                    <a:pt x="106973" y="52637"/>
                    <a:pt x="111644" y="52637"/>
                    <a:pt x="117001" y="52637"/>
                  </a:cubicBezTo>
                  <a:cubicBezTo>
                    <a:pt x="122357" y="52637"/>
                    <a:pt x="127848" y="52637"/>
                    <a:pt x="133473" y="52637"/>
                  </a:cubicBezTo>
                  <a:cubicBezTo>
                    <a:pt x="139098" y="52637"/>
                    <a:pt x="143517" y="52637"/>
                    <a:pt x="146730" y="52637"/>
                  </a:cubicBezTo>
                  <a:cubicBezTo>
                    <a:pt x="148607" y="52637"/>
                    <a:pt x="151956" y="52637"/>
                    <a:pt x="156777" y="52637"/>
                  </a:cubicBezTo>
                  <a:cubicBezTo>
                    <a:pt x="161598" y="52637"/>
                    <a:pt x="166338" y="52637"/>
                    <a:pt x="170997" y="52637"/>
                  </a:cubicBezTo>
                  <a:cubicBezTo>
                    <a:pt x="175656" y="52637"/>
                    <a:pt x="180817" y="52708"/>
                    <a:pt x="186481" y="52851"/>
                  </a:cubicBezTo>
                  <a:cubicBezTo>
                    <a:pt x="192145" y="52994"/>
                    <a:pt x="195900" y="53055"/>
                    <a:pt x="197748" y="53034"/>
                  </a:cubicBezTo>
                  <a:cubicBezTo>
                    <a:pt x="204791" y="53912"/>
                    <a:pt x="211921" y="54687"/>
                    <a:pt x="219135" y="55357"/>
                  </a:cubicBezTo>
                  <a:cubicBezTo>
                    <a:pt x="226350" y="56026"/>
                    <a:pt x="232986" y="57223"/>
                    <a:pt x="239044" y="58947"/>
                  </a:cubicBezTo>
                  <a:cubicBezTo>
                    <a:pt x="245653" y="61357"/>
                    <a:pt x="250873" y="65069"/>
                    <a:pt x="254704" y="70082"/>
                  </a:cubicBezTo>
                  <a:cubicBezTo>
                    <a:pt x="259384" y="75381"/>
                    <a:pt x="261725" y="82713"/>
                    <a:pt x="261725" y="92078"/>
                  </a:cubicBezTo>
                  <a:lnTo>
                    <a:pt x="261725" y="97946"/>
                  </a:lnTo>
                  <a:cubicBezTo>
                    <a:pt x="258179" y="131749"/>
                    <a:pt x="255007" y="164909"/>
                    <a:pt x="252208" y="197428"/>
                  </a:cubicBezTo>
                  <a:cubicBezTo>
                    <a:pt x="249410" y="229947"/>
                    <a:pt x="248682" y="262960"/>
                    <a:pt x="250026" y="296468"/>
                  </a:cubicBezTo>
                  <a:cubicBezTo>
                    <a:pt x="249309" y="303260"/>
                    <a:pt x="245856" y="307960"/>
                    <a:pt x="239665" y="310567"/>
                  </a:cubicBezTo>
                  <a:cubicBezTo>
                    <a:pt x="234541" y="312973"/>
                    <a:pt x="229539" y="314637"/>
                    <a:pt x="224658" y="315558"/>
                  </a:cubicBezTo>
                  <a:cubicBezTo>
                    <a:pt x="220656" y="315558"/>
                    <a:pt x="214905" y="315558"/>
                    <a:pt x="207405" y="315558"/>
                  </a:cubicBezTo>
                  <a:cubicBezTo>
                    <a:pt x="199904" y="315558"/>
                    <a:pt x="191466" y="315624"/>
                    <a:pt x="182091" y="315757"/>
                  </a:cubicBezTo>
                  <a:cubicBezTo>
                    <a:pt x="172716" y="315889"/>
                    <a:pt x="162872" y="316022"/>
                    <a:pt x="152560" y="316157"/>
                  </a:cubicBezTo>
                  <a:cubicBezTo>
                    <a:pt x="142248" y="316291"/>
                    <a:pt x="132337" y="316426"/>
                    <a:pt x="122827" y="316560"/>
                  </a:cubicBezTo>
                  <a:cubicBezTo>
                    <a:pt x="113318" y="316694"/>
                    <a:pt x="104880" y="316761"/>
                    <a:pt x="97514" y="316761"/>
                  </a:cubicBezTo>
                  <a:cubicBezTo>
                    <a:pt x="90148" y="316761"/>
                    <a:pt x="84724" y="316761"/>
                    <a:pt x="81243" y="316761"/>
                  </a:cubicBezTo>
                  <a:cubicBezTo>
                    <a:pt x="80436" y="316761"/>
                    <a:pt x="79060" y="316761"/>
                    <a:pt x="77115" y="316761"/>
                  </a:cubicBezTo>
                  <a:cubicBezTo>
                    <a:pt x="75170" y="316761"/>
                    <a:pt x="72869" y="316829"/>
                    <a:pt x="70213" y="316963"/>
                  </a:cubicBezTo>
                  <a:cubicBezTo>
                    <a:pt x="67557" y="317097"/>
                    <a:pt x="64536" y="317165"/>
                    <a:pt x="61148" y="317165"/>
                  </a:cubicBezTo>
                  <a:cubicBezTo>
                    <a:pt x="58473" y="317165"/>
                    <a:pt x="56532" y="317165"/>
                    <a:pt x="55324" y="317165"/>
                  </a:cubicBezTo>
                  <a:cubicBezTo>
                    <a:pt x="54117" y="317165"/>
                    <a:pt x="52265" y="317165"/>
                    <a:pt x="49769" y="317165"/>
                  </a:cubicBezTo>
                  <a:cubicBezTo>
                    <a:pt x="47274" y="317165"/>
                    <a:pt x="44687" y="317097"/>
                    <a:pt x="42010" y="316963"/>
                  </a:cubicBezTo>
                  <a:cubicBezTo>
                    <a:pt x="39333" y="316829"/>
                    <a:pt x="36764" y="316761"/>
                    <a:pt x="34305" y="316761"/>
                  </a:cubicBezTo>
                  <a:cubicBezTo>
                    <a:pt x="31845" y="316761"/>
                    <a:pt x="30212" y="316761"/>
                    <a:pt x="29406" y="316761"/>
                  </a:cubicBezTo>
                  <a:cubicBezTo>
                    <a:pt x="24150" y="316761"/>
                    <a:pt x="19809" y="314857"/>
                    <a:pt x="16383" y="311047"/>
                  </a:cubicBezTo>
                  <a:cubicBezTo>
                    <a:pt x="14314" y="308393"/>
                    <a:pt x="12606" y="305047"/>
                    <a:pt x="11260" y="301009"/>
                  </a:cubicBezTo>
                  <a:cubicBezTo>
                    <a:pt x="9914" y="296971"/>
                    <a:pt x="8919" y="293145"/>
                    <a:pt x="8274" y="289531"/>
                  </a:cubicBezTo>
                  <a:cubicBezTo>
                    <a:pt x="7630" y="285918"/>
                    <a:pt x="7157" y="282750"/>
                    <a:pt x="6854" y="280028"/>
                  </a:cubicBezTo>
                  <a:cubicBezTo>
                    <a:pt x="6576" y="274968"/>
                    <a:pt x="6304" y="267362"/>
                    <a:pt x="6038" y="257210"/>
                  </a:cubicBezTo>
                  <a:cubicBezTo>
                    <a:pt x="5771" y="247058"/>
                    <a:pt x="5235" y="235501"/>
                    <a:pt x="4428" y="222540"/>
                  </a:cubicBezTo>
                  <a:cubicBezTo>
                    <a:pt x="4155" y="209894"/>
                    <a:pt x="3750" y="196317"/>
                    <a:pt x="3212" y="181807"/>
                  </a:cubicBezTo>
                  <a:cubicBezTo>
                    <a:pt x="2948" y="167924"/>
                    <a:pt x="2547" y="154397"/>
                    <a:pt x="2009" y="141227"/>
                  </a:cubicBezTo>
                  <a:cubicBezTo>
                    <a:pt x="1740" y="128679"/>
                    <a:pt x="1406" y="117327"/>
                    <a:pt x="1004" y="107171"/>
                  </a:cubicBezTo>
                  <a:cubicBezTo>
                    <a:pt x="603" y="97015"/>
                    <a:pt x="269" y="89516"/>
                    <a:pt x="0" y="84673"/>
                  </a:cubicBezTo>
                  <a:lnTo>
                    <a:pt x="0" y="80027"/>
                  </a:lnTo>
                  <a:cubicBezTo>
                    <a:pt x="0" y="75198"/>
                    <a:pt x="1147" y="71390"/>
                    <a:pt x="3443" y="68604"/>
                  </a:cubicBezTo>
                  <a:cubicBezTo>
                    <a:pt x="5738" y="65818"/>
                    <a:pt x="8510" y="63574"/>
                    <a:pt x="11759" y="61871"/>
                  </a:cubicBezTo>
                  <a:cubicBezTo>
                    <a:pt x="15008" y="60169"/>
                    <a:pt x="18427" y="58960"/>
                    <a:pt x="22018" y="58243"/>
                  </a:cubicBezTo>
                  <a:cubicBezTo>
                    <a:pt x="25608" y="57526"/>
                    <a:pt x="29035" y="56875"/>
                    <a:pt x="32299" y="56291"/>
                  </a:cubicBezTo>
                  <a:cubicBezTo>
                    <a:pt x="34419" y="56056"/>
                    <a:pt x="38483" y="55734"/>
                    <a:pt x="44490" y="55325"/>
                  </a:cubicBezTo>
                  <a:cubicBezTo>
                    <a:pt x="50497" y="54915"/>
                    <a:pt x="56953" y="54575"/>
                    <a:pt x="63858" y="54304"/>
                  </a:cubicBezTo>
                  <a:cubicBezTo>
                    <a:pt x="70763" y="54033"/>
                    <a:pt x="77455" y="53754"/>
                    <a:pt x="83934" y="53466"/>
                  </a:cubicBezTo>
                  <a:cubicBezTo>
                    <a:pt x="90412" y="53178"/>
                    <a:pt x="94471" y="53034"/>
                    <a:pt x="96109" y="53034"/>
                  </a:cubicBezTo>
                  <a:cubicBezTo>
                    <a:pt x="96975" y="53034"/>
                    <a:pt x="99268" y="52901"/>
                    <a:pt x="102989" y="52637"/>
                  </a:cubicBezTo>
                  <a:close/>
                  <a:moveTo>
                    <a:pt x="1049624" y="19685"/>
                  </a:moveTo>
                  <a:lnTo>
                    <a:pt x="1058461" y="19685"/>
                  </a:lnTo>
                  <a:cubicBezTo>
                    <a:pt x="1062945" y="19685"/>
                    <a:pt x="1067829" y="20624"/>
                    <a:pt x="1073113" y="22501"/>
                  </a:cubicBezTo>
                  <a:cubicBezTo>
                    <a:pt x="1078397" y="24378"/>
                    <a:pt x="1081039" y="28687"/>
                    <a:pt x="1081039" y="35428"/>
                  </a:cubicBezTo>
                  <a:cubicBezTo>
                    <a:pt x="1081039" y="39136"/>
                    <a:pt x="1079675" y="43290"/>
                    <a:pt x="1076947" y="47891"/>
                  </a:cubicBezTo>
                  <a:cubicBezTo>
                    <a:pt x="1074218" y="52493"/>
                    <a:pt x="1070066" y="54793"/>
                    <a:pt x="1064490" y="54793"/>
                  </a:cubicBezTo>
                  <a:lnTo>
                    <a:pt x="989461" y="54793"/>
                  </a:lnTo>
                  <a:lnTo>
                    <a:pt x="975766" y="96992"/>
                  </a:lnTo>
                  <a:lnTo>
                    <a:pt x="975766" y="98842"/>
                  </a:lnTo>
                  <a:lnTo>
                    <a:pt x="1061674" y="98842"/>
                  </a:lnTo>
                  <a:cubicBezTo>
                    <a:pt x="1066098" y="98842"/>
                    <a:pt x="1069360" y="100310"/>
                    <a:pt x="1071459" y="103245"/>
                  </a:cubicBezTo>
                  <a:cubicBezTo>
                    <a:pt x="1073562" y="105655"/>
                    <a:pt x="1075001" y="108330"/>
                    <a:pt x="1075776" y="111270"/>
                  </a:cubicBezTo>
                  <a:cubicBezTo>
                    <a:pt x="1076550" y="114210"/>
                    <a:pt x="1077018" y="117295"/>
                    <a:pt x="1077180" y="120527"/>
                  </a:cubicBezTo>
                  <a:cubicBezTo>
                    <a:pt x="1077342" y="123759"/>
                    <a:pt x="1077424" y="125929"/>
                    <a:pt x="1077424" y="127039"/>
                  </a:cubicBezTo>
                  <a:lnTo>
                    <a:pt x="1077424" y="137867"/>
                  </a:lnTo>
                  <a:lnTo>
                    <a:pt x="1067267" y="265366"/>
                  </a:lnTo>
                  <a:cubicBezTo>
                    <a:pt x="1066990" y="267866"/>
                    <a:pt x="1066642" y="270586"/>
                    <a:pt x="1066224" y="273526"/>
                  </a:cubicBezTo>
                  <a:cubicBezTo>
                    <a:pt x="1065806" y="276465"/>
                    <a:pt x="1064848" y="279132"/>
                    <a:pt x="1063351" y="281525"/>
                  </a:cubicBezTo>
                  <a:cubicBezTo>
                    <a:pt x="1062387" y="284426"/>
                    <a:pt x="1060545" y="286872"/>
                    <a:pt x="1057828" y="288862"/>
                  </a:cubicBezTo>
                  <a:cubicBezTo>
                    <a:pt x="1055110" y="290853"/>
                    <a:pt x="1051838" y="291848"/>
                    <a:pt x="1048011" y="291848"/>
                  </a:cubicBezTo>
                  <a:cubicBezTo>
                    <a:pt x="1045161" y="291848"/>
                    <a:pt x="1041825" y="290847"/>
                    <a:pt x="1038002" y="288846"/>
                  </a:cubicBezTo>
                  <a:cubicBezTo>
                    <a:pt x="1034179" y="286845"/>
                    <a:pt x="1032268" y="283804"/>
                    <a:pt x="1032268" y="279721"/>
                  </a:cubicBezTo>
                  <a:lnTo>
                    <a:pt x="1032268" y="254576"/>
                  </a:lnTo>
                  <a:lnTo>
                    <a:pt x="1041509" y="134347"/>
                  </a:lnTo>
                  <a:lnTo>
                    <a:pt x="1040498" y="133944"/>
                  </a:lnTo>
                  <a:lnTo>
                    <a:pt x="894043" y="133944"/>
                  </a:lnTo>
                  <a:lnTo>
                    <a:pt x="890920" y="261770"/>
                  </a:lnTo>
                  <a:cubicBezTo>
                    <a:pt x="890510" y="265831"/>
                    <a:pt x="888380" y="268914"/>
                    <a:pt x="884530" y="271017"/>
                  </a:cubicBezTo>
                  <a:cubicBezTo>
                    <a:pt x="880679" y="273120"/>
                    <a:pt x="877316" y="274172"/>
                    <a:pt x="874441" y="274172"/>
                  </a:cubicBezTo>
                  <a:cubicBezTo>
                    <a:pt x="870729" y="274172"/>
                    <a:pt x="867254" y="272808"/>
                    <a:pt x="864016" y="270080"/>
                  </a:cubicBezTo>
                  <a:cubicBezTo>
                    <a:pt x="860778" y="267351"/>
                    <a:pt x="858602" y="264131"/>
                    <a:pt x="857488" y="260419"/>
                  </a:cubicBezTo>
                  <a:lnTo>
                    <a:pt x="857488" y="229893"/>
                  </a:lnTo>
                  <a:lnTo>
                    <a:pt x="857488" y="199764"/>
                  </a:lnTo>
                  <a:cubicBezTo>
                    <a:pt x="857488" y="196777"/>
                    <a:pt x="857554" y="191209"/>
                    <a:pt x="857687" y="183058"/>
                  </a:cubicBezTo>
                  <a:cubicBezTo>
                    <a:pt x="857819" y="174907"/>
                    <a:pt x="857885" y="166354"/>
                    <a:pt x="857885" y="157398"/>
                  </a:cubicBezTo>
                  <a:cubicBezTo>
                    <a:pt x="858427" y="148166"/>
                    <a:pt x="858831" y="139561"/>
                    <a:pt x="859098" y="131582"/>
                  </a:cubicBezTo>
                  <a:cubicBezTo>
                    <a:pt x="859364" y="123604"/>
                    <a:pt x="859498" y="117734"/>
                    <a:pt x="859498" y="113971"/>
                  </a:cubicBezTo>
                  <a:cubicBezTo>
                    <a:pt x="860547" y="109760"/>
                    <a:pt x="863476" y="106051"/>
                    <a:pt x="868284" y="102845"/>
                  </a:cubicBezTo>
                  <a:cubicBezTo>
                    <a:pt x="873092" y="99639"/>
                    <a:pt x="877690" y="98036"/>
                    <a:pt x="882075" y="98036"/>
                  </a:cubicBezTo>
                  <a:lnTo>
                    <a:pt x="936066" y="98036"/>
                  </a:lnTo>
                  <a:lnTo>
                    <a:pt x="936616" y="97495"/>
                  </a:lnTo>
                  <a:cubicBezTo>
                    <a:pt x="937002" y="97109"/>
                    <a:pt x="937536" y="96118"/>
                    <a:pt x="938219" y="94522"/>
                  </a:cubicBezTo>
                  <a:cubicBezTo>
                    <a:pt x="938774" y="93601"/>
                    <a:pt x="939051" y="92997"/>
                    <a:pt x="939051" y="92711"/>
                  </a:cubicBezTo>
                  <a:cubicBezTo>
                    <a:pt x="939981" y="89917"/>
                    <a:pt x="941116" y="86510"/>
                    <a:pt x="942456" y="82491"/>
                  </a:cubicBezTo>
                  <a:cubicBezTo>
                    <a:pt x="943795" y="78472"/>
                    <a:pt x="945068" y="74722"/>
                    <a:pt x="946273" y="71240"/>
                  </a:cubicBezTo>
                  <a:cubicBezTo>
                    <a:pt x="947478" y="67759"/>
                    <a:pt x="948552" y="64715"/>
                    <a:pt x="949495" y="62108"/>
                  </a:cubicBezTo>
                  <a:cubicBezTo>
                    <a:pt x="950302" y="59181"/>
                    <a:pt x="950705" y="57279"/>
                    <a:pt x="950705" y="56400"/>
                  </a:cubicBezTo>
                  <a:cubicBezTo>
                    <a:pt x="942535" y="56400"/>
                    <a:pt x="933033" y="56600"/>
                    <a:pt x="922201" y="57001"/>
                  </a:cubicBezTo>
                  <a:cubicBezTo>
                    <a:pt x="911368" y="57402"/>
                    <a:pt x="900404" y="57603"/>
                    <a:pt x="889307" y="57603"/>
                  </a:cubicBezTo>
                  <a:lnTo>
                    <a:pt x="874921" y="57603"/>
                  </a:lnTo>
                  <a:cubicBezTo>
                    <a:pt x="869494" y="57240"/>
                    <a:pt x="865567" y="55064"/>
                    <a:pt x="863139" y="51075"/>
                  </a:cubicBezTo>
                  <a:cubicBezTo>
                    <a:pt x="860711" y="47086"/>
                    <a:pt x="859498" y="43076"/>
                    <a:pt x="859498" y="39044"/>
                  </a:cubicBezTo>
                  <a:cubicBezTo>
                    <a:pt x="859498" y="35725"/>
                    <a:pt x="860435" y="32529"/>
                    <a:pt x="862310" y="29457"/>
                  </a:cubicBezTo>
                  <a:cubicBezTo>
                    <a:pt x="864185" y="26386"/>
                    <a:pt x="867073" y="24201"/>
                    <a:pt x="870972" y="22904"/>
                  </a:cubicBezTo>
                  <a:cubicBezTo>
                    <a:pt x="878562" y="22904"/>
                    <a:pt x="886296" y="22847"/>
                    <a:pt x="894174" y="22731"/>
                  </a:cubicBezTo>
                  <a:cubicBezTo>
                    <a:pt x="902052" y="22616"/>
                    <a:pt x="911860" y="22358"/>
                    <a:pt x="923599" y="21957"/>
                  </a:cubicBezTo>
                  <a:cubicBezTo>
                    <a:pt x="935338" y="21556"/>
                    <a:pt x="947670" y="21288"/>
                    <a:pt x="960595" y="21154"/>
                  </a:cubicBezTo>
                  <a:cubicBezTo>
                    <a:pt x="973520" y="21020"/>
                    <a:pt x="985819" y="20818"/>
                    <a:pt x="997492" y="20549"/>
                  </a:cubicBezTo>
                  <a:cubicBezTo>
                    <a:pt x="1009165" y="20280"/>
                    <a:pt x="1019695" y="20075"/>
                    <a:pt x="1029081" y="19932"/>
                  </a:cubicBezTo>
                  <a:cubicBezTo>
                    <a:pt x="1038467" y="19789"/>
                    <a:pt x="1045314" y="19707"/>
                    <a:pt x="1049624" y="19685"/>
                  </a:cubicBezTo>
                  <a:close/>
                  <a:moveTo>
                    <a:pt x="481861" y="11654"/>
                  </a:moveTo>
                  <a:cubicBezTo>
                    <a:pt x="486072" y="11654"/>
                    <a:pt x="490271" y="13359"/>
                    <a:pt x="494458" y="16770"/>
                  </a:cubicBezTo>
                  <a:cubicBezTo>
                    <a:pt x="498646" y="20181"/>
                    <a:pt x="502222" y="24146"/>
                    <a:pt x="505187" y="28664"/>
                  </a:cubicBezTo>
                  <a:cubicBezTo>
                    <a:pt x="508152" y="33182"/>
                    <a:pt x="510710" y="37809"/>
                    <a:pt x="512860" y="42545"/>
                  </a:cubicBezTo>
                  <a:cubicBezTo>
                    <a:pt x="515011" y="47280"/>
                    <a:pt x="516086" y="51338"/>
                    <a:pt x="516086" y="54717"/>
                  </a:cubicBezTo>
                  <a:cubicBezTo>
                    <a:pt x="516086" y="65750"/>
                    <a:pt x="510838" y="71266"/>
                    <a:pt x="500343" y="71266"/>
                  </a:cubicBezTo>
                  <a:cubicBezTo>
                    <a:pt x="495931" y="71266"/>
                    <a:pt x="492189" y="70133"/>
                    <a:pt x="489115" y="67868"/>
                  </a:cubicBezTo>
                  <a:cubicBezTo>
                    <a:pt x="486041" y="65602"/>
                    <a:pt x="483437" y="63116"/>
                    <a:pt x="481304" y="60409"/>
                  </a:cubicBezTo>
                  <a:cubicBezTo>
                    <a:pt x="479171" y="57702"/>
                    <a:pt x="477246" y="54963"/>
                    <a:pt x="475528" y="52192"/>
                  </a:cubicBezTo>
                  <a:cubicBezTo>
                    <a:pt x="473811" y="49421"/>
                    <a:pt x="472100" y="46757"/>
                    <a:pt x="470396" y="44199"/>
                  </a:cubicBezTo>
                  <a:cubicBezTo>
                    <a:pt x="468691" y="41641"/>
                    <a:pt x="467216" y="39194"/>
                    <a:pt x="465970" y="36859"/>
                  </a:cubicBezTo>
                  <a:cubicBezTo>
                    <a:pt x="464725" y="34523"/>
                    <a:pt x="464102" y="31635"/>
                    <a:pt x="464102" y="28197"/>
                  </a:cubicBezTo>
                  <a:cubicBezTo>
                    <a:pt x="464102" y="23717"/>
                    <a:pt x="465826" y="19840"/>
                    <a:pt x="469276" y="16565"/>
                  </a:cubicBezTo>
                  <a:cubicBezTo>
                    <a:pt x="472725" y="13291"/>
                    <a:pt x="476920" y="11654"/>
                    <a:pt x="481861" y="11654"/>
                  </a:cubicBezTo>
                  <a:close/>
                  <a:moveTo>
                    <a:pt x="618870" y="0"/>
                  </a:moveTo>
                  <a:cubicBezTo>
                    <a:pt x="623593" y="0"/>
                    <a:pt x="627599" y="1279"/>
                    <a:pt x="630888" y="3837"/>
                  </a:cubicBezTo>
                  <a:cubicBezTo>
                    <a:pt x="634178" y="6394"/>
                    <a:pt x="635822" y="10229"/>
                    <a:pt x="635822" y="15340"/>
                  </a:cubicBezTo>
                  <a:lnTo>
                    <a:pt x="635822" y="17529"/>
                  </a:lnTo>
                  <a:lnTo>
                    <a:pt x="618691" y="68514"/>
                  </a:lnTo>
                  <a:cubicBezTo>
                    <a:pt x="617616" y="71748"/>
                    <a:pt x="615401" y="74623"/>
                    <a:pt x="612048" y="77138"/>
                  </a:cubicBezTo>
                  <a:cubicBezTo>
                    <a:pt x="608695" y="79653"/>
                    <a:pt x="605209" y="80910"/>
                    <a:pt x="601591" y="80910"/>
                  </a:cubicBezTo>
                  <a:cubicBezTo>
                    <a:pt x="595968" y="80910"/>
                    <a:pt x="591669" y="79074"/>
                    <a:pt x="588696" y="75400"/>
                  </a:cubicBezTo>
                  <a:cubicBezTo>
                    <a:pt x="585722" y="71727"/>
                    <a:pt x="584235" y="67375"/>
                    <a:pt x="584235" y="62345"/>
                  </a:cubicBezTo>
                  <a:lnTo>
                    <a:pt x="584235" y="61046"/>
                  </a:lnTo>
                  <a:lnTo>
                    <a:pt x="599684" y="13042"/>
                  </a:lnTo>
                  <a:cubicBezTo>
                    <a:pt x="600998" y="9365"/>
                    <a:pt x="603495" y="6272"/>
                    <a:pt x="607175" y="3763"/>
                  </a:cubicBezTo>
                  <a:cubicBezTo>
                    <a:pt x="610854" y="1254"/>
                    <a:pt x="614753" y="0"/>
                    <a:pt x="618870" y="0"/>
                  </a:cubicBez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2" descr="04姐"/>
          <p:cNvPicPr/>
          <p:nvPr/>
        </p:nvPicPr>
        <p:blipFill>
          <a:blip r:embed="rId1"/>
          <a:stretch/>
        </p:blipFill>
        <p:spPr>
          <a:xfrm>
            <a:off x="498600" y="1114560"/>
            <a:ext cx="2762280" cy="276228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8"/>
          <p:cNvSpPr/>
          <p:nvPr/>
        </p:nvSpPr>
        <p:spPr>
          <a:xfrm>
            <a:off x="1329840" y="98280"/>
            <a:ext cx="109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宋体"/>
                <a:ea typeface="宋体"/>
              </a:rPr>
              <a:t>ji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14"/>
          <p:cNvGrpSpPr/>
          <p:nvPr/>
        </p:nvGrpSpPr>
        <p:grpSpPr>
          <a:xfrm>
            <a:off x="3125880" y="4138560"/>
            <a:ext cx="3422520" cy="515880"/>
            <a:chOff x="3125880" y="4138560"/>
            <a:chExt cx="3422520" cy="515880"/>
          </a:xfrm>
        </p:grpSpPr>
        <p:pic>
          <p:nvPicPr>
            <p:cNvPr id="83" name="图片 12" descr=""/>
            <p:cNvPicPr/>
            <p:nvPr/>
          </p:nvPicPr>
          <p:blipFill>
            <a:blip r:embed="rId2"/>
            <a:srcRect l="2149" t="0" r="0" b="0"/>
            <a:stretch/>
          </p:blipFill>
          <p:spPr>
            <a:xfrm>
              <a:off x="3171960" y="4138560"/>
              <a:ext cx="3376440" cy="4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矩形 10"/>
            <p:cNvSpPr/>
            <p:nvPr/>
          </p:nvSpPr>
          <p:spPr>
            <a:xfrm>
              <a:off x="3125880" y="4535640"/>
              <a:ext cx="21420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文本框 2"/>
          <p:cNvSpPr/>
          <p:nvPr/>
        </p:nvSpPr>
        <p:spPr>
          <a:xfrm>
            <a:off x="4168800" y="1192320"/>
            <a:ext cx="2762280" cy="25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构：</a:t>
            </a:r>
            <a:r>
              <a:rPr b="1" lang="zh-CN" sz="2800" spc="-1" strike="noStrike">
                <a:solidFill>
                  <a:srgbClr val="ee1a20"/>
                </a:solidFill>
                <a:latin typeface="宋体"/>
                <a:ea typeface="宋体"/>
              </a:rPr>
              <a:t>左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词：</a:t>
            </a:r>
            <a:r>
              <a:rPr b="1" lang="zh-CN" sz="2800" spc="-1" strike="noStrike">
                <a:solidFill>
                  <a:srgbClr val="ee1a20"/>
                </a:solidFill>
                <a:latin typeface="宋体"/>
                <a:ea typeface="宋体"/>
              </a:rPr>
              <a:t>姐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大</a:t>
            </a:r>
            <a:r>
              <a:rPr b="1" lang="zh-CN" sz="2800" spc="-1" strike="noStrike">
                <a:solidFill>
                  <a:srgbClr val="ee1a20"/>
                </a:solidFill>
                <a:latin typeface="宋体"/>
                <a:ea typeface="宋体"/>
              </a:rPr>
              <a:t>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2"/>
          <p:cNvSpPr/>
          <p:nvPr/>
        </p:nvSpPr>
        <p:spPr>
          <a:xfrm>
            <a:off x="1420920" y="3968640"/>
            <a:ext cx="133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笔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" descr=""/>
          <p:cNvPicPr/>
          <p:nvPr/>
        </p:nvPicPr>
        <p:blipFill>
          <a:blip r:embed="rId3"/>
          <a:stretch/>
        </p:blipFill>
        <p:spPr>
          <a:xfrm>
            <a:off x="5324400" y="1430280"/>
            <a:ext cx="358920" cy="347760"/>
          </a:xfrm>
          <a:prstGeom prst="rect">
            <a:avLst/>
          </a:prstGeom>
          <a:ln w="0">
            <a:noFill/>
          </a:ln>
        </p:spPr>
      </p:pic>
      <p:grpSp>
        <p:nvGrpSpPr>
          <p:cNvPr id="88" name="组合 1"/>
          <p:cNvGrpSpPr/>
          <p:nvPr/>
        </p:nvGrpSpPr>
        <p:grpSpPr>
          <a:xfrm>
            <a:off x="7192800" y="1380960"/>
            <a:ext cx="1241640" cy="1882800"/>
            <a:chOff x="7192800" y="1380960"/>
            <a:chExt cx="1241640" cy="1882800"/>
          </a:xfrm>
        </p:grpSpPr>
        <p:pic>
          <p:nvPicPr>
            <p:cNvPr id="89" name="图片 10" descr=""/>
            <p:cNvPicPr/>
            <p:nvPr/>
          </p:nvPicPr>
          <p:blipFill>
            <a:blip r:embed="rId4"/>
            <a:stretch/>
          </p:blipFill>
          <p:spPr>
            <a:xfrm>
              <a:off x="7192800" y="1726920"/>
              <a:ext cx="12416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任意多边形: 形状 14">
              <a:hlinkClick r:id="" action="ppaction://hlinkshowjump?jump=firstslide"/>
            </p:cNvPr>
            <p:cNvSpPr/>
            <p:nvPr/>
          </p:nvSpPr>
          <p:spPr>
            <a:xfrm>
              <a:off x="7276680" y="1380960"/>
              <a:ext cx="1081440" cy="369720"/>
            </a:xfrm>
            <a:custGeom>
              <a:avLst/>
              <a:gdLst/>
              <a:ahLst/>
              <a:rect l="l" t="t" r="r" b="b"/>
              <a:pathLst>
                <a:path w="1081039" h="370198">
                  <a:moveTo>
                    <a:pt x="610032" y="293857"/>
                  </a:moveTo>
                  <a:cubicBezTo>
                    <a:pt x="606056" y="293857"/>
                    <a:pt x="599112" y="293992"/>
                    <a:pt x="589201" y="294260"/>
                  </a:cubicBezTo>
                  <a:cubicBezTo>
                    <a:pt x="579824" y="294529"/>
                    <a:pt x="569616" y="294796"/>
                    <a:pt x="558579" y="295060"/>
                  </a:cubicBezTo>
                  <a:cubicBezTo>
                    <a:pt x="547832" y="295862"/>
                    <a:pt x="537584" y="296396"/>
                    <a:pt x="527835" y="296660"/>
                  </a:cubicBezTo>
                  <a:cubicBezTo>
                    <a:pt x="518087" y="296925"/>
                    <a:pt x="511158" y="297196"/>
                    <a:pt x="507050" y="297473"/>
                  </a:cubicBezTo>
                  <a:cubicBezTo>
                    <a:pt x="506090" y="297473"/>
                    <a:pt x="503871" y="297675"/>
                    <a:pt x="500394" y="298078"/>
                  </a:cubicBezTo>
                  <a:cubicBezTo>
                    <a:pt x="496917" y="298481"/>
                    <a:pt x="494470" y="298749"/>
                    <a:pt x="493054" y="298881"/>
                  </a:cubicBezTo>
                  <a:cubicBezTo>
                    <a:pt x="491637" y="299013"/>
                    <a:pt x="490572" y="299216"/>
                    <a:pt x="489857" y="299489"/>
                  </a:cubicBezTo>
                  <a:cubicBezTo>
                    <a:pt x="489142" y="299762"/>
                    <a:pt x="488913" y="299579"/>
                    <a:pt x="489169" y="298939"/>
                  </a:cubicBezTo>
                  <a:lnTo>
                    <a:pt x="489169" y="309850"/>
                  </a:lnTo>
                  <a:lnTo>
                    <a:pt x="489169" y="321209"/>
                  </a:lnTo>
                  <a:cubicBezTo>
                    <a:pt x="489382" y="322903"/>
                    <a:pt x="489608" y="325261"/>
                    <a:pt x="489847" y="328284"/>
                  </a:cubicBezTo>
                  <a:cubicBezTo>
                    <a:pt x="490086" y="331307"/>
                    <a:pt x="490118" y="332731"/>
                    <a:pt x="489943" y="332556"/>
                  </a:cubicBezTo>
                  <a:lnTo>
                    <a:pt x="490103" y="332684"/>
                  </a:lnTo>
                  <a:lnTo>
                    <a:pt x="501949" y="332684"/>
                  </a:lnTo>
                  <a:cubicBezTo>
                    <a:pt x="522735" y="332684"/>
                    <a:pt x="542638" y="332349"/>
                    <a:pt x="561657" y="331679"/>
                  </a:cubicBezTo>
                  <a:cubicBezTo>
                    <a:pt x="580677" y="331009"/>
                    <a:pt x="598248" y="330674"/>
                    <a:pt x="614371" y="330674"/>
                  </a:cubicBezTo>
                  <a:cubicBezTo>
                    <a:pt x="614371" y="326596"/>
                    <a:pt x="613840" y="320836"/>
                    <a:pt x="612777" y="313395"/>
                  </a:cubicBezTo>
                  <a:lnTo>
                    <a:pt x="610934" y="293857"/>
                  </a:lnTo>
                  <a:close/>
                  <a:moveTo>
                    <a:pt x="552935" y="248855"/>
                  </a:moveTo>
                  <a:cubicBezTo>
                    <a:pt x="542192" y="248855"/>
                    <a:pt x="530385" y="249380"/>
                    <a:pt x="517513" y="250430"/>
                  </a:cubicBezTo>
                  <a:cubicBezTo>
                    <a:pt x="515094" y="250967"/>
                    <a:pt x="512009" y="251376"/>
                    <a:pt x="508259" y="251655"/>
                  </a:cubicBezTo>
                  <a:cubicBezTo>
                    <a:pt x="504509" y="251934"/>
                    <a:pt x="501038" y="252208"/>
                    <a:pt x="497847" y="252474"/>
                  </a:cubicBezTo>
                  <a:cubicBezTo>
                    <a:pt x="494656" y="252741"/>
                    <a:pt x="491742" y="253009"/>
                    <a:pt x="489105" y="253277"/>
                  </a:cubicBezTo>
                  <a:lnTo>
                    <a:pt x="487563" y="253452"/>
                  </a:lnTo>
                  <a:lnTo>
                    <a:pt x="487563" y="263171"/>
                  </a:lnTo>
                  <a:lnTo>
                    <a:pt x="490295" y="263171"/>
                  </a:lnTo>
                  <a:cubicBezTo>
                    <a:pt x="494681" y="263171"/>
                    <a:pt x="498549" y="262923"/>
                    <a:pt x="501898" y="262426"/>
                  </a:cubicBezTo>
                  <a:cubicBezTo>
                    <a:pt x="505247" y="261929"/>
                    <a:pt x="509569" y="261241"/>
                    <a:pt x="514863" y="260362"/>
                  </a:cubicBezTo>
                  <a:lnTo>
                    <a:pt x="611171" y="260362"/>
                  </a:lnTo>
                  <a:lnTo>
                    <a:pt x="612765" y="249207"/>
                  </a:lnTo>
                  <a:lnTo>
                    <a:pt x="612406" y="248855"/>
                  </a:lnTo>
                  <a:lnTo>
                    <a:pt x="589937" y="248855"/>
                  </a:lnTo>
                  <a:cubicBezTo>
                    <a:pt x="576012" y="248855"/>
                    <a:pt x="563678" y="248855"/>
                    <a:pt x="552935" y="248855"/>
                  </a:cubicBezTo>
                  <a:close/>
                  <a:moveTo>
                    <a:pt x="606877" y="187381"/>
                  </a:moveTo>
                  <a:cubicBezTo>
                    <a:pt x="597504" y="187649"/>
                    <a:pt x="585863" y="187918"/>
                    <a:pt x="571954" y="188187"/>
                  </a:cubicBezTo>
                  <a:cubicBezTo>
                    <a:pt x="558046" y="188456"/>
                    <a:pt x="544530" y="188857"/>
                    <a:pt x="531406" y="189390"/>
                  </a:cubicBezTo>
                  <a:lnTo>
                    <a:pt x="485956" y="190553"/>
                  </a:lnTo>
                  <a:lnTo>
                    <a:pt x="485956" y="215660"/>
                  </a:lnTo>
                  <a:lnTo>
                    <a:pt x="486180" y="216166"/>
                  </a:lnTo>
                  <a:lnTo>
                    <a:pt x="493508" y="216166"/>
                  </a:lnTo>
                  <a:cubicBezTo>
                    <a:pt x="515433" y="216166"/>
                    <a:pt x="536226" y="215841"/>
                    <a:pt x="555888" y="215190"/>
                  </a:cubicBezTo>
                  <a:cubicBezTo>
                    <a:pt x="575550" y="214539"/>
                    <a:pt x="595149" y="214334"/>
                    <a:pt x="614685" y="214573"/>
                  </a:cubicBezTo>
                  <a:cubicBezTo>
                    <a:pt x="616886" y="204875"/>
                    <a:pt x="617987" y="195811"/>
                    <a:pt x="617987" y="187381"/>
                  </a:cubicBezTo>
                  <a:close/>
                  <a:moveTo>
                    <a:pt x="953994" y="177192"/>
                  </a:moveTo>
                  <a:cubicBezTo>
                    <a:pt x="965027" y="177192"/>
                    <a:pt x="970544" y="182572"/>
                    <a:pt x="970544" y="193332"/>
                  </a:cubicBezTo>
                  <a:cubicBezTo>
                    <a:pt x="970544" y="204514"/>
                    <a:pt x="969405" y="215396"/>
                    <a:pt x="967129" y="225977"/>
                  </a:cubicBezTo>
                  <a:cubicBezTo>
                    <a:pt x="964853" y="236557"/>
                    <a:pt x="963715" y="247104"/>
                    <a:pt x="963715" y="257616"/>
                  </a:cubicBezTo>
                  <a:lnTo>
                    <a:pt x="963715" y="258205"/>
                  </a:lnTo>
                  <a:lnTo>
                    <a:pt x="973481" y="267600"/>
                  </a:lnTo>
                  <a:cubicBezTo>
                    <a:pt x="973635" y="267907"/>
                    <a:pt x="975063" y="268883"/>
                    <a:pt x="977766" y="270528"/>
                  </a:cubicBezTo>
                  <a:cubicBezTo>
                    <a:pt x="980468" y="272172"/>
                    <a:pt x="983876" y="274270"/>
                    <a:pt x="987989" y="276822"/>
                  </a:cubicBezTo>
                  <a:cubicBezTo>
                    <a:pt x="992102" y="279373"/>
                    <a:pt x="996049" y="281888"/>
                    <a:pt x="999831" y="284367"/>
                  </a:cubicBezTo>
                  <a:cubicBezTo>
                    <a:pt x="1003614" y="286845"/>
                    <a:pt x="1006509" y="288639"/>
                    <a:pt x="1008519" y="289749"/>
                  </a:cubicBezTo>
                  <a:cubicBezTo>
                    <a:pt x="1009713" y="290342"/>
                    <a:pt x="1012657" y="291912"/>
                    <a:pt x="1017350" y="294459"/>
                  </a:cubicBezTo>
                  <a:cubicBezTo>
                    <a:pt x="1022043" y="297006"/>
                    <a:pt x="1026973" y="299572"/>
                    <a:pt x="1032140" y="302158"/>
                  </a:cubicBezTo>
                  <a:cubicBezTo>
                    <a:pt x="1037993" y="304820"/>
                    <a:pt x="1043143" y="307401"/>
                    <a:pt x="1047589" y="309901"/>
                  </a:cubicBezTo>
                  <a:cubicBezTo>
                    <a:pt x="1052452" y="312597"/>
                    <a:pt x="1055513" y="314321"/>
                    <a:pt x="1056772" y="315072"/>
                  </a:cubicBezTo>
                  <a:cubicBezTo>
                    <a:pt x="1059972" y="316527"/>
                    <a:pt x="1063142" y="318659"/>
                    <a:pt x="1066282" y="321468"/>
                  </a:cubicBezTo>
                  <a:cubicBezTo>
                    <a:pt x="1069422" y="324278"/>
                    <a:pt x="1070992" y="327958"/>
                    <a:pt x="1070992" y="332508"/>
                  </a:cubicBezTo>
                  <a:cubicBezTo>
                    <a:pt x="1070992" y="337058"/>
                    <a:pt x="1069663" y="341196"/>
                    <a:pt x="1067005" y="344923"/>
                  </a:cubicBezTo>
                  <a:cubicBezTo>
                    <a:pt x="1064347" y="348650"/>
                    <a:pt x="1060294" y="350513"/>
                    <a:pt x="1054846" y="350513"/>
                  </a:cubicBezTo>
                  <a:cubicBezTo>
                    <a:pt x="1052640" y="350513"/>
                    <a:pt x="1051096" y="350336"/>
                    <a:pt x="1050216" y="349982"/>
                  </a:cubicBezTo>
                  <a:cubicBezTo>
                    <a:pt x="1049334" y="349628"/>
                    <a:pt x="1048041" y="349169"/>
                    <a:pt x="1046334" y="348606"/>
                  </a:cubicBezTo>
                  <a:cubicBezTo>
                    <a:pt x="1044261" y="347416"/>
                    <a:pt x="1041010" y="345790"/>
                    <a:pt x="1036581" y="343729"/>
                  </a:cubicBezTo>
                  <a:cubicBezTo>
                    <a:pt x="1034695" y="342091"/>
                    <a:pt x="1030854" y="340058"/>
                    <a:pt x="1025056" y="337631"/>
                  </a:cubicBezTo>
                  <a:cubicBezTo>
                    <a:pt x="1019257" y="335203"/>
                    <a:pt x="1014344" y="332949"/>
                    <a:pt x="1010314" y="330869"/>
                  </a:cubicBezTo>
                  <a:cubicBezTo>
                    <a:pt x="1006284" y="328790"/>
                    <a:pt x="1003399" y="327459"/>
                    <a:pt x="1001659" y="326879"/>
                  </a:cubicBezTo>
                  <a:cubicBezTo>
                    <a:pt x="992925" y="322242"/>
                    <a:pt x="984615" y="316915"/>
                    <a:pt x="976729" y="310899"/>
                  </a:cubicBezTo>
                  <a:cubicBezTo>
                    <a:pt x="968842" y="304884"/>
                    <a:pt x="961066" y="300274"/>
                    <a:pt x="953399" y="297070"/>
                  </a:cubicBezTo>
                  <a:cubicBezTo>
                    <a:pt x="953245" y="297305"/>
                    <a:pt x="952898" y="298960"/>
                    <a:pt x="952356" y="302036"/>
                  </a:cubicBezTo>
                  <a:cubicBezTo>
                    <a:pt x="952100" y="306379"/>
                    <a:pt x="951691" y="311144"/>
                    <a:pt x="951130" y="316330"/>
                  </a:cubicBezTo>
                  <a:cubicBezTo>
                    <a:pt x="950569" y="321515"/>
                    <a:pt x="948996" y="326120"/>
                    <a:pt x="946411" y="330143"/>
                  </a:cubicBezTo>
                  <a:cubicBezTo>
                    <a:pt x="943509" y="335954"/>
                    <a:pt x="938403" y="338859"/>
                    <a:pt x="931090" y="338859"/>
                  </a:cubicBezTo>
                  <a:cubicBezTo>
                    <a:pt x="924716" y="338859"/>
                    <a:pt x="920238" y="336709"/>
                    <a:pt x="917657" y="332409"/>
                  </a:cubicBezTo>
                  <a:cubicBezTo>
                    <a:pt x="916381" y="329217"/>
                    <a:pt x="915744" y="325181"/>
                    <a:pt x="915744" y="320300"/>
                  </a:cubicBezTo>
                  <a:cubicBezTo>
                    <a:pt x="915744" y="319494"/>
                    <a:pt x="915744" y="317921"/>
                    <a:pt x="915744" y="315581"/>
                  </a:cubicBezTo>
                  <a:cubicBezTo>
                    <a:pt x="915744" y="313241"/>
                    <a:pt x="915963" y="311855"/>
                    <a:pt x="916403" y="311424"/>
                  </a:cubicBezTo>
                  <a:lnTo>
                    <a:pt x="934226" y="215961"/>
                  </a:lnTo>
                  <a:cubicBezTo>
                    <a:pt x="934226" y="213465"/>
                    <a:pt x="934226" y="210133"/>
                    <a:pt x="934226" y="205965"/>
                  </a:cubicBezTo>
                  <a:cubicBezTo>
                    <a:pt x="934226" y="201797"/>
                    <a:pt x="934663" y="197670"/>
                    <a:pt x="935538" y="193585"/>
                  </a:cubicBezTo>
                  <a:cubicBezTo>
                    <a:pt x="936412" y="189500"/>
                    <a:pt x="938220" y="185747"/>
                    <a:pt x="940961" y="182325"/>
                  </a:cubicBezTo>
                  <a:cubicBezTo>
                    <a:pt x="943703" y="178903"/>
                    <a:pt x="948047" y="177192"/>
                    <a:pt x="953994" y="177192"/>
                  </a:cubicBezTo>
                  <a:close/>
                  <a:moveTo>
                    <a:pt x="105024" y="162070"/>
                  </a:moveTo>
                  <a:lnTo>
                    <a:pt x="105024" y="162793"/>
                  </a:lnTo>
                  <a:cubicBezTo>
                    <a:pt x="105024" y="163177"/>
                    <a:pt x="105080" y="163881"/>
                    <a:pt x="105193" y="164905"/>
                  </a:cubicBezTo>
                  <a:cubicBezTo>
                    <a:pt x="105306" y="165929"/>
                    <a:pt x="105423" y="167043"/>
                    <a:pt x="105542" y="168246"/>
                  </a:cubicBezTo>
                  <a:cubicBezTo>
                    <a:pt x="105662" y="169449"/>
                    <a:pt x="105862" y="170645"/>
                    <a:pt x="106144" y="171833"/>
                  </a:cubicBezTo>
                  <a:cubicBezTo>
                    <a:pt x="106425" y="173021"/>
                    <a:pt x="106587" y="173892"/>
                    <a:pt x="106630" y="174447"/>
                  </a:cubicBezTo>
                  <a:cubicBezTo>
                    <a:pt x="106630" y="176619"/>
                    <a:pt x="106816" y="179805"/>
                    <a:pt x="107187" y="184005"/>
                  </a:cubicBezTo>
                  <a:cubicBezTo>
                    <a:pt x="107558" y="188205"/>
                    <a:pt x="107876" y="192571"/>
                    <a:pt x="108140" y="197102"/>
                  </a:cubicBezTo>
                  <a:cubicBezTo>
                    <a:pt x="108682" y="202486"/>
                    <a:pt x="109096" y="207324"/>
                    <a:pt x="109382" y="211616"/>
                  </a:cubicBezTo>
                  <a:cubicBezTo>
                    <a:pt x="109689" y="216876"/>
                    <a:pt x="109843" y="219865"/>
                    <a:pt x="109843" y="220582"/>
                  </a:cubicBezTo>
                  <a:lnTo>
                    <a:pt x="110271" y="221267"/>
                  </a:lnTo>
                  <a:cubicBezTo>
                    <a:pt x="110271" y="221267"/>
                    <a:pt x="111194" y="221364"/>
                    <a:pt x="113039" y="221558"/>
                  </a:cubicBezTo>
                  <a:cubicBezTo>
                    <a:pt x="114884" y="221752"/>
                    <a:pt x="117682" y="222057"/>
                    <a:pt x="121432" y="222473"/>
                  </a:cubicBezTo>
                  <a:cubicBezTo>
                    <a:pt x="125182" y="222889"/>
                    <a:pt x="128613" y="223216"/>
                    <a:pt x="131723" y="223455"/>
                  </a:cubicBezTo>
                  <a:cubicBezTo>
                    <a:pt x="136040" y="223745"/>
                    <a:pt x="139274" y="224127"/>
                    <a:pt x="141425" y="224601"/>
                  </a:cubicBezTo>
                  <a:lnTo>
                    <a:pt x="146333" y="224601"/>
                  </a:lnTo>
                  <a:cubicBezTo>
                    <a:pt x="146231" y="224601"/>
                    <a:pt x="146619" y="224600"/>
                    <a:pt x="147498" y="224597"/>
                  </a:cubicBezTo>
                  <a:cubicBezTo>
                    <a:pt x="148377" y="224595"/>
                    <a:pt x="148765" y="224963"/>
                    <a:pt x="148663" y="225701"/>
                  </a:cubicBezTo>
                  <a:cubicBezTo>
                    <a:pt x="148663" y="223905"/>
                    <a:pt x="148730" y="220195"/>
                    <a:pt x="148864" y="214569"/>
                  </a:cubicBezTo>
                  <a:cubicBezTo>
                    <a:pt x="148999" y="208944"/>
                    <a:pt x="149133" y="202851"/>
                    <a:pt x="149267" y="196289"/>
                  </a:cubicBezTo>
                  <a:cubicBezTo>
                    <a:pt x="149402" y="189727"/>
                    <a:pt x="149535" y="183706"/>
                    <a:pt x="149667" y="178226"/>
                  </a:cubicBezTo>
                  <a:cubicBezTo>
                    <a:pt x="149800" y="172746"/>
                    <a:pt x="149866" y="168807"/>
                    <a:pt x="149866" y="166409"/>
                  </a:cubicBezTo>
                  <a:lnTo>
                    <a:pt x="149866" y="165609"/>
                  </a:lnTo>
                  <a:cubicBezTo>
                    <a:pt x="149866" y="165289"/>
                    <a:pt x="149436" y="164866"/>
                    <a:pt x="148576" y="164339"/>
                  </a:cubicBezTo>
                  <a:cubicBezTo>
                    <a:pt x="147717" y="163812"/>
                    <a:pt x="146120" y="163364"/>
                    <a:pt x="143786" y="162995"/>
                  </a:cubicBezTo>
                  <a:cubicBezTo>
                    <a:pt x="141452" y="162626"/>
                    <a:pt x="139195" y="162379"/>
                    <a:pt x="137015" y="162256"/>
                  </a:cubicBezTo>
                  <a:cubicBezTo>
                    <a:pt x="134835" y="162132"/>
                    <a:pt x="133252" y="162070"/>
                    <a:pt x="132267" y="162070"/>
                  </a:cubicBezTo>
                  <a:lnTo>
                    <a:pt x="117401" y="162070"/>
                  </a:lnTo>
                  <a:close/>
                  <a:moveTo>
                    <a:pt x="101389" y="125362"/>
                  </a:moveTo>
                  <a:cubicBezTo>
                    <a:pt x="105689" y="125626"/>
                    <a:pt x="109286" y="125759"/>
                    <a:pt x="112178" y="125759"/>
                  </a:cubicBezTo>
                  <a:lnTo>
                    <a:pt x="127448" y="125759"/>
                  </a:lnTo>
                  <a:cubicBezTo>
                    <a:pt x="127589" y="125759"/>
                    <a:pt x="129304" y="125923"/>
                    <a:pt x="132593" y="126251"/>
                  </a:cubicBezTo>
                  <a:cubicBezTo>
                    <a:pt x="135546" y="127058"/>
                    <a:pt x="138961" y="127669"/>
                    <a:pt x="142839" y="128085"/>
                  </a:cubicBezTo>
                  <a:cubicBezTo>
                    <a:pt x="146717" y="128501"/>
                    <a:pt x="150443" y="128965"/>
                    <a:pt x="154016" y="129477"/>
                  </a:cubicBezTo>
                  <a:cubicBezTo>
                    <a:pt x="157589" y="129989"/>
                    <a:pt x="160577" y="130511"/>
                    <a:pt x="162979" y="131045"/>
                  </a:cubicBezTo>
                  <a:cubicBezTo>
                    <a:pt x="168768" y="131958"/>
                    <a:pt x="173213" y="133476"/>
                    <a:pt x="176312" y="135598"/>
                  </a:cubicBezTo>
                  <a:cubicBezTo>
                    <a:pt x="179412" y="137721"/>
                    <a:pt x="182301" y="141630"/>
                    <a:pt x="184980" y="147325"/>
                  </a:cubicBezTo>
                  <a:lnTo>
                    <a:pt x="184980" y="161590"/>
                  </a:lnTo>
                  <a:lnTo>
                    <a:pt x="184980" y="174447"/>
                  </a:lnTo>
                  <a:cubicBezTo>
                    <a:pt x="184980" y="175113"/>
                    <a:pt x="184903" y="178793"/>
                    <a:pt x="184747" y="185489"/>
                  </a:cubicBezTo>
                  <a:cubicBezTo>
                    <a:pt x="184591" y="192186"/>
                    <a:pt x="184380" y="198671"/>
                    <a:pt x="184113" y="204944"/>
                  </a:cubicBezTo>
                  <a:cubicBezTo>
                    <a:pt x="183847" y="211218"/>
                    <a:pt x="183651" y="217157"/>
                    <a:pt x="183528" y="222761"/>
                  </a:cubicBezTo>
                  <a:cubicBezTo>
                    <a:pt x="183404" y="228365"/>
                    <a:pt x="183353" y="232472"/>
                    <a:pt x="183374" y="235083"/>
                  </a:cubicBezTo>
                  <a:cubicBezTo>
                    <a:pt x="181139" y="240297"/>
                    <a:pt x="179478" y="244111"/>
                    <a:pt x="178392" y="246526"/>
                  </a:cubicBezTo>
                  <a:cubicBezTo>
                    <a:pt x="177306" y="248941"/>
                    <a:pt x="175772" y="251305"/>
                    <a:pt x="173791" y="253620"/>
                  </a:cubicBezTo>
                  <a:cubicBezTo>
                    <a:pt x="171809" y="255934"/>
                    <a:pt x="169435" y="257661"/>
                    <a:pt x="166668" y="258800"/>
                  </a:cubicBezTo>
                  <a:cubicBezTo>
                    <a:pt x="163901" y="259939"/>
                    <a:pt x="160336" y="260509"/>
                    <a:pt x="155971" y="260509"/>
                  </a:cubicBezTo>
                  <a:cubicBezTo>
                    <a:pt x="144959" y="260509"/>
                    <a:pt x="134214" y="259971"/>
                    <a:pt x="123736" y="258896"/>
                  </a:cubicBezTo>
                  <a:cubicBezTo>
                    <a:pt x="113258" y="257821"/>
                    <a:pt x="102660" y="257145"/>
                    <a:pt x="91943" y="256868"/>
                  </a:cubicBezTo>
                  <a:cubicBezTo>
                    <a:pt x="86687" y="255225"/>
                    <a:pt x="82970" y="252981"/>
                    <a:pt x="80792" y="250135"/>
                  </a:cubicBezTo>
                  <a:cubicBezTo>
                    <a:pt x="78614" y="247289"/>
                    <a:pt x="76737" y="243503"/>
                    <a:pt x="75163" y="238776"/>
                  </a:cubicBezTo>
                  <a:cubicBezTo>
                    <a:pt x="74621" y="225277"/>
                    <a:pt x="73550" y="211584"/>
                    <a:pt x="71951" y="197697"/>
                  </a:cubicBezTo>
                  <a:cubicBezTo>
                    <a:pt x="70858" y="184074"/>
                    <a:pt x="70312" y="170298"/>
                    <a:pt x="70312" y="156368"/>
                  </a:cubicBezTo>
                  <a:lnTo>
                    <a:pt x="70312" y="142878"/>
                  </a:lnTo>
                  <a:cubicBezTo>
                    <a:pt x="70649" y="137809"/>
                    <a:pt x="72910" y="133756"/>
                    <a:pt x="77096" y="130718"/>
                  </a:cubicBezTo>
                  <a:cubicBezTo>
                    <a:pt x="80872" y="128969"/>
                    <a:pt x="84884" y="127487"/>
                    <a:pt x="89133" y="126271"/>
                  </a:cubicBezTo>
                  <a:cubicBezTo>
                    <a:pt x="94014" y="125665"/>
                    <a:pt x="98099" y="125362"/>
                    <a:pt x="101389" y="125362"/>
                  </a:cubicBezTo>
                  <a:close/>
                  <a:moveTo>
                    <a:pt x="140167" y="86932"/>
                  </a:moveTo>
                  <a:cubicBezTo>
                    <a:pt x="136325" y="86932"/>
                    <a:pt x="132472" y="86999"/>
                    <a:pt x="128606" y="87134"/>
                  </a:cubicBezTo>
                  <a:cubicBezTo>
                    <a:pt x="124741" y="87268"/>
                    <a:pt x="121006" y="87335"/>
                    <a:pt x="117401" y="87335"/>
                  </a:cubicBezTo>
                  <a:cubicBezTo>
                    <a:pt x="114457" y="87335"/>
                    <a:pt x="112850" y="87335"/>
                    <a:pt x="112582" y="87335"/>
                  </a:cubicBezTo>
                  <a:cubicBezTo>
                    <a:pt x="111101" y="87335"/>
                    <a:pt x="107764" y="87467"/>
                    <a:pt x="102569" y="87729"/>
                  </a:cubicBezTo>
                  <a:cubicBezTo>
                    <a:pt x="97375" y="87991"/>
                    <a:pt x="91111" y="88263"/>
                    <a:pt x="83777" y="88545"/>
                  </a:cubicBezTo>
                  <a:cubicBezTo>
                    <a:pt x="77390" y="88810"/>
                    <a:pt x="70917" y="89139"/>
                    <a:pt x="64357" y="89534"/>
                  </a:cubicBezTo>
                  <a:cubicBezTo>
                    <a:pt x="57798" y="89928"/>
                    <a:pt x="52959" y="90254"/>
                    <a:pt x="49840" y="90510"/>
                  </a:cubicBezTo>
                  <a:cubicBezTo>
                    <a:pt x="47677" y="90783"/>
                    <a:pt x="45217" y="91014"/>
                    <a:pt x="42461" y="91204"/>
                  </a:cubicBezTo>
                  <a:cubicBezTo>
                    <a:pt x="39705" y="91394"/>
                    <a:pt x="38327" y="90668"/>
                    <a:pt x="38327" y="89025"/>
                  </a:cubicBezTo>
                  <a:lnTo>
                    <a:pt x="36721" y="92238"/>
                  </a:lnTo>
                  <a:lnTo>
                    <a:pt x="36721" y="104941"/>
                  </a:lnTo>
                  <a:lnTo>
                    <a:pt x="36721" y="125938"/>
                  </a:lnTo>
                  <a:cubicBezTo>
                    <a:pt x="36943" y="130917"/>
                    <a:pt x="37188" y="137826"/>
                    <a:pt x="37457" y="146666"/>
                  </a:cubicBezTo>
                  <a:cubicBezTo>
                    <a:pt x="37725" y="155506"/>
                    <a:pt x="37994" y="164814"/>
                    <a:pt x="38263" y="174591"/>
                  </a:cubicBezTo>
                  <a:cubicBezTo>
                    <a:pt x="38532" y="184367"/>
                    <a:pt x="38796" y="193962"/>
                    <a:pt x="39057" y="203373"/>
                  </a:cubicBezTo>
                  <a:cubicBezTo>
                    <a:pt x="39863" y="213037"/>
                    <a:pt x="40400" y="221805"/>
                    <a:pt x="40669" y="229679"/>
                  </a:cubicBezTo>
                  <a:cubicBezTo>
                    <a:pt x="40938" y="237552"/>
                    <a:pt x="41145" y="244040"/>
                    <a:pt x="41290" y="249140"/>
                  </a:cubicBezTo>
                  <a:cubicBezTo>
                    <a:pt x="41435" y="254240"/>
                    <a:pt x="41518" y="257070"/>
                    <a:pt x="41540" y="257629"/>
                  </a:cubicBezTo>
                  <a:lnTo>
                    <a:pt x="44656" y="280853"/>
                  </a:lnTo>
                  <a:lnTo>
                    <a:pt x="211993" y="280853"/>
                  </a:lnTo>
                  <a:lnTo>
                    <a:pt x="225004" y="101056"/>
                  </a:lnTo>
                  <a:lnTo>
                    <a:pt x="225004" y="96097"/>
                  </a:lnTo>
                  <a:cubicBezTo>
                    <a:pt x="225004" y="93763"/>
                    <a:pt x="224447" y="92395"/>
                    <a:pt x="223333" y="91994"/>
                  </a:cubicBezTo>
                  <a:cubicBezTo>
                    <a:pt x="221213" y="91568"/>
                    <a:pt x="217998" y="91086"/>
                    <a:pt x="213689" y="90548"/>
                  </a:cubicBezTo>
                  <a:cubicBezTo>
                    <a:pt x="211569" y="90249"/>
                    <a:pt x="208914" y="89901"/>
                    <a:pt x="205725" y="89502"/>
                  </a:cubicBezTo>
                  <a:cubicBezTo>
                    <a:pt x="202536" y="89103"/>
                    <a:pt x="199352" y="88771"/>
                    <a:pt x="196173" y="88507"/>
                  </a:cubicBezTo>
                  <a:cubicBezTo>
                    <a:pt x="192995" y="88242"/>
                    <a:pt x="190217" y="87981"/>
                    <a:pt x="187841" y="87723"/>
                  </a:cubicBezTo>
                  <a:cubicBezTo>
                    <a:pt x="185465" y="87465"/>
                    <a:pt x="184179" y="87335"/>
                    <a:pt x="183985" y="87335"/>
                  </a:cubicBezTo>
                  <a:cubicBezTo>
                    <a:pt x="183791" y="87335"/>
                    <a:pt x="182256" y="87335"/>
                    <a:pt x="179381" y="87335"/>
                  </a:cubicBezTo>
                  <a:cubicBezTo>
                    <a:pt x="176505" y="87335"/>
                    <a:pt x="173263" y="87268"/>
                    <a:pt x="169653" y="87134"/>
                  </a:cubicBezTo>
                  <a:cubicBezTo>
                    <a:pt x="166044" y="86999"/>
                    <a:pt x="162326" y="86932"/>
                    <a:pt x="158499" y="86932"/>
                  </a:cubicBezTo>
                  <a:cubicBezTo>
                    <a:pt x="154672" y="86932"/>
                    <a:pt x="151620" y="86932"/>
                    <a:pt x="149344" y="86932"/>
                  </a:cubicBezTo>
                  <a:cubicBezTo>
                    <a:pt x="147068" y="86932"/>
                    <a:pt x="144009" y="86932"/>
                    <a:pt x="140167" y="86932"/>
                  </a:cubicBezTo>
                  <a:close/>
                  <a:moveTo>
                    <a:pt x="660256" y="84379"/>
                  </a:moveTo>
                  <a:cubicBezTo>
                    <a:pt x="665589" y="84379"/>
                    <a:pt x="671154" y="85146"/>
                    <a:pt x="676950" y="86680"/>
                  </a:cubicBezTo>
                  <a:cubicBezTo>
                    <a:pt x="682745" y="88213"/>
                    <a:pt x="685643" y="93093"/>
                    <a:pt x="685643" y="101319"/>
                  </a:cubicBezTo>
                  <a:cubicBezTo>
                    <a:pt x="685643" y="105231"/>
                    <a:pt x="684735" y="108702"/>
                    <a:pt x="682917" y="111731"/>
                  </a:cubicBezTo>
                  <a:cubicBezTo>
                    <a:pt x="681275" y="116240"/>
                    <a:pt x="677691" y="118681"/>
                    <a:pt x="672166" y="119052"/>
                  </a:cubicBezTo>
                  <a:lnTo>
                    <a:pt x="573561" y="124300"/>
                  </a:lnTo>
                  <a:cubicBezTo>
                    <a:pt x="573885" y="124300"/>
                    <a:pt x="573622" y="124603"/>
                    <a:pt x="572773" y="125208"/>
                  </a:cubicBezTo>
                  <a:cubicBezTo>
                    <a:pt x="571357" y="127192"/>
                    <a:pt x="570232" y="128839"/>
                    <a:pt x="569398" y="130149"/>
                  </a:cubicBezTo>
                  <a:cubicBezTo>
                    <a:pt x="568564" y="131459"/>
                    <a:pt x="567383" y="133201"/>
                    <a:pt x="565856" y="135377"/>
                  </a:cubicBezTo>
                  <a:cubicBezTo>
                    <a:pt x="564563" y="138483"/>
                    <a:pt x="563014" y="141425"/>
                    <a:pt x="561209" y="144202"/>
                  </a:cubicBezTo>
                  <a:cubicBezTo>
                    <a:pt x="559405" y="146980"/>
                    <a:pt x="557996" y="149271"/>
                    <a:pt x="556983" y="151076"/>
                  </a:cubicBezTo>
                  <a:lnTo>
                    <a:pt x="556253" y="152265"/>
                  </a:lnTo>
                  <a:lnTo>
                    <a:pt x="589656" y="151677"/>
                  </a:lnTo>
                  <a:cubicBezTo>
                    <a:pt x="601576" y="151276"/>
                    <a:pt x="613189" y="151076"/>
                    <a:pt x="624495" y="151076"/>
                  </a:cubicBezTo>
                  <a:cubicBezTo>
                    <a:pt x="633796" y="151076"/>
                    <a:pt x="640927" y="153089"/>
                    <a:pt x="645889" y="157117"/>
                  </a:cubicBezTo>
                  <a:cubicBezTo>
                    <a:pt x="651499" y="162070"/>
                    <a:pt x="654305" y="169321"/>
                    <a:pt x="654305" y="178869"/>
                  </a:cubicBezTo>
                  <a:cubicBezTo>
                    <a:pt x="654305" y="197944"/>
                    <a:pt x="653099" y="216658"/>
                    <a:pt x="650689" y="235010"/>
                  </a:cubicBezTo>
                  <a:cubicBezTo>
                    <a:pt x="648278" y="253362"/>
                    <a:pt x="647073" y="271881"/>
                    <a:pt x="647073" y="290568"/>
                  </a:cubicBezTo>
                  <a:cubicBezTo>
                    <a:pt x="647073" y="291639"/>
                    <a:pt x="647073" y="293708"/>
                    <a:pt x="647073" y="296776"/>
                  </a:cubicBezTo>
                  <a:cubicBezTo>
                    <a:pt x="647073" y="299843"/>
                    <a:pt x="647140" y="302789"/>
                    <a:pt x="647275" y="305613"/>
                  </a:cubicBezTo>
                  <a:cubicBezTo>
                    <a:pt x="647409" y="308438"/>
                    <a:pt x="647476" y="310989"/>
                    <a:pt x="647476" y="313267"/>
                  </a:cubicBezTo>
                  <a:cubicBezTo>
                    <a:pt x="647476" y="315546"/>
                    <a:pt x="647476" y="317032"/>
                    <a:pt x="647476" y="317728"/>
                  </a:cubicBezTo>
                  <a:cubicBezTo>
                    <a:pt x="649277" y="321849"/>
                    <a:pt x="650329" y="325798"/>
                    <a:pt x="650634" y="329574"/>
                  </a:cubicBezTo>
                  <a:cubicBezTo>
                    <a:pt x="650939" y="333349"/>
                    <a:pt x="651092" y="337355"/>
                    <a:pt x="651092" y="341592"/>
                  </a:cubicBezTo>
                  <a:cubicBezTo>
                    <a:pt x="651092" y="341451"/>
                    <a:pt x="651019" y="342911"/>
                    <a:pt x="650874" y="345973"/>
                  </a:cubicBezTo>
                  <a:cubicBezTo>
                    <a:pt x="650729" y="349034"/>
                    <a:pt x="650667" y="350910"/>
                    <a:pt x="650689" y="351601"/>
                  </a:cubicBezTo>
                  <a:cubicBezTo>
                    <a:pt x="649170" y="357309"/>
                    <a:pt x="646366" y="361144"/>
                    <a:pt x="642276" y="363104"/>
                  </a:cubicBezTo>
                  <a:cubicBezTo>
                    <a:pt x="638187" y="365065"/>
                    <a:pt x="634203" y="366493"/>
                    <a:pt x="630325" y="367389"/>
                  </a:cubicBezTo>
                  <a:lnTo>
                    <a:pt x="533691" y="367389"/>
                  </a:lnTo>
                  <a:cubicBezTo>
                    <a:pt x="532706" y="367389"/>
                    <a:pt x="530605" y="367455"/>
                    <a:pt x="527391" y="367587"/>
                  </a:cubicBezTo>
                  <a:cubicBezTo>
                    <a:pt x="524176" y="367719"/>
                    <a:pt x="520608" y="367851"/>
                    <a:pt x="516687" y="367981"/>
                  </a:cubicBezTo>
                  <a:cubicBezTo>
                    <a:pt x="512766" y="368111"/>
                    <a:pt x="508905" y="368312"/>
                    <a:pt x="505104" y="368586"/>
                  </a:cubicBezTo>
                  <a:cubicBezTo>
                    <a:pt x="501303" y="368859"/>
                    <a:pt x="498510" y="368995"/>
                    <a:pt x="496727" y="368995"/>
                  </a:cubicBezTo>
                  <a:cubicBezTo>
                    <a:pt x="496629" y="368995"/>
                    <a:pt x="495709" y="369062"/>
                    <a:pt x="493969" y="369197"/>
                  </a:cubicBezTo>
                  <a:cubicBezTo>
                    <a:pt x="492228" y="369331"/>
                    <a:pt x="490486" y="369464"/>
                    <a:pt x="488743" y="369597"/>
                  </a:cubicBezTo>
                  <a:cubicBezTo>
                    <a:pt x="487001" y="369729"/>
                    <a:pt x="485170" y="369862"/>
                    <a:pt x="483253" y="369997"/>
                  </a:cubicBezTo>
                  <a:cubicBezTo>
                    <a:pt x="481335" y="370131"/>
                    <a:pt x="480201" y="370198"/>
                    <a:pt x="479851" y="370198"/>
                  </a:cubicBezTo>
                  <a:lnTo>
                    <a:pt x="479045" y="370198"/>
                  </a:lnTo>
                  <a:cubicBezTo>
                    <a:pt x="471788" y="370198"/>
                    <a:pt x="466298" y="367852"/>
                    <a:pt x="462575" y="363159"/>
                  </a:cubicBezTo>
                  <a:cubicBezTo>
                    <a:pt x="458853" y="358466"/>
                    <a:pt x="456697" y="353175"/>
                    <a:pt x="456109" y="347288"/>
                  </a:cubicBezTo>
                  <a:cubicBezTo>
                    <a:pt x="455819" y="343555"/>
                    <a:pt x="455540" y="337876"/>
                    <a:pt x="455274" y="330252"/>
                  </a:cubicBezTo>
                  <a:cubicBezTo>
                    <a:pt x="455007" y="322628"/>
                    <a:pt x="454470" y="313848"/>
                    <a:pt x="453664" y="303911"/>
                  </a:cubicBezTo>
                  <a:cubicBezTo>
                    <a:pt x="453391" y="294073"/>
                    <a:pt x="453053" y="283874"/>
                    <a:pt x="452650" y="273315"/>
                  </a:cubicBezTo>
                  <a:cubicBezTo>
                    <a:pt x="452246" y="262755"/>
                    <a:pt x="451780" y="252563"/>
                    <a:pt x="451251" y="242737"/>
                  </a:cubicBezTo>
                  <a:cubicBezTo>
                    <a:pt x="450983" y="233462"/>
                    <a:pt x="450449" y="224825"/>
                    <a:pt x="449651" y="216825"/>
                  </a:cubicBezTo>
                  <a:cubicBezTo>
                    <a:pt x="449374" y="209052"/>
                    <a:pt x="449235" y="203365"/>
                    <a:pt x="449235" y="199764"/>
                  </a:cubicBezTo>
                  <a:lnTo>
                    <a:pt x="449235" y="186504"/>
                  </a:lnTo>
                  <a:lnTo>
                    <a:pt x="449235" y="172956"/>
                  </a:lnTo>
                  <a:cubicBezTo>
                    <a:pt x="449581" y="169163"/>
                    <a:pt x="450999" y="166022"/>
                    <a:pt x="453488" y="163532"/>
                  </a:cubicBezTo>
                  <a:cubicBezTo>
                    <a:pt x="455977" y="161043"/>
                    <a:pt x="458791" y="159170"/>
                    <a:pt x="461929" y="157914"/>
                  </a:cubicBezTo>
                  <a:cubicBezTo>
                    <a:pt x="465067" y="156657"/>
                    <a:pt x="468279" y="155806"/>
                    <a:pt x="471564" y="155360"/>
                  </a:cubicBezTo>
                  <a:cubicBezTo>
                    <a:pt x="474849" y="154914"/>
                    <a:pt x="477611" y="154691"/>
                    <a:pt x="479851" y="154691"/>
                  </a:cubicBezTo>
                  <a:cubicBezTo>
                    <a:pt x="481396" y="154691"/>
                    <a:pt x="483774" y="154557"/>
                    <a:pt x="486987" y="154288"/>
                  </a:cubicBezTo>
                  <a:cubicBezTo>
                    <a:pt x="490818" y="154288"/>
                    <a:pt x="494240" y="154172"/>
                    <a:pt x="497252" y="153939"/>
                  </a:cubicBezTo>
                  <a:cubicBezTo>
                    <a:pt x="500264" y="153707"/>
                    <a:pt x="503754" y="153288"/>
                    <a:pt x="507721" y="152682"/>
                  </a:cubicBezTo>
                  <a:cubicBezTo>
                    <a:pt x="511105" y="152682"/>
                    <a:pt x="513249" y="152682"/>
                    <a:pt x="514153" y="152682"/>
                  </a:cubicBezTo>
                  <a:cubicBezTo>
                    <a:pt x="513616" y="152955"/>
                    <a:pt x="513810" y="152629"/>
                    <a:pt x="514736" y="151703"/>
                  </a:cubicBezTo>
                  <a:cubicBezTo>
                    <a:pt x="515661" y="150777"/>
                    <a:pt x="516126" y="150310"/>
                    <a:pt x="516131" y="150301"/>
                  </a:cubicBezTo>
                  <a:cubicBezTo>
                    <a:pt x="517560" y="147805"/>
                    <a:pt x="519294" y="145131"/>
                    <a:pt x="521334" y="142279"/>
                  </a:cubicBezTo>
                  <a:cubicBezTo>
                    <a:pt x="523373" y="139427"/>
                    <a:pt x="525221" y="136660"/>
                    <a:pt x="526879" y="133979"/>
                  </a:cubicBezTo>
                  <a:lnTo>
                    <a:pt x="530472" y="127943"/>
                  </a:lnTo>
                  <a:lnTo>
                    <a:pt x="489524" y="128520"/>
                  </a:lnTo>
                  <a:cubicBezTo>
                    <a:pt x="473967" y="128923"/>
                    <a:pt x="458018" y="129125"/>
                    <a:pt x="441678" y="129125"/>
                  </a:cubicBezTo>
                  <a:lnTo>
                    <a:pt x="426043" y="129125"/>
                  </a:lnTo>
                  <a:cubicBezTo>
                    <a:pt x="421440" y="127973"/>
                    <a:pt x="418329" y="125777"/>
                    <a:pt x="416709" y="122537"/>
                  </a:cubicBezTo>
                  <a:cubicBezTo>
                    <a:pt x="415090" y="119296"/>
                    <a:pt x="414281" y="115573"/>
                    <a:pt x="414281" y="111366"/>
                  </a:cubicBezTo>
                  <a:cubicBezTo>
                    <a:pt x="414281" y="108508"/>
                    <a:pt x="415080" y="105036"/>
                    <a:pt x="416677" y="100951"/>
                  </a:cubicBezTo>
                  <a:cubicBezTo>
                    <a:pt x="418275" y="96866"/>
                    <a:pt x="422016" y="94823"/>
                    <a:pt x="427899" y="94823"/>
                  </a:cubicBezTo>
                  <a:lnTo>
                    <a:pt x="650113" y="84808"/>
                  </a:lnTo>
                  <a:cubicBezTo>
                    <a:pt x="651282" y="84786"/>
                    <a:pt x="652974" y="84715"/>
                    <a:pt x="655191" y="84593"/>
                  </a:cubicBezTo>
                  <a:cubicBezTo>
                    <a:pt x="657407" y="84472"/>
                    <a:pt x="659096" y="84400"/>
                    <a:pt x="660256" y="84379"/>
                  </a:cubicBezTo>
                  <a:close/>
                  <a:moveTo>
                    <a:pt x="102989" y="52637"/>
                  </a:moveTo>
                  <a:cubicBezTo>
                    <a:pt x="106973" y="52637"/>
                    <a:pt x="111644" y="52637"/>
                    <a:pt x="117001" y="52637"/>
                  </a:cubicBezTo>
                  <a:cubicBezTo>
                    <a:pt x="122357" y="52637"/>
                    <a:pt x="127848" y="52637"/>
                    <a:pt x="133473" y="52637"/>
                  </a:cubicBezTo>
                  <a:cubicBezTo>
                    <a:pt x="139098" y="52637"/>
                    <a:pt x="143517" y="52637"/>
                    <a:pt x="146730" y="52637"/>
                  </a:cubicBezTo>
                  <a:cubicBezTo>
                    <a:pt x="148607" y="52637"/>
                    <a:pt x="151956" y="52637"/>
                    <a:pt x="156777" y="52637"/>
                  </a:cubicBezTo>
                  <a:cubicBezTo>
                    <a:pt x="161598" y="52637"/>
                    <a:pt x="166338" y="52637"/>
                    <a:pt x="170997" y="52637"/>
                  </a:cubicBezTo>
                  <a:cubicBezTo>
                    <a:pt x="175656" y="52637"/>
                    <a:pt x="180817" y="52708"/>
                    <a:pt x="186481" y="52851"/>
                  </a:cubicBezTo>
                  <a:cubicBezTo>
                    <a:pt x="192145" y="52994"/>
                    <a:pt x="195900" y="53055"/>
                    <a:pt x="197748" y="53034"/>
                  </a:cubicBezTo>
                  <a:cubicBezTo>
                    <a:pt x="204791" y="53912"/>
                    <a:pt x="211921" y="54687"/>
                    <a:pt x="219135" y="55357"/>
                  </a:cubicBezTo>
                  <a:cubicBezTo>
                    <a:pt x="226350" y="56026"/>
                    <a:pt x="232986" y="57223"/>
                    <a:pt x="239044" y="58947"/>
                  </a:cubicBezTo>
                  <a:cubicBezTo>
                    <a:pt x="245653" y="61357"/>
                    <a:pt x="250873" y="65069"/>
                    <a:pt x="254704" y="70082"/>
                  </a:cubicBezTo>
                  <a:cubicBezTo>
                    <a:pt x="259384" y="75381"/>
                    <a:pt x="261725" y="82713"/>
                    <a:pt x="261725" y="92078"/>
                  </a:cubicBezTo>
                  <a:lnTo>
                    <a:pt x="261725" y="97946"/>
                  </a:lnTo>
                  <a:cubicBezTo>
                    <a:pt x="258179" y="131749"/>
                    <a:pt x="255007" y="164909"/>
                    <a:pt x="252208" y="197428"/>
                  </a:cubicBezTo>
                  <a:cubicBezTo>
                    <a:pt x="249410" y="229947"/>
                    <a:pt x="248682" y="262960"/>
                    <a:pt x="250026" y="296468"/>
                  </a:cubicBezTo>
                  <a:cubicBezTo>
                    <a:pt x="249309" y="303260"/>
                    <a:pt x="245856" y="307960"/>
                    <a:pt x="239665" y="310567"/>
                  </a:cubicBezTo>
                  <a:cubicBezTo>
                    <a:pt x="234541" y="312973"/>
                    <a:pt x="229539" y="314637"/>
                    <a:pt x="224658" y="315558"/>
                  </a:cubicBezTo>
                  <a:cubicBezTo>
                    <a:pt x="220656" y="315558"/>
                    <a:pt x="214905" y="315558"/>
                    <a:pt x="207405" y="315558"/>
                  </a:cubicBezTo>
                  <a:cubicBezTo>
                    <a:pt x="199904" y="315558"/>
                    <a:pt x="191466" y="315624"/>
                    <a:pt x="182091" y="315757"/>
                  </a:cubicBezTo>
                  <a:cubicBezTo>
                    <a:pt x="172716" y="315889"/>
                    <a:pt x="162872" y="316022"/>
                    <a:pt x="152560" y="316157"/>
                  </a:cubicBezTo>
                  <a:cubicBezTo>
                    <a:pt x="142248" y="316291"/>
                    <a:pt x="132337" y="316426"/>
                    <a:pt x="122827" y="316560"/>
                  </a:cubicBezTo>
                  <a:cubicBezTo>
                    <a:pt x="113318" y="316694"/>
                    <a:pt x="104880" y="316761"/>
                    <a:pt x="97514" y="316761"/>
                  </a:cubicBezTo>
                  <a:cubicBezTo>
                    <a:pt x="90148" y="316761"/>
                    <a:pt x="84724" y="316761"/>
                    <a:pt x="81243" y="316761"/>
                  </a:cubicBezTo>
                  <a:cubicBezTo>
                    <a:pt x="80436" y="316761"/>
                    <a:pt x="79060" y="316761"/>
                    <a:pt x="77115" y="316761"/>
                  </a:cubicBezTo>
                  <a:cubicBezTo>
                    <a:pt x="75170" y="316761"/>
                    <a:pt x="72869" y="316829"/>
                    <a:pt x="70213" y="316963"/>
                  </a:cubicBezTo>
                  <a:cubicBezTo>
                    <a:pt x="67557" y="317097"/>
                    <a:pt x="64536" y="317165"/>
                    <a:pt x="61148" y="317165"/>
                  </a:cubicBezTo>
                  <a:cubicBezTo>
                    <a:pt x="58473" y="317165"/>
                    <a:pt x="56532" y="317165"/>
                    <a:pt x="55324" y="317165"/>
                  </a:cubicBezTo>
                  <a:cubicBezTo>
                    <a:pt x="54117" y="317165"/>
                    <a:pt x="52265" y="317165"/>
                    <a:pt x="49769" y="317165"/>
                  </a:cubicBezTo>
                  <a:cubicBezTo>
                    <a:pt x="47274" y="317165"/>
                    <a:pt x="44687" y="317097"/>
                    <a:pt x="42010" y="316963"/>
                  </a:cubicBezTo>
                  <a:cubicBezTo>
                    <a:pt x="39333" y="316829"/>
                    <a:pt x="36764" y="316761"/>
                    <a:pt x="34305" y="316761"/>
                  </a:cubicBezTo>
                  <a:cubicBezTo>
                    <a:pt x="31845" y="316761"/>
                    <a:pt x="30212" y="316761"/>
                    <a:pt x="29406" y="316761"/>
                  </a:cubicBezTo>
                  <a:cubicBezTo>
                    <a:pt x="24150" y="316761"/>
                    <a:pt x="19809" y="314857"/>
                    <a:pt x="16383" y="311047"/>
                  </a:cubicBezTo>
                  <a:cubicBezTo>
                    <a:pt x="14314" y="308393"/>
                    <a:pt x="12606" y="305047"/>
                    <a:pt x="11260" y="301009"/>
                  </a:cubicBezTo>
                  <a:cubicBezTo>
                    <a:pt x="9914" y="296971"/>
                    <a:pt x="8919" y="293145"/>
                    <a:pt x="8274" y="289531"/>
                  </a:cubicBezTo>
                  <a:cubicBezTo>
                    <a:pt x="7630" y="285918"/>
                    <a:pt x="7157" y="282750"/>
                    <a:pt x="6854" y="280028"/>
                  </a:cubicBezTo>
                  <a:cubicBezTo>
                    <a:pt x="6576" y="274968"/>
                    <a:pt x="6304" y="267362"/>
                    <a:pt x="6038" y="257210"/>
                  </a:cubicBezTo>
                  <a:cubicBezTo>
                    <a:pt x="5771" y="247058"/>
                    <a:pt x="5235" y="235501"/>
                    <a:pt x="4428" y="222540"/>
                  </a:cubicBezTo>
                  <a:cubicBezTo>
                    <a:pt x="4155" y="209894"/>
                    <a:pt x="3750" y="196317"/>
                    <a:pt x="3212" y="181807"/>
                  </a:cubicBezTo>
                  <a:cubicBezTo>
                    <a:pt x="2948" y="167924"/>
                    <a:pt x="2547" y="154397"/>
                    <a:pt x="2009" y="141227"/>
                  </a:cubicBezTo>
                  <a:cubicBezTo>
                    <a:pt x="1740" y="128679"/>
                    <a:pt x="1406" y="117327"/>
                    <a:pt x="1004" y="107171"/>
                  </a:cubicBezTo>
                  <a:cubicBezTo>
                    <a:pt x="603" y="97015"/>
                    <a:pt x="269" y="89516"/>
                    <a:pt x="0" y="84673"/>
                  </a:cubicBezTo>
                  <a:lnTo>
                    <a:pt x="0" y="80027"/>
                  </a:lnTo>
                  <a:cubicBezTo>
                    <a:pt x="0" y="75198"/>
                    <a:pt x="1147" y="71390"/>
                    <a:pt x="3443" y="68604"/>
                  </a:cubicBezTo>
                  <a:cubicBezTo>
                    <a:pt x="5738" y="65818"/>
                    <a:pt x="8510" y="63574"/>
                    <a:pt x="11759" y="61871"/>
                  </a:cubicBezTo>
                  <a:cubicBezTo>
                    <a:pt x="15008" y="60169"/>
                    <a:pt x="18427" y="58960"/>
                    <a:pt x="22018" y="58243"/>
                  </a:cubicBezTo>
                  <a:cubicBezTo>
                    <a:pt x="25608" y="57526"/>
                    <a:pt x="29035" y="56875"/>
                    <a:pt x="32299" y="56291"/>
                  </a:cubicBezTo>
                  <a:cubicBezTo>
                    <a:pt x="34419" y="56056"/>
                    <a:pt x="38483" y="55734"/>
                    <a:pt x="44490" y="55325"/>
                  </a:cubicBezTo>
                  <a:cubicBezTo>
                    <a:pt x="50497" y="54915"/>
                    <a:pt x="56953" y="54575"/>
                    <a:pt x="63858" y="54304"/>
                  </a:cubicBezTo>
                  <a:cubicBezTo>
                    <a:pt x="70763" y="54033"/>
                    <a:pt x="77455" y="53754"/>
                    <a:pt x="83934" y="53466"/>
                  </a:cubicBezTo>
                  <a:cubicBezTo>
                    <a:pt x="90412" y="53178"/>
                    <a:pt x="94471" y="53034"/>
                    <a:pt x="96109" y="53034"/>
                  </a:cubicBezTo>
                  <a:cubicBezTo>
                    <a:pt x="96975" y="53034"/>
                    <a:pt x="99268" y="52901"/>
                    <a:pt x="102989" y="52637"/>
                  </a:cubicBezTo>
                  <a:close/>
                  <a:moveTo>
                    <a:pt x="1049624" y="19685"/>
                  </a:moveTo>
                  <a:lnTo>
                    <a:pt x="1058461" y="19685"/>
                  </a:lnTo>
                  <a:cubicBezTo>
                    <a:pt x="1062945" y="19685"/>
                    <a:pt x="1067829" y="20624"/>
                    <a:pt x="1073113" y="22501"/>
                  </a:cubicBezTo>
                  <a:cubicBezTo>
                    <a:pt x="1078397" y="24378"/>
                    <a:pt x="1081039" y="28687"/>
                    <a:pt x="1081039" y="35428"/>
                  </a:cubicBezTo>
                  <a:cubicBezTo>
                    <a:pt x="1081039" y="39136"/>
                    <a:pt x="1079675" y="43290"/>
                    <a:pt x="1076947" y="47891"/>
                  </a:cubicBezTo>
                  <a:cubicBezTo>
                    <a:pt x="1074218" y="52493"/>
                    <a:pt x="1070066" y="54793"/>
                    <a:pt x="1064490" y="54793"/>
                  </a:cubicBezTo>
                  <a:lnTo>
                    <a:pt x="989461" y="54793"/>
                  </a:lnTo>
                  <a:lnTo>
                    <a:pt x="975766" y="96992"/>
                  </a:lnTo>
                  <a:lnTo>
                    <a:pt x="975766" y="98842"/>
                  </a:lnTo>
                  <a:lnTo>
                    <a:pt x="1061674" y="98842"/>
                  </a:lnTo>
                  <a:cubicBezTo>
                    <a:pt x="1066098" y="98842"/>
                    <a:pt x="1069360" y="100310"/>
                    <a:pt x="1071459" y="103245"/>
                  </a:cubicBezTo>
                  <a:cubicBezTo>
                    <a:pt x="1073562" y="105655"/>
                    <a:pt x="1075001" y="108330"/>
                    <a:pt x="1075776" y="111270"/>
                  </a:cubicBezTo>
                  <a:cubicBezTo>
                    <a:pt x="1076550" y="114210"/>
                    <a:pt x="1077018" y="117295"/>
                    <a:pt x="1077180" y="120527"/>
                  </a:cubicBezTo>
                  <a:cubicBezTo>
                    <a:pt x="1077342" y="123759"/>
                    <a:pt x="1077424" y="125929"/>
                    <a:pt x="1077424" y="127039"/>
                  </a:cubicBezTo>
                  <a:lnTo>
                    <a:pt x="1077424" y="137867"/>
                  </a:lnTo>
                  <a:lnTo>
                    <a:pt x="1067267" y="265366"/>
                  </a:lnTo>
                  <a:cubicBezTo>
                    <a:pt x="1066990" y="267866"/>
                    <a:pt x="1066642" y="270586"/>
                    <a:pt x="1066224" y="273526"/>
                  </a:cubicBezTo>
                  <a:cubicBezTo>
                    <a:pt x="1065806" y="276465"/>
                    <a:pt x="1064848" y="279132"/>
                    <a:pt x="1063351" y="281525"/>
                  </a:cubicBezTo>
                  <a:cubicBezTo>
                    <a:pt x="1062387" y="284426"/>
                    <a:pt x="1060545" y="286872"/>
                    <a:pt x="1057828" y="288862"/>
                  </a:cubicBezTo>
                  <a:cubicBezTo>
                    <a:pt x="1055110" y="290853"/>
                    <a:pt x="1051838" y="291848"/>
                    <a:pt x="1048011" y="291848"/>
                  </a:cubicBezTo>
                  <a:cubicBezTo>
                    <a:pt x="1045161" y="291848"/>
                    <a:pt x="1041825" y="290847"/>
                    <a:pt x="1038002" y="288846"/>
                  </a:cubicBezTo>
                  <a:cubicBezTo>
                    <a:pt x="1034179" y="286845"/>
                    <a:pt x="1032268" y="283804"/>
                    <a:pt x="1032268" y="279721"/>
                  </a:cubicBezTo>
                  <a:lnTo>
                    <a:pt x="1032268" y="254576"/>
                  </a:lnTo>
                  <a:lnTo>
                    <a:pt x="1041509" y="134347"/>
                  </a:lnTo>
                  <a:lnTo>
                    <a:pt x="1040498" y="133944"/>
                  </a:lnTo>
                  <a:lnTo>
                    <a:pt x="894043" y="133944"/>
                  </a:lnTo>
                  <a:lnTo>
                    <a:pt x="890920" y="261770"/>
                  </a:lnTo>
                  <a:cubicBezTo>
                    <a:pt x="890510" y="265831"/>
                    <a:pt x="888380" y="268914"/>
                    <a:pt x="884530" y="271017"/>
                  </a:cubicBezTo>
                  <a:cubicBezTo>
                    <a:pt x="880679" y="273120"/>
                    <a:pt x="877316" y="274172"/>
                    <a:pt x="874441" y="274172"/>
                  </a:cubicBezTo>
                  <a:cubicBezTo>
                    <a:pt x="870729" y="274172"/>
                    <a:pt x="867254" y="272808"/>
                    <a:pt x="864016" y="270080"/>
                  </a:cubicBezTo>
                  <a:cubicBezTo>
                    <a:pt x="860778" y="267351"/>
                    <a:pt x="858602" y="264131"/>
                    <a:pt x="857488" y="260419"/>
                  </a:cubicBezTo>
                  <a:lnTo>
                    <a:pt x="857488" y="229893"/>
                  </a:lnTo>
                  <a:lnTo>
                    <a:pt x="857488" y="199764"/>
                  </a:lnTo>
                  <a:cubicBezTo>
                    <a:pt x="857488" y="196777"/>
                    <a:pt x="857554" y="191209"/>
                    <a:pt x="857687" y="183058"/>
                  </a:cubicBezTo>
                  <a:cubicBezTo>
                    <a:pt x="857819" y="174907"/>
                    <a:pt x="857885" y="166354"/>
                    <a:pt x="857885" y="157398"/>
                  </a:cubicBezTo>
                  <a:cubicBezTo>
                    <a:pt x="858427" y="148166"/>
                    <a:pt x="858831" y="139561"/>
                    <a:pt x="859098" y="131582"/>
                  </a:cubicBezTo>
                  <a:cubicBezTo>
                    <a:pt x="859364" y="123604"/>
                    <a:pt x="859498" y="117734"/>
                    <a:pt x="859498" y="113971"/>
                  </a:cubicBezTo>
                  <a:cubicBezTo>
                    <a:pt x="860547" y="109760"/>
                    <a:pt x="863476" y="106051"/>
                    <a:pt x="868284" y="102845"/>
                  </a:cubicBezTo>
                  <a:cubicBezTo>
                    <a:pt x="873092" y="99639"/>
                    <a:pt x="877690" y="98036"/>
                    <a:pt x="882075" y="98036"/>
                  </a:cubicBezTo>
                  <a:lnTo>
                    <a:pt x="936066" y="98036"/>
                  </a:lnTo>
                  <a:lnTo>
                    <a:pt x="936616" y="97495"/>
                  </a:lnTo>
                  <a:cubicBezTo>
                    <a:pt x="937002" y="97109"/>
                    <a:pt x="937536" y="96118"/>
                    <a:pt x="938219" y="94522"/>
                  </a:cubicBezTo>
                  <a:cubicBezTo>
                    <a:pt x="938774" y="93601"/>
                    <a:pt x="939051" y="92997"/>
                    <a:pt x="939051" y="92711"/>
                  </a:cubicBezTo>
                  <a:cubicBezTo>
                    <a:pt x="939981" y="89917"/>
                    <a:pt x="941116" y="86510"/>
                    <a:pt x="942456" y="82491"/>
                  </a:cubicBezTo>
                  <a:cubicBezTo>
                    <a:pt x="943795" y="78472"/>
                    <a:pt x="945068" y="74722"/>
                    <a:pt x="946273" y="71240"/>
                  </a:cubicBezTo>
                  <a:cubicBezTo>
                    <a:pt x="947478" y="67759"/>
                    <a:pt x="948552" y="64715"/>
                    <a:pt x="949495" y="62108"/>
                  </a:cubicBezTo>
                  <a:cubicBezTo>
                    <a:pt x="950302" y="59181"/>
                    <a:pt x="950705" y="57279"/>
                    <a:pt x="950705" y="56400"/>
                  </a:cubicBezTo>
                  <a:cubicBezTo>
                    <a:pt x="942535" y="56400"/>
                    <a:pt x="933033" y="56600"/>
                    <a:pt x="922201" y="57001"/>
                  </a:cubicBezTo>
                  <a:cubicBezTo>
                    <a:pt x="911368" y="57402"/>
                    <a:pt x="900404" y="57603"/>
                    <a:pt x="889307" y="57603"/>
                  </a:cubicBezTo>
                  <a:lnTo>
                    <a:pt x="874921" y="57603"/>
                  </a:lnTo>
                  <a:cubicBezTo>
                    <a:pt x="869494" y="57240"/>
                    <a:pt x="865567" y="55064"/>
                    <a:pt x="863139" y="51075"/>
                  </a:cubicBezTo>
                  <a:cubicBezTo>
                    <a:pt x="860711" y="47086"/>
                    <a:pt x="859498" y="43076"/>
                    <a:pt x="859498" y="39044"/>
                  </a:cubicBezTo>
                  <a:cubicBezTo>
                    <a:pt x="859498" y="35725"/>
                    <a:pt x="860435" y="32529"/>
                    <a:pt x="862310" y="29457"/>
                  </a:cubicBezTo>
                  <a:cubicBezTo>
                    <a:pt x="864185" y="26386"/>
                    <a:pt x="867073" y="24201"/>
                    <a:pt x="870972" y="22904"/>
                  </a:cubicBezTo>
                  <a:cubicBezTo>
                    <a:pt x="878562" y="22904"/>
                    <a:pt x="886296" y="22847"/>
                    <a:pt x="894174" y="22731"/>
                  </a:cubicBezTo>
                  <a:cubicBezTo>
                    <a:pt x="902052" y="22616"/>
                    <a:pt x="911860" y="22358"/>
                    <a:pt x="923599" y="21957"/>
                  </a:cubicBezTo>
                  <a:cubicBezTo>
                    <a:pt x="935338" y="21556"/>
                    <a:pt x="947670" y="21288"/>
                    <a:pt x="960595" y="21154"/>
                  </a:cubicBezTo>
                  <a:cubicBezTo>
                    <a:pt x="973520" y="21020"/>
                    <a:pt x="985819" y="20818"/>
                    <a:pt x="997492" y="20549"/>
                  </a:cubicBezTo>
                  <a:cubicBezTo>
                    <a:pt x="1009165" y="20280"/>
                    <a:pt x="1019695" y="20075"/>
                    <a:pt x="1029081" y="19932"/>
                  </a:cubicBezTo>
                  <a:cubicBezTo>
                    <a:pt x="1038467" y="19789"/>
                    <a:pt x="1045314" y="19707"/>
                    <a:pt x="1049624" y="19685"/>
                  </a:cubicBezTo>
                  <a:close/>
                  <a:moveTo>
                    <a:pt x="481861" y="11654"/>
                  </a:moveTo>
                  <a:cubicBezTo>
                    <a:pt x="486072" y="11654"/>
                    <a:pt x="490271" y="13359"/>
                    <a:pt x="494458" y="16770"/>
                  </a:cubicBezTo>
                  <a:cubicBezTo>
                    <a:pt x="498646" y="20181"/>
                    <a:pt x="502222" y="24146"/>
                    <a:pt x="505187" y="28664"/>
                  </a:cubicBezTo>
                  <a:cubicBezTo>
                    <a:pt x="508152" y="33182"/>
                    <a:pt x="510710" y="37809"/>
                    <a:pt x="512860" y="42545"/>
                  </a:cubicBezTo>
                  <a:cubicBezTo>
                    <a:pt x="515011" y="47280"/>
                    <a:pt x="516086" y="51338"/>
                    <a:pt x="516086" y="54717"/>
                  </a:cubicBezTo>
                  <a:cubicBezTo>
                    <a:pt x="516086" y="65750"/>
                    <a:pt x="510838" y="71266"/>
                    <a:pt x="500343" y="71266"/>
                  </a:cubicBezTo>
                  <a:cubicBezTo>
                    <a:pt x="495931" y="71266"/>
                    <a:pt x="492189" y="70133"/>
                    <a:pt x="489115" y="67868"/>
                  </a:cubicBezTo>
                  <a:cubicBezTo>
                    <a:pt x="486041" y="65602"/>
                    <a:pt x="483437" y="63116"/>
                    <a:pt x="481304" y="60409"/>
                  </a:cubicBezTo>
                  <a:cubicBezTo>
                    <a:pt x="479171" y="57702"/>
                    <a:pt x="477246" y="54963"/>
                    <a:pt x="475528" y="52192"/>
                  </a:cubicBezTo>
                  <a:cubicBezTo>
                    <a:pt x="473811" y="49421"/>
                    <a:pt x="472100" y="46757"/>
                    <a:pt x="470396" y="44199"/>
                  </a:cubicBezTo>
                  <a:cubicBezTo>
                    <a:pt x="468691" y="41641"/>
                    <a:pt x="467216" y="39194"/>
                    <a:pt x="465970" y="36859"/>
                  </a:cubicBezTo>
                  <a:cubicBezTo>
                    <a:pt x="464725" y="34523"/>
                    <a:pt x="464102" y="31635"/>
                    <a:pt x="464102" y="28197"/>
                  </a:cubicBezTo>
                  <a:cubicBezTo>
                    <a:pt x="464102" y="23717"/>
                    <a:pt x="465826" y="19840"/>
                    <a:pt x="469276" y="16565"/>
                  </a:cubicBezTo>
                  <a:cubicBezTo>
                    <a:pt x="472725" y="13291"/>
                    <a:pt x="476920" y="11654"/>
                    <a:pt x="481861" y="11654"/>
                  </a:cubicBezTo>
                  <a:close/>
                  <a:moveTo>
                    <a:pt x="618870" y="0"/>
                  </a:moveTo>
                  <a:cubicBezTo>
                    <a:pt x="623593" y="0"/>
                    <a:pt x="627599" y="1279"/>
                    <a:pt x="630888" y="3837"/>
                  </a:cubicBezTo>
                  <a:cubicBezTo>
                    <a:pt x="634178" y="6394"/>
                    <a:pt x="635822" y="10229"/>
                    <a:pt x="635822" y="15340"/>
                  </a:cubicBezTo>
                  <a:lnTo>
                    <a:pt x="635822" y="17529"/>
                  </a:lnTo>
                  <a:lnTo>
                    <a:pt x="618691" y="68514"/>
                  </a:lnTo>
                  <a:cubicBezTo>
                    <a:pt x="617616" y="71748"/>
                    <a:pt x="615401" y="74623"/>
                    <a:pt x="612048" y="77138"/>
                  </a:cubicBezTo>
                  <a:cubicBezTo>
                    <a:pt x="608695" y="79653"/>
                    <a:pt x="605209" y="80910"/>
                    <a:pt x="601591" y="80910"/>
                  </a:cubicBezTo>
                  <a:cubicBezTo>
                    <a:pt x="595968" y="80910"/>
                    <a:pt x="591669" y="79074"/>
                    <a:pt x="588696" y="75400"/>
                  </a:cubicBezTo>
                  <a:cubicBezTo>
                    <a:pt x="585722" y="71727"/>
                    <a:pt x="584235" y="67375"/>
                    <a:pt x="584235" y="62345"/>
                  </a:cubicBezTo>
                  <a:lnTo>
                    <a:pt x="584235" y="61046"/>
                  </a:lnTo>
                  <a:lnTo>
                    <a:pt x="599684" y="13042"/>
                  </a:lnTo>
                  <a:cubicBezTo>
                    <a:pt x="600998" y="9365"/>
                    <a:pt x="603495" y="6272"/>
                    <a:pt x="607175" y="3763"/>
                  </a:cubicBezTo>
                  <a:cubicBezTo>
                    <a:pt x="610854" y="1254"/>
                    <a:pt x="614753" y="0"/>
                    <a:pt x="618870" y="0"/>
                  </a:cubicBez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29" descr="05您"/>
          <p:cNvPicPr/>
          <p:nvPr/>
        </p:nvPicPr>
        <p:blipFill>
          <a:blip r:embed="rId1"/>
          <a:stretch/>
        </p:blipFill>
        <p:spPr>
          <a:xfrm>
            <a:off x="498600" y="1114560"/>
            <a:ext cx="2762280" cy="27622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1" descr=""/>
          <p:cNvPicPr/>
          <p:nvPr/>
        </p:nvPicPr>
        <p:blipFill>
          <a:blip r:embed="rId2"/>
          <a:srcRect l="0" t="0" r="4006" b="0"/>
          <a:stretch/>
        </p:blipFill>
        <p:spPr>
          <a:xfrm>
            <a:off x="2563920" y="4114800"/>
            <a:ext cx="4267080" cy="48744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8"/>
          <p:cNvSpPr/>
          <p:nvPr/>
        </p:nvSpPr>
        <p:spPr>
          <a:xfrm>
            <a:off x="1243080" y="100080"/>
            <a:ext cx="17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宋体"/>
                <a:ea typeface="宋体"/>
              </a:rPr>
              <a:t>ní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"/>
          <p:cNvSpPr/>
          <p:nvPr/>
        </p:nvSpPr>
        <p:spPr>
          <a:xfrm>
            <a:off x="4168800" y="1192320"/>
            <a:ext cx="2762280" cy="25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构：</a:t>
            </a:r>
            <a:r>
              <a:rPr b="1" lang="zh-CN" sz="2800" spc="-1" strike="noStrike">
                <a:solidFill>
                  <a:srgbClr val="ee1a20"/>
                </a:solidFill>
                <a:latin typeface="宋体"/>
                <a:ea typeface="宋体"/>
              </a:rPr>
              <a:t>上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词：</a:t>
            </a:r>
            <a:r>
              <a:rPr b="1" lang="zh-CN" sz="2800" spc="-1" strike="noStrike">
                <a:solidFill>
                  <a:srgbClr val="ee1a20"/>
                </a:solidFill>
                <a:latin typeface="宋体"/>
                <a:ea typeface="宋体"/>
              </a:rPr>
              <a:t>您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ee1a20"/>
                </a:solidFill>
                <a:latin typeface="宋体"/>
                <a:ea typeface="宋体"/>
              </a:rPr>
              <a:t>您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2"/>
          <p:cNvSpPr/>
          <p:nvPr/>
        </p:nvSpPr>
        <p:spPr>
          <a:xfrm>
            <a:off x="1420920" y="3968640"/>
            <a:ext cx="133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笔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1" descr=""/>
          <p:cNvPicPr/>
          <p:nvPr/>
        </p:nvPicPr>
        <p:blipFill>
          <a:blip r:embed="rId3"/>
          <a:stretch/>
        </p:blipFill>
        <p:spPr>
          <a:xfrm>
            <a:off x="5316480" y="1434960"/>
            <a:ext cx="380880" cy="328680"/>
          </a:xfrm>
          <a:prstGeom prst="rect">
            <a:avLst/>
          </a:prstGeom>
          <a:ln w="0">
            <a:noFill/>
          </a:ln>
        </p:spPr>
      </p:pic>
      <p:grpSp>
        <p:nvGrpSpPr>
          <p:cNvPr id="97" name="组合 1"/>
          <p:cNvGrpSpPr/>
          <p:nvPr/>
        </p:nvGrpSpPr>
        <p:grpSpPr>
          <a:xfrm>
            <a:off x="7192800" y="1380960"/>
            <a:ext cx="1241640" cy="1882800"/>
            <a:chOff x="7192800" y="1380960"/>
            <a:chExt cx="1241640" cy="1882800"/>
          </a:xfrm>
        </p:grpSpPr>
        <p:pic>
          <p:nvPicPr>
            <p:cNvPr id="98" name="图片 10" descr=""/>
            <p:cNvPicPr/>
            <p:nvPr/>
          </p:nvPicPr>
          <p:blipFill>
            <a:blip r:embed="rId4"/>
            <a:stretch/>
          </p:blipFill>
          <p:spPr>
            <a:xfrm>
              <a:off x="7192800" y="1726920"/>
              <a:ext cx="12416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任意多边形: 形状 12">
              <a:hlinkClick r:id="" action="ppaction://hlinkshowjump?jump=firstslide"/>
            </p:cNvPr>
            <p:cNvSpPr/>
            <p:nvPr/>
          </p:nvSpPr>
          <p:spPr>
            <a:xfrm>
              <a:off x="7276680" y="1380960"/>
              <a:ext cx="1081440" cy="369720"/>
            </a:xfrm>
            <a:custGeom>
              <a:avLst/>
              <a:gdLst/>
              <a:ahLst/>
              <a:rect l="l" t="t" r="r" b="b"/>
              <a:pathLst>
                <a:path w="1081039" h="370198">
                  <a:moveTo>
                    <a:pt x="610032" y="293857"/>
                  </a:moveTo>
                  <a:cubicBezTo>
                    <a:pt x="606056" y="293857"/>
                    <a:pt x="599112" y="293992"/>
                    <a:pt x="589201" y="294260"/>
                  </a:cubicBezTo>
                  <a:cubicBezTo>
                    <a:pt x="579824" y="294529"/>
                    <a:pt x="569616" y="294796"/>
                    <a:pt x="558579" y="295060"/>
                  </a:cubicBezTo>
                  <a:cubicBezTo>
                    <a:pt x="547832" y="295862"/>
                    <a:pt x="537584" y="296396"/>
                    <a:pt x="527835" y="296660"/>
                  </a:cubicBezTo>
                  <a:cubicBezTo>
                    <a:pt x="518087" y="296925"/>
                    <a:pt x="511158" y="297196"/>
                    <a:pt x="507050" y="297473"/>
                  </a:cubicBezTo>
                  <a:cubicBezTo>
                    <a:pt x="506090" y="297473"/>
                    <a:pt x="503871" y="297675"/>
                    <a:pt x="500394" y="298078"/>
                  </a:cubicBezTo>
                  <a:cubicBezTo>
                    <a:pt x="496917" y="298481"/>
                    <a:pt x="494470" y="298749"/>
                    <a:pt x="493054" y="298881"/>
                  </a:cubicBezTo>
                  <a:cubicBezTo>
                    <a:pt x="491637" y="299013"/>
                    <a:pt x="490572" y="299216"/>
                    <a:pt x="489857" y="299489"/>
                  </a:cubicBezTo>
                  <a:cubicBezTo>
                    <a:pt x="489142" y="299762"/>
                    <a:pt x="488913" y="299579"/>
                    <a:pt x="489169" y="298939"/>
                  </a:cubicBezTo>
                  <a:lnTo>
                    <a:pt x="489169" y="309850"/>
                  </a:lnTo>
                  <a:lnTo>
                    <a:pt x="489169" y="321209"/>
                  </a:lnTo>
                  <a:cubicBezTo>
                    <a:pt x="489382" y="322903"/>
                    <a:pt x="489608" y="325261"/>
                    <a:pt x="489847" y="328284"/>
                  </a:cubicBezTo>
                  <a:cubicBezTo>
                    <a:pt x="490086" y="331307"/>
                    <a:pt x="490118" y="332731"/>
                    <a:pt x="489943" y="332556"/>
                  </a:cubicBezTo>
                  <a:lnTo>
                    <a:pt x="490103" y="332684"/>
                  </a:lnTo>
                  <a:lnTo>
                    <a:pt x="501949" y="332684"/>
                  </a:lnTo>
                  <a:cubicBezTo>
                    <a:pt x="522735" y="332684"/>
                    <a:pt x="542638" y="332349"/>
                    <a:pt x="561657" y="331679"/>
                  </a:cubicBezTo>
                  <a:cubicBezTo>
                    <a:pt x="580677" y="331009"/>
                    <a:pt x="598248" y="330674"/>
                    <a:pt x="614371" y="330674"/>
                  </a:cubicBezTo>
                  <a:cubicBezTo>
                    <a:pt x="614371" y="326596"/>
                    <a:pt x="613840" y="320836"/>
                    <a:pt x="612777" y="313395"/>
                  </a:cubicBezTo>
                  <a:lnTo>
                    <a:pt x="610934" y="293857"/>
                  </a:lnTo>
                  <a:close/>
                  <a:moveTo>
                    <a:pt x="552935" y="248855"/>
                  </a:moveTo>
                  <a:cubicBezTo>
                    <a:pt x="542192" y="248855"/>
                    <a:pt x="530385" y="249380"/>
                    <a:pt x="517513" y="250430"/>
                  </a:cubicBezTo>
                  <a:cubicBezTo>
                    <a:pt x="515094" y="250967"/>
                    <a:pt x="512009" y="251376"/>
                    <a:pt x="508259" y="251655"/>
                  </a:cubicBezTo>
                  <a:cubicBezTo>
                    <a:pt x="504509" y="251934"/>
                    <a:pt x="501038" y="252208"/>
                    <a:pt x="497847" y="252474"/>
                  </a:cubicBezTo>
                  <a:cubicBezTo>
                    <a:pt x="494656" y="252741"/>
                    <a:pt x="491742" y="253009"/>
                    <a:pt x="489105" y="253277"/>
                  </a:cubicBezTo>
                  <a:lnTo>
                    <a:pt x="487563" y="253452"/>
                  </a:lnTo>
                  <a:lnTo>
                    <a:pt x="487563" y="263171"/>
                  </a:lnTo>
                  <a:lnTo>
                    <a:pt x="490295" y="263171"/>
                  </a:lnTo>
                  <a:cubicBezTo>
                    <a:pt x="494681" y="263171"/>
                    <a:pt x="498549" y="262923"/>
                    <a:pt x="501898" y="262426"/>
                  </a:cubicBezTo>
                  <a:cubicBezTo>
                    <a:pt x="505247" y="261929"/>
                    <a:pt x="509569" y="261241"/>
                    <a:pt x="514863" y="260362"/>
                  </a:cubicBezTo>
                  <a:lnTo>
                    <a:pt x="611171" y="260362"/>
                  </a:lnTo>
                  <a:lnTo>
                    <a:pt x="612765" y="249207"/>
                  </a:lnTo>
                  <a:lnTo>
                    <a:pt x="612406" y="248855"/>
                  </a:lnTo>
                  <a:lnTo>
                    <a:pt x="589937" y="248855"/>
                  </a:lnTo>
                  <a:cubicBezTo>
                    <a:pt x="576012" y="248855"/>
                    <a:pt x="563678" y="248855"/>
                    <a:pt x="552935" y="248855"/>
                  </a:cubicBezTo>
                  <a:close/>
                  <a:moveTo>
                    <a:pt x="606877" y="187381"/>
                  </a:moveTo>
                  <a:cubicBezTo>
                    <a:pt x="597504" y="187649"/>
                    <a:pt x="585863" y="187918"/>
                    <a:pt x="571954" y="188187"/>
                  </a:cubicBezTo>
                  <a:cubicBezTo>
                    <a:pt x="558046" y="188456"/>
                    <a:pt x="544530" y="188857"/>
                    <a:pt x="531406" y="189390"/>
                  </a:cubicBezTo>
                  <a:lnTo>
                    <a:pt x="485956" y="190553"/>
                  </a:lnTo>
                  <a:lnTo>
                    <a:pt x="485956" y="215660"/>
                  </a:lnTo>
                  <a:lnTo>
                    <a:pt x="486180" y="216166"/>
                  </a:lnTo>
                  <a:lnTo>
                    <a:pt x="493508" y="216166"/>
                  </a:lnTo>
                  <a:cubicBezTo>
                    <a:pt x="515433" y="216166"/>
                    <a:pt x="536226" y="215841"/>
                    <a:pt x="555888" y="215190"/>
                  </a:cubicBezTo>
                  <a:cubicBezTo>
                    <a:pt x="575550" y="214539"/>
                    <a:pt x="595149" y="214334"/>
                    <a:pt x="614685" y="214573"/>
                  </a:cubicBezTo>
                  <a:cubicBezTo>
                    <a:pt x="616886" y="204875"/>
                    <a:pt x="617987" y="195811"/>
                    <a:pt x="617987" y="187381"/>
                  </a:cubicBezTo>
                  <a:close/>
                  <a:moveTo>
                    <a:pt x="953994" y="177192"/>
                  </a:moveTo>
                  <a:cubicBezTo>
                    <a:pt x="965027" y="177192"/>
                    <a:pt x="970544" y="182572"/>
                    <a:pt x="970544" y="193332"/>
                  </a:cubicBezTo>
                  <a:cubicBezTo>
                    <a:pt x="970544" y="204514"/>
                    <a:pt x="969405" y="215396"/>
                    <a:pt x="967129" y="225977"/>
                  </a:cubicBezTo>
                  <a:cubicBezTo>
                    <a:pt x="964853" y="236557"/>
                    <a:pt x="963715" y="247104"/>
                    <a:pt x="963715" y="257616"/>
                  </a:cubicBezTo>
                  <a:lnTo>
                    <a:pt x="963715" y="258205"/>
                  </a:lnTo>
                  <a:lnTo>
                    <a:pt x="973481" y="267600"/>
                  </a:lnTo>
                  <a:cubicBezTo>
                    <a:pt x="973635" y="267907"/>
                    <a:pt x="975063" y="268883"/>
                    <a:pt x="977766" y="270528"/>
                  </a:cubicBezTo>
                  <a:cubicBezTo>
                    <a:pt x="980468" y="272172"/>
                    <a:pt x="983876" y="274270"/>
                    <a:pt x="987989" y="276822"/>
                  </a:cubicBezTo>
                  <a:cubicBezTo>
                    <a:pt x="992102" y="279373"/>
                    <a:pt x="996049" y="281888"/>
                    <a:pt x="999831" y="284367"/>
                  </a:cubicBezTo>
                  <a:cubicBezTo>
                    <a:pt x="1003614" y="286845"/>
                    <a:pt x="1006509" y="288639"/>
                    <a:pt x="1008519" y="289749"/>
                  </a:cubicBezTo>
                  <a:cubicBezTo>
                    <a:pt x="1009713" y="290342"/>
                    <a:pt x="1012657" y="291912"/>
                    <a:pt x="1017350" y="294459"/>
                  </a:cubicBezTo>
                  <a:cubicBezTo>
                    <a:pt x="1022043" y="297006"/>
                    <a:pt x="1026973" y="299572"/>
                    <a:pt x="1032140" y="302158"/>
                  </a:cubicBezTo>
                  <a:cubicBezTo>
                    <a:pt x="1037993" y="304820"/>
                    <a:pt x="1043143" y="307401"/>
                    <a:pt x="1047589" y="309901"/>
                  </a:cubicBezTo>
                  <a:cubicBezTo>
                    <a:pt x="1052452" y="312597"/>
                    <a:pt x="1055513" y="314321"/>
                    <a:pt x="1056772" y="315072"/>
                  </a:cubicBezTo>
                  <a:cubicBezTo>
                    <a:pt x="1059972" y="316527"/>
                    <a:pt x="1063142" y="318659"/>
                    <a:pt x="1066282" y="321468"/>
                  </a:cubicBezTo>
                  <a:cubicBezTo>
                    <a:pt x="1069422" y="324278"/>
                    <a:pt x="1070992" y="327958"/>
                    <a:pt x="1070992" y="332508"/>
                  </a:cubicBezTo>
                  <a:cubicBezTo>
                    <a:pt x="1070992" y="337058"/>
                    <a:pt x="1069663" y="341196"/>
                    <a:pt x="1067005" y="344923"/>
                  </a:cubicBezTo>
                  <a:cubicBezTo>
                    <a:pt x="1064347" y="348650"/>
                    <a:pt x="1060294" y="350513"/>
                    <a:pt x="1054846" y="350513"/>
                  </a:cubicBezTo>
                  <a:cubicBezTo>
                    <a:pt x="1052640" y="350513"/>
                    <a:pt x="1051096" y="350336"/>
                    <a:pt x="1050216" y="349982"/>
                  </a:cubicBezTo>
                  <a:cubicBezTo>
                    <a:pt x="1049334" y="349628"/>
                    <a:pt x="1048041" y="349169"/>
                    <a:pt x="1046334" y="348606"/>
                  </a:cubicBezTo>
                  <a:cubicBezTo>
                    <a:pt x="1044261" y="347416"/>
                    <a:pt x="1041010" y="345790"/>
                    <a:pt x="1036581" y="343729"/>
                  </a:cubicBezTo>
                  <a:cubicBezTo>
                    <a:pt x="1034695" y="342091"/>
                    <a:pt x="1030854" y="340058"/>
                    <a:pt x="1025056" y="337631"/>
                  </a:cubicBezTo>
                  <a:cubicBezTo>
                    <a:pt x="1019257" y="335203"/>
                    <a:pt x="1014344" y="332949"/>
                    <a:pt x="1010314" y="330869"/>
                  </a:cubicBezTo>
                  <a:cubicBezTo>
                    <a:pt x="1006284" y="328790"/>
                    <a:pt x="1003399" y="327459"/>
                    <a:pt x="1001659" y="326879"/>
                  </a:cubicBezTo>
                  <a:cubicBezTo>
                    <a:pt x="992925" y="322242"/>
                    <a:pt x="984615" y="316915"/>
                    <a:pt x="976729" y="310899"/>
                  </a:cubicBezTo>
                  <a:cubicBezTo>
                    <a:pt x="968842" y="304884"/>
                    <a:pt x="961066" y="300274"/>
                    <a:pt x="953399" y="297070"/>
                  </a:cubicBezTo>
                  <a:cubicBezTo>
                    <a:pt x="953245" y="297305"/>
                    <a:pt x="952898" y="298960"/>
                    <a:pt x="952356" y="302036"/>
                  </a:cubicBezTo>
                  <a:cubicBezTo>
                    <a:pt x="952100" y="306379"/>
                    <a:pt x="951691" y="311144"/>
                    <a:pt x="951130" y="316330"/>
                  </a:cubicBezTo>
                  <a:cubicBezTo>
                    <a:pt x="950569" y="321515"/>
                    <a:pt x="948996" y="326120"/>
                    <a:pt x="946411" y="330143"/>
                  </a:cubicBezTo>
                  <a:cubicBezTo>
                    <a:pt x="943509" y="335954"/>
                    <a:pt x="938403" y="338859"/>
                    <a:pt x="931090" y="338859"/>
                  </a:cubicBezTo>
                  <a:cubicBezTo>
                    <a:pt x="924716" y="338859"/>
                    <a:pt x="920238" y="336709"/>
                    <a:pt x="917657" y="332409"/>
                  </a:cubicBezTo>
                  <a:cubicBezTo>
                    <a:pt x="916381" y="329217"/>
                    <a:pt x="915744" y="325181"/>
                    <a:pt x="915744" y="320300"/>
                  </a:cubicBezTo>
                  <a:cubicBezTo>
                    <a:pt x="915744" y="319494"/>
                    <a:pt x="915744" y="317921"/>
                    <a:pt x="915744" y="315581"/>
                  </a:cubicBezTo>
                  <a:cubicBezTo>
                    <a:pt x="915744" y="313241"/>
                    <a:pt x="915963" y="311855"/>
                    <a:pt x="916403" y="311424"/>
                  </a:cubicBezTo>
                  <a:lnTo>
                    <a:pt x="934226" y="215961"/>
                  </a:lnTo>
                  <a:cubicBezTo>
                    <a:pt x="934226" y="213465"/>
                    <a:pt x="934226" y="210133"/>
                    <a:pt x="934226" y="205965"/>
                  </a:cubicBezTo>
                  <a:cubicBezTo>
                    <a:pt x="934226" y="201797"/>
                    <a:pt x="934663" y="197670"/>
                    <a:pt x="935538" y="193585"/>
                  </a:cubicBezTo>
                  <a:cubicBezTo>
                    <a:pt x="936412" y="189500"/>
                    <a:pt x="938220" y="185747"/>
                    <a:pt x="940961" y="182325"/>
                  </a:cubicBezTo>
                  <a:cubicBezTo>
                    <a:pt x="943703" y="178903"/>
                    <a:pt x="948047" y="177192"/>
                    <a:pt x="953994" y="177192"/>
                  </a:cubicBezTo>
                  <a:close/>
                  <a:moveTo>
                    <a:pt x="105024" y="162070"/>
                  </a:moveTo>
                  <a:lnTo>
                    <a:pt x="105024" y="162793"/>
                  </a:lnTo>
                  <a:cubicBezTo>
                    <a:pt x="105024" y="163177"/>
                    <a:pt x="105080" y="163881"/>
                    <a:pt x="105193" y="164905"/>
                  </a:cubicBezTo>
                  <a:cubicBezTo>
                    <a:pt x="105306" y="165929"/>
                    <a:pt x="105423" y="167043"/>
                    <a:pt x="105542" y="168246"/>
                  </a:cubicBezTo>
                  <a:cubicBezTo>
                    <a:pt x="105662" y="169449"/>
                    <a:pt x="105862" y="170645"/>
                    <a:pt x="106144" y="171833"/>
                  </a:cubicBezTo>
                  <a:cubicBezTo>
                    <a:pt x="106425" y="173021"/>
                    <a:pt x="106587" y="173892"/>
                    <a:pt x="106630" y="174447"/>
                  </a:cubicBezTo>
                  <a:cubicBezTo>
                    <a:pt x="106630" y="176619"/>
                    <a:pt x="106816" y="179805"/>
                    <a:pt x="107187" y="184005"/>
                  </a:cubicBezTo>
                  <a:cubicBezTo>
                    <a:pt x="107558" y="188205"/>
                    <a:pt x="107876" y="192571"/>
                    <a:pt x="108140" y="197102"/>
                  </a:cubicBezTo>
                  <a:cubicBezTo>
                    <a:pt x="108682" y="202486"/>
                    <a:pt x="109096" y="207324"/>
                    <a:pt x="109382" y="211616"/>
                  </a:cubicBezTo>
                  <a:cubicBezTo>
                    <a:pt x="109689" y="216876"/>
                    <a:pt x="109843" y="219865"/>
                    <a:pt x="109843" y="220582"/>
                  </a:cubicBezTo>
                  <a:lnTo>
                    <a:pt x="110271" y="221267"/>
                  </a:lnTo>
                  <a:cubicBezTo>
                    <a:pt x="110271" y="221267"/>
                    <a:pt x="111194" y="221364"/>
                    <a:pt x="113039" y="221558"/>
                  </a:cubicBezTo>
                  <a:cubicBezTo>
                    <a:pt x="114884" y="221752"/>
                    <a:pt x="117682" y="222057"/>
                    <a:pt x="121432" y="222473"/>
                  </a:cubicBezTo>
                  <a:cubicBezTo>
                    <a:pt x="125182" y="222889"/>
                    <a:pt x="128613" y="223216"/>
                    <a:pt x="131723" y="223455"/>
                  </a:cubicBezTo>
                  <a:cubicBezTo>
                    <a:pt x="136040" y="223745"/>
                    <a:pt x="139274" y="224127"/>
                    <a:pt x="141425" y="224601"/>
                  </a:cubicBezTo>
                  <a:lnTo>
                    <a:pt x="146333" y="224601"/>
                  </a:lnTo>
                  <a:cubicBezTo>
                    <a:pt x="146231" y="224601"/>
                    <a:pt x="146619" y="224600"/>
                    <a:pt x="147498" y="224597"/>
                  </a:cubicBezTo>
                  <a:cubicBezTo>
                    <a:pt x="148377" y="224595"/>
                    <a:pt x="148765" y="224963"/>
                    <a:pt x="148663" y="225701"/>
                  </a:cubicBezTo>
                  <a:cubicBezTo>
                    <a:pt x="148663" y="223905"/>
                    <a:pt x="148730" y="220195"/>
                    <a:pt x="148864" y="214569"/>
                  </a:cubicBezTo>
                  <a:cubicBezTo>
                    <a:pt x="148999" y="208944"/>
                    <a:pt x="149133" y="202851"/>
                    <a:pt x="149267" y="196289"/>
                  </a:cubicBezTo>
                  <a:cubicBezTo>
                    <a:pt x="149402" y="189727"/>
                    <a:pt x="149535" y="183706"/>
                    <a:pt x="149667" y="178226"/>
                  </a:cubicBezTo>
                  <a:cubicBezTo>
                    <a:pt x="149800" y="172746"/>
                    <a:pt x="149866" y="168807"/>
                    <a:pt x="149866" y="166409"/>
                  </a:cubicBezTo>
                  <a:lnTo>
                    <a:pt x="149866" y="165609"/>
                  </a:lnTo>
                  <a:cubicBezTo>
                    <a:pt x="149866" y="165289"/>
                    <a:pt x="149436" y="164866"/>
                    <a:pt x="148576" y="164339"/>
                  </a:cubicBezTo>
                  <a:cubicBezTo>
                    <a:pt x="147717" y="163812"/>
                    <a:pt x="146120" y="163364"/>
                    <a:pt x="143786" y="162995"/>
                  </a:cubicBezTo>
                  <a:cubicBezTo>
                    <a:pt x="141452" y="162626"/>
                    <a:pt x="139195" y="162379"/>
                    <a:pt x="137015" y="162256"/>
                  </a:cubicBezTo>
                  <a:cubicBezTo>
                    <a:pt x="134835" y="162132"/>
                    <a:pt x="133252" y="162070"/>
                    <a:pt x="132267" y="162070"/>
                  </a:cubicBezTo>
                  <a:lnTo>
                    <a:pt x="117401" y="162070"/>
                  </a:lnTo>
                  <a:close/>
                  <a:moveTo>
                    <a:pt x="101389" y="125362"/>
                  </a:moveTo>
                  <a:cubicBezTo>
                    <a:pt x="105689" y="125626"/>
                    <a:pt x="109286" y="125759"/>
                    <a:pt x="112178" y="125759"/>
                  </a:cubicBezTo>
                  <a:lnTo>
                    <a:pt x="127448" y="125759"/>
                  </a:lnTo>
                  <a:cubicBezTo>
                    <a:pt x="127589" y="125759"/>
                    <a:pt x="129304" y="125923"/>
                    <a:pt x="132593" y="126251"/>
                  </a:cubicBezTo>
                  <a:cubicBezTo>
                    <a:pt x="135546" y="127058"/>
                    <a:pt x="138961" y="127669"/>
                    <a:pt x="142839" y="128085"/>
                  </a:cubicBezTo>
                  <a:cubicBezTo>
                    <a:pt x="146717" y="128501"/>
                    <a:pt x="150443" y="128965"/>
                    <a:pt x="154016" y="129477"/>
                  </a:cubicBezTo>
                  <a:cubicBezTo>
                    <a:pt x="157589" y="129989"/>
                    <a:pt x="160577" y="130511"/>
                    <a:pt x="162979" y="131045"/>
                  </a:cubicBezTo>
                  <a:cubicBezTo>
                    <a:pt x="168768" y="131958"/>
                    <a:pt x="173213" y="133476"/>
                    <a:pt x="176312" y="135598"/>
                  </a:cubicBezTo>
                  <a:cubicBezTo>
                    <a:pt x="179412" y="137721"/>
                    <a:pt x="182301" y="141630"/>
                    <a:pt x="184980" y="147325"/>
                  </a:cubicBezTo>
                  <a:lnTo>
                    <a:pt x="184980" y="161590"/>
                  </a:lnTo>
                  <a:lnTo>
                    <a:pt x="184980" y="174447"/>
                  </a:lnTo>
                  <a:cubicBezTo>
                    <a:pt x="184980" y="175113"/>
                    <a:pt x="184903" y="178793"/>
                    <a:pt x="184747" y="185489"/>
                  </a:cubicBezTo>
                  <a:cubicBezTo>
                    <a:pt x="184591" y="192186"/>
                    <a:pt x="184380" y="198671"/>
                    <a:pt x="184113" y="204944"/>
                  </a:cubicBezTo>
                  <a:cubicBezTo>
                    <a:pt x="183847" y="211218"/>
                    <a:pt x="183651" y="217157"/>
                    <a:pt x="183528" y="222761"/>
                  </a:cubicBezTo>
                  <a:cubicBezTo>
                    <a:pt x="183404" y="228365"/>
                    <a:pt x="183353" y="232472"/>
                    <a:pt x="183374" y="235083"/>
                  </a:cubicBezTo>
                  <a:cubicBezTo>
                    <a:pt x="181139" y="240297"/>
                    <a:pt x="179478" y="244111"/>
                    <a:pt x="178392" y="246526"/>
                  </a:cubicBezTo>
                  <a:cubicBezTo>
                    <a:pt x="177306" y="248941"/>
                    <a:pt x="175772" y="251305"/>
                    <a:pt x="173791" y="253620"/>
                  </a:cubicBezTo>
                  <a:cubicBezTo>
                    <a:pt x="171809" y="255934"/>
                    <a:pt x="169435" y="257661"/>
                    <a:pt x="166668" y="258800"/>
                  </a:cubicBezTo>
                  <a:cubicBezTo>
                    <a:pt x="163901" y="259939"/>
                    <a:pt x="160336" y="260509"/>
                    <a:pt x="155971" y="260509"/>
                  </a:cubicBezTo>
                  <a:cubicBezTo>
                    <a:pt x="144959" y="260509"/>
                    <a:pt x="134214" y="259971"/>
                    <a:pt x="123736" y="258896"/>
                  </a:cubicBezTo>
                  <a:cubicBezTo>
                    <a:pt x="113258" y="257821"/>
                    <a:pt x="102660" y="257145"/>
                    <a:pt x="91943" y="256868"/>
                  </a:cubicBezTo>
                  <a:cubicBezTo>
                    <a:pt x="86687" y="255225"/>
                    <a:pt x="82970" y="252981"/>
                    <a:pt x="80792" y="250135"/>
                  </a:cubicBezTo>
                  <a:cubicBezTo>
                    <a:pt x="78614" y="247289"/>
                    <a:pt x="76737" y="243503"/>
                    <a:pt x="75163" y="238776"/>
                  </a:cubicBezTo>
                  <a:cubicBezTo>
                    <a:pt x="74621" y="225277"/>
                    <a:pt x="73550" y="211584"/>
                    <a:pt x="71951" y="197697"/>
                  </a:cubicBezTo>
                  <a:cubicBezTo>
                    <a:pt x="70858" y="184074"/>
                    <a:pt x="70312" y="170298"/>
                    <a:pt x="70312" y="156368"/>
                  </a:cubicBezTo>
                  <a:lnTo>
                    <a:pt x="70312" y="142878"/>
                  </a:lnTo>
                  <a:cubicBezTo>
                    <a:pt x="70649" y="137809"/>
                    <a:pt x="72910" y="133756"/>
                    <a:pt x="77096" y="130718"/>
                  </a:cubicBezTo>
                  <a:cubicBezTo>
                    <a:pt x="80872" y="128969"/>
                    <a:pt x="84884" y="127487"/>
                    <a:pt x="89133" y="126271"/>
                  </a:cubicBezTo>
                  <a:cubicBezTo>
                    <a:pt x="94014" y="125665"/>
                    <a:pt x="98099" y="125362"/>
                    <a:pt x="101389" y="125362"/>
                  </a:cubicBezTo>
                  <a:close/>
                  <a:moveTo>
                    <a:pt x="140167" y="86932"/>
                  </a:moveTo>
                  <a:cubicBezTo>
                    <a:pt x="136325" y="86932"/>
                    <a:pt x="132472" y="86999"/>
                    <a:pt x="128606" y="87134"/>
                  </a:cubicBezTo>
                  <a:cubicBezTo>
                    <a:pt x="124741" y="87268"/>
                    <a:pt x="121006" y="87335"/>
                    <a:pt x="117401" y="87335"/>
                  </a:cubicBezTo>
                  <a:cubicBezTo>
                    <a:pt x="114457" y="87335"/>
                    <a:pt x="112850" y="87335"/>
                    <a:pt x="112582" y="87335"/>
                  </a:cubicBezTo>
                  <a:cubicBezTo>
                    <a:pt x="111101" y="87335"/>
                    <a:pt x="107764" y="87467"/>
                    <a:pt x="102569" y="87729"/>
                  </a:cubicBezTo>
                  <a:cubicBezTo>
                    <a:pt x="97375" y="87991"/>
                    <a:pt x="91111" y="88263"/>
                    <a:pt x="83777" y="88545"/>
                  </a:cubicBezTo>
                  <a:cubicBezTo>
                    <a:pt x="77390" y="88810"/>
                    <a:pt x="70917" y="89139"/>
                    <a:pt x="64357" y="89534"/>
                  </a:cubicBezTo>
                  <a:cubicBezTo>
                    <a:pt x="57798" y="89928"/>
                    <a:pt x="52959" y="90254"/>
                    <a:pt x="49840" y="90510"/>
                  </a:cubicBezTo>
                  <a:cubicBezTo>
                    <a:pt x="47677" y="90783"/>
                    <a:pt x="45217" y="91014"/>
                    <a:pt x="42461" y="91204"/>
                  </a:cubicBezTo>
                  <a:cubicBezTo>
                    <a:pt x="39705" y="91394"/>
                    <a:pt x="38327" y="90668"/>
                    <a:pt x="38327" y="89025"/>
                  </a:cubicBezTo>
                  <a:lnTo>
                    <a:pt x="36721" y="92238"/>
                  </a:lnTo>
                  <a:lnTo>
                    <a:pt x="36721" y="104941"/>
                  </a:lnTo>
                  <a:lnTo>
                    <a:pt x="36721" y="125938"/>
                  </a:lnTo>
                  <a:cubicBezTo>
                    <a:pt x="36943" y="130917"/>
                    <a:pt x="37188" y="137826"/>
                    <a:pt x="37457" y="146666"/>
                  </a:cubicBezTo>
                  <a:cubicBezTo>
                    <a:pt x="37725" y="155506"/>
                    <a:pt x="37994" y="164814"/>
                    <a:pt x="38263" y="174591"/>
                  </a:cubicBezTo>
                  <a:cubicBezTo>
                    <a:pt x="38532" y="184367"/>
                    <a:pt x="38796" y="193962"/>
                    <a:pt x="39057" y="203373"/>
                  </a:cubicBezTo>
                  <a:cubicBezTo>
                    <a:pt x="39863" y="213037"/>
                    <a:pt x="40400" y="221805"/>
                    <a:pt x="40669" y="229679"/>
                  </a:cubicBezTo>
                  <a:cubicBezTo>
                    <a:pt x="40938" y="237552"/>
                    <a:pt x="41145" y="244040"/>
                    <a:pt x="41290" y="249140"/>
                  </a:cubicBezTo>
                  <a:cubicBezTo>
                    <a:pt x="41435" y="254240"/>
                    <a:pt x="41518" y="257070"/>
                    <a:pt x="41540" y="257629"/>
                  </a:cubicBezTo>
                  <a:lnTo>
                    <a:pt x="44656" y="280853"/>
                  </a:lnTo>
                  <a:lnTo>
                    <a:pt x="211993" y="280853"/>
                  </a:lnTo>
                  <a:lnTo>
                    <a:pt x="225004" y="101056"/>
                  </a:lnTo>
                  <a:lnTo>
                    <a:pt x="225004" y="96097"/>
                  </a:lnTo>
                  <a:cubicBezTo>
                    <a:pt x="225004" y="93763"/>
                    <a:pt x="224447" y="92395"/>
                    <a:pt x="223333" y="91994"/>
                  </a:cubicBezTo>
                  <a:cubicBezTo>
                    <a:pt x="221213" y="91568"/>
                    <a:pt x="217998" y="91086"/>
                    <a:pt x="213689" y="90548"/>
                  </a:cubicBezTo>
                  <a:cubicBezTo>
                    <a:pt x="211569" y="90249"/>
                    <a:pt x="208914" y="89901"/>
                    <a:pt x="205725" y="89502"/>
                  </a:cubicBezTo>
                  <a:cubicBezTo>
                    <a:pt x="202536" y="89103"/>
                    <a:pt x="199352" y="88771"/>
                    <a:pt x="196173" y="88507"/>
                  </a:cubicBezTo>
                  <a:cubicBezTo>
                    <a:pt x="192995" y="88242"/>
                    <a:pt x="190217" y="87981"/>
                    <a:pt x="187841" y="87723"/>
                  </a:cubicBezTo>
                  <a:cubicBezTo>
                    <a:pt x="185465" y="87465"/>
                    <a:pt x="184179" y="87335"/>
                    <a:pt x="183985" y="87335"/>
                  </a:cubicBezTo>
                  <a:cubicBezTo>
                    <a:pt x="183791" y="87335"/>
                    <a:pt x="182256" y="87335"/>
                    <a:pt x="179381" y="87335"/>
                  </a:cubicBezTo>
                  <a:cubicBezTo>
                    <a:pt x="176505" y="87335"/>
                    <a:pt x="173263" y="87268"/>
                    <a:pt x="169653" y="87134"/>
                  </a:cubicBezTo>
                  <a:cubicBezTo>
                    <a:pt x="166044" y="86999"/>
                    <a:pt x="162326" y="86932"/>
                    <a:pt x="158499" y="86932"/>
                  </a:cubicBezTo>
                  <a:cubicBezTo>
                    <a:pt x="154672" y="86932"/>
                    <a:pt x="151620" y="86932"/>
                    <a:pt x="149344" y="86932"/>
                  </a:cubicBezTo>
                  <a:cubicBezTo>
                    <a:pt x="147068" y="86932"/>
                    <a:pt x="144009" y="86932"/>
                    <a:pt x="140167" y="86932"/>
                  </a:cubicBezTo>
                  <a:close/>
                  <a:moveTo>
                    <a:pt x="660256" y="84379"/>
                  </a:moveTo>
                  <a:cubicBezTo>
                    <a:pt x="665589" y="84379"/>
                    <a:pt x="671154" y="85146"/>
                    <a:pt x="676950" y="86680"/>
                  </a:cubicBezTo>
                  <a:cubicBezTo>
                    <a:pt x="682745" y="88213"/>
                    <a:pt x="685643" y="93093"/>
                    <a:pt x="685643" y="101319"/>
                  </a:cubicBezTo>
                  <a:cubicBezTo>
                    <a:pt x="685643" y="105231"/>
                    <a:pt x="684735" y="108702"/>
                    <a:pt x="682917" y="111731"/>
                  </a:cubicBezTo>
                  <a:cubicBezTo>
                    <a:pt x="681275" y="116240"/>
                    <a:pt x="677691" y="118681"/>
                    <a:pt x="672166" y="119052"/>
                  </a:cubicBezTo>
                  <a:lnTo>
                    <a:pt x="573561" y="124300"/>
                  </a:lnTo>
                  <a:cubicBezTo>
                    <a:pt x="573885" y="124300"/>
                    <a:pt x="573622" y="124603"/>
                    <a:pt x="572773" y="125208"/>
                  </a:cubicBezTo>
                  <a:cubicBezTo>
                    <a:pt x="571357" y="127192"/>
                    <a:pt x="570232" y="128839"/>
                    <a:pt x="569398" y="130149"/>
                  </a:cubicBezTo>
                  <a:cubicBezTo>
                    <a:pt x="568564" y="131459"/>
                    <a:pt x="567383" y="133201"/>
                    <a:pt x="565856" y="135377"/>
                  </a:cubicBezTo>
                  <a:cubicBezTo>
                    <a:pt x="564563" y="138483"/>
                    <a:pt x="563014" y="141425"/>
                    <a:pt x="561209" y="144202"/>
                  </a:cubicBezTo>
                  <a:cubicBezTo>
                    <a:pt x="559405" y="146980"/>
                    <a:pt x="557996" y="149271"/>
                    <a:pt x="556983" y="151076"/>
                  </a:cubicBezTo>
                  <a:lnTo>
                    <a:pt x="556253" y="152265"/>
                  </a:lnTo>
                  <a:lnTo>
                    <a:pt x="589656" y="151677"/>
                  </a:lnTo>
                  <a:cubicBezTo>
                    <a:pt x="601576" y="151276"/>
                    <a:pt x="613189" y="151076"/>
                    <a:pt x="624495" y="151076"/>
                  </a:cubicBezTo>
                  <a:cubicBezTo>
                    <a:pt x="633796" y="151076"/>
                    <a:pt x="640927" y="153089"/>
                    <a:pt x="645889" y="157117"/>
                  </a:cubicBezTo>
                  <a:cubicBezTo>
                    <a:pt x="651499" y="162070"/>
                    <a:pt x="654305" y="169321"/>
                    <a:pt x="654305" y="178869"/>
                  </a:cubicBezTo>
                  <a:cubicBezTo>
                    <a:pt x="654305" y="197944"/>
                    <a:pt x="653099" y="216658"/>
                    <a:pt x="650689" y="235010"/>
                  </a:cubicBezTo>
                  <a:cubicBezTo>
                    <a:pt x="648278" y="253362"/>
                    <a:pt x="647073" y="271881"/>
                    <a:pt x="647073" y="290568"/>
                  </a:cubicBezTo>
                  <a:cubicBezTo>
                    <a:pt x="647073" y="291639"/>
                    <a:pt x="647073" y="293708"/>
                    <a:pt x="647073" y="296776"/>
                  </a:cubicBezTo>
                  <a:cubicBezTo>
                    <a:pt x="647073" y="299843"/>
                    <a:pt x="647140" y="302789"/>
                    <a:pt x="647275" y="305613"/>
                  </a:cubicBezTo>
                  <a:cubicBezTo>
                    <a:pt x="647409" y="308438"/>
                    <a:pt x="647476" y="310989"/>
                    <a:pt x="647476" y="313267"/>
                  </a:cubicBezTo>
                  <a:cubicBezTo>
                    <a:pt x="647476" y="315546"/>
                    <a:pt x="647476" y="317032"/>
                    <a:pt x="647476" y="317728"/>
                  </a:cubicBezTo>
                  <a:cubicBezTo>
                    <a:pt x="649277" y="321849"/>
                    <a:pt x="650329" y="325798"/>
                    <a:pt x="650634" y="329574"/>
                  </a:cubicBezTo>
                  <a:cubicBezTo>
                    <a:pt x="650939" y="333349"/>
                    <a:pt x="651092" y="337355"/>
                    <a:pt x="651092" y="341592"/>
                  </a:cubicBezTo>
                  <a:cubicBezTo>
                    <a:pt x="651092" y="341451"/>
                    <a:pt x="651019" y="342911"/>
                    <a:pt x="650874" y="345973"/>
                  </a:cubicBezTo>
                  <a:cubicBezTo>
                    <a:pt x="650729" y="349034"/>
                    <a:pt x="650667" y="350910"/>
                    <a:pt x="650689" y="351601"/>
                  </a:cubicBezTo>
                  <a:cubicBezTo>
                    <a:pt x="649170" y="357309"/>
                    <a:pt x="646366" y="361144"/>
                    <a:pt x="642276" y="363104"/>
                  </a:cubicBezTo>
                  <a:cubicBezTo>
                    <a:pt x="638187" y="365065"/>
                    <a:pt x="634203" y="366493"/>
                    <a:pt x="630325" y="367389"/>
                  </a:cubicBezTo>
                  <a:lnTo>
                    <a:pt x="533691" y="367389"/>
                  </a:lnTo>
                  <a:cubicBezTo>
                    <a:pt x="532706" y="367389"/>
                    <a:pt x="530605" y="367455"/>
                    <a:pt x="527391" y="367587"/>
                  </a:cubicBezTo>
                  <a:cubicBezTo>
                    <a:pt x="524176" y="367719"/>
                    <a:pt x="520608" y="367851"/>
                    <a:pt x="516687" y="367981"/>
                  </a:cubicBezTo>
                  <a:cubicBezTo>
                    <a:pt x="512766" y="368111"/>
                    <a:pt x="508905" y="368312"/>
                    <a:pt x="505104" y="368586"/>
                  </a:cubicBezTo>
                  <a:cubicBezTo>
                    <a:pt x="501303" y="368859"/>
                    <a:pt x="498510" y="368995"/>
                    <a:pt x="496727" y="368995"/>
                  </a:cubicBezTo>
                  <a:cubicBezTo>
                    <a:pt x="496629" y="368995"/>
                    <a:pt x="495709" y="369062"/>
                    <a:pt x="493969" y="369197"/>
                  </a:cubicBezTo>
                  <a:cubicBezTo>
                    <a:pt x="492228" y="369331"/>
                    <a:pt x="490486" y="369464"/>
                    <a:pt x="488743" y="369597"/>
                  </a:cubicBezTo>
                  <a:cubicBezTo>
                    <a:pt x="487001" y="369729"/>
                    <a:pt x="485170" y="369862"/>
                    <a:pt x="483253" y="369997"/>
                  </a:cubicBezTo>
                  <a:cubicBezTo>
                    <a:pt x="481335" y="370131"/>
                    <a:pt x="480201" y="370198"/>
                    <a:pt x="479851" y="370198"/>
                  </a:cubicBezTo>
                  <a:lnTo>
                    <a:pt x="479045" y="370198"/>
                  </a:lnTo>
                  <a:cubicBezTo>
                    <a:pt x="471788" y="370198"/>
                    <a:pt x="466298" y="367852"/>
                    <a:pt x="462575" y="363159"/>
                  </a:cubicBezTo>
                  <a:cubicBezTo>
                    <a:pt x="458853" y="358466"/>
                    <a:pt x="456697" y="353175"/>
                    <a:pt x="456109" y="347288"/>
                  </a:cubicBezTo>
                  <a:cubicBezTo>
                    <a:pt x="455819" y="343555"/>
                    <a:pt x="455540" y="337876"/>
                    <a:pt x="455274" y="330252"/>
                  </a:cubicBezTo>
                  <a:cubicBezTo>
                    <a:pt x="455007" y="322628"/>
                    <a:pt x="454470" y="313848"/>
                    <a:pt x="453664" y="303911"/>
                  </a:cubicBezTo>
                  <a:cubicBezTo>
                    <a:pt x="453391" y="294073"/>
                    <a:pt x="453053" y="283874"/>
                    <a:pt x="452650" y="273315"/>
                  </a:cubicBezTo>
                  <a:cubicBezTo>
                    <a:pt x="452246" y="262755"/>
                    <a:pt x="451780" y="252563"/>
                    <a:pt x="451251" y="242737"/>
                  </a:cubicBezTo>
                  <a:cubicBezTo>
                    <a:pt x="450983" y="233462"/>
                    <a:pt x="450449" y="224825"/>
                    <a:pt x="449651" y="216825"/>
                  </a:cubicBezTo>
                  <a:cubicBezTo>
                    <a:pt x="449374" y="209052"/>
                    <a:pt x="449235" y="203365"/>
                    <a:pt x="449235" y="199764"/>
                  </a:cubicBezTo>
                  <a:lnTo>
                    <a:pt x="449235" y="186504"/>
                  </a:lnTo>
                  <a:lnTo>
                    <a:pt x="449235" y="172956"/>
                  </a:lnTo>
                  <a:cubicBezTo>
                    <a:pt x="449581" y="169163"/>
                    <a:pt x="450999" y="166022"/>
                    <a:pt x="453488" y="163532"/>
                  </a:cubicBezTo>
                  <a:cubicBezTo>
                    <a:pt x="455977" y="161043"/>
                    <a:pt x="458791" y="159170"/>
                    <a:pt x="461929" y="157914"/>
                  </a:cubicBezTo>
                  <a:cubicBezTo>
                    <a:pt x="465067" y="156657"/>
                    <a:pt x="468279" y="155806"/>
                    <a:pt x="471564" y="155360"/>
                  </a:cubicBezTo>
                  <a:cubicBezTo>
                    <a:pt x="474849" y="154914"/>
                    <a:pt x="477611" y="154691"/>
                    <a:pt x="479851" y="154691"/>
                  </a:cubicBezTo>
                  <a:cubicBezTo>
                    <a:pt x="481396" y="154691"/>
                    <a:pt x="483774" y="154557"/>
                    <a:pt x="486987" y="154288"/>
                  </a:cubicBezTo>
                  <a:cubicBezTo>
                    <a:pt x="490818" y="154288"/>
                    <a:pt x="494240" y="154172"/>
                    <a:pt x="497252" y="153939"/>
                  </a:cubicBezTo>
                  <a:cubicBezTo>
                    <a:pt x="500264" y="153707"/>
                    <a:pt x="503754" y="153288"/>
                    <a:pt x="507721" y="152682"/>
                  </a:cubicBezTo>
                  <a:cubicBezTo>
                    <a:pt x="511105" y="152682"/>
                    <a:pt x="513249" y="152682"/>
                    <a:pt x="514153" y="152682"/>
                  </a:cubicBezTo>
                  <a:cubicBezTo>
                    <a:pt x="513616" y="152955"/>
                    <a:pt x="513810" y="152629"/>
                    <a:pt x="514736" y="151703"/>
                  </a:cubicBezTo>
                  <a:cubicBezTo>
                    <a:pt x="515661" y="150777"/>
                    <a:pt x="516126" y="150310"/>
                    <a:pt x="516131" y="150301"/>
                  </a:cubicBezTo>
                  <a:cubicBezTo>
                    <a:pt x="517560" y="147805"/>
                    <a:pt x="519294" y="145131"/>
                    <a:pt x="521334" y="142279"/>
                  </a:cubicBezTo>
                  <a:cubicBezTo>
                    <a:pt x="523373" y="139427"/>
                    <a:pt x="525221" y="136660"/>
                    <a:pt x="526879" y="133979"/>
                  </a:cubicBezTo>
                  <a:lnTo>
                    <a:pt x="530472" y="127943"/>
                  </a:lnTo>
                  <a:lnTo>
                    <a:pt x="489524" y="128520"/>
                  </a:lnTo>
                  <a:cubicBezTo>
                    <a:pt x="473967" y="128923"/>
                    <a:pt x="458018" y="129125"/>
                    <a:pt x="441678" y="129125"/>
                  </a:cubicBezTo>
                  <a:lnTo>
                    <a:pt x="426043" y="129125"/>
                  </a:lnTo>
                  <a:cubicBezTo>
                    <a:pt x="421440" y="127973"/>
                    <a:pt x="418329" y="125777"/>
                    <a:pt x="416709" y="122537"/>
                  </a:cubicBezTo>
                  <a:cubicBezTo>
                    <a:pt x="415090" y="119296"/>
                    <a:pt x="414281" y="115573"/>
                    <a:pt x="414281" y="111366"/>
                  </a:cubicBezTo>
                  <a:cubicBezTo>
                    <a:pt x="414281" y="108508"/>
                    <a:pt x="415080" y="105036"/>
                    <a:pt x="416677" y="100951"/>
                  </a:cubicBezTo>
                  <a:cubicBezTo>
                    <a:pt x="418275" y="96866"/>
                    <a:pt x="422016" y="94823"/>
                    <a:pt x="427899" y="94823"/>
                  </a:cubicBezTo>
                  <a:lnTo>
                    <a:pt x="650113" y="84808"/>
                  </a:lnTo>
                  <a:cubicBezTo>
                    <a:pt x="651282" y="84786"/>
                    <a:pt x="652974" y="84715"/>
                    <a:pt x="655191" y="84593"/>
                  </a:cubicBezTo>
                  <a:cubicBezTo>
                    <a:pt x="657407" y="84472"/>
                    <a:pt x="659096" y="84400"/>
                    <a:pt x="660256" y="84379"/>
                  </a:cubicBezTo>
                  <a:close/>
                  <a:moveTo>
                    <a:pt x="102989" y="52637"/>
                  </a:moveTo>
                  <a:cubicBezTo>
                    <a:pt x="106973" y="52637"/>
                    <a:pt x="111644" y="52637"/>
                    <a:pt x="117001" y="52637"/>
                  </a:cubicBezTo>
                  <a:cubicBezTo>
                    <a:pt x="122357" y="52637"/>
                    <a:pt x="127848" y="52637"/>
                    <a:pt x="133473" y="52637"/>
                  </a:cubicBezTo>
                  <a:cubicBezTo>
                    <a:pt x="139098" y="52637"/>
                    <a:pt x="143517" y="52637"/>
                    <a:pt x="146730" y="52637"/>
                  </a:cubicBezTo>
                  <a:cubicBezTo>
                    <a:pt x="148607" y="52637"/>
                    <a:pt x="151956" y="52637"/>
                    <a:pt x="156777" y="52637"/>
                  </a:cubicBezTo>
                  <a:cubicBezTo>
                    <a:pt x="161598" y="52637"/>
                    <a:pt x="166338" y="52637"/>
                    <a:pt x="170997" y="52637"/>
                  </a:cubicBezTo>
                  <a:cubicBezTo>
                    <a:pt x="175656" y="52637"/>
                    <a:pt x="180817" y="52708"/>
                    <a:pt x="186481" y="52851"/>
                  </a:cubicBezTo>
                  <a:cubicBezTo>
                    <a:pt x="192145" y="52994"/>
                    <a:pt x="195900" y="53055"/>
                    <a:pt x="197748" y="53034"/>
                  </a:cubicBezTo>
                  <a:cubicBezTo>
                    <a:pt x="204791" y="53912"/>
                    <a:pt x="211921" y="54687"/>
                    <a:pt x="219135" y="55357"/>
                  </a:cubicBezTo>
                  <a:cubicBezTo>
                    <a:pt x="226350" y="56026"/>
                    <a:pt x="232986" y="57223"/>
                    <a:pt x="239044" y="58947"/>
                  </a:cubicBezTo>
                  <a:cubicBezTo>
                    <a:pt x="245653" y="61357"/>
                    <a:pt x="250873" y="65069"/>
                    <a:pt x="254704" y="70082"/>
                  </a:cubicBezTo>
                  <a:cubicBezTo>
                    <a:pt x="259384" y="75381"/>
                    <a:pt x="261725" y="82713"/>
                    <a:pt x="261725" y="92078"/>
                  </a:cubicBezTo>
                  <a:lnTo>
                    <a:pt x="261725" y="97946"/>
                  </a:lnTo>
                  <a:cubicBezTo>
                    <a:pt x="258179" y="131749"/>
                    <a:pt x="255007" y="164909"/>
                    <a:pt x="252208" y="197428"/>
                  </a:cubicBezTo>
                  <a:cubicBezTo>
                    <a:pt x="249410" y="229947"/>
                    <a:pt x="248682" y="262960"/>
                    <a:pt x="250026" y="296468"/>
                  </a:cubicBezTo>
                  <a:cubicBezTo>
                    <a:pt x="249309" y="303260"/>
                    <a:pt x="245856" y="307960"/>
                    <a:pt x="239665" y="310567"/>
                  </a:cubicBezTo>
                  <a:cubicBezTo>
                    <a:pt x="234541" y="312973"/>
                    <a:pt x="229539" y="314637"/>
                    <a:pt x="224658" y="315558"/>
                  </a:cubicBezTo>
                  <a:cubicBezTo>
                    <a:pt x="220656" y="315558"/>
                    <a:pt x="214905" y="315558"/>
                    <a:pt x="207405" y="315558"/>
                  </a:cubicBezTo>
                  <a:cubicBezTo>
                    <a:pt x="199904" y="315558"/>
                    <a:pt x="191466" y="315624"/>
                    <a:pt x="182091" y="315757"/>
                  </a:cubicBezTo>
                  <a:cubicBezTo>
                    <a:pt x="172716" y="315889"/>
                    <a:pt x="162872" y="316022"/>
                    <a:pt x="152560" y="316157"/>
                  </a:cubicBezTo>
                  <a:cubicBezTo>
                    <a:pt x="142248" y="316291"/>
                    <a:pt x="132337" y="316426"/>
                    <a:pt x="122827" y="316560"/>
                  </a:cubicBezTo>
                  <a:cubicBezTo>
                    <a:pt x="113318" y="316694"/>
                    <a:pt x="104880" y="316761"/>
                    <a:pt x="97514" y="316761"/>
                  </a:cubicBezTo>
                  <a:cubicBezTo>
                    <a:pt x="90148" y="316761"/>
                    <a:pt x="84724" y="316761"/>
                    <a:pt x="81243" y="316761"/>
                  </a:cubicBezTo>
                  <a:cubicBezTo>
                    <a:pt x="80436" y="316761"/>
                    <a:pt x="79060" y="316761"/>
                    <a:pt x="77115" y="316761"/>
                  </a:cubicBezTo>
                  <a:cubicBezTo>
                    <a:pt x="75170" y="316761"/>
                    <a:pt x="72869" y="316829"/>
                    <a:pt x="70213" y="316963"/>
                  </a:cubicBezTo>
                  <a:cubicBezTo>
                    <a:pt x="67557" y="317097"/>
                    <a:pt x="64536" y="317165"/>
                    <a:pt x="61148" y="317165"/>
                  </a:cubicBezTo>
                  <a:cubicBezTo>
                    <a:pt x="58473" y="317165"/>
                    <a:pt x="56532" y="317165"/>
                    <a:pt x="55324" y="317165"/>
                  </a:cubicBezTo>
                  <a:cubicBezTo>
                    <a:pt x="54117" y="317165"/>
                    <a:pt x="52265" y="317165"/>
                    <a:pt x="49769" y="317165"/>
                  </a:cubicBezTo>
                  <a:cubicBezTo>
                    <a:pt x="47274" y="317165"/>
                    <a:pt x="44687" y="317097"/>
                    <a:pt x="42010" y="316963"/>
                  </a:cubicBezTo>
                  <a:cubicBezTo>
                    <a:pt x="39333" y="316829"/>
                    <a:pt x="36764" y="316761"/>
                    <a:pt x="34305" y="316761"/>
                  </a:cubicBezTo>
                  <a:cubicBezTo>
                    <a:pt x="31845" y="316761"/>
                    <a:pt x="30212" y="316761"/>
                    <a:pt x="29406" y="316761"/>
                  </a:cubicBezTo>
                  <a:cubicBezTo>
                    <a:pt x="24150" y="316761"/>
                    <a:pt x="19809" y="314857"/>
                    <a:pt x="16383" y="311047"/>
                  </a:cubicBezTo>
                  <a:cubicBezTo>
                    <a:pt x="14314" y="308393"/>
                    <a:pt x="12606" y="305047"/>
                    <a:pt x="11260" y="301009"/>
                  </a:cubicBezTo>
                  <a:cubicBezTo>
                    <a:pt x="9914" y="296971"/>
                    <a:pt x="8919" y="293145"/>
                    <a:pt x="8274" y="289531"/>
                  </a:cubicBezTo>
                  <a:cubicBezTo>
                    <a:pt x="7630" y="285918"/>
                    <a:pt x="7157" y="282750"/>
                    <a:pt x="6854" y="280028"/>
                  </a:cubicBezTo>
                  <a:cubicBezTo>
                    <a:pt x="6576" y="274968"/>
                    <a:pt x="6304" y="267362"/>
                    <a:pt x="6038" y="257210"/>
                  </a:cubicBezTo>
                  <a:cubicBezTo>
                    <a:pt x="5771" y="247058"/>
                    <a:pt x="5235" y="235501"/>
                    <a:pt x="4428" y="222540"/>
                  </a:cubicBezTo>
                  <a:cubicBezTo>
                    <a:pt x="4155" y="209894"/>
                    <a:pt x="3750" y="196317"/>
                    <a:pt x="3212" y="181807"/>
                  </a:cubicBezTo>
                  <a:cubicBezTo>
                    <a:pt x="2948" y="167924"/>
                    <a:pt x="2547" y="154397"/>
                    <a:pt x="2009" y="141227"/>
                  </a:cubicBezTo>
                  <a:cubicBezTo>
                    <a:pt x="1740" y="128679"/>
                    <a:pt x="1406" y="117327"/>
                    <a:pt x="1004" y="107171"/>
                  </a:cubicBezTo>
                  <a:cubicBezTo>
                    <a:pt x="603" y="97015"/>
                    <a:pt x="269" y="89516"/>
                    <a:pt x="0" y="84673"/>
                  </a:cubicBezTo>
                  <a:lnTo>
                    <a:pt x="0" y="80027"/>
                  </a:lnTo>
                  <a:cubicBezTo>
                    <a:pt x="0" y="75198"/>
                    <a:pt x="1147" y="71390"/>
                    <a:pt x="3443" y="68604"/>
                  </a:cubicBezTo>
                  <a:cubicBezTo>
                    <a:pt x="5738" y="65818"/>
                    <a:pt x="8510" y="63574"/>
                    <a:pt x="11759" y="61871"/>
                  </a:cubicBezTo>
                  <a:cubicBezTo>
                    <a:pt x="15008" y="60169"/>
                    <a:pt x="18427" y="58960"/>
                    <a:pt x="22018" y="58243"/>
                  </a:cubicBezTo>
                  <a:cubicBezTo>
                    <a:pt x="25608" y="57526"/>
                    <a:pt x="29035" y="56875"/>
                    <a:pt x="32299" y="56291"/>
                  </a:cubicBezTo>
                  <a:cubicBezTo>
                    <a:pt x="34419" y="56056"/>
                    <a:pt x="38483" y="55734"/>
                    <a:pt x="44490" y="55325"/>
                  </a:cubicBezTo>
                  <a:cubicBezTo>
                    <a:pt x="50497" y="54915"/>
                    <a:pt x="56953" y="54575"/>
                    <a:pt x="63858" y="54304"/>
                  </a:cubicBezTo>
                  <a:cubicBezTo>
                    <a:pt x="70763" y="54033"/>
                    <a:pt x="77455" y="53754"/>
                    <a:pt x="83934" y="53466"/>
                  </a:cubicBezTo>
                  <a:cubicBezTo>
                    <a:pt x="90412" y="53178"/>
                    <a:pt x="94471" y="53034"/>
                    <a:pt x="96109" y="53034"/>
                  </a:cubicBezTo>
                  <a:cubicBezTo>
                    <a:pt x="96975" y="53034"/>
                    <a:pt x="99268" y="52901"/>
                    <a:pt x="102989" y="52637"/>
                  </a:cubicBezTo>
                  <a:close/>
                  <a:moveTo>
                    <a:pt x="1049624" y="19685"/>
                  </a:moveTo>
                  <a:lnTo>
                    <a:pt x="1058461" y="19685"/>
                  </a:lnTo>
                  <a:cubicBezTo>
                    <a:pt x="1062945" y="19685"/>
                    <a:pt x="1067829" y="20624"/>
                    <a:pt x="1073113" y="22501"/>
                  </a:cubicBezTo>
                  <a:cubicBezTo>
                    <a:pt x="1078397" y="24378"/>
                    <a:pt x="1081039" y="28687"/>
                    <a:pt x="1081039" y="35428"/>
                  </a:cubicBezTo>
                  <a:cubicBezTo>
                    <a:pt x="1081039" y="39136"/>
                    <a:pt x="1079675" y="43290"/>
                    <a:pt x="1076947" y="47891"/>
                  </a:cubicBezTo>
                  <a:cubicBezTo>
                    <a:pt x="1074218" y="52493"/>
                    <a:pt x="1070066" y="54793"/>
                    <a:pt x="1064490" y="54793"/>
                  </a:cubicBezTo>
                  <a:lnTo>
                    <a:pt x="989461" y="54793"/>
                  </a:lnTo>
                  <a:lnTo>
                    <a:pt x="975766" y="96992"/>
                  </a:lnTo>
                  <a:lnTo>
                    <a:pt x="975766" y="98842"/>
                  </a:lnTo>
                  <a:lnTo>
                    <a:pt x="1061674" y="98842"/>
                  </a:lnTo>
                  <a:cubicBezTo>
                    <a:pt x="1066098" y="98842"/>
                    <a:pt x="1069360" y="100310"/>
                    <a:pt x="1071459" y="103245"/>
                  </a:cubicBezTo>
                  <a:cubicBezTo>
                    <a:pt x="1073562" y="105655"/>
                    <a:pt x="1075001" y="108330"/>
                    <a:pt x="1075776" y="111270"/>
                  </a:cubicBezTo>
                  <a:cubicBezTo>
                    <a:pt x="1076550" y="114210"/>
                    <a:pt x="1077018" y="117295"/>
                    <a:pt x="1077180" y="120527"/>
                  </a:cubicBezTo>
                  <a:cubicBezTo>
                    <a:pt x="1077342" y="123759"/>
                    <a:pt x="1077424" y="125929"/>
                    <a:pt x="1077424" y="127039"/>
                  </a:cubicBezTo>
                  <a:lnTo>
                    <a:pt x="1077424" y="137867"/>
                  </a:lnTo>
                  <a:lnTo>
                    <a:pt x="1067267" y="265366"/>
                  </a:lnTo>
                  <a:cubicBezTo>
                    <a:pt x="1066990" y="267866"/>
                    <a:pt x="1066642" y="270586"/>
                    <a:pt x="1066224" y="273526"/>
                  </a:cubicBezTo>
                  <a:cubicBezTo>
                    <a:pt x="1065806" y="276465"/>
                    <a:pt x="1064848" y="279132"/>
                    <a:pt x="1063351" y="281525"/>
                  </a:cubicBezTo>
                  <a:cubicBezTo>
                    <a:pt x="1062387" y="284426"/>
                    <a:pt x="1060545" y="286872"/>
                    <a:pt x="1057828" y="288862"/>
                  </a:cubicBezTo>
                  <a:cubicBezTo>
                    <a:pt x="1055110" y="290853"/>
                    <a:pt x="1051838" y="291848"/>
                    <a:pt x="1048011" y="291848"/>
                  </a:cubicBezTo>
                  <a:cubicBezTo>
                    <a:pt x="1045161" y="291848"/>
                    <a:pt x="1041825" y="290847"/>
                    <a:pt x="1038002" y="288846"/>
                  </a:cubicBezTo>
                  <a:cubicBezTo>
                    <a:pt x="1034179" y="286845"/>
                    <a:pt x="1032268" y="283804"/>
                    <a:pt x="1032268" y="279721"/>
                  </a:cubicBezTo>
                  <a:lnTo>
                    <a:pt x="1032268" y="254576"/>
                  </a:lnTo>
                  <a:lnTo>
                    <a:pt x="1041509" y="134347"/>
                  </a:lnTo>
                  <a:lnTo>
                    <a:pt x="1040498" y="133944"/>
                  </a:lnTo>
                  <a:lnTo>
                    <a:pt x="894043" y="133944"/>
                  </a:lnTo>
                  <a:lnTo>
                    <a:pt x="890920" y="261770"/>
                  </a:lnTo>
                  <a:cubicBezTo>
                    <a:pt x="890510" y="265831"/>
                    <a:pt x="888380" y="268914"/>
                    <a:pt x="884530" y="271017"/>
                  </a:cubicBezTo>
                  <a:cubicBezTo>
                    <a:pt x="880679" y="273120"/>
                    <a:pt x="877316" y="274172"/>
                    <a:pt x="874441" y="274172"/>
                  </a:cubicBezTo>
                  <a:cubicBezTo>
                    <a:pt x="870729" y="274172"/>
                    <a:pt x="867254" y="272808"/>
                    <a:pt x="864016" y="270080"/>
                  </a:cubicBezTo>
                  <a:cubicBezTo>
                    <a:pt x="860778" y="267351"/>
                    <a:pt x="858602" y="264131"/>
                    <a:pt x="857488" y="260419"/>
                  </a:cubicBezTo>
                  <a:lnTo>
                    <a:pt x="857488" y="229893"/>
                  </a:lnTo>
                  <a:lnTo>
                    <a:pt x="857488" y="199764"/>
                  </a:lnTo>
                  <a:cubicBezTo>
                    <a:pt x="857488" y="196777"/>
                    <a:pt x="857554" y="191209"/>
                    <a:pt x="857687" y="183058"/>
                  </a:cubicBezTo>
                  <a:cubicBezTo>
                    <a:pt x="857819" y="174907"/>
                    <a:pt x="857885" y="166354"/>
                    <a:pt x="857885" y="157398"/>
                  </a:cubicBezTo>
                  <a:cubicBezTo>
                    <a:pt x="858427" y="148166"/>
                    <a:pt x="858831" y="139561"/>
                    <a:pt x="859098" y="131582"/>
                  </a:cubicBezTo>
                  <a:cubicBezTo>
                    <a:pt x="859364" y="123604"/>
                    <a:pt x="859498" y="117734"/>
                    <a:pt x="859498" y="113971"/>
                  </a:cubicBezTo>
                  <a:cubicBezTo>
                    <a:pt x="860547" y="109760"/>
                    <a:pt x="863476" y="106051"/>
                    <a:pt x="868284" y="102845"/>
                  </a:cubicBezTo>
                  <a:cubicBezTo>
                    <a:pt x="873092" y="99639"/>
                    <a:pt x="877690" y="98036"/>
                    <a:pt x="882075" y="98036"/>
                  </a:cubicBezTo>
                  <a:lnTo>
                    <a:pt x="936066" y="98036"/>
                  </a:lnTo>
                  <a:lnTo>
                    <a:pt x="936616" y="97495"/>
                  </a:lnTo>
                  <a:cubicBezTo>
                    <a:pt x="937002" y="97109"/>
                    <a:pt x="937536" y="96118"/>
                    <a:pt x="938219" y="94522"/>
                  </a:cubicBezTo>
                  <a:cubicBezTo>
                    <a:pt x="938774" y="93601"/>
                    <a:pt x="939051" y="92997"/>
                    <a:pt x="939051" y="92711"/>
                  </a:cubicBezTo>
                  <a:cubicBezTo>
                    <a:pt x="939981" y="89917"/>
                    <a:pt x="941116" y="86510"/>
                    <a:pt x="942456" y="82491"/>
                  </a:cubicBezTo>
                  <a:cubicBezTo>
                    <a:pt x="943795" y="78472"/>
                    <a:pt x="945068" y="74722"/>
                    <a:pt x="946273" y="71240"/>
                  </a:cubicBezTo>
                  <a:cubicBezTo>
                    <a:pt x="947478" y="67759"/>
                    <a:pt x="948552" y="64715"/>
                    <a:pt x="949495" y="62108"/>
                  </a:cubicBezTo>
                  <a:cubicBezTo>
                    <a:pt x="950302" y="59181"/>
                    <a:pt x="950705" y="57279"/>
                    <a:pt x="950705" y="56400"/>
                  </a:cubicBezTo>
                  <a:cubicBezTo>
                    <a:pt x="942535" y="56400"/>
                    <a:pt x="933033" y="56600"/>
                    <a:pt x="922201" y="57001"/>
                  </a:cubicBezTo>
                  <a:cubicBezTo>
                    <a:pt x="911368" y="57402"/>
                    <a:pt x="900404" y="57603"/>
                    <a:pt x="889307" y="57603"/>
                  </a:cubicBezTo>
                  <a:lnTo>
                    <a:pt x="874921" y="57603"/>
                  </a:lnTo>
                  <a:cubicBezTo>
                    <a:pt x="869494" y="57240"/>
                    <a:pt x="865567" y="55064"/>
                    <a:pt x="863139" y="51075"/>
                  </a:cubicBezTo>
                  <a:cubicBezTo>
                    <a:pt x="860711" y="47086"/>
                    <a:pt x="859498" y="43076"/>
                    <a:pt x="859498" y="39044"/>
                  </a:cubicBezTo>
                  <a:cubicBezTo>
                    <a:pt x="859498" y="35725"/>
                    <a:pt x="860435" y="32529"/>
                    <a:pt x="862310" y="29457"/>
                  </a:cubicBezTo>
                  <a:cubicBezTo>
                    <a:pt x="864185" y="26386"/>
                    <a:pt x="867073" y="24201"/>
                    <a:pt x="870972" y="22904"/>
                  </a:cubicBezTo>
                  <a:cubicBezTo>
                    <a:pt x="878562" y="22904"/>
                    <a:pt x="886296" y="22847"/>
                    <a:pt x="894174" y="22731"/>
                  </a:cubicBezTo>
                  <a:cubicBezTo>
                    <a:pt x="902052" y="22616"/>
                    <a:pt x="911860" y="22358"/>
                    <a:pt x="923599" y="21957"/>
                  </a:cubicBezTo>
                  <a:cubicBezTo>
                    <a:pt x="935338" y="21556"/>
                    <a:pt x="947670" y="21288"/>
                    <a:pt x="960595" y="21154"/>
                  </a:cubicBezTo>
                  <a:cubicBezTo>
                    <a:pt x="973520" y="21020"/>
                    <a:pt x="985819" y="20818"/>
                    <a:pt x="997492" y="20549"/>
                  </a:cubicBezTo>
                  <a:cubicBezTo>
                    <a:pt x="1009165" y="20280"/>
                    <a:pt x="1019695" y="20075"/>
                    <a:pt x="1029081" y="19932"/>
                  </a:cubicBezTo>
                  <a:cubicBezTo>
                    <a:pt x="1038467" y="19789"/>
                    <a:pt x="1045314" y="19707"/>
                    <a:pt x="1049624" y="19685"/>
                  </a:cubicBezTo>
                  <a:close/>
                  <a:moveTo>
                    <a:pt x="481861" y="11654"/>
                  </a:moveTo>
                  <a:cubicBezTo>
                    <a:pt x="486072" y="11654"/>
                    <a:pt x="490271" y="13359"/>
                    <a:pt x="494458" y="16770"/>
                  </a:cubicBezTo>
                  <a:cubicBezTo>
                    <a:pt x="498646" y="20181"/>
                    <a:pt x="502222" y="24146"/>
                    <a:pt x="505187" y="28664"/>
                  </a:cubicBezTo>
                  <a:cubicBezTo>
                    <a:pt x="508152" y="33182"/>
                    <a:pt x="510710" y="37809"/>
                    <a:pt x="512860" y="42545"/>
                  </a:cubicBezTo>
                  <a:cubicBezTo>
                    <a:pt x="515011" y="47280"/>
                    <a:pt x="516086" y="51338"/>
                    <a:pt x="516086" y="54717"/>
                  </a:cubicBezTo>
                  <a:cubicBezTo>
                    <a:pt x="516086" y="65750"/>
                    <a:pt x="510838" y="71266"/>
                    <a:pt x="500343" y="71266"/>
                  </a:cubicBezTo>
                  <a:cubicBezTo>
                    <a:pt x="495931" y="71266"/>
                    <a:pt x="492189" y="70133"/>
                    <a:pt x="489115" y="67868"/>
                  </a:cubicBezTo>
                  <a:cubicBezTo>
                    <a:pt x="486041" y="65602"/>
                    <a:pt x="483437" y="63116"/>
                    <a:pt x="481304" y="60409"/>
                  </a:cubicBezTo>
                  <a:cubicBezTo>
                    <a:pt x="479171" y="57702"/>
                    <a:pt x="477246" y="54963"/>
                    <a:pt x="475528" y="52192"/>
                  </a:cubicBezTo>
                  <a:cubicBezTo>
                    <a:pt x="473811" y="49421"/>
                    <a:pt x="472100" y="46757"/>
                    <a:pt x="470396" y="44199"/>
                  </a:cubicBezTo>
                  <a:cubicBezTo>
                    <a:pt x="468691" y="41641"/>
                    <a:pt x="467216" y="39194"/>
                    <a:pt x="465970" y="36859"/>
                  </a:cubicBezTo>
                  <a:cubicBezTo>
                    <a:pt x="464725" y="34523"/>
                    <a:pt x="464102" y="31635"/>
                    <a:pt x="464102" y="28197"/>
                  </a:cubicBezTo>
                  <a:cubicBezTo>
                    <a:pt x="464102" y="23717"/>
                    <a:pt x="465826" y="19840"/>
                    <a:pt x="469276" y="16565"/>
                  </a:cubicBezTo>
                  <a:cubicBezTo>
                    <a:pt x="472725" y="13291"/>
                    <a:pt x="476920" y="11654"/>
                    <a:pt x="481861" y="11654"/>
                  </a:cubicBezTo>
                  <a:close/>
                  <a:moveTo>
                    <a:pt x="618870" y="0"/>
                  </a:moveTo>
                  <a:cubicBezTo>
                    <a:pt x="623593" y="0"/>
                    <a:pt x="627599" y="1279"/>
                    <a:pt x="630888" y="3837"/>
                  </a:cubicBezTo>
                  <a:cubicBezTo>
                    <a:pt x="634178" y="6394"/>
                    <a:pt x="635822" y="10229"/>
                    <a:pt x="635822" y="15340"/>
                  </a:cubicBezTo>
                  <a:lnTo>
                    <a:pt x="635822" y="17529"/>
                  </a:lnTo>
                  <a:lnTo>
                    <a:pt x="618691" y="68514"/>
                  </a:lnTo>
                  <a:cubicBezTo>
                    <a:pt x="617616" y="71748"/>
                    <a:pt x="615401" y="74623"/>
                    <a:pt x="612048" y="77138"/>
                  </a:cubicBezTo>
                  <a:cubicBezTo>
                    <a:pt x="608695" y="79653"/>
                    <a:pt x="605209" y="80910"/>
                    <a:pt x="601591" y="80910"/>
                  </a:cubicBezTo>
                  <a:cubicBezTo>
                    <a:pt x="595968" y="80910"/>
                    <a:pt x="591669" y="79074"/>
                    <a:pt x="588696" y="75400"/>
                  </a:cubicBezTo>
                  <a:cubicBezTo>
                    <a:pt x="585722" y="71727"/>
                    <a:pt x="584235" y="67375"/>
                    <a:pt x="584235" y="62345"/>
                  </a:cubicBezTo>
                  <a:lnTo>
                    <a:pt x="584235" y="61046"/>
                  </a:lnTo>
                  <a:lnTo>
                    <a:pt x="599684" y="13042"/>
                  </a:lnTo>
                  <a:cubicBezTo>
                    <a:pt x="600998" y="9365"/>
                    <a:pt x="603495" y="6272"/>
                    <a:pt x="607175" y="3763"/>
                  </a:cubicBezTo>
                  <a:cubicBezTo>
                    <a:pt x="610854" y="1254"/>
                    <a:pt x="614753" y="0"/>
                    <a:pt x="618870" y="0"/>
                  </a:cubicBez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6" descr="06草"/>
          <p:cNvPicPr/>
          <p:nvPr/>
        </p:nvPicPr>
        <p:blipFill>
          <a:blip r:embed="rId1"/>
          <a:stretch/>
        </p:blipFill>
        <p:spPr>
          <a:xfrm>
            <a:off x="498600" y="1114560"/>
            <a:ext cx="2762280" cy="276228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8"/>
          <p:cNvSpPr/>
          <p:nvPr/>
        </p:nvSpPr>
        <p:spPr>
          <a:xfrm>
            <a:off x="1127160" y="100080"/>
            <a:ext cx="150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宋体"/>
                <a:ea typeface="宋体"/>
              </a:rPr>
              <a:t>cǎ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18"/>
          <p:cNvGrpSpPr/>
          <p:nvPr/>
        </p:nvGrpSpPr>
        <p:grpSpPr>
          <a:xfrm>
            <a:off x="2598840" y="4091040"/>
            <a:ext cx="3903480" cy="683640"/>
            <a:chOff x="2598840" y="4091040"/>
            <a:chExt cx="3903480" cy="683640"/>
          </a:xfrm>
        </p:grpSpPr>
        <p:pic>
          <p:nvPicPr>
            <p:cNvPr id="103" name="图片 19" descr=""/>
            <p:cNvPicPr/>
            <p:nvPr/>
          </p:nvPicPr>
          <p:blipFill>
            <a:blip r:embed="rId2"/>
            <a:srcRect l="488" t="0" r="0" b="0"/>
            <a:stretch/>
          </p:blipFill>
          <p:spPr>
            <a:xfrm>
              <a:off x="2598840" y="4091040"/>
              <a:ext cx="390348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20"/>
            <p:cNvSpPr/>
            <p:nvPr/>
          </p:nvSpPr>
          <p:spPr>
            <a:xfrm>
              <a:off x="2598840" y="4543200"/>
              <a:ext cx="352440" cy="23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文本框 2"/>
          <p:cNvSpPr/>
          <p:nvPr/>
        </p:nvSpPr>
        <p:spPr>
          <a:xfrm>
            <a:off x="4168800" y="1192320"/>
            <a:ext cx="2762280" cy="25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构：</a:t>
            </a:r>
            <a:r>
              <a:rPr b="1" lang="zh-CN" sz="2800" spc="-1" strike="noStrike">
                <a:solidFill>
                  <a:srgbClr val="ee1a20"/>
                </a:solidFill>
                <a:latin typeface="宋体"/>
                <a:ea typeface="宋体"/>
              </a:rPr>
              <a:t>上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词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青</a:t>
            </a:r>
            <a:r>
              <a:rPr b="1" lang="zh-CN" sz="2800" spc="-1" strike="noStrike">
                <a:solidFill>
                  <a:srgbClr val="ee1a20"/>
                </a:solidFill>
                <a:latin typeface="宋体"/>
                <a:ea typeface="宋体"/>
              </a:rPr>
              <a:t>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绿</a:t>
            </a:r>
            <a:r>
              <a:rPr b="1" lang="zh-CN" sz="2800" spc="-1" strike="noStrike">
                <a:solidFill>
                  <a:srgbClr val="ee1a20"/>
                </a:solidFill>
                <a:latin typeface="宋体"/>
                <a:ea typeface="宋体"/>
              </a:rPr>
              <a:t>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2"/>
          <p:cNvSpPr/>
          <p:nvPr/>
        </p:nvSpPr>
        <p:spPr>
          <a:xfrm>
            <a:off x="1420920" y="3968640"/>
            <a:ext cx="133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笔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1" descr=""/>
          <p:cNvPicPr/>
          <p:nvPr/>
        </p:nvPicPr>
        <p:blipFill>
          <a:blip r:embed="rId3"/>
          <a:stretch/>
        </p:blipFill>
        <p:spPr>
          <a:xfrm>
            <a:off x="5310360" y="1484280"/>
            <a:ext cx="404640" cy="192240"/>
          </a:xfrm>
          <a:prstGeom prst="rect">
            <a:avLst/>
          </a:prstGeom>
          <a:ln w="0">
            <a:noFill/>
          </a:ln>
        </p:spPr>
      </p:pic>
      <p:grpSp>
        <p:nvGrpSpPr>
          <p:cNvPr id="108" name="组合 1"/>
          <p:cNvGrpSpPr/>
          <p:nvPr/>
        </p:nvGrpSpPr>
        <p:grpSpPr>
          <a:xfrm>
            <a:off x="7192800" y="1380960"/>
            <a:ext cx="1241640" cy="1882800"/>
            <a:chOff x="7192800" y="1380960"/>
            <a:chExt cx="1241640" cy="1882800"/>
          </a:xfrm>
        </p:grpSpPr>
        <p:pic>
          <p:nvPicPr>
            <p:cNvPr id="109" name="图片 10" descr=""/>
            <p:cNvPicPr/>
            <p:nvPr/>
          </p:nvPicPr>
          <p:blipFill>
            <a:blip r:embed="rId4"/>
            <a:stretch/>
          </p:blipFill>
          <p:spPr>
            <a:xfrm>
              <a:off x="7192800" y="1726920"/>
              <a:ext cx="12416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任意多边形: 形状 14">
              <a:hlinkClick r:id="" action="ppaction://hlinkshowjump?jump=firstslide"/>
            </p:cNvPr>
            <p:cNvSpPr/>
            <p:nvPr/>
          </p:nvSpPr>
          <p:spPr>
            <a:xfrm>
              <a:off x="7276680" y="1380960"/>
              <a:ext cx="1081440" cy="369720"/>
            </a:xfrm>
            <a:custGeom>
              <a:avLst/>
              <a:gdLst/>
              <a:ahLst/>
              <a:rect l="l" t="t" r="r" b="b"/>
              <a:pathLst>
                <a:path w="1081039" h="370198">
                  <a:moveTo>
                    <a:pt x="610032" y="293857"/>
                  </a:moveTo>
                  <a:cubicBezTo>
                    <a:pt x="606056" y="293857"/>
                    <a:pt x="599112" y="293992"/>
                    <a:pt x="589201" y="294260"/>
                  </a:cubicBezTo>
                  <a:cubicBezTo>
                    <a:pt x="579824" y="294529"/>
                    <a:pt x="569616" y="294796"/>
                    <a:pt x="558579" y="295060"/>
                  </a:cubicBezTo>
                  <a:cubicBezTo>
                    <a:pt x="547832" y="295862"/>
                    <a:pt x="537584" y="296396"/>
                    <a:pt x="527835" y="296660"/>
                  </a:cubicBezTo>
                  <a:cubicBezTo>
                    <a:pt x="518087" y="296925"/>
                    <a:pt x="511158" y="297196"/>
                    <a:pt x="507050" y="297473"/>
                  </a:cubicBezTo>
                  <a:cubicBezTo>
                    <a:pt x="506090" y="297473"/>
                    <a:pt x="503871" y="297675"/>
                    <a:pt x="500394" y="298078"/>
                  </a:cubicBezTo>
                  <a:cubicBezTo>
                    <a:pt x="496917" y="298481"/>
                    <a:pt x="494470" y="298749"/>
                    <a:pt x="493054" y="298881"/>
                  </a:cubicBezTo>
                  <a:cubicBezTo>
                    <a:pt x="491637" y="299013"/>
                    <a:pt x="490572" y="299216"/>
                    <a:pt x="489857" y="299489"/>
                  </a:cubicBezTo>
                  <a:cubicBezTo>
                    <a:pt x="489142" y="299762"/>
                    <a:pt x="488913" y="299579"/>
                    <a:pt x="489169" y="298939"/>
                  </a:cubicBezTo>
                  <a:lnTo>
                    <a:pt x="489169" y="309850"/>
                  </a:lnTo>
                  <a:lnTo>
                    <a:pt x="489169" y="321209"/>
                  </a:lnTo>
                  <a:cubicBezTo>
                    <a:pt x="489382" y="322903"/>
                    <a:pt x="489608" y="325261"/>
                    <a:pt x="489847" y="328284"/>
                  </a:cubicBezTo>
                  <a:cubicBezTo>
                    <a:pt x="490086" y="331307"/>
                    <a:pt x="490118" y="332731"/>
                    <a:pt x="489943" y="332556"/>
                  </a:cubicBezTo>
                  <a:lnTo>
                    <a:pt x="490103" y="332684"/>
                  </a:lnTo>
                  <a:lnTo>
                    <a:pt x="501949" y="332684"/>
                  </a:lnTo>
                  <a:cubicBezTo>
                    <a:pt x="522735" y="332684"/>
                    <a:pt x="542638" y="332349"/>
                    <a:pt x="561657" y="331679"/>
                  </a:cubicBezTo>
                  <a:cubicBezTo>
                    <a:pt x="580677" y="331009"/>
                    <a:pt x="598248" y="330674"/>
                    <a:pt x="614371" y="330674"/>
                  </a:cubicBezTo>
                  <a:cubicBezTo>
                    <a:pt x="614371" y="326596"/>
                    <a:pt x="613840" y="320836"/>
                    <a:pt x="612777" y="313395"/>
                  </a:cubicBezTo>
                  <a:lnTo>
                    <a:pt x="610934" y="293857"/>
                  </a:lnTo>
                  <a:close/>
                  <a:moveTo>
                    <a:pt x="552935" y="248855"/>
                  </a:moveTo>
                  <a:cubicBezTo>
                    <a:pt x="542192" y="248855"/>
                    <a:pt x="530385" y="249380"/>
                    <a:pt x="517513" y="250430"/>
                  </a:cubicBezTo>
                  <a:cubicBezTo>
                    <a:pt x="515094" y="250967"/>
                    <a:pt x="512009" y="251376"/>
                    <a:pt x="508259" y="251655"/>
                  </a:cubicBezTo>
                  <a:cubicBezTo>
                    <a:pt x="504509" y="251934"/>
                    <a:pt x="501038" y="252208"/>
                    <a:pt x="497847" y="252474"/>
                  </a:cubicBezTo>
                  <a:cubicBezTo>
                    <a:pt x="494656" y="252741"/>
                    <a:pt x="491742" y="253009"/>
                    <a:pt x="489105" y="253277"/>
                  </a:cubicBezTo>
                  <a:lnTo>
                    <a:pt x="487563" y="253452"/>
                  </a:lnTo>
                  <a:lnTo>
                    <a:pt x="487563" y="263171"/>
                  </a:lnTo>
                  <a:lnTo>
                    <a:pt x="490295" y="263171"/>
                  </a:lnTo>
                  <a:cubicBezTo>
                    <a:pt x="494681" y="263171"/>
                    <a:pt x="498549" y="262923"/>
                    <a:pt x="501898" y="262426"/>
                  </a:cubicBezTo>
                  <a:cubicBezTo>
                    <a:pt x="505247" y="261929"/>
                    <a:pt x="509569" y="261241"/>
                    <a:pt x="514863" y="260362"/>
                  </a:cubicBezTo>
                  <a:lnTo>
                    <a:pt x="611171" y="260362"/>
                  </a:lnTo>
                  <a:lnTo>
                    <a:pt x="612765" y="249207"/>
                  </a:lnTo>
                  <a:lnTo>
                    <a:pt x="612406" y="248855"/>
                  </a:lnTo>
                  <a:lnTo>
                    <a:pt x="589937" y="248855"/>
                  </a:lnTo>
                  <a:cubicBezTo>
                    <a:pt x="576012" y="248855"/>
                    <a:pt x="563678" y="248855"/>
                    <a:pt x="552935" y="248855"/>
                  </a:cubicBezTo>
                  <a:close/>
                  <a:moveTo>
                    <a:pt x="606877" y="187381"/>
                  </a:moveTo>
                  <a:cubicBezTo>
                    <a:pt x="597504" y="187649"/>
                    <a:pt x="585863" y="187918"/>
                    <a:pt x="571954" y="188187"/>
                  </a:cubicBezTo>
                  <a:cubicBezTo>
                    <a:pt x="558046" y="188456"/>
                    <a:pt x="544530" y="188857"/>
                    <a:pt x="531406" y="189390"/>
                  </a:cubicBezTo>
                  <a:lnTo>
                    <a:pt x="485956" y="190553"/>
                  </a:lnTo>
                  <a:lnTo>
                    <a:pt x="485956" y="215660"/>
                  </a:lnTo>
                  <a:lnTo>
                    <a:pt x="486180" y="216166"/>
                  </a:lnTo>
                  <a:lnTo>
                    <a:pt x="493508" y="216166"/>
                  </a:lnTo>
                  <a:cubicBezTo>
                    <a:pt x="515433" y="216166"/>
                    <a:pt x="536226" y="215841"/>
                    <a:pt x="555888" y="215190"/>
                  </a:cubicBezTo>
                  <a:cubicBezTo>
                    <a:pt x="575550" y="214539"/>
                    <a:pt x="595149" y="214334"/>
                    <a:pt x="614685" y="214573"/>
                  </a:cubicBezTo>
                  <a:cubicBezTo>
                    <a:pt x="616886" y="204875"/>
                    <a:pt x="617987" y="195811"/>
                    <a:pt x="617987" y="187381"/>
                  </a:cubicBezTo>
                  <a:close/>
                  <a:moveTo>
                    <a:pt x="953994" y="177192"/>
                  </a:moveTo>
                  <a:cubicBezTo>
                    <a:pt x="965027" y="177192"/>
                    <a:pt x="970544" y="182572"/>
                    <a:pt x="970544" y="193332"/>
                  </a:cubicBezTo>
                  <a:cubicBezTo>
                    <a:pt x="970544" y="204514"/>
                    <a:pt x="969405" y="215396"/>
                    <a:pt x="967129" y="225977"/>
                  </a:cubicBezTo>
                  <a:cubicBezTo>
                    <a:pt x="964853" y="236557"/>
                    <a:pt x="963715" y="247104"/>
                    <a:pt x="963715" y="257616"/>
                  </a:cubicBezTo>
                  <a:lnTo>
                    <a:pt x="963715" y="258205"/>
                  </a:lnTo>
                  <a:lnTo>
                    <a:pt x="973481" y="267600"/>
                  </a:lnTo>
                  <a:cubicBezTo>
                    <a:pt x="973635" y="267907"/>
                    <a:pt x="975063" y="268883"/>
                    <a:pt x="977766" y="270528"/>
                  </a:cubicBezTo>
                  <a:cubicBezTo>
                    <a:pt x="980468" y="272172"/>
                    <a:pt x="983876" y="274270"/>
                    <a:pt x="987989" y="276822"/>
                  </a:cubicBezTo>
                  <a:cubicBezTo>
                    <a:pt x="992102" y="279373"/>
                    <a:pt x="996049" y="281888"/>
                    <a:pt x="999831" y="284367"/>
                  </a:cubicBezTo>
                  <a:cubicBezTo>
                    <a:pt x="1003614" y="286845"/>
                    <a:pt x="1006509" y="288639"/>
                    <a:pt x="1008519" y="289749"/>
                  </a:cubicBezTo>
                  <a:cubicBezTo>
                    <a:pt x="1009713" y="290342"/>
                    <a:pt x="1012657" y="291912"/>
                    <a:pt x="1017350" y="294459"/>
                  </a:cubicBezTo>
                  <a:cubicBezTo>
                    <a:pt x="1022043" y="297006"/>
                    <a:pt x="1026973" y="299572"/>
                    <a:pt x="1032140" y="302158"/>
                  </a:cubicBezTo>
                  <a:cubicBezTo>
                    <a:pt x="1037993" y="304820"/>
                    <a:pt x="1043143" y="307401"/>
                    <a:pt x="1047589" y="309901"/>
                  </a:cubicBezTo>
                  <a:cubicBezTo>
                    <a:pt x="1052452" y="312597"/>
                    <a:pt x="1055513" y="314321"/>
                    <a:pt x="1056772" y="315072"/>
                  </a:cubicBezTo>
                  <a:cubicBezTo>
                    <a:pt x="1059972" y="316527"/>
                    <a:pt x="1063142" y="318659"/>
                    <a:pt x="1066282" y="321468"/>
                  </a:cubicBezTo>
                  <a:cubicBezTo>
                    <a:pt x="1069422" y="324278"/>
                    <a:pt x="1070992" y="327958"/>
                    <a:pt x="1070992" y="332508"/>
                  </a:cubicBezTo>
                  <a:cubicBezTo>
                    <a:pt x="1070992" y="337058"/>
                    <a:pt x="1069663" y="341196"/>
                    <a:pt x="1067005" y="344923"/>
                  </a:cubicBezTo>
                  <a:cubicBezTo>
                    <a:pt x="1064347" y="348650"/>
                    <a:pt x="1060294" y="350513"/>
                    <a:pt x="1054846" y="350513"/>
                  </a:cubicBezTo>
                  <a:cubicBezTo>
                    <a:pt x="1052640" y="350513"/>
                    <a:pt x="1051096" y="350336"/>
                    <a:pt x="1050216" y="349982"/>
                  </a:cubicBezTo>
                  <a:cubicBezTo>
                    <a:pt x="1049334" y="349628"/>
                    <a:pt x="1048041" y="349169"/>
                    <a:pt x="1046334" y="348606"/>
                  </a:cubicBezTo>
                  <a:cubicBezTo>
                    <a:pt x="1044261" y="347416"/>
                    <a:pt x="1041010" y="345790"/>
                    <a:pt x="1036581" y="343729"/>
                  </a:cubicBezTo>
                  <a:cubicBezTo>
                    <a:pt x="1034695" y="342091"/>
                    <a:pt x="1030854" y="340058"/>
                    <a:pt x="1025056" y="337631"/>
                  </a:cubicBezTo>
                  <a:cubicBezTo>
                    <a:pt x="1019257" y="335203"/>
                    <a:pt x="1014344" y="332949"/>
                    <a:pt x="1010314" y="330869"/>
                  </a:cubicBezTo>
                  <a:cubicBezTo>
                    <a:pt x="1006284" y="328790"/>
                    <a:pt x="1003399" y="327459"/>
                    <a:pt x="1001659" y="326879"/>
                  </a:cubicBezTo>
                  <a:cubicBezTo>
                    <a:pt x="992925" y="322242"/>
                    <a:pt x="984615" y="316915"/>
                    <a:pt x="976729" y="310899"/>
                  </a:cubicBezTo>
                  <a:cubicBezTo>
                    <a:pt x="968842" y="304884"/>
                    <a:pt x="961066" y="300274"/>
                    <a:pt x="953399" y="297070"/>
                  </a:cubicBezTo>
                  <a:cubicBezTo>
                    <a:pt x="953245" y="297305"/>
                    <a:pt x="952898" y="298960"/>
                    <a:pt x="952356" y="302036"/>
                  </a:cubicBezTo>
                  <a:cubicBezTo>
                    <a:pt x="952100" y="306379"/>
                    <a:pt x="951691" y="311144"/>
                    <a:pt x="951130" y="316330"/>
                  </a:cubicBezTo>
                  <a:cubicBezTo>
                    <a:pt x="950569" y="321515"/>
                    <a:pt x="948996" y="326120"/>
                    <a:pt x="946411" y="330143"/>
                  </a:cubicBezTo>
                  <a:cubicBezTo>
                    <a:pt x="943509" y="335954"/>
                    <a:pt x="938403" y="338859"/>
                    <a:pt x="931090" y="338859"/>
                  </a:cubicBezTo>
                  <a:cubicBezTo>
                    <a:pt x="924716" y="338859"/>
                    <a:pt x="920238" y="336709"/>
                    <a:pt x="917657" y="332409"/>
                  </a:cubicBezTo>
                  <a:cubicBezTo>
                    <a:pt x="916381" y="329217"/>
                    <a:pt x="915744" y="325181"/>
                    <a:pt x="915744" y="320300"/>
                  </a:cubicBezTo>
                  <a:cubicBezTo>
                    <a:pt x="915744" y="319494"/>
                    <a:pt x="915744" y="317921"/>
                    <a:pt x="915744" y="315581"/>
                  </a:cubicBezTo>
                  <a:cubicBezTo>
                    <a:pt x="915744" y="313241"/>
                    <a:pt x="915963" y="311855"/>
                    <a:pt x="916403" y="311424"/>
                  </a:cubicBezTo>
                  <a:lnTo>
                    <a:pt x="934226" y="215961"/>
                  </a:lnTo>
                  <a:cubicBezTo>
                    <a:pt x="934226" y="213465"/>
                    <a:pt x="934226" y="210133"/>
                    <a:pt x="934226" y="205965"/>
                  </a:cubicBezTo>
                  <a:cubicBezTo>
                    <a:pt x="934226" y="201797"/>
                    <a:pt x="934663" y="197670"/>
                    <a:pt x="935538" y="193585"/>
                  </a:cubicBezTo>
                  <a:cubicBezTo>
                    <a:pt x="936412" y="189500"/>
                    <a:pt x="938220" y="185747"/>
                    <a:pt x="940961" y="182325"/>
                  </a:cubicBezTo>
                  <a:cubicBezTo>
                    <a:pt x="943703" y="178903"/>
                    <a:pt x="948047" y="177192"/>
                    <a:pt x="953994" y="177192"/>
                  </a:cubicBezTo>
                  <a:close/>
                  <a:moveTo>
                    <a:pt x="105024" y="162070"/>
                  </a:moveTo>
                  <a:lnTo>
                    <a:pt x="105024" y="162793"/>
                  </a:lnTo>
                  <a:cubicBezTo>
                    <a:pt x="105024" y="163177"/>
                    <a:pt x="105080" y="163881"/>
                    <a:pt x="105193" y="164905"/>
                  </a:cubicBezTo>
                  <a:cubicBezTo>
                    <a:pt x="105306" y="165929"/>
                    <a:pt x="105423" y="167043"/>
                    <a:pt x="105542" y="168246"/>
                  </a:cubicBezTo>
                  <a:cubicBezTo>
                    <a:pt x="105662" y="169449"/>
                    <a:pt x="105862" y="170645"/>
                    <a:pt x="106144" y="171833"/>
                  </a:cubicBezTo>
                  <a:cubicBezTo>
                    <a:pt x="106425" y="173021"/>
                    <a:pt x="106587" y="173892"/>
                    <a:pt x="106630" y="174447"/>
                  </a:cubicBezTo>
                  <a:cubicBezTo>
                    <a:pt x="106630" y="176619"/>
                    <a:pt x="106816" y="179805"/>
                    <a:pt x="107187" y="184005"/>
                  </a:cubicBezTo>
                  <a:cubicBezTo>
                    <a:pt x="107558" y="188205"/>
                    <a:pt x="107876" y="192571"/>
                    <a:pt x="108140" y="197102"/>
                  </a:cubicBezTo>
                  <a:cubicBezTo>
                    <a:pt x="108682" y="202486"/>
                    <a:pt x="109096" y="207324"/>
                    <a:pt x="109382" y="211616"/>
                  </a:cubicBezTo>
                  <a:cubicBezTo>
                    <a:pt x="109689" y="216876"/>
                    <a:pt x="109843" y="219865"/>
                    <a:pt x="109843" y="220582"/>
                  </a:cubicBezTo>
                  <a:lnTo>
                    <a:pt x="110271" y="221267"/>
                  </a:lnTo>
                  <a:cubicBezTo>
                    <a:pt x="110271" y="221267"/>
                    <a:pt x="111194" y="221364"/>
                    <a:pt x="113039" y="221558"/>
                  </a:cubicBezTo>
                  <a:cubicBezTo>
                    <a:pt x="114884" y="221752"/>
                    <a:pt x="117682" y="222057"/>
                    <a:pt x="121432" y="222473"/>
                  </a:cubicBezTo>
                  <a:cubicBezTo>
                    <a:pt x="125182" y="222889"/>
                    <a:pt x="128613" y="223216"/>
                    <a:pt x="131723" y="223455"/>
                  </a:cubicBezTo>
                  <a:cubicBezTo>
                    <a:pt x="136040" y="223745"/>
                    <a:pt x="139274" y="224127"/>
                    <a:pt x="141425" y="224601"/>
                  </a:cubicBezTo>
                  <a:lnTo>
                    <a:pt x="146333" y="224601"/>
                  </a:lnTo>
                  <a:cubicBezTo>
                    <a:pt x="146231" y="224601"/>
                    <a:pt x="146619" y="224600"/>
                    <a:pt x="147498" y="224597"/>
                  </a:cubicBezTo>
                  <a:cubicBezTo>
                    <a:pt x="148377" y="224595"/>
                    <a:pt x="148765" y="224963"/>
                    <a:pt x="148663" y="225701"/>
                  </a:cubicBezTo>
                  <a:cubicBezTo>
                    <a:pt x="148663" y="223905"/>
                    <a:pt x="148730" y="220195"/>
                    <a:pt x="148864" y="214569"/>
                  </a:cubicBezTo>
                  <a:cubicBezTo>
                    <a:pt x="148999" y="208944"/>
                    <a:pt x="149133" y="202851"/>
                    <a:pt x="149267" y="196289"/>
                  </a:cubicBezTo>
                  <a:cubicBezTo>
                    <a:pt x="149402" y="189727"/>
                    <a:pt x="149535" y="183706"/>
                    <a:pt x="149667" y="178226"/>
                  </a:cubicBezTo>
                  <a:cubicBezTo>
                    <a:pt x="149800" y="172746"/>
                    <a:pt x="149866" y="168807"/>
                    <a:pt x="149866" y="166409"/>
                  </a:cubicBezTo>
                  <a:lnTo>
                    <a:pt x="149866" y="165609"/>
                  </a:lnTo>
                  <a:cubicBezTo>
                    <a:pt x="149866" y="165289"/>
                    <a:pt x="149436" y="164866"/>
                    <a:pt x="148576" y="164339"/>
                  </a:cubicBezTo>
                  <a:cubicBezTo>
                    <a:pt x="147717" y="163812"/>
                    <a:pt x="146120" y="163364"/>
                    <a:pt x="143786" y="162995"/>
                  </a:cubicBezTo>
                  <a:cubicBezTo>
                    <a:pt x="141452" y="162626"/>
                    <a:pt x="139195" y="162379"/>
                    <a:pt x="137015" y="162256"/>
                  </a:cubicBezTo>
                  <a:cubicBezTo>
                    <a:pt x="134835" y="162132"/>
                    <a:pt x="133252" y="162070"/>
                    <a:pt x="132267" y="162070"/>
                  </a:cubicBezTo>
                  <a:lnTo>
                    <a:pt x="117401" y="162070"/>
                  </a:lnTo>
                  <a:close/>
                  <a:moveTo>
                    <a:pt x="101389" y="125362"/>
                  </a:moveTo>
                  <a:cubicBezTo>
                    <a:pt x="105689" y="125626"/>
                    <a:pt x="109286" y="125759"/>
                    <a:pt x="112178" y="125759"/>
                  </a:cubicBezTo>
                  <a:lnTo>
                    <a:pt x="127448" y="125759"/>
                  </a:lnTo>
                  <a:cubicBezTo>
                    <a:pt x="127589" y="125759"/>
                    <a:pt x="129304" y="125923"/>
                    <a:pt x="132593" y="126251"/>
                  </a:cubicBezTo>
                  <a:cubicBezTo>
                    <a:pt x="135546" y="127058"/>
                    <a:pt x="138961" y="127669"/>
                    <a:pt x="142839" y="128085"/>
                  </a:cubicBezTo>
                  <a:cubicBezTo>
                    <a:pt x="146717" y="128501"/>
                    <a:pt x="150443" y="128965"/>
                    <a:pt x="154016" y="129477"/>
                  </a:cubicBezTo>
                  <a:cubicBezTo>
                    <a:pt x="157589" y="129989"/>
                    <a:pt x="160577" y="130511"/>
                    <a:pt x="162979" y="131045"/>
                  </a:cubicBezTo>
                  <a:cubicBezTo>
                    <a:pt x="168768" y="131958"/>
                    <a:pt x="173213" y="133476"/>
                    <a:pt x="176312" y="135598"/>
                  </a:cubicBezTo>
                  <a:cubicBezTo>
                    <a:pt x="179412" y="137721"/>
                    <a:pt x="182301" y="141630"/>
                    <a:pt x="184980" y="147325"/>
                  </a:cubicBezTo>
                  <a:lnTo>
                    <a:pt x="184980" y="161590"/>
                  </a:lnTo>
                  <a:lnTo>
                    <a:pt x="184980" y="174447"/>
                  </a:lnTo>
                  <a:cubicBezTo>
                    <a:pt x="184980" y="175113"/>
                    <a:pt x="184903" y="178793"/>
                    <a:pt x="184747" y="185489"/>
                  </a:cubicBezTo>
                  <a:cubicBezTo>
                    <a:pt x="184591" y="192186"/>
                    <a:pt x="184380" y="198671"/>
                    <a:pt x="184113" y="204944"/>
                  </a:cubicBezTo>
                  <a:cubicBezTo>
                    <a:pt x="183847" y="211218"/>
                    <a:pt x="183651" y="217157"/>
                    <a:pt x="183528" y="222761"/>
                  </a:cubicBezTo>
                  <a:cubicBezTo>
                    <a:pt x="183404" y="228365"/>
                    <a:pt x="183353" y="232472"/>
                    <a:pt x="183374" y="235083"/>
                  </a:cubicBezTo>
                  <a:cubicBezTo>
                    <a:pt x="181139" y="240297"/>
                    <a:pt x="179478" y="244111"/>
                    <a:pt x="178392" y="246526"/>
                  </a:cubicBezTo>
                  <a:cubicBezTo>
                    <a:pt x="177306" y="248941"/>
                    <a:pt x="175772" y="251305"/>
                    <a:pt x="173791" y="253620"/>
                  </a:cubicBezTo>
                  <a:cubicBezTo>
                    <a:pt x="171809" y="255934"/>
                    <a:pt x="169435" y="257661"/>
                    <a:pt x="166668" y="258800"/>
                  </a:cubicBezTo>
                  <a:cubicBezTo>
                    <a:pt x="163901" y="259939"/>
                    <a:pt x="160336" y="260509"/>
                    <a:pt x="155971" y="260509"/>
                  </a:cubicBezTo>
                  <a:cubicBezTo>
                    <a:pt x="144959" y="260509"/>
                    <a:pt x="134214" y="259971"/>
                    <a:pt x="123736" y="258896"/>
                  </a:cubicBezTo>
                  <a:cubicBezTo>
                    <a:pt x="113258" y="257821"/>
                    <a:pt x="102660" y="257145"/>
                    <a:pt x="91943" y="256868"/>
                  </a:cubicBezTo>
                  <a:cubicBezTo>
                    <a:pt x="86687" y="255225"/>
                    <a:pt x="82970" y="252981"/>
                    <a:pt x="80792" y="250135"/>
                  </a:cubicBezTo>
                  <a:cubicBezTo>
                    <a:pt x="78614" y="247289"/>
                    <a:pt x="76737" y="243503"/>
                    <a:pt x="75163" y="238776"/>
                  </a:cubicBezTo>
                  <a:cubicBezTo>
                    <a:pt x="74621" y="225277"/>
                    <a:pt x="73550" y="211584"/>
                    <a:pt x="71951" y="197697"/>
                  </a:cubicBezTo>
                  <a:cubicBezTo>
                    <a:pt x="70858" y="184074"/>
                    <a:pt x="70312" y="170298"/>
                    <a:pt x="70312" y="156368"/>
                  </a:cubicBezTo>
                  <a:lnTo>
                    <a:pt x="70312" y="142878"/>
                  </a:lnTo>
                  <a:cubicBezTo>
                    <a:pt x="70649" y="137809"/>
                    <a:pt x="72910" y="133756"/>
                    <a:pt x="77096" y="130718"/>
                  </a:cubicBezTo>
                  <a:cubicBezTo>
                    <a:pt x="80872" y="128969"/>
                    <a:pt x="84884" y="127487"/>
                    <a:pt x="89133" y="126271"/>
                  </a:cubicBezTo>
                  <a:cubicBezTo>
                    <a:pt x="94014" y="125665"/>
                    <a:pt x="98099" y="125362"/>
                    <a:pt x="101389" y="125362"/>
                  </a:cubicBezTo>
                  <a:close/>
                  <a:moveTo>
                    <a:pt x="140167" y="86932"/>
                  </a:moveTo>
                  <a:cubicBezTo>
                    <a:pt x="136325" y="86932"/>
                    <a:pt x="132472" y="86999"/>
                    <a:pt x="128606" y="87134"/>
                  </a:cubicBezTo>
                  <a:cubicBezTo>
                    <a:pt x="124741" y="87268"/>
                    <a:pt x="121006" y="87335"/>
                    <a:pt x="117401" y="87335"/>
                  </a:cubicBezTo>
                  <a:cubicBezTo>
                    <a:pt x="114457" y="87335"/>
                    <a:pt x="112850" y="87335"/>
                    <a:pt x="112582" y="87335"/>
                  </a:cubicBezTo>
                  <a:cubicBezTo>
                    <a:pt x="111101" y="87335"/>
                    <a:pt x="107764" y="87467"/>
                    <a:pt x="102569" y="87729"/>
                  </a:cubicBezTo>
                  <a:cubicBezTo>
                    <a:pt x="97375" y="87991"/>
                    <a:pt x="91111" y="88263"/>
                    <a:pt x="83777" y="88545"/>
                  </a:cubicBezTo>
                  <a:cubicBezTo>
                    <a:pt x="77390" y="88810"/>
                    <a:pt x="70917" y="89139"/>
                    <a:pt x="64357" y="89534"/>
                  </a:cubicBezTo>
                  <a:cubicBezTo>
                    <a:pt x="57798" y="89928"/>
                    <a:pt x="52959" y="90254"/>
                    <a:pt x="49840" y="90510"/>
                  </a:cubicBezTo>
                  <a:cubicBezTo>
                    <a:pt x="47677" y="90783"/>
                    <a:pt x="45217" y="91014"/>
                    <a:pt x="42461" y="91204"/>
                  </a:cubicBezTo>
                  <a:cubicBezTo>
                    <a:pt x="39705" y="91394"/>
                    <a:pt x="38327" y="90668"/>
                    <a:pt x="38327" y="89025"/>
                  </a:cubicBezTo>
                  <a:lnTo>
                    <a:pt x="36721" y="92238"/>
                  </a:lnTo>
                  <a:lnTo>
                    <a:pt x="36721" y="104941"/>
                  </a:lnTo>
                  <a:lnTo>
                    <a:pt x="36721" y="125938"/>
                  </a:lnTo>
                  <a:cubicBezTo>
                    <a:pt x="36943" y="130917"/>
                    <a:pt x="37188" y="137826"/>
                    <a:pt x="37457" y="146666"/>
                  </a:cubicBezTo>
                  <a:cubicBezTo>
                    <a:pt x="37725" y="155506"/>
                    <a:pt x="37994" y="164814"/>
                    <a:pt x="38263" y="174591"/>
                  </a:cubicBezTo>
                  <a:cubicBezTo>
                    <a:pt x="38532" y="184367"/>
                    <a:pt x="38796" y="193962"/>
                    <a:pt x="39057" y="203373"/>
                  </a:cubicBezTo>
                  <a:cubicBezTo>
                    <a:pt x="39863" y="213037"/>
                    <a:pt x="40400" y="221805"/>
                    <a:pt x="40669" y="229679"/>
                  </a:cubicBezTo>
                  <a:cubicBezTo>
                    <a:pt x="40938" y="237552"/>
                    <a:pt x="41145" y="244040"/>
                    <a:pt x="41290" y="249140"/>
                  </a:cubicBezTo>
                  <a:cubicBezTo>
                    <a:pt x="41435" y="254240"/>
                    <a:pt x="41518" y="257070"/>
                    <a:pt x="41540" y="257629"/>
                  </a:cubicBezTo>
                  <a:lnTo>
                    <a:pt x="44656" y="280853"/>
                  </a:lnTo>
                  <a:lnTo>
                    <a:pt x="211993" y="280853"/>
                  </a:lnTo>
                  <a:lnTo>
                    <a:pt x="225004" y="101056"/>
                  </a:lnTo>
                  <a:lnTo>
                    <a:pt x="225004" y="96097"/>
                  </a:lnTo>
                  <a:cubicBezTo>
                    <a:pt x="225004" y="93763"/>
                    <a:pt x="224447" y="92395"/>
                    <a:pt x="223333" y="91994"/>
                  </a:cubicBezTo>
                  <a:cubicBezTo>
                    <a:pt x="221213" y="91568"/>
                    <a:pt x="217998" y="91086"/>
                    <a:pt x="213689" y="90548"/>
                  </a:cubicBezTo>
                  <a:cubicBezTo>
                    <a:pt x="211569" y="90249"/>
                    <a:pt x="208914" y="89901"/>
                    <a:pt x="205725" y="89502"/>
                  </a:cubicBezTo>
                  <a:cubicBezTo>
                    <a:pt x="202536" y="89103"/>
                    <a:pt x="199352" y="88771"/>
                    <a:pt x="196173" y="88507"/>
                  </a:cubicBezTo>
                  <a:cubicBezTo>
                    <a:pt x="192995" y="88242"/>
                    <a:pt x="190217" y="87981"/>
                    <a:pt x="187841" y="87723"/>
                  </a:cubicBezTo>
                  <a:cubicBezTo>
                    <a:pt x="185465" y="87465"/>
                    <a:pt x="184179" y="87335"/>
                    <a:pt x="183985" y="87335"/>
                  </a:cubicBezTo>
                  <a:cubicBezTo>
                    <a:pt x="183791" y="87335"/>
                    <a:pt x="182256" y="87335"/>
                    <a:pt x="179381" y="87335"/>
                  </a:cubicBezTo>
                  <a:cubicBezTo>
                    <a:pt x="176505" y="87335"/>
                    <a:pt x="173263" y="87268"/>
                    <a:pt x="169653" y="87134"/>
                  </a:cubicBezTo>
                  <a:cubicBezTo>
                    <a:pt x="166044" y="86999"/>
                    <a:pt x="162326" y="86932"/>
                    <a:pt x="158499" y="86932"/>
                  </a:cubicBezTo>
                  <a:cubicBezTo>
                    <a:pt x="154672" y="86932"/>
                    <a:pt x="151620" y="86932"/>
                    <a:pt x="149344" y="86932"/>
                  </a:cubicBezTo>
                  <a:cubicBezTo>
                    <a:pt x="147068" y="86932"/>
                    <a:pt x="144009" y="86932"/>
                    <a:pt x="140167" y="86932"/>
                  </a:cubicBezTo>
                  <a:close/>
                  <a:moveTo>
                    <a:pt x="660256" y="84379"/>
                  </a:moveTo>
                  <a:cubicBezTo>
                    <a:pt x="665589" y="84379"/>
                    <a:pt x="671154" y="85146"/>
                    <a:pt x="676950" y="86680"/>
                  </a:cubicBezTo>
                  <a:cubicBezTo>
                    <a:pt x="682745" y="88213"/>
                    <a:pt x="685643" y="93093"/>
                    <a:pt x="685643" y="101319"/>
                  </a:cubicBezTo>
                  <a:cubicBezTo>
                    <a:pt x="685643" y="105231"/>
                    <a:pt x="684735" y="108702"/>
                    <a:pt x="682917" y="111731"/>
                  </a:cubicBezTo>
                  <a:cubicBezTo>
                    <a:pt x="681275" y="116240"/>
                    <a:pt x="677691" y="118681"/>
                    <a:pt x="672166" y="119052"/>
                  </a:cubicBezTo>
                  <a:lnTo>
                    <a:pt x="573561" y="124300"/>
                  </a:lnTo>
                  <a:cubicBezTo>
                    <a:pt x="573885" y="124300"/>
                    <a:pt x="573622" y="124603"/>
                    <a:pt x="572773" y="125208"/>
                  </a:cubicBezTo>
                  <a:cubicBezTo>
                    <a:pt x="571357" y="127192"/>
                    <a:pt x="570232" y="128839"/>
                    <a:pt x="569398" y="130149"/>
                  </a:cubicBezTo>
                  <a:cubicBezTo>
                    <a:pt x="568564" y="131459"/>
                    <a:pt x="567383" y="133201"/>
                    <a:pt x="565856" y="135377"/>
                  </a:cubicBezTo>
                  <a:cubicBezTo>
                    <a:pt x="564563" y="138483"/>
                    <a:pt x="563014" y="141425"/>
                    <a:pt x="561209" y="144202"/>
                  </a:cubicBezTo>
                  <a:cubicBezTo>
                    <a:pt x="559405" y="146980"/>
                    <a:pt x="557996" y="149271"/>
                    <a:pt x="556983" y="151076"/>
                  </a:cubicBezTo>
                  <a:lnTo>
                    <a:pt x="556253" y="152265"/>
                  </a:lnTo>
                  <a:lnTo>
                    <a:pt x="589656" y="151677"/>
                  </a:lnTo>
                  <a:cubicBezTo>
                    <a:pt x="601576" y="151276"/>
                    <a:pt x="613189" y="151076"/>
                    <a:pt x="624495" y="151076"/>
                  </a:cubicBezTo>
                  <a:cubicBezTo>
                    <a:pt x="633796" y="151076"/>
                    <a:pt x="640927" y="153089"/>
                    <a:pt x="645889" y="157117"/>
                  </a:cubicBezTo>
                  <a:cubicBezTo>
                    <a:pt x="651499" y="162070"/>
                    <a:pt x="654305" y="169321"/>
                    <a:pt x="654305" y="178869"/>
                  </a:cubicBezTo>
                  <a:cubicBezTo>
                    <a:pt x="654305" y="197944"/>
                    <a:pt x="653099" y="216658"/>
                    <a:pt x="650689" y="235010"/>
                  </a:cubicBezTo>
                  <a:cubicBezTo>
                    <a:pt x="648278" y="253362"/>
                    <a:pt x="647073" y="271881"/>
                    <a:pt x="647073" y="290568"/>
                  </a:cubicBezTo>
                  <a:cubicBezTo>
                    <a:pt x="647073" y="291639"/>
                    <a:pt x="647073" y="293708"/>
                    <a:pt x="647073" y="296776"/>
                  </a:cubicBezTo>
                  <a:cubicBezTo>
                    <a:pt x="647073" y="299843"/>
                    <a:pt x="647140" y="302789"/>
                    <a:pt x="647275" y="305613"/>
                  </a:cubicBezTo>
                  <a:cubicBezTo>
                    <a:pt x="647409" y="308438"/>
                    <a:pt x="647476" y="310989"/>
                    <a:pt x="647476" y="313267"/>
                  </a:cubicBezTo>
                  <a:cubicBezTo>
                    <a:pt x="647476" y="315546"/>
                    <a:pt x="647476" y="317032"/>
                    <a:pt x="647476" y="317728"/>
                  </a:cubicBezTo>
                  <a:cubicBezTo>
                    <a:pt x="649277" y="321849"/>
                    <a:pt x="650329" y="325798"/>
                    <a:pt x="650634" y="329574"/>
                  </a:cubicBezTo>
                  <a:cubicBezTo>
                    <a:pt x="650939" y="333349"/>
                    <a:pt x="651092" y="337355"/>
                    <a:pt x="651092" y="341592"/>
                  </a:cubicBezTo>
                  <a:cubicBezTo>
                    <a:pt x="651092" y="341451"/>
                    <a:pt x="651019" y="342911"/>
                    <a:pt x="650874" y="345973"/>
                  </a:cubicBezTo>
                  <a:cubicBezTo>
                    <a:pt x="650729" y="349034"/>
                    <a:pt x="650667" y="350910"/>
                    <a:pt x="650689" y="351601"/>
                  </a:cubicBezTo>
                  <a:cubicBezTo>
                    <a:pt x="649170" y="357309"/>
                    <a:pt x="646366" y="361144"/>
                    <a:pt x="642276" y="363104"/>
                  </a:cubicBezTo>
                  <a:cubicBezTo>
                    <a:pt x="638187" y="365065"/>
                    <a:pt x="634203" y="366493"/>
                    <a:pt x="630325" y="367389"/>
                  </a:cubicBezTo>
                  <a:lnTo>
                    <a:pt x="533691" y="367389"/>
                  </a:lnTo>
                  <a:cubicBezTo>
                    <a:pt x="532706" y="367389"/>
                    <a:pt x="530605" y="367455"/>
                    <a:pt x="527391" y="367587"/>
                  </a:cubicBezTo>
                  <a:cubicBezTo>
                    <a:pt x="524176" y="367719"/>
                    <a:pt x="520608" y="367851"/>
                    <a:pt x="516687" y="367981"/>
                  </a:cubicBezTo>
                  <a:cubicBezTo>
                    <a:pt x="512766" y="368111"/>
                    <a:pt x="508905" y="368312"/>
                    <a:pt x="505104" y="368586"/>
                  </a:cubicBezTo>
                  <a:cubicBezTo>
                    <a:pt x="501303" y="368859"/>
                    <a:pt x="498510" y="368995"/>
                    <a:pt x="496727" y="368995"/>
                  </a:cubicBezTo>
                  <a:cubicBezTo>
                    <a:pt x="496629" y="368995"/>
                    <a:pt x="495709" y="369062"/>
                    <a:pt x="493969" y="369197"/>
                  </a:cubicBezTo>
                  <a:cubicBezTo>
                    <a:pt x="492228" y="369331"/>
                    <a:pt x="490486" y="369464"/>
                    <a:pt x="488743" y="369597"/>
                  </a:cubicBezTo>
                  <a:cubicBezTo>
                    <a:pt x="487001" y="369729"/>
                    <a:pt x="485170" y="369862"/>
                    <a:pt x="483253" y="369997"/>
                  </a:cubicBezTo>
                  <a:cubicBezTo>
                    <a:pt x="481335" y="370131"/>
                    <a:pt x="480201" y="370198"/>
                    <a:pt x="479851" y="370198"/>
                  </a:cubicBezTo>
                  <a:lnTo>
                    <a:pt x="479045" y="370198"/>
                  </a:lnTo>
                  <a:cubicBezTo>
                    <a:pt x="471788" y="370198"/>
                    <a:pt x="466298" y="367852"/>
                    <a:pt x="462575" y="363159"/>
                  </a:cubicBezTo>
                  <a:cubicBezTo>
                    <a:pt x="458853" y="358466"/>
                    <a:pt x="456697" y="353175"/>
                    <a:pt x="456109" y="347288"/>
                  </a:cubicBezTo>
                  <a:cubicBezTo>
                    <a:pt x="455819" y="343555"/>
                    <a:pt x="455540" y="337876"/>
                    <a:pt x="455274" y="330252"/>
                  </a:cubicBezTo>
                  <a:cubicBezTo>
                    <a:pt x="455007" y="322628"/>
                    <a:pt x="454470" y="313848"/>
                    <a:pt x="453664" y="303911"/>
                  </a:cubicBezTo>
                  <a:cubicBezTo>
                    <a:pt x="453391" y="294073"/>
                    <a:pt x="453053" y="283874"/>
                    <a:pt x="452650" y="273315"/>
                  </a:cubicBezTo>
                  <a:cubicBezTo>
                    <a:pt x="452246" y="262755"/>
                    <a:pt x="451780" y="252563"/>
                    <a:pt x="451251" y="242737"/>
                  </a:cubicBezTo>
                  <a:cubicBezTo>
                    <a:pt x="450983" y="233462"/>
                    <a:pt x="450449" y="224825"/>
                    <a:pt x="449651" y="216825"/>
                  </a:cubicBezTo>
                  <a:cubicBezTo>
                    <a:pt x="449374" y="209052"/>
                    <a:pt x="449235" y="203365"/>
                    <a:pt x="449235" y="199764"/>
                  </a:cubicBezTo>
                  <a:lnTo>
                    <a:pt x="449235" y="186504"/>
                  </a:lnTo>
                  <a:lnTo>
                    <a:pt x="449235" y="172956"/>
                  </a:lnTo>
                  <a:cubicBezTo>
                    <a:pt x="449581" y="169163"/>
                    <a:pt x="450999" y="166022"/>
                    <a:pt x="453488" y="163532"/>
                  </a:cubicBezTo>
                  <a:cubicBezTo>
                    <a:pt x="455977" y="161043"/>
                    <a:pt x="458791" y="159170"/>
                    <a:pt x="461929" y="157914"/>
                  </a:cubicBezTo>
                  <a:cubicBezTo>
                    <a:pt x="465067" y="156657"/>
                    <a:pt x="468279" y="155806"/>
                    <a:pt x="471564" y="155360"/>
                  </a:cubicBezTo>
                  <a:cubicBezTo>
                    <a:pt x="474849" y="154914"/>
                    <a:pt x="477611" y="154691"/>
                    <a:pt x="479851" y="154691"/>
                  </a:cubicBezTo>
                  <a:cubicBezTo>
                    <a:pt x="481396" y="154691"/>
                    <a:pt x="483774" y="154557"/>
                    <a:pt x="486987" y="154288"/>
                  </a:cubicBezTo>
                  <a:cubicBezTo>
                    <a:pt x="490818" y="154288"/>
                    <a:pt x="494240" y="154172"/>
                    <a:pt x="497252" y="153939"/>
                  </a:cubicBezTo>
                  <a:cubicBezTo>
                    <a:pt x="500264" y="153707"/>
                    <a:pt x="503754" y="153288"/>
                    <a:pt x="507721" y="152682"/>
                  </a:cubicBezTo>
                  <a:cubicBezTo>
                    <a:pt x="511105" y="152682"/>
                    <a:pt x="513249" y="152682"/>
                    <a:pt x="514153" y="152682"/>
                  </a:cubicBezTo>
                  <a:cubicBezTo>
                    <a:pt x="513616" y="152955"/>
                    <a:pt x="513810" y="152629"/>
                    <a:pt x="514736" y="151703"/>
                  </a:cubicBezTo>
                  <a:cubicBezTo>
                    <a:pt x="515661" y="150777"/>
                    <a:pt x="516126" y="150310"/>
                    <a:pt x="516131" y="150301"/>
                  </a:cubicBezTo>
                  <a:cubicBezTo>
                    <a:pt x="517560" y="147805"/>
                    <a:pt x="519294" y="145131"/>
                    <a:pt x="521334" y="142279"/>
                  </a:cubicBezTo>
                  <a:cubicBezTo>
                    <a:pt x="523373" y="139427"/>
                    <a:pt x="525221" y="136660"/>
                    <a:pt x="526879" y="133979"/>
                  </a:cubicBezTo>
                  <a:lnTo>
                    <a:pt x="530472" y="127943"/>
                  </a:lnTo>
                  <a:lnTo>
                    <a:pt x="489524" y="128520"/>
                  </a:lnTo>
                  <a:cubicBezTo>
                    <a:pt x="473967" y="128923"/>
                    <a:pt x="458018" y="129125"/>
                    <a:pt x="441678" y="129125"/>
                  </a:cubicBezTo>
                  <a:lnTo>
                    <a:pt x="426043" y="129125"/>
                  </a:lnTo>
                  <a:cubicBezTo>
                    <a:pt x="421440" y="127973"/>
                    <a:pt x="418329" y="125777"/>
                    <a:pt x="416709" y="122537"/>
                  </a:cubicBezTo>
                  <a:cubicBezTo>
                    <a:pt x="415090" y="119296"/>
                    <a:pt x="414281" y="115573"/>
                    <a:pt x="414281" y="111366"/>
                  </a:cubicBezTo>
                  <a:cubicBezTo>
                    <a:pt x="414281" y="108508"/>
                    <a:pt x="415080" y="105036"/>
                    <a:pt x="416677" y="100951"/>
                  </a:cubicBezTo>
                  <a:cubicBezTo>
                    <a:pt x="418275" y="96866"/>
                    <a:pt x="422016" y="94823"/>
                    <a:pt x="427899" y="94823"/>
                  </a:cubicBezTo>
                  <a:lnTo>
                    <a:pt x="650113" y="84808"/>
                  </a:lnTo>
                  <a:cubicBezTo>
                    <a:pt x="651282" y="84786"/>
                    <a:pt x="652974" y="84715"/>
                    <a:pt x="655191" y="84593"/>
                  </a:cubicBezTo>
                  <a:cubicBezTo>
                    <a:pt x="657407" y="84472"/>
                    <a:pt x="659096" y="84400"/>
                    <a:pt x="660256" y="84379"/>
                  </a:cubicBezTo>
                  <a:close/>
                  <a:moveTo>
                    <a:pt x="102989" y="52637"/>
                  </a:moveTo>
                  <a:cubicBezTo>
                    <a:pt x="106973" y="52637"/>
                    <a:pt x="111644" y="52637"/>
                    <a:pt x="117001" y="52637"/>
                  </a:cubicBezTo>
                  <a:cubicBezTo>
                    <a:pt x="122357" y="52637"/>
                    <a:pt x="127848" y="52637"/>
                    <a:pt x="133473" y="52637"/>
                  </a:cubicBezTo>
                  <a:cubicBezTo>
                    <a:pt x="139098" y="52637"/>
                    <a:pt x="143517" y="52637"/>
                    <a:pt x="146730" y="52637"/>
                  </a:cubicBezTo>
                  <a:cubicBezTo>
                    <a:pt x="148607" y="52637"/>
                    <a:pt x="151956" y="52637"/>
                    <a:pt x="156777" y="52637"/>
                  </a:cubicBezTo>
                  <a:cubicBezTo>
                    <a:pt x="161598" y="52637"/>
                    <a:pt x="166338" y="52637"/>
                    <a:pt x="170997" y="52637"/>
                  </a:cubicBezTo>
                  <a:cubicBezTo>
                    <a:pt x="175656" y="52637"/>
                    <a:pt x="180817" y="52708"/>
                    <a:pt x="186481" y="52851"/>
                  </a:cubicBezTo>
                  <a:cubicBezTo>
                    <a:pt x="192145" y="52994"/>
                    <a:pt x="195900" y="53055"/>
                    <a:pt x="197748" y="53034"/>
                  </a:cubicBezTo>
                  <a:cubicBezTo>
                    <a:pt x="204791" y="53912"/>
                    <a:pt x="211921" y="54687"/>
                    <a:pt x="219135" y="55357"/>
                  </a:cubicBezTo>
                  <a:cubicBezTo>
                    <a:pt x="226350" y="56026"/>
                    <a:pt x="232986" y="57223"/>
                    <a:pt x="239044" y="58947"/>
                  </a:cubicBezTo>
                  <a:cubicBezTo>
                    <a:pt x="245653" y="61357"/>
                    <a:pt x="250873" y="65069"/>
                    <a:pt x="254704" y="70082"/>
                  </a:cubicBezTo>
                  <a:cubicBezTo>
                    <a:pt x="259384" y="75381"/>
                    <a:pt x="261725" y="82713"/>
                    <a:pt x="261725" y="92078"/>
                  </a:cubicBezTo>
                  <a:lnTo>
                    <a:pt x="261725" y="97946"/>
                  </a:lnTo>
                  <a:cubicBezTo>
                    <a:pt x="258179" y="131749"/>
                    <a:pt x="255007" y="164909"/>
                    <a:pt x="252208" y="197428"/>
                  </a:cubicBezTo>
                  <a:cubicBezTo>
                    <a:pt x="249410" y="229947"/>
                    <a:pt x="248682" y="262960"/>
                    <a:pt x="250026" y="296468"/>
                  </a:cubicBezTo>
                  <a:cubicBezTo>
                    <a:pt x="249309" y="303260"/>
                    <a:pt x="245856" y="307960"/>
                    <a:pt x="239665" y="310567"/>
                  </a:cubicBezTo>
                  <a:cubicBezTo>
                    <a:pt x="234541" y="312973"/>
                    <a:pt x="229539" y="314637"/>
                    <a:pt x="224658" y="315558"/>
                  </a:cubicBezTo>
                  <a:cubicBezTo>
                    <a:pt x="220656" y="315558"/>
                    <a:pt x="214905" y="315558"/>
                    <a:pt x="207405" y="315558"/>
                  </a:cubicBezTo>
                  <a:cubicBezTo>
                    <a:pt x="199904" y="315558"/>
                    <a:pt x="191466" y="315624"/>
                    <a:pt x="182091" y="315757"/>
                  </a:cubicBezTo>
                  <a:cubicBezTo>
                    <a:pt x="172716" y="315889"/>
                    <a:pt x="162872" y="316022"/>
                    <a:pt x="152560" y="316157"/>
                  </a:cubicBezTo>
                  <a:cubicBezTo>
                    <a:pt x="142248" y="316291"/>
                    <a:pt x="132337" y="316426"/>
                    <a:pt x="122827" y="316560"/>
                  </a:cubicBezTo>
                  <a:cubicBezTo>
                    <a:pt x="113318" y="316694"/>
                    <a:pt x="104880" y="316761"/>
                    <a:pt x="97514" y="316761"/>
                  </a:cubicBezTo>
                  <a:cubicBezTo>
                    <a:pt x="90148" y="316761"/>
                    <a:pt x="84724" y="316761"/>
                    <a:pt x="81243" y="316761"/>
                  </a:cubicBezTo>
                  <a:cubicBezTo>
                    <a:pt x="80436" y="316761"/>
                    <a:pt x="79060" y="316761"/>
                    <a:pt x="77115" y="316761"/>
                  </a:cubicBezTo>
                  <a:cubicBezTo>
                    <a:pt x="75170" y="316761"/>
                    <a:pt x="72869" y="316829"/>
                    <a:pt x="70213" y="316963"/>
                  </a:cubicBezTo>
                  <a:cubicBezTo>
                    <a:pt x="67557" y="317097"/>
                    <a:pt x="64536" y="317165"/>
                    <a:pt x="61148" y="317165"/>
                  </a:cubicBezTo>
                  <a:cubicBezTo>
                    <a:pt x="58473" y="317165"/>
                    <a:pt x="56532" y="317165"/>
                    <a:pt x="55324" y="317165"/>
                  </a:cubicBezTo>
                  <a:cubicBezTo>
                    <a:pt x="54117" y="317165"/>
                    <a:pt x="52265" y="317165"/>
                    <a:pt x="49769" y="317165"/>
                  </a:cubicBezTo>
                  <a:cubicBezTo>
                    <a:pt x="47274" y="317165"/>
                    <a:pt x="44687" y="317097"/>
                    <a:pt x="42010" y="316963"/>
                  </a:cubicBezTo>
                  <a:cubicBezTo>
                    <a:pt x="39333" y="316829"/>
                    <a:pt x="36764" y="316761"/>
                    <a:pt x="34305" y="316761"/>
                  </a:cubicBezTo>
                  <a:cubicBezTo>
                    <a:pt x="31845" y="316761"/>
                    <a:pt x="30212" y="316761"/>
                    <a:pt x="29406" y="316761"/>
                  </a:cubicBezTo>
                  <a:cubicBezTo>
                    <a:pt x="24150" y="316761"/>
                    <a:pt x="19809" y="314857"/>
                    <a:pt x="16383" y="311047"/>
                  </a:cubicBezTo>
                  <a:cubicBezTo>
                    <a:pt x="14314" y="308393"/>
                    <a:pt x="12606" y="305047"/>
                    <a:pt x="11260" y="301009"/>
                  </a:cubicBezTo>
                  <a:cubicBezTo>
                    <a:pt x="9914" y="296971"/>
                    <a:pt x="8919" y="293145"/>
                    <a:pt x="8274" y="289531"/>
                  </a:cubicBezTo>
                  <a:cubicBezTo>
                    <a:pt x="7630" y="285918"/>
                    <a:pt x="7157" y="282750"/>
                    <a:pt x="6854" y="280028"/>
                  </a:cubicBezTo>
                  <a:cubicBezTo>
                    <a:pt x="6576" y="274968"/>
                    <a:pt x="6304" y="267362"/>
                    <a:pt x="6038" y="257210"/>
                  </a:cubicBezTo>
                  <a:cubicBezTo>
                    <a:pt x="5771" y="247058"/>
                    <a:pt x="5235" y="235501"/>
                    <a:pt x="4428" y="222540"/>
                  </a:cubicBezTo>
                  <a:cubicBezTo>
                    <a:pt x="4155" y="209894"/>
                    <a:pt x="3750" y="196317"/>
                    <a:pt x="3212" y="181807"/>
                  </a:cubicBezTo>
                  <a:cubicBezTo>
                    <a:pt x="2948" y="167924"/>
                    <a:pt x="2547" y="154397"/>
                    <a:pt x="2009" y="141227"/>
                  </a:cubicBezTo>
                  <a:cubicBezTo>
                    <a:pt x="1740" y="128679"/>
                    <a:pt x="1406" y="117327"/>
                    <a:pt x="1004" y="107171"/>
                  </a:cubicBezTo>
                  <a:cubicBezTo>
                    <a:pt x="603" y="97015"/>
                    <a:pt x="269" y="89516"/>
                    <a:pt x="0" y="84673"/>
                  </a:cubicBezTo>
                  <a:lnTo>
                    <a:pt x="0" y="80027"/>
                  </a:lnTo>
                  <a:cubicBezTo>
                    <a:pt x="0" y="75198"/>
                    <a:pt x="1147" y="71390"/>
                    <a:pt x="3443" y="68604"/>
                  </a:cubicBezTo>
                  <a:cubicBezTo>
                    <a:pt x="5738" y="65818"/>
                    <a:pt x="8510" y="63574"/>
                    <a:pt x="11759" y="61871"/>
                  </a:cubicBezTo>
                  <a:cubicBezTo>
                    <a:pt x="15008" y="60169"/>
                    <a:pt x="18427" y="58960"/>
                    <a:pt x="22018" y="58243"/>
                  </a:cubicBezTo>
                  <a:cubicBezTo>
                    <a:pt x="25608" y="57526"/>
                    <a:pt x="29035" y="56875"/>
                    <a:pt x="32299" y="56291"/>
                  </a:cubicBezTo>
                  <a:cubicBezTo>
                    <a:pt x="34419" y="56056"/>
                    <a:pt x="38483" y="55734"/>
                    <a:pt x="44490" y="55325"/>
                  </a:cubicBezTo>
                  <a:cubicBezTo>
                    <a:pt x="50497" y="54915"/>
                    <a:pt x="56953" y="54575"/>
                    <a:pt x="63858" y="54304"/>
                  </a:cubicBezTo>
                  <a:cubicBezTo>
                    <a:pt x="70763" y="54033"/>
                    <a:pt x="77455" y="53754"/>
                    <a:pt x="83934" y="53466"/>
                  </a:cubicBezTo>
                  <a:cubicBezTo>
                    <a:pt x="90412" y="53178"/>
                    <a:pt x="94471" y="53034"/>
                    <a:pt x="96109" y="53034"/>
                  </a:cubicBezTo>
                  <a:cubicBezTo>
                    <a:pt x="96975" y="53034"/>
                    <a:pt x="99268" y="52901"/>
                    <a:pt x="102989" y="52637"/>
                  </a:cubicBezTo>
                  <a:close/>
                  <a:moveTo>
                    <a:pt x="1049624" y="19685"/>
                  </a:moveTo>
                  <a:lnTo>
                    <a:pt x="1058461" y="19685"/>
                  </a:lnTo>
                  <a:cubicBezTo>
                    <a:pt x="1062945" y="19685"/>
                    <a:pt x="1067829" y="20624"/>
                    <a:pt x="1073113" y="22501"/>
                  </a:cubicBezTo>
                  <a:cubicBezTo>
                    <a:pt x="1078397" y="24378"/>
                    <a:pt x="1081039" y="28687"/>
                    <a:pt x="1081039" y="35428"/>
                  </a:cubicBezTo>
                  <a:cubicBezTo>
                    <a:pt x="1081039" y="39136"/>
                    <a:pt x="1079675" y="43290"/>
                    <a:pt x="1076947" y="47891"/>
                  </a:cubicBezTo>
                  <a:cubicBezTo>
                    <a:pt x="1074218" y="52493"/>
                    <a:pt x="1070066" y="54793"/>
                    <a:pt x="1064490" y="54793"/>
                  </a:cubicBezTo>
                  <a:lnTo>
                    <a:pt x="989461" y="54793"/>
                  </a:lnTo>
                  <a:lnTo>
                    <a:pt x="975766" y="96992"/>
                  </a:lnTo>
                  <a:lnTo>
                    <a:pt x="975766" y="98842"/>
                  </a:lnTo>
                  <a:lnTo>
                    <a:pt x="1061674" y="98842"/>
                  </a:lnTo>
                  <a:cubicBezTo>
                    <a:pt x="1066098" y="98842"/>
                    <a:pt x="1069360" y="100310"/>
                    <a:pt x="1071459" y="103245"/>
                  </a:cubicBezTo>
                  <a:cubicBezTo>
                    <a:pt x="1073562" y="105655"/>
                    <a:pt x="1075001" y="108330"/>
                    <a:pt x="1075776" y="111270"/>
                  </a:cubicBezTo>
                  <a:cubicBezTo>
                    <a:pt x="1076550" y="114210"/>
                    <a:pt x="1077018" y="117295"/>
                    <a:pt x="1077180" y="120527"/>
                  </a:cubicBezTo>
                  <a:cubicBezTo>
                    <a:pt x="1077342" y="123759"/>
                    <a:pt x="1077424" y="125929"/>
                    <a:pt x="1077424" y="127039"/>
                  </a:cubicBezTo>
                  <a:lnTo>
                    <a:pt x="1077424" y="137867"/>
                  </a:lnTo>
                  <a:lnTo>
                    <a:pt x="1067267" y="265366"/>
                  </a:lnTo>
                  <a:cubicBezTo>
                    <a:pt x="1066990" y="267866"/>
                    <a:pt x="1066642" y="270586"/>
                    <a:pt x="1066224" y="273526"/>
                  </a:cubicBezTo>
                  <a:cubicBezTo>
                    <a:pt x="1065806" y="276465"/>
                    <a:pt x="1064848" y="279132"/>
                    <a:pt x="1063351" y="281525"/>
                  </a:cubicBezTo>
                  <a:cubicBezTo>
                    <a:pt x="1062387" y="284426"/>
                    <a:pt x="1060545" y="286872"/>
                    <a:pt x="1057828" y="288862"/>
                  </a:cubicBezTo>
                  <a:cubicBezTo>
                    <a:pt x="1055110" y="290853"/>
                    <a:pt x="1051838" y="291848"/>
                    <a:pt x="1048011" y="291848"/>
                  </a:cubicBezTo>
                  <a:cubicBezTo>
                    <a:pt x="1045161" y="291848"/>
                    <a:pt x="1041825" y="290847"/>
                    <a:pt x="1038002" y="288846"/>
                  </a:cubicBezTo>
                  <a:cubicBezTo>
                    <a:pt x="1034179" y="286845"/>
                    <a:pt x="1032268" y="283804"/>
                    <a:pt x="1032268" y="279721"/>
                  </a:cubicBezTo>
                  <a:lnTo>
                    <a:pt x="1032268" y="254576"/>
                  </a:lnTo>
                  <a:lnTo>
                    <a:pt x="1041509" y="134347"/>
                  </a:lnTo>
                  <a:lnTo>
                    <a:pt x="1040498" y="133944"/>
                  </a:lnTo>
                  <a:lnTo>
                    <a:pt x="894043" y="133944"/>
                  </a:lnTo>
                  <a:lnTo>
                    <a:pt x="890920" y="261770"/>
                  </a:lnTo>
                  <a:cubicBezTo>
                    <a:pt x="890510" y="265831"/>
                    <a:pt x="888380" y="268914"/>
                    <a:pt x="884530" y="271017"/>
                  </a:cubicBezTo>
                  <a:cubicBezTo>
                    <a:pt x="880679" y="273120"/>
                    <a:pt x="877316" y="274172"/>
                    <a:pt x="874441" y="274172"/>
                  </a:cubicBezTo>
                  <a:cubicBezTo>
                    <a:pt x="870729" y="274172"/>
                    <a:pt x="867254" y="272808"/>
                    <a:pt x="864016" y="270080"/>
                  </a:cubicBezTo>
                  <a:cubicBezTo>
                    <a:pt x="860778" y="267351"/>
                    <a:pt x="858602" y="264131"/>
                    <a:pt x="857488" y="260419"/>
                  </a:cubicBezTo>
                  <a:lnTo>
                    <a:pt x="857488" y="229893"/>
                  </a:lnTo>
                  <a:lnTo>
                    <a:pt x="857488" y="199764"/>
                  </a:lnTo>
                  <a:cubicBezTo>
                    <a:pt x="857488" y="196777"/>
                    <a:pt x="857554" y="191209"/>
                    <a:pt x="857687" y="183058"/>
                  </a:cubicBezTo>
                  <a:cubicBezTo>
                    <a:pt x="857819" y="174907"/>
                    <a:pt x="857885" y="166354"/>
                    <a:pt x="857885" y="157398"/>
                  </a:cubicBezTo>
                  <a:cubicBezTo>
                    <a:pt x="858427" y="148166"/>
                    <a:pt x="858831" y="139561"/>
                    <a:pt x="859098" y="131582"/>
                  </a:cubicBezTo>
                  <a:cubicBezTo>
                    <a:pt x="859364" y="123604"/>
                    <a:pt x="859498" y="117734"/>
                    <a:pt x="859498" y="113971"/>
                  </a:cubicBezTo>
                  <a:cubicBezTo>
                    <a:pt x="860547" y="109760"/>
                    <a:pt x="863476" y="106051"/>
                    <a:pt x="868284" y="102845"/>
                  </a:cubicBezTo>
                  <a:cubicBezTo>
                    <a:pt x="873092" y="99639"/>
                    <a:pt x="877690" y="98036"/>
                    <a:pt x="882075" y="98036"/>
                  </a:cubicBezTo>
                  <a:lnTo>
                    <a:pt x="936066" y="98036"/>
                  </a:lnTo>
                  <a:lnTo>
                    <a:pt x="936616" y="97495"/>
                  </a:lnTo>
                  <a:cubicBezTo>
                    <a:pt x="937002" y="97109"/>
                    <a:pt x="937536" y="96118"/>
                    <a:pt x="938219" y="94522"/>
                  </a:cubicBezTo>
                  <a:cubicBezTo>
                    <a:pt x="938774" y="93601"/>
                    <a:pt x="939051" y="92997"/>
                    <a:pt x="939051" y="92711"/>
                  </a:cubicBezTo>
                  <a:cubicBezTo>
                    <a:pt x="939981" y="89917"/>
                    <a:pt x="941116" y="86510"/>
                    <a:pt x="942456" y="82491"/>
                  </a:cubicBezTo>
                  <a:cubicBezTo>
                    <a:pt x="943795" y="78472"/>
                    <a:pt x="945068" y="74722"/>
                    <a:pt x="946273" y="71240"/>
                  </a:cubicBezTo>
                  <a:cubicBezTo>
                    <a:pt x="947478" y="67759"/>
                    <a:pt x="948552" y="64715"/>
                    <a:pt x="949495" y="62108"/>
                  </a:cubicBezTo>
                  <a:cubicBezTo>
                    <a:pt x="950302" y="59181"/>
                    <a:pt x="950705" y="57279"/>
                    <a:pt x="950705" y="56400"/>
                  </a:cubicBezTo>
                  <a:cubicBezTo>
                    <a:pt x="942535" y="56400"/>
                    <a:pt x="933033" y="56600"/>
                    <a:pt x="922201" y="57001"/>
                  </a:cubicBezTo>
                  <a:cubicBezTo>
                    <a:pt x="911368" y="57402"/>
                    <a:pt x="900404" y="57603"/>
                    <a:pt x="889307" y="57603"/>
                  </a:cubicBezTo>
                  <a:lnTo>
                    <a:pt x="874921" y="57603"/>
                  </a:lnTo>
                  <a:cubicBezTo>
                    <a:pt x="869494" y="57240"/>
                    <a:pt x="865567" y="55064"/>
                    <a:pt x="863139" y="51075"/>
                  </a:cubicBezTo>
                  <a:cubicBezTo>
                    <a:pt x="860711" y="47086"/>
                    <a:pt x="859498" y="43076"/>
                    <a:pt x="859498" y="39044"/>
                  </a:cubicBezTo>
                  <a:cubicBezTo>
                    <a:pt x="859498" y="35725"/>
                    <a:pt x="860435" y="32529"/>
                    <a:pt x="862310" y="29457"/>
                  </a:cubicBezTo>
                  <a:cubicBezTo>
                    <a:pt x="864185" y="26386"/>
                    <a:pt x="867073" y="24201"/>
                    <a:pt x="870972" y="22904"/>
                  </a:cubicBezTo>
                  <a:cubicBezTo>
                    <a:pt x="878562" y="22904"/>
                    <a:pt x="886296" y="22847"/>
                    <a:pt x="894174" y="22731"/>
                  </a:cubicBezTo>
                  <a:cubicBezTo>
                    <a:pt x="902052" y="22616"/>
                    <a:pt x="911860" y="22358"/>
                    <a:pt x="923599" y="21957"/>
                  </a:cubicBezTo>
                  <a:cubicBezTo>
                    <a:pt x="935338" y="21556"/>
                    <a:pt x="947670" y="21288"/>
                    <a:pt x="960595" y="21154"/>
                  </a:cubicBezTo>
                  <a:cubicBezTo>
                    <a:pt x="973520" y="21020"/>
                    <a:pt x="985819" y="20818"/>
                    <a:pt x="997492" y="20549"/>
                  </a:cubicBezTo>
                  <a:cubicBezTo>
                    <a:pt x="1009165" y="20280"/>
                    <a:pt x="1019695" y="20075"/>
                    <a:pt x="1029081" y="19932"/>
                  </a:cubicBezTo>
                  <a:cubicBezTo>
                    <a:pt x="1038467" y="19789"/>
                    <a:pt x="1045314" y="19707"/>
                    <a:pt x="1049624" y="19685"/>
                  </a:cubicBezTo>
                  <a:close/>
                  <a:moveTo>
                    <a:pt x="481861" y="11654"/>
                  </a:moveTo>
                  <a:cubicBezTo>
                    <a:pt x="486072" y="11654"/>
                    <a:pt x="490271" y="13359"/>
                    <a:pt x="494458" y="16770"/>
                  </a:cubicBezTo>
                  <a:cubicBezTo>
                    <a:pt x="498646" y="20181"/>
                    <a:pt x="502222" y="24146"/>
                    <a:pt x="505187" y="28664"/>
                  </a:cubicBezTo>
                  <a:cubicBezTo>
                    <a:pt x="508152" y="33182"/>
                    <a:pt x="510710" y="37809"/>
                    <a:pt x="512860" y="42545"/>
                  </a:cubicBezTo>
                  <a:cubicBezTo>
                    <a:pt x="515011" y="47280"/>
                    <a:pt x="516086" y="51338"/>
                    <a:pt x="516086" y="54717"/>
                  </a:cubicBezTo>
                  <a:cubicBezTo>
                    <a:pt x="516086" y="65750"/>
                    <a:pt x="510838" y="71266"/>
                    <a:pt x="500343" y="71266"/>
                  </a:cubicBezTo>
                  <a:cubicBezTo>
                    <a:pt x="495931" y="71266"/>
                    <a:pt x="492189" y="70133"/>
                    <a:pt x="489115" y="67868"/>
                  </a:cubicBezTo>
                  <a:cubicBezTo>
                    <a:pt x="486041" y="65602"/>
                    <a:pt x="483437" y="63116"/>
                    <a:pt x="481304" y="60409"/>
                  </a:cubicBezTo>
                  <a:cubicBezTo>
                    <a:pt x="479171" y="57702"/>
                    <a:pt x="477246" y="54963"/>
                    <a:pt x="475528" y="52192"/>
                  </a:cubicBezTo>
                  <a:cubicBezTo>
                    <a:pt x="473811" y="49421"/>
                    <a:pt x="472100" y="46757"/>
                    <a:pt x="470396" y="44199"/>
                  </a:cubicBezTo>
                  <a:cubicBezTo>
                    <a:pt x="468691" y="41641"/>
                    <a:pt x="467216" y="39194"/>
                    <a:pt x="465970" y="36859"/>
                  </a:cubicBezTo>
                  <a:cubicBezTo>
                    <a:pt x="464725" y="34523"/>
                    <a:pt x="464102" y="31635"/>
                    <a:pt x="464102" y="28197"/>
                  </a:cubicBezTo>
                  <a:cubicBezTo>
                    <a:pt x="464102" y="23717"/>
                    <a:pt x="465826" y="19840"/>
                    <a:pt x="469276" y="16565"/>
                  </a:cubicBezTo>
                  <a:cubicBezTo>
                    <a:pt x="472725" y="13291"/>
                    <a:pt x="476920" y="11654"/>
                    <a:pt x="481861" y="11654"/>
                  </a:cubicBezTo>
                  <a:close/>
                  <a:moveTo>
                    <a:pt x="618870" y="0"/>
                  </a:moveTo>
                  <a:cubicBezTo>
                    <a:pt x="623593" y="0"/>
                    <a:pt x="627599" y="1279"/>
                    <a:pt x="630888" y="3837"/>
                  </a:cubicBezTo>
                  <a:cubicBezTo>
                    <a:pt x="634178" y="6394"/>
                    <a:pt x="635822" y="10229"/>
                    <a:pt x="635822" y="15340"/>
                  </a:cubicBezTo>
                  <a:lnTo>
                    <a:pt x="635822" y="17529"/>
                  </a:lnTo>
                  <a:lnTo>
                    <a:pt x="618691" y="68514"/>
                  </a:lnTo>
                  <a:cubicBezTo>
                    <a:pt x="617616" y="71748"/>
                    <a:pt x="615401" y="74623"/>
                    <a:pt x="612048" y="77138"/>
                  </a:cubicBezTo>
                  <a:cubicBezTo>
                    <a:pt x="608695" y="79653"/>
                    <a:pt x="605209" y="80910"/>
                    <a:pt x="601591" y="80910"/>
                  </a:cubicBezTo>
                  <a:cubicBezTo>
                    <a:pt x="595968" y="80910"/>
                    <a:pt x="591669" y="79074"/>
                    <a:pt x="588696" y="75400"/>
                  </a:cubicBezTo>
                  <a:cubicBezTo>
                    <a:pt x="585722" y="71727"/>
                    <a:pt x="584235" y="67375"/>
                    <a:pt x="584235" y="62345"/>
                  </a:cubicBezTo>
                  <a:lnTo>
                    <a:pt x="584235" y="61046"/>
                  </a:lnTo>
                  <a:lnTo>
                    <a:pt x="599684" y="13042"/>
                  </a:lnTo>
                  <a:cubicBezTo>
                    <a:pt x="600998" y="9365"/>
                    <a:pt x="603495" y="6272"/>
                    <a:pt x="607175" y="3763"/>
                  </a:cubicBezTo>
                  <a:cubicBezTo>
                    <a:pt x="610854" y="1254"/>
                    <a:pt x="614753" y="0"/>
                    <a:pt x="618870" y="0"/>
                  </a:cubicBez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0" descr="07房"/>
          <p:cNvPicPr/>
          <p:nvPr/>
        </p:nvPicPr>
        <p:blipFill>
          <a:blip r:embed="rId1"/>
          <a:stretch/>
        </p:blipFill>
        <p:spPr>
          <a:xfrm>
            <a:off x="498600" y="1114560"/>
            <a:ext cx="2762280" cy="276228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8"/>
          <p:cNvSpPr/>
          <p:nvPr/>
        </p:nvSpPr>
        <p:spPr>
          <a:xfrm>
            <a:off x="918360" y="100080"/>
            <a:ext cx="192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宋体"/>
                <a:ea typeface="宋体"/>
              </a:rPr>
              <a:t>fán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16" descr=""/>
          <p:cNvPicPr/>
          <p:nvPr/>
        </p:nvPicPr>
        <p:blipFill>
          <a:blip r:embed="rId2"/>
          <a:srcRect l="0" t="0" r="1007" b="0"/>
          <a:stretch/>
        </p:blipFill>
        <p:spPr>
          <a:xfrm>
            <a:off x="2647800" y="4075200"/>
            <a:ext cx="3246480" cy="59508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2"/>
          <p:cNvSpPr/>
          <p:nvPr/>
        </p:nvSpPr>
        <p:spPr>
          <a:xfrm>
            <a:off x="4168800" y="1192320"/>
            <a:ext cx="2762280" cy="25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构：</a:t>
            </a:r>
            <a:r>
              <a:rPr b="1" lang="zh-CN" sz="2800" spc="-1" strike="noStrike">
                <a:solidFill>
                  <a:srgbClr val="ee1a20"/>
                </a:solidFill>
                <a:latin typeface="宋体"/>
                <a:ea typeface="宋体"/>
              </a:rPr>
              <a:t>半包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词：</a:t>
            </a:r>
            <a:r>
              <a:rPr b="1" lang="zh-CN" sz="2800" spc="-1" strike="noStrike">
                <a:solidFill>
                  <a:srgbClr val="ee1a20"/>
                </a:solidFill>
                <a:latin typeface="宋体"/>
                <a:ea typeface="宋体"/>
              </a:rPr>
              <a:t>房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平</a:t>
            </a:r>
            <a:r>
              <a:rPr b="1" lang="zh-CN" sz="2800" spc="-1" strike="noStrike">
                <a:solidFill>
                  <a:srgbClr val="ee1a20"/>
                </a:solidFill>
                <a:latin typeface="宋体"/>
                <a:ea typeface="宋体"/>
              </a:rPr>
              <a:t>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2"/>
          <p:cNvSpPr/>
          <p:nvPr/>
        </p:nvSpPr>
        <p:spPr>
          <a:xfrm>
            <a:off x="1420920" y="3968640"/>
            <a:ext cx="133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笔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" descr=""/>
          <p:cNvPicPr/>
          <p:nvPr/>
        </p:nvPicPr>
        <p:blipFill>
          <a:blip r:embed="rId3"/>
          <a:stretch/>
        </p:blipFill>
        <p:spPr>
          <a:xfrm>
            <a:off x="5322960" y="1440000"/>
            <a:ext cx="353880" cy="369720"/>
          </a:xfrm>
          <a:prstGeom prst="rect">
            <a:avLst/>
          </a:prstGeom>
          <a:ln w="0">
            <a:noFill/>
          </a:ln>
        </p:spPr>
      </p:pic>
      <p:grpSp>
        <p:nvGrpSpPr>
          <p:cNvPr id="117" name="组合 1"/>
          <p:cNvGrpSpPr/>
          <p:nvPr/>
        </p:nvGrpSpPr>
        <p:grpSpPr>
          <a:xfrm>
            <a:off x="7192800" y="1380960"/>
            <a:ext cx="1241640" cy="1882800"/>
            <a:chOff x="7192800" y="1380960"/>
            <a:chExt cx="1241640" cy="1882800"/>
          </a:xfrm>
        </p:grpSpPr>
        <p:pic>
          <p:nvPicPr>
            <p:cNvPr id="118" name="图片 10" descr=""/>
            <p:cNvPicPr/>
            <p:nvPr/>
          </p:nvPicPr>
          <p:blipFill>
            <a:blip r:embed="rId4"/>
            <a:stretch/>
          </p:blipFill>
          <p:spPr>
            <a:xfrm>
              <a:off x="7192800" y="1726920"/>
              <a:ext cx="12416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任意多边形: 形状 13">
              <a:hlinkClick r:id="" action="ppaction://hlinkshowjump?jump=firstslide"/>
            </p:cNvPr>
            <p:cNvSpPr/>
            <p:nvPr/>
          </p:nvSpPr>
          <p:spPr>
            <a:xfrm>
              <a:off x="7276680" y="1380960"/>
              <a:ext cx="1081440" cy="369720"/>
            </a:xfrm>
            <a:custGeom>
              <a:avLst/>
              <a:gdLst/>
              <a:ahLst/>
              <a:rect l="l" t="t" r="r" b="b"/>
              <a:pathLst>
                <a:path w="1081039" h="370198">
                  <a:moveTo>
                    <a:pt x="610032" y="293857"/>
                  </a:moveTo>
                  <a:cubicBezTo>
                    <a:pt x="606056" y="293857"/>
                    <a:pt x="599112" y="293992"/>
                    <a:pt x="589201" y="294260"/>
                  </a:cubicBezTo>
                  <a:cubicBezTo>
                    <a:pt x="579824" y="294529"/>
                    <a:pt x="569616" y="294796"/>
                    <a:pt x="558579" y="295060"/>
                  </a:cubicBezTo>
                  <a:cubicBezTo>
                    <a:pt x="547832" y="295862"/>
                    <a:pt x="537584" y="296396"/>
                    <a:pt x="527835" y="296660"/>
                  </a:cubicBezTo>
                  <a:cubicBezTo>
                    <a:pt x="518087" y="296925"/>
                    <a:pt x="511158" y="297196"/>
                    <a:pt x="507050" y="297473"/>
                  </a:cubicBezTo>
                  <a:cubicBezTo>
                    <a:pt x="506090" y="297473"/>
                    <a:pt x="503871" y="297675"/>
                    <a:pt x="500394" y="298078"/>
                  </a:cubicBezTo>
                  <a:cubicBezTo>
                    <a:pt x="496917" y="298481"/>
                    <a:pt x="494470" y="298749"/>
                    <a:pt x="493054" y="298881"/>
                  </a:cubicBezTo>
                  <a:cubicBezTo>
                    <a:pt x="491637" y="299013"/>
                    <a:pt x="490572" y="299216"/>
                    <a:pt x="489857" y="299489"/>
                  </a:cubicBezTo>
                  <a:cubicBezTo>
                    <a:pt x="489142" y="299762"/>
                    <a:pt x="488913" y="299579"/>
                    <a:pt x="489169" y="298939"/>
                  </a:cubicBezTo>
                  <a:lnTo>
                    <a:pt x="489169" y="309850"/>
                  </a:lnTo>
                  <a:lnTo>
                    <a:pt x="489169" y="321209"/>
                  </a:lnTo>
                  <a:cubicBezTo>
                    <a:pt x="489382" y="322903"/>
                    <a:pt x="489608" y="325261"/>
                    <a:pt x="489847" y="328284"/>
                  </a:cubicBezTo>
                  <a:cubicBezTo>
                    <a:pt x="490086" y="331307"/>
                    <a:pt x="490118" y="332731"/>
                    <a:pt x="489943" y="332556"/>
                  </a:cubicBezTo>
                  <a:lnTo>
                    <a:pt x="490103" y="332684"/>
                  </a:lnTo>
                  <a:lnTo>
                    <a:pt x="501949" y="332684"/>
                  </a:lnTo>
                  <a:cubicBezTo>
                    <a:pt x="522735" y="332684"/>
                    <a:pt x="542638" y="332349"/>
                    <a:pt x="561657" y="331679"/>
                  </a:cubicBezTo>
                  <a:cubicBezTo>
                    <a:pt x="580677" y="331009"/>
                    <a:pt x="598248" y="330674"/>
                    <a:pt x="614371" y="330674"/>
                  </a:cubicBezTo>
                  <a:cubicBezTo>
                    <a:pt x="614371" y="326596"/>
                    <a:pt x="613840" y="320836"/>
                    <a:pt x="612777" y="313395"/>
                  </a:cubicBezTo>
                  <a:lnTo>
                    <a:pt x="610934" y="293857"/>
                  </a:lnTo>
                  <a:close/>
                  <a:moveTo>
                    <a:pt x="552935" y="248855"/>
                  </a:moveTo>
                  <a:cubicBezTo>
                    <a:pt x="542192" y="248855"/>
                    <a:pt x="530385" y="249380"/>
                    <a:pt x="517513" y="250430"/>
                  </a:cubicBezTo>
                  <a:cubicBezTo>
                    <a:pt x="515094" y="250967"/>
                    <a:pt x="512009" y="251376"/>
                    <a:pt x="508259" y="251655"/>
                  </a:cubicBezTo>
                  <a:cubicBezTo>
                    <a:pt x="504509" y="251934"/>
                    <a:pt x="501038" y="252208"/>
                    <a:pt x="497847" y="252474"/>
                  </a:cubicBezTo>
                  <a:cubicBezTo>
                    <a:pt x="494656" y="252741"/>
                    <a:pt x="491742" y="253009"/>
                    <a:pt x="489105" y="253277"/>
                  </a:cubicBezTo>
                  <a:lnTo>
                    <a:pt x="487563" y="253452"/>
                  </a:lnTo>
                  <a:lnTo>
                    <a:pt x="487563" y="263171"/>
                  </a:lnTo>
                  <a:lnTo>
                    <a:pt x="490295" y="263171"/>
                  </a:lnTo>
                  <a:cubicBezTo>
                    <a:pt x="494681" y="263171"/>
                    <a:pt x="498549" y="262923"/>
                    <a:pt x="501898" y="262426"/>
                  </a:cubicBezTo>
                  <a:cubicBezTo>
                    <a:pt x="505247" y="261929"/>
                    <a:pt x="509569" y="261241"/>
                    <a:pt x="514863" y="260362"/>
                  </a:cubicBezTo>
                  <a:lnTo>
                    <a:pt x="611171" y="260362"/>
                  </a:lnTo>
                  <a:lnTo>
                    <a:pt x="612765" y="249207"/>
                  </a:lnTo>
                  <a:lnTo>
                    <a:pt x="612406" y="248855"/>
                  </a:lnTo>
                  <a:lnTo>
                    <a:pt x="589937" y="248855"/>
                  </a:lnTo>
                  <a:cubicBezTo>
                    <a:pt x="576012" y="248855"/>
                    <a:pt x="563678" y="248855"/>
                    <a:pt x="552935" y="248855"/>
                  </a:cubicBezTo>
                  <a:close/>
                  <a:moveTo>
                    <a:pt x="606877" y="187381"/>
                  </a:moveTo>
                  <a:cubicBezTo>
                    <a:pt x="597504" y="187649"/>
                    <a:pt x="585863" y="187918"/>
                    <a:pt x="571954" y="188187"/>
                  </a:cubicBezTo>
                  <a:cubicBezTo>
                    <a:pt x="558046" y="188456"/>
                    <a:pt x="544530" y="188857"/>
                    <a:pt x="531406" y="189390"/>
                  </a:cubicBezTo>
                  <a:lnTo>
                    <a:pt x="485956" y="190553"/>
                  </a:lnTo>
                  <a:lnTo>
                    <a:pt x="485956" y="215660"/>
                  </a:lnTo>
                  <a:lnTo>
                    <a:pt x="486180" y="216166"/>
                  </a:lnTo>
                  <a:lnTo>
                    <a:pt x="493508" y="216166"/>
                  </a:lnTo>
                  <a:cubicBezTo>
                    <a:pt x="515433" y="216166"/>
                    <a:pt x="536226" y="215841"/>
                    <a:pt x="555888" y="215190"/>
                  </a:cubicBezTo>
                  <a:cubicBezTo>
                    <a:pt x="575550" y="214539"/>
                    <a:pt x="595149" y="214334"/>
                    <a:pt x="614685" y="214573"/>
                  </a:cubicBezTo>
                  <a:cubicBezTo>
                    <a:pt x="616886" y="204875"/>
                    <a:pt x="617987" y="195811"/>
                    <a:pt x="617987" y="187381"/>
                  </a:cubicBezTo>
                  <a:close/>
                  <a:moveTo>
                    <a:pt x="953994" y="177192"/>
                  </a:moveTo>
                  <a:cubicBezTo>
                    <a:pt x="965027" y="177192"/>
                    <a:pt x="970544" y="182572"/>
                    <a:pt x="970544" y="193332"/>
                  </a:cubicBezTo>
                  <a:cubicBezTo>
                    <a:pt x="970544" y="204514"/>
                    <a:pt x="969405" y="215396"/>
                    <a:pt x="967129" y="225977"/>
                  </a:cubicBezTo>
                  <a:cubicBezTo>
                    <a:pt x="964853" y="236557"/>
                    <a:pt x="963715" y="247104"/>
                    <a:pt x="963715" y="257616"/>
                  </a:cubicBezTo>
                  <a:lnTo>
                    <a:pt x="963715" y="258205"/>
                  </a:lnTo>
                  <a:lnTo>
                    <a:pt x="973481" y="267600"/>
                  </a:lnTo>
                  <a:cubicBezTo>
                    <a:pt x="973635" y="267907"/>
                    <a:pt x="975063" y="268883"/>
                    <a:pt x="977766" y="270528"/>
                  </a:cubicBezTo>
                  <a:cubicBezTo>
                    <a:pt x="980468" y="272172"/>
                    <a:pt x="983876" y="274270"/>
                    <a:pt x="987989" y="276822"/>
                  </a:cubicBezTo>
                  <a:cubicBezTo>
                    <a:pt x="992102" y="279373"/>
                    <a:pt x="996049" y="281888"/>
                    <a:pt x="999831" y="284367"/>
                  </a:cubicBezTo>
                  <a:cubicBezTo>
                    <a:pt x="1003614" y="286845"/>
                    <a:pt x="1006509" y="288639"/>
                    <a:pt x="1008519" y="289749"/>
                  </a:cubicBezTo>
                  <a:cubicBezTo>
                    <a:pt x="1009713" y="290342"/>
                    <a:pt x="1012657" y="291912"/>
                    <a:pt x="1017350" y="294459"/>
                  </a:cubicBezTo>
                  <a:cubicBezTo>
                    <a:pt x="1022043" y="297006"/>
                    <a:pt x="1026973" y="299572"/>
                    <a:pt x="1032140" y="302158"/>
                  </a:cubicBezTo>
                  <a:cubicBezTo>
                    <a:pt x="1037993" y="304820"/>
                    <a:pt x="1043143" y="307401"/>
                    <a:pt x="1047589" y="309901"/>
                  </a:cubicBezTo>
                  <a:cubicBezTo>
                    <a:pt x="1052452" y="312597"/>
                    <a:pt x="1055513" y="314321"/>
                    <a:pt x="1056772" y="315072"/>
                  </a:cubicBezTo>
                  <a:cubicBezTo>
                    <a:pt x="1059972" y="316527"/>
                    <a:pt x="1063142" y="318659"/>
                    <a:pt x="1066282" y="321468"/>
                  </a:cubicBezTo>
                  <a:cubicBezTo>
                    <a:pt x="1069422" y="324278"/>
                    <a:pt x="1070992" y="327958"/>
                    <a:pt x="1070992" y="332508"/>
                  </a:cubicBezTo>
                  <a:cubicBezTo>
                    <a:pt x="1070992" y="337058"/>
                    <a:pt x="1069663" y="341196"/>
                    <a:pt x="1067005" y="344923"/>
                  </a:cubicBezTo>
                  <a:cubicBezTo>
                    <a:pt x="1064347" y="348650"/>
                    <a:pt x="1060294" y="350513"/>
                    <a:pt x="1054846" y="350513"/>
                  </a:cubicBezTo>
                  <a:cubicBezTo>
                    <a:pt x="1052640" y="350513"/>
                    <a:pt x="1051096" y="350336"/>
                    <a:pt x="1050216" y="349982"/>
                  </a:cubicBezTo>
                  <a:cubicBezTo>
                    <a:pt x="1049334" y="349628"/>
                    <a:pt x="1048041" y="349169"/>
                    <a:pt x="1046334" y="348606"/>
                  </a:cubicBezTo>
                  <a:cubicBezTo>
                    <a:pt x="1044261" y="347416"/>
                    <a:pt x="1041010" y="345790"/>
                    <a:pt x="1036581" y="343729"/>
                  </a:cubicBezTo>
                  <a:cubicBezTo>
                    <a:pt x="1034695" y="342091"/>
                    <a:pt x="1030854" y="340058"/>
                    <a:pt x="1025056" y="337631"/>
                  </a:cubicBezTo>
                  <a:cubicBezTo>
                    <a:pt x="1019257" y="335203"/>
                    <a:pt x="1014344" y="332949"/>
                    <a:pt x="1010314" y="330869"/>
                  </a:cubicBezTo>
                  <a:cubicBezTo>
                    <a:pt x="1006284" y="328790"/>
                    <a:pt x="1003399" y="327459"/>
                    <a:pt x="1001659" y="326879"/>
                  </a:cubicBezTo>
                  <a:cubicBezTo>
                    <a:pt x="992925" y="322242"/>
                    <a:pt x="984615" y="316915"/>
                    <a:pt x="976729" y="310899"/>
                  </a:cubicBezTo>
                  <a:cubicBezTo>
                    <a:pt x="968842" y="304884"/>
                    <a:pt x="961066" y="300274"/>
                    <a:pt x="953399" y="297070"/>
                  </a:cubicBezTo>
                  <a:cubicBezTo>
                    <a:pt x="953245" y="297305"/>
                    <a:pt x="952898" y="298960"/>
                    <a:pt x="952356" y="302036"/>
                  </a:cubicBezTo>
                  <a:cubicBezTo>
                    <a:pt x="952100" y="306379"/>
                    <a:pt x="951691" y="311144"/>
                    <a:pt x="951130" y="316330"/>
                  </a:cubicBezTo>
                  <a:cubicBezTo>
                    <a:pt x="950569" y="321515"/>
                    <a:pt x="948996" y="326120"/>
                    <a:pt x="946411" y="330143"/>
                  </a:cubicBezTo>
                  <a:cubicBezTo>
                    <a:pt x="943509" y="335954"/>
                    <a:pt x="938403" y="338859"/>
                    <a:pt x="931090" y="338859"/>
                  </a:cubicBezTo>
                  <a:cubicBezTo>
                    <a:pt x="924716" y="338859"/>
                    <a:pt x="920238" y="336709"/>
                    <a:pt x="917657" y="332409"/>
                  </a:cubicBezTo>
                  <a:cubicBezTo>
                    <a:pt x="916381" y="329217"/>
                    <a:pt x="915744" y="325181"/>
                    <a:pt x="915744" y="320300"/>
                  </a:cubicBezTo>
                  <a:cubicBezTo>
                    <a:pt x="915744" y="319494"/>
                    <a:pt x="915744" y="317921"/>
                    <a:pt x="915744" y="315581"/>
                  </a:cubicBezTo>
                  <a:cubicBezTo>
                    <a:pt x="915744" y="313241"/>
                    <a:pt x="915963" y="311855"/>
                    <a:pt x="916403" y="311424"/>
                  </a:cubicBezTo>
                  <a:lnTo>
                    <a:pt x="934226" y="215961"/>
                  </a:lnTo>
                  <a:cubicBezTo>
                    <a:pt x="934226" y="213465"/>
                    <a:pt x="934226" y="210133"/>
                    <a:pt x="934226" y="205965"/>
                  </a:cubicBezTo>
                  <a:cubicBezTo>
                    <a:pt x="934226" y="201797"/>
                    <a:pt x="934663" y="197670"/>
                    <a:pt x="935538" y="193585"/>
                  </a:cubicBezTo>
                  <a:cubicBezTo>
                    <a:pt x="936412" y="189500"/>
                    <a:pt x="938220" y="185747"/>
                    <a:pt x="940961" y="182325"/>
                  </a:cubicBezTo>
                  <a:cubicBezTo>
                    <a:pt x="943703" y="178903"/>
                    <a:pt x="948047" y="177192"/>
                    <a:pt x="953994" y="177192"/>
                  </a:cubicBezTo>
                  <a:close/>
                  <a:moveTo>
                    <a:pt x="105024" y="162070"/>
                  </a:moveTo>
                  <a:lnTo>
                    <a:pt x="105024" y="162793"/>
                  </a:lnTo>
                  <a:cubicBezTo>
                    <a:pt x="105024" y="163177"/>
                    <a:pt x="105080" y="163881"/>
                    <a:pt x="105193" y="164905"/>
                  </a:cubicBezTo>
                  <a:cubicBezTo>
                    <a:pt x="105306" y="165929"/>
                    <a:pt x="105423" y="167043"/>
                    <a:pt x="105542" y="168246"/>
                  </a:cubicBezTo>
                  <a:cubicBezTo>
                    <a:pt x="105662" y="169449"/>
                    <a:pt x="105862" y="170645"/>
                    <a:pt x="106144" y="171833"/>
                  </a:cubicBezTo>
                  <a:cubicBezTo>
                    <a:pt x="106425" y="173021"/>
                    <a:pt x="106587" y="173892"/>
                    <a:pt x="106630" y="174447"/>
                  </a:cubicBezTo>
                  <a:cubicBezTo>
                    <a:pt x="106630" y="176619"/>
                    <a:pt x="106816" y="179805"/>
                    <a:pt x="107187" y="184005"/>
                  </a:cubicBezTo>
                  <a:cubicBezTo>
                    <a:pt x="107558" y="188205"/>
                    <a:pt x="107876" y="192571"/>
                    <a:pt x="108140" y="197102"/>
                  </a:cubicBezTo>
                  <a:cubicBezTo>
                    <a:pt x="108682" y="202486"/>
                    <a:pt x="109096" y="207324"/>
                    <a:pt x="109382" y="211616"/>
                  </a:cubicBezTo>
                  <a:cubicBezTo>
                    <a:pt x="109689" y="216876"/>
                    <a:pt x="109843" y="219865"/>
                    <a:pt x="109843" y="220582"/>
                  </a:cubicBezTo>
                  <a:lnTo>
                    <a:pt x="110271" y="221267"/>
                  </a:lnTo>
                  <a:cubicBezTo>
                    <a:pt x="110271" y="221267"/>
                    <a:pt x="111194" y="221364"/>
                    <a:pt x="113039" y="221558"/>
                  </a:cubicBezTo>
                  <a:cubicBezTo>
                    <a:pt x="114884" y="221752"/>
                    <a:pt x="117682" y="222057"/>
                    <a:pt x="121432" y="222473"/>
                  </a:cubicBezTo>
                  <a:cubicBezTo>
                    <a:pt x="125182" y="222889"/>
                    <a:pt x="128613" y="223216"/>
                    <a:pt x="131723" y="223455"/>
                  </a:cubicBezTo>
                  <a:cubicBezTo>
                    <a:pt x="136040" y="223745"/>
                    <a:pt x="139274" y="224127"/>
                    <a:pt x="141425" y="224601"/>
                  </a:cubicBezTo>
                  <a:lnTo>
                    <a:pt x="146333" y="224601"/>
                  </a:lnTo>
                  <a:cubicBezTo>
                    <a:pt x="146231" y="224601"/>
                    <a:pt x="146619" y="224600"/>
                    <a:pt x="147498" y="224597"/>
                  </a:cubicBezTo>
                  <a:cubicBezTo>
                    <a:pt x="148377" y="224595"/>
                    <a:pt x="148765" y="224963"/>
                    <a:pt x="148663" y="225701"/>
                  </a:cubicBezTo>
                  <a:cubicBezTo>
                    <a:pt x="148663" y="223905"/>
                    <a:pt x="148730" y="220195"/>
                    <a:pt x="148864" y="214569"/>
                  </a:cubicBezTo>
                  <a:cubicBezTo>
                    <a:pt x="148999" y="208944"/>
                    <a:pt x="149133" y="202851"/>
                    <a:pt x="149267" y="196289"/>
                  </a:cubicBezTo>
                  <a:cubicBezTo>
                    <a:pt x="149402" y="189727"/>
                    <a:pt x="149535" y="183706"/>
                    <a:pt x="149667" y="178226"/>
                  </a:cubicBezTo>
                  <a:cubicBezTo>
                    <a:pt x="149800" y="172746"/>
                    <a:pt x="149866" y="168807"/>
                    <a:pt x="149866" y="166409"/>
                  </a:cubicBezTo>
                  <a:lnTo>
                    <a:pt x="149866" y="165609"/>
                  </a:lnTo>
                  <a:cubicBezTo>
                    <a:pt x="149866" y="165289"/>
                    <a:pt x="149436" y="164866"/>
                    <a:pt x="148576" y="164339"/>
                  </a:cubicBezTo>
                  <a:cubicBezTo>
                    <a:pt x="147717" y="163812"/>
                    <a:pt x="146120" y="163364"/>
                    <a:pt x="143786" y="162995"/>
                  </a:cubicBezTo>
                  <a:cubicBezTo>
                    <a:pt x="141452" y="162626"/>
                    <a:pt x="139195" y="162379"/>
                    <a:pt x="137015" y="162256"/>
                  </a:cubicBezTo>
                  <a:cubicBezTo>
                    <a:pt x="134835" y="162132"/>
                    <a:pt x="133252" y="162070"/>
                    <a:pt x="132267" y="162070"/>
                  </a:cubicBezTo>
                  <a:lnTo>
                    <a:pt x="117401" y="162070"/>
                  </a:lnTo>
                  <a:close/>
                  <a:moveTo>
                    <a:pt x="101389" y="125362"/>
                  </a:moveTo>
                  <a:cubicBezTo>
                    <a:pt x="105689" y="125626"/>
                    <a:pt x="109286" y="125759"/>
                    <a:pt x="112178" y="125759"/>
                  </a:cubicBezTo>
                  <a:lnTo>
                    <a:pt x="127448" y="125759"/>
                  </a:lnTo>
                  <a:cubicBezTo>
                    <a:pt x="127589" y="125759"/>
                    <a:pt x="129304" y="125923"/>
                    <a:pt x="132593" y="126251"/>
                  </a:cubicBezTo>
                  <a:cubicBezTo>
                    <a:pt x="135546" y="127058"/>
                    <a:pt x="138961" y="127669"/>
                    <a:pt x="142839" y="128085"/>
                  </a:cubicBezTo>
                  <a:cubicBezTo>
                    <a:pt x="146717" y="128501"/>
                    <a:pt x="150443" y="128965"/>
                    <a:pt x="154016" y="129477"/>
                  </a:cubicBezTo>
                  <a:cubicBezTo>
                    <a:pt x="157589" y="129989"/>
                    <a:pt x="160577" y="130511"/>
                    <a:pt x="162979" y="131045"/>
                  </a:cubicBezTo>
                  <a:cubicBezTo>
                    <a:pt x="168768" y="131958"/>
                    <a:pt x="173213" y="133476"/>
                    <a:pt x="176312" y="135598"/>
                  </a:cubicBezTo>
                  <a:cubicBezTo>
                    <a:pt x="179412" y="137721"/>
                    <a:pt x="182301" y="141630"/>
                    <a:pt x="184980" y="147325"/>
                  </a:cubicBezTo>
                  <a:lnTo>
                    <a:pt x="184980" y="161590"/>
                  </a:lnTo>
                  <a:lnTo>
                    <a:pt x="184980" y="174447"/>
                  </a:lnTo>
                  <a:cubicBezTo>
                    <a:pt x="184980" y="175113"/>
                    <a:pt x="184903" y="178793"/>
                    <a:pt x="184747" y="185489"/>
                  </a:cubicBezTo>
                  <a:cubicBezTo>
                    <a:pt x="184591" y="192186"/>
                    <a:pt x="184380" y="198671"/>
                    <a:pt x="184113" y="204944"/>
                  </a:cubicBezTo>
                  <a:cubicBezTo>
                    <a:pt x="183847" y="211218"/>
                    <a:pt x="183651" y="217157"/>
                    <a:pt x="183528" y="222761"/>
                  </a:cubicBezTo>
                  <a:cubicBezTo>
                    <a:pt x="183404" y="228365"/>
                    <a:pt x="183353" y="232472"/>
                    <a:pt x="183374" y="235083"/>
                  </a:cubicBezTo>
                  <a:cubicBezTo>
                    <a:pt x="181139" y="240297"/>
                    <a:pt x="179478" y="244111"/>
                    <a:pt x="178392" y="246526"/>
                  </a:cubicBezTo>
                  <a:cubicBezTo>
                    <a:pt x="177306" y="248941"/>
                    <a:pt x="175772" y="251305"/>
                    <a:pt x="173791" y="253620"/>
                  </a:cubicBezTo>
                  <a:cubicBezTo>
                    <a:pt x="171809" y="255934"/>
                    <a:pt x="169435" y="257661"/>
                    <a:pt x="166668" y="258800"/>
                  </a:cubicBezTo>
                  <a:cubicBezTo>
                    <a:pt x="163901" y="259939"/>
                    <a:pt x="160336" y="260509"/>
                    <a:pt x="155971" y="260509"/>
                  </a:cubicBezTo>
                  <a:cubicBezTo>
                    <a:pt x="144959" y="260509"/>
                    <a:pt x="134214" y="259971"/>
                    <a:pt x="123736" y="258896"/>
                  </a:cubicBezTo>
                  <a:cubicBezTo>
                    <a:pt x="113258" y="257821"/>
                    <a:pt x="102660" y="257145"/>
                    <a:pt x="91943" y="256868"/>
                  </a:cubicBezTo>
                  <a:cubicBezTo>
                    <a:pt x="86687" y="255225"/>
                    <a:pt x="82970" y="252981"/>
                    <a:pt x="80792" y="250135"/>
                  </a:cubicBezTo>
                  <a:cubicBezTo>
                    <a:pt x="78614" y="247289"/>
                    <a:pt x="76737" y="243503"/>
                    <a:pt x="75163" y="238776"/>
                  </a:cubicBezTo>
                  <a:cubicBezTo>
                    <a:pt x="74621" y="225277"/>
                    <a:pt x="73550" y="211584"/>
                    <a:pt x="71951" y="197697"/>
                  </a:cubicBezTo>
                  <a:cubicBezTo>
                    <a:pt x="70858" y="184074"/>
                    <a:pt x="70312" y="170298"/>
                    <a:pt x="70312" y="156368"/>
                  </a:cubicBezTo>
                  <a:lnTo>
                    <a:pt x="70312" y="142878"/>
                  </a:lnTo>
                  <a:cubicBezTo>
                    <a:pt x="70649" y="137809"/>
                    <a:pt x="72910" y="133756"/>
                    <a:pt x="77096" y="130718"/>
                  </a:cubicBezTo>
                  <a:cubicBezTo>
                    <a:pt x="80872" y="128969"/>
                    <a:pt x="84884" y="127487"/>
                    <a:pt x="89133" y="126271"/>
                  </a:cubicBezTo>
                  <a:cubicBezTo>
                    <a:pt x="94014" y="125665"/>
                    <a:pt x="98099" y="125362"/>
                    <a:pt x="101389" y="125362"/>
                  </a:cubicBezTo>
                  <a:close/>
                  <a:moveTo>
                    <a:pt x="140167" y="86932"/>
                  </a:moveTo>
                  <a:cubicBezTo>
                    <a:pt x="136325" y="86932"/>
                    <a:pt x="132472" y="86999"/>
                    <a:pt x="128606" y="87134"/>
                  </a:cubicBezTo>
                  <a:cubicBezTo>
                    <a:pt x="124741" y="87268"/>
                    <a:pt x="121006" y="87335"/>
                    <a:pt x="117401" y="87335"/>
                  </a:cubicBezTo>
                  <a:cubicBezTo>
                    <a:pt x="114457" y="87335"/>
                    <a:pt x="112850" y="87335"/>
                    <a:pt x="112582" y="87335"/>
                  </a:cubicBezTo>
                  <a:cubicBezTo>
                    <a:pt x="111101" y="87335"/>
                    <a:pt x="107764" y="87467"/>
                    <a:pt x="102569" y="87729"/>
                  </a:cubicBezTo>
                  <a:cubicBezTo>
                    <a:pt x="97375" y="87991"/>
                    <a:pt x="91111" y="88263"/>
                    <a:pt x="83777" y="88545"/>
                  </a:cubicBezTo>
                  <a:cubicBezTo>
                    <a:pt x="77390" y="88810"/>
                    <a:pt x="70917" y="89139"/>
                    <a:pt x="64357" y="89534"/>
                  </a:cubicBezTo>
                  <a:cubicBezTo>
                    <a:pt x="57798" y="89928"/>
                    <a:pt x="52959" y="90254"/>
                    <a:pt x="49840" y="90510"/>
                  </a:cubicBezTo>
                  <a:cubicBezTo>
                    <a:pt x="47677" y="90783"/>
                    <a:pt x="45217" y="91014"/>
                    <a:pt x="42461" y="91204"/>
                  </a:cubicBezTo>
                  <a:cubicBezTo>
                    <a:pt x="39705" y="91394"/>
                    <a:pt x="38327" y="90668"/>
                    <a:pt x="38327" y="89025"/>
                  </a:cubicBezTo>
                  <a:lnTo>
                    <a:pt x="36721" y="92238"/>
                  </a:lnTo>
                  <a:lnTo>
                    <a:pt x="36721" y="104941"/>
                  </a:lnTo>
                  <a:lnTo>
                    <a:pt x="36721" y="125938"/>
                  </a:lnTo>
                  <a:cubicBezTo>
                    <a:pt x="36943" y="130917"/>
                    <a:pt x="37188" y="137826"/>
                    <a:pt x="37457" y="146666"/>
                  </a:cubicBezTo>
                  <a:cubicBezTo>
                    <a:pt x="37725" y="155506"/>
                    <a:pt x="37994" y="164814"/>
                    <a:pt x="38263" y="174591"/>
                  </a:cubicBezTo>
                  <a:cubicBezTo>
                    <a:pt x="38532" y="184367"/>
                    <a:pt x="38796" y="193962"/>
                    <a:pt x="39057" y="203373"/>
                  </a:cubicBezTo>
                  <a:cubicBezTo>
                    <a:pt x="39863" y="213037"/>
                    <a:pt x="40400" y="221805"/>
                    <a:pt x="40669" y="229679"/>
                  </a:cubicBezTo>
                  <a:cubicBezTo>
                    <a:pt x="40938" y="237552"/>
                    <a:pt x="41145" y="244040"/>
                    <a:pt x="41290" y="249140"/>
                  </a:cubicBezTo>
                  <a:cubicBezTo>
                    <a:pt x="41435" y="254240"/>
                    <a:pt x="41518" y="257070"/>
                    <a:pt x="41540" y="257629"/>
                  </a:cubicBezTo>
                  <a:lnTo>
                    <a:pt x="44656" y="280853"/>
                  </a:lnTo>
                  <a:lnTo>
                    <a:pt x="211993" y="280853"/>
                  </a:lnTo>
                  <a:lnTo>
                    <a:pt x="225004" y="101056"/>
                  </a:lnTo>
                  <a:lnTo>
                    <a:pt x="225004" y="96097"/>
                  </a:lnTo>
                  <a:cubicBezTo>
                    <a:pt x="225004" y="93763"/>
                    <a:pt x="224447" y="92395"/>
                    <a:pt x="223333" y="91994"/>
                  </a:cubicBezTo>
                  <a:cubicBezTo>
                    <a:pt x="221213" y="91568"/>
                    <a:pt x="217998" y="91086"/>
                    <a:pt x="213689" y="90548"/>
                  </a:cubicBezTo>
                  <a:cubicBezTo>
                    <a:pt x="211569" y="90249"/>
                    <a:pt x="208914" y="89901"/>
                    <a:pt x="205725" y="89502"/>
                  </a:cubicBezTo>
                  <a:cubicBezTo>
                    <a:pt x="202536" y="89103"/>
                    <a:pt x="199352" y="88771"/>
                    <a:pt x="196173" y="88507"/>
                  </a:cubicBezTo>
                  <a:cubicBezTo>
                    <a:pt x="192995" y="88242"/>
                    <a:pt x="190217" y="87981"/>
                    <a:pt x="187841" y="87723"/>
                  </a:cubicBezTo>
                  <a:cubicBezTo>
                    <a:pt x="185465" y="87465"/>
                    <a:pt x="184179" y="87335"/>
                    <a:pt x="183985" y="87335"/>
                  </a:cubicBezTo>
                  <a:cubicBezTo>
                    <a:pt x="183791" y="87335"/>
                    <a:pt x="182256" y="87335"/>
                    <a:pt x="179381" y="87335"/>
                  </a:cubicBezTo>
                  <a:cubicBezTo>
                    <a:pt x="176505" y="87335"/>
                    <a:pt x="173263" y="87268"/>
                    <a:pt x="169653" y="87134"/>
                  </a:cubicBezTo>
                  <a:cubicBezTo>
                    <a:pt x="166044" y="86999"/>
                    <a:pt x="162326" y="86932"/>
                    <a:pt x="158499" y="86932"/>
                  </a:cubicBezTo>
                  <a:cubicBezTo>
                    <a:pt x="154672" y="86932"/>
                    <a:pt x="151620" y="86932"/>
                    <a:pt x="149344" y="86932"/>
                  </a:cubicBezTo>
                  <a:cubicBezTo>
                    <a:pt x="147068" y="86932"/>
                    <a:pt x="144009" y="86932"/>
                    <a:pt x="140167" y="86932"/>
                  </a:cubicBezTo>
                  <a:close/>
                  <a:moveTo>
                    <a:pt x="660256" y="84379"/>
                  </a:moveTo>
                  <a:cubicBezTo>
                    <a:pt x="665589" y="84379"/>
                    <a:pt x="671154" y="85146"/>
                    <a:pt x="676950" y="86680"/>
                  </a:cubicBezTo>
                  <a:cubicBezTo>
                    <a:pt x="682745" y="88213"/>
                    <a:pt x="685643" y="93093"/>
                    <a:pt x="685643" y="101319"/>
                  </a:cubicBezTo>
                  <a:cubicBezTo>
                    <a:pt x="685643" y="105231"/>
                    <a:pt x="684735" y="108702"/>
                    <a:pt x="682917" y="111731"/>
                  </a:cubicBezTo>
                  <a:cubicBezTo>
                    <a:pt x="681275" y="116240"/>
                    <a:pt x="677691" y="118681"/>
                    <a:pt x="672166" y="119052"/>
                  </a:cubicBezTo>
                  <a:lnTo>
                    <a:pt x="573561" y="124300"/>
                  </a:lnTo>
                  <a:cubicBezTo>
                    <a:pt x="573885" y="124300"/>
                    <a:pt x="573622" y="124603"/>
                    <a:pt x="572773" y="125208"/>
                  </a:cubicBezTo>
                  <a:cubicBezTo>
                    <a:pt x="571357" y="127192"/>
                    <a:pt x="570232" y="128839"/>
                    <a:pt x="569398" y="130149"/>
                  </a:cubicBezTo>
                  <a:cubicBezTo>
                    <a:pt x="568564" y="131459"/>
                    <a:pt x="567383" y="133201"/>
                    <a:pt x="565856" y="135377"/>
                  </a:cubicBezTo>
                  <a:cubicBezTo>
                    <a:pt x="564563" y="138483"/>
                    <a:pt x="563014" y="141425"/>
                    <a:pt x="561209" y="144202"/>
                  </a:cubicBezTo>
                  <a:cubicBezTo>
                    <a:pt x="559405" y="146980"/>
                    <a:pt x="557996" y="149271"/>
                    <a:pt x="556983" y="151076"/>
                  </a:cubicBezTo>
                  <a:lnTo>
                    <a:pt x="556253" y="152265"/>
                  </a:lnTo>
                  <a:lnTo>
                    <a:pt x="589656" y="151677"/>
                  </a:lnTo>
                  <a:cubicBezTo>
                    <a:pt x="601576" y="151276"/>
                    <a:pt x="613189" y="151076"/>
                    <a:pt x="624495" y="151076"/>
                  </a:cubicBezTo>
                  <a:cubicBezTo>
                    <a:pt x="633796" y="151076"/>
                    <a:pt x="640927" y="153089"/>
                    <a:pt x="645889" y="157117"/>
                  </a:cubicBezTo>
                  <a:cubicBezTo>
                    <a:pt x="651499" y="162070"/>
                    <a:pt x="654305" y="169321"/>
                    <a:pt x="654305" y="178869"/>
                  </a:cubicBezTo>
                  <a:cubicBezTo>
                    <a:pt x="654305" y="197944"/>
                    <a:pt x="653099" y="216658"/>
                    <a:pt x="650689" y="235010"/>
                  </a:cubicBezTo>
                  <a:cubicBezTo>
                    <a:pt x="648278" y="253362"/>
                    <a:pt x="647073" y="271881"/>
                    <a:pt x="647073" y="290568"/>
                  </a:cubicBezTo>
                  <a:cubicBezTo>
                    <a:pt x="647073" y="291639"/>
                    <a:pt x="647073" y="293708"/>
                    <a:pt x="647073" y="296776"/>
                  </a:cubicBezTo>
                  <a:cubicBezTo>
                    <a:pt x="647073" y="299843"/>
                    <a:pt x="647140" y="302789"/>
                    <a:pt x="647275" y="305613"/>
                  </a:cubicBezTo>
                  <a:cubicBezTo>
                    <a:pt x="647409" y="308438"/>
                    <a:pt x="647476" y="310989"/>
                    <a:pt x="647476" y="313267"/>
                  </a:cubicBezTo>
                  <a:cubicBezTo>
                    <a:pt x="647476" y="315546"/>
                    <a:pt x="647476" y="317032"/>
                    <a:pt x="647476" y="317728"/>
                  </a:cubicBezTo>
                  <a:cubicBezTo>
                    <a:pt x="649277" y="321849"/>
                    <a:pt x="650329" y="325798"/>
                    <a:pt x="650634" y="329574"/>
                  </a:cubicBezTo>
                  <a:cubicBezTo>
                    <a:pt x="650939" y="333349"/>
                    <a:pt x="651092" y="337355"/>
                    <a:pt x="651092" y="341592"/>
                  </a:cubicBezTo>
                  <a:cubicBezTo>
                    <a:pt x="651092" y="341451"/>
                    <a:pt x="651019" y="342911"/>
                    <a:pt x="650874" y="345973"/>
                  </a:cubicBezTo>
                  <a:cubicBezTo>
                    <a:pt x="650729" y="349034"/>
                    <a:pt x="650667" y="350910"/>
                    <a:pt x="650689" y="351601"/>
                  </a:cubicBezTo>
                  <a:cubicBezTo>
                    <a:pt x="649170" y="357309"/>
                    <a:pt x="646366" y="361144"/>
                    <a:pt x="642276" y="363104"/>
                  </a:cubicBezTo>
                  <a:cubicBezTo>
                    <a:pt x="638187" y="365065"/>
                    <a:pt x="634203" y="366493"/>
                    <a:pt x="630325" y="367389"/>
                  </a:cubicBezTo>
                  <a:lnTo>
                    <a:pt x="533691" y="367389"/>
                  </a:lnTo>
                  <a:cubicBezTo>
                    <a:pt x="532706" y="367389"/>
                    <a:pt x="530605" y="367455"/>
                    <a:pt x="527391" y="367587"/>
                  </a:cubicBezTo>
                  <a:cubicBezTo>
                    <a:pt x="524176" y="367719"/>
                    <a:pt x="520608" y="367851"/>
                    <a:pt x="516687" y="367981"/>
                  </a:cubicBezTo>
                  <a:cubicBezTo>
                    <a:pt x="512766" y="368111"/>
                    <a:pt x="508905" y="368312"/>
                    <a:pt x="505104" y="368586"/>
                  </a:cubicBezTo>
                  <a:cubicBezTo>
                    <a:pt x="501303" y="368859"/>
                    <a:pt x="498510" y="368995"/>
                    <a:pt x="496727" y="368995"/>
                  </a:cubicBezTo>
                  <a:cubicBezTo>
                    <a:pt x="496629" y="368995"/>
                    <a:pt x="495709" y="369062"/>
                    <a:pt x="493969" y="369197"/>
                  </a:cubicBezTo>
                  <a:cubicBezTo>
                    <a:pt x="492228" y="369331"/>
                    <a:pt x="490486" y="369464"/>
                    <a:pt x="488743" y="369597"/>
                  </a:cubicBezTo>
                  <a:cubicBezTo>
                    <a:pt x="487001" y="369729"/>
                    <a:pt x="485170" y="369862"/>
                    <a:pt x="483253" y="369997"/>
                  </a:cubicBezTo>
                  <a:cubicBezTo>
                    <a:pt x="481335" y="370131"/>
                    <a:pt x="480201" y="370198"/>
                    <a:pt x="479851" y="370198"/>
                  </a:cubicBezTo>
                  <a:lnTo>
                    <a:pt x="479045" y="370198"/>
                  </a:lnTo>
                  <a:cubicBezTo>
                    <a:pt x="471788" y="370198"/>
                    <a:pt x="466298" y="367852"/>
                    <a:pt x="462575" y="363159"/>
                  </a:cubicBezTo>
                  <a:cubicBezTo>
                    <a:pt x="458853" y="358466"/>
                    <a:pt x="456697" y="353175"/>
                    <a:pt x="456109" y="347288"/>
                  </a:cubicBezTo>
                  <a:cubicBezTo>
                    <a:pt x="455819" y="343555"/>
                    <a:pt x="455540" y="337876"/>
                    <a:pt x="455274" y="330252"/>
                  </a:cubicBezTo>
                  <a:cubicBezTo>
                    <a:pt x="455007" y="322628"/>
                    <a:pt x="454470" y="313848"/>
                    <a:pt x="453664" y="303911"/>
                  </a:cubicBezTo>
                  <a:cubicBezTo>
                    <a:pt x="453391" y="294073"/>
                    <a:pt x="453053" y="283874"/>
                    <a:pt x="452650" y="273315"/>
                  </a:cubicBezTo>
                  <a:cubicBezTo>
                    <a:pt x="452246" y="262755"/>
                    <a:pt x="451780" y="252563"/>
                    <a:pt x="451251" y="242737"/>
                  </a:cubicBezTo>
                  <a:cubicBezTo>
                    <a:pt x="450983" y="233462"/>
                    <a:pt x="450449" y="224825"/>
                    <a:pt x="449651" y="216825"/>
                  </a:cubicBezTo>
                  <a:cubicBezTo>
                    <a:pt x="449374" y="209052"/>
                    <a:pt x="449235" y="203365"/>
                    <a:pt x="449235" y="199764"/>
                  </a:cubicBezTo>
                  <a:lnTo>
                    <a:pt x="449235" y="186504"/>
                  </a:lnTo>
                  <a:lnTo>
                    <a:pt x="449235" y="172956"/>
                  </a:lnTo>
                  <a:cubicBezTo>
                    <a:pt x="449581" y="169163"/>
                    <a:pt x="450999" y="166022"/>
                    <a:pt x="453488" y="163532"/>
                  </a:cubicBezTo>
                  <a:cubicBezTo>
                    <a:pt x="455977" y="161043"/>
                    <a:pt x="458791" y="159170"/>
                    <a:pt x="461929" y="157914"/>
                  </a:cubicBezTo>
                  <a:cubicBezTo>
                    <a:pt x="465067" y="156657"/>
                    <a:pt x="468279" y="155806"/>
                    <a:pt x="471564" y="155360"/>
                  </a:cubicBezTo>
                  <a:cubicBezTo>
                    <a:pt x="474849" y="154914"/>
                    <a:pt x="477611" y="154691"/>
                    <a:pt x="479851" y="154691"/>
                  </a:cubicBezTo>
                  <a:cubicBezTo>
                    <a:pt x="481396" y="154691"/>
                    <a:pt x="483774" y="154557"/>
                    <a:pt x="486987" y="154288"/>
                  </a:cubicBezTo>
                  <a:cubicBezTo>
                    <a:pt x="490818" y="154288"/>
                    <a:pt x="494240" y="154172"/>
                    <a:pt x="497252" y="153939"/>
                  </a:cubicBezTo>
                  <a:cubicBezTo>
                    <a:pt x="500264" y="153707"/>
                    <a:pt x="503754" y="153288"/>
                    <a:pt x="507721" y="152682"/>
                  </a:cubicBezTo>
                  <a:cubicBezTo>
                    <a:pt x="511105" y="152682"/>
                    <a:pt x="513249" y="152682"/>
                    <a:pt x="514153" y="152682"/>
                  </a:cubicBezTo>
                  <a:cubicBezTo>
                    <a:pt x="513616" y="152955"/>
                    <a:pt x="513810" y="152629"/>
                    <a:pt x="514736" y="151703"/>
                  </a:cubicBezTo>
                  <a:cubicBezTo>
                    <a:pt x="515661" y="150777"/>
                    <a:pt x="516126" y="150310"/>
                    <a:pt x="516131" y="150301"/>
                  </a:cubicBezTo>
                  <a:cubicBezTo>
                    <a:pt x="517560" y="147805"/>
                    <a:pt x="519294" y="145131"/>
                    <a:pt x="521334" y="142279"/>
                  </a:cubicBezTo>
                  <a:cubicBezTo>
                    <a:pt x="523373" y="139427"/>
                    <a:pt x="525221" y="136660"/>
                    <a:pt x="526879" y="133979"/>
                  </a:cubicBezTo>
                  <a:lnTo>
                    <a:pt x="530472" y="127943"/>
                  </a:lnTo>
                  <a:lnTo>
                    <a:pt x="489524" y="128520"/>
                  </a:lnTo>
                  <a:cubicBezTo>
                    <a:pt x="473967" y="128923"/>
                    <a:pt x="458018" y="129125"/>
                    <a:pt x="441678" y="129125"/>
                  </a:cubicBezTo>
                  <a:lnTo>
                    <a:pt x="426043" y="129125"/>
                  </a:lnTo>
                  <a:cubicBezTo>
                    <a:pt x="421440" y="127973"/>
                    <a:pt x="418329" y="125777"/>
                    <a:pt x="416709" y="122537"/>
                  </a:cubicBezTo>
                  <a:cubicBezTo>
                    <a:pt x="415090" y="119296"/>
                    <a:pt x="414281" y="115573"/>
                    <a:pt x="414281" y="111366"/>
                  </a:cubicBezTo>
                  <a:cubicBezTo>
                    <a:pt x="414281" y="108508"/>
                    <a:pt x="415080" y="105036"/>
                    <a:pt x="416677" y="100951"/>
                  </a:cubicBezTo>
                  <a:cubicBezTo>
                    <a:pt x="418275" y="96866"/>
                    <a:pt x="422016" y="94823"/>
                    <a:pt x="427899" y="94823"/>
                  </a:cubicBezTo>
                  <a:lnTo>
                    <a:pt x="650113" y="84808"/>
                  </a:lnTo>
                  <a:cubicBezTo>
                    <a:pt x="651282" y="84786"/>
                    <a:pt x="652974" y="84715"/>
                    <a:pt x="655191" y="84593"/>
                  </a:cubicBezTo>
                  <a:cubicBezTo>
                    <a:pt x="657407" y="84472"/>
                    <a:pt x="659096" y="84400"/>
                    <a:pt x="660256" y="84379"/>
                  </a:cubicBezTo>
                  <a:close/>
                  <a:moveTo>
                    <a:pt x="102989" y="52637"/>
                  </a:moveTo>
                  <a:cubicBezTo>
                    <a:pt x="106973" y="52637"/>
                    <a:pt x="111644" y="52637"/>
                    <a:pt x="117001" y="52637"/>
                  </a:cubicBezTo>
                  <a:cubicBezTo>
                    <a:pt x="122357" y="52637"/>
                    <a:pt x="127848" y="52637"/>
                    <a:pt x="133473" y="52637"/>
                  </a:cubicBezTo>
                  <a:cubicBezTo>
                    <a:pt x="139098" y="52637"/>
                    <a:pt x="143517" y="52637"/>
                    <a:pt x="146730" y="52637"/>
                  </a:cubicBezTo>
                  <a:cubicBezTo>
                    <a:pt x="148607" y="52637"/>
                    <a:pt x="151956" y="52637"/>
                    <a:pt x="156777" y="52637"/>
                  </a:cubicBezTo>
                  <a:cubicBezTo>
                    <a:pt x="161598" y="52637"/>
                    <a:pt x="166338" y="52637"/>
                    <a:pt x="170997" y="52637"/>
                  </a:cubicBezTo>
                  <a:cubicBezTo>
                    <a:pt x="175656" y="52637"/>
                    <a:pt x="180817" y="52708"/>
                    <a:pt x="186481" y="52851"/>
                  </a:cubicBezTo>
                  <a:cubicBezTo>
                    <a:pt x="192145" y="52994"/>
                    <a:pt x="195900" y="53055"/>
                    <a:pt x="197748" y="53034"/>
                  </a:cubicBezTo>
                  <a:cubicBezTo>
                    <a:pt x="204791" y="53912"/>
                    <a:pt x="211921" y="54687"/>
                    <a:pt x="219135" y="55357"/>
                  </a:cubicBezTo>
                  <a:cubicBezTo>
                    <a:pt x="226350" y="56026"/>
                    <a:pt x="232986" y="57223"/>
                    <a:pt x="239044" y="58947"/>
                  </a:cubicBezTo>
                  <a:cubicBezTo>
                    <a:pt x="245653" y="61357"/>
                    <a:pt x="250873" y="65069"/>
                    <a:pt x="254704" y="70082"/>
                  </a:cubicBezTo>
                  <a:cubicBezTo>
                    <a:pt x="259384" y="75381"/>
                    <a:pt x="261725" y="82713"/>
                    <a:pt x="261725" y="92078"/>
                  </a:cubicBezTo>
                  <a:lnTo>
                    <a:pt x="261725" y="97946"/>
                  </a:lnTo>
                  <a:cubicBezTo>
                    <a:pt x="258179" y="131749"/>
                    <a:pt x="255007" y="164909"/>
                    <a:pt x="252208" y="197428"/>
                  </a:cubicBezTo>
                  <a:cubicBezTo>
                    <a:pt x="249410" y="229947"/>
                    <a:pt x="248682" y="262960"/>
                    <a:pt x="250026" y="296468"/>
                  </a:cubicBezTo>
                  <a:cubicBezTo>
                    <a:pt x="249309" y="303260"/>
                    <a:pt x="245856" y="307960"/>
                    <a:pt x="239665" y="310567"/>
                  </a:cubicBezTo>
                  <a:cubicBezTo>
                    <a:pt x="234541" y="312973"/>
                    <a:pt x="229539" y="314637"/>
                    <a:pt x="224658" y="315558"/>
                  </a:cubicBezTo>
                  <a:cubicBezTo>
                    <a:pt x="220656" y="315558"/>
                    <a:pt x="214905" y="315558"/>
                    <a:pt x="207405" y="315558"/>
                  </a:cubicBezTo>
                  <a:cubicBezTo>
                    <a:pt x="199904" y="315558"/>
                    <a:pt x="191466" y="315624"/>
                    <a:pt x="182091" y="315757"/>
                  </a:cubicBezTo>
                  <a:cubicBezTo>
                    <a:pt x="172716" y="315889"/>
                    <a:pt x="162872" y="316022"/>
                    <a:pt x="152560" y="316157"/>
                  </a:cubicBezTo>
                  <a:cubicBezTo>
                    <a:pt x="142248" y="316291"/>
                    <a:pt x="132337" y="316426"/>
                    <a:pt x="122827" y="316560"/>
                  </a:cubicBezTo>
                  <a:cubicBezTo>
                    <a:pt x="113318" y="316694"/>
                    <a:pt x="104880" y="316761"/>
                    <a:pt x="97514" y="316761"/>
                  </a:cubicBezTo>
                  <a:cubicBezTo>
                    <a:pt x="90148" y="316761"/>
                    <a:pt x="84724" y="316761"/>
                    <a:pt x="81243" y="316761"/>
                  </a:cubicBezTo>
                  <a:cubicBezTo>
                    <a:pt x="80436" y="316761"/>
                    <a:pt x="79060" y="316761"/>
                    <a:pt x="77115" y="316761"/>
                  </a:cubicBezTo>
                  <a:cubicBezTo>
                    <a:pt x="75170" y="316761"/>
                    <a:pt x="72869" y="316829"/>
                    <a:pt x="70213" y="316963"/>
                  </a:cubicBezTo>
                  <a:cubicBezTo>
                    <a:pt x="67557" y="317097"/>
                    <a:pt x="64536" y="317165"/>
                    <a:pt x="61148" y="317165"/>
                  </a:cubicBezTo>
                  <a:cubicBezTo>
                    <a:pt x="58473" y="317165"/>
                    <a:pt x="56532" y="317165"/>
                    <a:pt x="55324" y="317165"/>
                  </a:cubicBezTo>
                  <a:cubicBezTo>
                    <a:pt x="54117" y="317165"/>
                    <a:pt x="52265" y="317165"/>
                    <a:pt x="49769" y="317165"/>
                  </a:cubicBezTo>
                  <a:cubicBezTo>
                    <a:pt x="47274" y="317165"/>
                    <a:pt x="44687" y="317097"/>
                    <a:pt x="42010" y="316963"/>
                  </a:cubicBezTo>
                  <a:cubicBezTo>
                    <a:pt x="39333" y="316829"/>
                    <a:pt x="36764" y="316761"/>
                    <a:pt x="34305" y="316761"/>
                  </a:cubicBezTo>
                  <a:cubicBezTo>
                    <a:pt x="31845" y="316761"/>
                    <a:pt x="30212" y="316761"/>
                    <a:pt x="29406" y="316761"/>
                  </a:cubicBezTo>
                  <a:cubicBezTo>
                    <a:pt x="24150" y="316761"/>
                    <a:pt x="19809" y="314857"/>
                    <a:pt x="16383" y="311047"/>
                  </a:cubicBezTo>
                  <a:cubicBezTo>
                    <a:pt x="14314" y="308393"/>
                    <a:pt x="12606" y="305047"/>
                    <a:pt x="11260" y="301009"/>
                  </a:cubicBezTo>
                  <a:cubicBezTo>
                    <a:pt x="9914" y="296971"/>
                    <a:pt x="8919" y="293145"/>
                    <a:pt x="8274" y="289531"/>
                  </a:cubicBezTo>
                  <a:cubicBezTo>
                    <a:pt x="7630" y="285918"/>
                    <a:pt x="7157" y="282750"/>
                    <a:pt x="6854" y="280028"/>
                  </a:cubicBezTo>
                  <a:cubicBezTo>
                    <a:pt x="6576" y="274968"/>
                    <a:pt x="6304" y="267362"/>
                    <a:pt x="6038" y="257210"/>
                  </a:cubicBezTo>
                  <a:cubicBezTo>
                    <a:pt x="5771" y="247058"/>
                    <a:pt x="5235" y="235501"/>
                    <a:pt x="4428" y="222540"/>
                  </a:cubicBezTo>
                  <a:cubicBezTo>
                    <a:pt x="4155" y="209894"/>
                    <a:pt x="3750" y="196317"/>
                    <a:pt x="3212" y="181807"/>
                  </a:cubicBezTo>
                  <a:cubicBezTo>
                    <a:pt x="2948" y="167924"/>
                    <a:pt x="2547" y="154397"/>
                    <a:pt x="2009" y="141227"/>
                  </a:cubicBezTo>
                  <a:cubicBezTo>
                    <a:pt x="1740" y="128679"/>
                    <a:pt x="1406" y="117327"/>
                    <a:pt x="1004" y="107171"/>
                  </a:cubicBezTo>
                  <a:cubicBezTo>
                    <a:pt x="603" y="97015"/>
                    <a:pt x="269" y="89516"/>
                    <a:pt x="0" y="84673"/>
                  </a:cubicBezTo>
                  <a:lnTo>
                    <a:pt x="0" y="80027"/>
                  </a:lnTo>
                  <a:cubicBezTo>
                    <a:pt x="0" y="75198"/>
                    <a:pt x="1147" y="71390"/>
                    <a:pt x="3443" y="68604"/>
                  </a:cubicBezTo>
                  <a:cubicBezTo>
                    <a:pt x="5738" y="65818"/>
                    <a:pt x="8510" y="63574"/>
                    <a:pt x="11759" y="61871"/>
                  </a:cubicBezTo>
                  <a:cubicBezTo>
                    <a:pt x="15008" y="60169"/>
                    <a:pt x="18427" y="58960"/>
                    <a:pt x="22018" y="58243"/>
                  </a:cubicBezTo>
                  <a:cubicBezTo>
                    <a:pt x="25608" y="57526"/>
                    <a:pt x="29035" y="56875"/>
                    <a:pt x="32299" y="56291"/>
                  </a:cubicBezTo>
                  <a:cubicBezTo>
                    <a:pt x="34419" y="56056"/>
                    <a:pt x="38483" y="55734"/>
                    <a:pt x="44490" y="55325"/>
                  </a:cubicBezTo>
                  <a:cubicBezTo>
                    <a:pt x="50497" y="54915"/>
                    <a:pt x="56953" y="54575"/>
                    <a:pt x="63858" y="54304"/>
                  </a:cubicBezTo>
                  <a:cubicBezTo>
                    <a:pt x="70763" y="54033"/>
                    <a:pt x="77455" y="53754"/>
                    <a:pt x="83934" y="53466"/>
                  </a:cubicBezTo>
                  <a:cubicBezTo>
                    <a:pt x="90412" y="53178"/>
                    <a:pt x="94471" y="53034"/>
                    <a:pt x="96109" y="53034"/>
                  </a:cubicBezTo>
                  <a:cubicBezTo>
                    <a:pt x="96975" y="53034"/>
                    <a:pt x="99268" y="52901"/>
                    <a:pt x="102989" y="52637"/>
                  </a:cubicBezTo>
                  <a:close/>
                  <a:moveTo>
                    <a:pt x="1049624" y="19685"/>
                  </a:moveTo>
                  <a:lnTo>
                    <a:pt x="1058461" y="19685"/>
                  </a:lnTo>
                  <a:cubicBezTo>
                    <a:pt x="1062945" y="19685"/>
                    <a:pt x="1067829" y="20624"/>
                    <a:pt x="1073113" y="22501"/>
                  </a:cubicBezTo>
                  <a:cubicBezTo>
                    <a:pt x="1078397" y="24378"/>
                    <a:pt x="1081039" y="28687"/>
                    <a:pt x="1081039" y="35428"/>
                  </a:cubicBezTo>
                  <a:cubicBezTo>
                    <a:pt x="1081039" y="39136"/>
                    <a:pt x="1079675" y="43290"/>
                    <a:pt x="1076947" y="47891"/>
                  </a:cubicBezTo>
                  <a:cubicBezTo>
                    <a:pt x="1074218" y="52493"/>
                    <a:pt x="1070066" y="54793"/>
                    <a:pt x="1064490" y="54793"/>
                  </a:cubicBezTo>
                  <a:lnTo>
                    <a:pt x="989461" y="54793"/>
                  </a:lnTo>
                  <a:lnTo>
                    <a:pt x="975766" y="96992"/>
                  </a:lnTo>
                  <a:lnTo>
                    <a:pt x="975766" y="98842"/>
                  </a:lnTo>
                  <a:lnTo>
                    <a:pt x="1061674" y="98842"/>
                  </a:lnTo>
                  <a:cubicBezTo>
                    <a:pt x="1066098" y="98842"/>
                    <a:pt x="1069360" y="100310"/>
                    <a:pt x="1071459" y="103245"/>
                  </a:cubicBezTo>
                  <a:cubicBezTo>
                    <a:pt x="1073562" y="105655"/>
                    <a:pt x="1075001" y="108330"/>
                    <a:pt x="1075776" y="111270"/>
                  </a:cubicBezTo>
                  <a:cubicBezTo>
                    <a:pt x="1076550" y="114210"/>
                    <a:pt x="1077018" y="117295"/>
                    <a:pt x="1077180" y="120527"/>
                  </a:cubicBezTo>
                  <a:cubicBezTo>
                    <a:pt x="1077342" y="123759"/>
                    <a:pt x="1077424" y="125929"/>
                    <a:pt x="1077424" y="127039"/>
                  </a:cubicBezTo>
                  <a:lnTo>
                    <a:pt x="1077424" y="137867"/>
                  </a:lnTo>
                  <a:lnTo>
                    <a:pt x="1067267" y="265366"/>
                  </a:lnTo>
                  <a:cubicBezTo>
                    <a:pt x="1066990" y="267866"/>
                    <a:pt x="1066642" y="270586"/>
                    <a:pt x="1066224" y="273526"/>
                  </a:cubicBezTo>
                  <a:cubicBezTo>
                    <a:pt x="1065806" y="276465"/>
                    <a:pt x="1064848" y="279132"/>
                    <a:pt x="1063351" y="281525"/>
                  </a:cubicBezTo>
                  <a:cubicBezTo>
                    <a:pt x="1062387" y="284426"/>
                    <a:pt x="1060545" y="286872"/>
                    <a:pt x="1057828" y="288862"/>
                  </a:cubicBezTo>
                  <a:cubicBezTo>
                    <a:pt x="1055110" y="290853"/>
                    <a:pt x="1051838" y="291848"/>
                    <a:pt x="1048011" y="291848"/>
                  </a:cubicBezTo>
                  <a:cubicBezTo>
                    <a:pt x="1045161" y="291848"/>
                    <a:pt x="1041825" y="290847"/>
                    <a:pt x="1038002" y="288846"/>
                  </a:cubicBezTo>
                  <a:cubicBezTo>
                    <a:pt x="1034179" y="286845"/>
                    <a:pt x="1032268" y="283804"/>
                    <a:pt x="1032268" y="279721"/>
                  </a:cubicBezTo>
                  <a:lnTo>
                    <a:pt x="1032268" y="254576"/>
                  </a:lnTo>
                  <a:lnTo>
                    <a:pt x="1041509" y="134347"/>
                  </a:lnTo>
                  <a:lnTo>
                    <a:pt x="1040498" y="133944"/>
                  </a:lnTo>
                  <a:lnTo>
                    <a:pt x="894043" y="133944"/>
                  </a:lnTo>
                  <a:lnTo>
                    <a:pt x="890920" y="261770"/>
                  </a:lnTo>
                  <a:cubicBezTo>
                    <a:pt x="890510" y="265831"/>
                    <a:pt x="888380" y="268914"/>
                    <a:pt x="884530" y="271017"/>
                  </a:cubicBezTo>
                  <a:cubicBezTo>
                    <a:pt x="880679" y="273120"/>
                    <a:pt x="877316" y="274172"/>
                    <a:pt x="874441" y="274172"/>
                  </a:cubicBezTo>
                  <a:cubicBezTo>
                    <a:pt x="870729" y="274172"/>
                    <a:pt x="867254" y="272808"/>
                    <a:pt x="864016" y="270080"/>
                  </a:cubicBezTo>
                  <a:cubicBezTo>
                    <a:pt x="860778" y="267351"/>
                    <a:pt x="858602" y="264131"/>
                    <a:pt x="857488" y="260419"/>
                  </a:cubicBezTo>
                  <a:lnTo>
                    <a:pt x="857488" y="229893"/>
                  </a:lnTo>
                  <a:lnTo>
                    <a:pt x="857488" y="199764"/>
                  </a:lnTo>
                  <a:cubicBezTo>
                    <a:pt x="857488" y="196777"/>
                    <a:pt x="857554" y="191209"/>
                    <a:pt x="857687" y="183058"/>
                  </a:cubicBezTo>
                  <a:cubicBezTo>
                    <a:pt x="857819" y="174907"/>
                    <a:pt x="857885" y="166354"/>
                    <a:pt x="857885" y="157398"/>
                  </a:cubicBezTo>
                  <a:cubicBezTo>
                    <a:pt x="858427" y="148166"/>
                    <a:pt x="858831" y="139561"/>
                    <a:pt x="859098" y="131582"/>
                  </a:cubicBezTo>
                  <a:cubicBezTo>
                    <a:pt x="859364" y="123604"/>
                    <a:pt x="859498" y="117734"/>
                    <a:pt x="859498" y="113971"/>
                  </a:cubicBezTo>
                  <a:cubicBezTo>
                    <a:pt x="860547" y="109760"/>
                    <a:pt x="863476" y="106051"/>
                    <a:pt x="868284" y="102845"/>
                  </a:cubicBezTo>
                  <a:cubicBezTo>
                    <a:pt x="873092" y="99639"/>
                    <a:pt x="877690" y="98036"/>
                    <a:pt x="882075" y="98036"/>
                  </a:cubicBezTo>
                  <a:lnTo>
                    <a:pt x="936066" y="98036"/>
                  </a:lnTo>
                  <a:lnTo>
                    <a:pt x="936616" y="97495"/>
                  </a:lnTo>
                  <a:cubicBezTo>
                    <a:pt x="937002" y="97109"/>
                    <a:pt x="937536" y="96118"/>
                    <a:pt x="938219" y="94522"/>
                  </a:cubicBezTo>
                  <a:cubicBezTo>
                    <a:pt x="938774" y="93601"/>
                    <a:pt x="939051" y="92997"/>
                    <a:pt x="939051" y="92711"/>
                  </a:cubicBezTo>
                  <a:cubicBezTo>
                    <a:pt x="939981" y="89917"/>
                    <a:pt x="941116" y="86510"/>
                    <a:pt x="942456" y="82491"/>
                  </a:cubicBezTo>
                  <a:cubicBezTo>
                    <a:pt x="943795" y="78472"/>
                    <a:pt x="945068" y="74722"/>
                    <a:pt x="946273" y="71240"/>
                  </a:cubicBezTo>
                  <a:cubicBezTo>
                    <a:pt x="947478" y="67759"/>
                    <a:pt x="948552" y="64715"/>
                    <a:pt x="949495" y="62108"/>
                  </a:cubicBezTo>
                  <a:cubicBezTo>
                    <a:pt x="950302" y="59181"/>
                    <a:pt x="950705" y="57279"/>
                    <a:pt x="950705" y="56400"/>
                  </a:cubicBezTo>
                  <a:cubicBezTo>
                    <a:pt x="942535" y="56400"/>
                    <a:pt x="933033" y="56600"/>
                    <a:pt x="922201" y="57001"/>
                  </a:cubicBezTo>
                  <a:cubicBezTo>
                    <a:pt x="911368" y="57402"/>
                    <a:pt x="900404" y="57603"/>
                    <a:pt x="889307" y="57603"/>
                  </a:cubicBezTo>
                  <a:lnTo>
                    <a:pt x="874921" y="57603"/>
                  </a:lnTo>
                  <a:cubicBezTo>
                    <a:pt x="869494" y="57240"/>
                    <a:pt x="865567" y="55064"/>
                    <a:pt x="863139" y="51075"/>
                  </a:cubicBezTo>
                  <a:cubicBezTo>
                    <a:pt x="860711" y="47086"/>
                    <a:pt x="859498" y="43076"/>
                    <a:pt x="859498" y="39044"/>
                  </a:cubicBezTo>
                  <a:cubicBezTo>
                    <a:pt x="859498" y="35725"/>
                    <a:pt x="860435" y="32529"/>
                    <a:pt x="862310" y="29457"/>
                  </a:cubicBezTo>
                  <a:cubicBezTo>
                    <a:pt x="864185" y="26386"/>
                    <a:pt x="867073" y="24201"/>
                    <a:pt x="870972" y="22904"/>
                  </a:cubicBezTo>
                  <a:cubicBezTo>
                    <a:pt x="878562" y="22904"/>
                    <a:pt x="886296" y="22847"/>
                    <a:pt x="894174" y="22731"/>
                  </a:cubicBezTo>
                  <a:cubicBezTo>
                    <a:pt x="902052" y="22616"/>
                    <a:pt x="911860" y="22358"/>
                    <a:pt x="923599" y="21957"/>
                  </a:cubicBezTo>
                  <a:cubicBezTo>
                    <a:pt x="935338" y="21556"/>
                    <a:pt x="947670" y="21288"/>
                    <a:pt x="960595" y="21154"/>
                  </a:cubicBezTo>
                  <a:cubicBezTo>
                    <a:pt x="973520" y="21020"/>
                    <a:pt x="985819" y="20818"/>
                    <a:pt x="997492" y="20549"/>
                  </a:cubicBezTo>
                  <a:cubicBezTo>
                    <a:pt x="1009165" y="20280"/>
                    <a:pt x="1019695" y="20075"/>
                    <a:pt x="1029081" y="19932"/>
                  </a:cubicBezTo>
                  <a:cubicBezTo>
                    <a:pt x="1038467" y="19789"/>
                    <a:pt x="1045314" y="19707"/>
                    <a:pt x="1049624" y="19685"/>
                  </a:cubicBezTo>
                  <a:close/>
                  <a:moveTo>
                    <a:pt x="481861" y="11654"/>
                  </a:moveTo>
                  <a:cubicBezTo>
                    <a:pt x="486072" y="11654"/>
                    <a:pt x="490271" y="13359"/>
                    <a:pt x="494458" y="16770"/>
                  </a:cubicBezTo>
                  <a:cubicBezTo>
                    <a:pt x="498646" y="20181"/>
                    <a:pt x="502222" y="24146"/>
                    <a:pt x="505187" y="28664"/>
                  </a:cubicBezTo>
                  <a:cubicBezTo>
                    <a:pt x="508152" y="33182"/>
                    <a:pt x="510710" y="37809"/>
                    <a:pt x="512860" y="42545"/>
                  </a:cubicBezTo>
                  <a:cubicBezTo>
                    <a:pt x="515011" y="47280"/>
                    <a:pt x="516086" y="51338"/>
                    <a:pt x="516086" y="54717"/>
                  </a:cubicBezTo>
                  <a:cubicBezTo>
                    <a:pt x="516086" y="65750"/>
                    <a:pt x="510838" y="71266"/>
                    <a:pt x="500343" y="71266"/>
                  </a:cubicBezTo>
                  <a:cubicBezTo>
                    <a:pt x="495931" y="71266"/>
                    <a:pt x="492189" y="70133"/>
                    <a:pt x="489115" y="67868"/>
                  </a:cubicBezTo>
                  <a:cubicBezTo>
                    <a:pt x="486041" y="65602"/>
                    <a:pt x="483437" y="63116"/>
                    <a:pt x="481304" y="60409"/>
                  </a:cubicBezTo>
                  <a:cubicBezTo>
                    <a:pt x="479171" y="57702"/>
                    <a:pt x="477246" y="54963"/>
                    <a:pt x="475528" y="52192"/>
                  </a:cubicBezTo>
                  <a:cubicBezTo>
                    <a:pt x="473811" y="49421"/>
                    <a:pt x="472100" y="46757"/>
                    <a:pt x="470396" y="44199"/>
                  </a:cubicBezTo>
                  <a:cubicBezTo>
                    <a:pt x="468691" y="41641"/>
                    <a:pt x="467216" y="39194"/>
                    <a:pt x="465970" y="36859"/>
                  </a:cubicBezTo>
                  <a:cubicBezTo>
                    <a:pt x="464725" y="34523"/>
                    <a:pt x="464102" y="31635"/>
                    <a:pt x="464102" y="28197"/>
                  </a:cubicBezTo>
                  <a:cubicBezTo>
                    <a:pt x="464102" y="23717"/>
                    <a:pt x="465826" y="19840"/>
                    <a:pt x="469276" y="16565"/>
                  </a:cubicBezTo>
                  <a:cubicBezTo>
                    <a:pt x="472725" y="13291"/>
                    <a:pt x="476920" y="11654"/>
                    <a:pt x="481861" y="11654"/>
                  </a:cubicBezTo>
                  <a:close/>
                  <a:moveTo>
                    <a:pt x="618870" y="0"/>
                  </a:moveTo>
                  <a:cubicBezTo>
                    <a:pt x="623593" y="0"/>
                    <a:pt x="627599" y="1279"/>
                    <a:pt x="630888" y="3837"/>
                  </a:cubicBezTo>
                  <a:cubicBezTo>
                    <a:pt x="634178" y="6394"/>
                    <a:pt x="635822" y="10229"/>
                    <a:pt x="635822" y="15340"/>
                  </a:cubicBezTo>
                  <a:lnTo>
                    <a:pt x="635822" y="17529"/>
                  </a:lnTo>
                  <a:lnTo>
                    <a:pt x="618691" y="68514"/>
                  </a:lnTo>
                  <a:cubicBezTo>
                    <a:pt x="617616" y="71748"/>
                    <a:pt x="615401" y="74623"/>
                    <a:pt x="612048" y="77138"/>
                  </a:cubicBezTo>
                  <a:cubicBezTo>
                    <a:pt x="608695" y="79653"/>
                    <a:pt x="605209" y="80910"/>
                    <a:pt x="601591" y="80910"/>
                  </a:cubicBezTo>
                  <a:cubicBezTo>
                    <a:pt x="595968" y="80910"/>
                    <a:pt x="591669" y="79074"/>
                    <a:pt x="588696" y="75400"/>
                  </a:cubicBezTo>
                  <a:cubicBezTo>
                    <a:pt x="585722" y="71727"/>
                    <a:pt x="584235" y="67375"/>
                    <a:pt x="584235" y="62345"/>
                  </a:cubicBezTo>
                  <a:lnTo>
                    <a:pt x="584235" y="61046"/>
                  </a:lnTo>
                  <a:lnTo>
                    <a:pt x="599684" y="13042"/>
                  </a:lnTo>
                  <a:cubicBezTo>
                    <a:pt x="600998" y="9365"/>
                    <a:pt x="603495" y="6272"/>
                    <a:pt x="607175" y="3763"/>
                  </a:cubicBezTo>
                  <a:cubicBezTo>
                    <a:pt x="610854" y="1254"/>
                    <a:pt x="614753" y="0"/>
                    <a:pt x="618870" y="0"/>
                  </a:cubicBez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2" descr="16pic_738588_b"/>
          <p:cNvPicPr/>
          <p:nvPr/>
        </p:nvPicPr>
        <p:blipFill>
          <a:blip r:embed="rId1"/>
          <a:srcRect l="0" t="298" r="2361" b="0"/>
          <a:stretch/>
        </p:blipFill>
        <p:spPr>
          <a:xfrm>
            <a:off x="-54000" y="0"/>
            <a:ext cx="9198000" cy="5146560"/>
          </a:xfrm>
          <a:prstGeom prst="rect">
            <a:avLst/>
          </a:prstGeom>
          <a:ln w="0">
            <a:noFill/>
          </a:ln>
        </p:spPr>
      </p:pic>
      <p:sp>
        <p:nvSpPr>
          <p:cNvPr id="121" name=" 167"/>
          <p:cNvSpPr/>
          <p:nvPr/>
        </p:nvSpPr>
        <p:spPr>
          <a:xfrm>
            <a:off x="2087640" y="1612800"/>
            <a:ext cx="4359240" cy="1165320"/>
          </a:xfrm>
          <a:prstGeom prst="roundRect">
            <a:avLst>
              <a:gd name="adj" fmla="val 16667"/>
            </a:avLst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矩形 5" descr=""/>
          <p:cNvPicPr/>
          <p:nvPr/>
        </p:nvPicPr>
        <p:blipFill>
          <a:blip r:embed="rId2"/>
          <a:stretch/>
        </p:blipFill>
        <p:spPr>
          <a:xfrm>
            <a:off x="2163600" y="1577880"/>
            <a:ext cx="49356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1T02:03:00Z</dcterms:created>
  <dc:creator/>
  <dc:description/>
  <dc:language>en-US</dc:language>
  <cp:lastModifiedBy>lenovo</cp:lastModifiedBy>
  <dcterms:modified xsi:type="dcterms:W3CDTF">2020-01-27T13:43:19Z</dcterms:modified>
  <cp:revision>2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