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199-7D23-4D47-9C06-971835AF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FAE-0AA0-4C22-ABE8-0A007577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6927-8CAC-40CD-B841-E7364FE5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32FD-E134-49BF-B53A-71EF940B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67AE-CC3F-437F-89DA-923A80A2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B785-29C1-4294-A05F-0D6ABF71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EE40-09DF-46B0-BC58-860D25AC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1116-822F-4292-80A5-487CBE23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7DB1-1AF6-4E43-A97A-7420A1B1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0E1E-C4A7-4246-9924-EF1215E1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90BF-AD16-417E-9816-21B7E5F7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68A-907F-4A48-AE5B-1B04B8D8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E048-DDD6-4D09-8000-CE88CC46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FEB2-7540-4BF1-BC63-438D30A8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0F3E-3316-4AAD-860C-3A8B514C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5E70-01A7-4FBC-9D0D-EEE5EFEA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857A-9643-4BFB-8707-23C99D0E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352-0814-4121-A058-FBA5AB12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2D7-7D6C-4FA2-8FDC-017178C2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597C-D10B-4ED7-897A-3F09DC66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B34-3469-4772-8442-D37A1880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785-AA55-4CA0-96AD-F6049819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C0B-BBD9-4696-9074-8CB67C08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EAF-4F71-42B4-8643-7E640BAC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E035-0926-45C7-B3F2-913615144F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8658-C3F8-49AA-A8C7-81DCDFB367D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s://timgsa.baidu.com/timg?image&amp;quality=80&amp;size=b9999_10000&amp;sec=1588146195173&amp;di=7ed174438896bc9b5cf3c29725f6f755&amp;imgtype=0&amp;src=http%3A%2F%2Fcdn.duitang.com%2Fuploads%2Fitem%2F201410%2F06%2F20141006224550_HwY3S.jpeg"/>
          <p:cNvPicPr/>
          <p:nvPr/>
        </p:nvPicPr>
        <p:blipFill>
          <a:blip r:embed="rId1"/>
          <a:stretch/>
        </p:blipFill>
        <p:spPr>
          <a:xfrm>
            <a:off x="0" y="0"/>
            <a:ext cx="9755280" cy="6921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" y="1800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新北区班主任基本功竞赛面试培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31840" y="394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2020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9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回答评委提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1732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间不可太短、用足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补救的机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搭好框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举例现实做法。但举例时间不可太长，简单例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情景一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班级同学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带了小米手环，很赶潮流。今天早上体育课后，因为手脏去洗后，把手环交给小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带回教师。可是回到教室后，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问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手环，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却说手环刚刚已经还给他了，就放在桌面上。这会儿为什么不见了，就不知道了。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就与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争执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对此情景，作为班主任的你，会怎样应对和处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情景模拟二：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88640" y="996840"/>
            <a:ext cx="895500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早读课上班主任王老师看到小林同学趴在桌上睡觉，便把他（她）叫到教室外问：“小林，你怎么趴着啊，不舒服吗？”小林道：“我困了，昨晚没睡觉。”王老师又问：“为什么晚上不睡觉？”小林犹豫了一下，说：“昨天晚上妈妈带我去看并病重的爸爸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......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不是我爸爸，爸妈早就离婚了。他就从来没有关心过我，他把妈妈的钱都骗走了，养了个比他小十几岁的女人，现在要死了，又要我们去看他，我昨晚一直躲在电影院里没跟妈妈去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情景模拟题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王老师的班级管理特色是：人人有岗，岗岗有人。可今天中餐后，王老师发现有学生把剩菜剩饭倒在了菜桶外面的地上，于是就请正在旁边的学生清理掉。可在场的学生却说：这是时小东负责的，说完就玩耍去了。如果你是班主任，会怎样处理这件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情景答辩高标准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处理问题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后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维角度要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育范围要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群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育方式要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机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艺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实践操作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行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应对反应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惯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专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情景模拟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明天就要期末考试了，班主任王老师正要下班回家，走到楼梯上，看到班里的小明同学正拽着小红道：你为什么把自己的照片送给小强却不肯送给我？小红愠怒道：我就是喜欢小强，怎么啦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明瞬间被激怒了，举起书包朝着小红抡去。王老师简装，赶紧喊道：小明，住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Users\user\Desktop\ed652c5f5397f68fb28bd17f559e60a9_t012a1409df14dbe140.jpg"/>
          <p:cNvPicPr/>
          <p:nvPr/>
        </p:nvPicPr>
        <p:blipFill>
          <a:blip r:embed="rId1"/>
          <a:stretch/>
        </p:blipFill>
        <p:spPr>
          <a:xfrm>
            <a:off x="1382760" y="1909800"/>
            <a:ext cx="5676840" cy="3825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0" y="304560"/>
            <a:ext cx="914400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  <a:ea typeface="宋体"/>
              </a:rPr>
              <a:t>无问西东，只是耕耘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76520" y="1255320"/>
            <a:ext cx="399096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看视频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学原理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做模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5520" y="414360"/>
            <a:ext cx="92995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情景答辩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要求运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现代教育理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育原则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对案例中呈现的班主任工作中的难点和热点问题，进行分析和处理，要求选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问题的分析全面而辩证，解决对策得当、思路创新，具有可操作性，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能体现班主任的教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智慧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和班主任娴熟的工作技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技巧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情景答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场外准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：读题、审题、想好构架。至关重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角色扮演互动：说话和沟通的艺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个人陈述： 理性的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评委提问：绝地反击的机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场外五分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786040" y="1712520"/>
            <a:ext cx="3813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审好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搭框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互动四分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60200" y="1684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指定角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掌控沟通主动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设置沟通场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问题要全面、多角度、多维度、有高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沟通的艺术（智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真诚的沟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5092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举例：小丁个子不高，学习成绩中等，平时和他玩得来的同学不多。不少同学向我反映小丁从不做值日，还不喜欢别人指出他的缺点。他的同桌也要求换座位，说他爱占便宜、自私敏感。经调查发现，小丁的这些不良行为与家庭教育关系很大。他家长明确告诉我：“别让孩子担任卫生委员，那会影响他的学习；别让孩子与成绩差的同学同桌。这种唯成绩论的教育观念会将孩子带入歧途，看来帮助小丁改正缺点，先要改变家长观念。我几次和家长电话沟通和面谈，从心理关怀谈到人格培养，从马加爵的悲剧谈到药家鑫的不幸，效果都不好。家长认为目前升学和就业压力太大，孩子的动手能力和性格培养等到孩子长大自然就好了。看着坐在教室里郁郁寡欢的小丁，想到自以为是的家长，我犯难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你帮助这位班主任一起想想办法，怎样让家长和班主任达成共识，形成教育合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情景问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620640"/>
            <a:ext cx="8229600" cy="66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，仔细审题，避免答非所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答题规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：问题判断，这是一个哪方面的问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：归因，产生这个问题的可能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三：应对措施。这是回答的重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四：这样做的理由。（三四两部分可以放在一起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五：后续跟进措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：问题判断，这是一个哪方面的问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是一个家校沟通的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：归因，产生这个问题的可能的原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家庭，同学，个体本身，班级氛围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：应对措施。第四：这样做的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一）、转变家长的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变说为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变训为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引导家长的具体措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二）、转变孩子的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三）、转变教师的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五：后续跟进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长期追踪，班会跟进，家长学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S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首先搭好框架，然后逐段充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5T15:34:03Z</dcterms:created>
  <dc:creator>user</dc:creator>
  <dc:description/>
  <dc:language>en-US</dc:language>
  <cp:lastModifiedBy>人淡如菊</cp:lastModifiedBy>
  <dcterms:modified xsi:type="dcterms:W3CDTF">2020-05-05T18:25:02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672</vt:lpwstr>
  </property>
</Properties>
</file>