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E5C-6388-4A5A-AADC-65AFBFBC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D4C-2E9B-4117-ABE2-F58C885F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263-F392-4120-B3AD-3901034C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381-7505-4C83-9ABC-0406FCF6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230-4D8C-44C3-B120-78A1F22E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D52-DC54-448F-ABFE-D313D47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A27-6777-4680-9083-A063CE8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2E4-4117-4697-88A3-EDE8C55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27A-B4DC-4383-91A5-29C61E5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740-1DB5-4EB9-AE91-B1F4554E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C73-2968-4380-83E1-0AF9572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EB4-116A-4762-B3E9-48160CA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9CA-202E-43E3-B6B9-D1F4CCF8F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20520" y="-12600"/>
            <a:ext cx="9158040" cy="686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理想的教学点子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读书心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丁婉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内容占位符 1" descr=""/>
          <p:cNvPicPr/>
          <p:nvPr/>
        </p:nvPicPr>
        <p:blipFill>
          <a:blip r:embed="rId1"/>
          <a:stretch/>
        </p:blipFill>
        <p:spPr>
          <a:xfrm>
            <a:off x="30240" y="28440"/>
            <a:ext cx="9082080" cy="6807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做到的：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计划成功的小组时间的指导原则：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当为小组时间选择学习材料时，要考虑孩子的兴趣及发展能力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选择可以被多样化使用的材料，以适合小组孩子的需要和及兴趣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准备好补充材料。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1" descr=""/>
          <p:cNvPicPr/>
          <p:nvPr/>
        </p:nvPicPr>
        <p:blipFill>
          <a:blip r:embed="rId1"/>
          <a:stretch/>
        </p:blipFill>
        <p:spPr>
          <a:xfrm>
            <a:off x="30240" y="25560"/>
            <a:ext cx="9082080" cy="6806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期可以实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让小组时间对孩子和成人来说变得有意义、主动，而且充满学习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1" descr=""/>
          <p:cNvPicPr/>
          <p:nvPr/>
        </p:nvPicPr>
        <p:blipFill>
          <a:blip r:embed="rId1"/>
          <a:stretch/>
        </p:blipFill>
        <p:spPr>
          <a:xfrm>
            <a:off x="30240" y="28440"/>
            <a:ext cx="9082080" cy="680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中提到的高瞻学前核心经验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6T12:50:58Z</dcterms:created>
  <dc:creator>asus</dc:creator>
  <dc:description/>
  <dc:language>en-US</dc:language>
  <cp:lastModifiedBy>✿12.28✿</cp:lastModifiedBy>
  <dcterms:modified xsi:type="dcterms:W3CDTF">2019-08-27T00:27:09Z</dcterms:modified>
  <cp:revision>5</cp:revision>
  <dc:subject/>
  <dc:title>理想的教学点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94</vt:lpwstr>
  </property>
</Properties>
</file>