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5D3-F3DB-4475-8CD1-312B6147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FFD-3E08-4E1D-B1B8-B0C3E60F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2A8-945D-4ED2-A8E9-E90F4E12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332-072A-48E5-9378-DF51F53D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CEB3-ABCF-48C1-B4FA-01A99A39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A34A-F525-4E98-8092-EE09ED78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C85E-EB2C-42BF-BD17-E8EF063B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3912-916D-4D5C-B339-416B0119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57D6-3E19-4FD5-A72E-7DFD85B4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DD6C-7391-4C3B-9F3A-C906214E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88D5-F5E0-4379-8325-3B8A38A8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8A1-1150-4A6B-A15F-BD1DB034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C8A6-88D6-4FD1-85B8-FFF3875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0430-4365-4D7A-92E5-19C36758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3074-E9CB-42DE-B3CF-947FDBDD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CBF0-A914-4771-9358-D3937B9E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CE4B-F9AC-4346-87F4-0BE7DAC3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4C1D-6AFC-4192-89AA-9D335394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0BAB-A6B1-4C98-9FD2-4570AD20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9A42-9098-41E8-97C1-F0F1DEDD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AC68-9763-4C19-BFF9-0D9F1432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0E79-AEEA-47C7-B160-73BDC717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EA3-4000-47A2-BFD1-1923A554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7D92-1B1A-4A6D-A6BA-1DC15349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352A-5C3E-4760-870B-0EA1712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6CC1-5C1A-4AE6-81AE-BE51AFD6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3A6F-81FA-423D-BC06-79BFC99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C468-6C94-40AC-A582-79A5E81E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7225-D189-4750-892F-26808A8D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771E-6FEE-4D60-99D6-7A2A8C09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88B-3B08-4D37-AAFF-46574A4F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1C2-C62E-48F4-BCE7-97C6CC94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F92-1AF3-43F9-84F1-BF0660BB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EE6-652C-4D5B-8619-D49A5353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4C3-23E4-4044-AACE-7744E4FE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2E2-C930-4114-9CAD-9134895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4820-04A6-4D41-9FB2-4EBFA678C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F9E2-B439-490D-8FA7-CB3BEB88F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FDF1-F3EE-4D98-9E0E-56687CFA3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3"/>
          <p:cNvSpPr/>
          <p:nvPr/>
        </p:nvSpPr>
        <p:spPr>
          <a:xfrm>
            <a:off x="1743120" y="1495440"/>
            <a:ext cx="5562720" cy="228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273400" y="1841400"/>
            <a:ext cx="46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小班体验课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会穿衣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711360"/>
            <a:ext cx="68580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part2:</a:t>
            </a:r>
            <a:r>
              <a:rPr b="1" lang="zh-CN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学习如何穿衣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2600" y="1447560"/>
            <a:ext cx="7545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课程开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集体活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左大括号 4"/>
          <p:cNvSpPr/>
          <p:nvPr/>
        </p:nvSpPr>
        <p:spPr>
          <a:xfrm>
            <a:off x="3359160" y="2290680"/>
            <a:ext cx="1123920" cy="3286080"/>
          </a:xfrm>
          <a:custGeom>
            <a:avLst/>
            <a:gdLst>
              <a:gd name="textAreaLeft" fmla="*/ 718200 w 1123920"/>
              <a:gd name="textAreaRight" fmla="*/ 1124280 w 1123920"/>
              <a:gd name="textAreaTop" fmla="*/ 29160 h 3286080"/>
              <a:gd name="textAreaBottom" fmla="*/ 3256920 h 328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8"/>
                  <a:pt x="10800" y="615"/>
                </a:cubicBezTo>
                <a:lnTo>
                  <a:pt x="10800" y="10185"/>
                </a:lnTo>
                <a:cubicBezTo>
                  <a:pt x="10800" y="10493"/>
                  <a:pt x="5400" y="10800"/>
                  <a:pt x="0" y="10800"/>
                </a:cubicBezTo>
                <a:cubicBezTo>
                  <a:pt x="5400" y="10800"/>
                  <a:pt x="10800" y="11108"/>
                  <a:pt x="10800" y="11415"/>
                </a:cubicBezTo>
                <a:lnTo>
                  <a:pt x="10800" y="20985"/>
                </a:lnTo>
                <a:cubicBezTo>
                  <a:pt x="10800" y="2129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4483080" y="20653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健康：我会穿衣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6"/>
          <p:cNvSpPr/>
          <p:nvPr/>
        </p:nvSpPr>
        <p:spPr>
          <a:xfrm flipV="1">
            <a:off x="3949560" y="3931920"/>
            <a:ext cx="6001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8"/>
          <p:cNvSpPr/>
          <p:nvPr/>
        </p:nvSpPr>
        <p:spPr>
          <a:xfrm>
            <a:off x="4610160" y="370368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：我的小手真能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9"/>
          <p:cNvSpPr/>
          <p:nvPr/>
        </p:nvSpPr>
        <p:spPr>
          <a:xfrm>
            <a:off x="4549680" y="529596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活：整理衣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711360"/>
            <a:ext cx="68580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part2:</a:t>
            </a:r>
            <a:r>
              <a:rPr b="1" lang="zh-CN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学习如何穿衣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2600" y="1447560"/>
            <a:ext cx="7545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游戏开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左大括号 4"/>
          <p:cNvSpPr/>
          <p:nvPr/>
        </p:nvSpPr>
        <p:spPr>
          <a:xfrm>
            <a:off x="3359160" y="2290680"/>
            <a:ext cx="1123920" cy="3286080"/>
          </a:xfrm>
          <a:custGeom>
            <a:avLst/>
            <a:gdLst>
              <a:gd name="textAreaLeft" fmla="*/ 718200 w 1123920"/>
              <a:gd name="textAreaRight" fmla="*/ 1124280 w 1123920"/>
              <a:gd name="textAreaTop" fmla="*/ 29160 h 3286080"/>
              <a:gd name="textAreaBottom" fmla="*/ 3256920 h 328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8"/>
                  <a:pt x="10800" y="615"/>
                </a:cubicBezTo>
                <a:lnTo>
                  <a:pt x="10800" y="10185"/>
                </a:lnTo>
                <a:cubicBezTo>
                  <a:pt x="10800" y="10493"/>
                  <a:pt x="5400" y="10800"/>
                  <a:pt x="0" y="10800"/>
                </a:cubicBezTo>
                <a:cubicBezTo>
                  <a:pt x="5400" y="10800"/>
                  <a:pt x="10800" y="11108"/>
                  <a:pt x="10800" y="11415"/>
                </a:cubicBezTo>
                <a:lnTo>
                  <a:pt x="10800" y="20985"/>
                </a:lnTo>
                <a:cubicBezTo>
                  <a:pt x="10800" y="2129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"/>
          <p:cNvSpPr/>
          <p:nvPr/>
        </p:nvSpPr>
        <p:spPr>
          <a:xfrm>
            <a:off x="4483080" y="206532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娃娃家区域游戏（给娃娃穿衣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6"/>
          <p:cNvSpPr/>
          <p:nvPr/>
        </p:nvSpPr>
        <p:spPr>
          <a:xfrm flipV="1">
            <a:off x="3949560" y="3931920"/>
            <a:ext cx="6001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"/>
          <p:cNvSpPr/>
          <p:nvPr/>
        </p:nvSpPr>
        <p:spPr>
          <a:xfrm>
            <a:off x="4610160" y="3703680"/>
            <a:ext cx="33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同伴别人穿衣服，同伴相互学习、帮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9"/>
          <p:cNvSpPr/>
          <p:nvPr/>
        </p:nvSpPr>
        <p:spPr>
          <a:xfrm>
            <a:off x="4549680" y="529596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游戏后的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711360"/>
            <a:ext cx="68580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part2:</a:t>
            </a:r>
            <a:r>
              <a:rPr b="1" lang="zh-CN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学习如何穿衣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2600" y="1447560"/>
            <a:ext cx="7545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"/>
          <p:cNvSpPr/>
          <p:nvPr/>
        </p:nvSpPr>
        <p:spPr>
          <a:xfrm>
            <a:off x="1320840" y="1954080"/>
            <a:ext cx="6296040" cy="260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1625760" y="2581200"/>
            <a:ext cx="58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家园合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长制定穿衣计划，鼓励幼儿自主穿衣，增加幼儿学习探索的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711360"/>
            <a:ext cx="68580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part3:</a:t>
            </a:r>
            <a:r>
              <a:rPr b="1" lang="zh-CN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我会尝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00200" y="1447560"/>
            <a:ext cx="6858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巩固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左大括号 4"/>
          <p:cNvSpPr/>
          <p:nvPr/>
        </p:nvSpPr>
        <p:spPr>
          <a:xfrm>
            <a:off x="3514680" y="2290680"/>
            <a:ext cx="1123920" cy="3286080"/>
          </a:xfrm>
          <a:custGeom>
            <a:avLst/>
            <a:gdLst>
              <a:gd name="textAreaLeft" fmla="*/ 718200 w 1123920"/>
              <a:gd name="textAreaRight" fmla="*/ 1124280 w 1123920"/>
              <a:gd name="textAreaTop" fmla="*/ 29160 h 3286080"/>
              <a:gd name="textAreaBottom" fmla="*/ 3256920 h 328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8"/>
                  <a:pt x="10800" y="615"/>
                </a:cubicBezTo>
                <a:lnTo>
                  <a:pt x="10800" y="10185"/>
                </a:lnTo>
                <a:cubicBezTo>
                  <a:pt x="10800" y="10493"/>
                  <a:pt x="5400" y="10800"/>
                  <a:pt x="0" y="10800"/>
                </a:cubicBezTo>
                <a:cubicBezTo>
                  <a:pt x="5400" y="10800"/>
                  <a:pt x="10800" y="11108"/>
                  <a:pt x="10800" y="11415"/>
                </a:cubicBezTo>
                <a:lnTo>
                  <a:pt x="10800" y="20985"/>
                </a:lnTo>
                <a:cubicBezTo>
                  <a:pt x="10800" y="2129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"/>
          <p:cNvSpPr/>
          <p:nvPr/>
        </p:nvSpPr>
        <p:spPr>
          <a:xfrm>
            <a:off x="4638600" y="21081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赛：穿衣服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9"/>
          <p:cNvSpPr/>
          <p:nvPr/>
        </p:nvSpPr>
        <p:spPr>
          <a:xfrm>
            <a:off x="5149800" y="3987720"/>
            <a:ext cx="30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"/>
          <p:cNvSpPr/>
          <p:nvPr/>
        </p:nvSpPr>
        <p:spPr>
          <a:xfrm flipV="1">
            <a:off x="4038480" y="3931920"/>
            <a:ext cx="6001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"/>
          <p:cNvSpPr/>
          <p:nvPr/>
        </p:nvSpPr>
        <p:spPr>
          <a:xfrm>
            <a:off x="4640400" y="3745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活课程：叠衣服课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3"/>
          <p:cNvSpPr/>
          <p:nvPr/>
        </p:nvSpPr>
        <p:spPr>
          <a:xfrm>
            <a:off x="4748040" y="5243400"/>
            <a:ext cx="31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园合作：在家自主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143000" y="180612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宋体"/>
                <a:ea typeface="宋体"/>
              </a:rPr>
              <a:t>谢谢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049480" y="954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课程起源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" descr="IMG_1119"/>
          <p:cNvPicPr/>
          <p:nvPr/>
        </p:nvPicPr>
        <p:blipFill>
          <a:blip r:embed="rId1"/>
          <a:stretch/>
        </p:blipFill>
        <p:spPr>
          <a:xfrm>
            <a:off x="434880" y="812880"/>
            <a:ext cx="3372120" cy="2528640"/>
          </a:xfrm>
          <a:prstGeom prst="rect">
            <a:avLst/>
          </a:prstGeom>
          <a:ln w="0">
            <a:noFill/>
          </a:ln>
        </p:spPr>
      </p:pic>
      <p:sp>
        <p:nvSpPr>
          <p:cNvPr id="127" name="云形标注 1"/>
          <p:cNvSpPr/>
          <p:nvPr/>
        </p:nvSpPr>
        <p:spPr>
          <a:xfrm>
            <a:off x="4073400" y="863640"/>
            <a:ext cx="4203720" cy="2477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可小朋友：老师，衣服我不会穿？你能帮帮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3" descr="QQ图片20191015143229"/>
          <p:cNvPicPr/>
          <p:nvPr/>
        </p:nvPicPr>
        <p:blipFill>
          <a:blip r:embed="rId2"/>
          <a:stretch/>
        </p:blipFill>
        <p:spPr>
          <a:xfrm>
            <a:off x="434880" y="3828960"/>
            <a:ext cx="3433680" cy="2576520"/>
          </a:xfrm>
          <a:prstGeom prst="rect">
            <a:avLst/>
          </a:prstGeom>
          <a:ln w="0">
            <a:noFill/>
          </a:ln>
        </p:spPr>
      </p:pic>
      <p:sp>
        <p:nvSpPr>
          <p:cNvPr id="129" name="圆角矩形 5"/>
          <p:cNvSpPr/>
          <p:nvPr/>
        </p:nvSpPr>
        <p:spPr>
          <a:xfrm>
            <a:off x="4495680" y="3886200"/>
            <a:ext cx="4351320" cy="2760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"/>
          <p:cNvSpPr/>
          <p:nvPr/>
        </p:nvSpPr>
        <p:spPr>
          <a:xfrm>
            <a:off x="4784760" y="407664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调查：午睡后现场观察幼儿穿衣服能力，进行了数据统计，大部分孩子在穿衣服方面自我服务能力薄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课程起源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"/>
          <p:cNvSpPr/>
          <p:nvPr/>
        </p:nvSpPr>
        <p:spPr>
          <a:xfrm>
            <a:off x="892080" y="1425600"/>
            <a:ext cx="69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于家长调查现状：小班幼儿穿衣服基本都是家长包办代替，孩子过于依赖父母已形成习惯，孩子无法得到自主学习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5960" y="755640"/>
            <a:ext cx="7952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《指南》指出：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幼儿是积极主动的学习者。幼儿的学习是以直接经验为基础，在游戏和日常生活中进行的，要最大限度地满足和支持幼儿通过直接感知、实际操作和亲身体验获取经验的需要；要指导幼儿学习和掌握生活自理的基本方法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要鼓励幼儿做力所能及的事情，对幼儿的尝试与努力给与肯定，不因做不好或做得慢而包办代替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7"/>
          <p:cNvSpPr/>
          <p:nvPr/>
        </p:nvSpPr>
        <p:spPr>
          <a:xfrm>
            <a:off x="1320840" y="12319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通过活动让幼儿学习穿衣服的方法，使幼儿养成自己的事情自己做的良好习惯，指导幼儿学习和掌握生活自理的基本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通过引导幼儿讨论、尝试穿衣服的方法，锻炼幼儿动手操作能力，引导幼儿发展手臂的小肌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通过鼓励幼儿尝试生活自己穿衣服，体验成功的快乐，树立自信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3124080" y="1522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程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0"/>
          <p:cNvSpPr/>
          <p:nvPr/>
        </p:nvSpPr>
        <p:spPr>
          <a:xfrm>
            <a:off x="3048120" y="380880"/>
            <a:ext cx="27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课程网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2476440" y="108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穿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直接箭头连接符 2"/>
          <p:cNvCxnSpPr/>
          <p:nvPr/>
        </p:nvCxnSpPr>
        <p:spPr>
          <a:xfrm flipH="1">
            <a:off x="1825200" y="1905120"/>
            <a:ext cx="1223280" cy="141048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9" name="圆角矩形 5"/>
          <p:cNvSpPr/>
          <p:nvPr/>
        </p:nvSpPr>
        <p:spPr>
          <a:xfrm>
            <a:off x="104760" y="3454560"/>
            <a:ext cx="2629080" cy="2092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"/>
          <p:cNvSpPr/>
          <p:nvPr/>
        </p:nvSpPr>
        <p:spPr>
          <a:xfrm>
            <a:off x="512640" y="3378240"/>
            <a:ext cx="20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大调查：午睡后的现场观察，初步了解幼儿穿衣服的自我服务能力，再基于家长的调查反馈确定课程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箭头连接符 7"/>
          <p:cNvCxnSpPr/>
          <p:nvPr/>
        </p:nvCxnSpPr>
        <p:spPr>
          <a:xfrm flipH="1">
            <a:off x="4509720" y="1905120"/>
            <a:ext cx="62640" cy="15753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2" name="圆角矩形 8"/>
          <p:cNvSpPr/>
          <p:nvPr/>
        </p:nvSpPr>
        <p:spPr>
          <a:xfrm>
            <a:off x="3276720" y="3532320"/>
            <a:ext cx="2516040" cy="2090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如何穿衣服（开展我会穿衣服课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接箭头连接符 9"/>
          <p:cNvCxnSpPr/>
          <p:nvPr/>
        </p:nvCxnSpPr>
        <p:spPr>
          <a:xfrm>
            <a:off x="5473800" y="1790280"/>
            <a:ext cx="1994400" cy="163908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4" name="圆角矩形 10"/>
          <p:cNvSpPr/>
          <p:nvPr/>
        </p:nvSpPr>
        <p:spPr>
          <a:xfrm>
            <a:off x="6400800" y="3505320"/>
            <a:ext cx="2590920" cy="213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"/>
          <p:cNvSpPr/>
          <p:nvPr/>
        </p:nvSpPr>
        <p:spPr>
          <a:xfrm>
            <a:off x="6778800" y="3917880"/>
            <a:ext cx="18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会尝试（开展穿衣服比赛活动，体验成功喜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755280"/>
            <a:ext cx="68580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part1:</a:t>
            </a:r>
            <a:r>
              <a:rPr b="1" lang="zh-CN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问题大调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接箭头连接符 4"/>
          <p:cNvCxnSpPr/>
          <p:nvPr/>
        </p:nvCxnSpPr>
        <p:spPr>
          <a:xfrm flipH="1">
            <a:off x="1447560" y="1911240"/>
            <a:ext cx="1326240" cy="1137600"/>
          </a:xfrm>
          <a:prstGeom prst="straightConnector1">
            <a:avLst/>
          </a:prstGeom>
          <a:ln w="3492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8" name="文本框 3"/>
          <p:cNvSpPr/>
          <p:nvPr/>
        </p:nvSpPr>
        <p:spPr>
          <a:xfrm>
            <a:off x="531720" y="3233880"/>
            <a:ext cx="18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午睡后穿衣服现场观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箭头连接符 6"/>
          <p:cNvCxnSpPr/>
          <p:nvPr/>
        </p:nvCxnSpPr>
        <p:spPr>
          <a:xfrm>
            <a:off x="6781320" y="1854000"/>
            <a:ext cx="1143720" cy="1346400"/>
          </a:xfrm>
          <a:prstGeom prst="straightConnector1">
            <a:avLst/>
          </a:prstGeom>
          <a:ln w="3492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0" name="文本框 8"/>
          <p:cNvSpPr/>
          <p:nvPr/>
        </p:nvSpPr>
        <p:spPr>
          <a:xfrm>
            <a:off x="2401920" y="3200400"/>
            <a:ext cx="28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填写穿衣服调查表量表内容。统计数量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（能否分前后，独立穿衣服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"/>
          <p:cNvSpPr/>
          <p:nvPr/>
        </p:nvSpPr>
        <p:spPr>
          <a:xfrm>
            <a:off x="6781680" y="3200400"/>
            <a:ext cx="18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根据实际现状，确定调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箭头连接符 10"/>
          <p:cNvCxnSpPr/>
          <p:nvPr/>
        </p:nvCxnSpPr>
        <p:spPr>
          <a:xfrm>
            <a:off x="4227120" y="1936440"/>
            <a:ext cx="1080" cy="1297800"/>
          </a:xfrm>
          <a:prstGeom prst="straightConnector1">
            <a:avLst/>
          </a:prstGeom>
          <a:ln w="3492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3" name="直接箭头连接符 1"/>
          <p:cNvCxnSpPr/>
          <p:nvPr/>
        </p:nvCxnSpPr>
        <p:spPr>
          <a:xfrm>
            <a:off x="5854320" y="1936800"/>
            <a:ext cx="13320" cy="1264320"/>
          </a:xfrm>
          <a:prstGeom prst="straightConnector1">
            <a:avLst/>
          </a:prstGeom>
          <a:ln w="3492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4" name="文本框 2"/>
          <p:cNvSpPr/>
          <p:nvPr/>
        </p:nvSpPr>
        <p:spPr>
          <a:xfrm>
            <a:off x="5089680" y="34005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信息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9"/>
          <p:cNvSpPr/>
          <p:nvPr/>
        </p:nvSpPr>
        <p:spPr>
          <a:xfrm>
            <a:off x="768240" y="1427040"/>
            <a:ext cx="1365480" cy="460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1"/>
          <p:cNvSpPr/>
          <p:nvPr/>
        </p:nvSpPr>
        <p:spPr>
          <a:xfrm>
            <a:off x="360360" y="1757520"/>
            <a:ext cx="15210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如何穿衣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接箭头连接符 16"/>
          <p:cNvCxnSpPr/>
          <p:nvPr/>
        </p:nvCxnSpPr>
        <p:spPr>
          <a:xfrm flipV="1">
            <a:off x="2133360" y="1828080"/>
            <a:ext cx="1905480" cy="61020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8" name="直接箭头连接符 17"/>
          <p:cNvCxnSpPr/>
          <p:nvPr/>
        </p:nvCxnSpPr>
        <p:spPr>
          <a:xfrm>
            <a:off x="2133720" y="30477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9" name="直接箭头连接符 18"/>
          <p:cNvCxnSpPr/>
          <p:nvPr/>
        </p:nvCxnSpPr>
        <p:spPr>
          <a:xfrm>
            <a:off x="2133360" y="3877920"/>
            <a:ext cx="1905480" cy="22932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60" name="直接箭头连接符 19"/>
          <p:cNvCxnSpPr/>
          <p:nvPr/>
        </p:nvCxnSpPr>
        <p:spPr>
          <a:xfrm>
            <a:off x="2133720" y="4648320"/>
            <a:ext cx="1753200" cy="7833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1" name="文本框 20"/>
          <p:cNvSpPr/>
          <p:nvPr/>
        </p:nvSpPr>
        <p:spPr>
          <a:xfrm>
            <a:off x="4137120" y="139068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幼儿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1"/>
          <p:cNvSpPr/>
          <p:nvPr/>
        </p:nvSpPr>
        <p:spPr>
          <a:xfrm>
            <a:off x="4137120" y="279576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集体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2"/>
          <p:cNvSpPr/>
          <p:nvPr/>
        </p:nvSpPr>
        <p:spPr>
          <a:xfrm>
            <a:off x="4137120" y="3878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游戏开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3"/>
          <p:cNvSpPr/>
          <p:nvPr/>
        </p:nvSpPr>
        <p:spPr>
          <a:xfrm>
            <a:off x="3962520" y="5178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园合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711360"/>
            <a:ext cx="68580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part2:</a:t>
            </a:r>
            <a:r>
              <a:rPr b="1" lang="zh-CN" sz="44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学习如何穿衣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2600" y="1447560"/>
            <a:ext cx="7545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295280" y="1828800"/>
            <a:ext cx="6629400" cy="434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"/>
          <p:cNvSpPr/>
          <p:nvPr/>
        </p:nvSpPr>
        <p:spPr>
          <a:xfrm>
            <a:off x="1590840" y="2595600"/>
            <a:ext cx="60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谈话活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幼儿聊聊穿衣服话题，如：你会穿衣服吗？你是怎么穿衣服的？围绕此类问题开展，让幼儿初步感知穿衣服的步骤方法，激发幼儿的学习兴趣及探索欲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7T03:54:39Z</dcterms:created>
  <dc:creator>Administrator</dc:creator>
  <dc:description/>
  <dc:language>en-US</dc:language>
  <cp:lastModifiedBy>clh</cp:lastModifiedBy>
  <dcterms:modified xsi:type="dcterms:W3CDTF">2019-10-15T12:01:51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  <property fmtid="{D5CDD505-2E9C-101B-9397-08002B2CF9AE}" pid="3" name="Version">
    <vt:r8>1</vt:r8>
  </property>
</Properties>
</file>