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ABD-983B-47AC-9D1C-A4642912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63F-2801-4C59-B297-4BE1E2A2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16DB-3C31-4320-ACCC-9656C4F9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555-4189-4CB7-8616-57CB2EAF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F8F4-F817-41FE-AC0C-835410C2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E1E-C649-4201-B597-F44392A6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C9E-37C1-4CC9-A5ED-AD84C2F0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7B8-E60B-4310-9E67-CD734BE3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8D7-C24F-41E3-AC12-78E9B9FE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00F-95A7-4C49-9B18-6C56519B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9CA-2AEA-4688-97B2-9606B593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76A-1478-47CF-8A59-2AF9B17A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F8E6-A331-4C1A-8A6E-E7944ADBE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与书香为伴，与智慧同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新魏幼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新蕾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组第二次活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矩形 9" descr=""/>
          <p:cNvPicPr/>
          <p:nvPr/>
        </p:nvPicPr>
        <p:blipFill>
          <a:blip r:embed="rId1"/>
          <a:stretch/>
        </p:blipFill>
        <p:spPr>
          <a:xfrm>
            <a:off x="3614760" y="2130480"/>
            <a:ext cx="6572160" cy="520560"/>
          </a:xfrm>
          <a:prstGeom prst="rect">
            <a:avLst/>
          </a:prstGeom>
          <a:ln w="0">
            <a:noFill/>
          </a:ln>
        </p:spPr>
      </p:pic>
      <p:pic>
        <p:nvPicPr>
          <p:cNvPr id="43" name="矩形 6" descr=""/>
          <p:cNvPicPr/>
          <p:nvPr/>
        </p:nvPicPr>
        <p:blipFill>
          <a:blip r:embed="rId2"/>
          <a:stretch/>
        </p:blipFill>
        <p:spPr>
          <a:xfrm>
            <a:off x="879480" y="2130480"/>
            <a:ext cx="4579920" cy="4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语接龙游戏规则：  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出开头的成语，如“坐井观天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面接的人必须接上一个成语的最后一个字，如“天长地久”，就要说“天”字开头的成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可以说同音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这样一直接下去，到谁那接不上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就得受惩罚或者算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64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活动一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《幼儿园户外环境创设与活动指导》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常见的户外活动场地设置与玩具材料投放读书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63360" y="3349800"/>
            <a:ext cx="6878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请老师们结合幼儿园现场谈谈自己的想法并提出有效建议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活动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户外区域主题创设与方案交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园长引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02:59:38Z</dcterms:created>
  <dc:creator>yu</dc:creator>
  <dc:description/>
  <dc:language>en-US</dc:language>
  <cp:lastModifiedBy>asus</cp:lastModifiedBy>
  <dcterms:modified xsi:type="dcterms:W3CDTF">2020-09-24T04:36:16Z</dcterms:modified>
  <cp:revision>1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069</vt:lpwstr>
  </property>
</Properties>
</file>