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D2E-7838-455D-B27B-3299644B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C2A-7FA7-4588-8C87-E68AD7D4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656-01A7-4190-9B74-4C2905A8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8C9-905A-4602-8A2F-BF873CAA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9E0-A784-436C-B061-FE02136C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72D-D299-48B1-A7CB-F7A38207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F63-6F27-4260-A94F-0C72B7A4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E7A-A0D1-478C-A156-2CD9F41C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4F0-D284-4CDB-A81C-199527B3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97A-89F8-40E8-BBDA-1B896B00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188-E6E5-4317-8C1B-5DC663D0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3EB-7543-49A2-A455-C4953D24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7151-733A-4B61-B2A0-CF585E95C5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82440" y="1914120"/>
            <a:ext cx="935352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研讨主题：</a:t>
            </a:r>
            <a:br>
              <a:rPr sz="60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户外活动中幼儿与材料的互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23532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part1: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读书交流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《户外环境创设的现代视角》</a:t>
            </a:r>
            <a:br>
              <a:rPr sz="4500"/>
            </a:b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谈谈在户外环境的创设中，我们有了什么？还缺少什么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156204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part2: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观察、实践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2048040"/>
            <a:ext cx="68580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结合自己的观察，谈谈目前幼儿与材料的互动情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结合学习的内容，就幼儿与材料的互动，谈谈你还有哪些建议或今后有哪些调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谢谢大家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3T03:10:41Z</dcterms:created>
  <dc:creator>Administrator</dc:creator>
  <dc:description/>
  <dc:language>en-US</dc:language>
  <cp:lastModifiedBy>Windows 用户</cp:lastModifiedBy>
  <dcterms:modified xsi:type="dcterms:W3CDTF">2019-04-12T07:56:58Z</dcterms:modified>
  <cp:revision>1</cp:revision>
  <dc:subject/>
  <dc:title>研讨主题： 户外活动中幼儿与材料的互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14</vt:lpwstr>
  </property>
</Properties>
</file>