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727-CDD7-4C0E-8654-CAA338AA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39E-AD43-4019-BAE5-F16C4BAD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F07-5FB2-4173-9432-EC5EAD06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590-8521-42A9-A707-0283AABB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5040-CE65-4B2B-95A2-8477DB76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49A5-EE1B-43E5-8A58-BCFEF188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5F3D-1BF7-4DA4-A112-A31449B1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2E0-987E-4680-9F64-C9EB859A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5D3-C203-4106-8166-E4F0404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5ACC-7443-44B8-8692-B3597F33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7F30-762A-4948-A9B8-D950BAC7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FC0-2C1C-4250-925D-C872B6DB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AA59-029B-46B0-BE42-2753E791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E0A6-5D54-4012-8D9D-34673D83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688F-8AFC-4025-9E0D-0B6ADC48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97E4-B405-48E7-A437-FE7A6D15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8514-2BC9-4878-BEB8-D00870C0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D67-33F3-4C0E-94C6-270AF3F7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12A-9A57-479B-8D8B-9B1D9412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393-8FA9-45E2-84EB-917F28B3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510-08B5-4F81-B0D4-5DA2136D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8E8-D495-42C6-B5A2-150172C3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0E4-7EE0-496E-87C1-3AB47D8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0E3-D6EB-4553-9546-3083AEC7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9278-A843-4870-9220-41878E01121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0DA3-6393-4B89-BA06-BA819B587D1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915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关注教学各环节，培养学生审辩思维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8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一、三个部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课前析教材、巧设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课中造氛围、抓生成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课后勤拓展、重反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（一）课前析教材、巧设计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巧妙创设情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251460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43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符合学生认知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贴近现实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4648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思辨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6720" y="144792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深入分析教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（二）课中造氛围、抓生成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营造和谐的课堂氛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抓住课堂生成性资源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870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（三）课后勤拓展、重反思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开展多样拓展训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重视课后教学反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14479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政小论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题辩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8T09:24:29Z</dcterms:created>
  <dc:creator>admin</dc:creator>
  <dc:description/>
  <dc:language>en-US</dc:language>
  <cp:lastModifiedBy>admin</cp:lastModifiedBy>
  <dcterms:modified xsi:type="dcterms:W3CDTF">2020-08-18T09:49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