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7D5D-1903-4E10-8361-E4EA57007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176D-1669-47A0-8479-0721F783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1A7B-5675-4F93-9A12-482B4BE8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5C64-592D-4F66-8D0E-1BCF0B876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3A48-B62B-4644-93E3-5F7626A6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A6DE-8482-49FA-A728-61CE2445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1146-6E1C-4D60-A102-7AA90653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F248-6A3C-4329-BDE8-2AD9D932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927D-0EBD-4725-B37D-FD8A561A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DBD2-15A0-4E8C-A6EE-796CB160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4EFE-6B5D-47AB-B539-B2A7BE60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497F-5A37-432D-8024-5C9E3A26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9064-3DFD-4DAA-A7DC-FCAA9A834322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2560" y="1111320"/>
            <a:ext cx="8119800" cy="16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理论学习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观察方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文本框 1"/>
          <p:cNvSpPr/>
          <p:nvPr/>
        </p:nvSpPr>
        <p:spPr>
          <a:xfrm>
            <a:off x="1141560" y="365040"/>
            <a:ext cx="664848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线索提示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1731960" y="1187280"/>
            <a:ext cx="644364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察游戏环境的创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察幼儿选择材料的倾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察教师的指导行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察某一个区域游戏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文本框 1"/>
          <p:cNvSpPr/>
          <p:nvPr/>
        </p:nvSpPr>
        <p:spPr>
          <a:xfrm>
            <a:off x="1015920" y="757080"/>
            <a:ext cx="358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扫描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2"/>
          <p:cNvSpPr/>
          <p:nvPr/>
        </p:nvSpPr>
        <p:spPr>
          <a:xfrm>
            <a:off x="1292400" y="1725480"/>
            <a:ext cx="711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扫描法即时段定人法，对班里的全体幼儿平均分配时间，在相等的时间段里对每个幼儿轮流进行扫描观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3"/>
          <p:cNvSpPr/>
          <p:nvPr/>
        </p:nvSpPr>
        <p:spPr>
          <a:xfrm>
            <a:off x="4189320" y="757080"/>
            <a:ext cx="300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全体幼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1"/>
          <p:cNvSpPr/>
          <p:nvPr/>
        </p:nvSpPr>
        <p:spPr>
          <a:xfrm>
            <a:off x="479520" y="922320"/>
            <a:ext cx="345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定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1"/>
          <p:cNvSpPr/>
          <p:nvPr/>
        </p:nvSpPr>
        <p:spPr>
          <a:xfrm>
            <a:off x="1182600" y="1946160"/>
            <a:ext cx="70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定点法即定点不定人法。观察者固定在游戏中某一地点进行观察，见什么观察什么，只要来此点的幼儿都可以作为观察对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"/>
          <p:cNvSpPr/>
          <p:nvPr/>
        </p:nvSpPr>
        <p:spPr>
          <a:xfrm>
            <a:off x="3360600" y="917640"/>
            <a:ext cx="545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旁观小组或区域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1"/>
          <p:cNvSpPr/>
          <p:nvPr/>
        </p:nvSpPr>
        <p:spPr>
          <a:xfrm>
            <a:off x="417600" y="727200"/>
            <a:ext cx="325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四、追踪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"/>
          <p:cNvSpPr/>
          <p:nvPr/>
        </p:nvSpPr>
        <p:spPr>
          <a:xfrm>
            <a:off x="1181160" y="1622520"/>
            <a:ext cx="708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追踪法即定人不定点法。观察者事先确定一到两个幼儿作为观察对象，观察他们在游戏中的活动情况。被观察的幼儿走到哪里，观察者就追随到那里，固定人而不固定地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2"/>
          <p:cNvSpPr/>
          <p:nvPr/>
        </p:nvSpPr>
        <p:spPr>
          <a:xfrm>
            <a:off x="3371760" y="727200"/>
            <a:ext cx="364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个别幼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文本框 2"/>
          <p:cNvSpPr/>
          <p:nvPr/>
        </p:nvSpPr>
        <p:spPr>
          <a:xfrm>
            <a:off x="903240" y="378000"/>
            <a:ext cx="741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五、综合图示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"/>
          <p:cNvSpPr/>
          <p:nvPr/>
        </p:nvSpPr>
        <p:spPr>
          <a:xfrm>
            <a:off x="1171440" y="1246320"/>
            <a:ext cx="714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综合图示法是一种融扫描法、定点法、追踪法为一体并加入了图示记录的观察记录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2"/>
          <p:cNvSpPr/>
          <p:nvPr/>
        </p:nvSpPr>
        <p:spPr>
          <a:xfrm>
            <a:off x="1755720" y="2963880"/>
            <a:ext cx="563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特点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方法的综合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结果的直观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情景的真实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1T11:22:51Z</dcterms:created>
  <dc:creator>pc</dc:creator>
  <dc:description/>
  <dc:language>en-US</dc:language>
  <cp:lastModifiedBy>pc</cp:lastModifiedBy>
  <dcterms:modified xsi:type="dcterms:W3CDTF">2019-04-12T04:46:43Z</dcterms:modified>
  <cp:revision>10</cp:revision>
  <dc:subject/>
  <dc:title>理论学习——观察方法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97</vt:lpwstr>
  </property>
</Properties>
</file>