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B77-86A0-46DB-92F7-AD3C26F0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505-5E81-4936-BBE6-D50AB400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1EF-0A49-4AA9-A520-7DB2939F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B0DF-B64B-48BF-A3FC-00AF24FD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B41-1693-42B4-97C1-20AF07FA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BA1-D6D0-4A0C-8E70-B183D675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BB2-7DBC-45FC-A988-04128A6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78BB-5A5B-41E0-AC53-BB8043E1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70F-BE55-407E-AFF1-41497CAF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785-829A-4484-80EC-BFCCE322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F95-71DE-4254-9FC2-7F1D741C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1787-CFCF-477D-B8B9-9F76A381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0896-B0BC-4BB9-A4C5-BC6F58DCF95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0" y="234720"/>
            <a:ext cx="85680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沙龙研讨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精准解读幼儿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文本框 1"/>
          <p:cNvSpPr/>
          <p:nvPr/>
        </p:nvSpPr>
        <p:spPr>
          <a:xfrm>
            <a:off x="887400" y="555480"/>
            <a:ext cx="761832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游戏互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游戏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害你在心口难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主持人在每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个人的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头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上都会贴上精心准备好的卡片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卡片上写着被贴纸的人不能做的事或者不能说的话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一旦被贴纸的人做出纸片上的事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就是中招了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要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淘汰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。参与人员需要不断地用各种方法引诱、陷害别人中招。游戏中每个人自己都只能看到其他人而看不到自己的纸片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所以在‘引诱陷害”别人的同时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又要提防被别“陷害 ”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1"/>
          <p:cNvSpPr/>
          <p:nvPr/>
        </p:nvSpPr>
        <p:spPr>
          <a:xfrm>
            <a:off x="826920" y="757080"/>
            <a:ext cx="358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沙龙研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1292400" y="1725480"/>
            <a:ext cx="71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"/>
          <p:cNvSpPr/>
          <p:nvPr/>
        </p:nvSpPr>
        <p:spPr>
          <a:xfrm>
            <a:off x="1292400" y="1601640"/>
            <a:ext cx="685476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研讨方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位老师分享自己的区域游戏观察记录表并结合自己经验，围绕“如何解读幼儿行为”进行阐述，并总结自己的解读方法。其他老师进行分析和评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1T11:22:51Z</dcterms:created>
  <dc:creator>pc</dc:creator>
  <dc:description/>
  <dc:language>en-US</dc:language>
  <cp:lastModifiedBy>大大王</cp:lastModifiedBy>
  <dcterms:modified xsi:type="dcterms:W3CDTF">2019-11-20T05:18:46Z</dcterms:modified>
  <cp:revision>12</cp:revision>
  <dc:subject/>
  <dc:title>理论学习——观察方法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</Properties>
</file>