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6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CA06-F53C-45C2-B4DF-79A8C08F8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DA17-678D-4AEA-BC8E-D0DDC5AF6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A33F-F2CD-4FB9-B420-8A328B900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E242-E479-43D5-A388-47EC21AED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A6C1-9870-45E8-AC37-601D07F04C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8784-D9B9-42E1-8A54-D8C6F2C885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17E8-C653-457F-9706-5BC4A1F478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F7FD-2699-48B6-A9ED-2B18AF9BFA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633C-B19F-4C34-9A51-7442D23DE7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F953-707E-48AE-8797-FC7CBA24BF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55D0-B4BE-4F50-ACF0-CBA1D7F45A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856F-F205-4851-ACA8-DAE65FE82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6D7E-1D10-463A-A5A2-7842ED1AB5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9537-987C-4B66-8E7F-DBB307AC9A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AEFA-8420-4205-AE31-85336BC960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62EE-EACA-4C0F-B69A-0DDE0973A9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54EA-E2C3-452C-A5D8-506278E1F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48B4-A504-41D3-906E-9F97AE164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A88D-6BE4-4D67-80F5-82E5D1B95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42F2-A386-4E2C-BC7C-19C0303E3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5D11-4193-401C-B833-F69722920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A828-B4F3-4C95-A0E1-86A2818FA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518F-44E9-4E9B-A912-C069D94B7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7a7a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D905-69D3-4812-9603-272053149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1C1F-78FE-4B88-9AD0-AE78B39136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1CFF-9ABC-41AC-A3F0-8E04096772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hape 8"/>
          <p:cNvSpPr/>
          <p:nvPr/>
        </p:nvSpPr>
        <p:spPr>
          <a:xfrm>
            <a:off x="1181160" y="2443320"/>
            <a:ext cx="82868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探究坡度的表示方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新北区实验中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曹  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hape 9"/>
          <p:cNvSpPr/>
          <p:nvPr/>
        </p:nvSpPr>
        <p:spPr>
          <a:xfrm>
            <a:off x="7449120" y="476280"/>
            <a:ext cx="124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九年级</a:t>
            </a:r>
            <a:r>
              <a:rPr b="0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0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hape 10"/>
          <p:cNvSpPr/>
          <p:nvPr/>
        </p:nvSpPr>
        <p:spPr>
          <a:xfrm>
            <a:off x="5578560" y="333360"/>
            <a:ext cx="245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初中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hape 142"/>
          <p:cNvSpPr/>
          <p:nvPr/>
        </p:nvSpPr>
        <p:spPr>
          <a:xfrm>
            <a:off x="3121200" y="1722960"/>
            <a:ext cx="2192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下列问题，谈谈你本节课的收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正切与角度之间的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正切计算的前提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正切计算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hape 15"/>
          <p:cNvSpPr/>
          <p:nvPr/>
        </p:nvSpPr>
        <p:spPr>
          <a:xfrm>
            <a:off x="1312920" y="914400"/>
            <a:ext cx="670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五、归纳与提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hape 15"/>
          <p:cNvSpPr/>
          <p:nvPr/>
        </p:nvSpPr>
        <p:spPr>
          <a:xfrm>
            <a:off x="927000" y="436680"/>
            <a:ext cx="6180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、认识一类比较坡度大小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49" descr=""/>
          <p:cNvPicPr/>
          <p:nvPr/>
        </p:nvPicPr>
        <p:blipFill>
          <a:blip r:embed="rId1"/>
          <a:stretch/>
        </p:blipFill>
        <p:spPr>
          <a:xfrm>
            <a:off x="2611440" y="3284640"/>
            <a:ext cx="3024360" cy="2095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395280" y="1865160"/>
            <a:ext cx="83534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【任务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】在生活中，我们会遇到各类台阶，有的台阶比较陡，有的台阶比较缓。请同学们比较下图中的两个台阶，哪一个台阶更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4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7272360" cy="223200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"/>
          <p:cNvSpPr/>
          <p:nvPr/>
        </p:nvSpPr>
        <p:spPr>
          <a:xfrm>
            <a:off x="284040" y="5733720"/>
            <a:ext cx="8767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【归纳】斜坡的陡峭程度与斜坡和水平面的夹角有关，夹角越大，斜坡越陡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5"/>
          <p:cNvSpPr/>
          <p:nvPr/>
        </p:nvSpPr>
        <p:spPr>
          <a:xfrm>
            <a:off x="900000" y="476280"/>
            <a:ext cx="670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、认识另一类比较坡度大小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-3168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95280" y="1661040"/>
            <a:ext cx="8353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任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观察下图中的台阶，哪个台阶更陡？你是如何判断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309600" y="4911480"/>
            <a:ext cx="876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【归纳】斜坡陡峭程度与坡角所在直角三角形的直角边有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）邻边相等的情况下，对边越长；则坡越陡（坡角越大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）对边相等的情况下，邻边越短，则坡越陡（坡角越大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073742900" descr=""/>
          <p:cNvPicPr/>
          <p:nvPr/>
        </p:nvPicPr>
        <p:blipFill>
          <a:blip r:embed="rId1"/>
          <a:stretch/>
        </p:blipFill>
        <p:spPr>
          <a:xfrm>
            <a:off x="820800" y="2730600"/>
            <a:ext cx="7502400" cy="16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95280" y="1446840"/>
            <a:ext cx="8353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任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观察下列两个台阶，哪个台阶更陡？如何比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284040" y="5054760"/>
            <a:ext cx="8767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【提示】如何能够在保持坡角不变的情况下，转化为任务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中的一类情形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hape 15"/>
          <p:cNvSpPr/>
          <p:nvPr/>
        </p:nvSpPr>
        <p:spPr>
          <a:xfrm>
            <a:off x="882720" y="390600"/>
            <a:ext cx="670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、认识另一类比较坡度大小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033560" y="2295360"/>
            <a:ext cx="726732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95280" y="1518120"/>
            <a:ext cx="8353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任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观察下图，当坡角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的情况下，不同直角三角形中，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对边与邻边的比值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241200" y="4799160"/>
            <a:ext cx="877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【归纳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）对边与邻边的比值随坡角的确定而唯一确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）对边与邻边的比值是坡角的函数，这样的函数我们称之为正切函数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hape 15"/>
          <p:cNvSpPr/>
          <p:nvPr/>
        </p:nvSpPr>
        <p:spPr>
          <a:xfrm>
            <a:off x="882720" y="390600"/>
            <a:ext cx="670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、认识另一类比较坡度大小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073742897" descr="IMG_256"/>
          <p:cNvPicPr/>
          <p:nvPr/>
        </p:nvPicPr>
        <p:blipFill>
          <a:blip r:embed="rId1"/>
          <a:stretch/>
        </p:blipFill>
        <p:spPr>
          <a:xfrm>
            <a:off x="2997360" y="2260440"/>
            <a:ext cx="274932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735120" y="1458360"/>
            <a:ext cx="767376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△ABC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=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把∠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邻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比叫做∠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正切，记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a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hape 15"/>
          <p:cNvSpPr/>
          <p:nvPr/>
        </p:nvSpPr>
        <p:spPr>
          <a:xfrm>
            <a:off x="882720" y="390600"/>
            <a:ext cx="670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、认识三角函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1" descr=""/>
          <p:cNvPicPr/>
          <p:nvPr/>
        </p:nvPicPr>
        <p:blipFill>
          <a:blip r:embed="rId1"/>
          <a:stretch/>
        </p:blipFill>
        <p:spPr>
          <a:xfrm>
            <a:off x="5307120" y="2446200"/>
            <a:ext cx="2922480" cy="20574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2"/>
          <p:cNvSpPr/>
          <p:nvPr/>
        </p:nvSpPr>
        <p:spPr>
          <a:xfrm>
            <a:off x="503280" y="4801320"/>
            <a:ext cx="825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【归纳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）正切是一个比值，在直角三角形中有意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）正切值的大小只和角度的大小有关，随角度的增大而增大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对象 1" descr=""/>
          <p:cNvPicPr/>
          <p:nvPr/>
        </p:nvPicPr>
        <p:blipFill>
          <a:blip r:embed="rId2"/>
          <a:stretch/>
        </p:blipFill>
        <p:spPr>
          <a:xfrm>
            <a:off x="1495440" y="3019320"/>
            <a:ext cx="3584520" cy="10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79600" y="858240"/>
            <a:ext cx="7673760" cy="32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任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如图，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=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A=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B=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hape 15"/>
          <p:cNvSpPr/>
          <p:nvPr/>
        </p:nvSpPr>
        <p:spPr>
          <a:xfrm>
            <a:off x="882720" y="390600"/>
            <a:ext cx="670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、利用正切公式进行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对象 -2147482591" descr=""/>
          <p:cNvPicPr/>
          <p:nvPr/>
        </p:nvPicPr>
        <p:blipFill>
          <a:blip r:embed="rId1"/>
          <a:stretch/>
        </p:blipFill>
        <p:spPr>
          <a:xfrm>
            <a:off x="2725560" y="2803680"/>
            <a:ext cx="601920" cy="792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73742898" descr="IMG_256"/>
          <p:cNvPicPr/>
          <p:nvPr/>
        </p:nvPicPr>
        <p:blipFill>
          <a:blip r:embed="rId2"/>
          <a:stretch/>
        </p:blipFill>
        <p:spPr>
          <a:xfrm>
            <a:off x="6502320" y="2255760"/>
            <a:ext cx="1922400" cy="1658880"/>
          </a:xfrm>
          <a:prstGeom prst="rect">
            <a:avLst/>
          </a:prstGeom>
          <a:ln w="0">
            <a:noFill/>
          </a:ln>
        </p:spPr>
      </p:pic>
      <p:pic>
        <p:nvPicPr>
          <p:cNvPr id="109" name="对象 1" descr=""/>
          <p:cNvPicPr/>
          <p:nvPr/>
        </p:nvPicPr>
        <p:blipFill>
          <a:blip r:embed="rId3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10" name="对象 2" descr=""/>
          <p:cNvPicPr/>
          <p:nvPr/>
        </p:nvPicPr>
        <p:blipFill>
          <a:blip r:embed="rId4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11" name="对象 3" descr=""/>
          <p:cNvPicPr/>
          <p:nvPr/>
        </p:nvPicPr>
        <p:blipFill>
          <a:blip r:embed="rId5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12" name="对象 6" descr=""/>
          <p:cNvPicPr/>
          <p:nvPr/>
        </p:nvPicPr>
        <p:blipFill>
          <a:blip r:embed="rId6"/>
          <a:stretch/>
        </p:blipFill>
        <p:spPr>
          <a:xfrm>
            <a:off x="4043520" y="3595680"/>
            <a:ext cx="60156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9600" y="1625760"/>
            <a:ext cx="76737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如图，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斜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的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hape 15"/>
          <p:cNvSpPr/>
          <p:nvPr/>
        </p:nvSpPr>
        <p:spPr>
          <a:xfrm>
            <a:off x="882720" y="390600"/>
            <a:ext cx="670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、利用正切公式进行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5823000" y="2467080"/>
            <a:ext cx="2430360" cy="1923840"/>
          </a:xfrm>
          <a:prstGeom prst="rect">
            <a:avLst/>
          </a:prstGeom>
          <a:ln w="0">
            <a:noFill/>
          </a:ln>
        </p:spPr>
      </p:pic>
      <p:pic>
        <p:nvPicPr>
          <p:cNvPr id="117" name="对象 7" descr=""/>
          <p:cNvPicPr/>
          <p:nvPr/>
        </p:nvPicPr>
        <p:blipFill>
          <a:blip r:embed="rId2"/>
          <a:stretch/>
        </p:blipFill>
        <p:spPr>
          <a:xfrm>
            <a:off x="868320" y="2938320"/>
            <a:ext cx="4262400" cy="19177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9"/>
          <p:cNvSpPr/>
          <p:nvPr/>
        </p:nvSpPr>
        <p:spPr>
          <a:xfrm>
            <a:off x="641520" y="5393880"/>
            <a:ext cx="7551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【归纳】正切的计算可通过相等角进行转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73040" y="1602360"/>
            <a:ext cx="7675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】已知，在等边三角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an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15"/>
          <p:cNvSpPr/>
          <p:nvPr/>
        </p:nvSpPr>
        <p:spPr>
          <a:xfrm>
            <a:off x="882720" y="390600"/>
            <a:ext cx="670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、利用正切公式进行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073742899" descr=""/>
          <p:cNvPicPr/>
          <p:nvPr/>
        </p:nvPicPr>
        <p:blipFill>
          <a:blip r:embed="rId1"/>
          <a:stretch/>
        </p:blipFill>
        <p:spPr>
          <a:xfrm>
            <a:off x="6119640" y="2627280"/>
            <a:ext cx="1897200" cy="174456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9"/>
          <p:cNvSpPr/>
          <p:nvPr/>
        </p:nvSpPr>
        <p:spPr>
          <a:xfrm>
            <a:off x="847800" y="3653640"/>
            <a:ext cx="70689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【归纳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tan60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°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=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tan30</a:t>
            </a:r>
            <a:r>
              <a:rPr b="1" lang="en-US" sz="2800" spc="-1" strike="noStrike">
                <a:solidFill>
                  <a:srgbClr val="333399"/>
                </a:solidFill>
                <a:latin typeface="楷体"/>
                <a:ea typeface="楷体"/>
              </a:rPr>
              <a:t>°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=___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）构建直角三角形才能进行正切的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3T13:03:14Z</dcterms:created>
  <dc:creator/>
  <dc:description/>
  <dc:language>en-US</dc:language>
  <cp:lastModifiedBy>暗夜</cp:lastModifiedBy>
  <dcterms:modified xsi:type="dcterms:W3CDTF">2020-11-27T05:54:30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