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2EC-9B9E-43AA-A2CA-E6F278DF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D59-87AD-4AA1-8A98-A0B7A79D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DD0-5F9D-47F7-A4E2-2EDFB790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CFE-2C81-42E0-91E7-F4EA6836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9AF-5193-4E2A-8DBA-C8D35E19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6D3-2783-43C9-B930-50738B38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51A-3019-44D9-BC7A-7591839C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ACD6-2F80-4AEF-BEE8-1D246B3C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9BE-0368-4C54-8637-1412226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E26-E104-4FF0-8698-82FC940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A14F-D792-448B-BC52-4BDEB5F5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275-64CC-46AD-979F-1841F6F0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9031-C0D4-4C86-BC39-A8B938B20D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7"/>
          <p:cNvGrpSpPr/>
          <p:nvPr/>
        </p:nvGrpSpPr>
        <p:grpSpPr>
          <a:xfrm>
            <a:off x="-304920" y="0"/>
            <a:ext cx="8720280" cy="6413400"/>
            <a:chOff x="-304920" y="0"/>
            <a:chExt cx="8720280" cy="6413400"/>
          </a:xfrm>
        </p:grpSpPr>
        <p:pic>
          <p:nvPicPr>
            <p:cNvPr id="42" name="图片 37" descr="003-1.png"/>
            <p:cNvPicPr/>
            <p:nvPr/>
          </p:nvPicPr>
          <p:blipFill>
            <a:blip r:embed="rId1"/>
            <a:stretch/>
          </p:blipFill>
          <p:spPr>
            <a:xfrm>
              <a:off x="57600" y="23760"/>
              <a:ext cx="6617520" cy="638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图片 38" descr="未标题-3.png"/>
            <p:cNvPicPr/>
            <p:nvPr/>
          </p:nvPicPr>
          <p:blipFill>
            <a:blip r:embed="rId2"/>
            <a:stretch/>
          </p:blipFill>
          <p:spPr>
            <a:xfrm>
              <a:off x="-304920" y="0"/>
              <a:ext cx="2891880" cy="27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直接连接符 42"/>
            <p:cNvSpPr/>
            <p:nvPr/>
          </p:nvSpPr>
          <p:spPr>
            <a:xfrm>
              <a:off x="56880" y="4624560"/>
              <a:ext cx="8358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43"/>
            <p:cNvSpPr/>
            <p:nvPr/>
          </p:nvSpPr>
          <p:spPr>
            <a:xfrm>
              <a:off x="2098440" y="3849840"/>
              <a:ext cx="1287360" cy="13744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任意多边形 3"/>
          <p:cNvSpPr/>
          <p:nvPr/>
        </p:nvSpPr>
        <p:spPr>
          <a:xfrm>
            <a:off x="2571840" y="4695840"/>
            <a:ext cx="452520" cy="1254240"/>
          </a:xfrm>
          <a:custGeom>
            <a:avLst/>
            <a:gdLst/>
            <a:ahLst/>
            <a:rect l="l" t="t" r="r" b="b"/>
            <a:pathLst>
              <a:path w="452487" h="1253765">
                <a:moveTo>
                  <a:pt x="0" y="1253765"/>
                </a:moveTo>
                <a:cubicBezTo>
                  <a:pt x="81699" y="1191705"/>
                  <a:pt x="163399" y="1129646"/>
                  <a:pt x="226244" y="1046376"/>
                </a:cubicBezTo>
                <a:cubicBezTo>
                  <a:pt x="289090" y="963106"/>
                  <a:pt x="339366" y="856269"/>
                  <a:pt x="377073" y="754145"/>
                </a:cubicBezTo>
                <a:cubicBezTo>
                  <a:pt x="414780" y="652021"/>
                  <a:pt x="452487" y="559324"/>
                  <a:pt x="452487" y="433633"/>
                </a:cubicBezTo>
                <a:cubicBezTo>
                  <a:pt x="452487" y="307942"/>
                  <a:pt x="414780" y="153971"/>
                  <a:pt x="377073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4"/>
          <p:cNvSpPr/>
          <p:nvPr/>
        </p:nvSpPr>
        <p:spPr>
          <a:xfrm>
            <a:off x="2401920" y="3994200"/>
            <a:ext cx="72540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5"/>
          <p:cNvSpPr/>
          <p:nvPr/>
        </p:nvSpPr>
        <p:spPr>
          <a:xfrm>
            <a:off x="3030480" y="3780000"/>
            <a:ext cx="469800" cy="222120"/>
          </a:xfrm>
          <a:custGeom>
            <a:avLst/>
            <a:gdLst/>
            <a:ahLst/>
            <a:rect l="l" t="t" r="r" b="b"/>
            <a:pathLst>
              <a:path w="469823" h="220945">
                <a:moveTo>
                  <a:pt x="1953" y="179747"/>
                </a:moveTo>
                <a:cubicBezTo>
                  <a:pt x="12951" y="151466"/>
                  <a:pt x="77367" y="77623"/>
                  <a:pt x="124501" y="47771"/>
                </a:cubicBezTo>
                <a:cubicBezTo>
                  <a:pt x="171635" y="17919"/>
                  <a:pt x="229767" y="-4076"/>
                  <a:pt x="284757" y="637"/>
                </a:cubicBezTo>
                <a:cubicBezTo>
                  <a:pt x="339747" y="5350"/>
                  <a:pt x="426159" y="47771"/>
                  <a:pt x="454439" y="76052"/>
                </a:cubicBezTo>
                <a:cubicBezTo>
                  <a:pt x="482719" y="104332"/>
                  <a:pt x="465437" y="146753"/>
                  <a:pt x="454439" y="170320"/>
                </a:cubicBezTo>
                <a:cubicBezTo>
                  <a:pt x="443441" y="193887"/>
                  <a:pt x="430873" y="209598"/>
                  <a:pt x="388452" y="217454"/>
                </a:cubicBezTo>
                <a:cubicBezTo>
                  <a:pt x="346032" y="225310"/>
                  <a:pt x="199916" y="217454"/>
                  <a:pt x="199916" y="217454"/>
                </a:cubicBezTo>
                <a:cubicBezTo>
                  <a:pt x="144926" y="217454"/>
                  <a:pt x="88366" y="222167"/>
                  <a:pt x="58514" y="217454"/>
                </a:cubicBezTo>
                <a:cubicBezTo>
                  <a:pt x="28662" y="212741"/>
                  <a:pt x="-9045" y="208028"/>
                  <a:pt x="1953" y="17974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任意多边形 6"/>
          <p:cNvSpPr/>
          <p:nvPr/>
        </p:nvSpPr>
        <p:spPr>
          <a:xfrm>
            <a:off x="3181320" y="4059360"/>
            <a:ext cx="433440" cy="253800"/>
          </a:xfrm>
          <a:custGeom>
            <a:avLst/>
            <a:gdLst/>
            <a:ahLst/>
            <a:rect l="l" t="t" r="r" b="b"/>
            <a:pathLst>
              <a:path w="432726" h="253541">
                <a:moveTo>
                  <a:pt x="1852" y="32503"/>
                </a:moveTo>
                <a:cubicBezTo>
                  <a:pt x="17563" y="8936"/>
                  <a:pt x="152681" y="-8347"/>
                  <a:pt x="218668" y="4222"/>
                </a:cubicBezTo>
                <a:cubicBezTo>
                  <a:pt x="284656" y="16791"/>
                  <a:pt x="363212" y="71781"/>
                  <a:pt x="397777" y="107917"/>
                </a:cubicBezTo>
                <a:cubicBezTo>
                  <a:pt x="432342" y="144053"/>
                  <a:pt x="440198" y="197472"/>
                  <a:pt x="426058" y="221039"/>
                </a:cubicBezTo>
                <a:cubicBezTo>
                  <a:pt x="411918" y="244606"/>
                  <a:pt x="363212" y="261888"/>
                  <a:pt x="312936" y="249319"/>
                </a:cubicBezTo>
                <a:cubicBezTo>
                  <a:pt x="262660" y="236750"/>
                  <a:pt x="174676" y="180190"/>
                  <a:pt x="124400" y="145625"/>
                </a:cubicBezTo>
                <a:cubicBezTo>
                  <a:pt x="74124" y="111060"/>
                  <a:pt x="-13859" y="56070"/>
                  <a:pt x="1852" y="3250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7"/>
          <p:cNvSpPr/>
          <p:nvPr/>
        </p:nvSpPr>
        <p:spPr>
          <a:xfrm>
            <a:off x="3103560" y="4260960"/>
            <a:ext cx="363600" cy="325440"/>
          </a:xfrm>
          <a:custGeom>
            <a:avLst/>
            <a:gdLst/>
            <a:ahLst/>
            <a:rect l="l" t="t" r="r" b="b"/>
            <a:pathLst>
              <a:path w="370890" h="325759">
                <a:moveTo>
                  <a:pt x="49323" y="683"/>
                </a:moveTo>
                <a:cubicBezTo>
                  <a:pt x="83888" y="-4030"/>
                  <a:pt x="165587" y="16395"/>
                  <a:pt x="209579" y="38391"/>
                </a:cubicBezTo>
                <a:cubicBezTo>
                  <a:pt x="253571" y="60387"/>
                  <a:pt x="286565" y="91810"/>
                  <a:pt x="313274" y="132659"/>
                </a:cubicBezTo>
                <a:cubicBezTo>
                  <a:pt x="339983" y="173508"/>
                  <a:pt x="377691" y="252064"/>
                  <a:pt x="369835" y="283487"/>
                </a:cubicBezTo>
                <a:cubicBezTo>
                  <a:pt x="361979" y="314910"/>
                  <a:pt x="311703" y="335335"/>
                  <a:pt x="266140" y="321195"/>
                </a:cubicBezTo>
                <a:cubicBezTo>
                  <a:pt x="220577" y="307055"/>
                  <a:pt x="140450" y="241067"/>
                  <a:pt x="96458" y="198646"/>
                </a:cubicBezTo>
                <a:cubicBezTo>
                  <a:pt x="52466" y="156225"/>
                  <a:pt x="11616" y="98094"/>
                  <a:pt x="2189" y="66671"/>
                </a:cubicBezTo>
                <a:cubicBezTo>
                  <a:pt x="-7238" y="35248"/>
                  <a:pt x="14758" y="5396"/>
                  <a:pt x="49323" y="683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8"/>
          <p:cNvSpPr/>
          <p:nvPr/>
        </p:nvSpPr>
        <p:spPr>
          <a:xfrm>
            <a:off x="2900520" y="4410000"/>
            <a:ext cx="314280" cy="360360"/>
          </a:xfrm>
          <a:custGeom>
            <a:avLst/>
            <a:gdLst/>
            <a:ahLst/>
            <a:rect l="l" t="t" r="r" b="b"/>
            <a:pathLst>
              <a:path w="313001" h="360794">
                <a:moveTo>
                  <a:pt x="37707" y="2431"/>
                </a:moveTo>
                <a:cubicBezTo>
                  <a:pt x="69130" y="-3854"/>
                  <a:pt x="146115" y="860"/>
                  <a:pt x="188536" y="30712"/>
                </a:cubicBezTo>
                <a:cubicBezTo>
                  <a:pt x="230957" y="60564"/>
                  <a:pt x="271806" y="139120"/>
                  <a:pt x="292231" y="181541"/>
                </a:cubicBezTo>
                <a:cubicBezTo>
                  <a:pt x="312656" y="223962"/>
                  <a:pt x="315797" y="255384"/>
                  <a:pt x="311084" y="285235"/>
                </a:cubicBezTo>
                <a:cubicBezTo>
                  <a:pt x="306371" y="315086"/>
                  <a:pt x="303228" y="363792"/>
                  <a:pt x="263950" y="360650"/>
                </a:cubicBezTo>
                <a:cubicBezTo>
                  <a:pt x="224672" y="357508"/>
                  <a:pt x="119406" y="315087"/>
                  <a:pt x="75414" y="266382"/>
                </a:cubicBezTo>
                <a:cubicBezTo>
                  <a:pt x="31422" y="217677"/>
                  <a:pt x="6284" y="113982"/>
                  <a:pt x="0" y="68419"/>
                </a:cubicBezTo>
                <a:cubicBezTo>
                  <a:pt x="-6285" y="22856"/>
                  <a:pt x="6284" y="8716"/>
                  <a:pt x="37707" y="24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0"/>
          <p:cNvSpPr/>
          <p:nvPr/>
        </p:nvSpPr>
        <p:spPr>
          <a:xfrm>
            <a:off x="2654280" y="4476600"/>
            <a:ext cx="231840" cy="370080"/>
          </a:xfrm>
          <a:custGeom>
            <a:avLst/>
            <a:gdLst/>
            <a:ahLst/>
            <a:rect l="l" t="t" r="r" b="b"/>
            <a:pathLst>
              <a:path w="231017" h="370223">
                <a:moveTo>
                  <a:pt x="67284" y="11457"/>
                </a:moveTo>
                <a:cubicBezTo>
                  <a:pt x="98707" y="-18394"/>
                  <a:pt x="163124" y="14599"/>
                  <a:pt x="189833" y="58591"/>
                </a:cubicBezTo>
                <a:cubicBezTo>
                  <a:pt x="216542" y="102583"/>
                  <a:pt x="240109" y="223560"/>
                  <a:pt x="227540" y="275407"/>
                </a:cubicBezTo>
                <a:cubicBezTo>
                  <a:pt x="214971" y="327254"/>
                  <a:pt x="152125" y="375959"/>
                  <a:pt x="114418" y="369675"/>
                </a:cubicBezTo>
                <a:cubicBezTo>
                  <a:pt x="76711" y="363391"/>
                  <a:pt x="10724" y="295832"/>
                  <a:pt x="1297" y="237700"/>
                </a:cubicBezTo>
                <a:cubicBezTo>
                  <a:pt x="-8130" y="179568"/>
                  <a:pt x="35861" y="41308"/>
                  <a:pt x="67284" y="11457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1"/>
          <p:cNvSpPr/>
          <p:nvPr/>
        </p:nvSpPr>
        <p:spPr>
          <a:xfrm>
            <a:off x="2306520" y="4492800"/>
            <a:ext cx="257400" cy="384120"/>
          </a:xfrm>
          <a:custGeom>
            <a:avLst/>
            <a:gdLst/>
            <a:ahLst/>
            <a:rect l="l" t="t" r="r" b="b"/>
            <a:pathLst>
              <a:path w="256146" h="383766">
                <a:moveTo>
                  <a:pt x="216867" y="4385"/>
                </a:moveTo>
                <a:cubicBezTo>
                  <a:pt x="248290" y="20096"/>
                  <a:pt x="260860" y="101795"/>
                  <a:pt x="254575" y="155214"/>
                </a:cubicBezTo>
                <a:cubicBezTo>
                  <a:pt x="248291" y="208633"/>
                  <a:pt x="209012" y="287190"/>
                  <a:pt x="179160" y="324897"/>
                </a:cubicBezTo>
                <a:cubicBezTo>
                  <a:pt x="149308" y="362604"/>
                  <a:pt x="105316" y="392456"/>
                  <a:pt x="75465" y="381458"/>
                </a:cubicBezTo>
                <a:cubicBezTo>
                  <a:pt x="45613" y="370460"/>
                  <a:pt x="1622" y="312328"/>
                  <a:pt x="51" y="258909"/>
                </a:cubicBezTo>
                <a:cubicBezTo>
                  <a:pt x="-1520" y="205490"/>
                  <a:pt x="33045" y="104938"/>
                  <a:pt x="66039" y="60946"/>
                </a:cubicBezTo>
                <a:cubicBezTo>
                  <a:pt x="99033" y="16954"/>
                  <a:pt x="185444" y="-11326"/>
                  <a:pt x="216867" y="4385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2"/>
          <p:cNvSpPr/>
          <p:nvPr/>
        </p:nvSpPr>
        <p:spPr>
          <a:xfrm>
            <a:off x="2050920" y="4276800"/>
            <a:ext cx="331920" cy="306360"/>
          </a:xfrm>
          <a:custGeom>
            <a:avLst/>
            <a:gdLst/>
            <a:ahLst/>
            <a:rect l="l" t="t" r="r" b="b"/>
            <a:pathLst>
              <a:path w="331702" h="306489">
                <a:moveTo>
                  <a:pt x="330900" y="32481"/>
                </a:moveTo>
                <a:cubicBezTo>
                  <a:pt x="324615" y="68617"/>
                  <a:pt x="272769" y="175454"/>
                  <a:pt x="227206" y="221017"/>
                </a:cubicBezTo>
                <a:cubicBezTo>
                  <a:pt x="181643" y="266580"/>
                  <a:pt x="95230" y="301146"/>
                  <a:pt x="57523" y="305859"/>
                </a:cubicBezTo>
                <a:cubicBezTo>
                  <a:pt x="19816" y="310572"/>
                  <a:pt x="-5323" y="288576"/>
                  <a:pt x="962" y="249298"/>
                </a:cubicBezTo>
                <a:cubicBezTo>
                  <a:pt x="7246" y="210020"/>
                  <a:pt x="51238" y="111038"/>
                  <a:pt x="95230" y="70189"/>
                </a:cubicBezTo>
                <a:cubicBezTo>
                  <a:pt x="139222" y="29340"/>
                  <a:pt x="224063" y="12057"/>
                  <a:pt x="264913" y="4201"/>
                </a:cubicBezTo>
                <a:cubicBezTo>
                  <a:pt x="305763" y="-3655"/>
                  <a:pt x="337185" y="-3655"/>
                  <a:pt x="330900" y="3248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任意多边形 13"/>
          <p:cNvSpPr/>
          <p:nvPr/>
        </p:nvSpPr>
        <p:spPr>
          <a:xfrm>
            <a:off x="2171880" y="4032360"/>
            <a:ext cx="371160" cy="206280"/>
          </a:xfrm>
          <a:custGeom>
            <a:avLst/>
            <a:gdLst/>
            <a:ahLst/>
            <a:rect l="l" t="t" r="r" b="b"/>
            <a:pathLst>
              <a:path w="370844" h="206441">
                <a:moveTo>
                  <a:pt x="313859" y="3242"/>
                </a:moveTo>
                <a:cubicBezTo>
                  <a:pt x="269867" y="-1471"/>
                  <a:pt x="158317" y="-3042"/>
                  <a:pt x="106470" y="12669"/>
                </a:cubicBezTo>
                <a:cubicBezTo>
                  <a:pt x="54623" y="28380"/>
                  <a:pt x="13773" y="66087"/>
                  <a:pt x="2775" y="97510"/>
                </a:cubicBezTo>
                <a:cubicBezTo>
                  <a:pt x="-8223" y="128933"/>
                  <a:pt x="15344" y="187065"/>
                  <a:pt x="40482" y="201205"/>
                </a:cubicBezTo>
                <a:cubicBezTo>
                  <a:pt x="65620" y="215345"/>
                  <a:pt x="106470" y="198062"/>
                  <a:pt x="153604" y="182351"/>
                </a:cubicBezTo>
                <a:cubicBezTo>
                  <a:pt x="200738" y="166640"/>
                  <a:pt x="287150" y="130504"/>
                  <a:pt x="323286" y="106937"/>
                </a:cubicBezTo>
                <a:cubicBezTo>
                  <a:pt x="359422" y="83370"/>
                  <a:pt x="373562" y="58232"/>
                  <a:pt x="370420" y="40949"/>
                </a:cubicBezTo>
                <a:cubicBezTo>
                  <a:pt x="367278" y="23667"/>
                  <a:pt x="357851" y="7955"/>
                  <a:pt x="313859" y="324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4"/>
          <p:cNvSpPr/>
          <p:nvPr/>
        </p:nvSpPr>
        <p:spPr>
          <a:xfrm>
            <a:off x="2401920" y="3759120"/>
            <a:ext cx="398520" cy="257400"/>
          </a:xfrm>
          <a:custGeom>
            <a:avLst/>
            <a:gdLst/>
            <a:ahLst/>
            <a:rect l="l" t="t" r="r" b="b"/>
            <a:pathLst>
              <a:path w="398809" h="256943">
                <a:moveTo>
                  <a:pt x="386583" y="162590"/>
                </a:moveTo>
                <a:cubicBezTo>
                  <a:pt x="361445" y="131167"/>
                  <a:pt x="270318" y="66751"/>
                  <a:pt x="216900" y="40042"/>
                </a:cubicBezTo>
                <a:cubicBezTo>
                  <a:pt x="163482" y="13333"/>
                  <a:pt x="102208" y="-7092"/>
                  <a:pt x="66072" y="2335"/>
                </a:cubicBezTo>
                <a:cubicBezTo>
                  <a:pt x="29936" y="11762"/>
                  <a:pt x="1655" y="60467"/>
                  <a:pt x="84" y="96603"/>
                </a:cubicBezTo>
                <a:cubicBezTo>
                  <a:pt x="-1487" y="132739"/>
                  <a:pt x="18938" y="192442"/>
                  <a:pt x="56645" y="219151"/>
                </a:cubicBezTo>
                <a:cubicBezTo>
                  <a:pt x="94352" y="245860"/>
                  <a:pt x="174480" y="255287"/>
                  <a:pt x="226327" y="256858"/>
                </a:cubicBezTo>
                <a:cubicBezTo>
                  <a:pt x="278174" y="258429"/>
                  <a:pt x="341020" y="238005"/>
                  <a:pt x="367729" y="228578"/>
                </a:cubicBezTo>
                <a:cubicBezTo>
                  <a:pt x="394438" y="219151"/>
                  <a:pt x="411721" y="194013"/>
                  <a:pt x="386583" y="16259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5"/>
          <p:cNvSpPr/>
          <p:nvPr/>
        </p:nvSpPr>
        <p:spPr>
          <a:xfrm>
            <a:off x="2835360" y="3610080"/>
            <a:ext cx="228600" cy="333360"/>
          </a:xfrm>
          <a:custGeom>
            <a:avLst/>
            <a:gdLst/>
            <a:ahLst/>
            <a:rect l="l" t="t" r="r" b="b"/>
            <a:pathLst>
              <a:path w="229236" h="333615">
                <a:moveTo>
                  <a:pt x="37825" y="331572"/>
                </a:moveTo>
                <a:cubicBezTo>
                  <a:pt x="12687" y="319003"/>
                  <a:pt x="-1453" y="245160"/>
                  <a:pt x="118" y="199597"/>
                </a:cubicBezTo>
                <a:cubicBezTo>
                  <a:pt x="1689" y="154034"/>
                  <a:pt x="22114" y="91189"/>
                  <a:pt x="47252" y="58195"/>
                </a:cubicBezTo>
                <a:cubicBezTo>
                  <a:pt x="72390" y="25201"/>
                  <a:pt x="121096" y="-7793"/>
                  <a:pt x="150947" y="1634"/>
                </a:cubicBezTo>
                <a:cubicBezTo>
                  <a:pt x="180799" y="11061"/>
                  <a:pt x="216934" y="78620"/>
                  <a:pt x="226361" y="114756"/>
                </a:cubicBezTo>
                <a:cubicBezTo>
                  <a:pt x="235788" y="150892"/>
                  <a:pt x="220077" y="191741"/>
                  <a:pt x="207508" y="218450"/>
                </a:cubicBezTo>
                <a:cubicBezTo>
                  <a:pt x="194939" y="245159"/>
                  <a:pt x="174514" y="254586"/>
                  <a:pt x="150947" y="275011"/>
                </a:cubicBezTo>
                <a:cubicBezTo>
                  <a:pt x="127380" y="295436"/>
                  <a:pt x="62963" y="344141"/>
                  <a:pt x="37825" y="331572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9"/>
          <p:cNvSpPr/>
          <p:nvPr/>
        </p:nvSpPr>
        <p:spPr>
          <a:xfrm>
            <a:off x="3036960" y="5364000"/>
            <a:ext cx="712800" cy="368640"/>
          </a:xfrm>
          <a:custGeom>
            <a:avLst/>
            <a:gdLst/>
            <a:ahLst/>
            <a:rect l="l" t="t" r="r" b="b"/>
            <a:pathLst>
              <a:path w="712452" h="367801">
                <a:moveTo>
                  <a:pt x="712452" y="169683"/>
                </a:moveTo>
                <a:cubicBezTo>
                  <a:pt x="703025" y="173610"/>
                  <a:pt x="693598" y="177538"/>
                  <a:pt x="665318" y="197963"/>
                </a:cubicBezTo>
                <a:cubicBezTo>
                  <a:pt x="637038" y="218388"/>
                  <a:pt x="593045" y="268664"/>
                  <a:pt x="542769" y="292231"/>
                </a:cubicBezTo>
                <a:cubicBezTo>
                  <a:pt x="492493" y="315798"/>
                  <a:pt x="406080" y="334652"/>
                  <a:pt x="363660" y="339365"/>
                </a:cubicBezTo>
                <a:cubicBezTo>
                  <a:pt x="321240" y="344078"/>
                  <a:pt x="300815" y="315799"/>
                  <a:pt x="288246" y="320512"/>
                </a:cubicBezTo>
                <a:cubicBezTo>
                  <a:pt x="275677" y="325225"/>
                  <a:pt x="310242" y="370788"/>
                  <a:pt x="288246" y="367646"/>
                </a:cubicBezTo>
                <a:cubicBezTo>
                  <a:pt x="266250" y="364504"/>
                  <a:pt x="193978" y="326796"/>
                  <a:pt x="156271" y="301658"/>
                </a:cubicBezTo>
                <a:cubicBezTo>
                  <a:pt x="118564" y="276520"/>
                  <a:pt x="87140" y="251382"/>
                  <a:pt x="62002" y="216817"/>
                </a:cubicBezTo>
                <a:cubicBezTo>
                  <a:pt x="36864" y="182252"/>
                  <a:pt x="14869" y="130404"/>
                  <a:pt x="5442" y="94268"/>
                </a:cubicBezTo>
                <a:cubicBezTo>
                  <a:pt x="-3985" y="58132"/>
                  <a:pt x="728" y="29066"/>
                  <a:pt x="5442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20"/>
          <p:cNvSpPr/>
          <p:nvPr/>
        </p:nvSpPr>
        <p:spPr>
          <a:xfrm>
            <a:off x="3070080" y="5345280"/>
            <a:ext cx="378000" cy="56880"/>
          </a:xfrm>
          <a:custGeom>
            <a:avLst/>
            <a:gdLst/>
            <a:ahLst/>
            <a:rect l="l" t="t" r="r" b="b"/>
            <a:pathLst>
              <a:path w="377072" h="57053">
                <a:moveTo>
                  <a:pt x="0" y="38199"/>
                </a:moveTo>
                <a:cubicBezTo>
                  <a:pt x="51062" y="20916"/>
                  <a:pt x="102124" y="3634"/>
                  <a:pt x="141402" y="492"/>
                </a:cubicBezTo>
                <a:cubicBezTo>
                  <a:pt x="180680" y="-2650"/>
                  <a:pt x="196392" y="9918"/>
                  <a:pt x="235670" y="19345"/>
                </a:cubicBezTo>
                <a:cubicBezTo>
                  <a:pt x="274948" y="28772"/>
                  <a:pt x="326010" y="42912"/>
                  <a:pt x="377072" y="57053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2"/>
          <p:cNvSpPr/>
          <p:nvPr/>
        </p:nvSpPr>
        <p:spPr>
          <a:xfrm>
            <a:off x="2535120" y="4865760"/>
            <a:ext cx="406440" cy="565200"/>
          </a:xfrm>
          <a:custGeom>
            <a:avLst/>
            <a:gdLst/>
            <a:ahLst/>
            <a:rect l="l" t="t" r="r" b="b"/>
            <a:pathLst>
              <a:path w="406502" h="565608">
                <a:moveTo>
                  <a:pt x="0" y="565608"/>
                </a:moveTo>
                <a:cubicBezTo>
                  <a:pt x="13354" y="561680"/>
                  <a:pt x="26709" y="557753"/>
                  <a:pt x="65987" y="537328"/>
                </a:cubicBezTo>
                <a:cubicBezTo>
                  <a:pt x="105265" y="516903"/>
                  <a:pt x="196392" y="477625"/>
                  <a:pt x="235670" y="443060"/>
                </a:cubicBezTo>
                <a:cubicBezTo>
                  <a:pt x="274948" y="408495"/>
                  <a:pt x="285947" y="340936"/>
                  <a:pt x="301658" y="329938"/>
                </a:cubicBezTo>
                <a:cubicBezTo>
                  <a:pt x="317369" y="318940"/>
                  <a:pt x="312656" y="388070"/>
                  <a:pt x="329938" y="377072"/>
                </a:cubicBezTo>
                <a:cubicBezTo>
                  <a:pt x="347220" y="366074"/>
                  <a:pt x="399068" y="312655"/>
                  <a:pt x="405352" y="263950"/>
                </a:cubicBezTo>
                <a:cubicBezTo>
                  <a:pt x="411637" y="215245"/>
                  <a:pt x="391212" y="128833"/>
                  <a:pt x="367645" y="84841"/>
                </a:cubicBezTo>
                <a:cubicBezTo>
                  <a:pt x="344078" y="40849"/>
                  <a:pt x="304014" y="20424"/>
                  <a:pt x="263950" y="0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3"/>
          <p:cNvSpPr/>
          <p:nvPr/>
        </p:nvSpPr>
        <p:spPr>
          <a:xfrm>
            <a:off x="2722680" y="4894200"/>
            <a:ext cx="71280" cy="263520"/>
          </a:xfrm>
          <a:custGeom>
            <a:avLst/>
            <a:gdLst/>
            <a:ahLst/>
            <a:rect l="l" t="t" r="r" b="b"/>
            <a:pathLst>
              <a:path w="72337" h="263951">
                <a:moveTo>
                  <a:pt x="65988" y="0"/>
                </a:moveTo>
                <a:cubicBezTo>
                  <a:pt x="71487" y="43992"/>
                  <a:pt x="76986" y="87984"/>
                  <a:pt x="65988" y="131976"/>
                </a:cubicBezTo>
                <a:cubicBezTo>
                  <a:pt x="54990" y="175968"/>
                  <a:pt x="27495" y="219959"/>
                  <a:pt x="0" y="263951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4"/>
          <p:cNvSpPr/>
          <p:nvPr/>
        </p:nvSpPr>
        <p:spPr>
          <a:xfrm>
            <a:off x="3087720" y="3932280"/>
            <a:ext cx="156960" cy="57240"/>
          </a:xfrm>
          <a:custGeom>
            <a:avLst/>
            <a:gdLst/>
            <a:ahLst/>
            <a:rect l="l" t="t" r="r" b="b"/>
            <a:pathLst>
              <a:path w="158045" h="56444">
                <a:moveTo>
                  <a:pt x="0" y="56444"/>
                </a:moveTo>
                <a:cubicBezTo>
                  <a:pt x="26341" y="38570"/>
                  <a:pt x="52682" y="20696"/>
                  <a:pt x="79023" y="11289"/>
                </a:cubicBezTo>
                <a:cubicBezTo>
                  <a:pt x="105364" y="1882"/>
                  <a:pt x="131704" y="941"/>
                  <a:pt x="158045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5"/>
          <p:cNvSpPr/>
          <p:nvPr/>
        </p:nvSpPr>
        <p:spPr>
          <a:xfrm>
            <a:off x="3214800" y="4116240"/>
            <a:ext cx="168120" cy="38160"/>
          </a:xfrm>
          <a:custGeom>
            <a:avLst/>
            <a:gdLst/>
            <a:ahLst/>
            <a:rect l="l" t="t" r="r" b="b"/>
            <a:pathLst>
              <a:path w="169334" h="37126">
                <a:moveTo>
                  <a:pt x="0" y="3259"/>
                </a:moveTo>
                <a:cubicBezTo>
                  <a:pt x="19756" y="436"/>
                  <a:pt x="39512" y="-2386"/>
                  <a:pt x="67734" y="3259"/>
                </a:cubicBezTo>
                <a:cubicBezTo>
                  <a:pt x="95956" y="8904"/>
                  <a:pt x="132645" y="23015"/>
                  <a:pt x="169334" y="3712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6"/>
          <p:cNvSpPr/>
          <p:nvPr/>
        </p:nvSpPr>
        <p:spPr>
          <a:xfrm>
            <a:off x="3108240" y="4299120"/>
            <a:ext cx="150840" cy="95040"/>
          </a:xfrm>
          <a:custGeom>
            <a:avLst/>
            <a:gdLst/>
            <a:ahLst/>
            <a:rect l="l" t="t" r="r" b="b"/>
            <a:pathLst>
              <a:path w="150829" h="94268">
                <a:moveTo>
                  <a:pt x="0" y="0"/>
                </a:moveTo>
                <a:cubicBezTo>
                  <a:pt x="34565" y="10998"/>
                  <a:pt x="69130" y="21996"/>
                  <a:pt x="94268" y="37707"/>
                </a:cubicBezTo>
                <a:cubicBezTo>
                  <a:pt x="119406" y="53418"/>
                  <a:pt x="135117" y="73843"/>
                  <a:pt x="150829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任意多边形 27"/>
          <p:cNvSpPr/>
          <p:nvPr/>
        </p:nvSpPr>
        <p:spPr>
          <a:xfrm>
            <a:off x="2919240" y="4432320"/>
            <a:ext cx="114480" cy="112680"/>
          </a:xfrm>
          <a:custGeom>
            <a:avLst/>
            <a:gdLst/>
            <a:ahLst/>
            <a:rect l="l" t="t" r="r" b="b"/>
            <a:pathLst>
              <a:path w="113122" h="113121">
                <a:moveTo>
                  <a:pt x="0" y="0"/>
                </a:moveTo>
                <a:cubicBezTo>
                  <a:pt x="37707" y="14140"/>
                  <a:pt x="75414" y="28281"/>
                  <a:pt x="94268" y="47134"/>
                </a:cubicBezTo>
                <a:cubicBezTo>
                  <a:pt x="113122" y="65987"/>
                  <a:pt x="113122" y="89554"/>
                  <a:pt x="113122" y="113121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任意多边形 28"/>
          <p:cNvSpPr/>
          <p:nvPr/>
        </p:nvSpPr>
        <p:spPr>
          <a:xfrm>
            <a:off x="2732040" y="4506840"/>
            <a:ext cx="55440" cy="131760"/>
          </a:xfrm>
          <a:custGeom>
            <a:avLst/>
            <a:gdLst/>
            <a:ahLst/>
            <a:rect l="l" t="t" r="r" b="b"/>
            <a:pathLst>
              <a:path w="56561" h="131976">
                <a:moveTo>
                  <a:pt x="0" y="0"/>
                </a:moveTo>
                <a:cubicBezTo>
                  <a:pt x="18853" y="21996"/>
                  <a:pt x="37707" y="43992"/>
                  <a:pt x="47134" y="65988"/>
                </a:cubicBezTo>
                <a:cubicBezTo>
                  <a:pt x="56561" y="87984"/>
                  <a:pt x="56561" y="109980"/>
                  <a:pt x="56561" y="131976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任意多边形 30"/>
          <p:cNvSpPr/>
          <p:nvPr/>
        </p:nvSpPr>
        <p:spPr>
          <a:xfrm>
            <a:off x="2448000" y="4497480"/>
            <a:ext cx="57240" cy="102960"/>
          </a:xfrm>
          <a:custGeom>
            <a:avLst/>
            <a:gdLst/>
            <a:ahLst/>
            <a:rect l="l" t="t" r="r" b="b"/>
            <a:pathLst>
              <a:path w="56561" h="103695">
                <a:moveTo>
                  <a:pt x="56561" y="0"/>
                </a:moveTo>
                <a:cubicBezTo>
                  <a:pt x="37707" y="10213"/>
                  <a:pt x="18854" y="20426"/>
                  <a:pt x="9427" y="37708"/>
                </a:cubicBezTo>
                <a:cubicBezTo>
                  <a:pt x="0" y="54990"/>
                  <a:pt x="0" y="103695"/>
                  <a:pt x="0" y="103695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任意多边形 31"/>
          <p:cNvSpPr/>
          <p:nvPr/>
        </p:nvSpPr>
        <p:spPr>
          <a:xfrm>
            <a:off x="2270160" y="4289400"/>
            <a:ext cx="93600" cy="95400"/>
          </a:xfrm>
          <a:custGeom>
            <a:avLst/>
            <a:gdLst/>
            <a:ahLst/>
            <a:rect l="l" t="t" r="r" b="b"/>
            <a:pathLst>
              <a:path w="94268" h="94268">
                <a:moveTo>
                  <a:pt x="94268" y="0"/>
                </a:moveTo>
                <a:cubicBezTo>
                  <a:pt x="64416" y="10998"/>
                  <a:pt x="34564" y="21996"/>
                  <a:pt x="18853" y="37707"/>
                </a:cubicBezTo>
                <a:cubicBezTo>
                  <a:pt x="3142" y="53418"/>
                  <a:pt x="1571" y="73843"/>
                  <a:pt x="0" y="94268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32"/>
          <p:cNvSpPr/>
          <p:nvPr/>
        </p:nvSpPr>
        <p:spPr>
          <a:xfrm>
            <a:off x="2411280" y="4060800"/>
            <a:ext cx="131760" cy="31680"/>
          </a:xfrm>
          <a:custGeom>
            <a:avLst/>
            <a:gdLst/>
            <a:ahLst/>
            <a:rect l="l" t="t" r="r" b="b"/>
            <a:pathLst>
              <a:path w="131975" h="31002">
                <a:moveTo>
                  <a:pt x="131975" y="2721"/>
                </a:moveTo>
                <a:cubicBezTo>
                  <a:pt x="91125" y="364"/>
                  <a:pt x="50276" y="-1993"/>
                  <a:pt x="28280" y="2721"/>
                </a:cubicBezTo>
                <a:cubicBezTo>
                  <a:pt x="6284" y="7435"/>
                  <a:pt x="3142" y="19218"/>
                  <a:pt x="0" y="31002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33"/>
          <p:cNvSpPr/>
          <p:nvPr/>
        </p:nvSpPr>
        <p:spPr>
          <a:xfrm>
            <a:off x="2684520" y="3903840"/>
            <a:ext cx="74520" cy="83880"/>
          </a:xfrm>
          <a:custGeom>
            <a:avLst/>
            <a:gdLst/>
            <a:ahLst/>
            <a:rect l="l" t="t" r="r" b="b"/>
            <a:pathLst>
              <a:path w="75415" h="84841">
                <a:moveTo>
                  <a:pt x="75415" y="84841"/>
                </a:moveTo>
                <a:cubicBezTo>
                  <a:pt x="72272" y="68344"/>
                  <a:pt x="69130" y="51847"/>
                  <a:pt x="56561" y="37707"/>
                </a:cubicBezTo>
                <a:cubicBezTo>
                  <a:pt x="43992" y="23567"/>
                  <a:pt x="21996" y="11783"/>
                  <a:pt x="0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任意多边形 34"/>
          <p:cNvSpPr/>
          <p:nvPr/>
        </p:nvSpPr>
        <p:spPr>
          <a:xfrm>
            <a:off x="2892600" y="3809880"/>
            <a:ext cx="45720" cy="122400"/>
          </a:xfrm>
          <a:custGeom>
            <a:avLst/>
            <a:gdLst/>
            <a:ahLst/>
            <a:rect l="l" t="t" r="r" b="b"/>
            <a:pathLst>
              <a:path w="47134" h="122548">
                <a:moveTo>
                  <a:pt x="0" y="122548"/>
                </a:moveTo>
                <a:cubicBezTo>
                  <a:pt x="785" y="95053"/>
                  <a:pt x="1571" y="67559"/>
                  <a:pt x="9427" y="47134"/>
                </a:cubicBezTo>
                <a:cubicBezTo>
                  <a:pt x="17283" y="26709"/>
                  <a:pt x="32208" y="13354"/>
                  <a:pt x="47134" y="0"/>
                </a:cubicBezTo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任意多边形 35"/>
          <p:cNvSpPr/>
          <p:nvPr/>
        </p:nvSpPr>
        <p:spPr>
          <a:xfrm>
            <a:off x="3030480" y="5106960"/>
            <a:ext cx="711360" cy="406440"/>
          </a:xfrm>
          <a:custGeom>
            <a:avLst/>
            <a:gdLst/>
            <a:ahLst/>
            <a:rect l="l" t="t" r="r" b="b"/>
            <a:pathLst>
              <a:path w="711200" h="406605">
                <a:moveTo>
                  <a:pt x="0" y="248561"/>
                </a:moveTo>
                <a:cubicBezTo>
                  <a:pt x="31044" y="209990"/>
                  <a:pt x="62089" y="171420"/>
                  <a:pt x="101600" y="135672"/>
                </a:cubicBezTo>
                <a:cubicBezTo>
                  <a:pt x="141111" y="99924"/>
                  <a:pt x="195674" y="56650"/>
                  <a:pt x="237067" y="34072"/>
                </a:cubicBezTo>
                <a:cubicBezTo>
                  <a:pt x="278460" y="11494"/>
                  <a:pt x="321734" y="2086"/>
                  <a:pt x="349956" y="205"/>
                </a:cubicBezTo>
                <a:cubicBezTo>
                  <a:pt x="378178" y="-1676"/>
                  <a:pt x="400756" y="9613"/>
                  <a:pt x="406400" y="22783"/>
                </a:cubicBezTo>
                <a:cubicBezTo>
                  <a:pt x="412044" y="35953"/>
                  <a:pt x="372533" y="66058"/>
                  <a:pt x="383822" y="79228"/>
                </a:cubicBezTo>
                <a:cubicBezTo>
                  <a:pt x="395111" y="92398"/>
                  <a:pt x="438385" y="86753"/>
                  <a:pt x="474133" y="101805"/>
                </a:cubicBezTo>
                <a:cubicBezTo>
                  <a:pt x="509881" y="116857"/>
                  <a:pt x="564444" y="139435"/>
                  <a:pt x="598311" y="169539"/>
                </a:cubicBezTo>
                <a:cubicBezTo>
                  <a:pt x="632178" y="199643"/>
                  <a:pt x="658518" y="242917"/>
                  <a:pt x="677333" y="282428"/>
                </a:cubicBezTo>
                <a:cubicBezTo>
                  <a:pt x="696148" y="321939"/>
                  <a:pt x="703674" y="364272"/>
                  <a:pt x="711200" y="406605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6"/>
          <p:cNvSpPr/>
          <p:nvPr/>
        </p:nvSpPr>
        <p:spPr>
          <a:xfrm>
            <a:off x="2500200" y="4857840"/>
            <a:ext cx="192240" cy="565200"/>
          </a:xfrm>
          <a:custGeom>
            <a:avLst/>
            <a:gdLst/>
            <a:ahLst/>
            <a:rect l="l" t="t" r="r" b="b"/>
            <a:pathLst>
              <a:path w="192307" h="564444">
                <a:moveTo>
                  <a:pt x="192307" y="0"/>
                </a:moveTo>
                <a:cubicBezTo>
                  <a:pt x="157499" y="9407"/>
                  <a:pt x="122692" y="18814"/>
                  <a:pt x="90707" y="45155"/>
                </a:cubicBezTo>
                <a:cubicBezTo>
                  <a:pt x="58722" y="71496"/>
                  <a:pt x="6040" y="135466"/>
                  <a:pt x="396" y="158044"/>
                </a:cubicBezTo>
                <a:cubicBezTo>
                  <a:pt x="-5248" y="180622"/>
                  <a:pt x="51197" y="163689"/>
                  <a:pt x="56841" y="180622"/>
                </a:cubicBezTo>
                <a:cubicBezTo>
                  <a:pt x="62485" y="197555"/>
                  <a:pt x="39907" y="225777"/>
                  <a:pt x="34263" y="259644"/>
                </a:cubicBezTo>
                <a:cubicBezTo>
                  <a:pt x="28619" y="293511"/>
                  <a:pt x="21093" y="333022"/>
                  <a:pt x="22974" y="383822"/>
                </a:cubicBezTo>
                <a:cubicBezTo>
                  <a:pt x="24855" y="434622"/>
                  <a:pt x="35203" y="499533"/>
                  <a:pt x="45552" y="564444"/>
                </a:cubicBez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44"/>
          <p:cNvSpPr/>
          <p:nvPr/>
        </p:nvSpPr>
        <p:spPr>
          <a:xfrm>
            <a:off x="2425680" y="3989520"/>
            <a:ext cx="711360" cy="474480"/>
          </a:xfrm>
          <a:custGeom>
            <a:avLst/>
            <a:gdLst/>
            <a:ahLst/>
            <a:rect l="l" t="t" r="r" b="b"/>
            <a:pathLst>
              <a:path w="725064" h="475551">
                <a:moveTo>
                  <a:pt x="451481" y="381253"/>
                </a:moveTo>
                <a:cubicBezTo>
                  <a:pt x="528466" y="345117"/>
                  <a:pt x="603880" y="304268"/>
                  <a:pt x="649443" y="258705"/>
                </a:cubicBezTo>
                <a:cubicBezTo>
                  <a:pt x="695006" y="213142"/>
                  <a:pt x="728000" y="148725"/>
                  <a:pt x="724858" y="107876"/>
                </a:cubicBezTo>
                <a:cubicBezTo>
                  <a:pt x="721716" y="67027"/>
                  <a:pt x="688722" y="29319"/>
                  <a:pt x="630590" y="13608"/>
                </a:cubicBezTo>
                <a:cubicBezTo>
                  <a:pt x="572458" y="-2103"/>
                  <a:pt x="459336" y="-6817"/>
                  <a:pt x="376066" y="13608"/>
                </a:cubicBezTo>
                <a:cubicBezTo>
                  <a:pt x="292796" y="34033"/>
                  <a:pt x="190672" y="95307"/>
                  <a:pt x="130969" y="136156"/>
                </a:cubicBezTo>
                <a:cubicBezTo>
                  <a:pt x="71266" y="177005"/>
                  <a:pt x="36701" y="214713"/>
                  <a:pt x="17848" y="258705"/>
                </a:cubicBezTo>
                <a:cubicBezTo>
                  <a:pt x="-1005" y="302697"/>
                  <a:pt x="-10432" y="363971"/>
                  <a:pt x="17848" y="400107"/>
                </a:cubicBezTo>
                <a:cubicBezTo>
                  <a:pt x="46128" y="436243"/>
                  <a:pt x="121543" y="473950"/>
                  <a:pt x="187530" y="475521"/>
                </a:cubicBezTo>
                <a:cubicBezTo>
                  <a:pt x="253517" y="477092"/>
                  <a:pt x="374496" y="417389"/>
                  <a:pt x="451481" y="381253"/>
                </a:cubicBezTo>
                <a:close/>
              </a:path>
            </a:pathLst>
          </a:custGeom>
          <a:solidFill>
            <a:srgbClr val="ffcc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矩形 38" descr=""/>
          <p:cNvPicPr/>
          <p:nvPr/>
        </p:nvPicPr>
        <p:blipFill>
          <a:blip r:embed="rId3"/>
          <a:stretch/>
        </p:blipFill>
        <p:spPr>
          <a:xfrm>
            <a:off x="1133640" y="1401840"/>
            <a:ext cx="763884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2857680" y="464328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七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班第一学期班级文化活动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5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8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683ea2b52f3ef0388ad4b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矩形 3" descr=""/>
          <p:cNvPicPr/>
          <p:nvPr/>
        </p:nvPicPr>
        <p:blipFill>
          <a:blip r:embed="rId2"/>
          <a:stretch/>
        </p:blipFill>
        <p:spPr>
          <a:xfrm>
            <a:off x="1096920" y="85680"/>
            <a:ext cx="7736040" cy="1243080"/>
          </a:xfrm>
          <a:prstGeom prst="rect">
            <a:avLst/>
          </a:prstGeom>
          <a:ln w="0">
            <a:noFill/>
          </a:ln>
        </p:spPr>
      </p:pic>
      <p:sp>
        <p:nvSpPr>
          <p:cNvPr id="79" name="矩形 4"/>
          <p:cNvSpPr/>
          <p:nvPr/>
        </p:nvSpPr>
        <p:spPr>
          <a:xfrm>
            <a:off x="1285920" y="157176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迷你简卡通"/>
              </a:rPr>
              <a:t>活动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664160" y="1643040"/>
            <a:ext cx="26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1f497d"/>
                </a:solidFill>
                <a:latin typeface="Arial"/>
              </a:rPr>
              <a:t>1+1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1f497d"/>
                </a:solidFill>
                <a:latin typeface="Arial"/>
              </a:rPr>
              <a:t>班级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" descr="班级展示牌.jpg"/>
          <p:cNvPicPr/>
          <p:nvPr/>
        </p:nvPicPr>
        <p:blipFill>
          <a:blip r:embed="rId3"/>
          <a:stretch/>
        </p:blipFill>
        <p:spPr>
          <a:xfrm>
            <a:off x="2000160" y="2786040"/>
            <a:ext cx="5572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683ea2b52f3ef0388ad4b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矩形 2" descr=""/>
          <p:cNvPicPr/>
          <p:nvPr/>
        </p:nvPicPr>
        <p:blipFill>
          <a:blip r:embed="rId2"/>
          <a:stretch/>
        </p:blipFill>
        <p:spPr>
          <a:xfrm>
            <a:off x="1347840" y="0"/>
            <a:ext cx="6991200" cy="114624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1928880" y="1643040"/>
            <a:ext cx="92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微软雅黑"/>
                <a:ea typeface="微软雅黑"/>
              </a:rPr>
              <a:t>选读论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4603320" y="1357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微软雅黑"/>
                <a:ea typeface="微软雅黑"/>
              </a:rPr>
              <a:t>教师摘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603320" y="2214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微软雅黑"/>
                <a:ea typeface="微软雅黑"/>
              </a:rPr>
              <a:t>学生读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4677840" y="30002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微软雅黑"/>
                <a:ea typeface="微软雅黑"/>
              </a:rPr>
              <a:t>家长评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4674600" y="3786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504d"/>
                </a:solidFill>
                <a:latin typeface="微软雅黑"/>
                <a:ea typeface="微软雅黑"/>
              </a:rPr>
              <a:t>班级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683ea2b52f3ef0388ad4b2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矩形 2" descr=""/>
          <p:cNvPicPr/>
          <p:nvPr/>
        </p:nvPicPr>
        <p:blipFill>
          <a:blip r:embed="rId2"/>
          <a:stretch/>
        </p:blipFill>
        <p:spPr>
          <a:xfrm>
            <a:off x="1060560" y="139680"/>
            <a:ext cx="7035840" cy="114624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1820160" y="15717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0253f"/>
                </a:solidFill>
                <a:latin typeface="微软雅黑"/>
                <a:ea typeface="微软雅黑"/>
              </a:rPr>
              <a:t>活动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2143080" y="2357280"/>
            <a:ext cx="49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对照校规、完善班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5336280" y="321480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诵警语、内化品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6536520" y="414324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主题班会、总结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3" descr="18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4"/>
          <p:cNvSpPr/>
          <p:nvPr/>
        </p:nvSpPr>
        <p:spPr>
          <a:xfrm>
            <a:off x="1285920" y="1000080"/>
            <a:ext cx="64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制作美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d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5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分享快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05a22312ee4404704dcce3f41ae703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2"/>
          <p:cNvSpPr/>
          <p:nvPr/>
        </p:nvSpPr>
        <p:spPr>
          <a:xfrm>
            <a:off x="748800" y="1214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3701160" y="21430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圣诞联欢、劳动育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891720" y="3214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乐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3550320" y="4286160"/>
            <a:ext cx="41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亲手制作、体验劳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品味美食、分享快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05a22312ee4404704dcce3f41ae703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SAM_3743.JPG"/>
          <p:cNvPicPr/>
          <p:nvPr/>
        </p:nvPicPr>
        <p:blipFill>
          <a:blip r:embed="rId2"/>
          <a:stretch/>
        </p:blipFill>
        <p:spPr>
          <a:xfrm>
            <a:off x="228600" y="12193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塑型4_~1.JPG"/>
          <p:cNvPicPr/>
          <p:nvPr/>
        </p:nvPicPr>
        <p:blipFill>
          <a:blip r:embed="rId3"/>
          <a:stretch/>
        </p:blipFill>
        <p:spPr>
          <a:xfrm>
            <a:off x="3094200" y="3657600"/>
            <a:ext cx="3763800" cy="2895480"/>
          </a:xfrm>
          <a:prstGeom prst="rect">
            <a:avLst/>
          </a:prstGeom>
          <a:ln w="0">
            <a:noFill/>
          </a:ln>
        </p:spPr>
      </p:pic>
      <p:sp>
        <p:nvSpPr>
          <p:cNvPr id="105" name="矩形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4"/>
          <a:stretch/>
        </p:blipFill>
        <p:spPr>
          <a:xfrm>
            <a:off x="4552920" y="1779480"/>
            <a:ext cx="361620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9c782e3918009ebacf3d49ddd9001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920880" y="1143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d0d"/>
                </a:solidFill>
                <a:latin typeface="微软雅黑"/>
                <a:ea typeface="微软雅黑"/>
              </a:rPr>
              <a:t>快乐果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571680" y="2000160"/>
            <a:ext cx="81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美名奖”、“美味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美意奖”、“美形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0" descr="SAM_3738.JPG"/>
          <p:cNvPicPr/>
          <p:nvPr/>
        </p:nvPicPr>
        <p:blipFill>
          <a:blip r:embed="rId2"/>
          <a:stretch/>
        </p:blipFill>
        <p:spPr>
          <a:xfrm>
            <a:off x="1600200" y="3124080"/>
            <a:ext cx="4572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3" descr="9c782e3918009ebacf3d49ddd9001e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6" descr=""/>
          <p:cNvPicPr/>
          <p:nvPr/>
        </p:nvPicPr>
        <p:blipFill>
          <a:blip r:embed="rId2"/>
          <a:stretch/>
        </p:blipFill>
        <p:spPr>
          <a:xfrm>
            <a:off x="1420920" y="2749680"/>
            <a:ext cx="630216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2:31:54Z</dcterms:created>
  <dc:creator>Administrator</dc:creator>
  <dc:description/>
  <dc:language>en-US</dc:language>
  <cp:lastModifiedBy>2012</cp:lastModifiedBy>
  <dcterms:modified xsi:type="dcterms:W3CDTF">2013-01-25T08:53:1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