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98D-4B8B-43A0-A12A-ECBCC008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6BE-3DCE-444C-A001-6E6D38A7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B1C96-7E46-4B8C-BA87-1A551685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DFE1C-D557-42AE-AEE6-94970D75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1EFD-DC91-43CC-A2CA-7269E768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7BCB7-BD55-4380-83EF-EAB0EBA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2F791-E817-4AF1-A5E1-A6DA177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50EF0-6B11-4ECB-9B94-582C3925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28C91-1E4E-47E1-8D1F-C9ECF4E3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4EA38-2AA3-46D7-8140-000B091D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A6692-4284-416D-8C9C-CC549CDF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0E680-5D3F-4BA3-BC2A-73299FD5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E1E-7BE2-421D-B7FE-12771DA6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85D0A-6B3D-4F09-A702-1F256762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EB384-EC5F-4ECF-A874-D3F9730A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99CD3-4E38-4096-9833-474592B7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D232B-2AD5-42F3-AE92-9EC072B1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183EF-C125-4E83-8047-32EF382C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87218-39C5-4CD0-98F6-0950051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E26AD-9287-4D80-9012-57B660D6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A9511-1C25-4537-958E-DCBA0269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5AA9B-E9BC-4D52-86CF-9CE0CE2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6225D-69B0-4ED9-91BD-6D0B91B7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782-0216-43EC-A08C-8113EB1A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88CDC-2504-4652-A71C-008CB172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6D254-39D1-4824-A582-56DA35E4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844A7-4BFC-413E-BBE0-D4016617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30F28-D103-4E9A-BC04-94DD3D6A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CF5DC-B82A-4052-B05D-CC933F51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AC411-D82B-48B0-8FDE-DA2BD864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1694B-91A6-4CA4-864C-A40317A4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A7387-1949-4F59-8A1B-5CE973E5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069C8-78E3-4D8A-B359-5621168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09555-055B-45D6-B5F6-0D6AD80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ED04-F71F-4310-9808-08B2715A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02C83-3139-471B-ABE8-399BE5AE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FD8DA-9354-4996-B30A-D96908CC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4C589-0384-400D-989C-70D54AAE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1082E-E608-4CEE-BEE6-4B11EFCA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0C7BB-ACB7-4AE3-B23C-772E04D9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B1967-2E5A-48FC-8DBD-CFB3032C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181CC-D932-4A9D-9BF8-B1C8212D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E5831-7C3E-4EDA-BF43-307A0421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07949-7F2E-4134-9394-3D96791E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9C1DC-EB42-4D74-9CB5-F83FE962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DC36-58FA-4053-A787-FF05D191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FF624-35B7-4F59-9CC6-3E371F87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A26A7-B225-440E-A36B-8A64568F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90DB4-101D-453B-B554-FE923B0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DA020-900F-496D-929B-BA67B618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85AA6-EF26-4862-806E-1C79C72A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B4DD-FD1D-4A50-9474-AC22B294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937C-3E29-406D-94C7-6598D504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758B-A612-4007-8237-E2362C9F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C266-4251-4A0B-8930-BA4BD85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90B4-6B47-4336-A95A-C3DE385C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8B2-FF53-4DF8-BCEA-725CDBC9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B937-4852-40EC-9CAC-E030E02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B6A0-BEE7-4391-B1C2-858A2272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D305-01C5-42E3-84F8-5BE0FB91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FF80-0FA4-4763-AEA9-C9F75574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0358-561F-45BA-BC12-0EF3A237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67989-A6B2-47EC-8E67-5D4BFA22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F743D-8E2E-4EE0-96F4-92C52CD0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E275-1A42-4B29-B55F-CA994381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72A3-F958-4D4D-BF08-E8898B05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FCF8-9893-43D6-9229-558F2FEC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D9E-65B7-4B4A-ADDC-778CBABA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6D79-DA50-4D77-91F0-B61E4925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E553-FAA5-4E21-925D-25EA067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36C43-5FE1-4EBA-A551-2D79EB0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DE63-4B4D-4C57-9C5D-82AC9E18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51BB-5C72-4CE2-9372-FDA5DA00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0157-061C-4833-A6A4-E7C14077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1444-82B0-4652-8725-912FCA1C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2A84-336F-49DD-8A33-D1DD42E9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E984-A044-42D3-BC92-B472B60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D773-397F-4D84-AD98-97B7BB56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D6D-F8FE-4A05-B9F1-7E75E27E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96BE-0694-416D-84F3-278F8B65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34A05-41BB-43DB-A137-F78447AA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DB60C-D8AF-46F9-8505-F3F5D26F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DF44C-08E3-462E-BCBA-6F6843CC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410E-15C9-48D3-801A-B845A45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4CC8-4E75-42D9-A625-74EF9B2D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2158-3FB6-4C5A-A4C8-19D6729E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E8A63-6FA5-46DC-A20A-F0B774B3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C076-0A05-4052-81E5-209CD107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FB9FE-220B-4499-9E73-9840E44C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7A6-02CE-44DE-9C31-97D095FD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4B1A1-5FE9-4841-835D-A17F9189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978F-FAB0-4E1A-A6F9-190FBBE3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9A482-850D-4896-B8F7-ADC5F4EF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88EF9-C09D-4100-A761-7362C17B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9D32-5690-49CA-B377-1EF0832D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B3909-C8DF-4220-A78E-95180558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477FD-B50B-4D41-8134-118B9222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5B4DD-6BA9-4F06-932F-95B8D8CE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6D3A4-C87E-4297-9465-5C8C8C16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09668-A5C5-43BE-B7A4-FA0306D8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DCB-7188-4E2C-AF4A-F18127BB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0AB76-D02B-467F-9F7A-C87A12B8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C01C3-CBA6-42BC-89C9-154F17E3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35E94-6591-4184-92AF-D9F36125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C67A-D2C8-4DD0-B2BB-798D734B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1C0BC-AB06-4D14-A0B5-A2C0DF75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DA29B-5542-4ACA-B87A-4E6E8FE9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69743-C10A-4A1D-82D4-F3C0129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A28D6-4B84-4EF9-BD00-8733E726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FC89-5091-40FB-A5CB-BC46E19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DCD5-4F00-4385-91A1-1E14FEE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842-A088-4823-BC5D-D79EA444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85F6B-C6BD-46A1-BE31-89041391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39CC2-D9A1-48ED-9A09-551C0377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61AF8-3CE2-481F-B1D5-9277BA94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9AABC-1E59-45E8-9F6B-A798A08B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ECFB0-79E3-421D-A413-A285CEA2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C3F13-33A1-4F2C-AC37-76A47EA5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9DD0-9569-4328-BB35-A998CFB3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AAFD-68C8-4840-9E14-C2D5AE54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4CBA-545E-4728-95E0-587032CD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34C7-50C9-44FF-B6CF-8C018F6A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40A-1651-40A7-A11B-AA881EB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68555-ABE3-4258-A84C-9F949BB9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CD46B-EDC8-4FB3-A125-2EF9DEA1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96CB7-964C-4683-8110-04BFB7FE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8AA2D-85D5-4710-B324-C098E22E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2F8D2-7B60-4289-A53C-2D520923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3DE76-B392-45C2-B133-57972295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A6149-E6F7-4453-8F8E-F2E99287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7CA8E-1E78-481F-B21A-C6DAB875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B4B0A-7E80-4395-86C2-06A43DBE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D0B3C-DB7A-4126-A8D9-36EE2062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866-5857-4187-99C3-87D626CB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DA1C9-8FF7-47FE-8F1A-8001243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17B46-DD5E-4B35-B447-EE50089F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66B71-EBB8-4DB7-95C5-B57088BB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5F24B-4ACB-414F-9B18-86B73C5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E3351-4E8A-4BB0-9E2A-EB784AF0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D0D39-61FE-437A-8C77-6263820A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636AA-C331-4E2F-BC11-D7B82D48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E0AF4-B920-4AE5-807C-25A744B1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31136-897E-402C-BE2D-9A941988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3BF70-979E-41B7-ACE5-B4E4AC77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C398-E6E4-48E2-A880-A582B80A79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FBD7-701B-4E5B-9466-BA1129A6CC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4438-8110-48BD-BBA4-E11483D03F9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E868-147E-4AFA-94EF-9D31E43772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80A8-A3F5-450C-8FE8-50BCCF75388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40EE-F6CD-4544-80DF-D7EBB7C64D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B3D6-3079-490A-8B1C-9C1B24B0BEB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EFA7-1A6A-4073-A087-6CFA14149F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ED4F-34A3-451C-9E6A-9018127F30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7DA2-EEB2-4590-9785-C999C53D65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F630-B59E-47AD-A746-BDDED124B25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840B-633D-4D23-856B-0D5C52E5B2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7294-2183-4275-A204-DB20B04BF0C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BF0A-5EEF-45E4-9E91-7A7FDEE256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5D79-A8A1-4E5C-88CD-81F92CCF320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0044-2CD8-4BE4-8DF5-F4E6A46253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CD4F-2891-4A69-9C88-59B77F6252F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72AD-2CC6-4AE7-A632-1F65F8ABB4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01CB-D825-47D4-B1EE-3BA22EC2203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680D-3B52-495D-9CDF-526F5453DD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4734-FFE0-4F97-9EC2-B52E13CF27E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851F-DD69-4635-9018-EA6337C5C4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6040-FD25-4F8C-A94A-D242AC9BE13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AF65-84C5-41F8-9E3B-4FED7ED02A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1547640" y="2637000"/>
            <a:ext cx="6048720" cy="2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 flipH="1" rot="831600">
            <a:off x="323640" y="1773000"/>
            <a:ext cx="1218960" cy="110520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495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Rectangle 11"/>
          <p:cNvSpPr/>
          <p:nvPr/>
        </p:nvSpPr>
        <p:spPr>
          <a:xfrm>
            <a:off x="1366920" y="1074600"/>
            <a:ext cx="6408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MV Boli"/>
              </a:rPr>
              <a:t>8A Unit4  Do It Yoursel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MV Boli"/>
              </a:rPr>
              <a:t>Reading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-98280" y="3378240"/>
            <a:ext cx="8893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ew District Experimental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ngz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95E-006 L 0.78386 0.00347 E">
                                      <p:cBhvr>
                                        <p:cTn id="9" dur="3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11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2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4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2"/>
          <p:cNvSpPr/>
          <p:nvPr/>
        </p:nvSpPr>
        <p:spPr>
          <a:xfrm>
            <a:off x="0" y="0"/>
            <a:ext cx="9153360" cy="104940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00cc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"/>
          <p:cNvSpPr/>
          <p:nvPr/>
        </p:nvSpPr>
        <p:spPr>
          <a:xfrm>
            <a:off x="-66600" y="1108080"/>
            <a:ext cx="928692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zy: My cousin Andrew is crazy about DI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loves t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itty: What kind of things does h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zy: He once tried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in his bedroom, b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and his whole hous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other time, he wanted to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, but 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. and filled the room with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itty: Oh d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zy: Last month, he thought the l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om .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so 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. But at last the l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om has not only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but also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even ...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itty: Oh 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zy: He once spent five hour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but 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oks couldn’t stay there because one en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shelf wa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WordArt 23"/>
          <p:cNvSpPr txBox="1"/>
          <p:nvPr/>
        </p:nvSpPr>
        <p:spPr>
          <a:xfrm>
            <a:off x="130320" y="623880"/>
            <a:ext cx="774036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1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两人合作完成；</a:t>
            </a: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2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两人以对话形式展示</a:t>
            </a:r>
            <a:endParaRPr b="0" lang="en-US" sz="2800" spc="-1" strike="noStrike">
              <a:ln w="0">
                <a:noFill/>
              </a:ln>
              <a:solidFill>
                <a:srgbClr val="8912b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618" name="Text Box 2"/>
          <p:cNvSpPr/>
          <p:nvPr/>
        </p:nvSpPr>
        <p:spPr>
          <a:xfrm>
            <a:off x="130320" y="0"/>
            <a:ext cx="83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zy is talking with kitty about Andrew and his DI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8" descr="(%CIW0$GGYZ8IY[CFB)ET51"/>
          <p:cNvPicPr/>
          <p:nvPr/>
        </p:nvPicPr>
        <p:blipFill>
          <a:blip r:embed="rId1"/>
          <a:stretch/>
        </p:blipFill>
        <p:spPr>
          <a:xfrm>
            <a:off x="6915240" y="1108080"/>
            <a:ext cx="1933560" cy="1179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0" descr="LWT40J3V1]E}M]87PS2)_E1"/>
          <p:cNvPicPr/>
          <p:nvPr/>
        </p:nvPicPr>
        <p:blipFill>
          <a:blip r:embed="rId2"/>
          <a:stretch/>
        </p:blipFill>
        <p:spPr>
          <a:xfrm>
            <a:off x="6919920" y="3881520"/>
            <a:ext cx="1928880" cy="10746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R%CJVLAY8[Q98EY]B_L@WN8"/>
          <p:cNvPicPr/>
          <p:nvPr/>
        </p:nvPicPr>
        <p:blipFill>
          <a:blip r:embed="rId3"/>
          <a:stretch/>
        </p:blipFill>
        <p:spPr>
          <a:xfrm>
            <a:off x="6919920" y="2454120"/>
            <a:ext cx="1928880" cy="1297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0" descr="IL79`W[35BM(8K$FU19MVDA"/>
          <p:cNvPicPr/>
          <p:nvPr/>
        </p:nvPicPr>
        <p:blipFill>
          <a:blip r:embed="rId4"/>
          <a:stretch/>
        </p:blipFill>
        <p:spPr>
          <a:xfrm>
            <a:off x="6921360" y="5129280"/>
            <a:ext cx="192744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8"/>
          <p:cNvGrpSpPr/>
          <p:nvPr/>
        </p:nvGrpSpPr>
        <p:grpSpPr>
          <a:xfrm>
            <a:off x="0" y="-9360"/>
            <a:ext cx="9153360" cy="6867360"/>
            <a:chOff x="0" y="-9360"/>
            <a:chExt cx="9153360" cy="6867360"/>
          </a:xfrm>
        </p:grpSpPr>
        <p:sp>
          <p:nvSpPr>
            <p:cNvPr id="624" name="矩形 2"/>
            <p:cNvSpPr/>
            <p:nvPr/>
          </p:nvSpPr>
          <p:spPr>
            <a:xfrm>
              <a:off x="0" y="-9360"/>
              <a:ext cx="9153360" cy="1288800"/>
            </a:xfrm>
            <a:custGeom>
              <a:avLst/>
              <a:gdLst/>
              <a:ahLst/>
              <a:rect l="l" t="t" r="r" b="b"/>
              <a:pathLst>
                <a:path w="9155305" h="1291210">
                  <a:moveTo>
                    <a:pt x="192" y="1291210"/>
                  </a:moveTo>
                  <a:lnTo>
                    <a:pt x="9147141" y="252079"/>
                  </a:lnTo>
                  <a:lnTo>
                    <a:pt x="9155305" y="0"/>
                  </a:lnTo>
                  <a:lnTo>
                    <a:pt x="1779" y="25400"/>
                  </a:lnTo>
                  <a:cubicBezTo>
                    <a:pt x="2838" y="439399"/>
                    <a:pt x="-867" y="877211"/>
                    <a:pt x="192" y="1291210"/>
                  </a:cubicBezTo>
                  <a:close/>
                </a:path>
              </a:pathLst>
            </a:custGeom>
            <a:solidFill>
              <a:srgbClr val="99cc0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"/>
            <p:cNvSpPr/>
            <p:nvPr/>
          </p:nvSpPr>
          <p:spPr>
            <a:xfrm>
              <a:off x="0" y="6477120"/>
              <a:ext cx="9142560" cy="380880"/>
            </a:xfrm>
            <a:prstGeom prst="rect">
              <a:avLst/>
            </a:prstGeom>
            <a:solidFill>
              <a:srgbClr val="92d050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Box 1"/>
          <p:cNvSpPr/>
          <p:nvPr/>
        </p:nvSpPr>
        <p:spPr>
          <a:xfrm>
            <a:off x="3240" y="115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Para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"/>
          <p:cNvSpPr/>
          <p:nvPr/>
        </p:nvSpPr>
        <p:spPr>
          <a:xfrm>
            <a:off x="1236600" y="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 you think of Andrew’s DIY 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椭圆 17"/>
          <p:cNvSpPr/>
          <p:nvPr/>
        </p:nvSpPr>
        <p:spPr>
          <a:xfrm>
            <a:off x="1149480" y="593640"/>
            <a:ext cx="2133360" cy="685800"/>
          </a:xfrm>
          <a:prstGeom prst="ellipse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椭圆 20"/>
          <p:cNvSpPr/>
          <p:nvPr/>
        </p:nvSpPr>
        <p:spPr>
          <a:xfrm>
            <a:off x="1098720" y="1963800"/>
            <a:ext cx="2133360" cy="914400"/>
          </a:xfrm>
          <a:prstGeom prst="ellipse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zy’s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右箭头 21"/>
          <p:cNvSpPr/>
          <p:nvPr/>
        </p:nvSpPr>
        <p:spPr>
          <a:xfrm>
            <a:off x="3375000" y="2268360"/>
            <a:ext cx="482760" cy="239760"/>
          </a:xfrm>
          <a:prstGeom prst="rightArrow">
            <a:avLst>
              <a:gd name="adj1" fmla="val 50000"/>
              <a:gd name="adj2" fmla="val 49685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右箭头 22"/>
          <p:cNvSpPr/>
          <p:nvPr/>
        </p:nvSpPr>
        <p:spPr>
          <a:xfrm rot="5400000">
            <a:off x="1987200" y="3044880"/>
            <a:ext cx="609480" cy="276120"/>
          </a:xfrm>
          <a:prstGeom prst="rightArrow">
            <a:avLst>
              <a:gd name="adj1" fmla="val 50000"/>
              <a:gd name="adj2" fmla="val 49603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23"/>
          <p:cNvSpPr/>
          <p:nvPr/>
        </p:nvSpPr>
        <p:spPr>
          <a:xfrm>
            <a:off x="3857760" y="1571760"/>
            <a:ext cx="1660320" cy="1461960"/>
          </a:xfrm>
          <a:prstGeom prst="rect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r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s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右箭头 25"/>
          <p:cNvSpPr/>
          <p:nvPr/>
        </p:nvSpPr>
        <p:spPr>
          <a:xfrm rot="5400000">
            <a:off x="1911240" y="1517400"/>
            <a:ext cx="609480" cy="276480"/>
          </a:xfrm>
          <a:prstGeom prst="rightArrow">
            <a:avLst>
              <a:gd name="adj1" fmla="val 50000"/>
              <a:gd name="adj2" fmla="val 49538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6"/>
          <p:cNvSpPr/>
          <p:nvPr/>
        </p:nvSpPr>
        <p:spPr>
          <a:xfrm>
            <a:off x="961920" y="3487680"/>
            <a:ext cx="2793960" cy="1525680"/>
          </a:xfrm>
          <a:prstGeom prst="rect">
            <a:avLst/>
          </a:pr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z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ad … hersel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ttend less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箭头 27"/>
          <p:cNvSpPr/>
          <p:nvPr/>
        </p:nvSpPr>
        <p:spPr>
          <a:xfrm rot="5400000">
            <a:off x="2004840" y="5218200"/>
            <a:ext cx="609840" cy="272880"/>
          </a:xfrm>
          <a:prstGeom prst="rightArrow">
            <a:avLst>
              <a:gd name="adj1" fmla="val 50000"/>
              <a:gd name="adj2" fmla="val 50221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28"/>
          <p:cNvSpPr/>
          <p:nvPr/>
        </p:nvSpPr>
        <p:spPr>
          <a:xfrm>
            <a:off x="3240" y="5661000"/>
            <a:ext cx="5181480" cy="647640"/>
          </a:xfrm>
          <a:prstGeom prst="rect">
            <a:avLst/>
          </a:pr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ow … knows … than her cous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30"/>
          <p:cNvSpPr/>
          <p:nvPr/>
        </p:nvSpPr>
        <p:spPr>
          <a:xfrm>
            <a:off x="6000840" y="1571760"/>
            <a:ext cx="3143160" cy="3214440"/>
          </a:xfrm>
          <a:prstGeom prst="rect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think Andrew i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urious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好奇的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reative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有创造力的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areless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（粗心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ubborn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（固执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ecau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右箭头 31"/>
          <p:cNvSpPr/>
          <p:nvPr/>
        </p:nvSpPr>
        <p:spPr>
          <a:xfrm>
            <a:off x="5518080" y="2428920"/>
            <a:ext cx="482760" cy="231840"/>
          </a:xfrm>
          <a:prstGeom prst="rightArrow">
            <a:avLst>
              <a:gd name="adj1" fmla="val 50000"/>
              <a:gd name="adj2" fmla="val 49898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32"/>
          <p:cNvSpPr/>
          <p:nvPr/>
        </p:nvSpPr>
        <p:spPr>
          <a:xfrm>
            <a:off x="6215040" y="5451480"/>
            <a:ext cx="2793960" cy="857160"/>
          </a:xfrm>
          <a:prstGeom prst="rect">
            <a:avLst/>
          </a:pr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Your ad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右箭头 33"/>
          <p:cNvSpPr/>
          <p:nvPr/>
        </p:nvSpPr>
        <p:spPr>
          <a:xfrm rot="5400000">
            <a:off x="7260480" y="4952880"/>
            <a:ext cx="609840" cy="276120"/>
          </a:xfrm>
          <a:prstGeom prst="rightArrow">
            <a:avLst>
              <a:gd name="adj1" fmla="val 50000"/>
              <a:gd name="adj2" fmla="val 49632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7"/>
          <p:cNvGrpSpPr/>
          <p:nvPr/>
        </p:nvGrpSpPr>
        <p:grpSpPr>
          <a:xfrm>
            <a:off x="-15840" y="-27000"/>
            <a:ext cx="9169200" cy="6858000"/>
            <a:chOff x="-15840" y="-27000"/>
            <a:chExt cx="9169200" cy="6858000"/>
          </a:xfrm>
        </p:grpSpPr>
        <p:sp>
          <p:nvSpPr>
            <p:cNvPr id="642" name="矩形 2"/>
            <p:cNvSpPr/>
            <p:nvPr/>
          </p:nvSpPr>
          <p:spPr>
            <a:xfrm>
              <a:off x="0" y="-27000"/>
              <a:ext cx="9153360" cy="1288800"/>
            </a:xfrm>
            <a:custGeom>
              <a:avLst/>
              <a:gdLst/>
              <a:ahLst/>
              <a:rect l="l" t="t" r="r" b="b"/>
              <a:pathLst>
                <a:path w="9155305" h="1291210">
                  <a:moveTo>
                    <a:pt x="192" y="1291210"/>
                  </a:moveTo>
                  <a:lnTo>
                    <a:pt x="9147141" y="252079"/>
                  </a:lnTo>
                  <a:lnTo>
                    <a:pt x="9155305" y="0"/>
                  </a:lnTo>
                  <a:lnTo>
                    <a:pt x="1779" y="25400"/>
                  </a:lnTo>
                  <a:cubicBezTo>
                    <a:pt x="2838" y="439399"/>
                    <a:pt x="-867" y="877211"/>
                    <a:pt x="192" y="129121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Picture 26" descr=""/>
            <p:cNvPicPr/>
            <p:nvPr/>
          </p:nvPicPr>
          <p:blipFill>
            <a:blip r:embed="rId1"/>
            <a:stretch/>
          </p:blipFill>
          <p:spPr>
            <a:xfrm>
              <a:off x="-15840" y="5062680"/>
              <a:ext cx="9159840" cy="17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" name="Text Box 4"/>
          <p:cNvSpPr/>
          <p:nvPr/>
        </p:nvSpPr>
        <p:spPr>
          <a:xfrm rot="21435600">
            <a:off x="-1511280" y="-122040"/>
            <a:ext cx="518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  <a:ea typeface="宋体"/>
              </a:rPr>
              <a:t>Task 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4920" y="542880"/>
          <a:ext cx="9109080" cy="5981760"/>
        </p:xfrm>
        <a:graphic>
          <a:graphicData uri="http://schemas.openxmlformats.org/drawingml/2006/table">
            <a:tbl>
              <a:tblPr/>
              <a:tblGrid>
                <a:gridCol w="2232000"/>
                <a:gridCol w="68770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Box 6"/>
          <p:cNvSpPr/>
          <p:nvPr/>
        </p:nvSpPr>
        <p:spPr>
          <a:xfrm>
            <a:off x="34920" y="11667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 crazy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34920" y="242100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ndrew’s DI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jobs an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34920" y="5570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9"/>
          <p:cNvSpPr/>
          <p:nvPr/>
        </p:nvSpPr>
        <p:spPr>
          <a:xfrm>
            <a:off x="2268360" y="101448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 loves DIY, but after he finishes, his ho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0"/>
          <p:cNvSpPr/>
          <p:nvPr/>
        </p:nvSpPr>
        <p:spPr>
          <a:xfrm>
            <a:off x="2340000" y="2036880"/>
            <a:ext cx="662472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e tried t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 a brighter light but the hous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e put up a picture, but he hit a pipe and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He  painted the living room. As a result 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 the living roo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 the ceiling, floor and his cat are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He spent five hours  putting up a shelf on the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1"/>
          <p:cNvSpPr/>
          <p:nvPr/>
        </p:nvSpPr>
        <p:spPr>
          <a:xfrm>
            <a:off x="2303640" y="5108400"/>
            <a:ext cx="68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zy bought Andrew books and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 take a course in DIY. However, Andrew was angry. At last, Suzy read  books an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 lesso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2"/>
          <p:cNvSpPr/>
          <p:nvPr/>
        </p:nvSpPr>
        <p:spPr>
          <a:xfrm>
            <a:off x="2987640" y="5904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My cousin and DI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3"/>
          <p:cNvSpPr/>
          <p:nvPr/>
        </p:nvSpPr>
        <p:spPr>
          <a:xfrm>
            <a:off x="3419640" y="1341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oks terr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4"/>
          <p:cNvSpPr/>
          <p:nvPr/>
        </p:nvSpPr>
        <p:spPr>
          <a:xfrm>
            <a:off x="4427640" y="19591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u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6"/>
          <p:cNvSpPr/>
          <p:nvPr/>
        </p:nvSpPr>
        <p:spPr>
          <a:xfrm>
            <a:off x="2627280" y="2997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lled the room with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7"/>
          <p:cNvSpPr/>
          <p:nvPr/>
        </p:nvSpPr>
        <p:spPr>
          <a:xfrm>
            <a:off x="3346560" y="23194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d a power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8"/>
          <p:cNvSpPr/>
          <p:nvPr/>
        </p:nvSpPr>
        <p:spPr>
          <a:xfrm>
            <a:off x="3635280" y="364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9"/>
          <p:cNvSpPr/>
          <p:nvPr/>
        </p:nvSpPr>
        <p:spPr>
          <a:xfrm>
            <a:off x="7378560" y="364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20"/>
          <p:cNvSpPr/>
          <p:nvPr/>
        </p:nvSpPr>
        <p:spPr>
          <a:xfrm>
            <a:off x="6659640" y="508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vised him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1"/>
          <p:cNvSpPr/>
          <p:nvPr/>
        </p:nvSpPr>
        <p:spPr>
          <a:xfrm>
            <a:off x="5867280" y="58482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t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2"/>
          <p:cNvSpPr/>
          <p:nvPr/>
        </p:nvSpPr>
        <p:spPr>
          <a:xfrm>
            <a:off x="8099280" y="58482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25"/>
          <p:cNvSpPr/>
          <p:nvPr/>
        </p:nvSpPr>
        <p:spPr>
          <a:xfrm>
            <a:off x="250920" y="1700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WordArt 28"/>
          <p:cNvSpPr txBox="1"/>
          <p:nvPr/>
        </p:nvSpPr>
        <p:spPr>
          <a:xfrm>
            <a:off x="1979640" y="71280"/>
            <a:ext cx="7129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1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齐声朗读课文；</a:t>
            </a: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2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完成表格，两两校对；</a:t>
            </a: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3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每人汇报五个答案</a:t>
            </a:r>
            <a:endParaRPr b="0" lang="en-US" sz="2800" spc="-1" strike="noStrike">
              <a:ln w="0">
                <a:noFill/>
              </a:ln>
              <a:solidFill>
                <a:srgbClr val="8912b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矩形 2"/>
          <p:cNvSpPr/>
          <p:nvPr/>
        </p:nvSpPr>
        <p:spPr>
          <a:xfrm>
            <a:off x="15840" y="-142920"/>
            <a:ext cx="9153720" cy="128916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25"/>
          <p:cNvGrpSpPr/>
          <p:nvPr/>
        </p:nvGrpSpPr>
        <p:grpSpPr>
          <a:xfrm>
            <a:off x="2928960" y="785880"/>
            <a:ext cx="2955960" cy="1008000"/>
            <a:chOff x="2928960" y="785880"/>
            <a:chExt cx="2955960" cy="1008000"/>
          </a:xfrm>
        </p:grpSpPr>
        <p:sp>
          <p:nvSpPr>
            <p:cNvPr id="666" name="Oval 4"/>
            <p:cNvSpPr/>
            <p:nvPr/>
          </p:nvSpPr>
          <p:spPr>
            <a:xfrm>
              <a:off x="2928960" y="785880"/>
              <a:ext cx="2743560" cy="1008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5"/>
            <p:cNvSpPr/>
            <p:nvPr/>
          </p:nvSpPr>
          <p:spPr>
            <a:xfrm>
              <a:off x="3217680" y="919440"/>
              <a:ext cx="266724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098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912be"/>
                  </a:solidFill>
                  <a:latin typeface="Calibri"/>
                </a:rPr>
                <a:t>is crazy about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098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912be"/>
                  </a:solidFill>
                  <a:latin typeface="Calibri"/>
                </a:rPr>
                <a:t>loves to…and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7"/>
          <p:cNvSpPr/>
          <p:nvPr/>
        </p:nvSpPr>
        <p:spPr>
          <a:xfrm>
            <a:off x="4286160" y="2143080"/>
            <a:ext cx="2071800" cy="249948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int …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not on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but al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23"/>
          <p:cNvGrpSpPr/>
          <p:nvPr/>
        </p:nvGrpSpPr>
        <p:grpSpPr>
          <a:xfrm>
            <a:off x="142920" y="2143080"/>
            <a:ext cx="2000160" cy="2394000"/>
            <a:chOff x="142920" y="2143080"/>
            <a:chExt cx="2000160" cy="2394000"/>
          </a:xfrm>
        </p:grpSpPr>
        <p:sp>
          <p:nvSpPr>
            <p:cNvPr id="670" name="Rectangle 8"/>
            <p:cNvSpPr/>
            <p:nvPr/>
          </p:nvSpPr>
          <p:spPr>
            <a:xfrm>
              <a:off x="142920" y="2143080"/>
              <a:ext cx="1857600" cy="2394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9"/>
            <p:cNvSpPr/>
            <p:nvPr/>
          </p:nvSpPr>
          <p:spPr>
            <a:xfrm>
              <a:off x="214200" y="2143080"/>
              <a:ext cx="1928880" cy="20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998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put in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998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make a mistak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998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Calibri"/>
                </a:rPr>
                <a:t>power cu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Text Box 13"/>
          <p:cNvSpPr/>
          <p:nvPr/>
        </p:nvSpPr>
        <p:spPr>
          <a:xfrm>
            <a:off x="6643800" y="2143080"/>
            <a:ext cx="2214360" cy="281124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nd 5h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books can’t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…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was much higher than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0"/>
          <p:cNvSpPr/>
          <p:nvPr/>
        </p:nvSpPr>
        <p:spPr>
          <a:xfrm>
            <a:off x="2143080" y="2143080"/>
            <a:ext cx="1928880" cy="235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2139840" y="2143080"/>
            <a:ext cx="207504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t up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hit a p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fill the room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-7632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 to retell the passage according to the ke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 rot="21435600">
            <a:off x="-1658880" y="309600"/>
            <a:ext cx="518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  <a:ea typeface="宋体"/>
              </a:rPr>
              <a:t>Task 4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WordArt 28"/>
          <p:cNvSpPr txBox="1"/>
          <p:nvPr/>
        </p:nvSpPr>
        <p:spPr>
          <a:xfrm>
            <a:off x="3780000" y="476280"/>
            <a:ext cx="51321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1</a:t>
            </a:r>
            <a:r>
              <a:rPr b="0" lang="zh-CN" sz="2800" spc="-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小组四人交流；</a:t>
            </a:r>
            <a:r>
              <a:rPr b="0" lang="en-US" sz="2800" spc="-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2</a:t>
            </a:r>
            <a:r>
              <a:rPr b="0" lang="zh-CN" sz="2800" spc="-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选择一人汇报</a:t>
            </a:r>
            <a:endParaRPr b="0" lang="en-US" sz="2800" spc="-1" strike="noStrike">
              <a:ln w="0">
                <a:noFill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678" name="右箭头 32"/>
          <p:cNvSpPr/>
          <p:nvPr/>
        </p:nvSpPr>
        <p:spPr>
          <a:xfrm rot="9344400">
            <a:off x="1536480" y="1631520"/>
            <a:ext cx="1436400" cy="130320"/>
          </a:xfrm>
          <a:prstGeom prst="rightArrow">
            <a:avLst>
              <a:gd name="adj1" fmla="val 50000"/>
              <a:gd name="adj2" fmla="val 49599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右箭头 33"/>
          <p:cNvSpPr/>
          <p:nvPr/>
        </p:nvSpPr>
        <p:spPr>
          <a:xfrm flipV="1" rot="8722200">
            <a:off x="3130200" y="1873800"/>
            <a:ext cx="609480" cy="142920"/>
          </a:xfrm>
          <a:prstGeom prst="rightArrow">
            <a:avLst>
              <a:gd name="adj1" fmla="val 50000"/>
              <a:gd name="adj2" fmla="val 49792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右箭头 34"/>
          <p:cNvSpPr/>
          <p:nvPr/>
        </p:nvSpPr>
        <p:spPr>
          <a:xfrm rot="2185800">
            <a:off x="4705200" y="1860480"/>
            <a:ext cx="538200" cy="142920"/>
          </a:xfrm>
          <a:prstGeom prst="rightArrow">
            <a:avLst>
              <a:gd name="adj1" fmla="val 50000"/>
              <a:gd name="adj2" fmla="val 49826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右箭头 35"/>
          <p:cNvSpPr/>
          <p:nvPr/>
        </p:nvSpPr>
        <p:spPr>
          <a:xfrm rot="1401600">
            <a:off x="5609880" y="1708200"/>
            <a:ext cx="1436760" cy="129960"/>
          </a:xfrm>
          <a:prstGeom prst="rightArrow">
            <a:avLst>
              <a:gd name="adj1" fmla="val 50000"/>
              <a:gd name="adj2" fmla="val 49749"/>
            </a:avLst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右大括号 38"/>
          <p:cNvSpPr/>
          <p:nvPr/>
        </p:nvSpPr>
        <p:spPr>
          <a:xfrm rot="5400000">
            <a:off x="4071600" y="1999800"/>
            <a:ext cx="500040" cy="59295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5929560"/>
              <a:gd name="textAreaBottom" fmla="*/ 5916600 h 592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1785960" y="5429160"/>
            <a:ext cx="5143320" cy="142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zy advised him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think he is …, so I advise him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组合 7"/>
          <p:cNvGrpSpPr/>
          <p:nvPr/>
        </p:nvGrpSpPr>
        <p:grpSpPr>
          <a:xfrm>
            <a:off x="-15840" y="0"/>
            <a:ext cx="9169200" cy="6858000"/>
            <a:chOff x="-15840" y="0"/>
            <a:chExt cx="9169200" cy="6858000"/>
          </a:xfrm>
        </p:grpSpPr>
        <p:sp>
          <p:nvSpPr>
            <p:cNvPr id="685" name="矩形 2"/>
            <p:cNvSpPr/>
            <p:nvPr/>
          </p:nvSpPr>
          <p:spPr>
            <a:xfrm>
              <a:off x="0" y="0"/>
              <a:ext cx="9153360" cy="1288800"/>
            </a:xfrm>
            <a:custGeom>
              <a:avLst/>
              <a:gdLst/>
              <a:ahLst/>
              <a:rect l="l" t="t" r="r" b="b"/>
              <a:pathLst>
                <a:path w="9155305" h="1291210">
                  <a:moveTo>
                    <a:pt x="192" y="1291210"/>
                  </a:moveTo>
                  <a:lnTo>
                    <a:pt x="9147141" y="252079"/>
                  </a:lnTo>
                  <a:lnTo>
                    <a:pt x="9155305" y="0"/>
                  </a:lnTo>
                  <a:lnTo>
                    <a:pt x="1779" y="25400"/>
                  </a:lnTo>
                  <a:cubicBezTo>
                    <a:pt x="2838" y="439399"/>
                    <a:pt x="-867" y="877211"/>
                    <a:pt x="192" y="129121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6" name="Picture 26" descr=""/>
            <p:cNvPicPr/>
            <p:nvPr/>
          </p:nvPicPr>
          <p:blipFill>
            <a:blip r:embed="rId1"/>
            <a:stretch/>
          </p:blipFill>
          <p:spPr>
            <a:xfrm>
              <a:off x="-15840" y="5089680"/>
              <a:ext cx="9159840" cy="176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Text Box 5"/>
          <p:cNvSpPr/>
          <p:nvPr/>
        </p:nvSpPr>
        <p:spPr>
          <a:xfrm>
            <a:off x="250920" y="793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 Why is DIY more and more pop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1908000" y="1644480"/>
            <a:ext cx="487692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save mon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bring us happines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show creative ide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ave the feeling of succ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4"/>
          <p:cNvSpPr/>
          <p:nvPr/>
        </p:nvSpPr>
        <p:spPr>
          <a:xfrm>
            <a:off x="189000" y="4149720"/>
            <a:ext cx="899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 What should we pay attention to(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留意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n we do DIY jo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900000" y="55166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learn more + practise more =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2124000" y="-255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Further discus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 rot="21435600">
            <a:off x="-1511280" y="-48960"/>
            <a:ext cx="518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  <a:ea typeface="宋体"/>
              </a:rPr>
              <a:t>Task 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WordArt 28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7734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4" descr=""/>
          <p:cNvPicPr/>
          <p:nvPr/>
        </p:nvPicPr>
        <p:blipFill>
          <a:blip r:embed="rId1"/>
          <a:stretch/>
        </p:blipFill>
        <p:spPr>
          <a:xfrm>
            <a:off x="-1000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组合 5"/>
          <p:cNvGrpSpPr/>
          <p:nvPr/>
        </p:nvGrpSpPr>
        <p:grpSpPr>
          <a:xfrm>
            <a:off x="-15840" y="0"/>
            <a:ext cx="9169200" cy="6705720"/>
            <a:chOff x="-15840" y="0"/>
            <a:chExt cx="9169200" cy="6705720"/>
          </a:xfrm>
        </p:grpSpPr>
        <p:sp>
          <p:nvSpPr>
            <p:cNvPr id="696" name="矩形 2"/>
            <p:cNvSpPr/>
            <p:nvPr/>
          </p:nvSpPr>
          <p:spPr>
            <a:xfrm>
              <a:off x="0" y="0"/>
              <a:ext cx="9153360" cy="1288800"/>
            </a:xfrm>
            <a:custGeom>
              <a:avLst/>
              <a:gdLst/>
              <a:ahLst/>
              <a:rect l="l" t="t" r="r" b="b"/>
              <a:pathLst>
                <a:path w="9155305" h="1291210">
                  <a:moveTo>
                    <a:pt x="192" y="1291210"/>
                  </a:moveTo>
                  <a:lnTo>
                    <a:pt x="9147141" y="252079"/>
                  </a:lnTo>
                  <a:lnTo>
                    <a:pt x="9155305" y="0"/>
                  </a:lnTo>
                  <a:lnTo>
                    <a:pt x="1779" y="25400"/>
                  </a:lnTo>
                  <a:cubicBezTo>
                    <a:pt x="2838" y="439399"/>
                    <a:pt x="-867" y="877211"/>
                    <a:pt x="192" y="129121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7" name="Picture 26" descr=""/>
            <p:cNvPicPr/>
            <p:nvPr/>
          </p:nvPicPr>
          <p:blipFill>
            <a:blip r:embed="rId1"/>
            <a:stretch/>
          </p:blipFill>
          <p:spPr>
            <a:xfrm>
              <a:off x="-15840" y="4566960"/>
              <a:ext cx="9159840" cy="213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8" name="TextBox 2"/>
          <p:cNvSpPr/>
          <p:nvPr/>
        </p:nvSpPr>
        <p:spPr>
          <a:xfrm>
            <a:off x="317520" y="16495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Remember the story better and try t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l it to you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"/>
          <p:cNvSpPr/>
          <p:nvPr/>
        </p:nvSpPr>
        <p:spPr>
          <a:xfrm>
            <a:off x="317520" y="294624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Keep your DIY story and share it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矩形 7" descr=""/>
          <p:cNvPicPr/>
          <p:nvPr/>
        </p:nvPicPr>
        <p:blipFill>
          <a:blip r:embed="rId2"/>
          <a:stretch/>
        </p:blipFill>
        <p:spPr>
          <a:xfrm>
            <a:off x="639720" y="-122400"/>
            <a:ext cx="395136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3" name="diy.wmv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8"/>
          <p:cNvGrpSpPr/>
          <p:nvPr/>
        </p:nvGrpSpPr>
        <p:grpSpPr>
          <a:xfrm>
            <a:off x="1440" y="-136440"/>
            <a:ext cx="9144000" cy="6933960"/>
            <a:chOff x="1440" y="-136440"/>
            <a:chExt cx="9144000" cy="6933960"/>
          </a:xfrm>
        </p:grpSpPr>
        <p:sp>
          <p:nvSpPr>
            <p:cNvPr id="505" name="矩形 2"/>
            <p:cNvSpPr/>
            <p:nvPr/>
          </p:nvSpPr>
          <p:spPr>
            <a:xfrm>
              <a:off x="1440" y="-136440"/>
              <a:ext cx="9144000" cy="1484280"/>
            </a:xfrm>
            <a:custGeom>
              <a:avLst/>
              <a:gdLst/>
              <a:ahLst/>
              <a:rect l="l" t="t" r="r" b="b"/>
              <a:pathLst>
                <a:path w="9155305" h="1291210">
                  <a:moveTo>
                    <a:pt x="192" y="1291210"/>
                  </a:moveTo>
                  <a:lnTo>
                    <a:pt x="9147141" y="252079"/>
                  </a:lnTo>
                  <a:lnTo>
                    <a:pt x="9155305" y="0"/>
                  </a:lnTo>
                  <a:lnTo>
                    <a:pt x="1779" y="25400"/>
                  </a:lnTo>
                  <a:cubicBezTo>
                    <a:pt x="2838" y="439399"/>
                    <a:pt x="-867" y="877211"/>
                    <a:pt x="192" y="1291210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1440" y="6416640"/>
              <a:ext cx="9142560" cy="38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2" descr="http://img04.tooopen.com/images/20131021/sy_43318733483.jpg"/>
            <p:cNvPicPr/>
            <p:nvPr/>
          </p:nvPicPr>
          <p:blipFill>
            <a:blip r:embed="rId1"/>
            <a:srcRect l="10329" t="7722" r="9098" b="13177"/>
            <a:stretch/>
          </p:blipFill>
          <p:spPr>
            <a:xfrm>
              <a:off x="7352280" y="-128520"/>
              <a:ext cx="1791720" cy="145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TextBox 1"/>
          <p:cNvSpPr/>
          <p:nvPr/>
        </p:nvSpPr>
        <p:spPr>
          <a:xfrm>
            <a:off x="1222200" y="50115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Y jobs did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"/>
          <p:cNvSpPr/>
          <p:nvPr/>
        </p:nvSpPr>
        <p:spPr>
          <a:xfrm>
            <a:off x="447840" y="13273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m crazy abo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,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pai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g and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cor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g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图片 10" descr="圣诞树.jpg"/>
          <p:cNvPicPr/>
          <p:nvPr/>
        </p:nvPicPr>
        <p:blipFill>
          <a:blip r:embed="rId2">
            <a:lum bright="12000"/>
          </a:blip>
          <a:srcRect l="35564" t="0" r="0" b="4724"/>
          <a:stretch/>
        </p:blipFill>
        <p:spPr>
          <a:xfrm>
            <a:off x="6480000" y="2176560"/>
            <a:ext cx="2541600" cy="250488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11" descr="自行车.jpg"/>
          <p:cNvPicPr/>
          <p:nvPr/>
        </p:nvPicPr>
        <p:blipFill>
          <a:blip r:embed="rId3">
            <a:lum bright="18000"/>
          </a:blip>
          <a:srcRect l="7474" t="4643" r="3694" b="5902"/>
          <a:stretch/>
        </p:blipFill>
        <p:spPr>
          <a:xfrm>
            <a:off x="3579840" y="2568600"/>
            <a:ext cx="2773440" cy="22050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14" descr="沙拉.jpg"/>
          <p:cNvPicPr/>
          <p:nvPr/>
        </p:nvPicPr>
        <p:blipFill>
          <a:blip r:embed="rId4"/>
          <a:stretch/>
        </p:blipFill>
        <p:spPr>
          <a:xfrm>
            <a:off x="250920" y="2673360"/>
            <a:ext cx="30510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组合 8"/>
          <p:cNvGrpSpPr/>
          <p:nvPr/>
        </p:nvGrpSpPr>
        <p:grpSpPr>
          <a:xfrm>
            <a:off x="1440" y="-157320"/>
            <a:ext cx="9144000" cy="6934320"/>
            <a:chOff x="1440" y="-157320"/>
            <a:chExt cx="9144000" cy="6934320"/>
          </a:xfrm>
        </p:grpSpPr>
        <p:sp>
          <p:nvSpPr>
            <p:cNvPr id="514" name="矩形 2"/>
            <p:cNvSpPr/>
            <p:nvPr/>
          </p:nvSpPr>
          <p:spPr>
            <a:xfrm>
              <a:off x="1440" y="-157320"/>
              <a:ext cx="9144000" cy="1484280"/>
            </a:xfrm>
            <a:custGeom>
              <a:avLst/>
              <a:gdLst/>
              <a:ahLst/>
              <a:rect l="l" t="t" r="r" b="b"/>
              <a:pathLst>
                <a:path w="9155305" h="1291210">
                  <a:moveTo>
                    <a:pt x="192" y="1291210"/>
                  </a:moveTo>
                  <a:lnTo>
                    <a:pt x="9147141" y="252079"/>
                  </a:lnTo>
                  <a:lnTo>
                    <a:pt x="9155305" y="0"/>
                  </a:lnTo>
                  <a:lnTo>
                    <a:pt x="1779" y="25400"/>
                  </a:lnTo>
                  <a:cubicBezTo>
                    <a:pt x="2838" y="439399"/>
                    <a:pt x="-867" y="877211"/>
                    <a:pt x="192" y="1291210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4"/>
            <p:cNvSpPr/>
            <p:nvPr/>
          </p:nvSpPr>
          <p:spPr>
            <a:xfrm>
              <a:off x="1440" y="6396120"/>
              <a:ext cx="9142560" cy="38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http://img04.tooopen.com/images/20131021/sy_43318733483.jpg"/>
            <p:cNvPicPr/>
            <p:nvPr/>
          </p:nvPicPr>
          <p:blipFill>
            <a:blip r:embed="rId1"/>
            <a:srcRect l="10329" t="7722" r="9098" b="13177"/>
            <a:stretch/>
          </p:blipFill>
          <p:spPr>
            <a:xfrm>
              <a:off x="7352280" y="-149400"/>
              <a:ext cx="1791720" cy="14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7" name="组合 24"/>
          <p:cNvGrpSpPr/>
          <p:nvPr/>
        </p:nvGrpSpPr>
        <p:grpSpPr>
          <a:xfrm>
            <a:off x="1606680" y="681120"/>
            <a:ext cx="5792760" cy="3690720"/>
            <a:chOff x="1606680" y="681120"/>
            <a:chExt cx="5792760" cy="3690720"/>
          </a:xfrm>
        </p:grpSpPr>
        <p:grpSp>
          <p:nvGrpSpPr>
            <p:cNvPr id="518" name="组合 17"/>
            <p:cNvGrpSpPr/>
            <p:nvPr/>
          </p:nvGrpSpPr>
          <p:grpSpPr>
            <a:xfrm>
              <a:off x="1606680" y="681120"/>
              <a:ext cx="5792760" cy="3690720"/>
              <a:chOff x="1606680" y="681120"/>
              <a:chExt cx="5792760" cy="3690720"/>
            </a:xfrm>
          </p:grpSpPr>
          <p:pic>
            <p:nvPicPr>
              <p:cNvPr id="519" name="Picture 4" descr="T2ZnCLXn0bXXXXXXXX_!!78954142"/>
              <p:cNvPicPr/>
              <p:nvPr/>
            </p:nvPicPr>
            <p:blipFill>
              <a:blip r:embed="rId2"/>
              <a:stretch/>
            </p:blipFill>
            <p:spPr>
              <a:xfrm>
                <a:off x="1818000" y="681120"/>
                <a:ext cx="5581440" cy="3538440"/>
              </a:xfrm>
              <a:prstGeom prst="rect">
                <a:avLst/>
              </a:prstGeom>
              <a:ln w="76320">
                <a:solidFill>
                  <a:srgbClr val="669900"/>
                </a:solidFill>
                <a:miter/>
              </a:ln>
            </p:spPr>
          </p:pic>
          <p:pic>
            <p:nvPicPr>
              <p:cNvPr id="520" name="图片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6680" y="2723040"/>
                <a:ext cx="2269080" cy="164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1" name="矩形 7"/>
            <p:cNvSpPr/>
            <p:nvPr/>
          </p:nvSpPr>
          <p:spPr>
            <a:xfrm>
              <a:off x="3730680" y="3059280"/>
              <a:ext cx="2511360" cy="436320"/>
            </a:xfrm>
            <a:prstGeom prst="rect">
              <a:avLst/>
            </a:prstGeom>
            <a:solidFill>
              <a:srgbClr val="f2f2f2"/>
            </a:solidFill>
            <a:ln w="76320">
              <a:solidFill>
                <a:srgbClr val="f2f2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AutoShape 4"/>
          <p:cNvSpPr/>
          <p:nvPr/>
        </p:nvSpPr>
        <p:spPr>
          <a:xfrm>
            <a:off x="63360" y="-136440"/>
            <a:ext cx="506736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63360" y="-136440"/>
            <a:ext cx="36673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0"/>
          <p:cNvSpPr/>
          <p:nvPr/>
        </p:nvSpPr>
        <p:spPr>
          <a:xfrm>
            <a:off x="63360" y="-136440"/>
            <a:ext cx="36673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63360" y="-136440"/>
            <a:ext cx="36673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4"/>
          <p:cNvSpPr/>
          <p:nvPr/>
        </p:nvSpPr>
        <p:spPr>
          <a:xfrm>
            <a:off x="63360" y="-136440"/>
            <a:ext cx="338148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6"/>
          <p:cNvSpPr/>
          <p:nvPr/>
        </p:nvSpPr>
        <p:spPr>
          <a:xfrm>
            <a:off x="63360" y="-136440"/>
            <a:ext cx="338148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"/>
          <p:cNvSpPr/>
          <p:nvPr/>
        </p:nvSpPr>
        <p:spPr>
          <a:xfrm>
            <a:off x="-398520" y="4573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baske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extBox 36" descr=""/>
          <p:cNvPicPr/>
          <p:nvPr/>
        </p:nvPicPr>
        <p:blipFill>
          <a:blip r:embed="rId4"/>
          <a:stretch/>
        </p:blipFill>
        <p:spPr>
          <a:xfrm>
            <a:off x="4808520" y="4676760"/>
            <a:ext cx="2590920" cy="584280"/>
          </a:xfrm>
          <a:prstGeom prst="rect">
            <a:avLst/>
          </a:prstGeom>
          <a:ln w="0">
            <a:noFill/>
          </a:ln>
        </p:spPr>
      </p:pic>
      <p:sp>
        <p:nvSpPr>
          <p:cNvPr id="530" name="AutoShape 18"/>
          <p:cNvSpPr/>
          <p:nvPr/>
        </p:nvSpPr>
        <p:spPr>
          <a:xfrm>
            <a:off x="63360" y="-136440"/>
            <a:ext cx="40291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6"/>
          <p:cNvSpPr/>
          <p:nvPr/>
        </p:nvSpPr>
        <p:spPr>
          <a:xfrm>
            <a:off x="63360" y="5157720"/>
            <a:ext cx="78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dvi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b.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o d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6"/>
          <p:cNvSpPr/>
          <p:nvPr/>
        </p:nvSpPr>
        <p:spPr>
          <a:xfrm>
            <a:off x="4808520" y="5157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end a course in DIY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1571760" y="2709720"/>
            <a:ext cx="2520720" cy="172728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直接箭头连接符 33"/>
          <p:cNvCxnSpPr/>
          <p:nvPr/>
        </p:nvCxnSpPr>
        <p:spPr>
          <a:xfrm>
            <a:off x="5342040" y="1852560"/>
            <a:ext cx="1607040" cy="2729520"/>
          </a:xfrm>
          <a:prstGeom prst="straightConnector1">
            <a:avLst/>
          </a:prstGeom>
          <a:ln w="57240">
            <a:solidFill>
              <a:srgbClr val="cc00ff"/>
            </a:solidFill>
            <a:round/>
            <a:tailEnd len="med" type="arrow" w="med"/>
          </a:ln>
        </p:spPr>
      </p:cxnSp>
      <p:sp>
        <p:nvSpPr>
          <p:cNvPr id="535" name="WordArt 29"/>
          <p:cNvSpPr txBox="1"/>
          <p:nvPr/>
        </p:nvSpPr>
        <p:spPr>
          <a:xfrm>
            <a:off x="415800" y="112680"/>
            <a:ext cx="707400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.</a:t>
            </a:r>
            <a:r>
              <a:rPr b="1" lang="zh-CN" sz="2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四人组内朗读并相互纠错；</a:t>
            </a:r>
            <a:r>
              <a:rPr b="1" lang="en-US" sz="2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.</a:t>
            </a:r>
            <a:r>
              <a:rPr b="1" lang="zh-CN" sz="2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小组四人展示</a:t>
            </a:r>
            <a:endParaRPr b="1" lang="en-US" sz="2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536" name="图片 1" descr=""/>
          <p:cNvPicPr/>
          <p:nvPr/>
        </p:nvPicPr>
        <p:blipFill>
          <a:blip r:embed="rId5"/>
          <a:stretch/>
        </p:blipFill>
        <p:spPr>
          <a:xfrm>
            <a:off x="4602240" y="800280"/>
            <a:ext cx="10159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组合 8"/>
          <p:cNvGrpSpPr/>
          <p:nvPr/>
        </p:nvGrpSpPr>
        <p:grpSpPr>
          <a:xfrm>
            <a:off x="0" y="-7920"/>
            <a:ext cx="9142560" cy="6894360"/>
            <a:chOff x="0" y="-7920"/>
            <a:chExt cx="9142560" cy="6894360"/>
          </a:xfrm>
        </p:grpSpPr>
        <p:sp>
          <p:nvSpPr>
            <p:cNvPr id="538" name="Rectangle 4"/>
            <p:cNvSpPr/>
            <p:nvPr/>
          </p:nvSpPr>
          <p:spPr>
            <a:xfrm>
              <a:off x="0" y="6505560"/>
              <a:ext cx="9142560" cy="38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2" descr="http://img04.tooopen.com/images/20131021/sy_43318733483.jpg"/>
            <p:cNvPicPr/>
            <p:nvPr/>
          </p:nvPicPr>
          <p:blipFill>
            <a:blip r:embed="rId1"/>
            <a:srcRect l="10334" t="7736" r="9101" b="13190"/>
            <a:stretch/>
          </p:blipFill>
          <p:spPr>
            <a:xfrm>
              <a:off x="7520400" y="-7920"/>
              <a:ext cx="1058400" cy="86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0" name="TextBox 1"/>
          <p:cNvSpPr/>
          <p:nvPr/>
        </p:nvSpPr>
        <p:spPr>
          <a:xfrm>
            <a:off x="0" y="1641600"/>
            <a:ext cx="91440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DIY d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 DIY.  When my son was young,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 my son’s bedroom. He liked all kinds of animals. So 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 animal toys. Then, I drew animals on the wall but I’m weak in drawing. So some of the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. My wif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me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    when I am free. I think it’s a good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lways have a good time doing DIY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"/>
          <p:cNvSpPr/>
          <p:nvPr/>
        </p:nvSpPr>
        <p:spPr>
          <a:xfrm>
            <a:off x="6259680" y="105732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 crazy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4"/>
          <p:cNvSpPr/>
          <p:nvPr/>
        </p:nvSpPr>
        <p:spPr>
          <a:xfrm>
            <a:off x="144360" y="1057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o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2120760" y="105732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illed  the baske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4"/>
          <p:cNvSpPr/>
          <p:nvPr/>
        </p:nvSpPr>
        <p:spPr>
          <a:xfrm>
            <a:off x="6477120" y="682560"/>
            <a:ext cx="43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ooked terr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5"/>
          <p:cNvSpPr/>
          <p:nvPr/>
        </p:nvSpPr>
        <p:spPr>
          <a:xfrm>
            <a:off x="200160" y="6382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v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7"/>
          <p:cNvSpPr/>
          <p:nvPr/>
        </p:nvSpPr>
        <p:spPr>
          <a:xfrm>
            <a:off x="1987560" y="638280"/>
            <a:ext cx="441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 attend drawing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28"/>
          <p:cNvSpPr txBox="1"/>
          <p:nvPr/>
        </p:nvSpPr>
        <p:spPr>
          <a:xfrm>
            <a:off x="357120" y="31680"/>
            <a:ext cx="45165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r>
              <a:rPr b="1" lang="zh-CN" sz="20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、两两讨论；</a:t>
            </a:r>
            <a:r>
              <a:rPr b="1" lang="en-US" sz="20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r>
              <a:rPr b="1" lang="zh-CN" sz="20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、每人汇报三个答案</a:t>
            </a:r>
            <a:endParaRPr b="1" lang="en-US" sz="20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48" name="矩形 8"/>
          <p:cNvSpPr/>
          <p:nvPr/>
        </p:nvSpPr>
        <p:spPr>
          <a:xfrm>
            <a:off x="144360" y="682560"/>
            <a:ext cx="8863200" cy="959040"/>
          </a:xfrm>
          <a:prstGeom prst="rect">
            <a:avLst/>
          </a:pr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"/>
          <p:cNvSpPr/>
          <p:nvPr/>
        </p:nvSpPr>
        <p:spPr>
          <a:xfrm>
            <a:off x="985680" y="224460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 crazy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644400" y="2714760"/>
            <a:ext cx="19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o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146400" y="335772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illed the baske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4"/>
          <p:cNvSpPr/>
          <p:nvPr/>
        </p:nvSpPr>
        <p:spPr>
          <a:xfrm>
            <a:off x="5362560" y="4357800"/>
            <a:ext cx="32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ooked terr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5"/>
          <p:cNvSpPr/>
          <p:nvPr/>
        </p:nvSpPr>
        <p:spPr>
          <a:xfrm>
            <a:off x="1717560" y="48578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v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4433760" y="4857840"/>
            <a:ext cx="44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 attend drawing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组合 9"/>
          <p:cNvGrpSpPr/>
          <p:nvPr/>
        </p:nvGrpSpPr>
        <p:grpSpPr>
          <a:xfrm>
            <a:off x="-9360" y="0"/>
            <a:ext cx="9153360" cy="6858000"/>
            <a:chOff x="-9360" y="0"/>
            <a:chExt cx="9153360" cy="6858000"/>
          </a:xfrm>
        </p:grpSpPr>
        <p:sp>
          <p:nvSpPr>
            <p:cNvPr id="556" name="矩形 2"/>
            <p:cNvSpPr/>
            <p:nvPr/>
          </p:nvSpPr>
          <p:spPr>
            <a:xfrm>
              <a:off x="-9360" y="0"/>
              <a:ext cx="9153360" cy="911160"/>
            </a:xfrm>
            <a:custGeom>
              <a:avLst/>
              <a:gdLst/>
              <a:ahLst/>
              <a:rect l="l" t="t" r="r" b="b"/>
              <a:pathLst>
                <a:path w="9155305" h="1291210">
                  <a:moveTo>
                    <a:pt x="192" y="1291210"/>
                  </a:moveTo>
                  <a:lnTo>
                    <a:pt x="9147141" y="252079"/>
                  </a:lnTo>
                  <a:lnTo>
                    <a:pt x="9155305" y="0"/>
                  </a:lnTo>
                  <a:lnTo>
                    <a:pt x="1779" y="25400"/>
                  </a:lnTo>
                  <a:cubicBezTo>
                    <a:pt x="2838" y="439399"/>
                    <a:pt x="-867" y="877211"/>
                    <a:pt x="192" y="1291210"/>
                  </a:cubicBezTo>
                  <a:close/>
                </a:path>
              </a:pathLst>
            </a:custGeom>
            <a:solidFill>
              <a:srgbClr val="99cc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4"/>
            <p:cNvSpPr/>
            <p:nvPr/>
          </p:nvSpPr>
          <p:spPr>
            <a:xfrm>
              <a:off x="-9360" y="6477120"/>
              <a:ext cx="9142560" cy="380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3"/>
          <p:cNvSpPr/>
          <p:nvPr/>
        </p:nvSpPr>
        <p:spPr>
          <a:xfrm>
            <a:off x="0" y="163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n you guess what DIY jobs he likes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453960" y="2457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d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3" descr=""/>
          <p:cNvPicPr/>
          <p:nvPr/>
        </p:nvPicPr>
        <p:blipFill>
          <a:blip r:embed="rId1"/>
          <a:stretch/>
        </p:blipFill>
        <p:spPr>
          <a:xfrm>
            <a:off x="2298600" y="1123920"/>
            <a:ext cx="45244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组合 9"/>
          <p:cNvGrpSpPr/>
          <p:nvPr/>
        </p:nvGrpSpPr>
        <p:grpSpPr>
          <a:xfrm>
            <a:off x="0" y="0"/>
            <a:ext cx="9153360" cy="6858000"/>
            <a:chOff x="0" y="0"/>
            <a:chExt cx="9153360" cy="6858000"/>
          </a:xfrm>
        </p:grpSpPr>
        <p:sp>
          <p:nvSpPr>
            <p:cNvPr id="562" name="矩形 2"/>
            <p:cNvSpPr/>
            <p:nvPr/>
          </p:nvSpPr>
          <p:spPr>
            <a:xfrm>
              <a:off x="0" y="0"/>
              <a:ext cx="9153360" cy="1288800"/>
            </a:xfrm>
            <a:custGeom>
              <a:avLst/>
              <a:gdLst/>
              <a:ahLst/>
              <a:rect l="l" t="t" r="r" b="b"/>
              <a:pathLst>
                <a:path w="9155305" h="1291210">
                  <a:moveTo>
                    <a:pt x="192" y="1291210"/>
                  </a:moveTo>
                  <a:lnTo>
                    <a:pt x="9147141" y="252079"/>
                  </a:lnTo>
                  <a:lnTo>
                    <a:pt x="9155305" y="0"/>
                  </a:lnTo>
                  <a:lnTo>
                    <a:pt x="1779" y="25400"/>
                  </a:lnTo>
                  <a:cubicBezTo>
                    <a:pt x="2838" y="439399"/>
                    <a:pt x="-867" y="877211"/>
                    <a:pt x="192" y="1291210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4"/>
            <p:cNvSpPr/>
            <p:nvPr/>
          </p:nvSpPr>
          <p:spPr>
            <a:xfrm>
              <a:off x="0" y="6477120"/>
              <a:ext cx="9142560" cy="380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2"/>
          <p:cNvSpPr/>
          <p:nvPr/>
        </p:nvSpPr>
        <p:spPr>
          <a:xfrm>
            <a:off x="139680" y="187488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Calibri"/>
              </a:rPr>
              <a:t>Read the passage silently and try to answ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hat can we know about Andrew from the passage? (Over 1 ans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rew is crazy about DI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rew did different DIY jobs but caused different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uzy</a:t>
            </a:r>
            <a:r>
              <a:rPr b="1" lang="en-US" sz="24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ave Andrew some advice but he didn’t listen to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rew is good at doing DIY j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7"/>
          <p:cNvSpPr/>
          <p:nvPr/>
        </p:nvSpPr>
        <p:spPr>
          <a:xfrm>
            <a:off x="34920" y="1773360"/>
            <a:ext cx="9067680" cy="32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椭圆 8"/>
          <p:cNvSpPr/>
          <p:nvPr/>
        </p:nvSpPr>
        <p:spPr>
          <a:xfrm>
            <a:off x="108000" y="299736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椭圆 8"/>
          <p:cNvSpPr/>
          <p:nvPr/>
        </p:nvSpPr>
        <p:spPr>
          <a:xfrm>
            <a:off x="146160" y="352584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8"/>
          <p:cNvSpPr/>
          <p:nvPr/>
        </p:nvSpPr>
        <p:spPr>
          <a:xfrm>
            <a:off x="171360" y="405432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 rot="21435600">
            <a:off x="-1011240" y="-63360"/>
            <a:ext cx="7601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  <a:ea typeface="宋体"/>
              </a:rPr>
              <a:t>Task 1 Fast rea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26"/>
          <p:cNvSpPr/>
          <p:nvPr/>
        </p:nvSpPr>
        <p:spPr>
          <a:xfrm>
            <a:off x="0" y="1844640"/>
            <a:ext cx="871236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组合 17"/>
          <p:cNvGrpSpPr/>
          <p:nvPr/>
        </p:nvGrpSpPr>
        <p:grpSpPr>
          <a:xfrm>
            <a:off x="3348000" y="1125360"/>
            <a:ext cx="4608720" cy="581400"/>
            <a:chOff x="3348000" y="1125360"/>
            <a:chExt cx="4608720" cy="581400"/>
          </a:xfrm>
        </p:grpSpPr>
        <p:sp>
          <p:nvSpPr>
            <p:cNvPr id="572" name="线形标注 2(无边框) 14"/>
            <p:cNvSpPr/>
            <p:nvPr/>
          </p:nvSpPr>
          <p:spPr>
            <a:xfrm>
              <a:off x="3348000" y="1125360"/>
              <a:ext cx="4608720" cy="576360"/>
            </a:xfrm>
            <a:solidFill>
              <a:srgbClr val="ffffff"/>
            </a:solidFill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Box 16"/>
            <p:cNvSpPr/>
            <p:nvPr/>
          </p:nvSpPr>
          <p:spPr>
            <a:xfrm>
              <a:off x="3348000" y="112536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 Black"/>
                </a:rPr>
                <a:t>Part 1 ( para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组合 18"/>
          <p:cNvGrpSpPr/>
          <p:nvPr/>
        </p:nvGrpSpPr>
        <p:grpSpPr>
          <a:xfrm>
            <a:off x="4716360" y="2556000"/>
            <a:ext cx="4427640" cy="581400"/>
            <a:chOff x="4716360" y="2556000"/>
            <a:chExt cx="4427640" cy="581400"/>
          </a:xfrm>
        </p:grpSpPr>
        <p:sp>
          <p:nvSpPr>
            <p:cNvPr id="575" name="线形标注 2(无边框) 19"/>
            <p:cNvSpPr/>
            <p:nvPr/>
          </p:nvSpPr>
          <p:spPr>
            <a:xfrm>
              <a:off x="4716360" y="2556000"/>
              <a:ext cx="4293000" cy="577800"/>
            </a:xfrm>
            <a:solidFill>
              <a:srgbClr val="ffffff"/>
            </a:solidFill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20"/>
            <p:cNvSpPr/>
            <p:nvPr/>
          </p:nvSpPr>
          <p:spPr>
            <a:xfrm>
              <a:off x="4716360" y="2556000"/>
              <a:ext cx="442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 Black"/>
                </a:rPr>
                <a:t>Part 2 ( para 2—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矩形 27"/>
          <p:cNvSpPr/>
          <p:nvPr/>
        </p:nvSpPr>
        <p:spPr>
          <a:xfrm>
            <a:off x="250920" y="4581360"/>
            <a:ext cx="87138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28"/>
          <p:cNvGrpSpPr/>
          <p:nvPr/>
        </p:nvGrpSpPr>
        <p:grpSpPr>
          <a:xfrm>
            <a:off x="4148280" y="4797360"/>
            <a:ext cx="4752720" cy="584280"/>
            <a:chOff x="4148280" y="4797360"/>
            <a:chExt cx="4752720" cy="584280"/>
          </a:xfrm>
        </p:grpSpPr>
        <p:sp>
          <p:nvSpPr>
            <p:cNvPr id="579" name="线形标注 2(无边框) 21"/>
            <p:cNvSpPr/>
            <p:nvPr/>
          </p:nvSpPr>
          <p:spPr>
            <a:xfrm>
              <a:off x="4148280" y="4805280"/>
              <a:ext cx="4608360" cy="576360"/>
            </a:xfrm>
            <a:solidFill>
              <a:srgbClr val="ffffff"/>
            </a:solidFill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22"/>
            <p:cNvSpPr/>
            <p:nvPr/>
          </p:nvSpPr>
          <p:spPr>
            <a:xfrm>
              <a:off x="4148280" y="4797360"/>
              <a:ext cx="47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 Black"/>
                </a:rPr>
                <a:t>Part 3 ( para 5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2"/>
          <p:cNvSpPr/>
          <p:nvPr/>
        </p:nvSpPr>
        <p:spPr>
          <a:xfrm>
            <a:off x="0" y="0"/>
            <a:ext cx="9153360" cy="106380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"/>
          <p:cNvSpPr/>
          <p:nvPr/>
        </p:nvSpPr>
        <p:spPr>
          <a:xfrm>
            <a:off x="112680" y="1539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Para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9360" y="2082960"/>
            <a:ext cx="9144000" cy="72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y is Andrew crazy about DI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9360" y="3940200"/>
            <a:ext cx="9144000" cy="72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How does the house look when he finis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4"/>
          <p:cNvSpPr/>
          <p:nvPr/>
        </p:nvSpPr>
        <p:spPr>
          <a:xfrm>
            <a:off x="314280" y="298116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He loves to repair things and decorate hi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5"/>
          <p:cNvSpPr/>
          <p:nvPr/>
        </p:nvSpPr>
        <p:spPr>
          <a:xfrm>
            <a:off x="541440" y="487368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t looks terr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 rot="21435600">
            <a:off x="-538560" y="-14040"/>
            <a:ext cx="780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Task 2 Detailed reading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29"/>
          <p:cNvSpPr txBox="1"/>
          <p:nvPr/>
        </p:nvSpPr>
        <p:spPr>
          <a:xfrm>
            <a:off x="112680" y="1035000"/>
            <a:ext cx="85438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ln w="0">
                  <a:noFill/>
                </a:ln>
                <a:solidFill>
                  <a:srgbClr val="000000"/>
                </a:solidFill>
                <a:latin typeface="楷体"/>
              </a:rPr>
              <a:t>1</a:t>
            </a:r>
            <a:r>
              <a:rPr b="1" lang="zh-CN" sz="2800" spc="-1" strike="noStrike">
                <a:ln w="0">
                  <a:noFill/>
                </a:ln>
                <a:solidFill>
                  <a:srgbClr val="000000"/>
                </a:solidFill>
                <a:latin typeface="楷体"/>
              </a:rPr>
              <a:t>、先读第</a:t>
            </a:r>
            <a:r>
              <a:rPr b="1" lang="en-US" sz="2800" spc="-1" strike="noStrike">
                <a:ln w="0">
                  <a:noFill/>
                </a:ln>
                <a:solidFill>
                  <a:srgbClr val="000000"/>
                </a:solidFill>
                <a:latin typeface="楷体"/>
              </a:rPr>
              <a:t>1</a:t>
            </a:r>
            <a:r>
              <a:rPr b="1" lang="zh-CN" sz="2800" spc="-1" strike="noStrike">
                <a:ln w="0">
                  <a:noFill/>
                </a:ln>
                <a:solidFill>
                  <a:srgbClr val="000000"/>
                </a:solidFill>
                <a:latin typeface="楷体"/>
              </a:rPr>
              <a:t>段；</a:t>
            </a:r>
            <a:r>
              <a:rPr b="1" lang="en-US" sz="2800" spc="-1" strike="noStrike">
                <a:ln w="0">
                  <a:noFill/>
                </a:ln>
                <a:solidFill>
                  <a:srgbClr val="000000"/>
                </a:solidFill>
                <a:latin typeface="楷体"/>
              </a:rPr>
              <a:t>2</a:t>
            </a:r>
            <a:r>
              <a:rPr b="1" lang="zh-CN" sz="2800" spc="-1" strike="noStrike">
                <a:ln w="0">
                  <a:noFill/>
                </a:ln>
                <a:solidFill>
                  <a:srgbClr val="000000"/>
                </a:solidFill>
                <a:latin typeface="楷体"/>
              </a:rPr>
              <a:t>、独立完成；</a:t>
            </a:r>
            <a:r>
              <a:rPr b="1" lang="en-US" sz="2800" spc="-1" strike="noStrike">
                <a:ln w="0">
                  <a:noFill/>
                </a:ln>
                <a:solidFill>
                  <a:srgbClr val="000000"/>
                </a:solidFill>
                <a:latin typeface="楷体"/>
              </a:rPr>
              <a:t>3</a:t>
            </a:r>
            <a:r>
              <a:rPr b="1" lang="zh-CN" sz="2800" spc="-1" strike="noStrike">
                <a:ln w="0">
                  <a:noFill/>
                </a:ln>
                <a:solidFill>
                  <a:srgbClr val="000000"/>
                </a:solidFill>
                <a:latin typeface="楷体"/>
              </a:rPr>
              <a:t>、两人汇报，一问一答</a:t>
            </a:r>
            <a:endParaRPr b="1" lang="en-US" sz="2800" spc="-1" strike="noStrike">
              <a:ln w="0">
                <a:noFill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组合 18"/>
          <p:cNvGrpSpPr/>
          <p:nvPr/>
        </p:nvGrpSpPr>
        <p:grpSpPr>
          <a:xfrm>
            <a:off x="0" y="-76320"/>
            <a:ext cx="9153360" cy="6858000"/>
            <a:chOff x="0" y="-76320"/>
            <a:chExt cx="9153360" cy="6858000"/>
          </a:xfrm>
        </p:grpSpPr>
        <p:sp>
          <p:nvSpPr>
            <p:cNvPr id="591" name="矩形 2"/>
            <p:cNvSpPr/>
            <p:nvPr/>
          </p:nvSpPr>
          <p:spPr>
            <a:xfrm>
              <a:off x="0" y="-76320"/>
              <a:ext cx="9153360" cy="1288800"/>
            </a:xfrm>
            <a:custGeom>
              <a:avLst/>
              <a:gdLst/>
              <a:ahLst/>
              <a:rect l="l" t="t" r="r" b="b"/>
              <a:pathLst>
                <a:path w="9155305" h="1291210">
                  <a:moveTo>
                    <a:pt x="192" y="1291210"/>
                  </a:moveTo>
                  <a:lnTo>
                    <a:pt x="9147141" y="252079"/>
                  </a:lnTo>
                  <a:lnTo>
                    <a:pt x="9155305" y="0"/>
                  </a:lnTo>
                  <a:lnTo>
                    <a:pt x="1779" y="25400"/>
                  </a:lnTo>
                  <a:cubicBezTo>
                    <a:pt x="2838" y="439399"/>
                    <a:pt x="-867" y="877211"/>
                    <a:pt x="192" y="1291210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4"/>
            <p:cNvSpPr/>
            <p:nvPr/>
          </p:nvSpPr>
          <p:spPr>
            <a:xfrm>
              <a:off x="0" y="6400800"/>
              <a:ext cx="9142560" cy="380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 Box 22"/>
          <p:cNvSpPr/>
          <p:nvPr/>
        </p:nvSpPr>
        <p:spPr>
          <a:xfrm>
            <a:off x="1692360" y="-2700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ch the jobs with th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15"/>
          <p:cNvGrpSpPr/>
          <p:nvPr/>
        </p:nvGrpSpPr>
        <p:grpSpPr>
          <a:xfrm>
            <a:off x="-152280" y="1195560"/>
            <a:ext cx="6858360" cy="4875120"/>
            <a:chOff x="-152280" y="1195560"/>
            <a:chExt cx="6858360" cy="4875120"/>
          </a:xfrm>
        </p:grpSpPr>
        <p:sp>
          <p:nvSpPr>
            <p:cNvPr id="595" name="Text Box 27"/>
            <p:cNvSpPr/>
            <p:nvPr/>
          </p:nvSpPr>
          <p:spPr>
            <a:xfrm>
              <a:off x="-152280" y="1195560"/>
              <a:ext cx="59436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6699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9900"/>
                  </a:solidFill>
                  <a:latin typeface="Times New Roman"/>
                  <a:ea typeface="宋体"/>
                </a:rPr>
                <a:t>Putt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ing</a:t>
              </a:r>
              <a:r>
                <a:rPr b="1" lang="en-US" sz="2800" spc="-1" strike="noStrike">
                  <a:solidFill>
                    <a:srgbClr val="669900"/>
                  </a:solidFill>
                  <a:latin typeface="Times New Roman"/>
                  <a:ea typeface="宋体"/>
                </a:rPr>
                <a:t> in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a bright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l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28"/>
            <p:cNvSpPr/>
            <p:nvPr/>
          </p:nvSpPr>
          <p:spPr>
            <a:xfrm>
              <a:off x="-75960" y="2503800"/>
              <a:ext cx="601992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. </a:t>
              </a:r>
              <a:r>
                <a:rPr b="1" lang="en-US" sz="2800" spc="-1" strike="noStrike">
                  <a:solidFill>
                    <a:srgbClr val="669900"/>
                  </a:solidFill>
                  <a:latin typeface="Times New Roman"/>
                </a:rPr>
                <a:t>Put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ng</a:t>
              </a:r>
              <a:r>
                <a:rPr b="1" lang="en-US" sz="2800" spc="-1" strike="noStrike">
                  <a:solidFill>
                    <a:srgbClr val="669900"/>
                  </a:solidFill>
                  <a:latin typeface="Times New Roman"/>
                </a:rPr>
                <a:t> up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a pictu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on his bedro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-75960" y="3810960"/>
              <a:ext cx="678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. Painting the living ro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30"/>
            <p:cNvSpPr/>
            <p:nvPr/>
          </p:nvSpPr>
          <p:spPr>
            <a:xfrm>
              <a:off x="-75960" y="4901400"/>
              <a:ext cx="56390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. Putting up a shel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6"/>
          <p:cNvGrpSpPr/>
          <p:nvPr/>
        </p:nvGrpSpPr>
        <p:grpSpPr>
          <a:xfrm>
            <a:off x="4648320" y="1212840"/>
            <a:ext cx="4724280" cy="5047920"/>
            <a:chOff x="4648320" y="1212840"/>
            <a:chExt cx="4724280" cy="5047920"/>
          </a:xfrm>
        </p:grpSpPr>
        <p:sp>
          <p:nvSpPr>
            <p:cNvPr id="600" name="Text Box 31"/>
            <p:cNvSpPr/>
            <p:nvPr/>
          </p:nvSpPr>
          <p:spPr>
            <a:xfrm>
              <a:off x="4724280" y="1212840"/>
              <a:ext cx="45720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.No books could stay on i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2"/>
            <p:cNvSpPr/>
            <p:nvPr/>
          </p:nvSpPr>
          <p:spPr>
            <a:xfrm>
              <a:off x="4648320" y="2567160"/>
              <a:ext cx="472428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b.He </a:t>
              </a:r>
              <a:r>
                <a:rPr b="1" lang="en-US" sz="2800" spc="-1" strike="noStrike">
                  <a:solidFill>
                    <a:srgbClr val="669900"/>
                  </a:solidFill>
                  <a:latin typeface="Times New Roman"/>
                </a:rPr>
                <a:t>hit a pipe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and filled the room with wate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3"/>
            <p:cNvSpPr/>
            <p:nvPr/>
          </p:nvSpPr>
          <p:spPr>
            <a:xfrm>
              <a:off x="4788000" y="3811680"/>
              <a:ext cx="411480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.The whole house </a:t>
              </a:r>
              <a:r>
                <a:rPr b="1" lang="en-US" sz="2800" spc="-1" strike="noStrike">
                  <a:solidFill>
                    <a:srgbClr val="669900"/>
                  </a:solidFill>
                  <a:latin typeface="Times New Roman"/>
                </a:rPr>
                <a:t>had a power cu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d.The cat is blue no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4"/>
            <p:cNvSpPr/>
            <p:nvPr/>
          </p:nvSpPr>
          <p:spPr>
            <a:xfrm>
              <a:off x="4952880" y="5024160"/>
              <a:ext cx="3505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直接连接符 18"/>
          <p:cNvSpPr/>
          <p:nvPr/>
        </p:nvSpPr>
        <p:spPr>
          <a:xfrm>
            <a:off x="3505320" y="1652760"/>
            <a:ext cx="1353960" cy="24238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20"/>
          <p:cNvSpPr/>
          <p:nvPr/>
        </p:nvSpPr>
        <p:spPr>
          <a:xfrm>
            <a:off x="4067280" y="4149720"/>
            <a:ext cx="792000" cy="12240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22"/>
          <p:cNvSpPr/>
          <p:nvPr/>
        </p:nvSpPr>
        <p:spPr>
          <a:xfrm flipV="1">
            <a:off x="2771640" y="2947680"/>
            <a:ext cx="1876680" cy="1918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24"/>
          <p:cNvSpPr/>
          <p:nvPr/>
        </p:nvSpPr>
        <p:spPr>
          <a:xfrm flipV="1">
            <a:off x="3132000" y="1557000"/>
            <a:ext cx="1656000" cy="35989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27"/>
          <p:cNvSpPr/>
          <p:nvPr/>
        </p:nvSpPr>
        <p:spPr>
          <a:xfrm>
            <a:off x="152280" y="5754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ndrew wanted to … , bu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WordArt 29"/>
          <p:cNvSpPr txBox="1"/>
          <p:nvPr/>
        </p:nvSpPr>
        <p:spPr>
          <a:xfrm>
            <a:off x="111240" y="549360"/>
            <a:ext cx="88534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1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先读</a:t>
            </a: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2—4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段；</a:t>
            </a: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2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独立完成；</a:t>
            </a: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3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、两两校对答案；</a:t>
            </a:r>
            <a:r>
              <a:rPr b="0" lang="en-US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4.</a:t>
            </a:r>
            <a:r>
              <a:rPr b="0" lang="zh-CN" sz="2800" spc="-1" strike="noStrike">
                <a:ln w="0">
                  <a:noFill/>
                </a:ln>
                <a:solidFill>
                  <a:srgbClr val="8912b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"/>
              </a:rPr>
              <a:t>每人汇报一个答案</a:t>
            </a:r>
            <a:endParaRPr b="0" lang="en-US" sz="2800" spc="-1" strike="noStrike">
              <a:ln w="0">
                <a:noFill/>
              </a:ln>
              <a:solidFill>
                <a:srgbClr val="8912b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610" name="矩形 23"/>
          <p:cNvSpPr/>
          <p:nvPr/>
        </p:nvSpPr>
        <p:spPr>
          <a:xfrm>
            <a:off x="179280" y="1125360"/>
            <a:ext cx="187164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2be"/>
                </a:solidFill>
                <a:latin typeface="Times New Roman"/>
                <a:ea typeface="宋体"/>
              </a:rPr>
              <a:t>put 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4"/>
          <p:cNvSpPr/>
          <p:nvPr/>
        </p:nvSpPr>
        <p:spPr>
          <a:xfrm>
            <a:off x="179280" y="2349360"/>
            <a:ext cx="1871640" cy="6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2be"/>
                </a:solidFill>
                <a:latin typeface="Times New Roman"/>
                <a:ea typeface="宋体"/>
              </a:rPr>
              <a:t>put 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25"/>
          <p:cNvSpPr/>
          <p:nvPr/>
        </p:nvSpPr>
        <p:spPr>
          <a:xfrm>
            <a:off x="5580000" y="2421000"/>
            <a:ext cx="2016360" cy="64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2be"/>
                </a:solidFill>
                <a:latin typeface="Times New Roman"/>
                <a:ea typeface="宋体"/>
              </a:rPr>
              <a:t>hit a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26"/>
          <p:cNvSpPr/>
          <p:nvPr/>
        </p:nvSpPr>
        <p:spPr>
          <a:xfrm>
            <a:off x="4788000" y="4334040"/>
            <a:ext cx="3746520" cy="65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2be"/>
                </a:solidFill>
                <a:latin typeface="Times New Roman"/>
                <a:ea typeface="宋体"/>
              </a:rPr>
              <a:t>have a power 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2"/>
          <p:cNvSpPr/>
          <p:nvPr/>
        </p:nvSpPr>
        <p:spPr>
          <a:xfrm>
            <a:off x="-36360" y="-27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a 2-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4T04:25:38Z</dcterms:created>
  <dc:creator>apple</dc:creator>
  <dc:description/>
  <dc:language>en-US</dc:language>
  <cp:lastModifiedBy>亮亮</cp:lastModifiedBy>
  <dcterms:modified xsi:type="dcterms:W3CDTF">2020-10-20T05:03:26Z</dcterms:modified>
  <cp:revision>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99</vt:lpwstr>
  </property>
</Properties>
</file>