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FD0-8A33-427C-B24C-4CF72AAF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B1B-C70A-4331-85EB-2042FB46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440-9A80-4FD5-A215-1289F9D5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280-DE32-49DB-901F-ED3803DC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230D-C163-4C60-93D9-CCBD77D6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F6C3-5B88-4CF0-A7CB-6FCAAE26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D597-EE5C-4869-85E9-28375987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EF05-FFA9-45BE-886D-63486D36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8FE8-39BD-4EA6-A048-375CE3CC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69D0-B090-46EC-A166-AF8D46C6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94BF-006B-47C9-872A-F2961D9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A02-D702-4AD3-A08B-82B02F11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9EF5-1193-4156-8D25-D80597C5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C267-2FCC-4D44-B0C1-02E868F7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8DF4-133F-47FA-822A-E3C23F5B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04A1-3597-46D9-926F-BCC5BAD7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60D9-5F26-42E4-85C4-59692054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7A2-298C-4DB7-A83E-C2C13074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258-D50E-4C7F-8D0B-38263C09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0B6-238A-4F87-96CA-9935983B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02F-9614-4426-9FC0-7B9EEEDA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569-9462-4B78-B38F-1882195D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657-168B-4AE3-BB0D-82392A4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3DD-5BF9-4E79-82F0-DE5A3AF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3F01-B1B8-4527-8989-C0CE090463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0190-55CB-4BC7-BF6E-E49BE6A8DA4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042920" y="981000"/>
            <a:ext cx="6534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探究常见物质对水蚤心率的影响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2997360"/>
            <a:ext cx="554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常州市第二十四中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赵敏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2013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3009" t="0" r="6083" b="0"/>
          <a:stretch/>
        </p:blipFill>
        <p:spPr>
          <a:xfrm>
            <a:off x="539640" y="5084640"/>
            <a:ext cx="2160720" cy="1546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2980" t="14392" r="35236" b="18414"/>
          <a:stretch/>
        </p:blipFill>
        <p:spPr>
          <a:xfrm>
            <a:off x="5508720" y="5084640"/>
            <a:ext cx="151272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900000" y="549360"/>
            <a:ext cx="338472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二、探究实验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2060640"/>
            <a:ext cx="633744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979640" y="2133720"/>
            <a:ext cx="3313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小组交流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8637" t="20110" r="36702" b="15054"/>
          <a:stretch/>
        </p:blipFill>
        <p:spPr>
          <a:xfrm>
            <a:off x="3059280" y="3213000"/>
            <a:ext cx="13269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00000" y="549360"/>
            <a:ext cx="338472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三、关注健康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060640"/>
            <a:ext cx="7343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通过本次探究活动，我们有哪些思考和收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们应该如何爱护心脏，拥有健康的生活？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结合本次探究，设计 一条标语，提醒家人和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边的亲人关爱生命、健康生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87280" y="5014800"/>
            <a:ext cx="5977080" cy="158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516720" y="115920"/>
            <a:ext cx="23032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76720" y="5157720"/>
            <a:ext cx="230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汉鼎简隶变"/>
              </a:rPr>
              <a:t>生命？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汉鼎简隶变"/>
              <a:ea typeface="汉鼎简隶变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457440" cy="3240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708360" y="531720"/>
            <a:ext cx="5184720" cy="4121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826920" y="5157720"/>
            <a:ext cx="15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汉鼎简隶变"/>
              </a:rPr>
              <a:t>酗酒？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汉鼎简隶变"/>
              <a:ea typeface="汉鼎简隶变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43280" y="4581360"/>
            <a:ext cx="1727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汉鼎简隶变"/>
              </a:rPr>
              <a:t>健康？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汉鼎简隶变"/>
              <a:ea typeface="汉鼎简隶变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42920" y="476280"/>
            <a:ext cx="2808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260280"/>
            <a:ext cx="4319640" cy="5981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56160" y="1557360"/>
            <a:ext cx="4552920" cy="4629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356000" y="115920"/>
            <a:ext cx="475308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00000" y="2205000"/>
            <a:ext cx="3384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一、亲近水蚤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3284640"/>
            <a:ext cx="6551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你了解水蚤吗？请百度查找关于水蚤的主要特点并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你观察过水蚤的心跳吗？请借助显微镜，尝试观察水蚤的心跳，交流遇到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71640" y="620640"/>
            <a:ext cx="65340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探究常见物质对水蚤心率的影响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68360" y="260280"/>
            <a:ext cx="338436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一、亲近水蚤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138320"/>
            <a:ext cx="8642160" cy="56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260280"/>
            <a:ext cx="338436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一、亲近水蚤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00000" y="549360"/>
            <a:ext cx="338472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二、探究实验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989000"/>
            <a:ext cx="633744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探究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对水蚤心率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选择物品：可乐、白酒、咖啡，请任选其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中一种进行探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选择探究的物品是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实验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提出的问题是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作出的假设是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00000" y="549360"/>
            <a:ext cx="338472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二、探究实验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1844640"/>
            <a:ext cx="63374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制定计划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验变量为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2532240"/>
            <a:ext cx="42480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00000" y="549360"/>
            <a:ext cx="338472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二、探究实验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2060640"/>
            <a:ext cx="633744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23:36:36Z</dcterms:created>
  <dc:creator>User</dc:creator>
  <dc:description/>
  <dc:language>en-US</dc:language>
  <cp:lastModifiedBy>User</cp:lastModifiedBy>
  <dcterms:modified xsi:type="dcterms:W3CDTF">2013-11-08T01:48:37Z</dcterms:modified>
  <cp:revision>37</cp:revision>
  <dc:subject/>
  <dc:title>幻灯片 1</dc:title>
</cp:coreProperties>
</file>