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C04-3AFF-4B01-99EA-46904682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4FB-EA20-4EE8-98D3-0968645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C4-4974-42E1-AFAB-9DC8EE0F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B2C-7827-4A6C-94F2-CA0F1D71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D8C-658E-41DC-9D83-090B127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D05-B521-488D-96B5-6C45376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A1D-9C03-4436-81B2-8C700AC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330-5F46-49FB-9136-38B3D7F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D59-0758-4608-AFF6-A48B77B8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8B2-A454-4757-B4FC-36FA0A4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14D-C1B8-4583-9452-0B15FAB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3ED-59A4-41C0-A610-1E70503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7A4-59D8-423D-9FAD-D8335B4D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0071124229483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739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少先队“队前知识早知道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14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做一名光荣的少先队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log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怎样敬队礼，知道队礼所表示的意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58128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敬队礼的方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手五指并拢，高举头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队礼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代表人民的利益高于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071013205340643"/>
          <p:cNvPicPr/>
          <p:nvPr/>
        </p:nvPicPr>
        <p:blipFill>
          <a:blip r:embed="rId2"/>
          <a:stretch/>
        </p:blipFill>
        <p:spPr>
          <a:xfrm>
            <a:off x="4267080" y="9907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cc4ae3119b5d9dad6538db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知道队的呼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呼号时右手握拳拳在头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辅导员领呼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“准备着，为共产主义事业而奋斗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先队员回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“时刻准备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200922201442826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少先队入队誓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是中国少年先锋队队员。我在队旗下宣誓：我热爱中国共产党，热爱祖国，热爱人民，好好学习，好好锻炼，准备着，为共产主义事业贡献力量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200892617124037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和你的同桌讨论一下：怎样做一个合格的少先队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SC00335"/>
          <p:cNvPicPr/>
          <p:nvPr/>
        </p:nvPicPr>
        <p:blipFill>
          <a:blip r:embed="rId2"/>
          <a:stretch/>
        </p:blipFill>
        <p:spPr>
          <a:xfrm>
            <a:off x="3581280" y="1523880"/>
            <a:ext cx="5257800" cy="464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P1050497"/>
          <p:cNvPicPr/>
          <p:nvPr/>
        </p:nvPicPr>
        <p:blipFill>
          <a:blip r:embed="rId3"/>
          <a:stretch/>
        </p:blipFill>
        <p:spPr>
          <a:xfrm>
            <a:off x="533520" y="1600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N2214"/>
          <p:cNvPicPr/>
          <p:nvPr/>
        </p:nvPicPr>
        <p:blipFill>
          <a:blip r:embed="rId4"/>
          <a:stretch/>
        </p:blipFill>
        <p:spPr>
          <a:xfrm>
            <a:off x="457200" y="3962520"/>
            <a:ext cx="28954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89261712403712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要做一名少先队员，       我为红领巾增添光彩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007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1523880" y="2590920"/>
            <a:ext cx="59436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国少年先锋队队歌</a:t>
            </a:r>
            <a:endParaRPr b="1" lang="en-US" sz="4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52280" y="228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会唱队歌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队歌是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共产主义接班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中国少年先锋队队歌.mp3" descr=""/>
          <p:cNvPicPr/>
          <p:nvPr/>
        </p:nvPicPr>
        <p:blipFill>
          <a:blip r:embed="rId2"/>
          <a:stretch/>
        </p:blipFill>
        <p:spPr>
          <a:xfrm>
            <a:off x="823104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181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8f6a87be21be3e1419d81ff5"/>
          <p:cNvPicPr/>
          <p:nvPr/>
        </p:nvPicPr>
        <p:blipFill>
          <a:blip r:embed="rId1"/>
          <a:stretch/>
        </p:blipFill>
        <p:spPr>
          <a:xfrm>
            <a:off x="0" y="0"/>
            <a:ext cx="8839080" cy="69325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1752480" y="2819520"/>
            <a:ext cx="6553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祝愿你成为一名优秀的少先队员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bd0e6f2cef10ded7831aa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知道少先队的全称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的队名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中国少年先锋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简称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少先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9000" y="6324120"/>
            <a:ext cx="5029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知道中国少年先锋队的建队日是什么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建队日：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003124211918946u513"/>
          <p:cNvPicPr/>
          <p:nvPr/>
        </p:nvPicPr>
        <p:blipFill>
          <a:blip r:embed="rId2"/>
          <a:stretch/>
        </p:blipFill>
        <p:spPr>
          <a:xfrm>
            <a:off x="6375240" y="4191120"/>
            <a:ext cx="2768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知道队徽的图案和含义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52640" y="1294920"/>
            <a:ext cx="55623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徽是我们少先队的标志。在鲜艳的红旗上，印着一颗金黄色的五角星和一支火炬，火炬象征光明，红色代表革命的胜利，队旗上的五角星代表中国共产党的领导，表示少先队要按照党指引的方向前进。星星火炬永远指明我们前进的方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71013205932920"/>
          <p:cNvPicPr/>
          <p:nvPr/>
        </p:nvPicPr>
        <p:blipFill>
          <a:blip r:embed="rId2"/>
          <a:stretch/>
        </p:blipFill>
        <p:spPr>
          <a:xfrm>
            <a:off x="5257800" y="1066680"/>
            <a:ext cx="3606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77328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队旗是少先队组织的标志。队旗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象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革命胜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队旗中央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角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代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国共产党的领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象征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60408231747644"/>
          <p:cNvPicPr/>
          <p:nvPr/>
        </p:nvPicPr>
        <p:blipFill>
          <a:blip r:embed="rId2"/>
          <a:stretch/>
        </p:blipFill>
        <p:spPr>
          <a:xfrm>
            <a:off x="76320" y="3200400"/>
            <a:ext cx="4724280" cy="330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20060408231850545"/>
          <p:cNvPicPr/>
          <p:nvPr/>
        </p:nvPicPr>
        <p:blipFill>
          <a:blip r:embed="rId3"/>
          <a:stretch/>
        </p:blipFill>
        <p:spPr>
          <a:xfrm>
            <a:off x="4876920" y="3200400"/>
            <a:ext cx="4190760" cy="3352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知道队旗的图案和含义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200892522744720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5556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知道队员的标志是什么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队员的标志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领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71014131330996"/>
          <p:cNvPicPr/>
          <p:nvPr/>
        </p:nvPicPr>
        <p:blipFill>
          <a:blip r:embed="rId2"/>
          <a:stretch/>
        </p:blipFill>
        <p:spPr>
          <a:xfrm>
            <a:off x="1143000" y="2971800"/>
            <a:ext cx="6781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董荐瑞舍身炸暗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八路军攻打隆化城的战斗打响了 。董存瑞所在连队担负攻击国民党守军防御重点隆化中学的任务。他任爆破组组长，带领战友接连炸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座炮楼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座碉堡，胜利完成了规定的任务。连队随即发起冲锋，突然遭到敌人一座隐蔽的桥型暗堡猛烈火力的封锁。部队受阻了，二班、四班接连两次对暗堡爆破都没有成功。董存瑞挺身而出，向连长请战：“我是共产党员，请准许我去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董存瑞抱起炸药包，冲向暗堡，前进时左腿受伤，顽强坚持冲到桥下。由于桥型暗堡距地面超过身高，两头桥台又无法放置炸药包。危急关头，他迅速用左手托起炸药包，右手拉燃导火索，高喊：“为了新中国，冲啊！！”碉堡被炸毁了，董存瑞以自己的生命为部队开辟了前进的道路，胜利的红旗迎风飘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37f51931faaeaf3feac4af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9000" y="6324120"/>
            <a:ext cx="5029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朋友们，你们知道怎么系好红领巾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003124211918946u513"/>
          <p:cNvPicPr/>
          <p:nvPr/>
        </p:nvPicPr>
        <p:blipFill>
          <a:blip r:embed="rId2"/>
          <a:stretch/>
        </p:blipFill>
        <p:spPr>
          <a:xfrm>
            <a:off x="152280" y="5638680"/>
            <a:ext cx="110340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57200" y="83664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小窍门儿：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左尖儿压右尖儿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右尖绕一圈儿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圈儿里抽出尖儿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20060408234333935"/>
          <p:cNvPicPr/>
          <p:nvPr/>
        </p:nvPicPr>
        <p:blipFill>
          <a:blip r:embed="rId3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</cp:lastModifiedBy>
  <dcterms:modified xsi:type="dcterms:W3CDTF">2015-09-21T05:49:4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