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92C0-A5BC-4D4F-B45E-0E2DC278C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0FC9-2EC0-4D0E-BDE0-064C131F8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F4B0-B93D-4BF3-B9C7-FAB6B7BC7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360E-B36C-4C38-B739-665909DDB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4616-E879-46A3-96E5-1B7ECA0DD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204E-C655-4F09-B7F0-24B2E9994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6F5D-B3D0-4A0D-8FC5-AF11A925A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8A31-1236-46B2-9CB6-3D9F31912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D750-088B-4D53-938A-9B35EA930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155C-B688-487D-AF57-B5CB48C77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442F-8306-4F3A-B446-E8AE0F73D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4C6B-569D-4C47-ACF1-051D4C8A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FF455-B840-4625-BEB8-AD7585B0BA4D}" type="slidenum">
              <a:rPr b="0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2" descr="家1"/>
          <p:cNvPicPr/>
          <p:nvPr/>
        </p:nvPicPr>
        <p:blipFill>
          <a:blip r:embed="rId2"/>
          <a:stretch/>
        </p:blipFill>
        <p:spPr>
          <a:xfrm>
            <a:off x="0" y="695160"/>
            <a:ext cx="9144000" cy="5311800"/>
          </a:xfrm>
          <a:prstGeom prst="rect">
            <a:avLst/>
          </a:prstGeom>
          <a:ln w="0">
            <a:noFill/>
          </a:ln>
        </p:spPr>
      </p:pic>
      <p:sp>
        <p:nvSpPr>
          <p:cNvPr id="44" name="文本框 3"/>
          <p:cNvSpPr/>
          <p:nvPr/>
        </p:nvSpPr>
        <p:spPr>
          <a:xfrm>
            <a:off x="2287440" y="3753000"/>
            <a:ext cx="500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琥珀"/>
                <a:ea typeface="华文琥珀"/>
              </a:rPr>
              <a:t>一（</a:t>
            </a:r>
            <a:r>
              <a:rPr b="0" lang="en-US" sz="3600" spc="-1" strike="noStrike">
                <a:solidFill>
                  <a:srgbClr val="ff0000"/>
                </a:solidFill>
                <a:latin typeface="华文琥珀"/>
                <a:ea typeface="华文琥珀"/>
              </a:rPr>
              <a:t>4</a:t>
            </a:r>
            <a:r>
              <a:rPr b="0" lang="zh-CN" sz="3600" spc="-1" strike="noStrike">
                <a:solidFill>
                  <a:srgbClr val="ff0000"/>
                </a:solidFill>
                <a:latin typeface="华文琥珀"/>
                <a:ea typeface="华文琥珀"/>
              </a:rPr>
              <a:t>）中队家长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0-12T11:19:38Z</dcterms:created>
  <dc:creator>庄跃</dc:creator>
  <dc:description/>
  <dc:language>en-US</dc:language>
  <cp:lastModifiedBy>seewo</cp:lastModifiedBy>
  <dcterms:modified xsi:type="dcterms:W3CDTF">2020-10-13T07:48:16Z</dcterms:modified>
  <cp:revision>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10000</vt:lpwstr>
  </property>
</Properties>
</file>