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C2D-B73D-4508-B913-F6958B47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0F6-9252-4A7C-A19A-FEB54A82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565-C001-4E7D-9437-E8B450D3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00E-181D-454B-BFAD-70DC6601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4EE-5DE0-46F5-95DE-28FF1A8D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836-96F1-4AD1-BAD7-F7D8D26D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A0C-8083-470E-A4A9-08E79AEA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A334-B2AD-4B75-ACCD-04C50107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3F81-45AA-4BAA-A8C4-AB1D0339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432-2910-4D20-A032-6E0E8AD0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CF2-FBF8-43F8-8C2B-46A58406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7E3-F945-46A9-BF81-359CF85D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1FCD-E71F-41BE-ADDD-323E1F0710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3000240" y="4098960"/>
            <a:ext cx="500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一（</a:t>
            </a:r>
            <a:r>
              <a:rPr b="0" lang="en-US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3</a:t>
            </a:r>
            <a:r>
              <a:rPr b="0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）中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2T11:19:38Z</dcterms:created>
  <dc:creator>庄跃</dc:creator>
  <dc:description/>
  <dc:language>en-US</dc:language>
  <cp:lastModifiedBy>air14</cp:lastModifiedBy>
  <dcterms:modified xsi:type="dcterms:W3CDTF">2020-10-12T11:26:5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000</vt:lpwstr>
  </property>
</Properties>
</file>