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902F-4973-46C2-8B4D-7F452B0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179C-8C9B-4ACA-8DC1-D3655D94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6519-C6CA-4CEE-8676-8F78734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C9F2-2405-4523-A02A-CDD6250C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5409-AE33-4AEA-923C-800EA4D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F694-A4F4-4C2A-B637-C620C1F7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EAEB-E57F-4135-BBC4-6043955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80B6-BDAF-4C1A-8142-FDD940CF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36C5-8BA6-4460-879B-3AD3FA56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633D-320A-44B7-8155-B38FDA29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F577-3922-4ABD-9E57-9AA2C47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67EE-427B-4DDD-A0E1-1F79C7A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78066-475A-4EC7-9BAF-D49A039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D224-8FC3-4626-BBCF-A217AED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9C11-89EC-45DF-9254-AD8DEC2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D3E7-7B0F-40BD-B3E2-3DC2D7B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A509-B995-4B8F-9B66-1927CF2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D6A3-DBFC-4EC8-B796-EBC7697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4E035-BC0D-4A64-8E13-45CDAA4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4469-A542-4950-BDB9-489F06B7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4C84-9370-4821-A281-778F6B5E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EE04-3E56-4789-99E9-CF090A88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5E4F-F000-455E-A734-87C3C28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586C-8264-4072-A41E-F37D2B16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3028A-66D8-4BE7-B2BF-47432E91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B5ED-D986-45F7-94C4-D503FB9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BA17-16BA-4027-B3E9-778EC66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8FE3-BC60-4F71-A320-6F46EE6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C33F-2C42-49A2-ABCA-965C226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5E4C-1EC8-4234-B89F-8BE9F2A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406F6-F030-40E2-8873-72772DC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6B06C-B88B-4CEE-8C3A-FBBFF7C8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6F32-ED61-46C8-80FE-C8C15810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EDF8-578C-42CE-A48F-B849B22B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0D0F2-963A-4B7E-8A3A-C7DFC28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EACE-3F21-4EEA-B045-1259CDF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DE52-A12C-43FC-9EFC-5E7CD4B6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9505-1FE3-4954-AC78-2C77FF2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14D5-9805-4CDD-B767-68D45880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2A93-8AE2-4C51-95A5-C38B71C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BCBE5-A63B-4DA1-A868-2B2543B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D6ACB-CACC-420E-AA6F-D4F471A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5F2E-3190-46A7-BC8E-81FBC764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6FB0-C0DF-4528-9121-4411B6B3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A29EA-8D18-47FA-83F7-13682E0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6220B-61AD-4383-A662-48D82C9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C0D2-9EC3-4AB6-9FEC-A3BAB7D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B766-88DB-4ABC-A058-2F7634D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4EE00-6C70-467C-9420-38A0C76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88C9-8B9A-4E0D-94CA-81FB6C4C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E8B9-FE8E-4D38-B653-3D03AE6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7DFF-DBD6-461F-A9F2-D84FEC7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D12E-7FA2-4A7F-9DB7-DD01CF3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0D8B-C57D-400B-8969-F417519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4C92F-3193-4586-BBF4-2BAA312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1198-A913-445B-AB6E-F7826523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B9AF-A4F5-4C2D-9B6B-53405E0E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A9C36-85B7-48A6-A501-62F21C12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1468A-3FAC-480C-AD94-5F01A7B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CED5F-5FFF-43B6-A930-24F5B897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655E9-BCA7-4109-B81A-22FBFC7C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F587D-8F65-44B9-A3A8-E63CDB9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A4BF-500A-47C0-A355-AC77FF9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E4B2-55C0-4734-9A4D-7F9A055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1C78-CDAB-4BBE-BA9E-7FE0A61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2F6A0-D9CB-46D7-95BF-92CB253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F2812-6D4A-48B2-BCE3-D217186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F0675-5D62-40AF-A972-68764BB1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9854C-3018-46F1-8693-00C1AA42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0889F-F485-4289-9D99-5074CC62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CD3AD-1CE6-4ADA-8226-BC48DC4F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3A6DD-DCB0-42C9-B3E5-3D0D9B9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0530-008E-41FA-A9FD-F6467E7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8967-5788-41F2-8B37-8091DA11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B9B5-3ED4-41E6-B7C7-1D6E9A83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D5705-CF76-419B-9C48-E295B3F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AD43F-5A2A-41DB-8CAE-2AB74E3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7F759-10EC-41E6-B0FA-BDE741D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D6D07-E69C-4910-9664-F7BA7F34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607F8-ED09-4E7D-B321-8D0C1577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F21D0-A310-4AE8-B22A-1D985FC9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22059-091D-4394-94D1-37211A6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323F-EB4D-425A-8BCE-44F1C9D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5D582-3A6F-406D-A5E3-83C6A4C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78FA8-47F5-48DB-A56E-866DED7F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14071-6449-4D1E-A743-D715B06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9660-A89C-4E14-8F00-0E137201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B6F7B-23E9-4C22-80C4-2575410F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F4BF3-8859-42BE-A671-804D282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2593E-391B-49D6-AF02-8B6BA7F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8A433-EBF5-4D4A-AFDA-DA697E6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A29CE-4605-49B3-8BE4-C1223B9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ABF8-C3F9-4A64-87F8-D10112A6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54F00-D70D-485C-AF51-CB3C0C59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639E1-5E22-4A3E-A320-98E9C37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FAE68-8626-4296-B008-4DA5BCC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66C65-87E7-4BBD-92BA-86E984A3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4D897-63FD-434D-969B-738BA77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FD279-08F8-4E08-B2F3-0263F758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2AB0D-51BC-465D-9E4F-1982B8ED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5A80D-8501-47C8-9802-1434474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22A64-A219-4B78-9066-273534D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45F7A-8D17-495E-AF48-13DBFB6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B8FBB-5D47-40BC-B70B-7D3917F4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1D4E1-2AF7-44E8-B3B2-5DAFA4E7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B2C88-ADDD-47EB-B7C0-3BF747FD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BB0B0-E538-49BC-9090-7A03778B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200B0-D18C-4654-A370-D8418A34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3993E-599C-444F-8D48-BC595A3A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B7A33-B777-47CA-BB3A-436774F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A98D4-6793-41B5-95ED-2B38446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F0443-F714-4C77-A228-48A66A7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1E2A1-70F8-4F43-921C-7263BBE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DD599-3421-45B9-AFF9-CD53FA1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3D22D-2F38-4256-82D7-DD7600E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D9CE6-E749-4024-9979-E98C7507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EAD79-D7F6-49EB-B1E0-B631759C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4EB29-A3CC-4275-9936-7222FD66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577BC-799D-4CEC-AFE3-44F46DD2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5B961-1611-4CFA-A995-DD4B1EF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68903-68E6-4E65-B951-A36F3CAD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F634F-7AD6-4D2B-A7AB-F54A239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91A08-0081-4725-87EB-65DF9F0A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98789-9CA4-4FD8-87CD-6665B2A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8E78B-EFE1-4415-A9C9-9D38BD2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9CA05-1C0F-46AA-AE60-E1F8ED6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46408-BCCF-4CF3-B8F4-CD75C89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D3ED5-5016-42FD-9C3F-C69AD262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846C8-8FB9-4B2D-99FB-01A76339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89A-17E6-429F-A702-F28EA9F5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5B5-3079-4515-B2A6-C0A5014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64C-7F37-41A0-ADDB-1E326361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D80-22AB-459E-883D-BE30F5B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98F-6408-482A-B2C6-25F2BA1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B43-B125-4DEE-B52C-5D59EA2A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7C0-7D6A-4BDA-89F1-BC10C956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4AC-CAF7-4A73-BCD5-B48C785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64F-A7D4-48DE-A756-4E05AA6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C03-C95F-4C4C-8332-BAC734F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8D6-CA2E-446D-9A5F-22755DF1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8FD-FCAF-4537-86BA-4005B7A2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632-CE5B-4A24-84E0-BDB9CE7A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69D-3234-40D0-8ABB-2D1B5E9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D67B-0597-4550-8E33-1AF36E44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CF08-2D82-4762-B3B2-4BD8B3E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37E-B0AE-4270-8E5F-4D33FE3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BC6-6FAC-435B-B475-2732BC9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344C-BD8F-472D-AD79-CC70458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935-A8C4-45B5-AF56-3B1B2A6D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1EA6-67AE-46F0-9E1E-0F366D7A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D62-89C0-401A-B1B1-25CE571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92C-8877-4E45-BEF2-BC12677B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78A6-6CAB-4C3E-9A23-31FBBD1D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8CA0-92BB-4374-A3B7-EF17BFD6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3706-04F4-4659-963D-DD30EEA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95EF-23D5-4EB7-BCEC-EB4C464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69C9-ADC7-49F3-A447-97360EFB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B49C-4704-4170-B458-0257DB1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1AC2-957B-4714-A811-DAF21976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65A6-5E59-46B2-B6E2-D2B9A22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AA1D-9209-490D-B495-AE76A45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1FBE-6AA4-44FD-88C4-F94DB436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038B-8EB4-4443-BE2B-EAA15209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804B-F63A-4ECB-99F6-FE91CEBF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7BFE-3812-4E49-89E1-41E9897C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606C-8243-47EC-9D86-2B1611F9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98E3-4BBF-42C8-9762-124F6C3F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8BC3-C4D3-49BA-BED9-1987F0D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41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图片 1039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428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432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437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441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448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6B4-C864-4D01-AB99-80C5BD5943B7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3896-A471-4613-B683-D58872F1708B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274D-0980-4660-BCCF-289AE7398CA1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9250-6734-445E-88B3-601F69354F8E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61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61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624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627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631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903-1F8C-49F5-856B-17D11013CB5B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679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683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689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693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CB4-E991-4888-A0D5-8D899664DBCA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742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746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751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755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762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E49D-05E8-4653-88F8-C9BE9731506C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C659-C29E-42E0-9D92-B6D0B3872249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CBA-3039-4B48-8B3F-B036F7D1A08A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B36-35D6-4767-8566-D6586E619D99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041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39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041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039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041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39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041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39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20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20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56D-A1BB-42FC-B2AB-A27FD6A2D026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25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25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EE8-EF13-4345-BAC8-7F02D45AC733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30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30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310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313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317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8A1-383E-489A-8C86-C82611AD1CC8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36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36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375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379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342-8EAE-49B0-AF73-E3D15D0FFA05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文本框 1"/>
          <p:cNvSpPr/>
          <p:nvPr/>
        </p:nvSpPr>
        <p:spPr>
          <a:xfrm>
            <a:off x="6480" y="4022640"/>
            <a:ext cx="9102600" cy="1568520"/>
          </a:xfrm>
          <a:prstGeom prst="rect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1"/>
          <p:cNvSpPr/>
          <p:nvPr/>
        </p:nvSpPr>
        <p:spPr>
          <a:xfrm>
            <a:off x="1876320" y="5022720"/>
            <a:ext cx="539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2"/>
          <p:cNvSpPr/>
          <p:nvPr/>
        </p:nvSpPr>
        <p:spPr>
          <a:xfrm>
            <a:off x="2232000" y="42148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9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精神的三间小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矩形 101378"/>
          <p:cNvSpPr/>
          <p:nvPr/>
        </p:nvSpPr>
        <p:spPr>
          <a:xfrm>
            <a:off x="385920" y="1495440"/>
            <a:ext cx="8221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细读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部分可以分为两层，说说两个层次之间的联系，以及第一部分在全文中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组合 101381"/>
          <p:cNvGrpSpPr/>
          <p:nvPr/>
        </p:nvGrpSpPr>
        <p:grpSpPr>
          <a:xfrm>
            <a:off x="65160" y="426960"/>
            <a:ext cx="2319120" cy="700200"/>
            <a:chOff x="65160" y="426960"/>
            <a:chExt cx="2319120" cy="700200"/>
          </a:xfrm>
        </p:grpSpPr>
        <p:pic>
          <p:nvPicPr>
            <p:cNvPr id="974" name="图片 101382" descr="未标题-1"/>
            <p:cNvPicPr/>
            <p:nvPr/>
          </p:nvPicPr>
          <p:blipFill>
            <a:blip r:embed="rId1"/>
            <a:stretch/>
          </p:blipFill>
          <p:spPr>
            <a:xfrm>
              <a:off x="65160" y="4269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文本框 2"/>
            <p:cNvSpPr/>
            <p:nvPr/>
          </p:nvSpPr>
          <p:spPr>
            <a:xfrm>
              <a:off x="601560" y="503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矩形 1"/>
          <p:cNvSpPr/>
          <p:nvPr/>
        </p:nvSpPr>
        <p:spPr>
          <a:xfrm>
            <a:off x="385920" y="3753000"/>
            <a:ext cx="82216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1—3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段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写作者对两句名言的感慨与思考。由使用空间概念描述人的心灵引出“那容心之所，该有怎样的面积和布置”，引发读者思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矩形 101379"/>
          <p:cNvSpPr/>
          <p:nvPr/>
        </p:nvSpPr>
        <p:spPr>
          <a:xfrm>
            <a:off x="441360" y="1569960"/>
            <a:ext cx="817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—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段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紧承前文内容，由身体活动的空间引出对人心灵活动的空间的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101379"/>
          <p:cNvSpPr/>
          <p:nvPr/>
        </p:nvSpPr>
        <p:spPr>
          <a:xfrm>
            <a:off x="441360" y="3621240"/>
            <a:ext cx="81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关系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层层深入，这一部分引出下文对“为自己的精神修建三间小屋”的论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矩形 103426"/>
          <p:cNvSpPr/>
          <p:nvPr/>
        </p:nvSpPr>
        <p:spPr>
          <a:xfrm>
            <a:off x="331920" y="16700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认为应修建三间精神小屋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103427"/>
          <p:cNvSpPr/>
          <p:nvPr/>
        </p:nvSpPr>
        <p:spPr>
          <a:xfrm>
            <a:off x="538200" y="2879640"/>
            <a:ext cx="80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给精神建立栖息地，使人健康、美丽、庄严、伟大、真诚、完满、永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矩形 101378"/>
          <p:cNvSpPr/>
          <p:nvPr/>
        </p:nvSpPr>
        <p:spPr>
          <a:xfrm>
            <a:off x="385920" y="1158840"/>
            <a:ext cx="8221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细读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间小屋中有爱也有恨了，作者希望我们如何处理它们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1"/>
          <p:cNvSpPr/>
          <p:nvPr/>
        </p:nvSpPr>
        <p:spPr>
          <a:xfrm>
            <a:off x="1393920" y="3726000"/>
            <a:ext cx="6207120" cy="581400"/>
          </a:xfrm>
          <a:prstGeom prst="rect">
            <a:avLst/>
          </a:prstGeom>
          <a:solidFill>
            <a:srgbClr val="5b9bd5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常打扫，给爱留下足够的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Box 1"/>
          <p:cNvSpPr/>
          <p:nvPr/>
        </p:nvSpPr>
        <p:spPr>
          <a:xfrm>
            <a:off x="438120" y="141912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何才能让第二间精神小屋坚固优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文本框 1"/>
          <p:cNvSpPr/>
          <p:nvPr/>
        </p:nvSpPr>
        <p:spPr>
          <a:xfrm>
            <a:off x="628560" y="2490840"/>
            <a:ext cx="44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事业心，选择自己适合和爱好的事业，建设努力向上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图片 2" descr=""/>
          <p:cNvPicPr/>
          <p:nvPr/>
        </p:nvPicPr>
        <p:blipFill>
          <a:blip r:embed="rId1"/>
          <a:stretch/>
        </p:blipFill>
        <p:spPr>
          <a:xfrm>
            <a:off x="5432400" y="2295360"/>
            <a:ext cx="2559240" cy="34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矩形 108546"/>
          <p:cNvSpPr/>
          <p:nvPr/>
        </p:nvSpPr>
        <p:spPr>
          <a:xfrm>
            <a:off x="536400" y="1263600"/>
            <a:ext cx="807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理解“否则，鸠占鹊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得安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组合 8"/>
          <p:cNvGrpSpPr/>
          <p:nvPr/>
        </p:nvGrpSpPr>
        <p:grpSpPr>
          <a:xfrm>
            <a:off x="428760" y="2854440"/>
            <a:ext cx="7941600" cy="2287440"/>
            <a:chOff x="428760" y="2854440"/>
            <a:chExt cx="7941600" cy="2287440"/>
          </a:xfrm>
        </p:grpSpPr>
        <p:sp>
          <p:nvSpPr>
            <p:cNvPr id="988" name="文本框 1"/>
            <p:cNvSpPr/>
            <p:nvPr/>
          </p:nvSpPr>
          <p:spPr>
            <a:xfrm>
              <a:off x="428760" y="2854440"/>
              <a:ext cx="32097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鹊”指的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鸠”指的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鸠占鹊巢”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直接连接符 2"/>
            <p:cNvSpPr/>
            <p:nvPr/>
          </p:nvSpPr>
          <p:spPr>
            <a:xfrm>
              <a:off x="3444840" y="3509640"/>
              <a:ext cx="399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直接连接符 3"/>
            <p:cNvSpPr/>
            <p:nvPr/>
          </p:nvSpPr>
          <p:spPr>
            <a:xfrm>
              <a:off x="3444840" y="4271400"/>
              <a:ext cx="399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直接连接符 4"/>
            <p:cNvSpPr/>
            <p:nvPr/>
          </p:nvSpPr>
          <p:spPr>
            <a:xfrm>
              <a:off x="3444840" y="5016240"/>
              <a:ext cx="492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文本框 5"/>
          <p:cNvSpPr/>
          <p:nvPr/>
        </p:nvSpPr>
        <p:spPr>
          <a:xfrm>
            <a:off x="4284720" y="298944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事业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6"/>
          <p:cNvSpPr/>
          <p:nvPr/>
        </p:nvSpPr>
        <p:spPr>
          <a:xfrm>
            <a:off x="3446640" y="375120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事业之外的赘生物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7"/>
          <p:cNvSpPr/>
          <p:nvPr/>
        </p:nvSpPr>
        <p:spPr>
          <a:xfrm>
            <a:off x="3446640" y="4494240"/>
            <a:ext cx="47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赘生物取代了事业的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2" descr="图片4"/>
          <p:cNvPicPr/>
          <p:nvPr/>
        </p:nvPicPr>
        <p:blipFill>
          <a:blip r:embed="rId1"/>
          <a:stretch/>
        </p:blipFill>
        <p:spPr>
          <a:xfrm>
            <a:off x="7093080" y="4968720"/>
            <a:ext cx="1312560" cy="1311480"/>
          </a:xfrm>
          <a:prstGeom prst="rect">
            <a:avLst/>
          </a:prstGeom>
          <a:ln w="0">
            <a:noFill/>
          </a:ln>
        </p:spPr>
      </p:pic>
      <p:sp>
        <p:nvSpPr>
          <p:cNvPr id="996" name="云形标注 3"/>
          <p:cNvSpPr/>
          <p:nvPr/>
        </p:nvSpPr>
        <p:spPr>
          <a:xfrm>
            <a:off x="388800" y="741240"/>
            <a:ext cx="6939000" cy="3848400"/>
          </a:xfrm>
          <a:prstGeom prst="cloudCallout">
            <a:avLst>
              <a:gd name="adj1" fmla="val 44361"/>
              <a:gd name="adj2" fmla="val 61537"/>
            </a:avLst>
          </a:prstGeom>
          <a:solidFill>
            <a:srgbClr val="5b9bd5">
              <a:alpha val="7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sz="3000" spc="-1" strike="noStrike">
                <a:solidFill>
                  <a:srgbClr val="000000"/>
                </a:solidFill>
                <a:latin typeface="黑体"/>
                <a:ea typeface="黑体"/>
              </a:rPr>
              <a:t>写第三间小屋时作者为什么说“在我们的小屋里，住着所有我们认识的人，唯独没有我们自己”</a:t>
            </a:r>
            <a:r>
              <a:rPr b="1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文本框 1"/>
          <p:cNvSpPr/>
          <p:nvPr/>
        </p:nvSpPr>
        <p:spPr>
          <a:xfrm>
            <a:off x="517680" y="798480"/>
            <a:ext cx="810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是一个信息高度发达的社会，我们能从不同渠道接受各种纷繁复杂的信息，有的人渐渐就被这个信息社会所同化了，常常随波逐流，用他人的观点来肯定事物的价值，常常以为众人所追求的就是他们自己想要的。于是别人的思想、外在的信息代替了他们自己的思想，使自己成为缺乏思想和思考的人，所以说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唯独没有我们自己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8546"/>
          <p:cNvSpPr/>
          <p:nvPr/>
        </p:nvSpPr>
        <p:spPr>
          <a:xfrm>
            <a:off x="477720" y="1219320"/>
            <a:ext cx="8072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认为在第三间精神小屋中应该怎样“安放我们自身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08546"/>
          <p:cNvSpPr/>
          <p:nvPr/>
        </p:nvSpPr>
        <p:spPr>
          <a:xfrm>
            <a:off x="477720" y="3922560"/>
            <a:ext cx="8072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你结合日常生活，说说你是否尝试过如此构建“精神的三间小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08546"/>
          <p:cNvSpPr/>
          <p:nvPr/>
        </p:nvSpPr>
        <p:spPr>
          <a:xfrm>
            <a:off x="974880" y="2865600"/>
            <a:ext cx="71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安放自身需要思考，拥有独立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108546"/>
          <p:cNvSpPr/>
          <p:nvPr/>
        </p:nvSpPr>
        <p:spPr>
          <a:xfrm>
            <a:off x="331920" y="1182600"/>
            <a:ext cx="829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你的理解，谈谈“精神的三间小屋”之间的内在联系，并分析作者是按照怎样的顺序来写这三间小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rcRect l="0" t="3554" r="0" b="6388"/>
          <a:stretch/>
        </p:blipFill>
        <p:spPr>
          <a:xfrm>
            <a:off x="2593800" y="3666960"/>
            <a:ext cx="39564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文本框 4"/>
          <p:cNvSpPr/>
          <p:nvPr/>
        </p:nvSpPr>
        <p:spPr>
          <a:xfrm>
            <a:off x="357120" y="1593720"/>
            <a:ext cx="830916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理解“精神的三间小屋”的深刻内涵及其给予的生活启示。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本文的写作技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品味文章具有的独特美学风范的语言，关注自身心灵，提升精神境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组合 9234"/>
          <p:cNvGrpSpPr/>
          <p:nvPr/>
        </p:nvGrpSpPr>
        <p:grpSpPr>
          <a:xfrm>
            <a:off x="65160" y="399960"/>
            <a:ext cx="2319120" cy="700200"/>
            <a:chOff x="65160" y="399960"/>
            <a:chExt cx="2319120" cy="700200"/>
          </a:xfrm>
        </p:grpSpPr>
        <p:pic>
          <p:nvPicPr>
            <p:cNvPr id="933" name="图片 9233" descr="未标题-1"/>
            <p:cNvPicPr/>
            <p:nvPr/>
          </p:nvPicPr>
          <p:blipFill>
            <a:blip r:embed="rId1"/>
            <a:stretch/>
          </p:blipFill>
          <p:spPr>
            <a:xfrm>
              <a:off x="65160" y="3999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文本框 2"/>
            <p:cNvSpPr/>
            <p:nvPr/>
          </p:nvSpPr>
          <p:spPr>
            <a:xfrm>
              <a:off x="601560" y="476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矩形 922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92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文本框 1"/>
          <p:cNvSpPr/>
          <p:nvPr/>
        </p:nvSpPr>
        <p:spPr>
          <a:xfrm>
            <a:off x="517680" y="852480"/>
            <a:ext cx="810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间小屋是一个整体，其中盛放我们自身的小屋是根本，是心灵大厦的基础，我们只有拥有自己的主见，才能明确自己所爱和所憎恨的，才懂得什么样的事业能带给我们真正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是按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层层深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顺序来写这三间小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矩形 101378"/>
          <p:cNvSpPr/>
          <p:nvPr/>
        </p:nvSpPr>
        <p:spPr>
          <a:xfrm>
            <a:off x="511200" y="1403280"/>
            <a:ext cx="70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细读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段，概括这两段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1"/>
          <p:cNvSpPr/>
          <p:nvPr/>
        </p:nvSpPr>
        <p:spPr>
          <a:xfrm>
            <a:off x="511200" y="2502000"/>
            <a:ext cx="812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结全文，指出建立精神栖息地是我们的义务和权利，向人们提出扩大精神空间的建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113668"/>
          <p:cNvSpPr/>
          <p:nvPr/>
        </p:nvSpPr>
        <p:spPr>
          <a:xfrm>
            <a:off x="428760" y="1528920"/>
            <a:ext cx="8086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在语言上具有怎样的特点？请做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109573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1008" name="图片 109574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品味语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矩形 113668"/>
          <p:cNvSpPr/>
          <p:nvPr/>
        </p:nvSpPr>
        <p:spPr>
          <a:xfrm>
            <a:off x="428760" y="303372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本虽然为说理文，但是巧用比喻、拟人等修辞，说理形象，文辞优美，增添了文章的美感和可读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108546"/>
          <p:cNvSpPr/>
          <p:nvPr/>
        </p:nvSpPr>
        <p:spPr>
          <a:xfrm>
            <a:off x="495360" y="1536840"/>
            <a:ext cx="801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“如果想重温祥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天窗洒入”一句，以“精神垃圾”指心中的恨以及不健康的情感；以“重塑你的精神天花板”指除掉那些不健康的情感，让关心、爱等健康的情感驻足心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13668"/>
          <p:cNvSpPr/>
          <p:nvPr/>
        </p:nvSpPr>
        <p:spPr>
          <a:xfrm>
            <a:off x="609480" y="1382760"/>
            <a:ext cx="39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语言富有哲理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113668"/>
          <p:cNvSpPr/>
          <p:nvPr/>
        </p:nvSpPr>
        <p:spPr>
          <a:xfrm>
            <a:off x="609480" y="2343240"/>
            <a:ext cx="780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“安放我们自身”“给爱留下足够的容量”等句子具有深刻的哲理意味，都是对人生的高度审视，越读越妙，越品越见文章的深刻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矩形 113668"/>
          <p:cNvSpPr/>
          <p:nvPr/>
        </p:nvSpPr>
        <p:spPr>
          <a:xfrm>
            <a:off x="330120" y="1428840"/>
            <a:ext cx="8185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说下面一段话运用了哪种论证方法，请做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13668"/>
          <p:cNvSpPr/>
          <p:nvPr/>
        </p:nvSpPr>
        <p:spPr>
          <a:xfrm>
            <a:off x="428760" y="3106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假若爱比恨多，小屋就光明温暖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你的精神悲戚压抑，形销骨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矩形 108546"/>
          <p:cNvSpPr/>
          <p:nvPr/>
        </p:nvSpPr>
        <p:spPr>
          <a:xfrm>
            <a:off x="574560" y="146988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比论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法，把心中充满爱和心中恨比爱多两种内心世界进行对比，突出了两种内心世界所带来的截然不同的精神生活，一个快乐无比，一个悲戚压抑，给人以警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组合 109573"/>
          <p:cNvGrpSpPr/>
          <p:nvPr/>
        </p:nvGrpSpPr>
        <p:grpSpPr>
          <a:xfrm>
            <a:off x="55440" y="409680"/>
            <a:ext cx="2319120" cy="699840"/>
            <a:chOff x="55440" y="409680"/>
            <a:chExt cx="2319120" cy="699840"/>
          </a:xfrm>
        </p:grpSpPr>
        <p:pic>
          <p:nvPicPr>
            <p:cNvPr id="1018" name="图片 109574" descr="未标题-1"/>
            <p:cNvPicPr/>
            <p:nvPr/>
          </p:nvPicPr>
          <p:blipFill>
            <a:blip r:embed="rId1"/>
            <a:stretch/>
          </p:blipFill>
          <p:spPr>
            <a:xfrm>
              <a:off x="55440" y="40968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文本框 2"/>
            <p:cNvSpPr/>
            <p:nvPr/>
          </p:nvSpPr>
          <p:spPr>
            <a:xfrm>
              <a:off x="591840" y="4856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文本框 6"/>
          <p:cNvSpPr/>
          <p:nvPr/>
        </p:nvSpPr>
        <p:spPr>
          <a:xfrm>
            <a:off x="569880" y="1311120"/>
            <a:ext cx="80042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构思新颖独特。以三间小屋为载体，阐述了精神追求的内涵及其意义，激励人们关注自己的心灵，提升精神境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是一篇融议论、描写、抒情于一体的说理性散文，通过对精神的三间小屋的描写、阐述，表现了关注个性、关注自我、关注人的精神生活的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13668"/>
          <p:cNvSpPr/>
          <p:nvPr/>
        </p:nvSpPr>
        <p:spPr>
          <a:xfrm>
            <a:off x="352440" y="2098800"/>
            <a:ext cx="6080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精神的三间小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109573"/>
          <p:cNvGrpSpPr/>
          <p:nvPr/>
        </p:nvGrpSpPr>
        <p:grpSpPr>
          <a:xfrm>
            <a:off x="55440" y="409680"/>
            <a:ext cx="2319120" cy="699840"/>
            <a:chOff x="55440" y="409680"/>
            <a:chExt cx="2319120" cy="699840"/>
          </a:xfrm>
        </p:grpSpPr>
        <p:pic>
          <p:nvPicPr>
            <p:cNvPr id="1023" name="图片 109574" descr="未标题-1"/>
            <p:cNvPicPr/>
            <p:nvPr/>
          </p:nvPicPr>
          <p:blipFill>
            <a:blip r:embed="rId1"/>
            <a:stretch/>
          </p:blipFill>
          <p:spPr>
            <a:xfrm>
              <a:off x="55440" y="40968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文本框 2"/>
            <p:cNvSpPr/>
            <p:nvPr/>
          </p:nvSpPr>
          <p:spPr>
            <a:xfrm>
              <a:off x="591840" y="4856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文本框 4"/>
          <p:cNvSpPr/>
          <p:nvPr/>
        </p:nvSpPr>
        <p:spPr>
          <a:xfrm>
            <a:off x="1225440" y="167940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爱和恨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打扫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给爱留下足够的容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8"/>
          <p:cNvSpPr/>
          <p:nvPr/>
        </p:nvSpPr>
        <p:spPr>
          <a:xfrm>
            <a:off x="7664400" y="2790720"/>
            <a:ext cx="95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撑起精神世界大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左大括号 18"/>
          <p:cNvSpPr/>
          <p:nvPr/>
        </p:nvSpPr>
        <p:spPr>
          <a:xfrm>
            <a:off x="1031760" y="1803240"/>
            <a:ext cx="193680" cy="3789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5040 h 3789360"/>
              <a:gd name="textAreaBottom" fmla="*/ 3784320 h 37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08"/>
                </a:lnTo>
                <a:cubicBezTo>
                  <a:pt x="10800" y="10754"/>
                  <a:pt x="5400" y="10800"/>
                  <a:pt x="0" y="10800"/>
                </a:cubicBezTo>
                <a:cubicBezTo>
                  <a:pt x="5400" y="10800"/>
                  <a:pt x="10800" y="10846"/>
                  <a:pt x="10800" y="1089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右大括号 21"/>
          <p:cNvSpPr/>
          <p:nvPr/>
        </p:nvSpPr>
        <p:spPr>
          <a:xfrm>
            <a:off x="7483320" y="1838160"/>
            <a:ext cx="181080" cy="3754440"/>
          </a:xfrm>
          <a:custGeom>
            <a:avLst/>
            <a:gdLst>
              <a:gd name="textAreaLeft" fmla="*/ 0 w 181080"/>
              <a:gd name="textAreaRight" fmla="*/ 65520 w 181080"/>
              <a:gd name="textAreaTop" fmla="*/ 4680 h 3754440"/>
              <a:gd name="textAreaBottom" fmla="*/ 3749760 h 375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7"/>
                </a:cubicBezTo>
                <a:lnTo>
                  <a:pt x="10800" y="10713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4"/>
                  <a:pt x="10800" y="10887"/>
                </a:cubicBezTo>
                <a:lnTo>
                  <a:pt x="10800" y="21513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1"/>
          <p:cNvSpPr/>
          <p:nvPr/>
        </p:nvSpPr>
        <p:spPr>
          <a:xfrm>
            <a:off x="1225440" y="2639880"/>
            <a:ext cx="63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事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自我寻找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选择自己适合和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好的事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2"/>
          <p:cNvSpPr/>
          <p:nvPr/>
        </p:nvSpPr>
        <p:spPr>
          <a:xfrm>
            <a:off x="1225440" y="4476600"/>
            <a:ext cx="54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自身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拥有独立的思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3"/>
          <p:cNvSpPr/>
          <p:nvPr/>
        </p:nvSpPr>
        <p:spPr>
          <a:xfrm>
            <a:off x="2058840" y="5130720"/>
            <a:ext cx="402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宋体"/>
              </a:rPr>
              <a:t>（庄严、真诚的小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9"/>
          <p:cNvSpPr/>
          <p:nvPr/>
        </p:nvSpPr>
        <p:spPr>
          <a:xfrm>
            <a:off x="2058840" y="373536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宋体"/>
              </a:rPr>
              <a:t>（努力向上的小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Text Box 4" descr=""/>
          <p:cNvPicPr/>
          <p:nvPr/>
        </p:nvPicPr>
        <p:blipFill>
          <a:blip r:embed="rId1"/>
          <a:stretch/>
        </p:blipFill>
        <p:spPr>
          <a:xfrm>
            <a:off x="2822400" y="1566720"/>
            <a:ext cx="3499200" cy="567000"/>
          </a:xfrm>
          <a:prstGeom prst="rect">
            <a:avLst/>
          </a:prstGeom>
          <a:ln w="0">
            <a:noFill/>
          </a:ln>
        </p:spPr>
      </p:pic>
      <p:grpSp>
        <p:nvGrpSpPr>
          <p:cNvPr id="938" name="组合 88070"/>
          <p:cNvGrpSpPr/>
          <p:nvPr/>
        </p:nvGrpSpPr>
        <p:grpSpPr>
          <a:xfrm>
            <a:off x="65160" y="419040"/>
            <a:ext cx="2319120" cy="700200"/>
            <a:chOff x="65160" y="419040"/>
            <a:chExt cx="2319120" cy="700200"/>
          </a:xfrm>
        </p:grpSpPr>
        <p:pic>
          <p:nvPicPr>
            <p:cNvPr id="939" name="图片 88071" descr="未标题-1"/>
            <p:cNvPicPr/>
            <p:nvPr/>
          </p:nvPicPr>
          <p:blipFill>
            <a:blip r:embed="rId2"/>
            <a:stretch/>
          </p:blipFill>
          <p:spPr>
            <a:xfrm>
              <a:off x="6516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文本框 2"/>
            <p:cNvSpPr/>
            <p:nvPr/>
          </p:nvSpPr>
          <p:spPr>
            <a:xfrm>
              <a:off x="60156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矩形 92171"/>
          <p:cNvSpPr/>
          <p:nvPr/>
        </p:nvSpPr>
        <p:spPr>
          <a:xfrm>
            <a:off x="303120" y="2462040"/>
            <a:ext cx="8374320" cy="779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步入丛林，因为我希望生活得有意义，我希望活的深刻，并汲取生命中所有的精华。然后从中学习，以免让我在生命终结时，却发现自己从来没有活过。      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梭罗《瓦尔登湖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1" descr=""/>
          <p:cNvPicPr/>
          <p:nvPr/>
        </p:nvPicPr>
        <p:blipFill>
          <a:blip r:embed="rId1"/>
          <a:stretch/>
        </p:blipFill>
        <p:spPr>
          <a:xfrm>
            <a:off x="6184800" y="2921040"/>
            <a:ext cx="2411640" cy="3583080"/>
          </a:xfrm>
          <a:prstGeom prst="rect">
            <a:avLst/>
          </a:prstGeom>
          <a:ln w="0">
            <a:noFill/>
          </a:ln>
        </p:spPr>
      </p:pic>
      <p:sp>
        <p:nvSpPr>
          <p:cNvPr id="943" name="矩形 92171"/>
          <p:cNvSpPr/>
          <p:nvPr/>
        </p:nvSpPr>
        <p:spPr>
          <a:xfrm>
            <a:off x="476280" y="1454040"/>
            <a:ext cx="7993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【毕淑敏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5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月出生于新疆伊宁，中共党员，国家一级作家。著有《毕淑敏文集》十二卷，长篇小说《红处方》《血玲珑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组合 92173"/>
          <p:cNvGrpSpPr/>
          <p:nvPr/>
        </p:nvGrpSpPr>
        <p:grpSpPr>
          <a:xfrm>
            <a:off x="74520" y="436680"/>
            <a:ext cx="2319120" cy="699840"/>
            <a:chOff x="74520" y="436680"/>
            <a:chExt cx="2319120" cy="699840"/>
          </a:xfrm>
        </p:grpSpPr>
        <p:pic>
          <p:nvPicPr>
            <p:cNvPr id="945" name="图片 92174" descr="未标题-1"/>
            <p:cNvPicPr/>
            <p:nvPr/>
          </p:nvPicPr>
          <p:blipFill>
            <a:blip r:embed="rId2"/>
            <a:stretch/>
          </p:blipFill>
          <p:spPr>
            <a:xfrm>
              <a:off x="74520" y="43668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文本框 2"/>
            <p:cNvSpPr/>
            <p:nvPr/>
          </p:nvSpPr>
          <p:spPr>
            <a:xfrm>
              <a:off x="610920" y="5126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组合 96263"/>
          <p:cNvGrpSpPr/>
          <p:nvPr/>
        </p:nvGrpSpPr>
        <p:grpSpPr>
          <a:xfrm>
            <a:off x="84240" y="426960"/>
            <a:ext cx="2319120" cy="700200"/>
            <a:chOff x="84240" y="426960"/>
            <a:chExt cx="2319120" cy="700200"/>
          </a:xfrm>
        </p:grpSpPr>
        <p:pic>
          <p:nvPicPr>
            <p:cNvPr id="948" name="图片 96264" descr="未标题-1"/>
            <p:cNvPicPr/>
            <p:nvPr/>
          </p:nvPicPr>
          <p:blipFill>
            <a:blip r:embed="rId1"/>
            <a:stretch/>
          </p:blipFill>
          <p:spPr>
            <a:xfrm>
              <a:off x="84240" y="4269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文本框 2"/>
            <p:cNvSpPr/>
            <p:nvPr/>
          </p:nvSpPr>
          <p:spPr>
            <a:xfrm>
              <a:off x="620640" y="503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文本框 1"/>
          <p:cNvSpPr/>
          <p:nvPr/>
        </p:nvSpPr>
        <p:spPr>
          <a:xfrm>
            <a:off x="620640" y="2306520"/>
            <a:ext cx="768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惭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秽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袤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宥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游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养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坍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2120760" y="1741320"/>
            <a:ext cx="8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3878280" y="1741320"/>
            <a:ext cx="8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7515360" y="1741320"/>
            <a:ext cx="6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3"/>
          <p:cNvSpPr/>
          <p:nvPr/>
        </p:nvSpPr>
        <p:spPr>
          <a:xfrm>
            <a:off x="1155600" y="3610080"/>
            <a:ext cx="64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3460680" y="3610080"/>
            <a:ext cx="6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6908760" y="3610080"/>
            <a:ext cx="86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5675400" y="1741320"/>
            <a:ext cx="8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3"/>
          <p:cNvSpPr/>
          <p:nvPr/>
        </p:nvSpPr>
        <p:spPr>
          <a:xfrm>
            <a:off x="5175360" y="3610080"/>
            <a:ext cx="8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文本框 1"/>
          <p:cNvSpPr/>
          <p:nvPr/>
        </p:nvSpPr>
        <p:spPr>
          <a:xfrm>
            <a:off x="411120" y="9525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自惭形秽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指因自己的容貌举止不如别人而感到惭愧，后来泛指自愧不如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5"/>
          <p:cNvSpPr/>
          <p:nvPr/>
        </p:nvSpPr>
        <p:spPr>
          <a:xfrm>
            <a:off x="411120" y="4029120"/>
            <a:ext cx="66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形销骨立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身体极其消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3"/>
          <p:cNvSpPr/>
          <p:nvPr/>
        </p:nvSpPr>
        <p:spPr>
          <a:xfrm>
            <a:off x="411120" y="2441520"/>
            <a:ext cx="817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间不容发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物中间容不下一根头发，形容事物之间距离极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4"/>
          <p:cNvSpPr/>
          <p:nvPr/>
        </p:nvSpPr>
        <p:spPr>
          <a:xfrm>
            <a:off x="411120" y="4794120"/>
            <a:ext cx="817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相得益彰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互相帮助，互相补充，更能显出各自的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矩形 99330"/>
          <p:cNvSpPr/>
          <p:nvPr/>
        </p:nvSpPr>
        <p:spPr>
          <a:xfrm>
            <a:off x="384120" y="1515960"/>
            <a:ext cx="56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给文章分层，理清作者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组合 99334"/>
          <p:cNvGrpSpPr/>
          <p:nvPr/>
        </p:nvGrpSpPr>
        <p:grpSpPr>
          <a:xfrm>
            <a:off x="65160" y="419040"/>
            <a:ext cx="2319120" cy="700200"/>
            <a:chOff x="65160" y="419040"/>
            <a:chExt cx="2319120" cy="700200"/>
          </a:xfrm>
        </p:grpSpPr>
        <p:pic>
          <p:nvPicPr>
            <p:cNvPr id="965" name="图片 99335" descr="未标题-1"/>
            <p:cNvPicPr/>
            <p:nvPr/>
          </p:nvPicPr>
          <p:blipFill>
            <a:blip r:embed="rId1"/>
            <a:stretch/>
          </p:blipFill>
          <p:spPr>
            <a:xfrm>
              <a:off x="6516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文本框 2"/>
            <p:cNvSpPr/>
            <p:nvPr/>
          </p:nvSpPr>
          <p:spPr>
            <a:xfrm>
              <a:off x="60156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文本框 1"/>
          <p:cNvSpPr/>
          <p:nvPr/>
        </p:nvSpPr>
        <p:spPr>
          <a:xfrm>
            <a:off x="384120" y="2408400"/>
            <a:ext cx="8175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第一部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—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引出话题——如何布置我们的心灵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3"/>
          <p:cNvSpPr/>
          <p:nvPr/>
        </p:nvSpPr>
        <p:spPr>
          <a:xfrm>
            <a:off x="384120" y="4051440"/>
            <a:ext cx="826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第二部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—1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分析人们的精神世界里应该建立“三间小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文本框 5"/>
          <p:cNvSpPr/>
          <p:nvPr/>
        </p:nvSpPr>
        <p:spPr>
          <a:xfrm>
            <a:off x="431640" y="1230480"/>
            <a:ext cx="815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第一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—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分析如何建立第一间精神小屋，即盛放着爱和恨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第二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—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分析如何建立第二间精神小屋，即盛放着事业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第三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4—1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分析如何建立第三间精神小屋，即安放我们自身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文本框 3"/>
          <p:cNvSpPr/>
          <p:nvPr/>
        </p:nvSpPr>
        <p:spPr>
          <a:xfrm>
            <a:off x="498600" y="1622520"/>
            <a:ext cx="814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第三部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8—1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指出把精神的三间小屋建筑得美观结实的条件，并希望在此基础上把小屋扩建成精神大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5430960" y="3919680"/>
            <a:ext cx="3030480" cy="233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cp:keywords/>
  <dc:language>en-US</dc:language>
  <cp:lastModifiedBy>Administrator</cp:lastModifiedBy>
  <dcterms:modified xsi:type="dcterms:W3CDTF">2018-07-08T02:48:36Z</dcterms:modified>
  <cp:revision>2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