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DCD-5547-4F66-8B57-C88A3AA8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1ED-085F-46F2-8E0C-A6853655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360-12A6-4714-8A35-05F8B772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0E1-1361-43DB-9CE5-A0A9AA23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B62-06AA-4713-BA98-07590E74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BDF-AE04-47AE-BA2B-816DBFF8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A27-DC10-4A12-9C03-8BE6576D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FE2-0927-4B5E-94EB-380218D4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2E0-5084-4433-9D80-9F31818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09E-3B7E-4BCE-9571-BE14BB82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48E-E52B-4F24-88B4-8B494F72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BCE-D701-4686-8754-8062324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69A1-3433-4420-8189-54A47FDA4C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9-06-24T07:21:56Z</dcterms:modified>
  <cp:revision>31</cp:revision>
  <dc:subject/>
  <dc:title>幻灯片 1</dc:title>
</cp:coreProperties>
</file>