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png" ContentType="image/png"/>
  <Override PartName="/ppt/media/drumroll.wav" ContentType="audio/x-wav"/>
  <Override PartName="/ppt/media/camera.wav" ContentType="audio/x-wav"/>
  <Override PartName="/ppt/media/image7.jpeg" ContentType="image/jpeg"/>
  <Override PartName="/ppt/media/explode.wav" ContentType="audio/x-wav"/>
  <Override PartName="/ppt/media/whoosh.wav" ContentType="audio/x-wav"/>
  <Override PartName="/ppt/media/image4.jpeg" ContentType="image/jpeg"/>
  <Override PartName="/ppt/media/image5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FE4-01EA-4F33-8B68-52AF7647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DFD-0D14-4813-845E-90520484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7C6-07C7-4DCC-AFEB-218980FA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F95-58C7-4452-9156-F1049B19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48B-AFE3-412C-B33D-41D56D4F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7A1-23F8-49D4-A6C3-4795C7C9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5F6-D7DE-45F0-9AE1-1B9CC47A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1391-E7C8-4BD3-84F2-6B5BD2ED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D71-6A3E-42A1-B2AF-846F1F91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4D5-CB4C-4FE9-A2FB-F44045BD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297E-268A-470A-A1C7-0A0FDFDD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E50-2600-414D-8ACB-2F963143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C718-9A89-4F3B-992E-C01F3B55DC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smf.gov.cn/kejianjiaoliu/ff9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smf.gov.cn/kejianjiaoliu/hxwq.r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fsmf.gov.cn/kejianjiaoliu/1.mp3" TargetMode="External"/><Relationship Id="rId2" Type="http://schemas.openxmlformats.org/officeDocument/2006/relationships/image" Target="../media/image7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fsmf.gov.cn/kejianjiaoliu/&#26412;&#22320;&#30913;&#30424;%20(g:)" TargetMode="External"/><Relationship Id="rId2" Type="http://schemas.openxmlformats.org/officeDocument/2006/relationships/slide" Target="slide1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143000"/>
            <a:ext cx="2257200" cy="3276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038480" y="1600200"/>
            <a:ext cx="38102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珍惜生命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</a:t>
            </a: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关爱和平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55560" y="142704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38240" y="1427040"/>
            <a:ext cx="3286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9400" y="1849320"/>
            <a:ext cx="422280" cy="47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9480" y="184932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040" y="177624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00080" y="131904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1120" y="210996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2924280"/>
            <a:ext cx="78548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战后局部战争中使用化学武器持续事件最长、影响最大的化学战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日开始的战争初期，伊拉克就零星使用了化学武器；共使用化学武器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次之多，造成伊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万人中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万人死亡；伊朗在后期建立了化学战反击能力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月第一次使用糜烂性毒剂芥子气进行报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90720" y="2276640"/>
            <a:ext cx="405576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两伊战争（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1980-1988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化学战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1484280"/>
            <a:ext cx="69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战以来局部冲突中的化学战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55560" y="142704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38240" y="1427040"/>
            <a:ext cx="3286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9400" y="1849320"/>
            <a:ext cx="422280" cy="47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9480" y="184932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5040" y="177624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0080" y="131904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1120" y="210996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565360"/>
            <a:ext cx="8364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印度博帕尔农药泄露事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8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液态剧毒的异氰酸泄露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万人口的城市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人中毒，死亡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余人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多人失明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本东京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20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铁沙林毒气恐怖事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奥姆真理教实施，死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，入院治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5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化学战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/>
          </p:cNvPr>
          <p:cNvSpPr/>
          <p:nvPr/>
        </p:nvSpPr>
        <p:spPr>
          <a:xfrm>
            <a:off x="2700360" y="1413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化学事故及恐怖事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48769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国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在巴黎签署了《关于禁止发展、生产、储存和使用化学武器及销毁公约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2257200" cy="327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038480" y="1600200"/>
            <a:ext cx="38102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珍惜生命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</a:t>
            </a: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关爱和平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8040" y="149076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49076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1880" y="1913040"/>
            <a:ext cx="422280" cy="474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01600" y="191304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7520" y="183996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52560" y="138276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3240" y="2173320"/>
            <a:ext cx="822672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化学武器及其防护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90720" y="3505320"/>
            <a:ext cx="6781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平时学“三防”，战时少伤亡 </a:t>
            </a:r>
            <a:endParaRPr b="1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46200" y="146520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28880" y="146520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0040" y="1887480"/>
            <a:ext cx="422280" cy="47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39760" y="18874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80" y="1814400"/>
            <a:ext cx="56016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135720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1400" y="2147760"/>
            <a:ext cx="8226360" cy="32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2438280"/>
            <a:ext cx="62485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是毒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毒剂有哪些种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是化学武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学武器有哪些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1371600"/>
            <a:ext cx="5029200" cy="703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看一看，想一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化学武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46200" y="146520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28880" y="146520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0040" y="1887480"/>
            <a:ext cx="422280" cy="47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39760" y="18874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5680" y="1814400"/>
            <a:ext cx="56016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35720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1400" y="2147760"/>
            <a:ext cx="8226360" cy="32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2500200"/>
            <a:ext cx="67820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战争中以毒性杀伤人、畜和破坏植物的化学物质叫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毒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1371600"/>
            <a:ext cx="5029200" cy="703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化学武器的定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化学武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4191120"/>
            <a:ext cx="69343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装有毒剂的武器、器材统称为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化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武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46200" y="146520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28880" y="146520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0040" y="1887480"/>
            <a:ext cx="422280" cy="47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39760" y="18874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5680" y="1814400"/>
            <a:ext cx="56016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35720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1400" y="2147760"/>
            <a:ext cx="8226360" cy="32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2819520"/>
            <a:ext cx="3429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毒途径多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1371600"/>
            <a:ext cx="5029200" cy="703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化学武器的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化学武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39625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杀伤范围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4876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持续时间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46200" y="146520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8880" y="146520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0040" y="1887480"/>
            <a:ext cx="422280" cy="47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39760" y="18874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5680" y="1814400"/>
            <a:ext cx="56016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135720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1400" y="2147760"/>
            <a:ext cx="8226360" cy="32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209680"/>
            <a:ext cx="68580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1371600"/>
            <a:ext cx="5449680" cy="703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化学武器的局限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化学武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3880" y="2286000"/>
            <a:ext cx="701064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象因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风向：顺风利于使用毒剂；逆风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定等使用不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风速：小于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m/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 大于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m/s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宜使用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气温：温度高加速蒸发，严冬时某些毒剂凝结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湿度：湿度大，稀释作用，毒剂浓度降低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雨雪：冲刷、水解、覆盖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69480" y="4267080"/>
            <a:ext cx="372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建筑、地形、地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高山阻挡毒气扩散，水网稻田加速毒气失去作用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高地、开阔地毒气扩散快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18360" y="5486400"/>
            <a:ext cx="2027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防护程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良好的防护可以减弱化学武器的杀伤和牵制作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55560" y="158580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38240" y="1585800"/>
            <a:ext cx="3286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9400" y="2008080"/>
            <a:ext cx="422280" cy="47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9480" y="20080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040" y="193500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00080" y="147780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1120" y="2268360"/>
            <a:ext cx="8226360" cy="32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4479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发   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对化学武器的防护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2743200"/>
            <a:ext cx="2209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3581280"/>
            <a:ext cx="2438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43434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5334120"/>
            <a:ext cx="198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55560" y="158580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8240" y="1585800"/>
            <a:ext cx="3286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9400" y="2008080"/>
            <a:ext cx="422280" cy="47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9480" y="20080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040" y="193500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00080" y="147780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1120" y="2268360"/>
            <a:ext cx="8226360" cy="32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14479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防   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312408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对化学武器的防护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57400" y="281952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集体防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利用人防工程进行的防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4495680"/>
            <a:ext cx="6095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人防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人利用防护器材进行的防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55560" y="231156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38240" y="2311560"/>
            <a:ext cx="3286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79400" y="2733840"/>
            <a:ext cx="422280" cy="474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9480" y="273384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040" y="266076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00080" y="2203560"/>
            <a:ext cx="31680" cy="105228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1120" y="29941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21337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楷体_GB2312"/>
                <a:ea typeface="黑体"/>
              </a:rPr>
              <a:t>化学战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3500280"/>
            <a:ext cx="6248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战中的化学战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战中的化学战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战以来局部冲突中的化学战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学事故及恐怖事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化学战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55560" y="158580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38240" y="1585800"/>
            <a:ext cx="3286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9400" y="2008080"/>
            <a:ext cx="422280" cy="47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9480" y="20080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5040" y="193500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00080" y="147780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1120" y="2268360"/>
            <a:ext cx="8226360" cy="32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14479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议一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457200"/>
            <a:ext cx="3047760" cy="457200"/>
          </a:xfrm>
          <a:custGeom>
            <a:avLst/>
            <a:gdLst>
              <a:gd name="textAreaLeft" fmla="*/ 0 w 3047760"/>
              <a:gd name="textAreaRight" fmla="*/ 3048120 w 304776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对化学武器的防护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35053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对化学武器进行个人防护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55560" y="158580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38240" y="1585800"/>
            <a:ext cx="3286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9400" y="2008080"/>
            <a:ext cx="422280" cy="47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9480" y="20080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040" y="193500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00080" y="147780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120" y="2268360"/>
            <a:ext cx="8226360" cy="32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14479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个人防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47800" y="2925720"/>
            <a:ext cx="1820880" cy="34448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04920" y="457200"/>
            <a:ext cx="3047760" cy="457200"/>
          </a:xfrm>
          <a:custGeom>
            <a:avLst/>
            <a:gdLst>
              <a:gd name="textAreaLeft" fmla="*/ 0 w 3047760"/>
              <a:gd name="textAreaRight" fmla="*/ 3048120 w 304776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对化学武器的防护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31240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呼吸道防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3809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眼睛防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44956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皮肤防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5181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13d"/>
                </a:solidFill>
                <a:latin typeface="Times New Roman"/>
                <a:ea typeface="黑体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服药预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55560" y="158580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38240" y="1585800"/>
            <a:ext cx="3286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79400" y="2008080"/>
            <a:ext cx="422280" cy="47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49480" y="20080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040" y="193500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00080" y="147780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1120" y="2268360"/>
            <a:ext cx="8226360" cy="32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14479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呼吸道防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28195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配有面具的人员应立即闭眼、停止呼吸，将面具迅速准确地戴好，在睁眼前要呼一口气；没有防毒面具的人员可使用事先自制的浸水、浸碱和包土颗粒的口罩、纱布、毛巾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帽子、手帕、衣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简易器材防护呼吸道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对化学武器的防护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362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55560" y="158580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38240" y="1585800"/>
            <a:ext cx="3286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9400" y="2008080"/>
            <a:ext cx="422280" cy="47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9480" y="20080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040" y="193500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00080" y="147780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120" y="2268360"/>
            <a:ext cx="8226360" cy="32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14479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眼睛防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352680"/>
            <a:ext cx="5105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没有面具的情况下，可用自制简易防毒眼镜、改制的防风眼镜对眼睛进行防护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对化学武器的防护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362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55560" y="158580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38240" y="1585800"/>
            <a:ext cx="3286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9400" y="2008080"/>
            <a:ext cx="422280" cy="47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9480" y="20080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040" y="193500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00080" y="147780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1120" y="2268360"/>
            <a:ext cx="8226360" cy="32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14479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皮肤防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29718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了穿戴制式防毒衣外，还可利用就便器材进行防护，如需要通过染毒地域时，可利用雨靴对腿部进行防护，也可捆索塑料布、帆布进行防护。若要通过染毒树林，可利用雨衣、油布等隔绝材料对全身进行防护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对化学武器的防护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2286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55560" y="158580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38240" y="1585800"/>
            <a:ext cx="3286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79400" y="2008080"/>
            <a:ext cx="422280" cy="47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9480" y="20080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5040" y="193500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00080" y="147780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1120" y="2268360"/>
            <a:ext cx="8226360" cy="32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14479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服药预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3048120"/>
            <a:ext cx="5105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于神经性毒剂，目前可应用预防药片。使用方法见战时装备的防护盒中的说明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对化学武器的防护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85800" y="2895480"/>
            <a:ext cx="2514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55560" y="158580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38240" y="1585800"/>
            <a:ext cx="3286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9400" y="2008080"/>
            <a:ext cx="422280" cy="47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9480" y="20080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5040" y="193500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00080" y="147780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1120" y="2268360"/>
            <a:ext cx="8226360" cy="32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90920" y="14479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练    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31240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利用身边的器材进行个人防护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化学武器及其防护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2590920"/>
            <a:ext cx="5257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55560" y="158580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38240" y="1585800"/>
            <a:ext cx="3286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9400" y="2008080"/>
            <a:ext cx="422280" cy="47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9480" y="20080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5040" y="193500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080" y="147780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1120" y="2268360"/>
            <a:ext cx="8226360" cy="32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90920" y="1447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作    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rId1"/>
          </p:cNvPr>
          <p:cNvSpPr/>
          <p:nvPr/>
        </p:nvSpPr>
        <p:spPr>
          <a:xfrm>
            <a:off x="990720" y="3124080"/>
            <a:ext cx="198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作简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人防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器材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化学武器及其防护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29000" y="2743200"/>
            <a:ext cx="4800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55560" y="134316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38240" y="1343160"/>
            <a:ext cx="3286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9400" y="1765440"/>
            <a:ext cx="422280" cy="474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9480" y="176544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040" y="169236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00080" y="1235160"/>
            <a:ext cx="31680" cy="105228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1120" y="20257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378160"/>
            <a:ext cx="7793280" cy="21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伊珀尔毒气战——毒气钢瓶攻击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军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在比利时伊珀尔战线前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里正面上，预先布设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0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具装有氯气的吹放钢瓶，利用有利的气象条件，向英法联军阵地吹放。由于对方毫无戒备，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50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，其中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死亡，阵地被突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里，开了化学战的先例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74480" y="134136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战中的化学战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化学战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55560" y="134316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38240" y="1343160"/>
            <a:ext cx="3286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9400" y="1765440"/>
            <a:ext cx="422280" cy="474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9480" y="176544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040" y="169236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00080" y="1235160"/>
            <a:ext cx="31680" cy="105228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1120" y="20257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2378160"/>
            <a:ext cx="779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1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德军在比利时伊珀尔地区对英军进行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芥子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炮击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内共发射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发，造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0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伤亡。使用芥子气的三周里消耗芥子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5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，造成的伤亡是一年前的总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战中交战国共生产毒剂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吨，其中大部分用于战场，使用化学武器共造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人伤亡，其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人死亡；涉及氯气、光气、双光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绿十字”毒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氨气、芥子气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毒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4480" y="134136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战中的化学战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化学战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69880" y="137628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52560" y="1376280"/>
            <a:ext cx="3286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720" y="1798560"/>
            <a:ext cx="422280" cy="47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3800" y="17985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9360" y="172548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26828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5440" y="2058840"/>
            <a:ext cx="8226360" cy="32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0920" y="1341360"/>
            <a:ext cx="59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二战中使用化学武器的事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259000"/>
            <a:ext cx="853452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欧洲战场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93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波军少量布洒芥子气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9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德军在克里木半岛对苏联使用化学武器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9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盟军在意大利安齐奥滩头化学弹药堆积处被击中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9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巴里港美军化学弹药运输船被击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多人死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德军在集中营内使用毒气屠杀战俘和平民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太平洋战场——日军在海岛战役中少量用毒、在缅甸作战中使用化学武器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国战场——日军多次使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化学战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8040" y="160668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60668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880" y="2028960"/>
            <a:ext cx="422280" cy="474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01600" y="202896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7520" y="195588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52560" y="1498680"/>
            <a:ext cx="31680" cy="105228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3240" y="2289240"/>
            <a:ext cx="822672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155736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日本侵华战争中的化学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八年侵华战争，日军化学战贯穿全过程，遍及我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省区； 在正面战场，日军使用化学武器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66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余次，国民党军队中毒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.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多人，死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0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以上； 在敌后战场，日军用毒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2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次以上，八路军及华北地区中毒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多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化学战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8040" y="136512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36512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880" y="1787400"/>
            <a:ext cx="422280" cy="47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01600" y="178740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520" y="1714680"/>
            <a:ext cx="560520" cy="421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52560" y="1257480"/>
            <a:ext cx="31680" cy="105228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3240" y="2048040"/>
            <a:ext cx="822672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133720"/>
            <a:ext cx="830556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06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齐会战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师在冀中平原消灭日军最多的一次战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7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多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93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日日军对河北河间县齐会村发动攻击，久攻不下，遂释放毒气，主要是刺激性毒剂（苯氯乙酮，亚当氏剂），造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余人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4653000"/>
            <a:ext cx="777240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北坦惨案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4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，日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师团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包围河北定县北坦村，在地道口施放毒剂，使躲藏的群众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余人被杀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化学战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134136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日本侵华战争中的化学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55560" y="122868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38240" y="1228680"/>
            <a:ext cx="3286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9400" y="1650960"/>
            <a:ext cx="422280" cy="47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9480" y="16509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040" y="157788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00080" y="112068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1120" y="1911240"/>
            <a:ext cx="8226360" cy="32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1197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战以来局部冲突中的化学战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2276640"/>
            <a:ext cx="79124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朝鲜战争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95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95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美国军队违犯战争法规，多次对中国人民志愿军和朝鲜军民实施毒气袭击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95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月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95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月，美军采取炮击和空投的方法，对志愿军防御地区进行毒气袭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，施放化学毒剂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中糜烂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种，窒息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种，血液与神经中毒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种，喷嚏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种，催泪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志愿军部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9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人中毒，其中死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化学战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55560" y="170028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38240" y="1700280"/>
            <a:ext cx="3286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9400" y="2122560"/>
            <a:ext cx="422280" cy="474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9480" y="212256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040" y="2049480"/>
            <a:ext cx="56052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00080" y="1592280"/>
            <a:ext cx="31680" cy="1052640"/>
          </a:xfrm>
          <a:prstGeom prst="rect">
            <a:avLst/>
          </a:prstGeom>
          <a:solidFill>
            <a:srgbClr val="fe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1120" y="238284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a8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284640"/>
            <a:ext cx="74674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军使用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橙色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主的植物杀伤剂造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53.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人中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余人死亡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使用（刺激剂）催泪剂苯氯乙酮、亚当氏剂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首次使用失能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Z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神经性毒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野外试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22120" y="2492280"/>
            <a:ext cx="4139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越南战争（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1961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1975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457200"/>
            <a:ext cx="2809800" cy="457200"/>
          </a:xfrm>
          <a:custGeom>
            <a:avLst/>
            <a:gdLst>
              <a:gd name="textAreaLeft" fmla="*/ 0 w 2809800"/>
              <a:gd name="textAreaRight" fmla="*/ 2810160 w 2809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隶书"/>
                <a:ea typeface="隶书"/>
              </a:rPr>
              <a:t>化学战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162864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战以来局部冲突中的化学战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0-11-17T09:56:03Z</dcterms:modified>
  <cp:revision>298</cp:revision>
  <dc:subject/>
  <dc:title>PowerPoint Presentation</dc:title>
</cp:coreProperties>
</file>