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9F1-EA17-497F-B898-5A27FCE2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96B-EDE3-4DB4-BB97-5F58277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733-7D45-4B64-B7AC-094281A0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B20-73D4-4125-A63F-1CCDCCF4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E8D-A79F-4237-9638-84BDCE7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315-8A04-4036-BEAB-8BD38E0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0AD-14A8-4647-BABE-94D116B7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490-C301-4D92-95CB-DFA7BFD7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209-644E-4986-8936-FAEB8615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A70-BD6E-440F-9459-B296409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EC0-5117-4A52-8EFD-7F10CBD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767-9EAF-4115-A389-A448D72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245-63AF-4380-A866-FA0802502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财处开学以来工作汇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校领导的支持和各部门的积极配合下，计财处完成了以下工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预算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预算一上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续执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预算，梳理分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季度预算执行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局拨社区大学经费全部争取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成了设备、服务等五项追加预算工作。包括信工的培训设备、社区大学的设备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校园安全保卫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宿舍管理等政府采购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一）费用报销需要执行的相关规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付方式方面：《常州市市级预算单位公务卡结算财务管理暂行办法》用其补充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起，凡纳入公务卡刷卡目录的事项，原则上不再使用现金结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务卡刷卡目录分强制性刷卡目录和鼓励性刷卡目录两部分。对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强制性刷卡目录规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公务支出项目，原则上持卡人必须按规定使用公务卡结算，并按有关规定办理财务报销手续。持卡人未使用公务卡刷卡的，预算单位财务部门可拒绝持卡人财务报销申请；特殊情况不能使用公务卡结算的，须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预算单位领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财务部门批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中规定的项目，其结算方式不限于公务卡，也可用支票等其他转账方式。但超过公务卡授信额度的公务支出项目，必须按照有关规定，采用其他转账方式进行结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预算单位年现金支出原则上不得超过全年下达用款额度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超过部分需报市财政局国库部门审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在公务支出时，优先选择具备受理公务卡能力的商户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报销标准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违背政府部门规定标准的前提下一般按学校相关文件规定执行。主要谈差旅费和科研经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校的差旅费管理办法制订的依据就是《常州市市级机关差旅费管理暂行办法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差人员住宿费在规定限额标准内凭据报销。规定限额标准为：省内每人每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，实际住宿费超过上述规定限额标准部分自理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十六条 不分途中和住勤，伙食补助费每人每天补助标准为：省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、省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十九条  出差人员的公杂费，以城市间交通费票据为凭据，按出差自然（日历）天数实行定额包干，不另凭据报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十条  公杂费每人每天标准为：省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、省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，用于补助其市内交通、通讯等支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十四条  工作人员离开常州市城区参加会议，会议通知明确不统一安排食宿的，在途期间和会议期间的城市间交通费、住宿费、伙食补助费和公杂费，凭会议通知回所在单位按照上述差旅费规定报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会议通知明确食宿自理的各类培训，其培训时间超过十天的，公杂费和伙食补助费均减半报销。其培训资料费凭会议通知和合法票据报销，培训资料上交本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科研经费方面主要是执行我校科研经费的相关文件。因此科研经费的审核工作主要由科研处和教务处进行，由这两个部门的负责同志严格按文件规定审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大额科研经费的报销，请大家平时要注意搜集票据。有购买图书资料的，办公用品的，差旅的、制作材料的、电脑维修的、餐饮的、通讯的、培训的等方面。如果购买固定资产必须按规定流程采购并入学校资产账，但可以办妥手续借给个人使用。因为只要是进入国库的资金无论如何核算均为国家财政资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资产采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严格执行预算管理相关规定和〈政府采购法〉常州市财政出台了本市的政府采购目录，教育局又进一步出台了局内部采购规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是何资金来源，只要是运用国库的财政资金，购买的是属于采购目录规定的物品，均需要按规定的方式进行采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校可以自行采购的目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1268280"/>
          <a:ext cx="7488000" cy="485136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S02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印机中的耗材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A030203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印机中的耗材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A030210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投影机中的灯泡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A03021204,05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移动硬盘、存储卡、计算机配件等；单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、批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A05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窗帘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549360"/>
          <a:ext cx="8229600" cy="582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A0918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档案柜、保险箱、保密文件柜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.A0922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光、音响设备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.A0928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炊事设备中耗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.A090102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程控电话交换机等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.A0916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安设备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.A0923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文艺设备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.A0924-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育设备；批量采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（含）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收费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上级部门要求开设了新的缴费专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了新的收费许可证换证工作并制作了新的收费公示牌，做到亮证收费阳光收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宿生床上用品和学生校服到物价备了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生报到现场收费工作顺利完成，完成 了第一轮欠费清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程项目的招标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造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元以上的工程建设项目必须经常州市建设工程交易中心（市招标办）公开招标。（招投标法规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造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元以上的工程建设项目必须经常州市政府采购中心招标。（政府采购法规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造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元以上的工程建设项目由学校组织招标比价确定施工单位。（教育局规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设备、工器具由常州市政府采购中心组织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49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顺利完成开学初大量的费用报销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新一年度儿童统筹保险工作和三季度门诊药费报销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启动了新一轮教师培训和科研经费报销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在编在职人员工资社保费用及时正常发放或支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一阶段工作重点及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续执行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预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的各项费用清缴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预算决算及年报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财政、税务、物价、教育主管部门各项年度申报总结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财务分析，为学校领导提供决策数据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9640" y="549360"/>
            <a:ext cx="79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年来，中国财政围绕建立和完善公共财政体制框架，通过实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收支两条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部门预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国库集中收付（国库单一账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政府采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预算管理制度改革，预算的公平性、公开性、透明度和完整性有了很大的提高，但与市场经济条件下完善的公共财政体制的要求较，仍存在一定的差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续深化预算管理制度改革不仅是加强财政管理、建设公共财政的内在要求，也是发展社会主义民主政治、建设社会主义政治文明的需要。今后一个时期，要在继续深化上述改革的同时，将改革的重点放在推进政府收支分类改革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经过批复下达的预算是各单位财务年度活动的唯一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算执行过程中，任何单位不得随意调整支出项目及支出科目，严格按照政府收支分类科目做好记账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出的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本支出       工资福利支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出                       商品服务支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个人和家庭补助支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目支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1557360"/>
            <a:ext cx="216000" cy="23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34136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员支出：工资福利支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绩效工资实施的背景下，请各位领导帮助进一步做好宣传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减轻了学校的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平均收入上升，收入差距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会进一步完善并更好地起到激励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2:49:37Z</dcterms:created>
  <dc:creator>User</dc:creator>
  <dc:description/>
  <dc:language>en-US</dc:language>
  <cp:lastModifiedBy>User</cp:lastModifiedBy>
  <dcterms:modified xsi:type="dcterms:W3CDTF">2012-10-24T01:24:04Z</dcterms:modified>
  <cp:revision>13</cp:revision>
  <dc:subject/>
  <dc:title>幻灯片 1</dc:title>
</cp:coreProperties>
</file>