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276-1C74-463B-BA6A-46EE57C8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6C0-0E49-41A6-B519-46E69625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A38-3070-40B8-B231-03AFD183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2D54-E9F6-400C-B7EC-02B59DB5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A819-FD9D-411C-98A6-26D71EBF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6DE6-311D-4181-B3DC-7DDFABE0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0DE3-E72C-4D04-A189-94FD67D3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F3A9-0BC0-4921-9FA4-3C171C5D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BF12-CE24-426A-8FD1-BD313FAE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74BF-4186-4822-99AF-85B1068E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983A-2F20-4B87-8F3E-54394AD1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B19-3D4A-452F-9C92-04D78EC1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A8AF-9E46-439E-91CF-F7893527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57D6-F992-46BB-9888-E8B6E6B2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DD65-AD7C-4A14-B038-FE8554E9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348D-CED8-49CD-9A30-F0403163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5A37-34D3-439A-99CB-168100B5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E22-91E3-4921-83C9-7F4B1630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8573-F20E-4673-87E3-F9BE1D72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7780-C2C7-47CF-AF56-178B6D4F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F33-F07A-474A-92BE-FAB78A5C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83A-AE21-4375-AF64-CB7CB47B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B47-1CBF-4AF1-9093-9133FD2D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031-21CE-4869-9835-2594F27D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338C-E8F4-47B1-B92F-C3A5E437F73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2C2B-736C-418C-AAB0-B85E56A9B5C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hyperlink" Target="file:///&#24050;&#32463;&#21046;&#20316;&#23436;&#25104;&#34920;&#26684;.xls" TargetMode="External"/><Relationship Id="rId7" Type="http://schemas.openxmlformats.org/officeDocument/2006/relationships/hyperlink" Target="file:///&#23398;&#29983;&#25968;&#25454;&#23548;&#20837;&#26684;&#24335;.xls" TargetMode="External"/><Relationship Id="rId8" Type="http://schemas.openxmlformats.org/officeDocument/2006/relationships/hyperlink" Target="file:///&#23398;&#29983;&#25968;&#25454;&#23548;&#20837;&#26684;&#24335;.xls" TargetMode="External"/><Relationship Id="rId9" Type="http://schemas.openxmlformats.org/officeDocument/2006/relationships/hyperlink" Target="file:///&#23398;&#29983;&#25968;&#25454;&#23548;&#20837;&#26684;&#24335;.xls" TargetMode="Externa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2057400"/>
            <a:ext cx="30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1640" y="188136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  <a:ea typeface="方正水黑简体"/>
              </a:rPr>
              <a:t>毕业设计指导交流系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27280" y="296064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79f"/>
                </a:solidFill>
                <a:latin typeface="Arial"/>
                <a:ea typeface="经典综艺体简"/>
              </a:rPr>
              <a:t>使用流程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34920" y="1233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5502"/>
                </a:solidFill>
                <a:latin typeface="Arial"/>
                <a:ea typeface="方正水黑简体"/>
              </a:rPr>
              <a:t>江苏广播电视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1116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689120" y="1916280"/>
            <a:ext cx="6373800" cy="828360"/>
          </a:xfrm>
          <a:prstGeom prst="roundRect">
            <a:avLst>
              <a:gd name="adj" fmla="val 16667"/>
            </a:avLst>
          </a:prstGeom>
          <a:solidFill>
            <a:srgbClr val="ffff66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学生上传论文时，必须以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rar</a:t>
            </a:r>
            <a:r>
              <a:rPr b="1" lang="en-US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或“</a:t>
            </a:r>
            <a:r>
              <a:rPr b="1" lang="en-US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zip</a:t>
            </a:r>
            <a:r>
              <a:rPr b="1" lang="en-US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压缩文件形式进行上传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4572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经典综艺体简"/>
              </a:rPr>
              <a:t>流程介绍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b879f"/>
                </a:solidFill>
                <a:latin typeface="Arial"/>
                <a:ea typeface="方正水黑简体"/>
              </a:rPr>
              <a:t>毕业设计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64000" y="620640"/>
            <a:ext cx="469800" cy="453960"/>
          </a:xfrm>
          <a:prstGeom prst="ellipse">
            <a:avLst/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56000" y="58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方正毡笔黑简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42920" y="119700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03280" y="2924280"/>
            <a:ext cx="6840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401840" y="2023920"/>
            <a:ext cx="303120" cy="325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934920" y="144936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406520" y="3033720"/>
            <a:ext cx="303120" cy="324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692360" y="2997360"/>
            <a:ext cx="6373800" cy="649080"/>
          </a:xfrm>
          <a:prstGeom prst="roundRect">
            <a:avLst>
              <a:gd name="adj" fmla="val 16667"/>
            </a:avLst>
          </a:prstGeom>
          <a:solidFill>
            <a:srgbClr val="ccffff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交流平台中，发消息时所带附件必须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wor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形式进行上传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008000" y="2023920"/>
            <a:ext cx="6877080" cy="614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0066"/>
                </a:solidFill>
                <a:latin typeface="Arial"/>
              </a:rPr>
              <a:t>所有用户的初始密码为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111</a:t>
            </a:r>
            <a:r>
              <a:rPr b="1" lang="zh-CN" sz="2000" spc="-1" strike="noStrike">
                <a:solidFill>
                  <a:srgbClr val="330066"/>
                </a:solidFill>
                <a:latin typeface="Arial"/>
              </a:rPr>
              <a:t>，请各位登陆系统以后自行修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08000" y="3033720"/>
            <a:ext cx="6877080" cy="614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0066"/>
                </a:solidFill>
                <a:latin typeface="Arial"/>
              </a:rPr>
              <a:t>学生的用户名默认的是小写字母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s + </a:t>
            </a:r>
            <a:r>
              <a:rPr b="1" lang="zh-CN" sz="2000" spc="-1" strike="noStrike">
                <a:solidFill>
                  <a:srgbClr val="330066"/>
                </a:solidFill>
                <a:latin typeface="Arial"/>
              </a:rPr>
              <a:t>学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879640" y="3645000"/>
            <a:ext cx="4321440" cy="1366560"/>
          </a:xfrm>
          <a:prstGeom prst="roundRect">
            <a:avLst>
              <a:gd name="adj" fmla="val 9292"/>
            </a:avLst>
          </a:prstGeom>
          <a:solidFill>
            <a:srgbClr val="ffff66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47920" y="2057400"/>
            <a:ext cx="30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0" y="1952640"/>
            <a:ext cx="47880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b879f"/>
                </a:solidFill>
                <a:latin typeface="经典综艺体简"/>
                <a:ea typeface="经典综艺体简"/>
              </a:rPr>
              <a:t>谢  谢 ！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95640" y="36813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方正毡笔黑简体"/>
                <a:ea typeface="方正毡笔黑简体"/>
              </a:rPr>
              <a:t>联系人：和莉  杜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95640" y="4400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毡笔黑简体"/>
                <a:ea typeface="方正毡笔黑简体"/>
              </a:rPr>
              <a:t>联系电话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025-862655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64000" y="3429000"/>
            <a:ext cx="466560" cy="360360"/>
          </a:xfrm>
          <a:prstGeom prst="roundRect">
            <a:avLst>
              <a:gd name="adj" fmla="val 0"/>
            </a:avLst>
          </a:prstGeom>
          <a:solidFill>
            <a:srgbClr val="00008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24360" y="3429000"/>
            <a:ext cx="215640" cy="227160"/>
          </a:xfrm>
          <a:custGeom>
            <a:avLst/>
            <a:gdLst>
              <a:gd name="textAreaLeft" fmla="*/ 0 w 215640"/>
              <a:gd name="textAreaRight" fmla="*/ 216000 w 215640"/>
              <a:gd name="textAreaTop" fmla="*/ 0 h 227160"/>
              <a:gd name="textAreaBottom" fmla="*/ 227160 h 227160"/>
            </a:gdLst>
            <a:ahLst/>
            <a:rect l="textAreaLeft" t="textAreaTop" r="textAreaRight" b="textAreaBottom"/>
            <a:pathLst>
              <a:path w="21600" h="22752">
                <a:moveTo>
                  <a:pt x="0" y="0"/>
                </a:moveTo>
                <a:arcTo wR="0" hR="0" stAng="16200000" swAng="-5400000"/>
                <a:lnTo>
                  <a:pt x="0" y="22752"/>
                </a:lnTo>
                <a:arcTo wR="0" hR="0" stAng="10800000" swAng="-5400000"/>
                <a:lnTo>
                  <a:pt x="21600" y="2275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95640" y="3357720"/>
            <a:ext cx="216000" cy="179280"/>
          </a:xfrm>
          <a:prstGeom prst="roundRect">
            <a:avLst>
              <a:gd name="adj" fmla="val 0"/>
            </a:avLst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00360" y="3321000"/>
            <a:ext cx="144720" cy="108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16360" y="3284640"/>
            <a:ext cx="71280" cy="7128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95640" y="3357720"/>
            <a:ext cx="71640" cy="7128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56000" y="3176640"/>
            <a:ext cx="71640" cy="7128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87640" y="3392640"/>
            <a:ext cx="108000" cy="107640"/>
          </a:xfrm>
          <a:prstGeom prst="rect">
            <a:avLst/>
          </a:prstGeom>
          <a:solidFill>
            <a:srgbClr val="cccc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3105000"/>
            <a:ext cx="71280" cy="7164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651640" y="3284640"/>
            <a:ext cx="71280" cy="7128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19640" y="2960640"/>
            <a:ext cx="71640" cy="7164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35640" y="3105000"/>
            <a:ext cx="107640" cy="108000"/>
          </a:xfrm>
          <a:prstGeom prst="rect">
            <a:avLst/>
          </a:prstGeom>
          <a:solidFill>
            <a:srgbClr val="cccc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56360" y="3321000"/>
            <a:ext cx="107640" cy="108000"/>
          </a:xfrm>
          <a:prstGeom prst="rect">
            <a:avLst/>
          </a:prstGeom>
          <a:solidFill>
            <a:srgbClr val="cccc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00720" y="2924280"/>
            <a:ext cx="108000" cy="108000"/>
          </a:xfrm>
          <a:prstGeom prst="rect">
            <a:avLst/>
          </a:prstGeom>
          <a:solidFill>
            <a:srgbClr val="cccc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8360" y="2708280"/>
            <a:ext cx="108000" cy="108000"/>
          </a:xfrm>
          <a:prstGeom prst="rect">
            <a:avLst/>
          </a:prstGeom>
          <a:solidFill>
            <a:srgbClr val="cccc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32720" y="2600280"/>
            <a:ext cx="71280" cy="7164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4000" y="3284640"/>
            <a:ext cx="71640" cy="7128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48360" y="3068640"/>
            <a:ext cx="108000" cy="108000"/>
          </a:xfrm>
          <a:prstGeom prst="rect">
            <a:avLst/>
          </a:prstGeom>
          <a:solidFill>
            <a:srgbClr val="cccc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80000" y="2781360"/>
            <a:ext cx="108000" cy="142920"/>
          </a:xfrm>
          <a:prstGeom prst="rect">
            <a:avLst/>
          </a:prstGeom>
          <a:solidFill>
            <a:srgbClr val="cccc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48360" y="2421000"/>
            <a:ext cx="108000" cy="108000"/>
          </a:xfrm>
          <a:prstGeom prst="rect">
            <a:avLst/>
          </a:prstGeom>
          <a:solidFill>
            <a:srgbClr val="cccc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77080" y="2023920"/>
            <a:ext cx="71280" cy="7164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35640" y="2060640"/>
            <a:ext cx="71640" cy="7128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24720" y="2313000"/>
            <a:ext cx="71280" cy="36360"/>
          </a:xfrm>
          <a:prstGeom prst="rect">
            <a:avLst/>
          </a:prstGeom>
          <a:solidFill>
            <a:srgbClr val="cccc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627280" y="3716280"/>
            <a:ext cx="144360" cy="21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4572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经典综艺体简"/>
              </a:rPr>
              <a:t>流程介绍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b879f"/>
                </a:solidFill>
                <a:latin typeface="Arial"/>
                <a:ea typeface="方正水黑简体"/>
              </a:rPr>
              <a:t>如何登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64000" y="620640"/>
            <a:ext cx="469800" cy="453960"/>
          </a:xfrm>
          <a:prstGeom prst="ellipse">
            <a:avLst/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56000" y="58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方正毡笔黑简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1640" y="177336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  <a:ea typeface="方正毡笔黑简体"/>
              </a:rPr>
              <a:t>请按以下地址进行登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3280" y="2708280"/>
            <a:ext cx="7632720" cy="1728720"/>
          </a:xfrm>
          <a:prstGeom prst="flowChartAlternateProcess">
            <a:avLst/>
          </a:prstGeom>
          <a:solidFill>
            <a:srgbClr val="ffff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2816280"/>
            <a:ext cx="7559640" cy="1528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http://210.28.216.35:8080/bysj/index.ht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4572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经典综艺体简"/>
              </a:rPr>
              <a:t>流程介绍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b879f"/>
                </a:solidFill>
                <a:latin typeface="Arial"/>
                <a:ea typeface="方正水黑简体"/>
              </a:rPr>
              <a:t>流程概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64000" y="620640"/>
            <a:ext cx="469800" cy="453960"/>
          </a:xfrm>
          <a:prstGeom prst="ellipse">
            <a:avLst/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58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方正毡笔黑简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42920" y="2421000"/>
            <a:ext cx="7043760" cy="1728720"/>
            <a:chOff x="1042920" y="2421000"/>
            <a:chExt cx="7043760" cy="1728720"/>
          </a:xfrm>
        </p:grpSpPr>
        <p:sp>
          <p:nvSpPr>
            <p:cNvPr id="164" name=""/>
            <p:cNvSpPr/>
            <p:nvPr/>
          </p:nvSpPr>
          <p:spPr>
            <a:xfrm>
              <a:off x="1042920" y="3033720"/>
              <a:ext cx="792360" cy="735120"/>
            </a:xfrm>
            <a:prstGeom prst="ellipse">
              <a:avLst/>
            </a:prstGeom>
            <a:solidFill>
              <a:srgbClr val="e2a908">
                <a:alpha val="8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经典圆体简"/>
                </a:rPr>
                <a:t>开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49320" y="3105000"/>
              <a:ext cx="1008360" cy="576360"/>
            </a:xfrm>
            <a:custGeom>
              <a:avLst/>
              <a:gdLst>
                <a:gd name="textAreaLeft" fmla="*/ 157320 w 1008360"/>
                <a:gd name="textAreaRight" fmla="*/ 834120 w 1008360"/>
                <a:gd name="textAreaTop" fmla="*/ 144360 h 576360"/>
                <a:gd name="textAreaBottom" fmla="*/ 4320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15"/>
                  </a:moveTo>
                  <a:lnTo>
                    <a:pt x="14113" y="5415"/>
                  </a:lnTo>
                  <a:lnTo>
                    <a:pt x="14113" y="0"/>
                  </a:lnTo>
                  <a:lnTo>
                    <a:pt x="21600" y="10800"/>
                  </a:lnTo>
                  <a:lnTo>
                    <a:pt x="14113" y="21600"/>
                  </a:lnTo>
                  <a:lnTo>
                    <a:pt x="14113" y="16185"/>
                  </a:lnTo>
                  <a:lnTo>
                    <a:pt x="3375" y="16185"/>
                  </a:lnTo>
                  <a:close/>
                </a:path>
                <a:path w="21600" h="21600">
                  <a:moveTo>
                    <a:pt x="0" y="5415"/>
                  </a:moveTo>
                  <a:lnTo>
                    <a:pt x="675" y="5415"/>
                  </a:lnTo>
                  <a:lnTo>
                    <a:pt x="675" y="16185"/>
                  </a:lnTo>
                  <a:lnTo>
                    <a:pt x="0" y="16185"/>
                  </a:lnTo>
                  <a:close/>
                </a:path>
                <a:path w="21600" h="21600">
                  <a:moveTo>
                    <a:pt x="1350" y="5415"/>
                  </a:moveTo>
                  <a:lnTo>
                    <a:pt x="2700" y="5415"/>
                  </a:lnTo>
                  <a:lnTo>
                    <a:pt x="2700" y="16185"/>
                  </a:lnTo>
                  <a:lnTo>
                    <a:pt x="1350" y="16185"/>
                  </a:lnTo>
                  <a:close/>
                </a:path>
              </a:pathLst>
            </a:custGeom>
            <a:solidFill>
              <a:srgbClr val="c80000">
                <a:alpha val="8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57680" y="2457360"/>
              <a:ext cx="1368360" cy="1692360"/>
            </a:xfrm>
            <a:prstGeom prst="cube">
              <a:avLst>
                <a:gd name="adj" fmla="val 17518"/>
              </a:avLst>
            </a:prstGeom>
            <a:solidFill>
              <a:srgbClr val="ad5bff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22400" y="2817720"/>
              <a:ext cx="118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Arial"/>
                  <a:ea typeface="经典圆体简"/>
                </a:rPr>
                <a:t>基础数据录入阶 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83120" y="2997360"/>
              <a:ext cx="971640" cy="576000"/>
            </a:xfrm>
            <a:custGeom>
              <a:avLst/>
              <a:gdLst>
                <a:gd name="textAreaLeft" fmla="*/ 151560 w 971640"/>
                <a:gd name="textAreaRight" fmla="*/ 803880 w 971640"/>
                <a:gd name="textAreaTop" fmla="*/ 144360 h 576000"/>
                <a:gd name="textAreaBottom" fmla="*/ 4316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15"/>
                  </a:moveTo>
                  <a:lnTo>
                    <a:pt x="14113" y="5415"/>
                  </a:lnTo>
                  <a:lnTo>
                    <a:pt x="14113" y="0"/>
                  </a:lnTo>
                  <a:lnTo>
                    <a:pt x="21600" y="10800"/>
                  </a:lnTo>
                  <a:lnTo>
                    <a:pt x="14113" y="21600"/>
                  </a:lnTo>
                  <a:lnTo>
                    <a:pt x="14113" y="16185"/>
                  </a:lnTo>
                  <a:lnTo>
                    <a:pt x="3375" y="16185"/>
                  </a:lnTo>
                  <a:close/>
                </a:path>
                <a:path w="21600" h="21600">
                  <a:moveTo>
                    <a:pt x="0" y="5415"/>
                  </a:moveTo>
                  <a:lnTo>
                    <a:pt x="675" y="5415"/>
                  </a:lnTo>
                  <a:lnTo>
                    <a:pt x="675" y="16185"/>
                  </a:lnTo>
                  <a:lnTo>
                    <a:pt x="0" y="16185"/>
                  </a:lnTo>
                  <a:close/>
                </a:path>
                <a:path w="21600" h="21600">
                  <a:moveTo>
                    <a:pt x="1350" y="5415"/>
                  </a:moveTo>
                  <a:lnTo>
                    <a:pt x="2700" y="5415"/>
                  </a:lnTo>
                  <a:lnTo>
                    <a:pt x="2700" y="16185"/>
                  </a:lnTo>
                  <a:lnTo>
                    <a:pt x="1350" y="16185"/>
                  </a:lnTo>
                  <a:close/>
                </a:path>
              </a:pathLst>
            </a:custGeom>
            <a:solidFill>
              <a:srgbClr val="c80000">
                <a:alpha val="8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54760" y="2421000"/>
              <a:ext cx="1368360" cy="1692360"/>
            </a:xfrm>
            <a:prstGeom prst="cube">
              <a:avLst>
                <a:gd name="adj" fmla="val 17518"/>
              </a:avLst>
            </a:prstGeom>
            <a:solidFill>
              <a:srgbClr val="94adec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18040" y="2889360"/>
              <a:ext cx="118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Arial"/>
                  <a:ea typeface="经典圆体简"/>
                </a:rPr>
                <a:t>毕业设计阶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78400" y="2997360"/>
              <a:ext cx="1008360" cy="576000"/>
            </a:xfrm>
            <a:custGeom>
              <a:avLst/>
              <a:gdLst>
                <a:gd name="textAreaLeft" fmla="*/ 157320 w 1008360"/>
                <a:gd name="textAreaRight" fmla="*/ 834120 w 1008360"/>
                <a:gd name="textAreaTop" fmla="*/ 144360 h 576000"/>
                <a:gd name="textAreaBottom" fmla="*/ 4316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15"/>
                  </a:moveTo>
                  <a:lnTo>
                    <a:pt x="14113" y="5415"/>
                  </a:lnTo>
                  <a:lnTo>
                    <a:pt x="14113" y="0"/>
                  </a:lnTo>
                  <a:lnTo>
                    <a:pt x="21600" y="10800"/>
                  </a:lnTo>
                  <a:lnTo>
                    <a:pt x="14113" y="21600"/>
                  </a:lnTo>
                  <a:lnTo>
                    <a:pt x="14113" y="16185"/>
                  </a:lnTo>
                  <a:lnTo>
                    <a:pt x="3375" y="16185"/>
                  </a:lnTo>
                  <a:close/>
                </a:path>
                <a:path w="21600" h="21600">
                  <a:moveTo>
                    <a:pt x="0" y="5415"/>
                  </a:moveTo>
                  <a:lnTo>
                    <a:pt x="675" y="5415"/>
                  </a:lnTo>
                  <a:lnTo>
                    <a:pt x="675" y="16185"/>
                  </a:lnTo>
                  <a:lnTo>
                    <a:pt x="0" y="16185"/>
                  </a:lnTo>
                  <a:close/>
                </a:path>
                <a:path w="21600" h="21600">
                  <a:moveTo>
                    <a:pt x="1350" y="5415"/>
                  </a:moveTo>
                  <a:lnTo>
                    <a:pt x="2700" y="5415"/>
                  </a:lnTo>
                  <a:lnTo>
                    <a:pt x="2700" y="16185"/>
                  </a:lnTo>
                  <a:lnTo>
                    <a:pt x="1350" y="16185"/>
                  </a:lnTo>
                  <a:close/>
                </a:path>
              </a:pathLst>
            </a:custGeom>
            <a:solidFill>
              <a:srgbClr val="c80000">
                <a:alpha val="8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08720" y="2889360"/>
              <a:ext cx="777960" cy="755640"/>
            </a:xfrm>
            <a:prstGeom prst="ellipse">
              <a:avLst/>
            </a:prstGeom>
            <a:solidFill>
              <a:srgbClr val="e2a908">
                <a:alpha val="8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经典圆体简"/>
                </a:rPr>
                <a:t>结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03280" y="44136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经典综艺体简"/>
              </a:rPr>
              <a:t>流程介绍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b879f"/>
                </a:solidFill>
                <a:latin typeface="Arial"/>
                <a:ea typeface="方正水黑简体"/>
              </a:rPr>
              <a:t>角色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64000" y="620640"/>
            <a:ext cx="469800" cy="453960"/>
          </a:xfrm>
          <a:prstGeom prst="ellipse">
            <a:avLst/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56000" y="58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方正毡笔黑简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152100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016000" y="1736640"/>
            <a:ext cx="792360" cy="792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987640" y="1808280"/>
            <a:ext cx="22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66"/>
                </a:solidFill>
                <a:latin typeface="Arial"/>
                <a:ea typeface="方正毡笔黑简体"/>
              </a:rPr>
              <a:t>教务人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016000" y="2673360"/>
            <a:ext cx="828720" cy="82872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1908000" y="3681360"/>
            <a:ext cx="1044360" cy="864720"/>
            <a:chOff x="1908000" y="3681360"/>
            <a:chExt cx="1044360" cy="86472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1908000" y="3681360"/>
              <a:ext cx="911160" cy="84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4"/>
            <a:stretch/>
          </p:blipFill>
          <p:spPr>
            <a:xfrm>
              <a:off x="2159280" y="3814560"/>
              <a:ext cx="793080" cy="73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3095640" y="382428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66"/>
                </a:solidFill>
                <a:latin typeface="Arial"/>
                <a:ea typeface="方正毡笔黑简体"/>
              </a:rPr>
              <a:t>学  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2781360"/>
            <a:ext cx="19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66"/>
                </a:solidFill>
                <a:latin typeface="Arial"/>
                <a:ea typeface="方正毡笔黑简体"/>
              </a:rPr>
              <a:t>指导教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55840" y="5234040"/>
            <a:ext cx="32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4572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经典综艺体简"/>
              </a:rPr>
              <a:t>流程介绍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b879f"/>
                </a:solidFill>
                <a:latin typeface="Arial"/>
                <a:ea typeface="方正水黑简体"/>
              </a:rPr>
              <a:t>基础数据录入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64000" y="620640"/>
            <a:ext cx="469800" cy="453960"/>
          </a:xfrm>
          <a:prstGeom prst="ellipse">
            <a:avLst/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58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方正毡笔黑简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92360" y="3897360"/>
            <a:ext cx="2411280" cy="1150920"/>
          </a:xfrm>
          <a:prstGeom prst="can">
            <a:avLst>
              <a:gd name="adj" fmla="val 34703"/>
            </a:avLst>
          </a:prstGeom>
          <a:solidFill>
            <a:srgbClr val="a827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08000" y="436572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2e802"/>
                </a:solidFill>
                <a:latin typeface="Arial"/>
                <a:ea typeface="经典圆体简"/>
              </a:rPr>
              <a:t>教师信息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03640" y="3860640"/>
            <a:ext cx="2411640" cy="1150920"/>
          </a:xfrm>
          <a:prstGeom prst="can">
            <a:avLst>
              <a:gd name="adj" fmla="val 34703"/>
            </a:avLst>
          </a:prstGeom>
          <a:solidFill>
            <a:srgbClr val="a827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56360" y="432900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2e802"/>
                </a:solidFill>
                <a:latin typeface="Arial"/>
                <a:ea typeface="经典圆体简"/>
              </a:rPr>
              <a:t>学生信息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152100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59280" y="148428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0" y="1700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0066"/>
                </a:solidFill>
                <a:latin typeface="Arial"/>
                <a:ea typeface="方正毡笔黑简体"/>
              </a:rPr>
              <a:t>教务人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2826600">
            <a:off x="3502440" y="2266200"/>
            <a:ext cx="179640" cy="2073240"/>
          </a:xfrm>
          <a:prstGeom prst="downArrow">
            <a:avLst>
              <a:gd name="adj1" fmla="val 50000"/>
              <a:gd name="adj2" fmla="val 2885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8642000">
            <a:off x="5362920" y="2210400"/>
            <a:ext cx="192240" cy="2159280"/>
          </a:xfrm>
          <a:prstGeom prst="downArrow">
            <a:avLst>
              <a:gd name="adj1" fmla="val 50000"/>
              <a:gd name="adj2" fmla="val 28080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3520" y="4572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经典综艺体简"/>
              </a:rPr>
              <a:t>流程介绍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b879f"/>
                </a:solidFill>
                <a:latin typeface="Arial"/>
                <a:ea typeface="方正水黑简体"/>
              </a:rPr>
              <a:t>基础数据录入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64000" y="620640"/>
            <a:ext cx="469800" cy="453960"/>
          </a:xfrm>
          <a:prstGeom prst="ellipse">
            <a:avLst/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56000" y="58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方正毡笔黑简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42920" y="119700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学生信息注意事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40000" y="2313000"/>
            <a:ext cx="61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58920" y="1665360"/>
            <a:ext cx="68403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每个专业学生数据只能导入一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使用导入方式提交学生数据时，必须使用标准</a:t>
            </a:r>
            <a:r>
              <a:rPr b="0" lang="en-US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表格格式，每个单元格均设置为文本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导入前需去除表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    “</a:t>
            </a: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所属学校”和“所属专业”必须以教学处给出的标准名称输入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所有为空项目必须输入“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进行填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403280" y="2313000"/>
            <a:ext cx="270000" cy="289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934920" y="144936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1476360" y="3753000"/>
            <a:ext cx="270000" cy="288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1476360" y="4292640"/>
            <a:ext cx="270000" cy="288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476360" y="5229360"/>
            <a:ext cx="270000" cy="288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448000" y="5589720"/>
            <a:ext cx="4895640" cy="654120"/>
          </a:xfrm>
          <a:prstGeom prst="rect">
            <a:avLst/>
          </a:prstGeom>
          <a:solidFill>
            <a:srgbClr val="333399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e9ce8"/>
                </a:solidFill>
                <a:uFillTx/>
                <a:latin typeface="Arial"/>
                <a:ea typeface="黑体"/>
                <a:hlinkClick r:id="rId6"/>
              </a:rPr>
              <a:t>已制作完成可以进行导入的表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11280" y="3033720"/>
            <a:ext cx="4896000" cy="654120"/>
          </a:xfrm>
          <a:prstGeom prst="rect">
            <a:avLst/>
          </a:prstGeom>
          <a:solidFill>
            <a:srgbClr val="333399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e9ce8"/>
                </a:solidFill>
                <a:uFillTx/>
                <a:latin typeface="黑体"/>
                <a:ea typeface="黑体"/>
                <a:hlinkClick r:id="rId7"/>
              </a:rPr>
              <a:t>标准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黑体"/>
                <a:ea typeface="黑体"/>
                <a:hlinkClick r:id="rId8"/>
              </a:rPr>
              <a:t>Excel</a:t>
            </a:r>
            <a:r>
              <a:rPr b="0" lang="zh-CN" sz="2400" spc="-1" strike="noStrike" u="sng">
                <a:solidFill>
                  <a:srgbClr val="7e9ce8"/>
                </a:solidFill>
                <a:uFillTx/>
                <a:latin typeface="黑体"/>
                <a:ea typeface="黑体"/>
                <a:hlinkClick r:id="rId9"/>
              </a:rPr>
              <a:t>表格格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1403280" y="1736640"/>
            <a:ext cx="27000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3520" y="4572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经典综艺体简"/>
              </a:rPr>
              <a:t>流程介绍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b879f"/>
                </a:solidFill>
                <a:latin typeface="Arial"/>
                <a:ea typeface="方正水黑简体"/>
              </a:rPr>
              <a:t>基础数据录入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4000" y="620640"/>
            <a:ext cx="469800" cy="453960"/>
          </a:xfrm>
          <a:prstGeom prst="ellipse">
            <a:avLst/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56000" y="58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方正毡笔黑简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119700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教师信息注意事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40000" y="2313000"/>
            <a:ext cx="61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2097000"/>
            <a:ext cx="684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用户名必须是字母、数字和下划线的组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用户名的设定建议和统一身份认证的保持一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03280" y="2168640"/>
            <a:ext cx="270000" cy="288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34920" y="144936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03280" y="2744640"/>
            <a:ext cx="27000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33520" y="4572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经典综艺体简"/>
              </a:rPr>
              <a:t>流程介绍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b879f"/>
                </a:solidFill>
                <a:latin typeface="Arial"/>
                <a:ea typeface="方正水黑简体"/>
              </a:rPr>
              <a:t>毕业设计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64000" y="620640"/>
            <a:ext cx="469800" cy="453960"/>
          </a:xfrm>
          <a:prstGeom prst="ellipse">
            <a:avLst/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58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方正毡笔黑简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3280" y="3105000"/>
            <a:ext cx="718920" cy="684360"/>
          </a:xfrm>
          <a:prstGeom prst="ellipse">
            <a:avLst/>
          </a:prstGeom>
          <a:solidFill>
            <a:srgbClr val="ffcc00">
              <a:alpha val="83000"/>
            </a:srgbClr>
          </a:solidFill>
          <a:ln w="28440">
            <a:solidFill>
              <a:srgbClr val="b49200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经典圆体简"/>
              </a:rPr>
              <a:t>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868480" y="2585880"/>
            <a:ext cx="828720" cy="1692360"/>
            <a:chOff x="2868480" y="2585880"/>
            <a:chExt cx="828720" cy="1692360"/>
          </a:xfrm>
        </p:grpSpPr>
        <p:sp>
          <p:nvSpPr>
            <p:cNvPr id="226" name=""/>
            <p:cNvSpPr/>
            <p:nvPr/>
          </p:nvSpPr>
          <p:spPr>
            <a:xfrm>
              <a:off x="2882880" y="2585880"/>
              <a:ext cx="812520" cy="1692360"/>
            </a:xfrm>
            <a:prstGeom prst="cube">
              <a:avLst>
                <a:gd name="adj" fmla="val 4523"/>
              </a:avLst>
            </a:prstGeom>
            <a:solidFill>
              <a:srgbClr val="94adec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68480" y="2895480"/>
              <a:ext cx="82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Arial"/>
                  <a:ea typeface="经典圆体简"/>
                </a:rPr>
                <a:t>导师学生分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595520" y="2585880"/>
            <a:ext cx="911160" cy="1692360"/>
            <a:chOff x="1595520" y="2585880"/>
            <a:chExt cx="911160" cy="1692360"/>
          </a:xfrm>
        </p:grpSpPr>
        <p:sp>
          <p:nvSpPr>
            <p:cNvPr id="229" name=""/>
            <p:cNvSpPr/>
            <p:nvPr/>
          </p:nvSpPr>
          <p:spPr>
            <a:xfrm>
              <a:off x="1656000" y="2585880"/>
              <a:ext cx="850680" cy="1692360"/>
            </a:xfrm>
            <a:prstGeom prst="cube">
              <a:avLst>
                <a:gd name="adj" fmla="val 4523"/>
              </a:avLst>
            </a:prstGeom>
            <a:solidFill>
              <a:srgbClr val="ad5bff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95520" y="2909880"/>
              <a:ext cx="9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Arial"/>
                  <a:ea typeface="经典圆体简"/>
                </a:rPr>
                <a:t>导师资格申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043520" y="2585880"/>
            <a:ext cx="911160" cy="1692360"/>
            <a:chOff x="4043520" y="2585880"/>
            <a:chExt cx="911160" cy="1692360"/>
          </a:xfrm>
        </p:grpSpPr>
        <p:sp>
          <p:nvSpPr>
            <p:cNvPr id="232" name=""/>
            <p:cNvSpPr/>
            <p:nvPr/>
          </p:nvSpPr>
          <p:spPr>
            <a:xfrm>
              <a:off x="4103640" y="2585880"/>
              <a:ext cx="851040" cy="1692360"/>
            </a:xfrm>
            <a:prstGeom prst="cube">
              <a:avLst>
                <a:gd name="adj" fmla="val 4523"/>
              </a:avLst>
            </a:prstGeom>
            <a:solidFill>
              <a:srgbClr val="d8d8ec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43520" y="2909880"/>
              <a:ext cx="9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Arial"/>
                  <a:ea typeface="经典圆体简"/>
                </a:rPr>
                <a:t>选题审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286240" y="2563920"/>
            <a:ext cx="911160" cy="1692000"/>
            <a:chOff x="5286240" y="2563920"/>
            <a:chExt cx="911160" cy="1692000"/>
          </a:xfrm>
        </p:grpSpPr>
        <p:sp>
          <p:nvSpPr>
            <p:cNvPr id="235" name=""/>
            <p:cNvSpPr/>
            <p:nvPr/>
          </p:nvSpPr>
          <p:spPr>
            <a:xfrm>
              <a:off x="5346720" y="2563920"/>
              <a:ext cx="850680" cy="1692000"/>
            </a:xfrm>
            <a:prstGeom prst="cube">
              <a:avLst>
                <a:gd name="adj" fmla="val 4523"/>
              </a:avLst>
            </a:prstGeom>
            <a:solidFill>
              <a:srgbClr val="ff9933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86240" y="2887560"/>
              <a:ext cx="9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Arial"/>
                  <a:ea typeface="经典圆体简"/>
                </a:rPr>
                <a:t>师生交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583320" y="2529000"/>
            <a:ext cx="910800" cy="1692000"/>
            <a:chOff x="6583320" y="2529000"/>
            <a:chExt cx="910800" cy="1692000"/>
          </a:xfrm>
        </p:grpSpPr>
        <p:sp>
          <p:nvSpPr>
            <p:cNvPr id="238" name=""/>
            <p:cNvSpPr/>
            <p:nvPr/>
          </p:nvSpPr>
          <p:spPr>
            <a:xfrm>
              <a:off x="6643440" y="2529000"/>
              <a:ext cx="850680" cy="1692000"/>
            </a:xfrm>
            <a:prstGeom prst="cube">
              <a:avLst>
                <a:gd name="adj" fmla="val 4523"/>
              </a:avLst>
            </a:prstGeom>
            <a:solidFill>
              <a:srgbClr val="e686d8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83320" y="2852280"/>
              <a:ext cx="9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Arial"/>
                  <a:ea typeface="经典圆体简"/>
                </a:rPr>
                <a:t>论文审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459160" y="3306600"/>
            <a:ext cx="431640" cy="252720"/>
          </a:xfrm>
          <a:custGeom>
            <a:avLst/>
            <a:gdLst>
              <a:gd name="textAreaLeft" fmla="*/ 67320 w 431640"/>
              <a:gd name="textAreaRight" fmla="*/ 341640 w 431640"/>
              <a:gd name="textAreaTop" fmla="*/ 72360 h 252720"/>
              <a:gd name="textAreaBottom" fmla="*/ 180360 h 252720"/>
            </a:gdLst>
            <a:ahLst/>
            <a:rect l="textAreaLeft" t="textAreaTop" r="textAreaRight" b="textAreaBottom"/>
            <a:pathLst>
              <a:path w="21600" h="21600">
                <a:moveTo>
                  <a:pt x="3375" y="6185"/>
                </a:moveTo>
                <a:lnTo>
                  <a:pt x="11054" y="6185"/>
                </a:lnTo>
                <a:lnTo>
                  <a:pt x="11054" y="0"/>
                </a:lnTo>
                <a:lnTo>
                  <a:pt x="21600" y="10800"/>
                </a:lnTo>
                <a:lnTo>
                  <a:pt x="11054" y="21600"/>
                </a:lnTo>
                <a:lnTo>
                  <a:pt x="11054" y="15415"/>
                </a:lnTo>
                <a:lnTo>
                  <a:pt x="3375" y="15415"/>
                </a:lnTo>
                <a:close/>
              </a:path>
              <a:path w="21600" h="21600">
                <a:moveTo>
                  <a:pt x="0" y="6185"/>
                </a:moveTo>
                <a:lnTo>
                  <a:pt x="675" y="6185"/>
                </a:lnTo>
                <a:lnTo>
                  <a:pt x="675" y="15415"/>
                </a:lnTo>
                <a:lnTo>
                  <a:pt x="0" y="15415"/>
                </a:lnTo>
                <a:close/>
              </a:path>
              <a:path w="21600" h="21600">
                <a:moveTo>
                  <a:pt x="1350" y="6185"/>
                </a:moveTo>
                <a:lnTo>
                  <a:pt x="2700" y="6185"/>
                </a:lnTo>
                <a:lnTo>
                  <a:pt x="2700" y="15415"/>
                </a:lnTo>
                <a:lnTo>
                  <a:pt x="1350" y="15415"/>
                </a:lnTo>
                <a:close/>
              </a:path>
            </a:pathLst>
          </a:custGeom>
          <a:solidFill>
            <a:srgbClr val="c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60840" y="3270240"/>
            <a:ext cx="431640" cy="252360"/>
          </a:xfrm>
          <a:custGeom>
            <a:avLst/>
            <a:gdLst>
              <a:gd name="textAreaLeft" fmla="*/ 67320 w 431640"/>
              <a:gd name="textAreaRight" fmla="*/ 341640 w 431640"/>
              <a:gd name="textAreaTop" fmla="*/ 72360 h 252360"/>
              <a:gd name="textAreaBottom" fmla="*/ 180000 h 252360"/>
            </a:gdLst>
            <a:ahLst/>
            <a:rect l="textAreaLeft" t="textAreaTop" r="textAreaRight" b="textAreaBottom"/>
            <a:pathLst>
              <a:path w="21600" h="21600">
                <a:moveTo>
                  <a:pt x="3375" y="6185"/>
                </a:moveTo>
                <a:lnTo>
                  <a:pt x="11054" y="6185"/>
                </a:lnTo>
                <a:lnTo>
                  <a:pt x="11054" y="0"/>
                </a:lnTo>
                <a:lnTo>
                  <a:pt x="21600" y="10800"/>
                </a:lnTo>
                <a:lnTo>
                  <a:pt x="11054" y="21600"/>
                </a:lnTo>
                <a:lnTo>
                  <a:pt x="11054" y="15415"/>
                </a:lnTo>
                <a:lnTo>
                  <a:pt x="3375" y="15415"/>
                </a:lnTo>
                <a:close/>
              </a:path>
              <a:path w="21600" h="21600">
                <a:moveTo>
                  <a:pt x="0" y="6185"/>
                </a:moveTo>
                <a:lnTo>
                  <a:pt x="675" y="6185"/>
                </a:lnTo>
                <a:lnTo>
                  <a:pt x="675" y="15415"/>
                </a:lnTo>
                <a:lnTo>
                  <a:pt x="0" y="15415"/>
                </a:lnTo>
                <a:close/>
              </a:path>
              <a:path w="21600" h="21600">
                <a:moveTo>
                  <a:pt x="1350" y="6185"/>
                </a:moveTo>
                <a:lnTo>
                  <a:pt x="2700" y="6185"/>
                </a:lnTo>
                <a:lnTo>
                  <a:pt x="2700" y="15415"/>
                </a:lnTo>
                <a:lnTo>
                  <a:pt x="1350" y="15415"/>
                </a:lnTo>
                <a:close/>
              </a:path>
            </a:pathLst>
          </a:custGeom>
          <a:solidFill>
            <a:srgbClr val="c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06800" y="3270240"/>
            <a:ext cx="432000" cy="252360"/>
          </a:xfrm>
          <a:custGeom>
            <a:avLst/>
            <a:gdLst>
              <a:gd name="textAreaLeft" fmla="*/ 67320 w 432000"/>
              <a:gd name="textAreaRight" fmla="*/ 342000 w 432000"/>
              <a:gd name="textAreaTop" fmla="*/ 72360 h 252360"/>
              <a:gd name="textAreaBottom" fmla="*/ 180000 h 252360"/>
            </a:gdLst>
            <a:ahLst/>
            <a:rect l="textAreaLeft" t="textAreaTop" r="textAreaRight" b="textAreaBottom"/>
            <a:pathLst>
              <a:path w="21600" h="21600">
                <a:moveTo>
                  <a:pt x="3375" y="6185"/>
                </a:moveTo>
                <a:lnTo>
                  <a:pt x="11054" y="6185"/>
                </a:lnTo>
                <a:lnTo>
                  <a:pt x="11054" y="0"/>
                </a:lnTo>
                <a:lnTo>
                  <a:pt x="21600" y="10800"/>
                </a:lnTo>
                <a:lnTo>
                  <a:pt x="11054" y="21600"/>
                </a:lnTo>
                <a:lnTo>
                  <a:pt x="11054" y="15415"/>
                </a:lnTo>
                <a:lnTo>
                  <a:pt x="3375" y="15415"/>
                </a:lnTo>
                <a:close/>
              </a:path>
              <a:path w="21600" h="21600">
                <a:moveTo>
                  <a:pt x="0" y="6185"/>
                </a:moveTo>
                <a:lnTo>
                  <a:pt x="675" y="6185"/>
                </a:lnTo>
                <a:lnTo>
                  <a:pt x="675" y="15415"/>
                </a:lnTo>
                <a:lnTo>
                  <a:pt x="0" y="15415"/>
                </a:lnTo>
                <a:close/>
              </a:path>
              <a:path w="21600" h="21600">
                <a:moveTo>
                  <a:pt x="1350" y="6185"/>
                </a:moveTo>
                <a:lnTo>
                  <a:pt x="2700" y="6185"/>
                </a:lnTo>
                <a:lnTo>
                  <a:pt x="2700" y="15415"/>
                </a:lnTo>
                <a:lnTo>
                  <a:pt x="1350" y="15415"/>
                </a:lnTo>
                <a:close/>
              </a:path>
            </a:pathLst>
          </a:custGeom>
          <a:solidFill>
            <a:srgbClr val="c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03880" y="3270240"/>
            <a:ext cx="432000" cy="252360"/>
          </a:xfrm>
          <a:custGeom>
            <a:avLst/>
            <a:gdLst>
              <a:gd name="textAreaLeft" fmla="*/ 67320 w 432000"/>
              <a:gd name="textAreaRight" fmla="*/ 342000 w 432000"/>
              <a:gd name="textAreaTop" fmla="*/ 72360 h 252360"/>
              <a:gd name="textAreaBottom" fmla="*/ 180000 h 252360"/>
            </a:gdLst>
            <a:ahLst/>
            <a:rect l="textAreaLeft" t="textAreaTop" r="textAreaRight" b="textAreaBottom"/>
            <a:pathLst>
              <a:path w="21600" h="21600">
                <a:moveTo>
                  <a:pt x="3375" y="6185"/>
                </a:moveTo>
                <a:lnTo>
                  <a:pt x="11054" y="6185"/>
                </a:lnTo>
                <a:lnTo>
                  <a:pt x="11054" y="0"/>
                </a:lnTo>
                <a:lnTo>
                  <a:pt x="21600" y="10800"/>
                </a:lnTo>
                <a:lnTo>
                  <a:pt x="11054" y="21600"/>
                </a:lnTo>
                <a:lnTo>
                  <a:pt x="11054" y="15415"/>
                </a:lnTo>
                <a:lnTo>
                  <a:pt x="3375" y="15415"/>
                </a:lnTo>
                <a:close/>
              </a:path>
              <a:path w="21600" h="21600">
                <a:moveTo>
                  <a:pt x="0" y="6185"/>
                </a:moveTo>
                <a:lnTo>
                  <a:pt x="675" y="6185"/>
                </a:lnTo>
                <a:lnTo>
                  <a:pt x="675" y="15415"/>
                </a:lnTo>
                <a:lnTo>
                  <a:pt x="0" y="15415"/>
                </a:lnTo>
                <a:close/>
              </a:path>
              <a:path w="21600" h="21600">
                <a:moveTo>
                  <a:pt x="1350" y="6185"/>
                </a:moveTo>
                <a:lnTo>
                  <a:pt x="2700" y="6185"/>
                </a:lnTo>
                <a:lnTo>
                  <a:pt x="2700" y="15415"/>
                </a:lnTo>
                <a:lnTo>
                  <a:pt x="1350" y="15415"/>
                </a:lnTo>
                <a:close/>
              </a:path>
            </a:pathLst>
          </a:custGeom>
          <a:solidFill>
            <a:srgbClr val="c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64600" y="3270240"/>
            <a:ext cx="431640" cy="252360"/>
          </a:xfrm>
          <a:custGeom>
            <a:avLst/>
            <a:gdLst>
              <a:gd name="textAreaLeft" fmla="*/ 67320 w 431640"/>
              <a:gd name="textAreaRight" fmla="*/ 341640 w 431640"/>
              <a:gd name="textAreaTop" fmla="*/ 72360 h 252360"/>
              <a:gd name="textAreaBottom" fmla="*/ 180000 h 252360"/>
            </a:gdLst>
            <a:ahLst/>
            <a:rect l="textAreaLeft" t="textAreaTop" r="textAreaRight" b="textAreaBottom"/>
            <a:pathLst>
              <a:path w="21600" h="21600">
                <a:moveTo>
                  <a:pt x="3375" y="6185"/>
                </a:moveTo>
                <a:lnTo>
                  <a:pt x="11054" y="6185"/>
                </a:lnTo>
                <a:lnTo>
                  <a:pt x="11054" y="0"/>
                </a:lnTo>
                <a:lnTo>
                  <a:pt x="21600" y="10800"/>
                </a:lnTo>
                <a:lnTo>
                  <a:pt x="11054" y="21600"/>
                </a:lnTo>
                <a:lnTo>
                  <a:pt x="11054" y="15415"/>
                </a:lnTo>
                <a:lnTo>
                  <a:pt x="3375" y="15415"/>
                </a:lnTo>
                <a:close/>
              </a:path>
              <a:path w="21600" h="21600">
                <a:moveTo>
                  <a:pt x="0" y="6185"/>
                </a:moveTo>
                <a:lnTo>
                  <a:pt x="675" y="6185"/>
                </a:lnTo>
                <a:lnTo>
                  <a:pt x="675" y="15415"/>
                </a:lnTo>
                <a:lnTo>
                  <a:pt x="0" y="15415"/>
                </a:lnTo>
                <a:close/>
              </a:path>
              <a:path w="21600" h="21600">
                <a:moveTo>
                  <a:pt x="1350" y="6185"/>
                </a:moveTo>
                <a:lnTo>
                  <a:pt x="2700" y="6185"/>
                </a:lnTo>
                <a:lnTo>
                  <a:pt x="2700" y="15415"/>
                </a:lnTo>
                <a:lnTo>
                  <a:pt x="1350" y="15415"/>
                </a:lnTo>
                <a:close/>
              </a:path>
            </a:pathLst>
          </a:custGeom>
          <a:solidFill>
            <a:srgbClr val="c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24000" y="3319560"/>
            <a:ext cx="431640" cy="252360"/>
          </a:xfrm>
          <a:custGeom>
            <a:avLst/>
            <a:gdLst>
              <a:gd name="textAreaLeft" fmla="*/ 67320 w 431640"/>
              <a:gd name="textAreaRight" fmla="*/ 341640 w 431640"/>
              <a:gd name="textAreaTop" fmla="*/ 72360 h 252360"/>
              <a:gd name="textAreaBottom" fmla="*/ 180000 h 252360"/>
            </a:gdLst>
            <a:ahLst/>
            <a:rect l="textAreaLeft" t="textAreaTop" r="textAreaRight" b="textAreaBottom"/>
            <a:pathLst>
              <a:path w="21600" h="21600">
                <a:moveTo>
                  <a:pt x="3375" y="6185"/>
                </a:moveTo>
                <a:lnTo>
                  <a:pt x="11054" y="6185"/>
                </a:lnTo>
                <a:lnTo>
                  <a:pt x="11054" y="0"/>
                </a:lnTo>
                <a:lnTo>
                  <a:pt x="21600" y="10800"/>
                </a:lnTo>
                <a:lnTo>
                  <a:pt x="11054" y="21600"/>
                </a:lnTo>
                <a:lnTo>
                  <a:pt x="11054" y="15415"/>
                </a:lnTo>
                <a:lnTo>
                  <a:pt x="3375" y="15415"/>
                </a:lnTo>
                <a:close/>
              </a:path>
              <a:path w="21600" h="21600">
                <a:moveTo>
                  <a:pt x="0" y="6185"/>
                </a:moveTo>
                <a:lnTo>
                  <a:pt x="675" y="6185"/>
                </a:lnTo>
                <a:lnTo>
                  <a:pt x="675" y="15415"/>
                </a:lnTo>
                <a:lnTo>
                  <a:pt x="0" y="15415"/>
                </a:lnTo>
                <a:close/>
              </a:path>
              <a:path w="21600" h="21600">
                <a:moveTo>
                  <a:pt x="1350" y="6185"/>
                </a:moveTo>
                <a:lnTo>
                  <a:pt x="2700" y="6185"/>
                </a:lnTo>
                <a:lnTo>
                  <a:pt x="2700" y="15415"/>
                </a:lnTo>
                <a:lnTo>
                  <a:pt x="1350" y="15415"/>
                </a:lnTo>
                <a:close/>
              </a:path>
            </a:pathLst>
          </a:custGeom>
          <a:solidFill>
            <a:srgbClr val="c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97680" y="3021120"/>
            <a:ext cx="719280" cy="684000"/>
          </a:xfrm>
          <a:prstGeom prst="ellipse">
            <a:avLst/>
          </a:prstGeom>
          <a:solidFill>
            <a:srgbClr val="ffcc00">
              <a:alpha val="83000"/>
            </a:srgbClr>
          </a:solidFill>
          <a:ln w="28440">
            <a:solidFill>
              <a:srgbClr val="b49200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经典圆体简"/>
              </a:rPr>
              <a:t>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4572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经典综艺体简"/>
              </a:rPr>
              <a:t>流程介绍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b879f"/>
                </a:solidFill>
                <a:latin typeface="Arial"/>
                <a:ea typeface="方正水黑简体"/>
              </a:rPr>
              <a:t>毕业设计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04920" y="1521000"/>
          <a:ext cx="8458200" cy="4802040"/>
        </p:xfrm>
        <a:graphic>
          <a:graphicData uri="http://schemas.openxmlformats.org/drawingml/2006/table">
            <a:tbl>
              <a:tblPr/>
              <a:tblGrid>
                <a:gridCol w="1396800"/>
                <a:gridCol w="1285920"/>
                <a:gridCol w="1274760"/>
                <a:gridCol w="1474920"/>
                <a:gridCol w="1550880"/>
                <a:gridCol w="14749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经典圆体简"/>
                        </a:rPr>
                        <a:t>子流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经典圆体简"/>
                        </a:rPr>
                        <a:t>角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方正水黑简体"/>
                        </a:rPr>
                        <a:t>导师资格申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方正水黑简体"/>
                        </a:rPr>
                        <a:t>导师学生分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方正水黑简体"/>
                        </a:rPr>
                        <a:t>选题审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方正水黑简体"/>
                        </a:rPr>
                        <a:t>交流平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方正水黑简体"/>
                        </a:rPr>
                        <a:t>论文审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99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经典综艺体简"/>
                        </a:rPr>
                        <a:t>学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65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上报选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收发消息与导师交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上传论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  <a:tr h="99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经典综艺体简"/>
                        </a:rPr>
                        <a:t>指导教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审核学生 选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收发消息与学生交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初审成绩 录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99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经典综艺体简"/>
                        </a:rPr>
                        <a:t>教务人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6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方正毡笔黑简体"/>
                        </a:rPr>
                        <a:t>提交导师资格申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分配导师学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答辩、总评成绩录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99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经典综艺体简"/>
                        </a:rPr>
                        <a:t>专业负责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>
                        <a:alpha val="6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方正毡笔黑简体"/>
                        </a:rPr>
                        <a:t>审核导师资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审核学生 选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查看师生交流情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查看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审核学生论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2664000" y="620640"/>
            <a:ext cx="469800" cy="453960"/>
          </a:xfrm>
          <a:prstGeom prst="ellipse">
            <a:avLst/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56000" y="58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方正毡笔黑简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40000" y="5049720"/>
            <a:ext cx="0" cy="541440"/>
          </a:xfrm>
          <a:prstGeom prst="line">
            <a:avLst/>
          </a:prstGeom>
          <a:ln w="34920">
            <a:solidFill>
              <a:srgbClr val="8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2997360"/>
            <a:ext cx="0" cy="541080"/>
          </a:xfrm>
          <a:prstGeom prst="line">
            <a:avLst/>
          </a:prstGeom>
          <a:ln w="34920">
            <a:solidFill>
              <a:srgbClr val="8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03640" y="4113360"/>
            <a:ext cx="0" cy="1439640"/>
          </a:xfrm>
          <a:prstGeom prst="line">
            <a:avLst/>
          </a:prstGeom>
          <a:ln w="34920">
            <a:solidFill>
              <a:srgbClr val="8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28000" y="2960640"/>
            <a:ext cx="0" cy="647640"/>
          </a:xfrm>
          <a:prstGeom prst="line">
            <a:avLst/>
          </a:prstGeom>
          <a:ln w="34920">
            <a:solidFill>
              <a:srgbClr val="8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28000" y="4113360"/>
            <a:ext cx="0" cy="647640"/>
          </a:xfrm>
          <a:prstGeom prst="line">
            <a:avLst/>
          </a:prstGeom>
          <a:ln w="34920">
            <a:solidFill>
              <a:srgbClr val="8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28000" y="5049720"/>
            <a:ext cx="0" cy="574920"/>
          </a:xfrm>
          <a:prstGeom prst="line">
            <a:avLst/>
          </a:prstGeom>
          <a:ln w="34920">
            <a:solidFill>
              <a:srgbClr val="8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您的用户名</cp:lastModifiedBy>
  <dcterms:modified xsi:type="dcterms:W3CDTF">2009-02-19T02:07:44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  <property fmtid="{D5CDD505-2E9C-101B-9397-08002B2CF9AE}" pid="3" name="Version">
    <vt:r8>1</vt:r8>
  </property>
</Properties>
</file>