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2AB-CA90-4FAD-8942-7F83E150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D60-2BE4-40F2-BFB3-A398CF21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D8F-6F11-49FB-ADDE-D31BFA6B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973-BB75-4B6C-9975-82CDC9C1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266-916E-4091-87C3-17AFACEF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0F0-F167-4250-B7B7-5F450BBE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CF8-686F-415C-8CFE-8DA536C3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4BF-6B6C-479A-92F5-86D702F3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00C-2AAA-410B-810B-4656459F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146-73E5-4359-8CBD-0AF86240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D9A-CBBD-4396-87FC-973847DC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520-3062-4F46-8F97-07688FDC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8DF4-F9CD-43A4-97C6-7993B2D30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95400" y="1295280"/>
            <a:ext cx="8951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3904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23840" y="304920"/>
            <a:ext cx="90201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039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41200" y="990720"/>
            <a:ext cx="8386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5" name="Picture 4" descr="C:\Users\Administrator\Desktop\111.png"/>
          <p:cNvPicPr/>
          <p:nvPr/>
        </p:nvPicPr>
        <p:blipFill>
          <a:blip r:embed="rId1"/>
          <a:stretch/>
        </p:blipFill>
        <p:spPr>
          <a:xfrm>
            <a:off x="1981080" y="15840"/>
            <a:ext cx="45720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5T09:23:46Z</dcterms:created>
  <dc:creator>Administrator</dc:creator>
  <dc:description/>
  <dc:language>en-US</dc:language>
  <cp:lastModifiedBy>许庆伟</cp:lastModifiedBy>
  <dcterms:modified xsi:type="dcterms:W3CDTF">2020-02-25T11:57:49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