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B60-2BD3-4357-82FF-8DF671E2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3EE-CB58-48AF-AF99-5E2D0895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1E7-A095-4E66-9FF9-9234D74C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ACE-3B33-48FB-979C-6B814977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AC59-251E-4539-8114-2035D2C7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F0E8-6211-4128-B0F7-9E08E910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674A-EF1D-4375-BDE7-BF51CCD2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F89A-BEBD-4D84-B1CC-76DDC54A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79EC-7A97-4FFA-B7B9-8BC7A2CC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C5C0-84D8-44A5-8BCF-95C8D4F1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4ACB-3C4A-4014-AFF2-D82CA7AA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49D-A08B-4CBA-B293-69F5E173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EEF6-F1C1-465E-AEB6-B8E32B8D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C502-B2DF-4E79-AFB4-D79FA1A9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FF35-2DF2-4AF6-9C5F-C6627781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F372-8C02-4B23-A8E1-826EBB0B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2828-EDB4-4982-B978-B4519F9F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DE667-656E-43D8-8265-9B548F85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5A203-B820-4E9E-99EE-FC5BF58B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2F967-8CC3-4D2C-9D14-3A80C26F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9A57B-A9E6-478D-9A90-7EA26573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BE132-0C10-4BE5-AD11-892827A9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9EB-4227-4903-8B25-9B5BE7EF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AA6ED-5F17-463D-AA47-606300C3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A1B4A-390B-46DF-A1BE-6C52D002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8C634-EA9E-4106-A5DC-17201110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34489-DA6A-4624-8158-4871E1AA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F3CBB-F67E-4AB2-8C78-18F7B738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D8685-2F07-4836-8672-D3A32996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B6277-A8E0-4FDA-9223-08465E4F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D9389-0BF0-482C-B4B1-09253E59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22B2D-4B5F-4F25-9445-AA78160F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CBBDD-CF46-4A1D-B1CE-1ED56B5A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3F6-CE24-47CD-8544-58208C7F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BE79F-7C57-4CD6-8116-E3358DD1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C8558-0C67-4DCA-A470-90EF308E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E87EF-42E4-4E96-84F5-732C4176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D229A-F634-44BB-A894-CE38A43E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4465-C1BE-4DDB-BF34-55EFA186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877A-FF05-42F7-99DC-5F7B4EA1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C19EA-BEDD-44FF-8346-61B2B04F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6963B-DBE5-4BBA-BCA4-5EC771E6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299B4-25B2-4351-B190-05227F88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80601-73D9-4D38-8451-3B508375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F15-210F-4190-BDAF-9E9A543F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54670-9D65-4208-921F-83C56A6D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493AE-F14E-4192-8ECA-D26A2842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E9EEF-C71D-4D52-9936-40F37531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21690-0851-428B-8EFD-038DE493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06D37-BD5E-48E7-81B4-6ABF5588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DF0EF-12AB-453D-B0EE-CFE172EF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E351B-96F2-4F59-8547-E5DE6F64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852D5-884E-49C9-94F5-13B12E45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947415-26DC-45BE-A782-5EF83F4C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56DC5-E67F-4B5E-AFAC-3C0D9367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05B-975E-4C00-A687-47429C54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E4A77-3093-4218-B2F1-3F26B331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BE61B-09C4-4708-BDE1-EB9894DB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A76371-5CBA-4E28-A93E-A7A33D75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143DE-08E7-41F8-9E4B-8AAE926F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B2963-E7DC-41B3-B41D-65E64DB8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DE5DB-F676-427C-A8C1-C78B5BEE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CA397-B450-43EF-A3AA-4A574F5B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7F8C3-A6DE-47AC-90ED-BA464A7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D0ACC-1B76-4F24-B718-51F3EB32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2EB95-BECC-4EA9-8AF3-1B165108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DA0-05B8-4339-9759-68BD279C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5E6CE2-C772-4660-8799-CB70C2F1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11849C-AFDE-40D0-8262-B67598B0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56469-D0C2-4BFD-BE52-49D38D16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C76E7-523D-4FD2-AD14-D0ADDC43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FC7FD-D2D9-4369-AB0D-7870C75C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122B7B-5B95-46B9-97C2-6C13017A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BB5AC1-8CE1-41F3-9543-BEDF2FE2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B423B-4074-4627-9E53-3652B070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FA5CE-2642-4BAB-B847-0101FB74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37B86E-8DC4-46B0-BB3F-DE3FFC95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4E6A-F960-44B2-8B52-26B93F3A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A0263-30A9-4EC7-8507-42C05804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F7E14-DDF8-4C69-BB1D-9934E4BC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88BFD-726C-4078-97AF-C1AB8991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D8452-EC0B-43A0-879E-EEFDCBCE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B9FBA-7EE5-4A8B-A1B7-5EC0E212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80E-30A4-4F75-BFFE-9F7FFE8C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1" name="直接连接符 15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fec3ae">
                  <a:alpha val="9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6320" y="0"/>
            <a:ext cx="360" cy="6858000"/>
            <a:chOff x="76320" y="0"/>
            <a:chExt cx="360" cy="6858000"/>
          </a:xfrm>
        </p:grpSpPr>
        <p:sp>
          <p:nvSpPr>
            <p:cNvPr id="8" name="直接连接符 6"/>
            <p:cNvSpPr/>
            <p:nvPr/>
          </p:nvSpPr>
          <p:spPr>
            <a:xfrm>
              <a:off x="76320" y="0"/>
              <a:ext cx="0" cy="6858000"/>
            </a:xfrm>
            <a:prstGeom prst="line">
              <a:avLst/>
            </a:prstGeom>
            <a:ln w="5724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763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11" name="直接连接符 8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15" name="直接连接符 1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E9FC-5EFA-436B-89B8-F9D2DA2F6924}" type="slidenum">
              <a:rPr b="1" lang="zh-CN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6200" y="0"/>
            <a:ext cx="360" cy="6858000"/>
            <a:chOff x="106200" y="0"/>
            <a:chExt cx="360" cy="6858000"/>
          </a:xfrm>
        </p:grpSpPr>
        <p:sp>
          <p:nvSpPr>
            <p:cNvPr id="60" name="直接连接符 18"/>
            <p:cNvSpPr/>
            <p:nvPr/>
          </p:nvSpPr>
          <p:spPr>
            <a:xfrm>
              <a:off x="106200" y="0"/>
              <a:ext cx="0" cy="6858000"/>
            </a:xfrm>
            <a:prstGeom prst="line">
              <a:avLst/>
            </a:prstGeom>
            <a:ln w="57240">
              <a:solidFill>
                <a:srgbClr val="fec3ae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1062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914400" y="0"/>
            <a:ext cx="360" cy="6858000"/>
            <a:chOff x="914400" y="0"/>
            <a:chExt cx="360" cy="6858000"/>
          </a:xfrm>
        </p:grpSpPr>
        <p:sp>
          <p:nvSpPr>
            <p:cNvPr id="63" name="直接连接符 19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57240">
              <a:solidFill>
                <a:srgbClr val="ffede8">
                  <a:alpha val="8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914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53920" y="0"/>
            <a:ext cx="360" cy="6858000"/>
            <a:chOff x="853920" y="0"/>
            <a:chExt cx="360" cy="6858000"/>
          </a:xfrm>
        </p:grpSpPr>
        <p:sp>
          <p:nvSpPr>
            <p:cNvPr id="66" name="直接连接符 20"/>
            <p:cNvSpPr/>
            <p:nvPr/>
          </p:nvSpPr>
          <p:spPr>
            <a:xfrm>
              <a:off x="853920" y="0"/>
              <a:ext cx="0" cy="6858000"/>
            </a:xfrm>
            <a:prstGeom prst="line">
              <a:avLst/>
            </a:prstGeom>
            <a:ln w="5724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8539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727280" y="0"/>
            <a:ext cx="360" cy="6858000"/>
            <a:chOff x="1727280" y="0"/>
            <a:chExt cx="360" cy="6858000"/>
          </a:xfrm>
        </p:grpSpPr>
        <p:sp>
          <p:nvSpPr>
            <p:cNvPr id="69" name="直接连接符 23"/>
            <p:cNvSpPr/>
            <p:nvPr/>
          </p:nvSpPr>
          <p:spPr>
            <a:xfrm>
              <a:off x="1727280" y="0"/>
              <a:ext cx="0" cy="6858000"/>
            </a:xfrm>
            <a:prstGeom prst="line">
              <a:avLst/>
            </a:prstGeom>
            <a:ln w="28440">
              <a:solidFill>
                <a:srgbClr val="fec3ae">
                  <a:alpha val="8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1727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66680" y="0"/>
            <a:ext cx="360" cy="6858000"/>
            <a:chOff x="1066680" y="0"/>
            <a:chExt cx="360" cy="6858000"/>
          </a:xfrm>
        </p:grpSpPr>
        <p:sp>
          <p:nvSpPr>
            <p:cNvPr id="72" name="直接连接符 24"/>
            <p:cNvSpPr/>
            <p:nvPr/>
          </p:nvSpPr>
          <p:spPr>
            <a:xfrm>
              <a:off x="1066680" y="0"/>
              <a:ext cx="0" cy="6858000"/>
            </a:xfrm>
            <a:prstGeom prst="line">
              <a:avLst/>
            </a:prstGeom>
            <a:ln w="936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10666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9113760" y="0"/>
            <a:ext cx="360" cy="6858000"/>
            <a:chOff x="9113760" y="0"/>
            <a:chExt cx="360" cy="6858000"/>
          </a:xfrm>
        </p:grpSpPr>
        <p:sp>
          <p:nvSpPr>
            <p:cNvPr id="75" name="直接连接符 25"/>
            <p:cNvSpPr/>
            <p:nvPr/>
          </p:nvSpPr>
          <p:spPr>
            <a:xfrm>
              <a:off x="9113760" y="0"/>
              <a:ext cx="0" cy="6858000"/>
            </a:xfrm>
            <a:prstGeom prst="line">
              <a:avLst/>
            </a:prstGeom>
            <a:ln w="5724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911376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矩形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FC34-651F-41F5-8DDD-4AB7167A0886}" type="slidenum">
              <a:rPr b="1" lang="zh-CN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125" name="直接连接符 15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fec3ae">
                  <a:alpha val="9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6320" y="0"/>
            <a:ext cx="360" cy="6858000"/>
            <a:chOff x="76320" y="0"/>
            <a:chExt cx="360" cy="6858000"/>
          </a:xfrm>
        </p:grpSpPr>
        <p:sp>
          <p:nvSpPr>
            <p:cNvPr id="128" name="直接连接符 6"/>
            <p:cNvSpPr/>
            <p:nvPr/>
          </p:nvSpPr>
          <p:spPr>
            <a:xfrm>
              <a:off x="76320" y="0"/>
              <a:ext cx="0" cy="6858000"/>
            </a:xfrm>
            <a:prstGeom prst="line">
              <a:avLst/>
            </a:prstGeom>
            <a:ln w="5724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763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131" name="直接连接符 8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135" name="直接连接符 1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2A28-02C4-4D0D-BBA9-3FF874D8B123}" type="slidenum">
              <a:rPr b="1" lang="zh-CN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6200" y="0"/>
            <a:ext cx="360" cy="6858000"/>
            <a:chOff x="106200" y="0"/>
            <a:chExt cx="360" cy="6858000"/>
          </a:xfrm>
        </p:grpSpPr>
        <p:sp>
          <p:nvSpPr>
            <p:cNvPr id="184" name="直接连接符 18"/>
            <p:cNvSpPr/>
            <p:nvPr/>
          </p:nvSpPr>
          <p:spPr>
            <a:xfrm>
              <a:off x="106200" y="0"/>
              <a:ext cx="0" cy="6858000"/>
            </a:xfrm>
            <a:prstGeom prst="line">
              <a:avLst/>
            </a:prstGeom>
            <a:ln w="57240">
              <a:solidFill>
                <a:srgbClr val="fec3ae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1062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914400" y="0"/>
            <a:ext cx="360" cy="6858000"/>
            <a:chOff x="914400" y="0"/>
            <a:chExt cx="360" cy="6858000"/>
          </a:xfrm>
        </p:grpSpPr>
        <p:sp>
          <p:nvSpPr>
            <p:cNvPr id="187" name="直接连接符 19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57240">
              <a:solidFill>
                <a:srgbClr val="ffede8">
                  <a:alpha val="8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914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853920" y="0"/>
            <a:ext cx="360" cy="6858000"/>
            <a:chOff x="853920" y="0"/>
            <a:chExt cx="360" cy="6858000"/>
          </a:xfrm>
        </p:grpSpPr>
        <p:sp>
          <p:nvSpPr>
            <p:cNvPr id="190" name="直接连接符 20"/>
            <p:cNvSpPr/>
            <p:nvPr/>
          </p:nvSpPr>
          <p:spPr>
            <a:xfrm>
              <a:off x="853920" y="0"/>
              <a:ext cx="0" cy="6858000"/>
            </a:xfrm>
            <a:prstGeom prst="line">
              <a:avLst/>
            </a:prstGeom>
            <a:ln w="5724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8539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27280" y="0"/>
            <a:ext cx="360" cy="6858000"/>
            <a:chOff x="1727280" y="0"/>
            <a:chExt cx="360" cy="6858000"/>
          </a:xfrm>
        </p:grpSpPr>
        <p:sp>
          <p:nvSpPr>
            <p:cNvPr id="193" name="直接连接符 23"/>
            <p:cNvSpPr/>
            <p:nvPr/>
          </p:nvSpPr>
          <p:spPr>
            <a:xfrm>
              <a:off x="1727280" y="0"/>
              <a:ext cx="0" cy="6858000"/>
            </a:xfrm>
            <a:prstGeom prst="line">
              <a:avLst/>
            </a:prstGeom>
            <a:ln w="28440">
              <a:solidFill>
                <a:srgbClr val="fec3ae">
                  <a:alpha val="8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727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66680" y="0"/>
            <a:ext cx="360" cy="6858000"/>
            <a:chOff x="1066680" y="0"/>
            <a:chExt cx="360" cy="6858000"/>
          </a:xfrm>
        </p:grpSpPr>
        <p:sp>
          <p:nvSpPr>
            <p:cNvPr id="196" name="直接连接符 24"/>
            <p:cNvSpPr/>
            <p:nvPr/>
          </p:nvSpPr>
          <p:spPr>
            <a:xfrm>
              <a:off x="1066680" y="0"/>
              <a:ext cx="0" cy="6858000"/>
            </a:xfrm>
            <a:prstGeom prst="line">
              <a:avLst/>
            </a:prstGeom>
            <a:ln w="936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666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097920" y="0"/>
            <a:ext cx="360" cy="6858000"/>
            <a:chOff x="9097920" y="0"/>
            <a:chExt cx="360" cy="6858000"/>
          </a:xfrm>
        </p:grpSpPr>
        <p:sp>
          <p:nvSpPr>
            <p:cNvPr id="205" name="直接连接符 31"/>
            <p:cNvSpPr/>
            <p:nvPr/>
          </p:nvSpPr>
          <p:spPr>
            <a:xfrm>
              <a:off x="9097920" y="0"/>
              <a:ext cx="0" cy="6858000"/>
            </a:xfrm>
            <a:prstGeom prst="line">
              <a:avLst/>
            </a:prstGeom>
            <a:ln w="5724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90979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149D-AB37-4918-9D10-F296EF0006AE}" type="slidenum">
              <a:rPr b="1" lang="zh-CN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249" name="直接连接符 15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fec3ae">
                  <a:alpha val="9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6320" y="0"/>
            <a:ext cx="360" cy="6858000"/>
            <a:chOff x="76320" y="0"/>
            <a:chExt cx="360" cy="6858000"/>
          </a:xfrm>
        </p:grpSpPr>
        <p:sp>
          <p:nvSpPr>
            <p:cNvPr id="252" name="直接连接符 6"/>
            <p:cNvSpPr/>
            <p:nvPr/>
          </p:nvSpPr>
          <p:spPr>
            <a:xfrm>
              <a:off x="76320" y="0"/>
              <a:ext cx="0" cy="6858000"/>
            </a:xfrm>
            <a:prstGeom prst="line">
              <a:avLst/>
            </a:prstGeom>
            <a:ln w="5724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763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255" name="直接连接符 8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259" name="直接连接符 1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9B00-BD65-41D7-AA9F-32CEDCF39DFC}" type="slidenum">
              <a:rPr b="1" lang="zh-CN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304" name="直接连接符 12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fec3ae">
                  <a:alpha val="9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248520" y="0"/>
            <a:ext cx="360" cy="6858000"/>
            <a:chOff x="6248520" y="0"/>
            <a:chExt cx="360" cy="6858000"/>
          </a:xfrm>
        </p:grpSpPr>
        <p:sp>
          <p:nvSpPr>
            <p:cNvPr id="307" name="直接连接符 14"/>
            <p:cNvSpPr/>
            <p:nvPr/>
          </p:nvSpPr>
          <p:spPr>
            <a:xfrm>
              <a:off x="6248520" y="0"/>
              <a:ext cx="0" cy="6858000"/>
            </a:xfrm>
            <a:prstGeom prst="line">
              <a:avLst/>
            </a:prstGeom>
            <a:ln w="3816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62485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192720" y="0"/>
            <a:ext cx="360" cy="6858000"/>
            <a:chOff x="6192720" y="0"/>
            <a:chExt cx="360" cy="6858000"/>
          </a:xfrm>
        </p:grpSpPr>
        <p:sp>
          <p:nvSpPr>
            <p:cNvPr id="310" name="直接连接符 16"/>
            <p:cNvSpPr/>
            <p:nvPr/>
          </p:nvSpPr>
          <p:spPr>
            <a:xfrm>
              <a:off x="6192720" y="0"/>
              <a:ext cx="0" cy="6858000"/>
            </a:xfrm>
            <a:prstGeom prst="line">
              <a:avLst/>
            </a:prstGeom>
            <a:ln w="1260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6192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313" name="直接连接符 17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矩形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317" name="直接连接符 19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椭圆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5DFC-0C29-4CAE-BEF0-794CCB168672}" type="slidenum">
              <a:rPr b="1" lang="zh-CN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362" name="直接连接符 12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椭圆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366" name="直接连接符 16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370" name="直接连接符 18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248520" y="0"/>
            <a:ext cx="360" cy="6858000"/>
            <a:chOff x="6248520" y="0"/>
            <a:chExt cx="360" cy="6858000"/>
          </a:xfrm>
        </p:grpSpPr>
        <p:sp>
          <p:nvSpPr>
            <p:cNvPr id="373" name="直接连接符 19"/>
            <p:cNvSpPr/>
            <p:nvPr/>
          </p:nvSpPr>
          <p:spPr>
            <a:xfrm>
              <a:off x="6248520" y="0"/>
              <a:ext cx="0" cy="6858000"/>
            </a:xfrm>
            <a:prstGeom prst="line">
              <a:avLst/>
            </a:prstGeom>
            <a:ln w="3816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62485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192720" y="0"/>
            <a:ext cx="360" cy="6858000"/>
            <a:chOff x="6192720" y="0"/>
            <a:chExt cx="360" cy="6858000"/>
          </a:xfrm>
        </p:grpSpPr>
        <p:sp>
          <p:nvSpPr>
            <p:cNvPr id="376" name="直接连接符 20"/>
            <p:cNvSpPr/>
            <p:nvPr/>
          </p:nvSpPr>
          <p:spPr>
            <a:xfrm>
              <a:off x="6192720" y="0"/>
              <a:ext cx="0" cy="6858000"/>
            </a:xfrm>
            <a:prstGeom prst="line">
              <a:avLst/>
            </a:prstGeom>
            <a:ln w="1260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6192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EA6D-CF69-4519-BBEC-E4227F6E0C42}" type="slidenum">
              <a:rPr b="1" lang="zh-CN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aike.baidu.com/view/1229758.htm" TargetMode="External"/><Relationship Id="rId3" Type="http://schemas.openxmlformats.org/officeDocument/2006/relationships/hyperlink" Target="http://baike.baidu.com/view/1207774.htm" TargetMode="External"/><Relationship Id="rId4" Type="http://schemas.openxmlformats.org/officeDocument/2006/relationships/image" Target="../media/image4.wmf"/><Relationship Id="rId5" Type="http://schemas.openxmlformats.org/officeDocument/2006/relationships/hyperlink" Target="http://baike.baidu.com/view/1229758.ht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885672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.3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勾股定理的应用（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TextBox 2"/>
          <p:cNvSpPr/>
          <p:nvPr/>
        </p:nvSpPr>
        <p:spPr>
          <a:xfrm>
            <a:off x="2556000" y="378936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黑体"/>
                <a:ea typeface="黑体"/>
              </a:rPr>
              <a:t>——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求三角形的面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7"/>
          <p:cNvSpPr/>
          <p:nvPr/>
        </p:nvSpPr>
        <p:spPr>
          <a:xfrm>
            <a:off x="357120" y="571680"/>
            <a:ext cx="7858080" cy="27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，以直角△</a:t>
            </a:r>
            <a:r>
              <a:rPr b="1" i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C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三边为直径分别向外作半圆，则</a:t>
            </a:r>
            <a:r>
              <a:rPr b="1" i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间有什么数量关系？证明你的结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变式：求月牙形的面积问题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"/>
          <p:cNvPicPr/>
          <p:nvPr/>
        </p:nvPicPr>
        <p:blipFill>
          <a:blip r:embed="rId1"/>
          <a:stretch/>
        </p:blipFill>
        <p:spPr>
          <a:xfrm>
            <a:off x="2643120" y="3857760"/>
            <a:ext cx="2571840" cy="24001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6"/>
          <p:cNvSpPr/>
          <p:nvPr/>
        </p:nvSpPr>
        <p:spPr>
          <a:xfrm>
            <a:off x="2500200" y="51436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4929120" y="51436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4357800" y="39290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"/>
          <p:cNvSpPr/>
          <p:nvPr/>
        </p:nvSpPr>
        <p:spPr>
          <a:xfrm>
            <a:off x="797040" y="5716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拓展应用</a:t>
            </a:r>
            <a:r>
              <a:rPr b="1" lang="en-US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3"/>
          <p:cNvSpPr/>
          <p:nvPr/>
        </p:nvSpPr>
        <p:spPr>
          <a:xfrm>
            <a:off x="395280" y="476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拓展应用</a:t>
            </a:r>
            <a:r>
              <a:rPr b="1" lang="en-US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"/>
          <p:cNvSpPr/>
          <p:nvPr/>
        </p:nvSpPr>
        <p:spPr>
          <a:xfrm>
            <a:off x="75564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了美化环境，计划在某小区内用草皮铺设一个等腰三角形的绿化区，已知该等腰三角形的面积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方米且有一条边长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米，求另两边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33"/>
          <p:cNvSpPr/>
          <p:nvPr/>
        </p:nvSpPr>
        <p:spPr>
          <a:xfrm>
            <a:off x="1271520" y="1387440"/>
            <a:ext cx="75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5c01"/>
                </a:solidFill>
                <a:latin typeface="黑体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e75c01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e75c01"/>
                </a:solidFill>
                <a:latin typeface="黑体"/>
                <a:ea typeface="黑体"/>
              </a:rPr>
              <a:t>、三角形的面积公式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5c01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e75c01"/>
                </a:solidFill>
                <a:latin typeface="黑体"/>
                <a:ea typeface="黑体"/>
              </a:rPr>
              <a:t>直角三角形的面积如何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4"/>
          <p:cNvSpPr/>
          <p:nvPr/>
        </p:nvSpPr>
        <p:spPr>
          <a:xfrm>
            <a:off x="2176560" y="3317760"/>
            <a:ext cx="719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在我们所学的三角形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黑体"/>
                <a:ea typeface="黑体"/>
              </a:rPr>
              <a:t>还有哪些特殊的三角形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7"/>
          <p:cNvSpPr/>
          <p:nvPr/>
        </p:nvSpPr>
        <p:spPr>
          <a:xfrm>
            <a:off x="971640" y="979560"/>
            <a:ext cx="70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下图，等边三角形</a:t>
            </a:r>
            <a:r>
              <a:rPr b="1" i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BC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边长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c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求△</a:t>
            </a:r>
            <a:r>
              <a:rPr b="1" i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BC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面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0"/>
          <p:cNvSpPr/>
          <p:nvPr/>
        </p:nvSpPr>
        <p:spPr>
          <a:xfrm>
            <a:off x="681120" y="190440"/>
            <a:ext cx="60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5c01"/>
                </a:solidFill>
                <a:latin typeface="黑体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e75c0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e75c01"/>
                </a:solidFill>
                <a:latin typeface="黑体"/>
                <a:ea typeface="黑体"/>
              </a:rPr>
              <a:t>求等边三角形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组合 25"/>
          <p:cNvGrpSpPr/>
          <p:nvPr/>
        </p:nvGrpSpPr>
        <p:grpSpPr>
          <a:xfrm>
            <a:off x="1982880" y="2693880"/>
            <a:ext cx="1224000" cy="2598840"/>
            <a:chOff x="1982880" y="2693880"/>
            <a:chExt cx="1224000" cy="2598840"/>
          </a:xfrm>
        </p:grpSpPr>
        <p:sp>
          <p:nvSpPr>
            <p:cNvPr id="426" name="TextBox 14"/>
            <p:cNvSpPr/>
            <p:nvPr/>
          </p:nvSpPr>
          <p:spPr>
            <a:xfrm>
              <a:off x="2198880" y="47113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Century Schoolbook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组合 20"/>
            <p:cNvGrpSpPr/>
            <p:nvPr/>
          </p:nvGrpSpPr>
          <p:grpSpPr>
            <a:xfrm>
              <a:off x="1982880" y="2693880"/>
              <a:ext cx="216000" cy="2520720"/>
              <a:chOff x="1982880" y="2693880"/>
              <a:chExt cx="216000" cy="2520720"/>
            </a:xfrm>
          </p:grpSpPr>
          <p:sp>
            <p:nvSpPr>
              <p:cNvPr id="428" name="直接连接符 12"/>
              <p:cNvSpPr/>
              <p:nvPr/>
            </p:nvSpPr>
            <p:spPr>
              <a:xfrm flipH="1">
                <a:off x="2184480" y="2693880"/>
                <a:ext cx="1440" cy="2520720"/>
              </a:xfrm>
              <a:prstGeom prst="line">
                <a:avLst/>
              </a:prstGeom>
              <a:ln w="38160">
                <a:solidFill>
                  <a:srgbClr val="ff6903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组合 19"/>
              <p:cNvGrpSpPr/>
              <p:nvPr/>
            </p:nvGrpSpPr>
            <p:grpSpPr>
              <a:xfrm>
                <a:off x="1982880" y="4996440"/>
                <a:ext cx="216000" cy="216720"/>
                <a:chOff x="1982880" y="4996440"/>
                <a:chExt cx="216000" cy="216720"/>
              </a:xfrm>
            </p:grpSpPr>
            <p:sp>
              <p:nvSpPr>
                <p:cNvPr id="430" name="直接连接符 13"/>
                <p:cNvSpPr/>
                <p:nvPr/>
              </p:nvSpPr>
              <p:spPr>
                <a:xfrm flipH="1">
                  <a:off x="1982880" y="4996440"/>
                  <a:ext cx="1440" cy="216720"/>
                </a:xfrm>
                <a:prstGeom prst="line">
                  <a:avLst/>
                </a:prstGeom>
                <a:ln w="38160">
                  <a:solidFill>
                    <a:srgbClr val="ff69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直接连接符 16"/>
                <p:cNvSpPr/>
                <p:nvPr/>
              </p:nvSpPr>
              <p:spPr>
                <a:xfrm>
                  <a:off x="1982880" y="4996440"/>
                  <a:ext cx="216000" cy="1440"/>
                </a:xfrm>
                <a:prstGeom prst="line">
                  <a:avLst/>
                </a:prstGeom>
                <a:ln w="38160">
                  <a:solidFill>
                    <a:srgbClr val="ff69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2" name="组合 21"/>
          <p:cNvGrpSpPr/>
          <p:nvPr/>
        </p:nvGrpSpPr>
        <p:grpSpPr>
          <a:xfrm>
            <a:off x="177840" y="2135160"/>
            <a:ext cx="4248000" cy="3787920"/>
            <a:chOff x="177840" y="2135160"/>
            <a:chExt cx="4248000" cy="3787920"/>
          </a:xfrm>
        </p:grpSpPr>
        <p:grpSp>
          <p:nvGrpSpPr>
            <p:cNvPr id="433" name="组合 11"/>
            <p:cNvGrpSpPr/>
            <p:nvPr/>
          </p:nvGrpSpPr>
          <p:grpSpPr>
            <a:xfrm>
              <a:off x="177840" y="2135160"/>
              <a:ext cx="4248000" cy="3306960"/>
              <a:chOff x="177840" y="2135160"/>
              <a:chExt cx="4248000" cy="3306960"/>
            </a:xfrm>
          </p:grpSpPr>
          <p:sp>
            <p:nvSpPr>
              <p:cNvPr id="434" name="等腰三角形 2"/>
              <p:cNvSpPr/>
              <p:nvPr/>
            </p:nvSpPr>
            <p:spPr>
              <a:xfrm>
                <a:off x="680760" y="2636640"/>
                <a:ext cx="3008160" cy="25927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bb61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Box 3"/>
              <p:cNvSpPr/>
              <p:nvPr/>
            </p:nvSpPr>
            <p:spPr>
              <a:xfrm>
                <a:off x="1689840" y="213516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2060"/>
                    </a:solidFill>
                    <a:latin typeface="Century Schoolbook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TextBox 4"/>
              <p:cNvSpPr/>
              <p:nvPr/>
            </p:nvSpPr>
            <p:spPr>
              <a:xfrm>
                <a:off x="3633840" y="479952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2060"/>
                    </a:solidFill>
                    <a:latin typeface="Century Schoolbook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Box 5"/>
              <p:cNvSpPr/>
              <p:nvPr/>
            </p:nvSpPr>
            <p:spPr>
              <a:xfrm>
                <a:off x="177840" y="479952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2060"/>
                    </a:solidFill>
                    <a:latin typeface="Century Schoolbook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TextBox 22"/>
            <p:cNvSpPr/>
            <p:nvPr/>
          </p:nvSpPr>
          <p:spPr>
            <a:xfrm>
              <a:off x="897840" y="3573360"/>
              <a:ext cx="72000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Box 23"/>
            <p:cNvSpPr/>
            <p:nvPr/>
          </p:nvSpPr>
          <p:spPr>
            <a:xfrm>
              <a:off x="2985840" y="3575160"/>
              <a:ext cx="72000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24"/>
            <p:cNvSpPr/>
            <p:nvPr/>
          </p:nvSpPr>
          <p:spPr>
            <a:xfrm>
              <a:off x="1977840" y="5159160"/>
              <a:ext cx="72000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文本框 3"/>
          <p:cNvSpPr/>
          <p:nvPr/>
        </p:nvSpPr>
        <p:spPr>
          <a:xfrm>
            <a:off x="3537000" y="2465280"/>
            <a:ext cx="47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边三角形的面积公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7"/>
          <p:cNvGrpSpPr/>
          <p:nvPr/>
        </p:nvGrpSpPr>
        <p:grpSpPr>
          <a:xfrm>
            <a:off x="684360" y="2133720"/>
            <a:ext cx="4174920" cy="2947680"/>
            <a:chOff x="684360" y="2133720"/>
            <a:chExt cx="4174920" cy="2947680"/>
          </a:xfrm>
        </p:grpSpPr>
        <p:sp>
          <p:nvSpPr>
            <p:cNvPr id="443" name="等腰三角形 3"/>
            <p:cNvSpPr/>
            <p:nvPr/>
          </p:nvSpPr>
          <p:spPr>
            <a:xfrm>
              <a:off x="1044720" y="2565360"/>
              <a:ext cx="3166920" cy="1942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bb61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Box 4"/>
            <p:cNvSpPr/>
            <p:nvPr/>
          </p:nvSpPr>
          <p:spPr>
            <a:xfrm>
              <a:off x="2124000" y="2133720"/>
              <a:ext cx="50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75c01"/>
                  </a:solidFill>
                  <a:latin typeface="Century Schoolbook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Box 5"/>
            <p:cNvSpPr/>
            <p:nvPr/>
          </p:nvSpPr>
          <p:spPr>
            <a:xfrm>
              <a:off x="3924360" y="4437000"/>
              <a:ext cx="93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75c01"/>
                  </a:solidFill>
                  <a:latin typeface="Century Schoolbook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Box 6"/>
            <p:cNvSpPr/>
            <p:nvPr/>
          </p:nvSpPr>
          <p:spPr>
            <a:xfrm>
              <a:off x="684360" y="4438800"/>
              <a:ext cx="93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75c01"/>
                  </a:solidFill>
                  <a:latin typeface="Century Schoolbook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13"/>
          <p:cNvGrpSpPr/>
          <p:nvPr/>
        </p:nvGrpSpPr>
        <p:grpSpPr>
          <a:xfrm>
            <a:off x="1403280" y="2997360"/>
            <a:ext cx="2521080" cy="765000"/>
            <a:chOff x="1403280" y="2997360"/>
            <a:chExt cx="2521080" cy="765000"/>
          </a:xfrm>
        </p:grpSpPr>
        <p:sp>
          <p:nvSpPr>
            <p:cNvPr id="448" name="TextBox 8"/>
            <p:cNvSpPr/>
            <p:nvPr/>
          </p:nvSpPr>
          <p:spPr>
            <a:xfrm>
              <a:off x="3348360" y="2997360"/>
              <a:ext cx="576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9"/>
            <p:cNvSpPr/>
            <p:nvPr/>
          </p:nvSpPr>
          <p:spPr>
            <a:xfrm>
              <a:off x="1403280" y="2998800"/>
              <a:ext cx="576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Box 11"/>
          <p:cNvSpPr/>
          <p:nvPr/>
        </p:nvSpPr>
        <p:spPr>
          <a:xfrm>
            <a:off x="611280" y="8604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已知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B=AC=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C=1.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你能求出这个三角形的面积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6"/>
          <p:cNvSpPr/>
          <p:nvPr/>
        </p:nvSpPr>
        <p:spPr>
          <a:xfrm>
            <a:off x="792000" y="163440"/>
            <a:ext cx="73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5c01"/>
                </a:solidFill>
                <a:latin typeface="方正姚体"/>
                <a:ea typeface="方正姚体"/>
              </a:rPr>
              <a:t>问题</a:t>
            </a:r>
            <a:r>
              <a:rPr b="1" lang="en-US" sz="3600" spc="-1" strike="noStrike">
                <a:solidFill>
                  <a:srgbClr val="e75c01"/>
                </a:solidFill>
                <a:latin typeface="方正姚体"/>
                <a:ea typeface="方正姚体"/>
              </a:rPr>
              <a:t>3.</a:t>
            </a:r>
            <a:r>
              <a:rPr b="1" lang="zh-CN" sz="3600" spc="-1" strike="noStrike">
                <a:solidFill>
                  <a:srgbClr val="e75c01"/>
                </a:solidFill>
                <a:latin typeface="方正姚体"/>
                <a:ea typeface="方正姚体"/>
              </a:rPr>
              <a:t>如何求等腰三角形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组合 15"/>
          <p:cNvGrpSpPr/>
          <p:nvPr/>
        </p:nvGrpSpPr>
        <p:grpSpPr>
          <a:xfrm>
            <a:off x="2410920" y="2565360"/>
            <a:ext cx="1297440" cy="1949040"/>
            <a:chOff x="2410920" y="2565360"/>
            <a:chExt cx="1297440" cy="1949040"/>
          </a:xfrm>
        </p:grpSpPr>
        <p:sp>
          <p:nvSpPr>
            <p:cNvPr id="453" name="直接连接符 17"/>
            <p:cNvSpPr/>
            <p:nvPr/>
          </p:nvSpPr>
          <p:spPr>
            <a:xfrm>
              <a:off x="2626200" y="2565360"/>
              <a:ext cx="6120" cy="1911240"/>
            </a:xfrm>
            <a:prstGeom prst="line">
              <a:avLst/>
            </a:prstGeom>
            <a:ln w="38160">
              <a:solidFill>
                <a:srgbClr val="ff690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组合 24"/>
            <p:cNvGrpSpPr/>
            <p:nvPr/>
          </p:nvGrpSpPr>
          <p:grpSpPr>
            <a:xfrm>
              <a:off x="2410920" y="3933000"/>
              <a:ext cx="1297440" cy="581400"/>
              <a:chOff x="2410920" y="3933000"/>
              <a:chExt cx="1297440" cy="581400"/>
            </a:xfrm>
          </p:grpSpPr>
          <p:sp>
            <p:nvSpPr>
              <p:cNvPr id="455" name="直接连接符 19"/>
              <p:cNvSpPr/>
              <p:nvPr/>
            </p:nvSpPr>
            <p:spPr>
              <a:xfrm flipH="1">
                <a:off x="2411280" y="4308120"/>
                <a:ext cx="1440" cy="167760"/>
              </a:xfrm>
              <a:prstGeom prst="line">
                <a:avLst/>
              </a:prstGeom>
              <a:ln w="38160">
                <a:solidFill>
                  <a:srgbClr val="ff69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组合 23"/>
              <p:cNvGrpSpPr/>
              <p:nvPr/>
            </p:nvGrpSpPr>
            <p:grpSpPr>
              <a:xfrm>
                <a:off x="2410920" y="3933000"/>
                <a:ext cx="1297440" cy="581400"/>
                <a:chOff x="2410920" y="3933000"/>
                <a:chExt cx="1297440" cy="581400"/>
              </a:xfrm>
            </p:grpSpPr>
            <p:sp>
              <p:nvSpPr>
                <p:cNvPr id="457" name="直接连接符 21"/>
                <p:cNvSpPr/>
                <p:nvPr/>
              </p:nvSpPr>
              <p:spPr>
                <a:xfrm flipH="1" flipV="1">
                  <a:off x="2410920" y="4306320"/>
                  <a:ext cx="215640" cy="1440"/>
                </a:xfrm>
                <a:prstGeom prst="line">
                  <a:avLst/>
                </a:prstGeom>
                <a:ln w="38160">
                  <a:solidFill>
                    <a:srgbClr val="ff69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TextBox 22"/>
                <p:cNvSpPr/>
                <p:nvPr/>
              </p:nvSpPr>
              <p:spPr>
                <a:xfrm>
                  <a:off x="2699280" y="3933000"/>
                  <a:ext cx="1009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2060"/>
                      </a:solidFill>
                      <a:latin typeface="Century Schoolbook"/>
                    </a:rPr>
                    <a:t>D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矩形 3"/>
          <p:cNvSpPr/>
          <p:nvPr/>
        </p:nvSpPr>
        <p:spPr>
          <a:xfrm>
            <a:off x="360360" y="1047600"/>
            <a:ext cx="83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宋体"/>
                <a:ea typeface="宋体"/>
              </a:rPr>
              <a:t>已知：在△</a:t>
            </a:r>
            <a:r>
              <a:rPr b="1" i="1" lang="en-US" sz="3600" spc="-1" strike="noStrike">
                <a:solidFill>
                  <a:srgbClr val="002060"/>
                </a:solidFill>
                <a:latin typeface="宋体"/>
              </a:rPr>
              <a:t>ABC</a:t>
            </a:r>
            <a:r>
              <a:rPr b="1" lang="zh-CN" sz="3600" spc="-1" strike="noStrike">
                <a:solidFill>
                  <a:srgbClr val="002060"/>
                </a:solidFill>
                <a:latin typeface="宋体"/>
                <a:ea typeface="宋体"/>
              </a:rPr>
              <a:t>中，</a:t>
            </a:r>
            <a:r>
              <a:rPr b="1" lang="en-US" sz="3600" spc="-1" strike="noStrike">
                <a:solidFill>
                  <a:srgbClr val="002060"/>
                </a:solidFill>
                <a:latin typeface="宋体"/>
              </a:rPr>
              <a:t>AB=17</a:t>
            </a:r>
            <a:r>
              <a:rPr b="1" lang="zh-CN" sz="3600" spc="-1" strike="noStrike">
                <a:solidFill>
                  <a:srgbClr val="002060"/>
                </a:solidFill>
                <a:latin typeface="宋体"/>
                <a:ea typeface="宋体"/>
              </a:rPr>
              <a:t>，</a:t>
            </a:r>
            <a:r>
              <a:rPr b="1" lang="en-US" sz="3600" spc="-1" strike="noStrike">
                <a:solidFill>
                  <a:srgbClr val="002060"/>
                </a:solidFill>
                <a:latin typeface="宋体"/>
              </a:rPr>
              <a:t>AC=10</a:t>
            </a:r>
            <a:r>
              <a:rPr b="1" lang="zh-CN" sz="3600" spc="-1" strike="noStrike">
                <a:solidFill>
                  <a:srgbClr val="002060"/>
                </a:solidFill>
                <a:latin typeface="宋体"/>
                <a:ea typeface="宋体"/>
              </a:rPr>
              <a:t>，</a:t>
            </a:r>
            <a:r>
              <a:rPr b="1" lang="en-US" sz="3600" spc="-1" strike="noStrike">
                <a:solidFill>
                  <a:srgbClr val="002060"/>
                </a:solidFill>
                <a:latin typeface="宋体"/>
              </a:rPr>
              <a:t>BC=21,</a:t>
            </a:r>
            <a:r>
              <a:rPr b="1" lang="zh-CN" sz="3600" spc="-1" strike="noStrike">
                <a:solidFill>
                  <a:srgbClr val="002060"/>
                </a:solidFill>
                <a:latin typeface="宋体"/>
                <a:ea typeface="宋体"/>
              </a:rPr>
              <a:t>你能求出这个三角形的面积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603360" y="196920"/>
            <a:ext cx="65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5c01"/>
                </a:solidFill>
                <a:latin typeface="黑体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e75c01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e75c01"/>
                </a:solidFill>
                <a:latin typeface="黑体"/>
                <a:ea typeface="黑体"/>
              </a:rPr>
              <a:t>求一般三角形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组合 14"/>
          <p:cNvGrpSpPr/>
          <p:nvPr/>
        </p:nvGrpSpPr>
        <p:grpSpPr>
          <a:xfrm>
            <a:off x="468360" y="2637000"/>
            <a:ext cx="8280360" cy="2567880"/>
            <a:chOff x="468360" y="2637000"/>
            <a:chExt cx="8280360" cy="2567880"/>
          </a:xfrm>
        </p:grpSpPr>
        <p:sp>
          <p:nvSpPr>
            <p:cNvPr id="462" name="等腰三角形 9"/>
            <p:cNvSpPr/>
            <p:nvPr/>
          </p:nvSpPr>
          <p:spPr>
            <a:xfrm>
              <a:off x="1388880" y="3205080"/>
              <a:ext cx="5213520" cy="1708200"/>
            </a:xfrm>
            <a:prstGeom prst="triangle">
              <a:avLst>
                <a:gd name="adj" fmla="val 70815"/>
              </a:avLst>
            </a:prstGeom>
            <a:noFill/>
            <a:ln w="38160">
              <a:solidFill>
                <a:srgbClr val="bb61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11"/>
            <p:cNvSpPr/>
            <p:nvPr/>
          </p:nvSpPr>
          <p:spPr>
            <a:xfrm>
              <a:off x="4658040" y="2637000"/>
              <a:ext cx="214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Century Schoolbook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Box 12"/>
            <p:cNvSpPr/>
            <p:nvPr/>
          </p:nvSpPr>
          <p:spPr>
            <a:xfrm>
              <a:off x="6602040" y="4562280"/>
              <a:ext cx="214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Century Schoolbook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13"/>
            <p:cNvSpPr/>
            <p:nvPr/>
          </p:nvSpPr>
          <p:spPr>
            <a:xfrm>
              <a:off x="468360" y="4562280"/>
              <a:ext cx="214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Century Schoolbook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组合 25"/>
          <p:cNvGrpSpPr/>
          <p:nvPr/>
        </p:nvGrpSpPr>
        <p:grpSpPr>
          <a:xfrm>
            <a:off x="4788000" y="3213000"/>
            <a:ext cx="1008000" cy="2228760"/>
            <a:chOff x="4788000" y="3213000"/>
            <a:chExt cx="1008000" cy="2228760"/>
          </a:xfrm>
        </p:grpSpPr>
        <p:sp>
          <p:nvSpPr>
            <p:cNvPr id="467" name="直接连接符 16"/>
            <p:cNvSpPr/>
            <p:nvPr/>
          </p:nvSpPr>
          <p:spPr>
            <a:xfrm>
              <a:off x="5074560" y="3213000"/>
              <a:ext cx="4680" cy="1700280"/>
            </a:xfrm>
            <a:prstGeom prst="line">
              <a:avLst/>
            </a:prstGeom>
            <a:ln w="38160">
              <a:solidFill>
                <a:srgbClr val="ff690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组合 24"/>
            <p:cNvGrpSpPr/>
            <p:nvPr/>
          </p:nvGrpSpPr>
          <p:grpSpPr>
            <a:xfrm>
              <a:off x="4788000" y="4651560"/>
              <a:ext cx="1008000" cy="790200"/>
              <a:chOff x="4788000" y="4651560"/>
              <a:chExt cx="1008000" cy="790200"/>
            </a:xfrm>
          </p:grpSpPr>
          <p:sp>
            <p:nvSpPr>
              <p:cNvPr id="469" name="直接连接符 20"/>
              <p:cNvSpPr/>
              <p:nvPr/>
            </p:nvSpPr>
            <p:spPr>
              <a:xfrm flipH="1">
                <a:off x="4873680" y="4695840"/>
                <a:ext cx="1440" cy="215640"/>
              </a:xfrm>
              <a:prstGeom prst="line">
                <a:avLst/>
              </a:prstGeom>
              <a:ln w="38160">
                <a:solidFill>
                  <a:srgbClr val="ff69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组合 23"/>
              <p:cNvGrpSpPr/>
              <p:nvPr/>
            </p:nvGrpSpPr>
            <p:grpSpPr>
              <a:xfrm>
                <a:off x="4788000" y="4651560"/>
                <a:ext cx="1008000" cy="790200"/>
                <a:chOff x="4788000" y="4651560"/>
                <a:chExt cx="1008000" cy="790200"/>
              </a:xfrm>
            </p:grpSpPr>
            <p:sp>
              <p:nvSpPr>
                <p:cNvPr id="471" name="直接连接符 18"/>
                <p:cNvSpPr/>
                <p:nvPr/>
              </p:nvSpPr>
              <p:spPr>
                <a:xfrm flipH="1" flipV="1">
                  <a:off x="4858920" y="4651560"/>
                  <a:ext cx="215640" cy="1440"/>
                </a:xfrm>
                <a:prstGeom prst="line">
                  <a:avLst/>
                </a:prstGeom>
                <a:ln w="38160">
                  <a:solidFill>
                    <a:srgbClr val="ff69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TextBox 21"/>
                <p:cNvSpPr/>
                <p:nvPr/>
              </p:nvSpPr>
              <p:spPr>
                <a:xfrm>
                  <a:off x="4788000" y="4860360"/>
                  <a:ext cx="1008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2060"/>
                      </a:solidFill>
                      <a:latin typeface="Century Schoolbook"/>
                    </a:rPr>
                    <a:t>D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泪滴形 8"/>
          <p:cNvSpPr/>
          <p:nvPr/>
        </p:nvSpPr>
        <p:spPr>
          <a:xfrm>
            <a:off x="324000" y="260280"/>
            <a:ext cx="1368360" cy="792360"/>
          </a:xfrm>
          <a:custGeom>
            <a:avLst/>
            <a:gdLst/>
            <a:ahLst/>
            <a:rect l="l" t="t" r="r" b="b"/>
            <a:pathLst>
              <a:path w="1368425" h="792162">
                <a:moveTo>
                  <a:pt x="0" y="396081"/>
                </a:moveTo>
                <a:cubicBezTo>
                  <a:pt x="0" y="177332"/>
                  <a:pt x="306332" y="0"/>
                  <a:pt x="684212" y="0"/>
                </a:cubicBezTo>
                <a:cubicBezTo>
                  <a:pt x="907520" y="0"/>
                  <a:pt x="1130829" y="2756"/>
                  <a:pt x="1354138" y="8270"/>
                </a:cubicBezTo>
                <a:cubicBezTo>
                  <a:pt x="1363662" y="137540"/>
                  <a:pt x="1368425" y="266810"/>
                  <a:pt x="1368425" y="396081"/>
                </a:cubicBezTo>
                <a:cubicBezTo>
                  <a:pt x="1368425" y="614830"/>
                  <a:pt x="1062093" y="792162"/>
                  <a:pt x="684213" y="792162"/>
                </a:cubicBezTo>
                <a:cubicBezTo>
                  <a:pt x="306333" y="792162"/>
                  <a:pt x="1" y="614830"/>
                  <a:pt x="1" y="396081"/>
                </a:cubicBez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3"/>
          <p:cNvSpPr/>
          <p:nvPr/>
        </p:nvSpPr>
        <p:spPr>
          <a:xfrm>
            <a:off x="468360" y="260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790560" y="1413000"/>
            <a:ext cx="73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7030a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）要求一个三角形的面积，需要知道哪些数据信息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9"/>
          <p:cNvSpPr/>
          <p:nvPr/>
        </p:nvSpPr>
        <p:spPr>
          <a:xfrm>
            <a:off x="985680" y="291636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要求三角形的面积需要知道底和高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还可以已知三角形的三条边边长也能求出三角形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泪滴形 8"/>
          <p:cNvSpPr/>
          <p:nvPr/>
        </p:nvSpPr>
        <p:spPr>
          <a:xfrm>
            <a:off x="324000" y="260280"/>
            <a:ext cx="1368360" cy="792360"/>
          </a:xfrm>
          <a:custGeom>
            <a:avLst/>
            <a:gdLst/>
            <a:ahLst/>
            <a:rect l="l" t="t" r="r" b="b"/>
            <a:pathLst>
              <a:path w="1368425" h="792162">
                <a:moveTo>
                  <a:pt x="0" y="396081"/>
                </a:moveTo>
                <a:cubicBezTo>
                  <a:pt x="0" y="177332"/>
                  <a:pt x="306332" y="0"/>
                  <a:pt x="684212" y="0"/>
                </a:cubicBezTo>
                <a:cubicBezTo>
                  <a:pt x="907520" y="0"/>
                  <a:pt x="1130829" y="2756"/>
                  <a:pt x="1354138" y="8270"/>
                </a:cubicBezTo>
                <a:cubicBezTo>
                  <a:pt x="1363662" y="137540"/>
                  <a:pt x="1368425" y="266810"/>
                  <a:pt x="1368425" y="396081"/>
                </a:cubicBezTo>
                <a:cubicBezTo>
                  <a:pt x="1368425" y="614830"/>
                  <a:pt x="1062093" y="792162"/>
                  <a:pt x="684213" y="792162"/>
                </a:cubicBezTo>
                <a:cubicBezTo>
                  <a:pt x="306333" y="792162"/>
                  <a:pt x="1" y="614830"/>
                  <a:pt x="1" y="396081"/>
                </a:cubicBez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3"/>
          <p:cNvSpPr/>
          <p:nvPr/>
        </p:nvSpPr>
        <p:spPr>
          <a:xfrm>
            <a:off x="468360" y="260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"/>
          <p:cNvSpPr/>
          <p:nvPr/>
        </p:nvSpPr>
        <p:spPr>
          <a:xfrm>
            <a:off x="792000" y="12384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c3e42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c3e42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c3e42"/>
                </a:solidFill>
                <a:latin typeface="黑体"/>
                <a:ea typeface="黑体"/>
              </a:rPr>
              <a:t>）有了三角形的边长，一般如何求面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0"/>
          <p:cNvSpPr/>
          <p:nvPr/>
        </p:nvSpPr>
        <p:spPr>
          <a:xfrm>
            <a:off x="706320" y="2593800"/>
            <a:ext cx="74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通过作三角形一边上的高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构造直角三角形 ，再运用勾股定理计算</a:t>
            </a: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（必要时运用方程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方法求出高线，继而求出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流程图: 资料带 3"/>
          <p:cNvSpPr/>
          <p:nvPr/>
        </p:nvSpPr>
        <p:spPr>
          <a:xfrm>
            <a:off x="539640" y="189000"/>
            <a:ext cx="2089440" cy="765000"/>
          </a:xfrm>
          <a:prstGeom prst="flowChartPunchedTape">
            <a:avLst/>
          </a:pr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课外链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泪滴形 5" descr=""/>
          <p:cNvPicPr/>
          <p:nvPr/>
        </p:nvPicPr>
        <p:blipFill>
          <a:blip r:embed="rId1"/>
          <a:stretch/>
        </p:blipFill>
        <p:spPr>
          <a:xfrm>
            <a:off x="-12600" y="1523880"/>
            <a:ext cx="4529160" cy="4870440"/>
          </a:xfrm>
          <a:prstGeom prst="rect">
            <a:avLst/>
          </a:prstGeom>
          <a:ln w="0">
            <a:noFill/>
          </a:ln>
        </p:spPr>
      </p:pic>
      <p:sp>
        <p:nvSpPr>
          <p:cNvPr id="483" name="线形标注 2 6"/>
          <p:cNvSpPr/>
          <p:nvPr/>
        </p:nvSpPr>
        <p:spPr>
          <a:xfrm>
            <a:off x="4505400" y="954000"/>
            <a:ext cx="4154400" cy="129708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6"/>
              <a:gd name="adj5" fmla="val 82736"/>
              <a:gd name="adj6" fmla="val -32777"/>
            </a:avLst>
          </a:prstGeom>
          <a:solidFill>
            <a:srgbClr val="aebad5"/>
          </a:solidFill>
          <a:ln w="25560">
            <a:solidFill>
              <a:srgbClr val="7f88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400"/>
                </a:solidFill>
                <a:latin typeface="黑体"/>
                <a:ea typeface="黑体"/>
              </a:rPr>
              <a:t>传说是古代的叙拉古国王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海伦 （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Heron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292400"/>
                </a:solidFill>
                <a:latin typeface="黑体"/>
                <a:ea typeface="黑体"/>
              </a:rPr>
              <a:t>二世发现的公式，利用三角形的三条边长来求取三角形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468360" y="90792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2611c"/>
                </a:solidFill>
                <a:latin typeface="Arial"/>
                <a:ea typeface="华文行楷"/>
              </a:rPr>
              <a:t>海伦公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对象 1" descr=""/>
          <p:cNvPicPr/>
          <p:nvPr/>
        </p:nvPicPr>
        <p:blipFill>
          <a:blip r:embed="rId2"/>
          <a:stretch/>
        </p:blipFill>
        <p:spPr>
          <a:xfrm>
            <a:off x="3894120" y="3863880"/>
            <a:ext cx="46879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流程图: 资料带 3"/>
          <p:cNvSpPr/>
          <p:nvPr/>
        </p:nvSpPr>
        <p:spPr>
          <a:xfrm>
            <a:off x="250920" y="189000"/>
            <a:ext cx="2089080" cy="765000"/>
          </a:xfrm>
          <a:prstGeom prst="flowChartPunchedTape">
            <a:avLst/>
          </a:pr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课外链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图片 7" descr="adee30ddec4f68e78c102966.jpg"/>
          <p:cNvPicPr/>
          <p:nvPr/>
        </p:nvPicPr>
        <p:blipFill>
          <a:blip r:embed="rId1"/>
          <a:stretch/>
        </p:blipFill>
        <p:spPr>
          <a:xfrm>
            <a:off x="5651640" y="3402000"/>
            <a:ext cx="2895480" cy="345600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13"/>
          <p:cNvSpPr/>
          <p:nvPr/>
        </p:nvSpPr>
        <p:spPr>
          <a:xfrm>
            <a:off x="250920" y="1224000"/>
            <a:ext cx="8029440" cy="26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秦九韶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字道古，我国古代杰出的数学家。　秦九韶创用了“</a:t>
            </a:r>
            <a:r>
              <a:rPr b="0" lang="zh-CN" sz="3200" spc="-1" strike="noStrike" u="sng">
                <a:solidFill>
                  <a:srgbClr val="d2611c"/>
                </a:solidFill>
                <a:uFillTx/>
                <a:latin typeface="黑体"/>
                <a:ea typeface="黑体"/>
                <a:hlinkClick r:id="rId2"/>
              </a:rPr>
              <a:t>三斜求积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，给出了已知三角形三边求</a:t>
            </a:r>
            <a:r>
              <a:rPr b="0" lang="zh-CN" sz="3200" spc="-1" strike="noStrike" u="sng">
                <a:solidFill>
                  <a:srgbClr val="d2611c"/>
                </a:solidFill>
                <a:uFillTx/>
                <a:latin typeface="黑体"/>
                <a:ea typeface="黑体"/>
                <a:hlinkClick r:id="rId3"/>
              </a:rPr>
              <a:t>三角形面积公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与海伦公式可以相互转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4" descr=""/>
          <p:cNvPicPr/>
          <p:nvPr/>
        </p:nvPicPr>
        <p:blipFill>
          <a:blip r:embed="rId4"/>
          <a:stretch/>
        </p:blipFill>
        <p:spPr>
          <a:xfrm>
            <a:off x="860400" y="3666960"/>
            <a:ext cx="4608360" cy="126396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1"/>
          <p:cNvSpPr/>
          <p:nvPr/>
        </p:nvSpPr>
        <p:spPr>
          <a:xfrm>
            <a:off x="3255120" y="210960"/>
            <a:ext cx="1704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d2611c"/>
                </a:solidFill>
                <a:uFillTx/>
                <a:latin typeface="微软雅黑"/>
                <a:ea typeface="微软雅黑"/>
                <a:hlinkClick r:id="rId5"/>
              </a:rPr>
              <a:t>三斜求积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05:53:23Z</dcterms:created>
  <dc:creator>a</dc:creator>
  <dc:description/>
  <dc:language>en-US</dc:language>
  <cp:lastModifiedBy>caoyixiang</cp:lastModifiedBy>
  <dcterms:modified xsi:type="dcterms:W3CDTF">2016-10-11T05:49:07Z</dcterms:modified>
  <cp:revision>4</cp:revision>
  <dc:subject/>
  <dc:title>勾股定理的应用（2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