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7C0A-C4A9-4509-9E11-E381A08F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BC8-A2A7-4FDA-8AC2-FA71D8EA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D1F6-13A1-4BA0-8B11-20CDF351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118-F5B1-46ED-AD80-EF5B9D2F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BE03-0851-43A9-B247-44B9CC90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4D6E-4CF8-4FB2-BF85-B3D017F7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A92F-81E6-46B2-8A6E-2CA024DD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D211-DB83-49D3-8C47-AE52E9A2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6C20-6F00-48D2-B094-700B002C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8C8F-D8F1-4C41-84A2-AB4A0FD1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7B90-3684-485A-AB8F-85CEBD30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F73E-18D9-4095-95A8-50E0497F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3922-78F0-405C-BEAA-3E34B6CD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3AF4-1EC5-4825-AB69-206BF142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893A-D8F8-4D1B-AC61-86FDDE8D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B868-4696-4DB5-840D-632D1769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BA54-D88B-4825-B1A2-240B3A80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60730-AD50-4F56-A85B-1D8F072A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0825D-3DF7-4248-B6D0-C3112AF1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7B95B-56EA-453F-8EB3-468C395B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77C07-ACB6-4599-B649-FD08847B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CD3BD-EC7F-4467-8413-3851E43D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C5D-1BEF-487A-BF95-297EFA5B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EA7D6-8E95-4738-9BA3-1BBFD2D2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A5D8C-5719-4BFF-BB43-1CC8BBF2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3E570-5E13-478C-AB0E-19C73C4F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CE21D-EEC4-4B23-9F22-6FEBED4F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5FFEC-33D5-4272-9E9C-DB3EA882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1434D-9238-474B-830B-DFB4D77B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A05DB-5A75-4C16-8417-C5396312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96E97-AAF5-496E-B289-8ED107FB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F4F04-FF4C-4CBA-8D1F-14C16D86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474DE-4E09-410E-84D8-E882746D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4A1-47EC-469C-89ED-E0EA9449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9E8E5-5F64-45B8-8858-DFD5FF84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30840-0577-4526-867A-217A8E3E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7D922-B288-4923-83DE-4437A68F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3FF7B-5313-40AA-9114-FF1322E9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13D3E-ED9B-4555-9063-C9A12408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223DF-30BE-4E42-8F3B-12AEA4FF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D6842-33DB-4CFF-B70F-216BF85D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C0A3D-3A45-4E60-89A4-5B58553D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84FAF-82C3-4296-A81C-A74DB672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7BE-49E5-4756-BD34-604DE97B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50D-3ADA-45B2-B10A-F35073F7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499-1A21-407A-8A7D-85233E1F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6E8-1CA3-4117-9E51-E11C217C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81F-5F5A-4C19-A133-14020D39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27040" y="0"/>
            <a:ext cx="360" cy="5910120"/>
            <a:chOff x="527040" y="0"/>
            <a:chExt cx="360" cy="5910120"/>
          </a:xfrm>
        </p:grpSpPr>
        <p:sp>
          <p:nvSpPr>
            <p:cNvPr id="3" name="Line 13"/>
            <p:cNvSpPr/>
            <p:nvPr/>
          </p:nvSpPr>
          <p:spPr>
            <a:xfrm>
              <a:off x="527040" y="0"/>
              <a:ext cx="0" cy="591012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 txBox="1"/>
            <p:nvPr/>
          </p:nvSpPr>
          <p:spPr>
            <a:xfrm>
              <a:off x="527040" y="0"/>
              <a:ext cx="360" cy="591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1677960" y="0"/>
            <a:ext cx="360" cy="6832440"/>
            <a:chOff x="1677960" y="0"/>
            <a:chExt cx="360" cy="6832440"/>
          </a:xfrm>
        </p:grpSpPr>
        <p:sp>
          <p:nvSpPr>
            <p:cNvPr id="6" name="Line 14"/>
            <p:cNvSpPr/>
            <p:nvPr/>
          </p:nvSpPr>
          <p:spPr>
            <a:xfrm>
              <a:off x="1677960" y="0"/>
              <a:ext cx="0" cy="68324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 txBox="1"/>
            <p:nvPr/>
          </p:nvSpPr>
          <p:spPr>
            <a:xfrm>
              <a:off x="1677960" y="0"/>
              <a:ext cx="360" cy="683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2830680" y="0"/>
            <a:ext cx="360" cy="6861240"/>
            <a:chOff x="2830680" y="0"/>
            <a:chExt cx="360" cy="6861240"/>
          </a:xfrm>
        </p:grpSpPr>
        <p:sp>
          <p:nvSpPr>
            <p:cNvPr id="9" name="Line 15"/>
            <p:cNvSpPr/>
            <p:nvPr/>
          </p:nvSpPr>
          <p:spPr>
            <a:xfrm>
              <a:off x="2830680" y="0"/>
              <a:ext cx="0" cy="68612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 txBox="1"/>
            <p:nvPr/>
          </p:nvSpPr>
          <p:spPr>
            <a:xfrm>
              <a:off x="2830680" y="0"/>
              <a:ext cx="360" cy="686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3983040" y="0"/>
            <a:ext cx="360" cy="6875640"/>
            <a:chOff x="3983040" y="0"/>
            <a:chExt cx="360" cy="6875640"/>
          </a:xfrm>
        </p:grpSpPr>
        <p:sp>
          <p:nvSpPr>
            <p:cNvPr id="12" name="Line 16"/>
            <p:cNvSpPr/>
            <p:nvPr/>
          </p:nvSpPr>
          <p:spPr>
            <a:xfrm>
              <a:off x="3983040" y="0"/>
              <a:ext cx="0" cy="68756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 txBox="1"/>
            <p:nvPr/>
          </p:nvSpPr>
          <p:spPr>
            <a:xfrm>
              <a:off x="3983040" y="0"/>
              <a:ext cx="360" cy="687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5133960" y="388800"/>
            <a:ext cx="360" cy="6486840"/>
            <a:chOff x="5133960" y="388800"/>
            <a:chExt cx="360" cy="6486840"/>
          </a:xfrm>
        </p:grpSpPr>
        <p:sp>
          <p:nvSpPr>
            <p:cNvPr id="15" name="Line 17"/>
            <p:cNvSpPr/>
            <p:nvPr/>
          </p:nvSpPr>
          <p:spPr>
            <a:xfrm>
              <a:off x="5133960" y="388800"/>
              <a:ext cx="0" cy="64868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 txBox="1"/>
            <p:nvPr/>
          </p:nvSpPr>
          <p:spPr>
            <a:xfrm>
              <a:off x="5133960" y="388800"/>
              <a:ext cx="360" cy="648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6286680" y="619200"/>
            <a:ext cx="360" cy="6256440"/>
            <a:chOff x="6286680" y="619200"/>
            <a:chExt cx="360" cy="6256440"/>
          </a:xfrm>
        </p:grpSpPr>
        <p:sp>
          <p:nvSpPr>
            <p:cNvPr id="18" name="Line 18"/>
            <p:cNvSpPr/>
            <p:nvPr/>
          </p:nvSpPr>
          <p:spPr>
            <a:xfrm>
              <a:off x="6286680" y="619200"/>
              <a:ext cx="0" cy="62564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 txBox="1"/>
            <p:nvPr/>
          </p:nvSpPr>
          <p:spPr>
            <a:xfrm>
              <a:off x="6286680" y="619200"/>
              <a:ext cx="360" cy="625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" name=""/>
          <p:cNvGrpSpPr/>
          <p:nvPr/>
        </p:nvGrpSpPr>
        <p:grpSpPr>
          <a:xfrm>
            <a:off x="7439040" y="773280"/>
            <a:ext cx="360" cy="6102360"/>
            <a:chOff x="7439040" y="773280"/>
            <a:chExt cx="360" cy="6102360"/>
          </a:xfrm>
        </p:grpSpPr>
        <p:sp>
          <p:nvSpPr>
            <p:cNvPr id="21" name="Line 19"/>
            <p:cNvSpPr/>
            <p:nvPr/>
          </p:nvSpPr>
          <p:spPr>
            <a:xfrm>
              <a:off x="7439040" y="773280"/>
              <a:ext cx="0" cy="610236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 txBox="1"/>
            <p:nvPr/>
          </p:nvSpPr>
          <p:spPr>
            <a:xfrm>
              <a:off x="7439040" y="773280"/>
              <a:ext cx="360" cy="610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8591400" y="900000"/>
            <a:ext cx="360" cy="5975640"/>
            <a:chOff x="8591400" y="900000"/>
            <a:chExt cx="360" cy="5975640"/>
          </a:xfrm>
        </p:grpSpPr>
        <p:sp>
          <p:nvSpPr>
            <p:cNvPr id="24" name="Line 20"/>
            <p:cNvSpPr/>
            <p:nvPr/>
          </p:nvSpPr>
          <p:spPr>
            <a:xfrm>
              <a:off x="8591400" y="900000"/>
              <a:ext cx="0" cy="59756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 txBox="1"/>
            <p:nvPr/>
          </p:nvSpPr>
          <p:spPr>
            <a:xfrm>
              <a:off x="8591400" y="900000"/>
              <a:ext cx="360" cy="597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" name=""/>
          <p:cNvGrpSpPr/>
          <p:nvPr/>
        </p:nvGrpSpPr>
        <p:grpSpPr>
          <a:xfrm>
            <a:off x="0" y="419040"/>
            <a:ext cx="5191200" cy="360"/>
            <a:chOff x="0" y="419040"/>
            <a:chExt cx="5191200" cy="360"/>
          </a:xfrm>
        </p:grpSpPr>
        <p:sp>
          <p:nvSpPr>
            <p:cNvPr id="27" name="Line 22"/>
            <p:cNvSpPr/>
            <p:nvPr/>
          </p:nvSpPr>
          <p:spPr>
            <a:xfrm flipH="1">
              <a:off x="0" y="419040"/>
              <a:ext cx="519120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 txBox="1"/>
            <p:nvPr/>
          </p:nvSpPr>
          <p:spPr>
            <a:xfrm rot="5400000">
              <a:off x="2595240" y="-2176200"/>
              <a:ext cx="360" cy="519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-360" y="1541520"/>
            <a:ext cx="9156600" cy="360"/>
            <a:chOff x="-360" y="1541520"/>
            <a:chExt cx="9156600" cy="360"/>
          </a:xfrm>
        </p:grpSpPr>
        <p:sp>
          <p:nvSpPr>
            <p:cNvPr id="30" name="Line 23"/>
            <p:cNvSpPr/>
            <p:nvPr/>
          </p:nvSpPr>
          <p:spPr>
            <a:xfrm flipH="1">
              <a:off x="-360" y="1541520"/>
              <a:ext cx="915660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 txBox="1"/>
            <p:nvPr/>
          </p:nvSpPr>
          <p:spPr>
            <a:xfrm rot="5400000">
              <a:off x="4577760" y="-3036600"/>
              <a:ext cx="360" cy="915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" name=""/>
          <p:cNvGrpSpPr/>
          <p:nvPr/>
        </p:nvGrpSpPr>
        <p:grpSpPr>
          <a:xfrm>
            <a:off x="-360" y="2665440"/>
            <a:ext cx="9156600" cy="360"/>
            <a:chOff x="-360" y="2665440"/>
            <a:chExt cx="9156600" cy="360"/>
          </a:xfrm>
        </p:grpSpPr>
        <p:sp>
          <p:nvSpPr>
            <p:cNvPr id="33" name="Line 24"/>
            <p:cNvSpPr/>
            <p:nvPr/>
          </p:nvSpPr>
          <p:spPr>
            <a:xfrm flipH="1">
              <a:off x="-360" y="2665440"/>
              <a:ext cx="915660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 txBox="1"/>
            <p:nvPr/>
          </p:nvSpPr>
          <p:spPr>
            <a:xfrm rot="5400000">
              <a:off x="4577760" y="-1912680"/>
              <a:ext cx="360" cy="915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" name=""/>
          <p:cNvGrpSpPr/>
          <p:nvPr/>
        </p:nvGrpSpPr>
        <p:grpSpPr>
          <a:xfrm>
            <a:off x="3240" y="3787920"/>
            <a:ext cx="9153360" cy="360"/>
            <a:chOff x="3240" y="3787920"/>
            <a:chExt cx="9153360" cy="360"/>
          </a:xfrm>
        </p:grpSpPr>
        <p:sp>
          <p:nvSpPr>
            <p:cNvPr id="36" name="Line 25"/>
            <p:cNvSpPr/>
            <p:nvPr/>
          </p:nvSpPr>
          <p:spPr>
            <a:xfrm flipH="1">
              <a:off x="3240" y="3787920"/>
              <a:ext cx="915336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 txBox="1"/>
            <p:nvPr/>
          </p:nvSpPr>
          <p:spPr>
            <a:xfrm rot="5400000">
              <a:off x="4579560" y="-788400"/>
              <a:ext cx="360" cy="915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3240" y="4911840"/>
            <a:ext cx="9153360" cy="360"/>
            <a:chOff x="3240" y="4911840"/>
            <a:chExt cx="9153360" cy="360"/>
          </a:xfrm>
        </p:grpSpPr>
        <p:sp>
          <p:nvSpPr>
            <p:cNvPr id="39" name="Line 26"/>
            <p:cNvSpPr/>
            <p:nvPr/>
          </p:nvSpPr>
          <p:spPr>
            <a:xfrm flipH="1">
              <a:off x="3240" y="4911840"/>
              <a:ext cx="915336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 txBox="1"/>
            <p:nvPr/>
          </p:nvSpPr>
          <p:spPr>
            <a:xfrm rot="5400000">
              <a:off x="4579560" y="335160"/>
              <a:ext cx="360" cy="915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693720" y="6035760"/>
            <a:ext cx="8423280" cy="360"/>
            <a:chOff x="693720" y="6035760"/>
            <a:chExt cx="8423280" cy="360"/>
          </a:xfrm>
        </p:grpSpPr>
        <p:sp>
          <p:nvSpPr>
            <p:cNvPr id="42" name="Line 27"/>
            <p:cNvSpPr/>
            <p:nvPr/>
          </p:nvSpPr>
          <p:spPr>
            <a:xfrm flipH="1">
              <a:off x="693720" y="6035760"/>
              <a:ext cx="842328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 rot="5400000">
              <a:off x="4905000" y="1824120"/>
              <a:ext cx="360" cy="842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B855-FF7B-4F27-BFCE-9233FB6845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57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27040" y="0"/>
            <a:ext cx="360" cy="5910120"/>
            <a:chOff x="527040" y="0"/>
            <a:chExt cx="360" cy="5910120"/>
          </a:xfrm>
        </p:grpSpPr>
        <p:sp>
          <p:nvSpPr>
            <p:cNvPr id="98" name="Line 13"/>
            <p:cNvSpPr/>
            <p:nvPr/>
          </p:nvSpPr>
          <p:spPr>
            <a:xfrm>
              <a:off x="527040" y="0"/>
              <a:ext cx="0" cy="591012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527040" y="0"/>
              <a:ext cx="360" cy="591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677960" y="0"/>
            <a:ext cx="360" cy="6832440"/>
            <a:chOff x="1677960" y="0"/>
            <a:chExt cx="360" cy="6832440"/>
          </a:xfrm>
        </p:grpSpPr>
        <p:sp>
          <p:nvSpPr>
            <p:cNvPr id="101" name="Line 14"/>
            <p:cNvSpPr/>
            <p:nvPr/>
          </p:nvSpPr>
          <p:spPr>
            <a:xfrm>
              <a:off x="1677960" y="0"/>
              <a:ext cx="0" cy="68324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1677960" y="0"/>
              <a:ext cx="360" cy="683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830680" y="0"/>
            <a:ext cx="360" cy="6861240"/>
            <a:chOff x="2830680" y="0"/>
            <a:chExt cx="360" cy="6861240"/>
          </a:xfrm>
        </p:grpSpPr>
        <p:sp>
          <p:nvSpPr>
            <p:cNvPr id="104" name="Line 15"/>
            <p:cNvSpPr/>
            <p:nvPr/>
          </p:nvSpPr>
          <p:spPr>
            <a:xfrm>
              <a:off x="2830680" y="0"/>
              <a:ext cx="0" cy="68612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2830680" y="0"/>
              <a:ext cx="360" cy="686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983040" y="0"/>
            <a:ext cx="360" cy="6875640"/>
            <a:chOff x="3983040" y="0"/>
            <a:chExt cx="360" cy="6875640"/>
          </a:xfrm>
        </p:grpSpPr>
        <p:sp>
          <p:nvSpPr>
            <p:cNvPr id="107" name="Line 16"/>
            <p:cNvSpPr/>
            <p:nvPr/>
          </p:nvSpPr>
          <p:spPr>
            <a:xfrm>
              <a:off x="3983040" y="0"/>
              <a:ext cx="0" cy="68756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3983040" y="0"/>
              <a:ext cx="360" cy="687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133960" y="388800"/>
            <a:ext cx="360" cy="6486840"/>
            <a:chOff x="5133960" y="388800"/>
            <a:chExt cx="360" cy="6486840"/>
          </a:xfrm>
        </p:grpSpPr>
        <p:sp>
          <p:nvSpPr>
            <p:cNvPr id="110" name="Line 17"/>
            <p:cNvSpPr/>
            <p:nvPr/>
          </p:nvSpPr>
          <p:spPr>
            <a:xfrm>
              <a:off x="5133960" y="388800"/>
              <a:ext cx="0" cy="64868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5133960" y="388800"/>
              <a:ext cx="360" cy="648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286680" y="619200"/>
            <a:ext cx="360" cy="6256440"/>
            <a:chOff x="6286680" y="619200"/>
            <a:chExt cx="360" cy="6256440"/>
          </a:xfrm>
        </p:grpSpPr>
        <p:sp>
          <p:nvSpPr>
            <p:cNvPr id="113" name="Line 18"/>
            <p:cNvSpPr/>
            <p:nvPr/>
          </p:nvSpPr>
          <p:spPr>
            <a:xfrm>
              <a:off x="6286680" y="619200"/>
              <a:ext cx="0" cy="62564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6286680" y="619200"/>
              <a:ext cx="360" cy="625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439040" y="773280"/>
            <a:ext cx="360" cy="6102360"/>
            <a:chOff x="7439040" y="773280"/>
            <a:chExt cx="360" cy="6102360"/>
          </a:xfrm>
        </p:grpSpPr>
        <p:sp>
          <p:nvSpPr>
            <p:cNvPr id="116" name="Line 19"/>
            <p:cNvSpPr/>
            <p:nvPr/>
          </p:nvSpPr>
          <p:spPr>
            <a:xfrm>
              <a:off x="7439040" y="773280"/>
              <a:ext cx="0" cy="610236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7439040" y="773280"/>
              <a:ext cx="360" cy="610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8591400" y="900000"/>
            <a:ext cx="360" cy="5975640"/>
            <a:chOff x="8591400" y="900000"/>
            <a:chExt cx="360" cy="5975640"/>
          </a:xfrm>
        </p:grpSpPr>
        <p:sp>
          <p:nvSpPr>
            <p:cNvPr id="119" name="Line 20"/>
            <p:cNvSpPr/>
            <p:nvPr/>
          </p:nvSpPr>
          <p:spPr>
            <a:xfrm>
              <a:off x="8591400" y="900000"/>
              <a:ext cx="0" cy="59756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8591400" y="900000"/>
              <a:ext cx="360" cy="597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0" y="419040"/>
            <a:ext cx="5191200" cy="360"/>
            <a:chOff x="0" y="419040"/>
            <a:chExt cx="5191200" cy="360"/>
          </a:xfrm>
        </p:grpSpPr>
        <p:sp>
          <p:nvSpPr>
            <p:cNvPr id="122" name="Line 22"/>
            <p:cNvSpPr/>
            <p:nvPr/>
          </p:nvSpPr>
          <p:spPr>
            <a:xfrm flipH="1">
              <a:off x="0" y="419040"/>
              <a:ext cx="519120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 rot="5400000">
              <a:off x="2595240" y="-2176200"/>
              <a:ext cx="360" cy="519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-360" y="1541520"/>
            <a:ext cx="9156600" cy="360"/>
            <a:chOff x="-360" y="1541520"/>
            <a:chExt cx="9156600" cy="360"/>
          </a:xfrm>
        </p:grpSpPr>
        <p:sp>
          <p:nvSpPr>
            <p:cNvPr id="125" name="Line 23"/>
            <p:cNvSpPr/>
            <p:nvPr/>
          </p:nvSpPr>
          <p:spPr>
            <a:xfrm flipH="1">
              <a:off x="-360" y="1541520"/>
              <a:ext cx="915660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 rot="5400000">
              <a:off x="4577760" y="-3036600"/>
              <a:ext cx="360" cy="915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-360" y="2665440"/>
            <a:ext cx="9156600" cy="360"/>
            <a:chOff x="-360" y="2665440"/>
            <a:chExt cx="9156600" cy="360"/>
          </a:xfrm>
        </p:grpSpPr>
        <p:sp>
          <p:nvSpPr>
            <p:cNvPr id="128" name="Line 24"/>
            <p:cNvSpPr/>
            <p:nvPr/>
          </p:nvSpPr>
          <p:spPr>
            <a:xfrm flipH="1">
              <a:off x="-360" y="2665440"/>
              <a:ext cx="915660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 rot="5400000">
              <a:off x="4577760" y="-1912680"/>
              <a:ext cx="360" cy="915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240" y="3787920"/>
            <a:ext cx="9153360" cy="360"/>
            <a:chOff x="3240" y="3787920"/>
            <a:chExt cx="9153360" cy="360"/>
          </a:xfrm>
        </p:grpSpPr>
        <p:sp>
          <p:nvSpPr>
            <p:cNvPr id="131" name="Line 25"/>
            <p:cNvSpPr/>
            <p:nvPr/>
          </p:nvSpPr>
          <p:spPr>
            <a:xfrm flipH="1">
              <a:off x="3240" y="3787920"/>
              <a:ext cx="915336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 rot="5400000">
              <a:off x="4579560" y="-788400"/>
              <a:ext cx="360" cy="915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240" y="4911840"/>
            <a:ext cx="9153360" cy="360"/>
            <a:chOff x="3240" y="4911840"/>
            <a:chExt cx="9153360" cy="360"/>
          </a:xfrm>
        </p:grpSpPr>
        <p:sp>
          <p:nvSpPr>
            <p:cNvPr id="134" name="Line 26"/>
            <p:cNvSpPr/>
            <p:nvPr/>
          </p:nvSpPr>
          <p:spPr>
            <a:xfrm flipH="1">
              <a:off x="3240" y="4911840"/>
              <a:ext cx="915336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 rot="5400000">
              <a:off x="4579560" y="335160"/>
              <a:ext cx="360" cy="915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93720" y="6035760"/>
            <a:ext cx="8423280" cy="360"/>
            <a:chOff x="693720" y="6035760"/>
            <a:chExt cx="8423280" cy="360"/>
          </a:xfrm>
        </p:grpSpPr>
        <p:sp>
          <p:nvSpPr>
            <p:cNvPr id="137" name="Line 27"/>
            <p:cNvSpPr/>
            <p:nvPr/>
          </p:nvSpPr>
          <p:spPr>
            <a:xfrm flipH="1">
              <a:off x="693720" y="6035760"/>
              <a:ext cx="842328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 rot="5400000">
              <a:off x="4905000" y="1824120"/>
              <a:ext cx="360" cy="842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A221-CE2B-48EE-AB7D-6A3FD58E1E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2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50920" y="1440"/>
            <a:ext cx="360" cy="6015240"/>
            <a:chOff x="250920" y="1440"/>
            <a:chExt cx="360" cy="6015240"/>
          </a:xfrm>
        </p:grpSpPr>
        <p:sp>
          <p:nvSpPr>
            <p:cNvPr id="197" name="Line 47"/>
            <p:cNvSpPr/>
            <p:nvPr/>
          </p:nvSpPr>
          <p:spPr>
            <a:xfrm>
              <a:off x="250920" y="1440"/>
              <a:ext cx="0" cy="601524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250920" y="1440"/>
              <a:ext cx="360" cy="601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293840" y="1440"/>
            <a:ext cx="360" cy="6207120"/>
            <a:chOff x="1293840" y="1440"/>
            <a:chExt cx="360" cy="6207120"/>
          </a:xfrm>
        </p:grpSpPr>
        <p:sp>
          <p:nvSpPr>
            <p:cNvPr id="200" name="Line 48"/>
            <p:cNvSpPr/>
            <p:nvPr/>
          </p:nvSpPr>
          <p:spPr>
            <a:xfrm>
              <a:off x="1293840" y="1440"/>
              <a:ext cx="0" cy="620712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1293840" y="1440"/>
              <a:ext cx="360" cy="620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338560" y="1440"/>
            <a:ext cx="360" cy="6183360"/>
            <a:chOff x="2338560" y="1440"/>
            <a:chExt cx="360" cy="6183360"/>
          </a:xfrm>
        </p:grpSpPr>
        <p:sp>
          <p:nvSpPr>
            <p:cNvPr id="203" name="Line 49"/>
            <p:cNvSpPr/>
            <p:nvPr/>
          </p:nvSpPr>
          <p:spPr>
            <a:xfrm>
              <a:off x="2338560" y="1440"/>
              <a:ext cx="0" cy="618336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2338560" y="1440"/>
              <a:ext cx="360" cy="618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382920" y="1440"/>
            <a:ext cx="360" cy="5972400"/>
            <a:chOff x="3382920" y="1440"/>
            <a:chExt cx="360" cy="5972400"/>
          </a:xfrm>
        </p:grpSpPr>
        <p:sp>
          <p:nvSpPr>
            <p:cNvPr id="206" name="Line 50"/>
            <p:cNvSpPr/>
            <p:nvPr/>
          </p:nvSpPr>
          <p:spPr>
            <a:xfrm>
              <a:off x="3382920" y="1440"/>
              <a:ext cx="0" cy="597240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3382920" y="1440"/>
              <a:ext cx="360" cy="597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427640" y="1440"/>
            <a:ext cx="360" cy="5450040"/>
            <a:chOff x="4427640" y="1440"/>
            <a:chExt cx="360" cy="5450040"/>
          </a:xfrm>
        </p:grpSpPr>
        <p:sp>
          <p:nvSpPr>
            <p:cNvPr id="209" name="Line 51"/>
            <p:cNvSpPr/>
            <p:nvPr/>
          </p:nvSpPr>
          <p:spPr>
            <a:xfrm>
              <a:off x="4427640" y="1440"/>
              <a:ext cx="0" cy="545004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4427640" y="1440"/>
              <a:ext cx="360" cy="545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480" y="252360"/>
            <a:ext cx="5813280" cy="360"/>
            <a:chOff x="6480" y="252360"/>
            <a:chExt cx="5813280" cy="360"/>
          </a:xfrm>
        </p:grpSpPr>
        <p:sp>
          <p:nvSpPr>
            <p:cNvPr id="212" name="Line 53"/>
            <p:cNvSpPr/>
            <p:nvPr/>
          </p:nvSpPr>
          <p:spPr>
            <a:xfrm flipH="1">
              <a:off x="6480" y="252360"/>
              <a:ext cx="58132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 rot="5400000">
              <a:off x="2912760" y="-2653920"/>
              <a:ext cx="360" cy="581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480" y="1317600"/>
            <a:ext cx="6000480" cy="360"/>
            <a:chOff x="6480" y="1317600"/>
            <a:chExt cx="6000480" cy="360"/>
          </a:xfrm>
        </p:grpSpPr>
        <p:sp>
          <p:nvSpPr>
            <p:cNvPr id="215" name="Line 54"/>
            <p:cNvSpPr/>
            <p:nvPr/>
          </p:nvSpPr>
          <p:spPr>
            <a:xfrm flipH="1">
              <a:off x="6480" y="1317600"/>
              <a:ext cx="60004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 rot="5400000">
              <a:off x="3006360" y="-1682280"/>
              <a:ext cx="360" cy="6000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120" y="2382840"/>
            <a:ext cx="6010200" cy="360"/>
            <a:chOff x="6120" y="2382840"/>
            <a:chExt cx="6010200" cy="360"/>
          </a:xfrm>
        </p:grpSpPr>
        <p:sp>
          <p:nvSpPr>
            <p:cNvPr id="218" name="Line 55"/>
            <p:cNvSpPr/>
            <p:nvPr/>
          </p:nvSpPr>
          <p:spPr>
            <a:xfrm flipH="1">
              <a:off x="6120" y="2382840"/>
              <a:ext cx="601020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 rot="5400000">
              <a:off x="3011040" y="-622080"/>
              <a:ext cx="360" cy="601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120" y="3449520"/>
            <a:ext cx="5802120" cy="360"/>
            <a:chOff x="6120" y="3449520"/>
            <a:chExt cx="5802120" cy="360"/>
          </a:xfrm>
        </p:grpSpPr>
        <p:sp>
          <p:nvSpPr>
            <p:cNvPr id="221" name="Line 56"/>
            <p:cNvSpPr/>
            <p:nvPr/>
          </p:nvSpPr>
          <p:spPr>
            <a:xfrm flipH="1">
              <a:off x="6120" y="3449520"/>
              <a:ext cx="580212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 rot="5400000">
              <a:off x="2907000" y="548280"/>
              <a:ext cx="360" cy="580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680" y="4513320"/>
            <a:ext cx="5321520" cy="360"/>
            <a:chOff x="4680" y="4513320"/>
            <a:chExt cx="5321520" cy="360"/>
          </a:xfrm>
        </p:grpSpPr>
        <p:sp>
          <p:nvSpPr>
            <p:cNvPr id="224" name="Line 57"/>
            <p:cNvSpPr/>
            <p:nvPr/>
          </p:nvSpPr>
          <p:spPr>
            <a:xfrm flipH="1">
              <a:off x="4680" y="4513320"/>
              <a:ext cx="532152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 rot="5400000">
              <a:off x="2665080" y="1852560"/>
              <a:ext cx="360" cy="532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320" y="5580000"/>
            <a:ext cx="4218120" cy="360"/>
            <a:chOff x="4320" y="5580000"/>
            <a:chExt cx="4218120" cy="360"/>
          </a:xfrm>
        </p:grpSpPr>
        <p:sp>
          <p:nvSpPr>
            <p:cNvPr id="227" name="Line 58"/>
            <p:cNvSpPr/>
            <p:nvPr/>
          </p:nvSpPr>
          <p:spPr>
            <a:xfrm flipH="1">
              <a:off x="4320" y="5580000"/>
              <a:ext cx="421812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 rot="5400000">
              <a:off x="2113200" y="3471120"/>
              <a:ext cx="360" cy="421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236" name="Freeform 66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67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479920" y="1440"/>
            <a:ext cx="360" cy="4238640"/>
            <a:chOff x="5479920" y="1440"/>
            <a:chExt cx="360" cy="4238640"/>
          </a:xfrm>
        </p:grpSpPr>
        <p:sp>
          <p:nvSpPr>
            <p:cNvPr id="240" name="Line 81"/>
            <p:cNvSpPr/>
            <p:nvPr/>
          </p:nvSpPr>
          <p:spPr>
            <a:xfrm>
              <a:off x="5479920" y="1440"/>
              <a:ext cx="0" cy="423864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5479920" y="1440"/>
              <a:ext cx="360" cy="4238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83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7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8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9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2E82-BE0F-4F4E-9994-55C68F8DC1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50920" y="1440"/>
            <a:ext cx="360" cy="6015240"/>
            <a:chOff x="250920" y="1440"/>
            <a:chExt cx="360" cy="6015240"/>
          </a:xfrm>
        </p:grpSpPr>
        <p:sp>
          <p:nvSpPr>
            <p:cNvPr id="292" name="Line 47"/>
            <p:cNvSpPr/>
            <p:nvPr/>
          </p:nvSpPr>
          <p:spPr>
            <a:xfrm>
              <a:off x="250920" y="1440"/>
              <a:ext cx="0" cy="601524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250920" y="1440"/>
              <a:ext cx="360" cy="601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293840" y="1440"/>
            <a:ext cx="360" cy="6207120"/>
            <a:chOff x="1293840" y="1440"/>
            <a:chExt cx="360" cy="6207120"/>
          </a:xfrm>
        </p:grpSpPr>
        <p:sp>
          <p:nvSpPr>
            <p:cNvPr id="295" name="Line 48"/>
            <p:cNvSpPr/>
            <p:nvPr/>
          </p:nvSpPr>
          <p:spPr>
            <a:xfrm>
              <a:off x="1293840" y="1440"/>
              <a:ext cx="0" cy="620712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1293840" y="1440"/>
              <a:ext cx="360" cy="620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338560" y="1440"/>
            <a:ext cx="360" cy="6183360"/>
            <a:chOff x="2338560" y="1440"/>
            <a:chExt cx="360" cy="6183360"/>
          </a:xfrm>
        </p:grpSpPr>
        <p:sp>
          <p:nvSpPr>
            <p:cNvPr id="298" name="Line 49"/>
            <p:cNvSpPr/>
            <p:nvPr/>
          </p:nvSpPr>
          <p:spPr>
            <a:xfrm>
              <a:off x="2338560" y="1440"/>
              <a:ext cx="0" cy="618336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2338560" y="1440"/>
              <a:ext cx="360" cy="618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382920" y="1440"/>
            <a:ext cx="360" cy="5972400"/>
            <a:chOff x="3382920" y="1440"/>
            <a:chExt cx="360" cy="5972400"/>
          </a:xfrm>
        </p:grpSpPr>
        <p:sp>
          <p:nvSpPr>
            <p:cNvPr id="301" name="Line 50"/>
            <p:cNvSpPr/>
            <p:nvPr/>
          </p:nvSpPr>
          <p:spPr>
            <a:xfrm>
              <a:off x="3382920" y="1440"/>
              <a:ext cx="0" cy="597240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3382920" y="1440"/>
              <a:ext cx="360" cy="597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427640" y="1440"/>
            <a:ext cx="360" cy="5450040"/>
            <a:chOff x="4427640" y="1440"/>
            <a:chExt cx="360" cy="5450040"/>
          </a:xfrm>
        </p:grpSpPr>
        <p:sp>
          <p:nvSpPr>
            <p:cNvPr id="304" name="Line 51"/>
            <p:cNvSpPr/>
            <p:nvPr/>
          </p:nvSpPr>
          <p:spPr>
            <a:xfrm>
              <a:off x="4427640" y="1440"/>
              <a:ext cx="0" cy="545004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4427640" y="1440"/>
              <a:ext cx="360" cy="545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480" y="252360"/>
            <a:ext cx="5813280" cy="360"/>
            <a:chOff x="6480" y="252360"/>
            <a:chExt cx="5813280" cy="360"/>
          </a:xfrm>
        </p:grpSpPr>
        <p:sp>
          <p:nvSpPr>
            <p:cNvPr id="307" name="Line 53"/>
            <p:cNvSpPr/>
            <p:nvPr/>
          </p:nvSpPr>
          <p:spPr>
            <a:xfrm flipH="1">
              <a:off x="6480" y="252360"/>
              <a:ext cx="58132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 rot="5400000">
              <a:off x="2912760" y="-2653920"/>
              <a:ext cx="360" cy="581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480" y="1317600"/>
            <a:ext cx="6000480" cy="360"/>
            <a:chOff x="6480" y="1317600"/>
            <a:chExt cx="6000480" cy="360"/>
          </a:xfrm>
        </p:grpSpPr>
        <p:sp>
          <p:nvSpPr>
            <p:cNvPr id="310" name="Line 54"/>
            <p:cNvSpPr/>
            <p:nvPr/>
          </p:nvSpPr>
          <p:spPr>
            <a:xfrm flipH="1">
              <a:off x="6480" y="1317600"/>
              <a:ext cx="60004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5400000">
              <a:off x="3006360" y="-1682280"/>
              <a:ext cx="360" cy="6000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120" y="2382840"/>
            <a:ext cx="6010200" cy="360"/>
            <a:chOff x="6120" y="2382840"/>
            <a:chExt cx="6010200" cy="360"/>
          </a:xfrm>
        </p:grpSpPr>
        <p:sp>
          <p:nvSpPr>
            <p:cNvPr id="313" name="Line 55"/>
            <p:cNvSpPr/>
            <p:nvPr/>
          </p:nvSpPr>
          <p:spPr>
            <a:xfrm flipH="1">
              <a:off x="6120" y="2382840"/>
              <a:ext cx="601020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5400000">
              <a:off x="3011040" y="-622080"/>
              <a:ext cx="360" cy="601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120" y="3449520"/>
            <a:ext cx="5802120" cy="360"/>
            <a:chOff x="6120" y="3449520"/>
            <a:chExt cx="5802120" cy="360"/>
          </a:xfrm>
        </p:grpSpPr>
        <p:sp>
          <p:nvSpPr>
            <p:cNvPr id="316" name="Line 56"/>
            <p:cNvSpPr/>
            <p:nvPr/>
          </p:nvSpPr>
          <p:spPr>
            <a:xfrm flipH="1">
              <a:off x="6120" y="3449520"/>
              <a:ext cx="580212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 rot="5400000">
              <a:off x="2907000" y="548280"/>
              <a:ext cx="360" cy="580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680" y="4513320"/>
            <a:ext cx="5321520" cy="360"/>
            <a:chOff x="4680" y="4513320"/>
            <a:chExt cx="5321520" cy="360"/>
          </a:xfrm>
        </p:grpSpPr>
        <p:sp>
          <p:nvSpPr>
            <p:cNvPr id="319" name="Line 57"/>
            <p:cNvSpPr/>
            <p:nvPr/>
          </p:nvSpPr>
          <p:spPr>
            <a:xfrm flipH="1">
              <a:off x="4680" y="4513320"/>
              <a:ext cx="532152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 rot="5400000">
              <a:off x="2665080" y="1852560"/>
              <a:ext cx="360" cy="532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4320" y="5580000"/>
            <a:ext cx="4218120" cy="360"/>
            <a:chOff x="4320" y="5580000"/>
            <a:chExt cx="4218120" cy="360"/>
          </a:xfrm>
        </p:grpSpPr>
        <p:sp>
          <p:nvSpPr>
            <p:cNvPr id="322" name="Line 58"/>
            <p:cNvSpPr/>
            <p:nvPr/>
          </p:nvSpPr>
          <p:spPr>
            <a:xfrm flipH="1">
              <a:off x="4320" y="5580000"/>
              <a:ext cx="421812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 rot="5400000">
              <a:off x="2113200" y="3471120"/>
              <a:ext cx="360" cy="421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331" name="Freeform 66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67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479920" y="1440"/>
            <a:ext cx="360" cy="4238640"/>
            <a:chOff x="5479920" y="1440"/>
            <a:chExt cx="360" cy="4238640"/>
          </a:xfrm>
        </p:grpSpPr>
        <p:sp>
          <p:nvSpPr>
            <p:cNvPr id="335" name="Line 81"/>
            <p:cNvSpPr/>
            <p:nvPr/>
          </p:nvSpPr>
          <p:spPr>
            <a:xfrm>
              <a:off x="5479920" y="1440"/>
              <a:ext cx="0" cy="423864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5479920" y="1440"/>
              <a:ext cx="360" cy="4238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83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0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1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383C-5FD1-447A-89F1-88D98BE39C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9"/>
          <p:cNvSpPr/>
          <p:nvPr/>
        </p:nvSpPr>
        <p:spPr>
          <a:xfrm>
            <a:off x="2268360" y="227664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黑体"/>
              </a:rPr>
              <a:t>§6.1 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黑体"/>
              </a:rPr>
              <a:t>函数（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黑体"/>
              </a:rPr>
              <a:t>1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黑体"/>
              </a:rPr>
              <a:t>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627120" y="873000"/>
            <a:ext cx="77151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这是工作人员根据水库的水位变化与水库蓄水量变化情况而制作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表格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714240" y="1844640"/>
          <a:ext cx="7715160" cy="1463760"/>
        </p:xfrm>
        <a:graphic>
          <a:graphicData uri="http://schemas.openxmlformats.org/drawingml/2006/table">
            <a:tbl>
              <a:tblPr/>
              <a:tblGrid>
                <a:gridCol w="1203480"/>
                <a:gridCol w="1422360"/>
                <a:gridCol w="1422360"/>
                <a:gridCol w="1531800"/>
                <a:gridCol w="1422360"/>
                <a:gridCol w="712800"/>
              </a:tblGrid>
              <a:tr h="76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水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m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蓄水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v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30×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09×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18×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23×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6" name="Text Box 34"/>
          <p:cNvSpPr/>
          <p:nvPr/>
        </p:nvSpPr>
        <p:spPr>
          <a:xfrm>
            <a:off x="5626080" y="34941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位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35"/>
          <p:cNvSpPr/>
          <p:nvPr/>
        </p:nvSpPr>
        <p:spPr>
          <a:xfrm>
            <a:off x="36360" y="25560"/>
            <a:ext cx="79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三、用函数的方式描述变化关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矩形 3"/>
          <p:cNvSpPr/>
          <p:nvPr/>
        </p:nvSpPr>
        <p:spPr>
          <a:xfrm>
            <a:off x="252360" y="3457440"/>
            <a:ext cx="899964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答：在这个变化过程中有两个变量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如果对于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每一个值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都有唯一的值与它对应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那么我们称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是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函数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是自变量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4"/>
          <p:cNvSpPr/>
          <p:nvPr/>
        </p:nvSpPr>
        <p:spPr>
          <a:xfrm>
            <a:off x="1785960" y="3979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位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4"/>
          <p:cNvSpPr/>
          <p:nvPr/>
        </p:nvSpPr>
        <p:spPr>
          <a:xfrm>
            <a:off x="6012000" y="44496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位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33"/>
          <p:cNvSpPr/>
          <p:nvPr/>
        </p:nvSpPr>
        <p:spPr>
          <a:xfrm>
            <a:off x="7223040" y="34923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蓄水量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3"/>
          <p:cNvSpPr/>
          <p:nvPr/>
        </p:nvSpPr>
        <p:spPr>
          <a:xfrm>
            <a:off x="5416560" y="39798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蓄水量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3"/>
          <p:cNvSpPr/>
          <p:nvPr/>
        </p:nvSpPr>
        <p:spPr>
          <a:xfrm>
            <a:off x="4048200" y="4471920"/>
            <a:ext cx="14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蓄水量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642960" y="4933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位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reeform 3"/>
          <p:cNvSpPr/>
          <p:nvPr/>
        </p:nvSpPr>
        <p:spPr>
          <a:xfrm>
            <a:off x="1803240" y="2492280"/>
            <a:ext cx="5072400" cy="1500120"/>
          </a:xfrm>
          <a:custGeom>
            <a:avLst/>
            <a:gdLst/>
            <a:ahLst/>
            <a:rect l="l" t="t" r="r" b="b"/>
            <a:pathLst>
              <a:path w="4160" h="1376">
                <a:moveTo>
                  <a:pt x="8" y="1024"/>
                </a:moveTo>
                <a:cubicBezTo>
                  <a:pt x="16" y="1032"/>
                  <a:pt x="56" y="1120"/>
                  <a:pt x="104" y="1168"/>
                </a:cubicBezTo>
                <a:cubicBezTo>
                  <a:pt x="152" y="1216"/>
                  <a:pt x="232" y="1280"/>
                  <a:pt x="296" y="1312"/>
                </a:cubicBezTo>
                <a:cubicBezTo>
                  <a:pt x="360" y="1344"/>
                  <a:pt x="416" y="1376"/>
                  <a:pt x="488" y="1360"/>
                </a:cubicBezTo>
                <a:cubicBezTo>
                  <a:pt x="560" y="1344"/>
                  <a:pt x="640" y="1264"/>
                  <a:pt x="728" y="1216"/>
                </a:cubicBezTo>
                <a:cubicBezTo>
                  <a:pt x="816" y="1168"/>
                  <a:pt x="904" y="1144"/>
                  <a:pt x="1016" y="1072"/>
                </a:cubicBezTo>
                <a:cubicBezTo>
                  <a:pt x="1128" y="1000"/>
                  <a:pt x="1296" y="880"/>
                  <a:pt x="1400" y="784"/>
                </a:cubicBezTo>
                <a:cubicBezTo>
                  <a:pt x="1504" y="688"/>
                  <a:pt x="1544" y="576"/>
                  <a:pt x="1640" y="496"/>
                </a:cubicBezTo>
                <a:cubicBezTo>
                  <a:pt x="1736" y="416"/>
                  <a:pt x="1888" y="360"/>
                  <a:pt x="1976" y="304"/>
                </a:cubicBezTo>
                <a:cubicBezTo>
                  <a:pt x="2064" y="248"/>
                  <a:pt x="2120" y="200"/>
                  <a:pt x="2168" y="160"/>
                </a:cubicBezTo>
                <a:cubicBezTo>
                  <a:pt x="2216" y="120"/>
                  <a:pt x="2216" y="88"/>
                  <a:pt x="2264" y="64"/>
                </a:cubicBezTo>
                <a:cubicBezTo>
                  <a:pt x="2312" y="40"/>
                  <a:pt x="2392" y="0"/>
                  <a:pt x="2456" y="16"/>
                </a:cubicBezTo>
                <a:cubicBezTo>
                  <a:pt x="2520" y="32"/>
                  <a:pt x="2600" y="128"/>
                  <a:pt x="2648" y="160"/>
                </a:cubicBezTo>
                <a:cubicBezTo>
                  <a:pt x="2696" y="192"/>
                  <a:pt x="2696" y="160"/>
                  <a:pt x="2744" y="208"/>
                </a:cubicBezTo>
                <a:cubicBezTo>
                  <a:pt x="2792" y="256"/>
                  <a:pt x="2856" y="384"/>
                  <a:pt x="2936" y="448"/>
                </a:cubicBezTo>
                <a:cubicBezTo>
                  <a:pt x="3016" y="512"/>
                  <a:pt x="3112" y="504"/>
                  <a:pt x="3224" y="592"/>
                </a:cubicBezTo>
                <a:cubicBezTo>
                  <a:pt x="3336" y="680"/>
                  <a:pt x="3512" y="888"/>
                  <a:pt x="3608" y="976"/>
                </a:cubicBezTo>
                <a:cubicBezTo>
                  <a:pt x="3704" y="1064"/>
                  <a:pt x="3712" y="1056"/>
                  <a:pt x="3800" y="1120"/>
                </a:cubicBezTo>
                <a:cubicBezTo>
                  <a:pt x="3888" y="1184"/>
                  <a:pt x="4112" y="1344"/>
                  <a:pt x="4136" y="1360"/>
                </a:cubicBezTo>
                <a:cubicBezTo>
                  <a:pt x="4160" y="1376"/>
                  <a:pt x="4000" y="1256"/>
                  <a:pt x="3944" y="1216"/>
                </a:cubicBezTo>
                <a:cubicBezTo>
                  <a:pt x="3888" y="1176"/>
                  <a:pt x="3848" y="1152"/>
                  <a:pt x="3800" y="1120"/>
                </a:cubicBezTo>
                <a:cubicBezTo>
                  <a:pt x="3752" y="1088"/>
                  <a:pt x="3704" y="1064"/>
                  <a:pt x="3656" y="1024"/>
                </a:cubicBezTo>
                <a:cubicBezTo>
                  <a:pt x="3608" y="984"/>
                  <a:pt x="3552" y="920"/>
                  <a:pt x="3512" y="880"/>
                </a:cubicBezTo>
                <a:cubicBezTo>
                  <a:pt x="3472" y="840"/>
                  <a:pt x="3456" y="824"/>
                  <a:pt x="3416" y="784"/>
                </a:cubicBezTo>
                <a:cubicBezTo>
                  <a:pt x="3376" y="744"/>
                  <a:pt x="3304" y="672"/>
                  <a:pt x="3272" y="640"/>
                </a:cubicBezTo>
                <a:cubicBezTo>
                  <a:pt x="3240" y="608"/>
                  <a:pt x="3248" y="608"/>
                  <a:pt x="3224" y="592"/>
                </a:cubicBezTo>
                <a:cubicBezTo>
                  <a:pt x="3200" y="576"/>
                  <a:pt x="3160" y="560"/>
                  <a:pt x="3128" y="544"/>
                </a:cubicBezTo>
                <a:cubicBezTo>
                  <a:pt x="3096" y="528"/>
                  <a:pt x="3064" y="512"/>
                  <a:pt x="3032" y="496"/>
                </a:cubicBezTo>
                <a:cubicBezTo>
                  <a:pt x="3000" y="480"/>
                  <a:pt x="2968" y="472"/>
                  <a:pt x="2936" y="448"/>
                </a:cubicBezTo>
                <a:cubicBezTo>
                  <a:pt x="2904" y="424"/>
                  <a:pt x="2872" y="392"/>
                  <a:pt x="2840" y="352"/>
                </a:cubicBezTo>
                <a:cubicBezTo>
                  <a:pt x="2808" y="312"/>
                  <a:pt x="2776" y="240"/>
                  <a:pt x="2744" y="208"/>
                </a:cubicBezTo>
                <a:cubicBezTo>
                  <a:pt x="2712" y="176"/>
                  <a:pt x="2680" y="184"/>
                  <a:pt x="2648" y="160"/>
                </a:cubicBezTo>
                <a:cubicBezTo>
                  <a:pt x="2616" y="136"/>
                  <a:pt x="2592" y="88"/>
                  <a:pt x="2552" y="64"/>
                </a:cubicBezTo>
                <a:cubicBezTo>
                  <a:pt x="2512" y="40"/>
                  <a:pt x="2456" y="16"/>
                  <a:pt x="2408" y="16"/>
                </a:cubicBezTo>
                <a:cubicBezTo>
                  <a:pt x="2360" y="16"/>
                  <a:pt x="2312" y="32"/>
                  <a:pt x="2264" y="64"/>
                </a:cubicBezTo>
                <a:cubicBezTo>
                  <a:pt x="2216" y="96"/>
                  <a:pt x="2168" y="168"/>
                  <a:pt x="2120" y="208"/>
                </a:cubicBezTo>
                <a:cubicBezTo>
                  <a:pt x="2072" y="248"/>
                  <a:pt x="2032" y="272"/>
                  <a:pt x="1976" y="304"/>
                </a:cubicBezTo>
                <a:cubicBezTo>
                  <a:pt x="1920" y="336"/>
                  <a:pt x="1840" y="368"/>
                  <a:pt x="1784" y="400"/>
                </a:cubicBezTo>
                <a:cubicBezTo>
                  <a:pt x="1728" y="432"/>
                  <a:pt x="1680" y="464"/>
                  <a:pt x="1640" y="496"/>
                </a:cubicBezTo>
                <a:cubicBezTo>
                  <a:pt x="1600" y="528"/>
                  <a:pt x="1576" y="552"/>
                  <a:pt x="1544" y="592"/>
                </a:cubicBezTo>
                <a:cubicBezTo>
                  <a:pt x="1512" y="632"/>
                  <a:pt x="1488" y="688"/>
                  <a:pt x="1448" y="736"/>
                </a:cubicBezTo>
                <a:cubicBezTo>
                  <a:pt x="1408" y="784"/>
                  <a:pt x="1352" y="840"/>
                  <a:pt x="1304" y="880"/>
                </a:cubicBezTo>
                <a:cubicBezTo>
                  <a:pt x="1256" y="920"/>
                  <a:pt x="1224" y="936"/>
                  <a:pt x="1160" y="976"/>
                </a:cubicBezTo>
                <a:cubicBezTo>
                  <a:pt x="1096" y="1016"/>
                  <a:pt x="992" y="1080"/>
                  <a:pt x="920" y="1120"/>
                </a:cubicBezTo>
                <a:cubicBezTo>
                  <a:pt x="848" y="1160"/>
                  <a:pt x="800" y="1176"/>
                  <a:pt x="728" y="1216"/>
                </a:cubicBezTo>
                <a:cubicBezTo>
                  <a:pt x="656" y="1256"/>
                  <a:pt x="560" y="1344"/>
                  <a:pt x="488" y="1360"/>
                </a:cubicBezTo>
                <a:cubicBezTo>
                  <a:pt x="416" y="1376"/>
                  <a:pt x="344" y="1328"/>
                  <a:pt x="296" y="1312"/>
                </a:cubicBezTo>
                <a:cubicBezTo>
                  <a:pt x="248" y="1296"/>
                  <a:pt x="232" y="1288"/>
                  <a:pt x="200" y="1264"/>
                </a:cubicBezTo>
                <a:cubicBezTo>
                  <a:pt x="168" y="1240"/>
                  <a:pt x="128" y="1192"/>
                  <a:pt x="104" y="1168"/>
                </a:cubicBezTo>
                <a:cubicBezTo>
                  <a:pt x="80" y="1144"/>
                  <a:pt x="72" y="1144"/>
                  <a:pt x="56" y="1120"/>
                </a:cubicBezTo>
                <a:cubicBezTo>
                  <a:pt x="40" y="1096"/>
                  <a:pt x="0" y="1016"/>
                  <a:pt x="8" y="1024"/>
                </a:cubicBezTo>
                <a:close/>
              </a:path>
            </a:pathLst>
          </a:custGeom>
          <a:solidFill>
            <a:srgbClr val="ff6161"/>
          </a:solidFill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1413000" y="1339920"/>
            <a:ext cx="6428880" cy="3089160"/>
            <a:chOff x="1413000" y="1339920"/>
            <a:chExt cx="6428880" cy="3089160"/>
          </a:xfrm>
        </p:grpSpPr>
        <p:sp>
          <p:nvSpPr>
            <p:cNvPr id="587" name="Text Box 5"/>
            <p:cNvSpPr/>
            <p:nvPr/>
          </p:nvSpPr>
          <p:spPr>
            <a:xfrm>
              <a:off x="7108200" y="2996640"/>
              <a:ext cx="73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时间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t(</a:t>
              </a: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时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6"/>
            <p:cNvGrpSpPr/>
            <p:nvPr/>
          </p:nvGrpSpPr>
          <p:grpSpPr>
            <a:xfrm>
              <a:off x="1426320" y="3155400"/>
              <a:ext cx="5658120" cy="379080"/>
              <a:chOff x="1426320" y="3155400"/>
              <a:chExt cx="5658120" cy="379080"/>
            </a:xfrm>
          </p:grpSpPr>
          <p:grpSp>
            <p:nvGrpSpPr>
              <p:cNvPr id="589" name="Group 7"/>
              <p:cNvGrpSpPr/>
              <p:nvPr/>
            </p:nvGrpSpPr>
            <p:grpSpPr>
              <a:xfrm>
                <a:off x="1426320" y="3157200"/>
                <a:ext cx="5658120" cy="55800"/>
                <a:chOff x="1426320" y="3157200"/>
                <a:chExt cx="5658120" cy="55800"/>
              </a:xfrm>
            </p:grpSpPr>
            <p:sp>
              <p:nvSpPr>
                <p:cNvPr id="590" name="Line 8"/>
                <p:cNvSpPr/>
                <p:nvPr/>
              </p:nvSpPr>
              <p:spPr>
                <a:xfrm>
                  <a:off x="1426320" y="3213000"/>
                  <a:ext cx="5658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Line 9"/>
                <p:cNvSpPr/>
                <p:nvPr/>
              </p:nvSpPr>
              <p:spPr>
                <a:xfrm>
                  <a:off x="222660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Line 10"/>
                <p:cNvSpPr/>
                <p:nvPr/>
              </p:nvSpPr>
              <p:spPr>
                <a:xfrm>
                  <a:off x="243828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Line 11"/>
                <p:cNvSpPr/>
                <p:nvPr/>
              </p:nvSpPr>
              <p:spPr>
                <a:xfrm>
                  <a:off x="264240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Line 12"/>
                <p:cNvSpPr/>
                <p:nvPr/>
              </p:nvSpPr>
              <p:spPr>
                <a:xfrm>
                  <a:off x="28602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Line 13"/>
                <p:cNvSpPr/>
                <p:nvPr/>
              </p:nvSpPr>
              <p:spPr>
                <a:xfrm>
                  <a:off x="30643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Line 14"/>
                <p:cNvSpPr/>
                <p:nvPr/>
              </p:nvSpPr>
              <p:spPr>
                <a:xfrm>
                  <a:off x="32760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Line 15"/>
                <p:cNvSpPr/>
                <p:nvPr/>
              </p:nvSpPr>
              <p:spPr>
                <a:xfrm>
                  <a:off x="34801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Line 16"/>
                <p:cNvSpPr/>
                <p:nvPr/>
              </p:nvSpPr>
              <p:spPr>
                <a:xfrm>
                  <a:off x="369504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Line 17"/>
                <p:cNvSpPr/>
                <p:nvPr/>
              </p:nvSpPr>
              <p:spPr>
                <a:xfrm>
                  <a:off x="389916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Line 18"/>
                <p:cNvSpPr/>
                <p:nvPr/>
              </p:nvSpPr>
              <p:spPr>
                <a:xfrm>
                  <a:off x="411084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Line 19"/>
                <p:cNvSpPr/>
                <p:nvPr/>
              </p:nvSpPr>
              <p:spPr>
                <a:xfrm>
                  <a:off x="431496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Line 20"/>
                <p:cNvSpPr/>
                <p:nvPr/>
              </p:nvSpPr>
              <p:spPr>
                <a:xfrm>
                  <a:off x="45324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Line 21"/>
                <p:cNvSpPr/>
                <p:nvPr/>
              </p:nvSpPr>
              <p:spPr>
                <a:xfrm>
                  <a:off x="47365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Line 22"/>
                <p:cNvSpPr/>
                <p:nvPr/>
              </p:nvSpPr>
              <p:spPr>
                <a:xfrm>
                  <a:off x="49482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Line 23"/>
                <p:cNvSpPr/>
                <p:nvPr/>
              </p:nvSpPr>
              <p:spPr>
                <a:xfrm>
                  <a:off x="51523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Line 24"/>
                <p:cNvSpPr/>
                <p:nvPr/>
              </p:nvSpPr>
              <p:spPr>
                <a:xfrm>
                  <a:off x="53712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Line 25"/>
                <p:cNvSpPr/>
                <p:nvPr/>
              </p:nvSpPr>
              <p:spPr>
                <a:xfrm>
                  <a:off x="55753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Line 26"/>
                <p:cNvSpPr/>
                <p:nvPr/>
              </p:nvSpPr>
              <p:spPr>
                <a:xfrm>
                  <a:off x="57906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Line 27"/>
                <p:cNvSpPr/>
                <p:nvPr/>
              </p:nvSpPr>
              <p:spPr>
                <a:xfrm>
                  <a:off x="59947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Line 28"/>
                <p:cNvSpPr/>
                <p:nvPr/>
              </p:nvSpPr>
              <p:spPr>
                <a:xfrm>
                  <a:off x="620604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Line 29"/>
                <p:cNvSpPr/>
                <p:nvPr/>
              </p:nvSpPr>
              <p:spPr>
                <a:xfrm>
                  <a:off x="641016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Line 30"/>
                <p:cNvSpPr/>
                <p:nvPr/>
              </p:nvSpPr>
              <p:spPr>
                <a:xfrm>
                  <a:off x="662796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Line 31"/>
                <p:cNvSpPr/>
                <p:nvPr/>
              </p:nvSpPr>
              <p:spPr>
                <a:xfrm>
                  <a:off x="683208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Line 32"/>
                <p:cNvSpPr/>
                <p:nvPr/>
              </p:nvSpPr>
              <p:spPr>
                <a:xfrm>
                  <a:off x="159480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Line 34"/>
                <p:cNvSpPr/>
                <p:nvPr/>
              </p:nvSpPr>
              <p:spPr>
                <a:xfrm>
                  <a:off x="201024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6" name="Text Box 35"/>
              <p:cNvSpPr/>
              <p:nvPr/>
            </p:nvSpPr>
            <p:spPr>
              <a:xfrm>
                <a:off x="3338280" y="3166200"/>
                <a:ext cx="2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8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Text Box 36"/>
              <p:cNvSpPr/>
              <p:nvPr/>
            </p:nvSpPr>
            <p:spPr>
              <a:xfrm>
                <a:off x="3674160" y="3157200"/>
                <a:ext cx="47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Text Box 37"/>
              <p:cNvSpPr/>
              <p:nvPr/>
            </p:nvSpPr>
            <p:spPr>
              <a:xfrm>
                <a:off x="2062080" y="3157200"/>
                <a:ext cx="18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Text Box 38"/>
              <p:cNvSpPr/>
              <p:nvPr/>
            </p:nvSpPr>
            <p:spPr>
              <a:xfrm>
                <a:off x="2481120" y="31662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Text Box 39"/>
              <p:cNvSpPr/>
              <p:nvPr/>
            </p:nvSpPr>
            <p:spPr>
              <a:xfrm>
                <a:off x="2898000" y="3166200"/>
                <a:ext cx="23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Text Box 40"/>
              <p:cNvSpPr/>
              <p:nvPr/>
            </p:nvSpPr>
            <p:spPr>
              <a:xfrm>
                <a:off x="4077360" y="3157200"/>
                <a:ext cx="41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Text Box 41"/>
              <p:cNvSpPr/>
              <p:nvPr/>
            </p:nvSpPr>
            <p:spPr>
              <a:xfrm>
                <a:off x="4495320" y="3157200"/>
                <a:ext cx="41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Text Box 42"/>
              <p:cNvSpPr/>
              <p:nvPr/>
            </p:nvSpPr>
            <p:spPr>
              <a:xfrm>
                <a:off x="4920120" y="3157200"/>
                <a:ext cx="412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Text Box 43"/>
              <p:cNvSpPr/>
              <p:nvPr/>
            </p:nvSpPr>
            <p:spPr>
              <a:xfrm>
                <a:off x="5347800" y="3157200"/>
                <a:ext cx="41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8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44"/>
              <p:cNvSpPr/>
              <p:nvPr/>
            </p:nvSpPr>
            <p:spPr>
              <a:xfrm>
                <a:off x="5801760" y="3156120"/>
                <a:ext cx="49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Text Box 45"/>
              <p:cNvSpPr/>
              <p:nvPr/>
            </p:nvSpPr>
            <p:spPr>
              <a:xfrm>
                <a:off x="6204960" y="3166200"/>
                <a:ext cx="41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Text Box 46"/>
              <p:cNvSpPr/>
              <p:nvPr/>
            </p:nvSpPr>
            <p:spPr>
              <a:xfrm>
                <a:off x="6609600" y="3166200"/>
                <a:ext cx="45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Text Box 47"/>
              <p:cNvSpPr/>
              <p:nvPr/>
            </p:nvSpPr>
            <p:spPr>
              <a:xfrm>
                <a:off x="1483920" y="3155400"/>
                <a:ext cx="23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9" name="Text Box 48"/>
            <p:cNvSpPr/>
            <p:nvPr/>
          </p:nvSpPr>
          <p:spPr>
            <a:xfrm>
              <a:off x="1847160" y="1339920"/>
              <a:ext cx="92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温度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T(</a:t>
              </a:r>
              <a:r>
                <a:rPr b="1" lang="en-US" sz="1800" spc="-1" strike="noStrike">
                  <a:solidFill>
                    <a:srgbClr val="141402"/>
                  </a:solidFill>
                  <a:latin typeface="Symbol"/>
                  <a:ea typeface="Symbol"/>
                </a:rPr>
                <a:t>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C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" name="Group 49"/>
            <p:cNvGrpSpPr/>
            <p:nvPr/>
          </p:nvGrpSpPr>
          <p:grpSpPr>
            <a:xfrm>
              <a:off x="1413000" y="1411560"/>
              <a:ext cx="441360" cy="3017520"/>
              <a:chOff x="1413000" y="1411560"/>
              <a:chExt cx="441360" cy="3017520"/>
            </a:xfrm>
          </p:grpSpPr>
          <p:grpSp>
            <p:nvGrpSpPr>
              <p:cNvPr id="631" name="Group 50"/>
              <p:cNvGrpSpPr/>
              <p:nvPr/>
            </p:nvGrpSpPr>
            <p:grpSpPr>
              <a:xfrm>
                <a:off x="1785240" y="1411560"/>
                <a:ext cx="68400" cy="3017520"/>
                <a:chOff x="1785240" y="1411560"/>
                <a:chExt cx="68400" cy="3017520"/>
              </a:xfrm>
            </p:grpSpPr>
            <p:sp>
              <p:nvSpPr>
                <p:cNvPr id="632" name="Line 51"/>
                <p:cNvSpPr/>
                <p:nvPr/>
              </p:nvSpPr>
              <p:spPr>
                <a:xfrm flipV="1">
                  <a:off x="1792440" y="1411560"/>
                  <a:ext cx="0" cy="30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Line 52"/>
                <p:cNvSpPr/>
                <p:nvPr/>
              </p:nvSpPr>
              <p:spPr>
                <a:xfrm>
                  <a:off x="1792440" y="415404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Line 53"/>
                <p:cNvSpPr/>
                <p:nvPr/>
              </p:nvSpPr>
              <p:spPr>
                <a:xfrm>
                  <a:off x="1798560" y="397116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Line 54"/>
                <p:cNvSpPr/>
                <p:nvPr/>
              </p:nvSpPr>
              <p:spPr>
                <a:xfrm>
                  <a:off x="1792440" y="377640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Line 55"/>
                <p:cNvSpPr/>
                <p:nvPr/>
              </p:nvSpPr>
              <p:spPr>
                <a:xfrm>
                  <a:off x="1798560" y="359352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Line 56"/>
                <p:cNvSpPr/>
                <p:nvPr/>
              </p:nvSpPr>
              <p:spPr>
                <a:xfrm>
                  <a:off x="1785240" y="3396600"/>
                  <a:ext cx="5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Line 58"/>
                <p:cNvSpPr/>
                <p:nvPr/>
              </p:nvSpPr>
              <p:spPr>
                <a:xfrm>
                  <a:off x="1792440" y="302544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Line 59"/>
                <p:cNvSpPr/>
                <p:nvPr/>
              </p:nvSpPr>
              <p:spPr>
                <a:xfrm>
                  <a:off x="1798560" y="284256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Line 60"/>
                <p:cNvSpPr/>
                <p:nvPr/>
              </p:nvSpPr>
              <p:spPr>
                <a:xfrm>
                  <a:off x="1792440" y="265032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Line 61"/>
                <p:cNvSpPr/>
                <p:nvPr/>
              </p:nvSpPr>
              <p:spPr>
                <a:xfrm>
                  <a:off x="1798560" y="246744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Line 62"/>
                <p:cNvSpPr/>
                <p:nvPr/>
              </p:nvSpPr>
              <p:spPr>
                <a:xfrm>
                  <a:off x="1792440" y="227808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Line 63"/>
                <p:cNvSpPr/>
                <p:nvPr/>
              </p:nvSpPr>
              <p:spPr>
                <a:xfrm>
                  <a:off x="1798560" y="209520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Line 64"/>
                <p:cNvSpPr/>
                <p:nvPr/>
              </p:nvSpPr>
              <p:spPr>
                <a:xfrm>
                  <a:off x="1792440" y="190044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Line 65"/>
                <p:cNvSpPr/>
                <p:nvPr/>
              </p:nvSpPr>
              <p:spPr>
                <a:xfrm>
                  <a:off x="1798560" y="171756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6" name="Text Box 66"/>
              <p:cNvSpPr/>
              <p:nvPr/>
            </p:nvSpPr>
            <p:spPr>
              <a:xfrm>
                <a:off x="1484280" y="2661840"/>
                <a:ext cx="2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Text Box 67"/>
              <p:cNvSpPr/>
              <p:nvPr/>
            </p:nvSpPr>
            <p:spPr>
              <a:xfrm>
                <a:off x="1484280" y="2273400"/>
                <a:ext cx="26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Text Box 68"/>
              <p:cNvSpPr/>
              <p:nvPr/>
            </p:nvSpPr>
            <p:spPr>
              <a:xfrm>
                <a:off x="1484280" y="1915560"/>
                <a:ext cx="23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Text Box 69"/>
              <p:cNvSpPr/>
              <p:nvPr/>
            </p:nvSpPr>
            <p:spPr>
              <a:xfrm>
                <a:off x="1484280" y="1518120"/>
                <a:ext cx="17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8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Text Box 70"/>
              <p:cNvSpPr/>
              <p:nvPr/>
            </p:nvSpPr>
            <p:spPr>
              <a:xfrm>
                <a:off x="1413000" y="3416040"/>
                <a:ext cx="42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-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Text Box 71"/>
              <p:cNvSpPr/>
              <p:nvPr/>
            </p:nvSpPr>
            <p:spPr>
              <a:xfrm>
                <a:off x="1413000" y="377280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-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2" name="Text Box 73"/>
          <p:cNvSpPr/>
          <p:nvPr/>
        </p:nvSpPr>
        <p:spPr>
          <a:xfrm>
            <a:off x="453960" y="476280"/>
            <a:ext cx="8143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下图是气温自动记录仪记录的某地一天的气温变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图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75"/>
          <p:cNvSpPr/>
          <p:nvPr/>
        </p:nvSpPr>
        <p:spPr>
          <a:xfrm>
            <a:off x="1758960" y="356868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76"/>
          <p:cNvSpPr/>
          <p:nvPr/>
        </p:nvSpPr>
        <p:spPr>
          <a:xfrm>
            <a:off x="1974960" y="3789360"/>
            <a:ext cx="7596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77"/>
          <p:cNvSpPr/>
          <p:nvPr/>
        </p:nvSpPr>
        <p:spPr>
          <a:xfrm>
            <a:off x="2604960" y="379404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78"/>
          <p:cNvSpPr/>
          <p:nvPr/>
        </p:nvSpPr>
        <p:spPr>
          <a:xfrm>
            <a:off x="2340000" y="393372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79"/>
          <p:cNvSpPr/>
          <p:nvPr/>
        </p:nvSpPr>
        <p:spPr>
          <a:xfrm>
            <a:off x="3025800" y="3594240"/>
            <a:ext cx="7632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80"/>
          <p:cNvSpPr/>
          <p:nvPr/>
        </p:nvSpPr>
        <p:spPr>
          <a:xfrm>
            <a:off x="3325680" y="342900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81"/>
          <p:cNvSpPr/>
          <p:nvPr/>
        </p:nvSpPr>
        <p:spPr>
          <a:xfrm>
            <a:off x="3635280" y="314172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82"/>
          <p:cNvSpPr/>
          <p:nvPr/>
        </p:nvSpPr>
        <p:spPr>
          <a:xfrm>
            <a:off x="4695840" y="248904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83"/>
          <p:cNvSpPr/>
          <p:nvPr/>
        </p:nvSpPr>
        <p:spPr>
          <a:xfrm>
            <a:off x="4902120" y="256536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84"/>
          <p:cNvSpPr/>
          <p:nvPr/>
        </p:nvSpPr>
        <p:spPr>
          <a:xfrm>
            <a:off x="4237200" y="2770200"/>
            <a:ext cx="7596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85"/>
          <p:cNvSpPr/>
          <p:nvPr/>
        </p:nvSpPr>
        <p:spPr>
          <a:xfrm>
            <a:off x="5322960" y="2924280"/>
            <a:ext cx="7596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86"/>
          <p:cNvSpPr/>
          <p:nvPr/>
        </p:nvSpPr>
        <p:spPr>
          <a:xfrm>
            <a:off x="5518080" y="2997360"/>
            <a:ext cx="7632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87"/>
          <p:cNvSpPr/>
          <p:nvPr/>
        </p:nvSpPr>
        <p:spPr>
          <a:xfrm>
            <a:off x="5935680" y="330660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88"/>
          <p:cNvSpPr/>
          <p:nvPr/>
        </p:nvSpPr>
        <p:spPr>
          <a:xfrm>
            <a:off x="6356520" y="3645000"/>
            <a:ext cx="7596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89"/>
          <p:cNvSpPr/>
          <p:nvPr/>
        </p:nvSpPr>
        <p:spPr>
          <a:xfrm>
            <a:off x="6784920" y="393372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35"/>
          <p:cNvSpPr/>
          <p:nvPr/>
        </p:nvSpPr>
        <p:spPr>
          <a:xfrm>
            <a:off x="36360" y="25560"/>
            <a:ext cx="79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三、用函数的方式描述变化关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矩形 110"/>
          <p:cNvSpPr/>
          <p:nvPr/>
        </p:nvSpPr>
        <p:spPr>
          <a:xfrm>
            <a:off x="233280" y="4451400"/>
            <a:ext cx="900108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答：在这个变化过程中有两个变量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如果对于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每一个值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都有唯一的值与它对应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那么我们称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是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函数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是自变量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矩形 111"/>
          <p:cNvSpPr/>
          <p:nvPr/>
        </p:nvSpPr>
        <p:spPr>
          <a:xfrm>
            <a:off x="5954040" y="445140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时间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矩形 112"/>
          <p:cNvSpPr/>
          <p:nvPr/>
        </p:nvSpPr>
        <p:spPr>
          <a:xfrm>
            <a:off x="7743240" y="447984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温度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矩形 113"/>
          <p:cNvSpPr/>
          <p:nvPr/>
        </p:nvSpPr>
        <p:spPr>
          <a:xfrm>
            <a:off x="2091960" y="49417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时间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矩形 114"/>
          <p:cNvSpPr/>
          <p:nvPr/>
        </p:nvSpPr>
        <p:spPr>
          <a:xfrm>
            <a:off x="5811480" y="49417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温度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115"/>
          <p:cNvSpPr/>
          <p:nvPr/>
        </p:nvSpPr>
        <p:spPr>
          <a:xfrm>
            <a:off x="4563720" y="539424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温度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矩形 116"/>
          <p:cNvSpPr/>
          <p:nvPr/>
        </p:nvSpPr>
        <p:spPr>
          <a:xfrm>
            <a:off x="6597000" y="54021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时间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矩形 117"/>
          <p:cNvSpPr/>
          <p:nvPr/>
        </p:nvSpPr>
        <p:spPr>
          <a:xfrm>
            <a:off x="875880" y="59500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时间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1979640" y="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00"/>
          <p:cNvSpPr/>
          <p:nvPr/>
        </p:nvSpPr>
        <p:spPr>
          <a:xfrm>
            <a:off x="179280" y="620640"/>
            <a:ext cx="79930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如图，用火柴棒搭小鱼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设小鱼条数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火柴棒根数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7" descr=""/>
          <p:cNvPicPr/>
          <p:nvPr/>
        </p:nvPicPr>
        <p:blipFill>
          <a:blip r:embed="rId1"/>
          <a:stretch/>
        </p:blipFill>
        <p:spPr>
          <a:xfrm>
            <a:off x="558720" y="1557360"/>
            <a:ext cx="1656000" cy="13222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6" descr=""/>
          <p:cNvPicPr/>
          <p:nvPr/>
        </p:nvPicPr>
        <p:blipFill>
          <a:blip r:embed="rId2"/>
          <a:stretch/>
        </p:blipFill>
        <p:spPr>
          <a:xfrm>
            <a:off x="2406600" y="1558800"/>
            <a:ext cx="2594160" cy="13208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5" descr=""/>
          <p:cNvPicPr/>
          <p:nvPr/>
        </p:nvPicPr>
        <p:blipFill>
          <a:blip r:embed="rId3"/>
          <a:stretch/>
        </p:blipFill>
        <p:spPr>
          <a:xfrm>
            <a:off x="5192640" y="1569960"/>
            <a:ext cx="3475080" cy="132084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35"/>
          <p:cNvSpPr/>
          <p:nvPr/>
        </p:nvSpPr>
        <p:spPr>
          <a:xfrm>
            <a:off x="36360" y="25560"/>
            <a:ext cx="79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三、用函数的方式描述变化关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矩形 27"/>
          <p:cNvSpPr/>
          <p:nvPr/>
        </p:nvSpPr>
        <p:spPr>
          <a:xfrm>
            <a:off x="177840" y="3716280"/>
            <a:ext cx="899964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答：在这个变化过程中有两个变量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如果对于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每一个值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都有唯一的值与它对应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那么我们称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是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函数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是自变量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矩形 28"/>
          <p:cNvSpPr/>
          <p:nvPr/>
        </p:nvSpPr>
        <p:spPr>
          <a:xfrm>
            <a:off x="7496640" y="36878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火柴棒根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矩形 29"/>
          <p:cNvSpPr/>
          <p:nvPr/>
        </p:nvSpPr>
        <p:spPr>
          <a:xfrm>
            <a:off x="5708880" y="368784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鱼条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矩形 30"/>
          <p:cNvSpPr/>
          <p:nvPr/>
        </p:nvSpPr>
        <p:spPr>
          <a:xfrm>
            <a:off x="1964520" y="415116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鱼条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矩形 35"/>
          <p:cNvSpPr/>
          <p:nvPr/>
        </p:nvSpPr>
        <p:spPr>
          <a:xfrm>
            <a:off x="5463360" y="41814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火柴棒根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矩形 36"/>
          <p:cNvSpPr/>
          <p:nvPr/>
        </p:nvSpPr>
        <p:spPr>
          <a:xfrm>
            <a:off x="4186800" y="46418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火柴棒根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矩形 37"/>
          <p:cNvSpPr/>
          <p:nvPr/>
        </p:nvSpPr>
        <p:spPr>
          <a:xfrm>
            <a:off x="6285600" y="465444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鱼条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矩形 38"/>
          <p:cNvSpPr/>
          <p:nvPr/>
        </p:nvSpPr>
        <p:spPr>
          <a:xfrm>
            <a:off x="750240" y="511668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鱼条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Box 15"/>
          <p:cNvSpPr/>
          <p:nvPr/>
        </p:nvSpPr>
        <p:spPr>
          <a:xfrm>
            <a:off x="3571560" y="2924280"/>
            <a:ext cx="13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=6n+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文本框 4"/>
          <p:cNvSpPr/>
          <p:nvPr/>
        </p:nvSpPr>
        <p:spPr>
          <a:xfrm>
            <a:off x="926640" y="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四、进一步理解函数关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文本框 5"/>
          <p:cNvSpPr/>
          <p:nvPr/>
        </p:nvSpPr>
        <p:spPr>
          <a:xfrm>
            <a:off x="660240" y="1089000"/>
            <a:ext cx="6051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138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161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reeform 3"/>
          <p:cNvSpPr/>
          <p:nvPr/>
        </p:nvSpPr>
        <p:spPr>
          <a:xfrm>
            <a:off x="1803240" y="2492280"/>
            <a:ext cx="5072400" cy="1500120"/>
          </a:xfrm>
          <a:custGeom>
            <a:avLst/>
            <a:gdLst/>
            <a:ahLst/>
            <a:rect l="l" t="t" r="r" b="b"/>
            <a:pathLst>
              <a:path w="4160" h="1376">
                <a:moveTo>
                  <a:pt x="8" y="1024"/>
                </a:moveTo>
                <a:cubicBezTo>
                  <a:pt x="16" y="1032"/>
                  <a:pt x="56" y="1120"/>
                  <a:pt x="104" y="1168"/>
                </a:cubicBezTo>
                <a:cubicBezTo>
                  <a:pt x="152" y="1216"/>
                  <a:pt x="232" y="1280"/>
                  <a:pt x="296" y="1312"/>
                </a:cubicBezTo>
                <a:cubicBezTo>
                  <a:pt x="360" y="1344"/>
                  <a:pt x="416" y="1376"/>
                  <a:pt x="488" y="1360"/>
                </a:cubicBezTo>
                <a:cubicBezTo>
                  <a:pt x="560" y="1344"/>
                  <a:pt x="640" y="1264"/>
                  <a:pt x="728" y="1216"/>
                </a:cubicBezTo>
                <a:cubicBezTo>
                  <a:pt x="816" y="1168"/>
                  <a:pt x="904" y="1144"/>
                  <a:pt x="1016" y="1072"/>
                </a:cubicBezTo>
                <a:cubicBezTo>
                  <a:pt x="1128" y="1000"/>
                  <a:pt x="1296" y="880"/>
                  <a:pt x="1400" y="784"/>
                </a:cubicBezTo>
                <a:cubicBezTo>
                  <a:pt x="1504" y="688"/>
                  <a:pt x="1544" y="576"/>
                  <a:pt x="1640" y="496"/>
                </a:cubicBezTo>
                <a:cubicBezTo>
                  <a:pt x="1736" y="416"/>
                  <a:pt x="1888" y="360"/>
                  <a:pt x="1976" y="304"/>
                </a:cubicBezTo>
                <a:cubicBezTo>
                  <a:pt x="2064" y="248"/>
                  <a:pt x="2120" y="200"/>
                  <a:pt x="2168" y="160"/>
                </a:cubicBezTo>
                <a:cubicBezTo>
                  <a:pt x="2216" y="120"/>
                  <a:pt x="2216" y="88"/>
                  <a:pt x="2264" y="64"/>
                </a:cubicBezTo>
                <a:cubicBezTo>
                  <a:pt x="2312" y="40"/>
                  <a:pt x="2392" y="0"/>
                  <a:pt x="2456" y="16"/>
                </a:cubicBezTo>
                <a:cubicBezTo>
                  <a:pt x="2520" y="32"/>
                  <a:pt x="2600" y="128"/>
                  <a:pt x="2648" y="160"/>
                </a:cubicBezTo>
                <a:cubicBezTo>
                  <a:pt x="2696" y="192"/>
                  <a:pt x="2696" y="160"/>
                  <a:pt x="2744" y="208"/>
                </a:cubicBezTo>
                <a:cubicBezTo>
                  <a:pt x="2792" y="256"/>
                  <a:pt x="2856" y="384"/>
                  <a:pt x="2936" y="448"/>
                </a:cubicBezTo>
                <a:cubicBezTo>
                  <a:pt x="3016" y="512"/>
                  <a:pt x="3112" y="504"/>
                  <a:pt x="3224" y="592"/>
                </a:cubicBezTo>
                <a:cubicBezTo>
                  <a:pt x="3336" y="680"/>
                  <a:pt x="3512" y="888"/>
                  <a:pt x="3608" y="976"/>
                </a:cubicBezTo>
                <a:cubicBezTo>
                  <a:pt x="3704" y="1064"/>
                  <a:pt x="3712" y="1056"/>
                  <a:pt x="3800" y="1120"/>
                </a:cubicBezTo>
                <a:cubicBezTo>
                  <a:pt x="3888" y="1184"/>
                  <a:pt x="4112" y="1344"/>
                  <a:pt x="4136" y="1360"/>
                </a:cubicBezTo>
                <a:cubicBezTo>
                  <a:pt x="4160" y="1376"/>
                  <a:pt x="4000" y="1256"/>
                  <a:pt x="3944" y="1216"/>
                </a:cubicBezTo>
                <a:cubicBezTo>
                  <a:pt x="3888" y="1176"/>
                  <a:pt x="3848" y="1152"/>
                  <a:pt x="3800" y="1120"/>
                </a:cubicBezTo>
                <a:cubicBezTo>
                  <a:pt x="3752" y="1088"/>
                  <a:pt x="3704" y="1064"/>
                  <a:pt x="3656" y="1024"/>
                </a:cubicBezTo>
                <a:cubicBezTo>
                  <a:pt x="3608" y="984"/>
                  <a:pt x="3552" y="920"/>
                  <a:pt x="3512" y="880"/>
                </a:cubicBezTo>
                <a:cubicBezTo>
                  <a:pt x="3472" y="840"/>
                  <a:pt x="3456" y="824"/>
                  <a:pt x="3416" y="784"/>
                </a:cubicBezTo>
                <a:cubicBezTo>
                  <a:pt x="3376" y="744"/>
                  <a:pt x="3304" y="672"/>
                  <a:pt x="3272" y="640"/>
                </a:cubicBezTo>
                <a:cubicBezTo>
                  <a:pt x="3240" y="608"/>
                  <a:pt x="3248" y="608"/>
                  <a:pt x="3224" y="592"/>
                </a:cubicBezTo>
                <a:cubicBezTo>
                  <a:pt x="3200" y="576"/>
                  <a:pt x="3160" y="560"/>
                  <a:pt x="3128" y="544"/>
                </a:cubicBezTo>
                <a:cubicBezTo>
                  <a:pt x="3096" y="528"/>
                  <a:pt x="3064" y="512"/>
                  <a:pt x="3032" y="496"/>
                </a:cubicBezTo>
                <a:cubicBezTo>
                  <a:pt x="3000" y="480"/>
                  <a:pt x="2968" y="472"/>
                  <a:pt x="2936" y="448"/>
                </a:cubicBezTo>
                <a:cubicBezTo>
                  <a:pt x="2904" y="424"/>
                  <a:pt x="2872" y="392"/>
                  <a:pt x="2840" y="352"/>
                </a:cubicBezTo>
                <a:cubicBezTo>
                  <a:pt x="2808" y="312"/>
                  <a:pt x="2776" y="240"/>
                  <a:pt x="2744" y="208"/>
                </a:cubicBezTo>
                <a:cubicBezTo>
                  <a:pt x="2712" y="176"/>
                  <a:pt x="2680" y="184"/>
                  <a:pt x="2648" y="160"/>
                </a:cubicBezTo>
                <a:cubicBezTo>
                  <a:pt x="2616" y="136"/>
                  <a:pt x="2592" y="88"/>
                  <a:pt x="2552" y="64"/>
                </a:cubicBezTo>
                <a:cubicBezTo>
                  <a:pt x="2512" y="40"/>
                  <a:pt x="2456" y="16"/>
                  <a:pt x="2408" y="16"/>
                </a:cubicBezTo>
                <a:cubicBezTo>
                  <a:pt x="2360" y="16"/>
                  <a:pt x="2312" y="32"/>
                  <a:pt x="2264" y="64"/>
                </a:cubicBezTo>
                <a:cubicBezTo>
                  <a:pt x="2216" y="96"/>
                  <a:pt x="2168" y="168"/>
                  <a:pt x="2120" y="208"/>
                </a:cubicBezTo>
                <a:cubicBezTo>
                  <a:pt x="2072" y="248"/>
                  <a:pt x="2032" y="272"/>
                  <a:pt x="1976" y="304"/>
                </a:cubicBezTo>
                <a:cubicBezTo>
                  <a:pt x="1920" y="336"/>
                  <a:pt x="1840" y="368"/>
                  <a:pt x="1784" y="400"/>
                </a:cubicBezTo>
                <a:cubicBezTo>
                  <a:pt x="1728" y="432"/>
                  <a:pt x="1680" y="464"/>
                  <a:pt x="1640" y="496"/>
                </a:cubicBezTo>
                <a:cubicBezTo>
                  <a:pt x="1600" y="528"/>
                  <a:pt x="1576" y="552"/>
                  <a:pt x="1544" y="592"/>
                </a:cubicBezTo>
                <a:cubicBezTo>
                  <a:pt x="1512" y="632"/>
                  <a:pt x="1488" y="688"/>
                  <a:pt x="1448" y="736"/>
                </a:cubicBezTo>
                <a:cubicBezTo>
                  <a:pt x="1408" y="784"/>
                  <a:pt x="1352" y="840"/>
                  <a:pt x="1304" y="880"/>
                </a:cubicBezTo>
                <a:cubicBezTo>
                  <a:pt x="1256" y="920"/>
                  <a:pt x="1224" y="936"/>
                  <a:pt x="1160" y="976"/>
                </a:cubicBezTo>
                <a:cubicBezTo>
                  <a:pt x="1096" y="1016"/>
                  <a:pt x="992" y="1080"/>
                  <a:pt x="920" y="1120"/>
                </a:cubicBezTo>
                <a:cubicBezTo>
                  <a:pt x="848" y="1160"/>
                  <a:pt x="800" y="1176"/>
                  <a:pt x="728" y="1216"/>
                </a:cubicBezTo>
                <a:cubicBezTo>
                  <a:pt x="656" y="1256"/>
                  <a:pt x="560" y="1344"/>
                  <a:pt x="488" y="1360"/>
                </a:cubicBezTo>
                <a:cubicBezTo>
                  <a:pt x="416" y="1376"/>
                  <a:pt x="344" y="1328"/>
                  <a:pt x="296" y="1312"/>
                </a:cubicBezTo>
                <a:cubicBezTo>
                  <a:pt x="248" y="1296"/>
                  <a:pt x="232" y="1288"/>
                  <a:pt x="200" y="1264"/>
                </a:cubicBezTo>
                <a:cubicBezTo>
                  <a:pt x="168" y="1240"/>
                  <a:pt x="128" y="1192"/>
                  <a:pt x="104" y="1168"/>
                </a:cubicBezTo>
                <a:cubicBezTo>
                  <a:pt x="80" y="1144"/>
                  <a:pt x="72" y="1144"/>
                  <a:pt x="56" y="1120"/>
                </a:cubicBezTo>
                <a:cubicBezTo>
                  <a:pt x="40" y="1096"/>
                  <a:pt x="0" y="1016"/>
                  <a:pt x="8" y="1024"/>
                </a:cubicBezTo>
                <a:close/>
              </a:path>
            </a:pathLst>
          </a:custGeom>
          <a:solidFill>
            <a:srgbClr val="ff6161"/>
          </a:solidFill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Group 4"/>
          <p:cNvGrpSpPr/>
          <p:nvPr/>
        </p:nvGrpSpPr>
        <p:grpSpPr>
          <a:xfrm>
            <a:off x="1413000" y="1339920"/>
            <a:ext cx="6428880" cy="3089160"/>
            <a:chOff x="1413000" y="1339920"/>
            <a:chExt cx="6428880" cy="3089160"/>
          </a:xfrm>
        </p:grpSpPr>
        <p:sp>
          <p:nvSpPr>
            <p:cNvPr id="696" name="Text Box 5"/>
            <p:cNvSpPr/>
            <p:nvPr/>
          </p:nvSpPr>
          <p:spPr>
            <a:xfrm>
              <a:off x="7108200" y="2996640"/>
              <a:ext cx="73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时间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t(</a:t>
              </a: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时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6"/>
            <p:cNvGrpSpPr/>
            <p:nvPr/>
          </p:nvGrpSpPr>
          <p:grpSpPr>
            <a:xfrm>
              <a:off x="1426320" y="3155400"/>
              <a:ext cx="5658120" cy="379080"/>
              <a:chOff x="1426320" y="3155400"/>
              <a:chExt cx="5658120" cy="379080"/>
            </a:xfrm>
          </p:grpSpPr>
          <p:grpSp>
            <p:nvGrpSpPr>
              <p:cNvPr id="698" name="Group 7"/>
              <p:cNvGrpSpPr/>
              <p:nvPr/>
            </p:nvGrpSpPr>
            <p:grpSpPr>
              <a:xfrm>
                <a:off x="1426320" y="3157200"/>
                <a:ext cx="5658120" cy="55800"/>
                <a:chOff x="1426320" y="3157200"/>
                <a:chExt cx="5658120" cy="55800"/>
              </a:xfrm>
            </p:grpSpPr>
            <p:sp>
              <p:nvSpPr>
                <p:cNvPr id="699" name="Line 8"/>
                <p:cNvSpPr/>
                <p:nvPr/>
              </p:nvSpPr>
              <p:spPr>
                <a:xfrm>
                  <a:off x="1426320" y="3213000"/>
                  <a:ext cx="5658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Line 9"/>
                <p:cNvSpPr/>
                <p:nvPr/>
              </p:nvSpPr>
              <p:spPr>
                <a:xfrm>
                  <a:off x="222660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Line 10"/>
                <p:cNvSpPr/>
                <p:nvPr/>
              </p:nvSpPr>
              <p:spPr>
                <a:xfrm>
                  <a:off x="243828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Line 11"/>
                <p:cNvSpPr/>
                <p:nvPr/>
              </p:nvSpPr>
              <p:spPr>
                <a:xfrm>
                  <a:off x="264240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Line 12"/>
                <p:cNvSpPr/>
                <p:nvPr/>
              </p:nvSpPr>
              <p:spPr>
                <a:xfrm>
                  <a:off x="28602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Line 13"/>
                <p:cNvSpPr/>
                <p:nvPr/>
              </p:nvSpPr>
              <p:spPr>
                <a:xfrm>
                  <a:off x="30643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Line 14"/>
                <p:cNvSpPr/>
                <p:nvPr/>
              </p:nvSpPr>
              <p:spPr>
                <a:xfrm>
                  <a:off x="32760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Line 15"/>
                <p:cNvSpPr/>
                <p:nvPr/>
              </p:nvSpPr>
              <p:spPr>
                <a:xfrm>
                  <a:off x="34801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Line 16"/>
                <p:cNvSpPr/>
                <p:nvPr/>
              </p:nvSpPr>
              <p:spPr>
                <a:xfrm>
                  <a:off x="369504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Line 17"/>
                <p:cNvSpPr/>
                <p:nvPr/>
              </p:nvSpPr>
              <p:spPr>
                <a:xfrm>
                  <a:off x="389916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Line 18"/>
                <p:cNvSpPr/>
                <p:nvPr/>
              </p:nvSpPr>
              <p:spPr>
                <a:xfrm>
                  <a:off x="411084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Line 19"/>
                <p:cNvSpPr/>
                <p:nvPr/>
              </p:nvSpPr>
              <p:spPr>
                <a:xfrm>
                  <a:off x="431496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Line 20"/>
                <p:cNvSpPr/>
                <p:nvPr/>
              </p:nvSpPr>
              <p:spPr>
                <a:xfrm>
                  <a:off x="45324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Line 21"/>
                <p:cNvSpPr/>
                <p:nvPr/>
              </p:nvSpPr>
              <p:spPr>
                <a:xfrm>
                  <a:off x="47365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Line 22"/>
                <p:cNvSpPr/>
                <p:nvPr/>
              </p:nvSpPr>
              <p:spPr>
                <a:xfrm>
                  <a:off x="49482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Line 23"/>
                <p:cNvSpPr/>
                <p:nvPr/>
              </p:nvSpPr>
              <p:spPr>
                <a:xfrm>
                  <a:off x="51523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Line 24"/>
                <p:cNvSpPr/>
                <p:nvPr/>
              </p:nvSpPr>
              <p:spPr>
                <a:xfrm>
                  <a:off x="53712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Line 25"/>
                <p:cNvSpPr/>
                <p:nvPr/>
              </p:nvSpPr>
              <p:spPr>
                <a:xfrm>
                  <a:off x="55753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Line 26"/>
                <p:cNvSpPr/>
                <p:nvPr/>
              </p:nvSpPr>
              <p:spPr>
                <a:xfrm>
                  <a:off x="57906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Line 27"/>
                <p:cNvSpPr/>
                <p:nvPr/>
              </p:nvSpPr>
              <p:spPr>
                <a:xfrm>
                  <a:off x="59947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Line 28"/>
                <p:cNvSpPr/>
                <p:nvPr/>
              </p:nvSpPr>
              <p:spPr>
                <a:xfrm>
                  <a:off x="620604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Line 29"/>
                <p:cNvSpPr/>
                <p:nvPr/>
              </p:nvSpPr>
              <p:spPr>
                <a:xfrm>
                  <a:off x="641016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Line 30"/>
                <p:cNvSpPr/>
                <p:nvPr/>
              </p:nvSpPr>
              <p:spPr>
                <a:xfrm>
                  <a:off x="662796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Line 31"/>
                <p:cNvSpPr/>
                <p:nvPr/>
              </p:nvSpPr>
              <p:spPr>
                <a:xfrm>
                  <a:off x="683208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Line 32"/>
                <p:cNvSpPr/>
                <p:nvPr/>
              </p:nvSpPr>
              <p:spPr>
                <a:xfrm>
                  <a:off x="159480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Line 34"/>
                <p:cNvSpPr/>
                <p:nvPr/>
              </p:nvSpPr>
              <p:spPr>
                <a:xfrm>
                  <a:off x="201024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5" name="Text Box 35"/>
              <p:cNvSpPr/>
              <p:nvPr/>
            </p:nvSpPr>
            <p:spPr>
              <a:xfrm>
                <a:off x="3338280" y="3166200"/>
                <a:ext cx="2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8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Text Box 36"/>
              <p:cNvSpPr/>
              <p:nvPr/>
            </p:nvSpPr>
            <p:spPr>
              <a:xfrm>
                <a:off x="3674160" y="3157200"/>
                <a:ext cx="47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Text Box 37"/>
              <p:cNvSpPr/>
              <p:nvPr/>
            </p:nvSpPr>
            <p:spPr>
              <a:xfrm>
                <a:off x="2062080" y="3157200"/>
                <a:ext cx="18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Text Box 38"/>
              <p:cNvSpPr/>
              <p:nvPr/>
            </p:nvSpPr>
            <p:spPr>
              <a:xfrm>
                <a:off x="2481120" y="31662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Text Box 39"/>
              <p:cNvSpPr/>
              <p:nvPr/>
            </p:nvSpPr>
            <p:spPr>
              <a:xfrm>
                <a:off x="2898000" y="3166200"/>
                <a:ext cx="23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Text Box 40"/>
              <p:cNvSpPr/>
              <p:nvPr/>
            </p:nvSpPr>
            <p:spPr>
              <a:xfrm>
                <a:off x="4077360" y="3157200"/>
                <a:ext cx="41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Text Box 41"/>
              <p:cNvSpPr/>
              <p:nvPr/>
            </p:nvSpPr>
            <p:spPr>
              <a:xfrm>
                <a:off x="4495320" y="3157200"/>
                <a:ext cx="41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Text Box 42"/>
              <p:cNvSpPr/>
              <p:nvPr/>
            </p:nvSpPr>
            <p:spPr>
              <a:xfrm>
                <a:off x="4920120" y="3157200"/>
                <a:ext cx="412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Text Box 43"/>
              <p:cNvSpPr/>
              <p:nvPr/>
            </p:nvSpPr>
            <p:spPr>
              <a:xfrm>
                <a:off x="5347800" y="3157200"/>
                <a:ext cx="41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8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Text Box 44"/>
              <p:cNvSpPr/>
              <p:nvPr/>
            </p:nvSpPr>
            <p:spPr>
              <a:xfrm>
                <a:off x="5801760" y="3156120"/>
                <a:ext cx="49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45"/>
              <p:cNvSpPr/>
              <p:nvPr/>
            </p:nvSpPr>
            <p:spPr>
              <a:xfrm>
                <a:off x="6204960" y="3166200"/>
                <a:ext cx="41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46"/>
              <p:cNvSpPr/>
              <p:nvPr/>
            </p:nvSpPr>
            <p:spPr>
              <a:xfrm>
                <a:off x="6609600" y="3166200"/>
                <a:ext cx="45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47"/>
              <p:cNvSpPr/>
              <p:nvPr/>
            </p:nvSpPr>
            <p:spPr>
              <a:xfrm>
                <a:off x="1483920" y="3155400"/>
                <a:ext cx="23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Text Box 48"/>
            <p:cNvSpPr/>
            <p:nvPr/>
          </p:nvSpPr>
          <p:spPr>
            <a:xfrm>
              <a:off x="1847160" y="1339920"/>
              <a:ext cx="92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温度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T(</a:t>
              </a:r>
              <a:r>
                <a:rPr b="1" lang="en-US" sz="1800" spc="-1" strike="noStrike">
                  <a:solidFill>
                    <a:srgbClr val="141402"/>
                  </a:solidFill>
                  <a:latin typeface="Symbol"/>
                  <a:ea typeface="Symbol"/>
                </a:rPr>
                <a:t>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C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Group 49"/>
            <p:cNvGrpSpPr/>
            <p:nvPr/>
          </p:nvGrpSpPr>
          <p:grpSpPr>
            <a:xfrm>
              <a:off x="1413000" y="1411560"/>
              <a:ext cx="441360" cy="3017520"/>
              <a:chOff x="1413000" y="1411560"/>
              <a:chExt cx="441360" cy="3017520"/>
            </a:xfrm>
          </p:grpSpPr>
          <p:grpSp>
            <p:nvGrpSpPr>
              <p:cNvPr id="740" name="Group 50"/>
              <p:cNvGrpSpPr/>
              <p:nvPr/>
            </p:nvGrpSpPr>
            <p:grpSpPr>
              <a:xfrm>
                <a:off x="1785240" y="1411560"/>
                <a:ext cx="68400" cy="3017520"/>
                <a:chOff x="1785240" y="1411560"/>
                <a:chExt cx="68400" cy="3017520"/>
              </a:xfrm>
            </p:grpSpPr>
            <p:sp>
              <p:nvSpPr>
                <p:cNvPr id="741" name="Line 51"/>
                <p:cNvSpPr/>
                <p:nvPr/>
              </p:nvSpPr>
              <p:spPr>
                <a:xfrm flipV="1">
                  <a:off x="1792440" y="1411560"/>
                  <a:ext cx="0" cy="30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Line 52"/>
                <p:cNvSpPr/>
                <p:nvPr/>
              </p:nvSpPr>
              <p:spPr>
                <a:xfrm>
                  <a:off x="1792440" y="415404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Line 53"/>
                <p:cNvSpPr/>
                <p:nvPr/>
              </p:nvSpPr>
              <p:spPr>
                <a:xfrm>
                  <a:off x="1798560" y="397116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Line 54"/>
                <p:cNvSpPr/>
                <p:nvPr/>
              </p:nvSpPr>
              <p:spPr>
                <a:xfrm>
                  <a:off x="1792440" y="377640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Line 55"/>
                <p:cNvSpPr/>
                <p:nvPr/>
              </p:nvSpPr>
              <p:spPr>
                <a:xfrm>
                  <a:off x="1798560" y="359352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Line 56"/>
                <p:cNvSpPr/>
                <p:nvPr/>
              </p:nvSpPr>
              <p:spPr>
                <a:xfrm>
                  <a:off x="1785240" y="3396600"/>
                  <a:ext cx="5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Line 58"/>
                <p:cNvSpPr/>
                <p:nvPr/>
              </p:nvSpPr>
              <p:spPr>
                <a:xfrm>
                  <a:off x="1792440" y="302544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Line 59"/>
                <p:cNvSpPr/>
                <p:nvPr/>
              </p:nvSpPr>
              <p:spPr>
                <a:xfrm>
                  <a:off x="1798560" y="284256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Line 60"/>
                <p:cNvSpPr/>
                <p:nvPr/>
              </p:nvSpPr>
              <p:spPr>
                <a:xfrm>
                  <a:off x="1792440" y="265032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Line 61"/>
                <p:cNvSpPr/>
                <p:nvPr/>
              </p:nvSpPr>
              <p:spPr>
                <a:xfrm>
                  <a:off x="1798560" y="246744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Line 62"/>
                <p:cNvSpPr/>
                <p:nvPr/>
              </p:nvSpPr>
              <p:spPr>
                <a:xfrm>
                  <a:off x="1792440" y="227808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Line 63"/>
                <p:cNvSpPr/>
                <p:nvPr/>
              </p:nvSpPr>
              <p:spPr>
                <a:xfrm>
                  <a:off x="1798560" y="209520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Line 64"/>
                <p:cNvSpPr/>
                <p:nvPr/>
              </p:nvSpPr>
              <p:spPr>
                <a:xfrm>
                  <a:off x="1792440" y="190044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Line 65"/>
                <p:cNvSpPr/>
                <p:nvPr/>
              </p:nvSpPr>
              <p:spPr>
                <a:xfrm>
                  <a:off x="1798560" y="171756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5" name="Text Box 66"/>
              <p:cNvSpPr/>
              <p:nvPr/>
            </p:nvSpPr>
            <p:spPr>
              <a:xfrm>
                <a:off x="1484280" y="2661840"/>
                <a:ext cx="2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Text Box 67"/>
              <p:cNvSpPr/>
              <p:nvPr/>
            </p:nvSpPr>
            <p:spPr>
              <a:xfrm>
                <a:off x="1484280" y="2273400"/>
                <a:ext cx="26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Text Box 68"/>
              <p:cNvSpPr/>
              <p:nvPr/>
            </p:nvSpPr>
            <p:spPr>
              <a:xfrm>
                <a:off x="1484280" y="1915560"/>
                <a:ext cx="23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Text Box 69"/>
              <p:cNvSpPr/>
              <p:nvPr/>
            </p:nvSpPr>
            <p:spPr>
              <a:xfrm>
                <a:off x="1484280" y="1518120"/>
                <a:ext cx="17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8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Text Box 70"/>
              <p:cNvSpPr/>
              <p:nvPr/>
            </p:nvSpPr>
            <p:spPr>
              <a:xfrm>
                <a:off x="1413000" y="3416040"/>
                <a:ext cx="42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-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Text Box 71"/>
              <p:cNvSpPr/>
              <p:nvPr/>
            </p:nvSpPr>
            <p:spPr>
              <a:xfrm>
                <a:off x="1413000" y="377280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-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1" name="Text Box 73"/>
          <p:cNvSpPr/>
          <p:nvPr/>
        </p:nvSpPr>
        <p:spPr>
          <a:xfrm>
            <a:off x="453960" y="476280"/>
            <a:ext cx="8143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活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下图是气温自动记录仪记录的某地一天的气温变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图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75"/>
          <p:cNvSpPr/>
          <p:nvPr/>
        </p:nvSpPr>
        <p:spPr>
          <a:xfrm>
            <a:off x="1758960" y="356868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76"/>
          <p:cNvSpPr/>
          <p:nvPr/>
        </p:nvSpPr>
        <p:spPr>
          <a:xfrm>
            <a:off x="1974960" y="3789360"/>
            <a:ext cx="7596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77"/>
          <p:cNvSpPr/>
          <p:nvPr/>
        </p:nvSpPr>
        <p:spPr>
          <a:xfrm>
            <a:off x="2604960" y="379404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78"/>
          <p:cNvSpPr/>
          <p:nvPr/>
        </p:nvSpPr>
        <p:spPr>
          <a:xfrm>
            <a:off x="2340000" y="393372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79"/>
          <p:cNvSpPr/>
          <p:nvPr/>
        </p:nvSpPr>
        <p:spPr>
          <a:xfrm>
            <a:off x="3025800" y="3594240"/>
            <a:ext cx="7632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80"/>
          <p:cNvSpPr/>
          <p:nvPr/>
        </p:nvSpPr>
        <p:spPr>
          <a:xfrm>
            <a:off x="3325680" y="342900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81"/>
          <p:cNvSpPr/>
          <p:nvPr/>
        </p:nvSpPr>
        <p:spPr>
          <a:xfrm>
            <a:off x="3635280" y="314172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82"/>
          <p:cNvSpPr/>
          <p:nvPr/>
        </p:nvSpPr>
        <p:spPr>
          <a:xfrm>
            <a:off x="4695840" y="248904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83"/>
          <p:cNvSpPr/>
          <p:nvPr/>
        </p:nvSpPr>
        <p:spPr>
          <a:xfrm>
            <a:off x="4902120" y="256536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84"/>
          <p:cNvSpPr/>
          <p:nvPr/>
        </p:nvSpPr>
        <p:spPr>
          <a:xfrm>
            <a:off x="4237200" y="2770200"/>
            <a:ext cx="7596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85"/>
          <p:cNvSpPr/>
          <p:nvPr/>
        </p:nvSpPr>
        <p:spPr>
          <a:xfrm>
            <a:off x="5322960" y="2924280"/>
            <a:ext cx="7596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86"/>
          <p:cNvSpPr/>
          <p:nvPr/>
        </p:nvSpPr>
        <p:spPr>
          <a:xfrm>
            <a:off x="5518080" y="2997360"/>
            <a:ext cx="7632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87"/>
          <p:cNvSpPr/>
          <p:nvPr/>
        </p:nvSpPr>
        <p:spPr>
          <a:xfrm>
            <a:off x="5935680" y="330660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88"/>
          <p:cNvSpPr/>
          <p:nvPr/>
        </p:nvSpPr>
        <p:spPr>
          <a:xfrm>
            <a:off x="6356520" y="3645000"/>
            <a:ext cx="7596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89"/>
          <p:cNvSpPr/>
          <p:nvPr/>
        </p:nvSpPr>
        <p:spPr>
          <a:xfrm>
            <a:off x="6784920" y="393372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35"/>
          <p:cNvSpPr/>
          <p:nvPr/>
        </p:nvSpPr>
        <p:spPr>
          <a:xfrm>
            <a:off x="36360" y="25560"/>
            <a:ext cx="79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四、进一步理解函数关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Box 85"/>
          <p:cNvSpPr/>
          <p:nvPr/>
        </p:nvSpPr>
        <p:spPr>
          <a:xfrm>
            <a:off x="2145960" y="4653000"/>
            <a:ext cx="572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学习，我们知道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时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函数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那能不能说时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是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函数呢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文本框 423954"/>
          <p:cNvSpPr/>
          <p:nvPr/>
        </p:nvSpPr>
        <p:spPr>
          <a:xfrm>
            <a:off x="380880" y="1268280"/>
            <a:ext cx="829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活动</a:t>
            </a: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、根据表格中的信息，回答问题：其中，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表示乘公交车的站数（站），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表示相应付的票价（元）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文本框 423955"/>
          <p:cNvSpPr/>
          <p:nvPr/>
        </p:nvSpPr>
        <p:spPr>
          <a:xfrm>
            <a:off x="441360" y="4797360"/>
            <a:ext cx="71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y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是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x</a:t>
            </a:r>
            <a:r>
              <a:rPr b="1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的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函数吗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?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为什么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1" name="图片 423956" descr="Kitty"/>
          <p:cNvPicPr/>
          <p:nvPr/>
        </p:nvPicPr>
        <p:blipFill>
          <a:blip r:embed="rId1"/>
          <a:stretch/>
        </p:blipFill>
        <p:spPr>
          <a:xfrm>
            <a:off x="7451640" y="5300640"/>
            <a:ext cx="137340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2" name=""/>
          <p:cNvGraphicFramePr/>
          <p:nvPr/>
        </p:nvGraphicFramePr>
        <p:xfrm>
          <a:off x="250920" y="2852640"/>
          <a:ext cx="8651880" cy="1655640"/>
        </p:xfrm>
        <a:graphic>
          <a:graphicData uri="http://schemas.openxmlformats.org/drawingml/2006/table">
            <a:tbl>
              <a:tblPr/>
              <a:tblGrid>
                <a:gridCol w="576360"/>
                <a:gridCol w="576000"/>
                <a:gridCol w="578160"/>
                <a:gridCol w="577800"/>
                <a:gridCol w="576000"/>
                <a:gridCol w="576360"/>
                <a:gridCol w="576360"/>
                <a:gridCol w="577800"/>
                <a:gridCol w="576360"/>
                <a:gridCol w="576360"/>
                <a:gridCol w="576000"/>
                <a:gridCol w="577800"/>
                <a:gridCol w="578160"/>
                <a:gridCol w="576000"/>
                <a:gridCol w="576360"/>
              </a:tblGrid>
              <a:tr h="82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3" name="文本框 424017"/>
          <p:cNvSpPr/>
          <p:nvPr/>
        </p:nvSpPr>
        <p:spPr>
          <a:xfrm>
            <a:off x="395280" y="5524560"/>
            <a:ext cx="71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x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是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y</a:t>
            </a:r>
            <a:r>
              <a:rPr b="1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的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函数吗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?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为什么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文本框 4"/>
          <p:cNvSpPr/>
          <p:nvPr/>
        </p:nvSpPr>
        <p:spPr>
          <a:xfrm>
            <a:off x="926640" y="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四、进一步理解函数关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文本框 4"/>
          <p:cNvSpPr/>
          <p:nvPr/>
        </p:nvSpPr>
        <p:spPr>
          <a:xfrm>
            <a:off x="0" y="1828800"/>
            <a:ext cx="90360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文本框 2"/>
          <p:cNvSpPr/>
          <p:nvPr/>
        </p:nvSpPr>
        <p:spPr>
          <a:xfrm>
            <a:off x="539640" y="1989000"/>
            <a:ext cx="48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、请说一说函数的特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文本框 3"/>
          <p:cNvSpPr/>
          <p:nvPr/>
        </p:nvSpPr>
        <p:spPr>
          <a:xfrm>
            <a:off x="539640" y="1197000"/>
            <a:ext cx="80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、认识常量和变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文本框 5"/>
          <p:cNvSpPr/>
          <p:nvPr/>
        </p:nvSpPr>
        <p:spPr>
          <a:xfrm>
            <a:off x="1144440" y="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五、课堂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Picture 6" descr="C:\Users\Administrator.USER-20150611EH\AppData\Roaming\Tencent\Users\21166587\QQ\WinTemp\RichOle\EFDKH2RU[793E[$L3W8K98L.png"/>
          <p:cNvPicPr/>
          <p:nvPr/>
        </p:nvPicPr>
        <p:blipFill>
          <a:blip r:embed="rId1"/>
          <a:stretch/>
        </p:blipFill>
        <p:spPr>
          <a:xfrm>
            <a:off x="611280" y="2708280"/>
            <a:ext cx="6541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27640" y="2997000"/>
            <a:ext cx="27352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华文行楷"/>
                <a:ea typeface="华文行楷"/>
              </a:rPr>
              <a:t>谢谢</a:t>
            </a:r>
            <a:r>
              <a:rPr b="1" lang="en-US" sz="8000" spc="-1" strike="noStrike">
                <a:solidFill>
                  <a:srgbClr val="cc3300"/>
                </a:solidFill>
                <a:latin typeface="华文行楷"/>
                <a:ea typeface="华文行楷"/>
              </a:rPr>
              <a:t>!</a:t>
            </a:r>
            <a:endParaRPr b="1" lang="en-US" sz="8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1" name="Text Box 4"/>
          <p:cNvSpPr/>
          <p:nvPr/>
        </p:nvSpPr>
        <p:spPr>
          <a:xfrm>
            <a:off x="539640" y="692280"/>
            <a:ext cx="4969080" cy="3600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00">
              <a:lnSpc>
                <a:spcPct val="150000"/>
              </a:lnSpc>
              <a:spcBef>
                <a:spcPts val="240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cfcfc"/>
                </a:solidFill>
                <a:latin typeface="黑体"/>
                <a:ea typeface="黑体"/>
              </a:rPr>
              <a:t>时间是一个常量，但对勤奋者来说，却是一个“变量”，我们应当在有限的时间内做出伟大的事业！</a:t>
            </a:r>
            <a:r>
              <a:rPr b="0" lang="en-US" sz="2800" spc="-1" strike="noStrike">
                <a:solidFill>
                  <a:srgbClr val="fcfcfc"/>
                </a:solidFill>
                <a:latin typeface="黑体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cfcfc"/>
                </a:solidFill>
                <a:latin typeface="黑体"/>
                <a:ea typeface="黑体"/>
              </a:rPr>
              <a:t>俄国历史学家 雷巴柯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矩形 5"/>
          <p:cNvSpPr/>
          <p:nvPr/>
        </p:nvSpPr>
        <p:spPr>
          <a:xfrm>
            <a:off x="826920" y="436572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：在加油过程中，哪些量没有变化？哪些量不断变化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0" y="9828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一、认识常量和变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加油.wmv" descr=""/>
          <p:cNvPicPr/>
          <p:nvPr/>
        </p:nvPicPr>
        <p:blipFill>
          <a:blip r:embed="rId1"/>
          <a:stretch/>
        </p:blipFill>
        <p:spPr>
          <a:xfrm>
            <a:off x="1498680" y="981000"/>
            <a:ext cx="5715000" cy="3214800"/>
          </a:xfrm>
          <a:prstGeom prst="rect">
            <a:avLst/>
          </a:prstGeom>
          <a:ln w="0">
            <a:noFill/>
          </a:ln>
        </p:spPr>
      </p:pic>
      <p:sp>
        <p:nvSpPr>
          <p:cNvPr id="384" name="矩形 5"/>
          <p:cNvSpPr/>
          <p:nvPr/>
        </p:nvSpPr>
        <p:spPr>
          <a:xfrm>
            <a:off x="1978200" y="5373720"/>
            <a:ext cx="45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答：不变的量：单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变化的量：金额和油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021600" cy="184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  <a:ea typeface="宋体"/>
              </a:rPr>
              <a:t>问题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汽车从飞龙前往薛家，途中在高架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千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的速度匀速行驶一段时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在这个行驶过程中，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哪些量没有变化？哪些量不断变化？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6" name="文本框 408583"/>
          <p:cNvSpPr/>
          <p:nvPr/>
        </p:nvSpPr>
        <p:spPr>
          <a:xfrm>
            <a:off x="447840" y="394668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  <a:ea typeface="宋体"/>
              </a:rPr>
              <a:t>在某一变化过程中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数值保持不变的量叫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常量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图片 1" descr=""/>
          <p:cNvPicPr/>
          <p:nvPr/>
        </p:nvPicPr>
        <p:blipFill>
          <a:blip r:embed="rId1"/>
          <a:stretch/>
        </p:blipFill>
        <p:spPr>
          <a:xfrm>
            <a:off x="6585120" y="2637000"/>
            <a:ext cx="2558880" cy="160308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21"/>
          <p:cNvSpPr/>
          <p:nvPr/>
        </p:nvSpPr>
        <p:spPr>
          <a:xfrm>
            <a:off x="5270400" y="3402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薛家中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22"/>
          <p:cNvSpPr/>
          <p:nvPr/>
        </p:nvSpPr>
        <p:spPr>
          <a:xfrm>
            <a:off x="252360" y="33242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飞龙中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23"/>
          <p:cNvSpPr/>
          <p:nvPr/>
        </p:nvSpPr>
        <p:spPr>
          <a:xfrm>
            <a:off x="1263600" y="3584520"/>
            <a:ext cx="41497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图片 7" descr="u=2143193142,2635516459&amp;fm=200&amp;gp=0"/>
          <p:cNvPicPr/>
          <p:nvPr/>
        </p:nvPicPr>
        <p:blipFill>
          <a:blip r:embed="rId2"/>
          <a:srcRect l="0" t="0" r="0" b="13758"/>
          <a:stretch/>
        </p:blipFill>
        <p:spPr>
          <a:xfrm>
            <a:off x="298440" y="2994120"/>
            <a:ext cx="1220760" cy="4856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4"/>
          <p:cNvSpPr/>
          <p:nvPr/>
        </p:nvSpPr>
        <p:spPr>
          <a:xfrm>
            <a:off x="0" y="0"/>
            <a:ext cx="71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一：认识常量和变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23"/>
          <p:cNvSpPr/>
          <p:nvPr/>
        </p:nvSpPr>
        <p:spPr>
          <a:xfrm>
            <a:off x="1263600" y="3727440"/>
            <a:ext cx="4149720" cy="14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文本框 3"/>
          <p:cNvSpPr/>
          <p:nvPr/>
        </p:nvSpPr>
        <p:spPr>
          <a:xfrm>
            <a:off x="5688000" y="4460760"/>
            <a:ext cx="29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车速、总路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文本框 4"/>
          <p:cNvSpPr/>
          <p:nvPr/>
        </p:nvSpPr>
        <p:spPr>
          <a:xfrm>
            <a:off x="5713560" y="5553000"/>
            <a:ext cx="34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行使的时间和路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文本框 5"/>
          <p:cNvSpPr/>
          <p:nvPr/>
        </p:nvSpPr>
        <p:spPr>
          <a:xfrm>
            <a:off x="2717640" y="4429080"/>
            <a:ext cx="22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变的量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文本框 6"/>
          <p:cNvSpPr/>
          <p:nvPr/>
        </p:nvSpPr>
        <p:spPr>
          <a:xfrm>
            <a:off x="2793960" y="5548320"/>
            <a:ext cx="22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变化的量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文本框 9"/>
          <p:cNvSpPr/>
          <p:nvPr/>
        </p:nvSpPr>
        <p:spPr>
          <a:xfrm>
            <a:off x="1082880" y="5553000"/>
            <a:ext cx="35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可以取不同数值的量叫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变量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文本框 10"/>
          <p:cNvSpPr/>
          <p:nvPr/>
        </p:nvSpPr>
        <p:spPr>
          <a:xfrm>
            <a:off x="5716440" y="4983120"/>
            <a:ext cx="29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单价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文本框 11"/>
          <p:cNvSpPr/>
          <p:nvPr/>
        </p:nvSpPr>
        <p:spPr>
          <a:xfrm>
            <a:off x="5716440" y="6135840"/>
            <a:ext cx="29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金额、油量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 -0.000185 L 0.534028 0.006019 E">
                                      <p:cBhvr>
                                        <p:cTn id="18" dur="5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7640" y="691920"/>
            <a:ext cx="849636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37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宋体"/>
              </a:rPr>
              <a:t>请你指出下列各式的常量和变量</a:t>
            </a:r>
            <a:endParaRPr b="1" lang="en-US" sz="37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24000" y="1628640"/>
            <a:ext cx="8540640" cy="30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宋体"/>
              </a:rPr>
              <a:t>、求余角的计算公式为</a:t>
            </a: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y=90</a:t>
            </a:r>
            <a:r>
              <a:rPr b="1" i="1" lang="en-US" sz="37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- x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宋体"/>
              </a:rPr>
              <a:t>、圆周长</a:t>
            </a: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宋体"/>
              </a:rPr>
              <a:t>和半径</a:t>
            </a: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宋体"/>
              </a:rPr>
              <a:t>的关系式为</a:t>
            </a: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2πr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宋体"/>
              </a:rPr>
              <a:t>、矩形的长</a:t>
            </a: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一定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宋体"/>
              </a:rPr>
              <a:t>，宽</a:t>
            </a: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宋体"/>
              </a:rPr>
              <a:t>面积</a:t>
            </a: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宋体"/>
              </a:rPr>
              <a:t>s= a b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0" y="1508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一、认识常量 和变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1"/>
          <p:cNvSpPr/>
          <p:nvPr/>
        </p:nvSpPr>
        <p:spPr>
          <a:xfrm>
            <a:off x="1619280" y="21859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常量：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90</a:t>
            </a:r>
            <a:r>
              <a:rPr b="1" lang="en-US" sz="2800" spc="-1" strike="noStrike" baseline="30000">
                <a:solidFill>
                  <a:srgbClr val="0070c0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；变量：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8"/>
          <p:cNvSpPr/>
          <p:nvPr/>
        </p:nvSpPr>
        <p:spPr>
          <a:xfrm>
            <a:off x="1619280" y="33084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常量：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2</a:t>
            </a: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π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；变量：圆周长</a:t>
            </a: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和半径</a:t>
            </a: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r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Box 9"/>
          <p:cNvSpPr/>
          <p:nvPr/>
        </p:nvSpPr>
        <p:spPr>
          <a:xfrm>
            <a:off x="1619280" y="46530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常量：长</a:t>
            </a: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；变量：面积</a:t>
            </a: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s</a:t>
            </a:r>
            <a:r>
              <a:rPr b="1" i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宽</a:t>
            </a: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b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333360" y="855720"/>
            <a:ext cx="77151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这是工作人员根据水库的水位变化与水库蓄水量变化情况而制作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表格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14240" y="1844640"/>
          <a:ext cx="7715160" cy="1463760"/>
        </p:xfrm>
        <a:graphic>
          <a:graphicData uri="http://schemas.openxmlformats.org/drawingml/2006/table">
            <a:tbl>
              <a:tblPr/>
              <a:tblGrid>
                <a:gridCol w="1203480"/>
                <a:gridCol w="1422360"/>
                <a:gridCol w="1422360"/>
                <a:gridCol w="1531800"/>
                <a:gridCol w="1422360"/>
                <a:gridCol w="712800"/>
              </a:tblGrid>
              <a:tr h="76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水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m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蓄水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v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30×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09×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18×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23×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Text Box 30"/>
          <p:cNvSpPr/>
          <p:nvPr/>
        </p:nvSpPr>
        <p:spPr>
          <a:xfrm>
            <a:off x="714240" y="3429000"/>
            <a:ext cx="8429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这一变化过程中，有几个变量？分别是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1"/>
          <p:cNvSpPr/>
          <p:nvPr/>
        </p:nvSpPr>
        <p:spPr>
          <a:xfrm>
            <a:off x="714240" y="4357800"/>
            <a:ext cx="940284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这一变化过程中，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两个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变量之间有什么关系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小组交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3"/>
          <p:cNvSpPr/>
          <p:nvPr/>
        </p:nvSpPr>
        <p:spPr>
          <a:xfrm>
            <a:off x="3584520" y="58323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蓄水量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4"/>
          <p:cNvSpPr/>
          <p:nvPr/>
        </p:nvSpPr>
        <p:spPr>
          <a:xfrm>
            <a:off x="1128600" y="580536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位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35"/>
          <p:cNvSpPr/>
          <p:nvPr/>
        </p:nvSpPr>
        <p:spPr>
          <a:xfrm>
            <a:off x="755640" y="534348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蓄水量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36"/>
          <p:cNvSpPr/>
          <p:nvPr/>
        </p:nvSpPr>
        <p:spPr>
          <a:xfrm>
            <a:off x="2771640" y="5283360"/>
            <a:ext cx="12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位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组合 1"/>
          <p:cNvGrpSpPr/>
          <p:nvPr/>
        </p:nvGrpSpPr>
        <p:grpSpPr>
          <a:xfrm>
            <a:off x="817560" y="5343480"/>
            <a:ext cx="8683560" cy="1396080"/>
            <a:chOff x="817560" y="5343480"/>
            <a:chExt cx="8683560" cy="1396080"/>
          </a:xfrm>
        </p:grpSpPr>
        <p:sp>
          <p:nvSpPr>
            <p:cNvPr id="416" name="Text Box 80"/>
            <p:cNvSpPr/>
            <p:nvPr/>
          </p:nvSpPr>
          <p:spPr>
            <a:xfrm>
              <a:off x="817560" y="5812920"/>
              <a:ext cx="632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当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确定时</a:t>
              </a:r>
              <a:r>
                <a:rPr b="0" lang="en-US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, </a:t>
              </a:r>
              <a:r>
                <a:rPr b="0" lang="en-US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也随着确定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Text Box 32"/>
            <p:cNvSpPr/>
            <p:nvPr/>
          </p:nvSpPr>
          <p:spPr>
            <a:xfrm>
              <a:off x="857160" y="5343480"/>
              <a:ext cx="550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随着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的变化而变化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65"/>
            <p:cNvSpPr/>
            <p:nvPr/>
          </p:nvSpPr>
          <p:spPr>
            <a:xfrm>
              <a:off x="817560" y="6279840"/>
              <a:ext cx="868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对于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的每一个值，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都有唯一的值与它对应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Text Box 67"/>
          <p:cNvSpPr/>
          <p:nvPr/>
        </p:nvSpPr>
        <p:spPr>
          <a:xfrm>
            <a:off x="852480" y="6280200"/>
            <a:ext cx="22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位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68"/>
          <p:cNvSpPr/>
          <p:nvPr/>
        </p:nvSpPr>
        <p:spPr>
          <a:xfrm>
            <a:off x="3708360" y="6280200"/>
            <a:ext cx="27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蓄水量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下箭头 20"/>
          <p:cNvSpPr/>
          <p:nvPr/>
        </p:nvSpPr>
        <p:spPr>
          <a:xfrm>
            <a:off x="3905280" y="2421000"/>
            <a:ext cx="285840" cy="357120"/>
          </a:xfrm>
          <a:prstGeom prst="downArrow">
            <a:avLst>
              <a:gd name="adj1" fmla="val 50000"/>
              <a:gd name="adj2" fmla="val 49952"/>
            </a:avLst>
          </a:prstGeom>
          <a:solidFill>
            <a:srgbClr val="ff61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下箭头 21"/>
          <p:cNvSpPr/>
          <p:nvPr/>
        </p:nvSpPr>
        <p:spPr>
          <a:xfrm>
            <a:off x="2476440" y="2421000"/>
            <a:ext cx="285840" cy="357120"/>
          </a:xfrm>
          <a:prstGeom prst="downArrow">
            <a:avLst>
              <a:gd name="adj1" fmla="val 50000"/>
              <a:gd name="adj2" fmla="val 49946"/>
            </a:avLst>
          </a:prstGeom>
          <a:solidFill>
            <a:srgbClr val="ff61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下箭头 22"/>
          <p:cNvSpPr/>
          <p:nvPr/>
        </p:nvSpPr>
        <p:spPr>
          <a:xfrm>
            <a:off x="5418000" y="2421000"/>
            <a:ext cx="285840" cy="357120"/>
          </a:xfrm>
          <a:prstGeom prst="downArrow">
            <a:avLst>
              <a:gd name="adj1" fmla="val 50000"/>
              <a:gd name="adj2" fmla="val 49952"/>
            </a:avLst>
          </a:prstGeom>
          <a:solidFill>
            <a:srgbClr val="ff61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下箭头 23"/>
          <p:cNvSpPr/>
          <p:nvPr/>
        </p:nvSpPr>
        <p:spPr>
          <a:xfrm>
            <a:off x="6883560" y="2421000"/>
            <a:ext cx="285480" cy="35712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61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0" y="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二、探索两个变量之间的关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Box 2"/>
          <p:cNvSpPr/>
          <p:nvPr/>
        </p:nvSpPr>
        <p:spPr>
          <a:xfrm>
            <a:off x="1258920" y="3909960"/>
            <a:ext cx="70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答：有两个变量，分别是水位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h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和蓄水量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reeform 3"/>
          <p:cNvSpPr/>
          <p:nvPr/>
        </p:nvSpPr>
        <p:spPr>
          <a:xfrm>
            <a:off x="1803240" y="2492280"/>
            <a:ext cx="5072400" cy="1500120"/>
          </a:xfrm>
          <a:custGeom>
            <a:avLst/>
            <a:gdLst/>
            <a:ahLst/>
            <a:rect l="l" t="t" r="r" b="b"/>
            <a:pathLst>
              <a:path w="4160" h="1376">
                <a:moveTo>
                  <a:pt x="8" y="1024"/>
                </a:moveTo>
                <a:cubicBezTo>
                  <a:pt x="16" y="1032"/>
                  <a:pt x="56" y="1120"/>
                  <a:pt x="104" y="1168"/>
                </a:cubicBezTo>
                <a:cubicBezTo>
                  <a:pt x="152" y="1216"/>
                  <a:pt x="232" y="1280"/>
                  <a:pt x="296" y="1312"/>
                </a:cubicBezTo>
                <a:cubicBezTo>
                  <a:pt x="360" y="1344"/>
                  <a:pt x="416" y="1376"/>
                  <a:pt x="488" y="1360"/>
                </a:cubicBezTo>
                <a:cubicBezTo>
                  <a:pt x="560" y="1344"/>
                  <a:pt x="640" y="1264"/>
                  <a:pt x="728" y="1216"/>
                </a:cubicBezTo>
                <a:cubicBezTo>
                  <a:pt x="816" y="1168"/>
                  <a:pt x="904" y="1144"/>
                  <a:pt x="1016" y="1072"/>
                </a:cubicBezTo>
                <a:cubicBezTo>
                  <a:pt x="1128" y="1000"/>
                  <a:pt x="1296" y="880"/>
                  <a:pt x="1400" y="784"/>
                </a:cubicBezTo>
                <a:cubicBezTo>
                  <a:pt x="1504" y="688"/>
                  <a:pt x="1544" y="576"/>
                  <a:pt x="1640" y="496"/>
                </a:cubicBezTo>
                <a:cubicBezTo>
                  <a:pt x="1736" y="416"/>
                  <a:pt x="1888" y="360"/>
                  <a:pt x="1976" y="304"/>
                </a:cubicBezTo>
                <a:cubicBezTo>
                  <a:pt x="2064" y="248"/>
                  <a:pt x="2120" y="200"/>
                  <a:pt x="2168" y="160"/>
                </a:cubicBezTo>
                <a:cubicBezTo>
                  <a:pt x="2216" y="120"/>
                  <a:pt x="2216" y="88"/>
                  <a:pt x="2264" y="64"/>
                </a:cubicBezTo>
                <a:cubicBezTo>
                  <a:pt x="2312" y="40"/>
                  <a:pt x="2392" y="0"/>
                  <a:pt x="2456" y="16"/>
                </a:cubicBezTo>
                <a:cubicBezTo>
                  <a:pt x="2520" y="32"/>
                  <a:pt x="2600" y="128"/>
                  <a:pt x="2648" y="160"/>
                </a:cubicBezTo>
                <a:cubicBezTo>
                  <a:pt x="2696" y="192"/>
                  <a:pt x="2696" y="160"/>
                  <a:pt x="2744" y="208"/>
                </a:cubicBezTo>
                <a:cubicBezTo>
                  <a:pt x="2792" y="256"/>
                  <a:pt x="2856" y="384"/>
                  <a:pt x="2936" y="448"/>
                </a:cubicBezTo>
                <a:cubicBezTo>
                  <a:pt x="3016" y="512"/>
                  <a:pt x="3112" y="504"/>
                  <a:pt x="3224" y="592"/>
                </a:cubicBezTo>
                <a:cubicBezTo>
                  <a:pt x="3336" y="680"/>
                  <a:pt x="3512" y="888"/>
                  <a:pt x="3608" y="976"/>
                </a:cubicBezTo>
                <a:cubicBezTo>
                  <a:pt x="3704" y="1064"/>
                  <a:pt x="3712" y="1056"/>
                  <a:pt x="3800" y="1120"/>
                </a:cubicBezTo>
                <a:cubicBezTo>
                  <a:pt x="3888" y="1184"/>
                  <a:pt x="4112" y="1344"/>
                  <a:pt x="4136" y="1360"/>
                </a:cubicBezTo>
                <a:cubicBezTo>
                  <a:pt x="4160" y="1376"/>
                  <a:pt x="4000" y="1256"/>
                  <a:pt x="3944" y="1216"/>
                </a:cubicBezTo>
                <a:cubicBezTo>
                  <a:pt x="3888" y="1176"/>
                  <a:pt x="3848" y="1152"/>
                  <a:pt x="3800" y="1120"/>
                </a:cubicBezTo>
                <a:cubicBezTo>
                  <a:pt x="3752" y="1088"/>
                  <a:pt x="3704" y="1064"/>
                  <a:pt x="3656" y="1024"/>
                </a:cubicBezTo>
                <a:cubicBezTo>
                  <a:pt x="3608" y="984"/>
                  <a:pt x="3552" y="920"/>
                  <a:pt x="3512" y="880"/>
                </a:cubicBezTo>
                <a:cubicBezTo>
                  <a:pt x="3472" y="840"/>
                  <a:pt x="3456" y="824"/>
                  <a:pt x="3416" y="784"/>
                </a:cubicBezTo>
                <a:cubicBezTo>
                  <a:pt x="3376" y="744"/>
                  <a:pt x="3304" y="672"/>
                  <a:pt x="3272" y="640"/>
                </a:cubicBezTo>
                <a:cubicBezTo>
                  <a:pt x="3240" y="608"/>
                  <a:pt x="3248" y="608"/>
                  <a:pt x="3224" y="592"/>
                </a:cubicBezTo>
                <a:cubicBezTo>
                  <a:pt x="3200" y="576"/>
                  <a:pt x="3160" y="560"/>
                  <a:pt x="3128" y="544"/>
                </a:cubicBezTo>
                <a:cubicBezTo>
                  <a:pt x="3096" y="528"/>
                  <a:pt x="3064" y="512"/>
                  <a:pt x="3032" y="496"/>
                </a:cubicBezTo>
                <a:cubicBezTo>
                  <a:pt x="3000" y="480"/>
                  <a:pt x="2968" y="472"/>
                  <a:pt x="2936" y="448"/>
                </a:cubicBezTo>
                <a:cubicBezTo>
                  <a:pt x="2904" y="424"/>
                  <a:pt x="2872" y="392"/>
                  <a:pt x="2840" y="352"/>
                </a:cubicBezTo>
                <a:cubicBezTo>
                  <a:pt x="2808" y="312"/>
                  <a:pt x="2776" y="240"/>
                  <a:pt x="2744" y="208"/>
                </a:cubicBezTo>
                <a:cubicBezTo>
                  <a:pt x="2712" y="176"/>
                  <a:pt x="2680" y="184"/>
                  <a:pt x="2648" y="160"/>
                </a:cubicBezTo>
                <a:cubicBezTo>
                  <a:pt x="2616" y="136"/>
                  <a:pt x="2592" y="88"/>
                  <a:pt x="2552" y="64"/>
                </a:cubicBezTo>
                <a:cubicBezTo>
                  <a:pt x="2512" y="40"/>
                  <a:pt x="2456" y="16"/>
                  <a:pt x="2408" y="16"/>
                </a:cubicBezTo>
                <a:cubicBezTo>
                  <a:pt x="2360" y="16"/>
                  <a:pt x="2312" y="32"/>
                  <a:pt x="2264" y="64"/>
                </a:cubicBezTo>
                <a:cubicBezTo>
                  <a:pt x="2216" y="96"/>
                  <a:pt x="2168" y="168"/>
                  <a:pt x="2120" y="208"/>
                </a:cubicBezTo>
                <a:cubicBezTo>
                  <a:pt x="2072" y="248"/>
                  <a:pt x="2032" y="272"/>
                  <a:pt x="1976" y="304"/>
                </a:cubicBezTo>
                <a:cubicBezTo>
                  <a:pt x="1920" y="336"/>
                  <a:pt x="1840" y="368"/>
                  <a:pt x="1784" y="400"/>
                </a:cubicBezTo>
                <a:cubicBezTo>
                  <a:pt x="1728" y="432"/>
                  <a:pt x="1680" y="464"/>
                  <a:pt x="1640" y="496"/>
                </a:cubicBezTo>
                <a:cubicBezTo>
                  <a:pt x="1600" y="528"/>
                  <a:pt x="1576" y="552"/>
                  <a:pt x="1544" y="592"/>
                </a:cubicBezTo>
                <a:cubicBezTo>
                  <a:pt x="1512" y="632"/>
                  <a:pt x="1488" y="688"/>
                  <a:pt x="1448" y="736"/>
                </a:cubicBezTo>
                <a:cubicBezTo>
                  <a:pt x="1408" y="784"/>
                  <a:pt x="1352" y="840"/>
                  <a:pt x="1304" y="880"/>
                </a:cubicBezTo>
                <a:cubicBezTo>
                  <a:pt x="1256" y="920"/>
                  <a:pt x="1224" y="936"/>
                  <a:pt x="1160" y="976"/>
                </a:cubicBezTo>
                <a:cubicBezTo>
                  <a:pt x="1096" y="1016"/>
                  <a:pt x="992" y="1080"/>
                  <a:pt x="920" y="1120"/>
                </a:cubicBezTo>
                <a:cubicBezTo>
                  <a:pt x="848" y="1160"/>
                  <a:pt x="800" y="1176"/>
                  <a:pt x="728" y="1216"/>
                </a:cubicBezTo>
                <a:cubicBezTo>
                  <a:pt x="656" y="1256"/>
                  <a:pt x="560" y="1344"/>
                  <a:pt x="488" y="1360"/>
                </a:cubicBezTo>
                <a:cubicBezTo>
                  <a:pt x="416" y="1376"/>
                  <a:pt x="344" y="1328"/>
                  <a:pt x="296" y="1312"/>
                </a:cubicBezTo>
                <a:cubicBezTo>
                  <a:pt x="248" y="1296"/>
                  <a:pt x="232" y="1288"/>
                  <a:pt x="200" y="1264"/>
                </a:cubicBezTo>
                <a:cubicBezTo>
                  <a:pt x="168" y="1240"/>
                  <a:pt x="128" y="1192"/>
                  <a:pt x="104" y="1168"/>
                </a:cubicBezTo>
                <a:cubicBezTo>
                  <a:pt x="80" y="1144"/>
                  <a:pt x="72" y="1144"/>
                  <a:pt x="56" y="1120"/>
                </a:cubicBezTo>
                <a:cubicBezTo>
                  <a:pt x="40" y="1096"/>
                  <a:pt x="0" y="1016"/>
                  <a:pt x="8" y="1024"/>
                </a:cubicBezTo>
                <a:close/>
              </a:path>
            </a:pathLst>
          </a:custGeom>
          <a:solidFill>
            <a:srgbClr val="ff6161"/>
          </a:solidFill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413000" y="1339920"/>
            <a:ext cx="6428880" cy="3089160"/>
            <a:chOff x="1413000" y="1339920"/>
            <a:chExt cx="6428880" cy="3089160"/>
          </a:xfrm>
        </p:grpSpPr>
        <p:sp>
          <p:nvSpPr>
            <p:cNvPr id="429" name="Text Box 5"/>
            <p:cNvSpPr/>
            <p:nvPr/>
          </p:nvSpPr>
          <p:spPr>
            <a:xfrm>
              <a:off x="7108200" y="2996640"/>
              <a:ext cx="73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时间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t(</a:t>
              </a: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时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Group 6"/>
            <p:cNvGrpSpPr/>
            <p:nvPr/>
          </p:nvGrpSpPr>
          <p:grpSpPr>
            <a:xfrm>
              <a:off x="1426320" y="3155400"/>
              <a:ext cx="5658120" cy="379080"/>
              <a:chOff x="1426320" y="3155400"/>
              <a:chExt cx="5658120" cy="379080"/>
            </a:xfrm>
          </p:grpSpPr>
          <p:grpSp>
            <p:nvGrpSpPr>
              <p:cNvPr id="431" name="Group 7"/>
              <p:cNvGrpSpPr/>
              <p:nvPr/>
            </p:nvGrpSpPr>
            <p:grpSpPr>
              <a:xfrm>
                <a:off x="1426320" y="3157200"/>
                <a:ext cx="5658120" cy="55800"/>
                <a:chOff x="1426320" y="3157200"/>
                <a:chExt cx="5658120" cy="55800"/>
              </a:xfrm>
            </p:grpSpPr>
            <p:sp>
              <p:nvSpPr>
                <p:cNvPr id="432" name="Line 8"/>
                <p:cNvSpPr/>
                <p:nvPr/>
              </p:nvSpPr>
              <p:spPr>
                <a:xfrm>
                  <a:off x="1426320" y="3213000"/>
                  <a:ext cx="5658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Line 9"/>
                <p:cNvSpPr/>
                <p:nvPr/>
              </p:nvSpPr>
              <p:spPr>
                <a:xfrm>
                  <a:off x="222660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Line 10"/>
                <p:cNvSpPr/>
                <p:nvPr/>
              </p:nvSpPr>
              <p:spPr>
                <a:xfrm>
                  <a:off x="243828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Line 11"/>
                <p:cNvSpPr/>
                <p:nvPr/>
              </p:nvSpPr>
              <p:spPr>
                <a:xfrm>
                  <a:off x="264240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Line 12"/>
                <p:cNvSpPr/>
                <p:nvPr/>
              </p:nvSpPr>
              <p:spPr>
                <a:xfrm>
                  <a:off x="28602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Line 13"/>
                <p:cNvSpPr/>
                <p:nvPr/>
              </p:nvSpPr>
              <p:spPr>
                <a:xfrm>
                  <a:off x="30643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Line 14"/>
                <p:cNvSpPr/>
                <p:nvPr/>
              </p:nvSpPr>
              <p:spPr>
                <a:xfrm>
                  <a:off x="32760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Line 15"/>
                <p:cNvSpPr/>
                <p:nvPr/>
              </p:nvSpPr>
              <p:spPr>
                <a:xfrm>
                  <a:off x="34801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Line 16"/>
                <p:cNvSpPr/>
                <p:nvPr/>
              </p:nvSpPr>
              <p:spPr>
                <a:xfrm>
                  <a:off x="369504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Line 17"/>
                <p:cNvSpPr/>
                <p:nvPr/>
              </p:nvSpPr>
              <p:spPr>
                <a:xfrm>
                  <a:off x="389916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Line 18"/>
                <p:cNvSpPr/>
                <p:nvPr/>
              </p:nvSpPr>
              <p:spPr>
                <a:xfrm>
                  <a:off x="411084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Line 19"/>
                <p:cNvSpPr/>
                <p:nvPr/>
              </p:nvSpPr>
              <p:spPr>
                <a:xfrm>
                  <a:off x="431496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0"/>
                <p:cNvSpPr/>
                <p:nvPr/>
              </p:nvSpPr>
              <p:spPr>
                <a:xfrm>
                  <a:off x="45324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Line 21"/>
                <p:cNvSpPr/>
                <p:nvPr/>
              </p:nvSpPr>
              <p:spPr>
                <a:xfrm>
                  <a:off x="47365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Line 22"/>
                <p:cNvSpPr/>
                <p:nvPr/>
              </p:nvSpPr>
              <p:spPr>
                <a:xfrm>
                  <a:off x="49482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Line 23"/>
                <p:cNvSpPr/>
                <p:nvPr/>
              </p:nvSpPr>
              <p:spPr>
                <a:xfrm>
                  <a:off x="51523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Line 24"/>
                <p:cNvSpPr/>
                <p:nvPr/>
              </p:nvSpPr>
              <p:spPr>
                <a:xfrm>
                  <a:off x="53712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Line 25"/>
                <p:cNvSpPr/>
                <p:nvPr/>
              </p:nvSpPr>
              <p:spPr>
                <a:xfrm>
                  <a:off x="55753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Line 26"/>
                <p:cNvSpPr/>
                <p:nvPr/>
              </p:nvSpPr>
              <p:spPr>
                <a:xfrm>
                  <a:off x="579060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Line 27"/>
                <p:cNvSpPr/>
                <p:nvPr/>
              </p:nvSpPr>
              <p:spPr>
                <a:xfrm>
                  <a:off x="599472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Line 28"/>
                <p:cNvSpPr/>
                <p:nvPr/>
              </p:nvSpPr>
              <p:spPr>
                <a:xfrm>
                  <a:off x="620604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Line 29"/>
                <p:cNvSpPr/>
                <p:nvPr/>
              </p:nvSpPr>
              <p:spPr>
                <a:xfrm>
                  <a:off x="641016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0"/>
                <p:cNvSpPr/>
                <p:nvPr/>
              </p:nvSpPr>
              <p:spPr>
                <a:xfrm>
                  <a:off x="6627960" y="315720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1"/>
                <p:cNvSpPr/>
                <p:nvPr/>
              </p:nvSpPr>
              <p:spPr>
                <a:xfrm>
                  <a:off x="683208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32"/>
                <p:cNvSpPr/>
                <p:nvPr/>
              </p:nvSpPr>
              <p:spPr>
                <a:xfrm>
                  <a:off x="159480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Line 34"/>
                <p:cNvSpPr/>
                <p:nvPr/>
              </p:nvSpPr>
              <p:spPr>
                <a:xfrm>
                  <a:off x="2010240" y="3162600"/>
                  <a:ext cx="0" cy="48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8" name="Text Box 35"/>
              <p:cNvSpPr/>
              <p:nvPr/>
            </p:nvSpPr>
            <p:spPr>
              <a:xfrm>
                <a:off x="3338280" y="3166200"/>
                <a:ext cx="2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8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Text Box 36"/>
              <p:cNvSpPr/>
              <p:nvPr/>
            </p:nvSpPr>
            <p:spPr>
              <a:xfrm>
                <a:off x="3674160" y="3157200"/>
                <a:ext cx="47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Text Box 37"/>
              <p:cNvSpPr/>
              <p:nvPr/>
            </p:nvSpPr>
            <p:spPr>
              <a:xfrm>
                <a:off x="2062080" y="3157200"/>
                <a:ext cx="18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Text Box 38"/>
              <p:cNvSpPr/>
              <p:nvPr/>
            </p:nvSpPr>
            <p:spPr>
              <a:xfrm>
                <a:off x="2481120" y="31662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Text Box 39"/>
              <p:cNvSpPr/>
              <p:nvPr/>
            </p:nvSpPr>
            <p:spPr>
              <a:xfrm>
                <a:off x="2898000" y="3166200"/>
                <a:ext cx="23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Text Box 40"/>
              <p:cNvSpPr/>
              <p:nvPr/>
            </p:nvSpPr>
            <p:spPr>
              <a:xfrm>
                <a:off x="4077360" y="3157200"/>
                <a:ext cx="41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Text Box 41"/>
              <p:cNvSpPr/>
              <p:nvPr/>
            </p:nvSpPr>
            <p:spPr>
              <a:xfrm>
                <a:off x="4495320" y="3157200"/>
                <a:ext cx="41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Text Box 42"/>
              <p:cNvSpPr/>
              <p:nvPr/>
            </p:nvSpPr>
            <p:spPr>
              <a:xfrm>
                <a:off x="4920120" y="3157200"/>
                <a:ext cx="412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Text Box 43"/>
              <p:cNvSpPr/>
              <p:nvPr/>
            </p:nvSpPr>
            <p:spPr>
              <a:xfrm>
                <a:off x="5347800" y="3157200"/>
                <a:ext cx="41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8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Text Box 44"/>
              <p:cNvSpPr/>
              <p:nvPr/>
            </p:nvSpPr>
            <p:spPr>
              <a:xfrm>
                <a:off x="5801760" y="3156120"/>
                <a:ext cx="49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Text Box 45"/>
              <p:cNvSpPr/>
              <p:nvPr/>
            </p:nvSpPr>
            <p:spPr>
              <a:xfrm>
                <a:off x="6204960" y="3166200"/>
                <a:ext cx="41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Text Box 46"/>
              <p:cNvSpPr/>
              <p:nvPr/>
            </p:nvSpPr>
            <p:spPr>
              <a:xfrm>
                <a:off x="6609600" y="3166200"/>
                <a:ext cx="45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Text Box 47"/>
              <p:cNvSpPr/>
              <p:nvPr/>
            </p:nvSpPr>
            <p:spPr>
              <a:xfrm>
                <a:off x="1483920" y="3155400"/>
                <a:ext cx="23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Text Box 48"/>
            <p:cNvSpPr/>
            <p:nvPr/>
          </p:nvSpPr>
          <p:spPr>
            <a:xfrm>
              <a:off x="1847160" y="1339920"/>
              <a:ext cx="92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温度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T(</a:t>
              </a:r>
              <a:r>
                <a:rPr b="1" lang="en-US" sz="1800" spc="-1" strike="noStrike">
                  <a:solidFill>
                    <a:srgbClr val="141402"/>
                  </a:solidFill>
                  <a:latin typeface="Symbol"/>
                  <a:ea typeface="Symbol"/>
                </a:rPr>
                <a:t>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C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Group 49"/>
            <p:cNvGrpSpPr/>
            <p:nvPr/>
          </p:nvGrpSpPr>
          <p:grpSpPr>
            <a:xfrm>
              <a:off x="1413000" y="1411560"/>
              <a:ext cx="441360" cy="3017520"/>
              <a:chOff x="1413000" y="1411560"/>
              <a:chExt cx="441360" cy="3017520"/>
            </a:xfrm>
          </p:grpSpPr>
          <p:grpSp>
            <p:nvGrpSpPr>
              <p:cNvPr id="473" name="Group 50"/>
              <p:cNvGrpSpPr/>
              <p:nvPr/>
            </p:nvGrpSpPr>
            <p:grpSpPr>
              <a:xfrm>
                <a:off x="1785240" y="1411560"/>
                <a:ext cx="68400" cy="3017520"/>
                <a:chOff x="1785240" y="1411560"/>
                <a:chExt cx="68400" cy="3017520"/>
              </a:xfrm>
            </p:grpSpPr>
            <p:sp>
              <p:nvSpPr>
                <p:cNvPr id="474" name="Line 51"/>
                <p:cNvSpPr/>
                <p:nvPr/>
              </p:nvSpPr>
              <p:spPr>
                <a:xfrm flipV="1">
                  <a:off x="1792440" y="1411560"/>
                  <a:ext cx="0" cy="30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Line 52"/>
                <p:cNvSpPr/>
                <p:nvPr/>
              </p:nvSpPr>
              <p:spPr>
                <a:xfrm>
                  <a:off x="1792440" y="415404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Line 53"/>
                <p:cNvSpPr/>
                <p:nvPr/>
              </p:nvSpPr>
              <p:spPr>
                <a:xfrm>
                  <a:off x="1798560" y="397116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Line 54"/>
                <p:cNvSpPr/>
                <p:nvPr/>
              </p:nvSpPr>
              <p:spPr>
                <a:xfrm>
                  <a:off x="1792440" y="377640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Line 55"/>
                <p:cNvSpPr/>
                <p:nvPr/>
              </p:nvSpPr>
              <p:spPr>
                <a:xfrm>
                  <a:off x="1798560" y="359352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Line 56"/>
                <p:cNvSpPr/>
                <p:nvPr/>
              </p:nvSpPr>
              <p:spPr>
                <a:xfrm>
                  <a:off x="1785240" y="3396600"/>
                  <a:ext cx="5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Line 58"/>
                <p:cNvSpPr/>
                <p:nvPr/>
              </p:nvSpPr>
              <p:spPr>
                <a:xfrm>
                  <a:off x="1792440" y="302544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Line 59"/>
                <p:cNvSpPr/>
                <p:nvPr/>
              </p:nvSpPr>
              <p:spPr>
                <a:xfrm>
                  <a:off x="1798560" y="284256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Line 60"/>
                <p:cNvSpPr/>
                <p:nvPr/>
              </p:nvSpPr>
              <p:spPr>
                <a:xfrm>
                  <a:off x="1792440" y="265032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1"/>
                <p:cNvSpPr/>
                <p:nvPr/>
              </p:nvSpPr>
              <p:spPr>
                <a:xfrm>
                  <a:off x="1798560" y="246744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Line 62"/>
                <p:cNvSpPr/>
                <p:nvPr/>
              </p:nvSpPr>
              <p:spPr>
                <a:xfrm>
                  <a:off x="1792440" y="227808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Line 63"/>
                <p:cNvSpPr/>
                <p:nvPr/>
              </p:nvSpPr>
              <p:spPr>
                <a:xfrm>
                  <a:off x="1798560" y="209520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Line 64"/>
                <p:cNvSpPr/>
                <p:nvPr/>
              </p:nvSpPr>
              <p:spPr>
                <a:xfrm>
                  <a:off x="1792440" y="190044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Line 65"/>
                <p:cNvSpPr/>
                <p:nvPr/>
              </p:nvSpPr>
              <p:spPr>
                <a:xfrm>
                  <a:off x="1798560" y="171756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8" name="Text Box 66"/>
              <p:cNvSpPr/>
              <p:nvPr/>
            </p:nvSpPr>
            <p:spPr>
              <a:xfrm>
                <a:off x="1484280" y="2661840"/>
                <a:ext cx="2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67"/>
              <p:cNvSpPr/>
              <p:nvPr/>
            </p:nvSpPr>
            <p:spPr>
              <a:xfrm>
                <a:off x="1484280" y="2273400"/>
                <a:ext cx="26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Text Box 68"/>
              <p:cNvSpPr/>
              <p:nvPr/>
            </p:nvSpPr>
            <p:spPr>
              <a:xfrm>
                <a:off x="1484280" y="1915560"/>
                <a:ext cx="23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Text Box 69"/>
              <p:cNvSpPr/>
              <p:nvPr/>
            </p:nvSpPr>
            <p:spPr>
              <a:xfrm>
                <a:off x="1484280" y="1518120"/>
                <a:ext cx="17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8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70"/>
              <p:cNvSpPr/>
              <p:nvPr/>
            </p:nvSpPr>
            <p:spPr>
              <a:xfrm>
                <a:off x="1413000" y="3416040"/>
                <a:ext cx="42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-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71"/>
              <p:cNvSpPr/>
              <p:nvPr/>
            </p:nvSpPr>
            <p:spPr>
              <a:xfrm>
                <a:off x="1413000" y="377280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-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4" name="Text Box 73"/>
          <p:cNvSpPr/>
          <p:nvPr/>
        </p:nvSpPr>
        <p:spPr>
          <a:xfrm>
            <a:off x="324000" y="476280"/>
            <a:ext cx="8143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下图是气温自动记录仪记录的某地一天的气温变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图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75"/>
          <p:cNvSpPr/>
          <p:nvPr/>
        </p:nvSpPr>
        <p:spPr>
          <a:xfrm>
            <a:off x="1758960" y="356868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Oval 76"/>
          <p:cNvSpPr/>
          <p:nvPr/>
        </p:nvSpPr>
        <p:spPr>
          <a:xfrm>
            <a:off x="1974960" y="3789360"/>
            <a:ext cx="7596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77"/>
          <p:cNvSpPr/>
          <p:nvPr/>
        </p:nvSpPr>
        <p:spPr>
          <a:xfrm>
            <a:off x="2604960" y="379404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Oval 78"/>
          <p:cNvSpPr/>
          <p:nvPr/>
        </p:nvSpPr>
        <p:spPr>
          <a:xfrm>
            <a:off x="2340000" y="393372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79"/>
          <p:cNvSpPr/>
          <p:nvPr/>
        </p:nvSpPr>
        <p:spPr>
          <a:xfrm>
            <a:off x="3025800" y="3594240"/>
            <a:ext cx="7632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Oval 80"/>
          <p:cNvSpPr/>
          <p:nvPr/>
        </p:nvSpPr>
        <p:spPr>
          <a:xfrm>
            <a:off x="3325680" y="342900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Oval 81"/>
          <p:cNvSpPr/>
          <p:nvPr/>
        </p:nvSpPr>
        <p:spPr>
          <a:xfrm>
            <a:off x="3635280" y="314172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Oval 82"/>
          <p:cNvSpPr/>
          <p:nvPr/>
        </p:nvSpPr>
        <p:spPr>
          <a:xfrm>
            <a:off x="4695840" y="248904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Oval 83"/>
          <p:cNvSpPr/>
          <p:nvPr/>
        </p:nvSpPr>
        <p:spPr>
          <a:xfrm>
            <a:off x="4902120" y="256536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Oval 84"/>
          <p:cNvSpPr/>
          <p:nvPr/>
        </p:nvSpPr>
        <p:spPr>
          <a:xfrm>
            <a:off x="4237200" y="2770200"/>
            <a:ext cx="7596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Oval 85"/>
          <p:cNvSpPr/>
          <p:nvPr/>
        </p:nvSpPr>
        <p:spPr>
          <a:xfrm>
            <a:off x="5322960" y="2924280"/>
            <a:ext cx="7596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86"/>
          <p:cNvSpPr/>
          <p:nvPr/>
        </p:nvSpPr>
        <p:spPr>
          <a:xfrm>
            <a:off x="5518080" y="2997360"/>
            <a:ext cx="7632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87"/>
          <p:cNvSpPr/>
          <p:nvPr/>
        </p:nvSpPr>
        <p:spPr>
          <a:xfrm>
            <a:off x="5935680" y="330660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Oval 88"/>
          <p:cNvSpPr/>
          <p:nvPr/>
        </p:nvSpPr>
        <p:spPr>
          <a:xfrm>
            <a:off x="6356520" y="3645000"/>
            <a:ext cx="7596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Oval 89"/>
          <p:cNvSpPr/>
          <p:nvPr/>
        </p:nvSpPr>
        <p:spPr>
          <a:xfrm>
            <a:off x="6784920" y="393372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92"/>
          <p:cNvSpPr/>
          <p:nvPr/>
        </p:nvSpPr>
        <p:spPr>
          <a:xfrm>
            <a:off x="1831680" y="3606480"/>
            <a:ext cx="1257840" cy="21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93"/>
          <p:cNvSpPr/>
          <p:nvPr/>
        </p:nvSpPr>
        <p:spPr>
          <a:xfrm flipH="1">
            <a:off x="3064320" y="3246120"/>
            <a:ext cx="8640" cy="3610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94"/>
          <p:cNvSpPr/>
          <p:nvPr/>
        </p:nvSpPr>
        <p:spPr>
          <a:xfrm>
            <a:off x="1792080" y="2480040"/>
            <a:ext cx="2964600" cy="230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95"/>
          <p:cNvSpPr/>
          <p:nvPr/>
        </p:nvSpPr>
        <p:spPr>
          <a:xfrm flipH="1">
            <a:off x="4741200" y="2555640"/>
            <a:ext cx="2880" cy="6912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96"/>
          <p:cNvSpPr/>
          <p:nvPr/>
        </p:nvSpPr>
        <p:spPr>
          <a:xfrm>
            <a:off x="6831720" y="3234600"/>
            <a:ext cx="5040" cy="6822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97"/>
          <p:cNvSpPr/>
          <p:nvPr/>
        </p:nvSpPr>
        <p:spPr>
          <a:xfrm>
            <a:off x="1792080" y="3978000"/>
            <a:ext cx="5063040" cy="46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2"/>
          <p:cNvSpPr/>
          <p:nvPr/>
        </p:nvSpPr>
        <p:spPr>
          <a:xfrm>
            <a:off x="5261040" y="1273320"/>
            <a:ext cx="3000240" cy="1439640"/>
          </a:xfrm>
          <a:prstGeom prst="wedgeEllipseCallout">
            <a:avLst>
              <a:gd name="adj1" fmla="val -40101"/>
              <a:gd name="adj2" fmla="val 72157"/>
            </a:avLst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任意给出这天中的某一时刻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，你能说出这一时刻的气温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T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吗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85"/>
          <p:cNvSpPr/>
          <p:nvPr/>
        </p:nvSpPr>
        <p:spPr>
          <a:xfrm>
            <a:off x="396720" y="4221000"/>
            <a:ext cx="86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在这一变化过程中，有几个变量？分别是什么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05"/>
          <p:cNvSpPr/>
          <p:nvPr/>
        </p:nvSpPr>
        <p:spPr>
          <a:xfrm>
            <a:off x="395280" y="4869000"/>
            <a:ext cx="87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在这一变化过程中，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两个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变量之间有什么关系？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同伴交流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组合 99"/>
          <p:cNvGrpSpPr/>
          <p:nvPr/>
        </p:nvGrpSpPr>
        <p:grpSpPr>
          <a:xfrm>
            <a:off x="611280" y="5157720"/>
            <a:ext cx="8683560" cy="1426680"/>
            <a:chOff x="611280" y="5157720"/>
            <a:chExt cx="8683560" cy="1426680"/>
          </a:xfrm>
        </p:grpSpPr>
        <p:sp>
          <p:nvSpPr>
            <p:cNvPr id="520" name="Text Box 80"/>
            <p:cNvSpPr/>
            <p:nvPr/>
          </p:nvSpPr>
          <p:spPr>
            <a:xfrm>
              <a:off x="611280" y="5657760"/>
              <a:ext cx="632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当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确定时</a:t>
              </a:r>
              <a:r>
                <a:rPr b="0" lang="en-US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, </a:t>
              </a:r>
              <a:r>
                <a:rPr b="0" lang="en-US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也随着确定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32"/>
            <p:cNvSpPr/>
            <p:nvPr/>
          </p:nvSpPr>
          <p:spPr>
            <a:xfrm>
              <a:off x="650880" y="5157720"/>
              <a:ext cx="550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随着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的变化而变化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65"/>
            <p:cNvSpPr/>
            <p:nvPr/>
          </p:nvSpPr>
          <p:spPr>
            <a:xfrm>
              <a:off x="611280" y="6124680"/>
              <a:ext cx="868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对于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的每一个值，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</a:t>
              </a:r>
              <a:r>
                <a:rPr b="0" lang="en-US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都有唯一的值与它对应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矩形 2"/>
          <p:cNvSpPr/>
          <p:nvPr/>
        </p:nvSpPr>
        <p:spPr>
          <a:xfrm>
            <a:off x="2950560" y="51562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时间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矩形 103"/>
          <p:cNvSpPr/>
          <p:nvPr/>
        </p:nvSpPr>
        <p:spPr>
          <a:xfrm>
            <a:off x="1159920" y="51577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温度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矩形 104"/>
          <p:cNvSpPr/>
          <p:nvPr/>
        </p:nvSpPr>
        <p:spPr>
          <a:xfrm>
            <a:off x="3754080" y="56577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温度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矩形 105"/>
          <p:cNvSpPr/>
          <p:nvPr/>
        </p:nvSpPr>
        <p:spPr>
          <a:xfrm>
            <a:off x="4530240" y="610704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温度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矩形 106"/>
          <p:cNvSpPr/>
          <p:nvPr/>
        </p:nvSpPr>
        <p:spPr>
          <a:xfrm>
            <a:off x="1339200" y="56545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时间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矩形 107"/>
          <p:cNvSpPr/>
          <p:nvPr/>
        </p:nvSpPr>
        <p:spPr>
          <a:xfrm>
            <a:off x="1428120" y="61149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时间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108"/>
          <p:cNvSpPr/>
          <p:nvPr/>
        </p:nvSpPr>
        <p:spPr>
          <a:xfrm>
            <a:off x="941400" y="4581360"/>
            <a:ext cx="709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Times New Roman"/>
                <a:ea typeface="宋体"/>
              </a:rPr>
              <a:t>答：有两个变量，分别是时间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宋体"/>
              </a:rPr>
              <a:t>t</a:t>
            </a:r>
            <a:r>
              <a:rPr b="1" lang="zh-CN" sz="2000" spc="-1" strike="noStrike">
                <a:solidFill>
                  <a:srgbClr val="0070c0"/>
                </a:solidFill>
                <a:latin typeface="Times New Roman"/>
                <a:ea typeface="宋体"/>
              </a:rPr>
              <a:t>和温度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宋体"/>
              </a:rPr>
              <a:t>T</a:t>
            </a:r>
            <a:r>
              <a:rPr b="1" lang="zh-CN" sz="2000" spc="-1" strike="noStrike">
                <a:solidFill>
                  <a:srgbClr val="0070c0"/>
                </a:solidFill>
                <a:latin typeface="Times New Roman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0" y="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二、探索两个变量之间的关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1979640" y="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00"/>
          <p:cNvSpPr/>
          <p:nvPr/>
        </p:nvSpPr>
        <p:spPr>
          <a:xfrm>
            <a:off x="179280" y="620640"/>
            <a:ext cx="7993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如图，用火柴棒搭小鱼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设小鱼条数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火柴棒根数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Picture 7" descr=""/>
          <p:cNvPicPr/>
          <p:nvPr/>
        </p:nvPicPr>
        <p:blipFill>
          <a:blip r:embed="rId1"/>
          <a:stretch/>
        </p:blipFill>
        <p:spPr>
          <a:xfrm>
            <a:off x="1157400" y="1498680"/>
            <a:ext cx="1112760" cy="8888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"/>
          <p:cNvPicPr/>
          <p:nvPr/>
        </p:nvPicPr>
        <p:blipFill>
          <a:blip r:embed="rId2"/>
          <a:stretch/>
        </p:blipFill>
        <p:spPr>
          <a:xfrm>
            <a:off x="3083040" y="1500120"/>
            <a:ext cx="1743120" cy="8874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" descr=""/>
          <p:cNvPicPr/>
          <p:nvPr/>
        </p:nvPicPr>
        <p:blipFill>
          <a:blip r:embed="rId3"/>
          <a:stretch/>
        </p:blipFill>
        <p:spPr>
          <a:xfrm>
            <a:off x="5640480" y="1488960"/>
            <a:ext cx="2360520" cy="89856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85"/>
          <p:cNvSpPr/>
          <p:nvPr/>
        </p:nvSpPr>
        <p:spPr>
          <a:xfrm>
            <a:off x="90360" y="382752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在这一变化过程中，有几个变量？分别是什么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05"/>
          <p:cNvSpPr/>
          <p:nvPr/>
        </p:nvSpPr>
        <p:spPr>
          <a:xfrm>
            <a:off x="108000" y="46148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在这一变化过程中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两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变量之间有什么关系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组合 14"/>
          <p:cNvGrpSpPr/>
          <p:nvPr/>
        </p:nvGrpSpPr>
        <p:grpSpPr>
          <a:xfrm>
            <a:off x="458640" y="5075280"/>
            <a:ext cx="8683920" cy="1426680"/>
            <a:chOff x="458640" y="5075280"/>
            <a:chExt cx="8683920" cy="1426680"/>
          </a:xfrm>
        </p:grpSpPr>
        <p:sp>
          <p:nvSpPr>
            <p:cNvPr id="539" name="Text Box 80"/>
            <p:cNvSpPr/>
            <p:nvPr/>
          </p:nvSpPr>
          <p:spPr>
            <a:xfrm>
              <a:off x="458640" y="5575320"/>
              <a:ext cx="699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当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确定时</a:t>
              </a:r>
              <a:r>
                <a:rPr b="0" lang="en-US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, </a:t>
              </a:r>
              <a:r>
                <a:rPr b="0" lang="en-US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也随着确定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Text Box 32"/>
            <p:cNvSpPr/>
            <p:nvPr/>
          </p:nvSpPr>
          <p:spPr>
            <a:xfrm>
              <a:off x="498240" y="5075280"/>
              <a:ext cx="594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随着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的变化而变化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65"/>
            <p:cNvSpPr/>
            <p:nvPr/>
          </p:nvSpPr>
          <p:spPr>
            <a:xfrm>
              <a:off x="458640" y="6042240"/>
              <a:ext cx="868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对于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的每一个值，</a:t>
              </a:r>
              <a:r>
                <a:rPr b="0" lang="zh-CN" sz="2400" spc="-1" strike="noStrike" u="sng">
                  <a:solidFill>
                    <a:srgbClr val="016bcb"/>
                  </a:solidFill>
                  <a:uFillTx/>
                  <a:latin typeface="黑体"/>
                  <a:ea typeface="黑体"/>
                </a:rPr>
                <a:t>         </a:t>
              </a:r>
              <a:r>
                <a:rPr b="0" lang="zh-CN" sz="2400" spc="-1" strike="noStrike">
                  <a:solidFill>
                    <a:srgbClr val="016bcb"/>
                  </a:solidFill>
                  <a:latin typeface="黑体"/>
                  <a:ea typeface="黑体"/>
                </a:rPr>
                <a:t>都有唯一的值与它对应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矩形 1"/>
          <p:cNvSpPr/>
          <p:nvPr/>
        </p:nvSpPr>
        <p:spPr>
          <a:xfrm>
            <a:off x="761760" y="5008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火柴棒根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矩形 19"/>
          <p:cNvSpPr/>
          <p:nvPr/>
        </p:nvSpPr>
        <p:spPr>
          <a:xfrm>
            <a:off x="3716280" y="55371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火柴棒根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矩形 20"/>
          <p:cNvSpPr/>
          <p:nvPr/>
        </p:nvSpPr>
        <p:spPr>
          <a:xfrm>
            <a:off x="4267080" y="59990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火柴棒根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矩形 22"/>
          <p:cNvSpPr/>
          <p:nvPr/>
        </p:nvSpPr>
        <p:spPr>
          <a:xfrm>
            <a:off x="3079080" y="500868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鱼条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矩形 23"/>
          <p:cNvSpPr/>
          <p:nvPr/>
        </p:nvSpPr>
        <p:spPr>
          <a:xfrm>
            <a:off x="1081800" y="547056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鱼条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矩形 24"/>
          <p:cNvSpPr/>
          <p:nvPr/>
        </p:nvSpPr>
        <p:spPr>
          <a:xfrm>
            <a:off x="1239120" y="599904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鱼条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Box 25"/>
          <p:cNvSpPr/>
          <p:nvPr/>
        </p:nvSpPr>
        <p:spPr>
          <a:xfrm>
            <a:off x="627120" y="4214880"/>
            <a:ext cx="709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Times New Roman"/>
                <a:ea typeface="宋体"/>
              </a:rPr>
              <a:t>答：有两个变量，分别是小鱼条数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宋体"/>
              </a:rPr>
              <a:t>n</a:t>
            </a:r>
            <a:r>
              <a:rPr b="1" lang="zh-CN" sz="2000" spc="-1" strike="noStrike">
                <a:solidFill>
                  <a:srgbClr val="0070c0"/>
                </a:solidFill>
                <a:latin typeface="Times New Roman"/>
                <a:ea typeface="宋体"/>
              </a:rPr>
              <a:t>和火柴棒根数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宋体"/>
              </a:rPr>
              <a:t>S</a:t>
            </a:r>
            <a:r>
              <a:rPr b="1" lang="zh-CN" sz="2000" spc="-1" strike="noStrike">
                <a:solidFill>
                  <a:srgbClr val="0070c0"/>
                </a:solidFill>
                <a:latin typeface="Times New Roman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458640" y="2387520"/>
          <a:ext cx="7867800" cy="1403280"/>
        </p:xfrm>
        <a:graphic>
          <a:graphicData uri="http://schemas.openxmlformats.org/drawingml/2006/table">
            <a:tbl>
              <a:tblPr/>
              <a:tblGrid>
                <a:gridCol w="1143000"/>
                <a:gridCol w="952560"/>
                <a:gridCol w="934920"/>
                <a:gridCol w="903240"/>
                <a:gridCol w="984240"/>
                <a:gridCol w="982800"/>
                <a:gridCol w="984240"/>
                <a:gridCol w="9828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鱼的条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..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火柴棒的根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..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文本框 3"/>
          <p:cNvSpPr/>
          <p:nvPr/>
        </p:nvSpPr>
        <p:spPr>
          <a:xfrm>
            <a:off x="1940040" y="322884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文本框 4"/>
          <p:cNvSpPr/>
          <p:nvPr/>
        </p:nvSpPr>
        <p:spPr>
          <a:xfrm>
            <a:off x="2738520" y="3230640"/>
            <a:ext cx="5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文本框 5"/>
          <p:cNvSpPr/>
          <p:nvPr/>
        </p:nvSpPr>
        <p:spPr>
          <a:xfrm>
            <a:off x="3749760" y="322884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文本框 6"/>
          <p:cNvSpPr/>
          <p:nvPr/>
        </p:nvSpPr>
        <p:spPr>
          <a:xfrm>
            <a:off x="4641840" y="323064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文本框 7"/>
          <p:cNvSpPr/>
          <p:nvPr/>
        </p:nvSpPr>
        <p:spPr>
          <a:xfrm>
            <a:off x="6554880" y="323064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文本框 8"/>
          <p:cNvSpPr/>
          <p:nvPr/>
        </p:nvSpPr>
        <p:spPr>
          <a:xfrm>
            <a:off x="7472520" y="3225960"/>
            <a:ext cx="9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n+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3"/>
          <p:cNvSpPr/>
          <p:nvPr/>
        </p:nvSpPr>
        <p:spPr>
          <a:xfrm>
            <a:off x="0" y="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二、探索两个变量之间的关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27"/>
          <p:cNvSpPr/>
          <p:nvPr/>
        </p:nvSpPr>
        <p:spPr>
          <a:xfrm>
            <a:off x="7387920" y="3789360"/>
            <a:ext cx="13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=6n+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2000" fill="hold"/>
                                        <p:tgtEl>
                                          <p:spTgt spid="5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4734000" y="4292640"/>
            <a:ext cx="415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6bcb"/>
                </a:solidFill>
                <a:latin typeface="Arial"/>
                <a:ea typeface="宋体"/>
              </a:rPr>
              <a:t>上述的三个变化过程，有怎样的共同之处呢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（同伴互说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3"/>
          <p:cNvSpPr/>
          <p:nvPr/>
        </p:nvSpPr>
        <p:spPr>
          <a:xfrm>
            <a:off x="7920" y="-255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二、探索两个变量之间的关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7" descr="C:\Users\Administrator.USER-20150611EH\AppData\Roaming\Tencent\Users\21166587\QQ\WinTemp\RichOle\BH6HWF([RZN83PDFB8[A7A3.png"/>
          <p:cNvPicPr/>
          <p:nvPr/>
        </p:nvPicPr>
        <p:blipFill>
          <a:blip r:embed="rId1"/>
          <a:stretch/>
        </p:blipFill>
        <p:spPr>
          <a:xfrm>
            <a:off x="0" y="476280"/>
            <a:ext cx="4500720" cy="3240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C:\Users\Administrator.USER-20150611EH\AppData\Roaming\Tencent\Users\21166587\QQ\WinTemp\RichOle\7U6URTD2}_KRL]((}H0URMH.png"/>
          <p:cNvPicPr/>
          <p:nvPr/>
        </p:nvPicPr>
        <p:blipFill>
          <a:blip r:embed="rId2"/>
          <a:stretch/>
        </p:blipFill>
        <p:spPr>
          <a:xfrm>
            <a:off x="4597560" y="476280"/>
            <a:ext cx="4546440" cy="32400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9" descr="C:\Users\Administrator.USER-20150611EH\AppData\Roaming\Tencent\Users\21166587\QQ\WinTemp\RichOle\T`YA@S]1RB3T_A42@{F4[IQ.png"/>
          <p:cNvPicPr/>
          <p:nvPr/>
        </p:nvPicPr>
        <p:blipFill>
          <a:blip r:embed="rId3"/>
          <a:stretch/>
        </p:blipFill>
        <p:spPr>
          <a:xfrm>
            <a:off x="0" y="3789360"/>
            <a:ext cx="4572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5"/>
          <p:cNvSpPr/>
          <p:nvPr/>
        </p:nvSpPr>
        <p:spPr>
          <a:xfrm>
            <a:off x="324000" y="509760"/>
            <a:ext cx="2590560" cy="92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函数的定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468360" y="1413000"/>
            <a:ext cx="81360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一个变化过程中的两个变量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果对于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每一个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都有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唯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值与它对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那么我们称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是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的函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自变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Oval 16"/>
          <p:cNvSpPr/>
          <p:nvPr/>
        </p:nvSpPr>
        <p:spPr>
          <a:xfrm>
            <a:off x="2413080" y="1916280"/>
            <a:ext cx="1728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17"/>
          <p:cNvSpPr/>
          <p:nvPr/>
        </p:nvSpPr>
        <p:spPr>
          <a:xfrm>
            <a:off x="5003640" y="1916280"/>
            <a:ext cx="1729080" cy="57600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Oval 18"/>
          <p:cNvSpPr/>
          <p:nvPr/>
        </p:nvSpPr>
        <p:spPr>
          <a:xfrm>
            <a:off x="7323120" y="1844640"/>
            <a:ext cx="720720" cy="71928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9"/>
          <p:cNvSpPr/>
          <p:nvPr/>
        </p:nvSpPr>
        <p:spPr>
          <a:xfrm>
            <a:off x="5003640" y="2492280"/>
            <a:ext cx="1152720" cy="4320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0"/>
          <p:cNvSpPr/>
          <p:nvPr/>
        </p:nvSpPr>
        <p:spPr>
          <a:xfrm>
            <a:off x="2268360" y="2492280"/>
            <a:ext cx="1943280" cy="4320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2918160" y="4005360"/>
            <a:ext cx="323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函数常采用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表格、图象、关系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种方法表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23"/>
          <p:cNvSpPr/>
          <p:nvPr/>
        </p:nvSpPr>
        <p:spPr>
          <a:xfrm>
            <a:off x="3059280" y="1542960"/>
            <a:ext cx="2160360" cy="358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24"/>
          <p:cNvSpPr/>
          <p:nvPr/>
        </p:nvSpPr>
        <p:spPr>
          <a:xfrm>
            <a:off x="5940360" y="1557360"/>
            <a:ext cx="1440000" cy="358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5"/>
          <p:cNvSpPr/>
          <p:nvPr/>
        </p:nvSpPr>
        <p:spPr>
          <a:xfrm>
            <a:off x="36360" y="25560"/>
            <a:ext cx="79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三、用函数的方式描述变化关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7T14:04:15Z</dcterms:created>
  <dc:creator>Microsoft Office 用户</dc:creator>
  <dc:description/>
  <dc:language>en-US</dc:language>
  <cp:lastModifiedBy>安宁</cp:lastModifiedBy>
  <dcterms:modified xsi:type="dcterms:W3CDTF">2020-02-19T07:41:45Z</dcterms:modified>
  <cp:revision>7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